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396-04EC-4F9C-A6B8-15480041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A5C-2003-4500-B44F-6606BA7D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45B-0F2A-41A9-B157-F2A40BAD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94C-8917-4E42-A662-FFFD61AE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A813-64C6-4752-BA48-A33462F9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1422-C5FA-43FE-8BDC-E401366A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2BF7-7019-4A40-A0E4-ED681F84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0E85-9D41-49DA-99E6-E2FD82F5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ACB1-36AC-4F3B-9A11-5C675231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8869-5958-47D7-9914-87A8AABE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6153-B105-4144-9729-F0D4EE7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F1E-D1B0-424E-9A18-242CBC93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EFF1-3D6C-4924-A4A7-65307FAF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08BE-70D7-4A35-8698-9A44F0C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BAB4-CC18-47C3-BFD9-6DBF0ADA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1FC5-0B40-4FFF-A017-B53FA78F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5D9D-F056-4FC0-A043-1FD2C429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B122-287B-42C9-BE63-FBC29F7B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D6A7-5BA3-42A0-8C02-DBBD67B5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43DD-F2B0-4071-9DD1-ABB1850B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2BA2-F933-4D8C-8201-4667792A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C3F4-AADC-4AD8-B3B0-5439C9D3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64C-BA63-4224-B1EE-B60429BD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A83E-685B-46CA-97B3-E136FD1A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51EF-E3E7-4BA6-BB92-225705A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ABE7D-D25C-46CA-9357-AACDC27A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8FD3-09F1-4E43-B43B-ECC2530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F069-2D4E-4FB6-A913-CF26FECE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AB25-5D1C-4D1A-B404-E8E81216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4554-43DC-4638-A2CB-10BEFA72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AC0-4A47-4540-A0E4-73365F28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2A9-B3BD-4822-BC01-BFD1CF6F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EA8-072A-4B30-9CE5-D3077EA1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3B1-06EA-4EF4-BAF6-646B627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E41-D904-4E32-AE31-FBEA283E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00B-F726-47EC-9DA6-34E6605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6814-EBC7-4C3C-B865-FC8CB2F5C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42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C107-AF78-4686-A579-1D8AAC9B25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8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44D8-3359-40C5-899F-5F55B352D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27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47;&#208;&#181;&#209;&#128;&#208;&#190;&#208;&#180;&#208;&#190;&#209;&#130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0;&#1047;&#1054;&#1042;&#1057;&#1050;&#1054;&#1045;%20&#1052;&#1054;&#1056;&#1045;.ppt#Slide 1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1699920"/>
            <a:ext cx="368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4 класса «В» МОУСОШ №4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. Д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луцкий Игор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Жилина О.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672000" cy="2521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40216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66"/>
                </a:solidFill>
                <a:latin typeface="Arial"/>
              </a:rPr>
              <a:t>Фауна Азовского моря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Причины высокой продуктивности Азовского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9640" y="2852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Мелководность мор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Хорошая прогреваемость и освещенность всей толщи во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Отличное перемешивание и насыщение вод кислоро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ые промысловыми видам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являются осетровые( белуга,осетр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севрюга), судак,лещ,сазан,тарань, и сель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003" descr=""/>
          <p:cNvPicPr/>
          <p:nvPr/>
        </p:nvPicPr>
        <p:blipFill>
          <a:blip r:embed="rId1"/>
          <a:stretch/>
        </p:blipFill>
        <p:spPr>
          <a:xfrm>
            <a:off x="7920" y="-3024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257" name="osetr" descr=""/>
          <p:cNvPicPr/>
          <p:nvPr/>
        </p:nvPicPr>
        <p:blipFill>
          <a:blip r:embed="rId2"/>
          <a:stretch/>
        </p:blipFill>
        <p:spPr>
          <a:xfrm>
            <a:off x="6084720" y="2895480"/>
            <a:ext cx="2870280" cy="3962520"/>
          </a:xfrm>
          <a:prstGeom prst="rect">
            <a:avLst/>
          </a:prstGeom>
          <a:ln w="0">
            <a:noFill/>
          </a:ln>
        </p:spPr>
      </p:pic>
      <p:pic>
        <p:nvPicPr>
          <p:cNvPr id="258" name="lesh" descr=""/>
          <p:cNvPicPr/>
          <p:nvPr/>
        </p:nvPicPr>
        <p:blipFill>
          <a:blip r:embed="rId3"/>
          <a:stretch/>
        </p:blipFill>
        <p:spPr>
          <a:xfrm>
            <a:off x="0" y="4827600"/>
            <a:ext cx="3886200" cy="2030400"/>
          </a:xfrm>
          <a:prstGeom prst="rect">
            <a:avLst/>
          </a:prstGeom>
          <a:ln w="0">
            <a:noFill/>
          </a:ln>
        </p:spPr>
      </p:pic>
      <p:pic>
        <p:nvPicPr>
          <p:cNvPr id="259" name="sudak" descr=""/>
          <p:cNvPicPr/>
          <p:nvPr/>
        </p:nvPicPr>
        <p:blipFill>
          <a:blip r:embed="rId4"/>
          <a:stretch/>
        </p:blipFill>
        <p:spPr>
          <a:xfrm>
            <a:off x="0" y="0"/>
            <a:ext cx="3429000" cy="3112920"/>
          </a:xfrm>
          <a:prstGeom prst="rect">
            <a:avLst/>
          </a:prstGeom>
          <a:ln w="0">
            <a:noFill/>
          </a:ln>
        </p:spPr>
      </p:pic>
      <p:pic>
        <p:nvPicPr>
          <p:cNvPr id="260" name="Beluga_pic" descr=""/>
          <p:cNvPicPr/>
          <p:nvPr/>
        </p:nvPicPr>
        <p:blipFill>
          <a:blip r:embed="rId5"/>
          <a:stretch/>
        </p:blipFill>
        <p:spPr>
          <a:xfrm>
            <a:off x="3780000" y="189000"/>
            <a:ext cx="4790880" cy="1500120"/>
          </a:xfrm>
          <a:prstGeom prst="rect">
            <a:avLst/>
          </a:prstGeom>
          <a:ln w="0">
            <a:noFill/>
          </a:ln>
        </p:spPr>
      </p:pic>
      <p:pic>
        <p:nvPicPr>
          <p:cNvPr id="261" name="herring" descr=""/>
          <p:cNvPicPr/>
          <p:nvPr/>
        </p:nvPicPr>
        <p:blipFill>
          <a:blip r:embed="rId6"/>
          <a:stretch/>
        </p:blipFill>
        <p:spPr>
          <a:xfrm>
            <a:off x="3059280" y="2349360"/>
            <a:ext cx="4419360" cy="1582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-7920" y="4610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67280" y="3789360"/>
            <a:ext cx="14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ь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7920" y="6370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ле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2746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ел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9440" y="2712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5120" y="274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99440" y="6066000"/>
            <a:ext cx="549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7280" y="6218280"/>
            <a:ext cx="146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0" y="2997360"/>
            <a:ext cx="3095640" cy="1833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2997360"/>
            <a:ext cx="1779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анчо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age003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951280" cy="1484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3564000" cy="1511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867280" y="260280"/>
            <a:ext cx="29163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5580000" y="1557360"/>
            <a:ext cx="257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79280" y="2276640"/>
            <a:ext cx="2700360" cy="148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3400200" cy="157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2987640" y="1484280"/>
            <a:ext cx="2879640" cy="1368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5580000" y="4724280"/>
            <a:ext cx="30639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облема Азовского моря –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адение продуктивност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84360" y="2781360"/>
          <a:ext cx="7920000" cy="3043080"/>
        </p:xfrm>
        <a:graphic>
          <a:graphicData uri="http://schemas.openxmlformats.org/drawingml/2006/table">
            <a:tbl>
              <a:tblPr/>
              <a:tblGrid>
                <a:gridCol w="1962000"/>
                <a:gridCol w="762120"/>
                <a:gridCol w="761760"/>
                <a:gridCol w="695520"/>
                <a:gridCol w="720720"/>
                <a:gridCol w="793800"/>
                <a:gridCol w="718920"/>
                <a:gridCol w="722520"/>
                <a:gridCol w="782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ры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а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т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627280" y="2276640"/>
            <a:ext cx="5977080" cy="482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лов азовских рыб тыс. т. годы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ричины снижения продуктивности</a:t>
            </a: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Азовского моря</a:t>
            </a:r>
            <a:br>
              <a:rPr sz="3600"/>
            </a:b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меньшение стока рек Дон и Кубань в результат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строительства водохранилищ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2. Биологическое загрязнение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3. Промышл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4. Сельскохозяйствен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5. Нефтяное загрязнение 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6. 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Увеличение солености моря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0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Сток рек Дон и Кубань (куб.км.) в Азовском море за период с 1930 по 1990 гг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99160" y="6012000"/>
            <a:ext cx="291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55640" y="2565360"/>
            <a:ext cx="7914600" cy="2806200"/>
            <a:chOff x="755640" y="2565360"/>
            <a:chExt cx="7914600" cy="2806200"/>
          </a:xfrm>
        </p:grpSpPr>
        <p:grpSp>
          <p:nvGrpSpPr>
            <p:cNvPr id="319" name=""/>
            <p:cNvGrpSpPr/>
            <p:nvPr/>
          </p:nvGrpSpPr>
          <p:grpSpPr>
            <a:xfrm>
              <a:off x="755640" y="2565360"/>
              <a:ext cx="1383840" cy="1097280"/>
              <a:chOff x="755640" y="2565360"/>
              <a:chExt cx="1383840" cy="1097280"/>
            </a:xfrm>
          </p:grpSpPr>
          <p:sp>
            <p:nvSpPr>
              <p:cNvPr id="320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ек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56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139840" y="2565360"/>
              <a:ext cx="1383840" cy="1097280"/>
              <a:chOff x="2139840" y="2565360"/>
              <a:chExt cx="1383840" cy="1097280"/>
            </a:xfrm>
          </p:grpSpPr>
          <p:sp>
            <p:nvSpPr>
              <p:cNvPr id="323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орма ест. стока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39840" y="2565360"/>
                <a:ext cx="138384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524040" y="2565360"/>
              <a:ext cx="850320" cy="1097280"/>
              <a:chOff x="3524040" y="2565360"/>
              <a:chExt cx="850320" cy="1097280"/>
            </a:xfrm>
          </p:grpSpPr>
          <p:sp>
            <p:nvSpPr>
              <p:cNvPr id="326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30- 194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2404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375080" y="2565360"/>
              <a:ext cx="850680" cy="1097280"/>
              <a:chOff x="4375080" y="2565360"/>
              <a:chExt cx="850680" cy="1097280"/>
            </a:xfrm>
          </p:grpSpPr>
          <p:sp>
            <p:nvSpPr>
              <p:cNvPr id="329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41- 195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508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226120" y="2565360"/>
              <a:ext cx="891000" cy="1097280"/>
              <a:chOff x="5226120" y="2565360"/>
              <a:chExt cx="891000" cy="1097280"/>
            </a:xfrm>
          </p:grpSpPr>
          <p:sp>
            <p:nvSpPr>
              <p:cNvPr id="332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51- 196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26120" y="2565360"/>
                <a:ext cx="89100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117840" y="2565360"/>
              <a:ext cx="850680" cy="1097280"/>
              <a:chOff x="6117840" y="2565360"/>
              <a:chExt cx="850680" cy="109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61- 197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17840" y="2565360"/>
                <a:ext cx="85068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968880" y="2565360"/>
              <a:ext cx="850320" cy="1097280"/>
              <a:chOff x="6968880" y="2565360"/>
              <a:chExt cx="850320" cy="1097280"/>
            </a:xfrm>
          </p:grpSpPr>
          <p:sp>
            <p:nvSpPr>
              <p:cNvPr id="338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71- 198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6888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819920" y="2565360"/>
              <a:ext cx="850320" cy="1097280"/>
              <a:chOff x="7819920" y="2565360"/>
              <a:chExt cx="850320" cy="1097280"/>
            </a:xfrm>
          </p:grpSpPr>
          <p:sp>
            <p:nvSpPr>
              <p:cNvPr id="341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981- 199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19920" y="2565360"/>
                <a:ext cx="850320" cy="1097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55640" y="3663000"/>
              <a:ext cx="1383840" cy="853560"/>
              <a:chOff x="755640" y="3663000"/>
              <a:chExt cx="1383840" cy="853560"/>
            </a:xfrm>
          </p:grpSpPr>
          <p:sp>
            <p:nvSpPr>
              <p:cNvPr id="344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он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6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139840" y="3663000"/>
              <a:ext cx="1383840" cy="853560"/>
              <a:chOff x="2139840" y="3663000"/>
              <a:chExt cx="1383840" cy="853560"/>
            </a:xfrm>
          </p:grpSpPr>
          <p:sp>
            <p:nvSpPr>
              <p:cNvPr id="347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8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9840" y="3663000"/>
                <a:ext cx="138384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524040" y="3663000"/>
              <a:ext cx="850320" cy="853560"/>
              <a:chOff x="3524040" y="3663000"/>
              <a:chExt cx="850320" cy="853560"/>
            </a:xfrm>
          </p:grpSpPr>
          <p:sp>
            <p:nvSpPr>
              <p:cNvPr id="350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2404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375080" y="3663000"/>
              <a:ext cx="850680" cy="853560"/>
              <a:chOff x="4375080" y="3663000"/>
              <a:chExt cx="850680" cy="853560"/>
            </a:xfrm>
          </p:grpSpPr>
          <p:sp>
            <p:nvSpPr>
              <p:cNvPr id="353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7,5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7508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226120" y="3663000"/>
              <a:ext cx="891000" cy="853560"/>
              <a:chOff x="5226120" y="3663000"/>
              <a:chExt cx="891000" cy="853560"/>
            </a:xfrm>
          </p:grpSpPr>
          <p:sp>
            <p:nvSpPr>
              <p:cNvPr id="356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226120" y="3663000"/>
                <a:ext cx="89100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117840" y="3663000"/>
              <a:ext cx="850680" cy="853560"/>
              <a:chOff x="6117840" y="3663000"/>
              <a:chExt cx="850680" cy="853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,9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17840" y="3663000"/>
                <a:ext cx="85068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968880" y="3663000"/>
              <a:ext cx="850320" cy="853560"/>
              <a:chOff x="6968880" y="3663000"/>
              <a:chExt cx="850320" cy="853560"/>
            </a:xfrm>
          </p:grpSpPr>
          <p:sp>
            <p:nvSpPr>
              <p:cNvPr id="362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,8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6888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819920" y="3663000"/>
              <a:ext cx="850320" cy="853560"/>
              <a:chOff x="7819920" y="3663000"/>
              <a:chExt cx="850320" cy="85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1,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19920" y="3663000"/>
                <a:ext cx="850320" cy="853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55640" y="4517280"/>
              <a:ext cx="1383840" cy="854280"/>
              <a:chOff x="755640" y="4517280"/>
              <a:chExt cx="1383840" cy="854280"/>
            </a:xfrm>
          </p:grpSpPr>
          <p:sp>
            <p:nvSpPr>
              <p:cNvPr id="368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убан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56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139840" y="4517280"/>
              <a:ext cx="1383840" cy="854280"/>
              <a:chOff x="2139840" y="4517280"/>
              <a:chExt cx="1383840" cy="854280"/>
            </a:xfrm>
          </p:grpSpPr>
          <p:sp>
            <p:nvSpPr>
              <p:cNvPr id="371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139840" y="4517280"/>
                <a:ext cx="138384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524040" y="4517280"/>
              <a:ext cx="850320" cy="854280"/>
              <a:chOff x="3524040" y="4517280"/>
              <a:chExt cx="850320" cy="854280"/>
            </a:xfrm>
          </p:grpSpPr>
          <p:sp>
            <p:nvSpPr>
              <p:cNvPr id="374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3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2404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375080" y="4517280"/>
              <a:ext cx="850680" cy="854280"/>
              <a:chOff x="4375080" y="4517280"/>
              <a:chExt cx="850680" cy="854280"/>
            </a:xfrm>
          </p:grpSpPr>
          <p:sp>
            <p:nvSpPr>
              <p:cNvPr id="377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4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7508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226120" y="4517280"/>
              <a:ext cx="891000" cy="854280"/>
              <a:chOff x="5226120" y="4517280"/>
              <a:chExt cx="891000" cy="854280"/>
            </a:xfrm>
          </p:grpSpPr>
          <p:sp>
            <p:nvSpPr>
              <p:cNvPr id="380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2,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26120" y="4517280"/>
                <a:ext cx="89100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117840" y="4517280"/>
              <a:ext cx="850680" cy="854280"/>
              <a:chOff x="6117840" y="4517280"/>
              <a:chExt cx="850680" cy="854280"/>
            </a:xfrm>
          </p:grpSpPr>
          <p:sp>
            <p:nvSpPr>
              <p:cNvPr id="383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,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17840" y="4517280"/>
                <a:ext cx="85068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968880" y="4517280"/>
              <a:ext cx="850320" cy="854280"/>
              <a:chOff x="6968880" y="4517280"/>
              <a:chExt cx="850320" cy="854280"/>
            </a:xfrm>
          </p:grpSpPr>
          <p:sp>
            <p:nvSpPr>
              <p:cNvPr id="386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6888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819920" y="4517280"/>
              <a:ext cx="850320" cy="854280"/>
              <a:chOff x="7819920" y="4517280"/>
              <a:chExt cx="850320" cy="85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,0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19920" y="4517280"/>
                <a:ext cx="850320" cy="854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загрязнение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лучайное или связанное с деятельностью человека проникновение в природный комплекс моря чуждых ему растений, животных и микроорганизм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561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Arial"/>
              </a:rPr>
              <a:t>Увеличение солёности мор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0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5344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Азовское море: вчера, сегодня,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7640"/>
            <a:ext cx="0" cy="684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89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76280"/>
            <a:ext cx="0" cy="6381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381720"/>
            <a:ext cx="8388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840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Промышлен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488360" cy="3889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49952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Нефтяное загряз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769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64818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9900"/>
                </a:solidFill>
                <a:uFillTx/>
                <a:latin typeface="Arial"/>
              </a:rPr>
              <a:t>Э</a:t>
            </a: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КОЛОГИЧЕСКИЕ</a:t>
            </a:r>
            <a:br>
              <a:rPr sz="5400"/>
            </a:br>
            <a:r>
              <a:rPr b="1" lang="en-US" sz="5400" spc="-1" strike="noStrike" u="sng">
                <a:solidFill>
                  <a:srgbClr val="ff9900"/>
                </a:solidFill>
                <a:uFillTx/>
                <a:latin typeface="Arial"/>
              </a:rPr>
              <a:t> КАТОСТРОФЫ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Азовское море 2007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826920" y="1268280"/>
            <a:ext cx="7490160" cy="48578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7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8"/>
          <a:stretch/>
        </p:blipFill>
        <p:spPr>
          <a:xfrm>
            <a:off x="826920" y="1268280"/>
            <a:ext cx="7490160" cy="4897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9"/>
          <a:stretch/>
        </p:blipFill>
        <p:spPr>
          <a:xfrm>
            <a:off x="762120" y="1268280"/>
            <a:ext cx="7619760" cy="484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915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кораблекрушений в воду попало около 6,8 тысячи тонн серы и около 1,3 тысячи тонн мазута.  Протяженность пятна вдоль берега  - 12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56144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844640"/>
            <a:ext cx="7561440" cy="4321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Последствия керченской катастрофы. Фото: ALEXANDER NEMENOV/AFP/Getty Images"/>
          <p:cNvPicPr/>
          <p:nvPr/>
        </p:nvPicPr>
        <p:blipFill>
          <a:blip r:embed="rId3"/>
          <a:stretch/>
        </p:blipFill>
        <p:spPr>
          <a:xfrm>
            <a:off x="723960" y="1989000"/>
            <a:ext cx="7664400" cy="41371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Последствия керченской катастрофы. Фото: ALEXANDER NEMENOV/AFP/Getty Images"/>
          <p:cNvPicPr/>
          <p:nvPr/>
        </p:nvPicPr>
        <p:blipFill>
          <a:blip r:embed="rId4"/>
          <a:stretch/>
        </p:blipFill>
        <p:spPr>
          <a:xfrm>
            <a:off x="755640" y="1916280"/>
            <a:ext cx="7664400" cy="42494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770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6920" y="76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следствия керченской катастроф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624800" cy="4176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Последствия керченской катастрофы. Фото: ALEXANDER NEMENOV/AFP/Getty Images"/>
          <p:cNvPicPr/>
          <p:nvPr/>
        </p:nvPicPr>
        <p:blipFill>
          <a:blip r:embed="rId2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833400" y="1989000"/>
            <a:ext cx="7626240" cy="4137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7632720" cy="4137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826920" y="198900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cc00"/>
                </a:solidFill>
                <a:uFillTx/>
                <a:latin typeface="Arial"/>
              </a:rPr>
              <a:t>Азовское  море год спус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4824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5661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Берег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857160" y="1268280"/>
            <a:ext cx="7531200" cy="48974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17080" cy="48974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900000" y="1268280"/>
            <a:ext cx="74883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Мои наблюдения за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900000" y="1341360"/>
          <a:ext cx="7488000" cy="4824000"/>
        </p:xfrm>
        <a:graphic>
          <a:graphicData uri="http://schemas.openxmlformats.org/drawingml/2006/table">
            <a:tbl>
              <a:tblPr/>
              <a:tblGrid>
                <a:gridCol w="1214280"/>
                <a:gridCol w="1086840"/>
                <a:gridCol w="1291320"/>
                <a:gridCol w="1315800"/>
                <a:gridCol w="1173960"/>
                <a:gridCol w="14058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ух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ды у берег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у берега (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в 20 м от бере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ушла от берега на 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4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8.200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История изуч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33"/>
                </a:solidFill>
                <a:uFillTx/>
                <a:latin typeface="Arial"/>
              </a:rPr>
              <a:t>Опомнись, чело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48960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48243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76327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2200" y="19879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помнись, вздрогни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едолог на земле твой 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о что после себя ост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 чем мы здесь себя прослав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6360" y="764640"/>
            <a:ext cx="3311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1280" y="691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В истории изучения Азовского моря выделяют три эта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977840"/>
            <a:ext cx="77058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евний (географический) — со времён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еродот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начала XI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Геолого-географический — XIX ст. — 40-е годы XX 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омплексный — середина XX ст. —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Первая карта Азовского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5329440" cy="46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Arial"/>
              </a:rPr>
              <a:t>Общие сведения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hoto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475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1700280"/>
            <a:ext cx="777528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ощадь 38 т.км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ксимальная глубина 14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яя глубина 8 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ий объем воды 320 к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еность воды 2-11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етом толща воды прогре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о 26 –28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, зимой море замерз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ГЕОГРАФИЧЕСКИЕ ОБЪЕКТЫ АЗОВСКОГО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4004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628640"/>
            <a:ext cx="38844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561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666633"/>
                </a:solidFill>
                <a:latin typeface="Arial"/>
              </a:rPr>
              <a:t>Ресурсы Азовского мор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82000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820000" y="0"/>
            <a:ext cx="0" cy="685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0"/>
            <a:ext cx="0" cy="5759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630864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604360" y="1025280"/>
            <a:ext cx="0" cy="5832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49360"/>
            <a:ext cx="7993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76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1.Биологически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.Дешевые транспортные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3.Курорты и здравн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162000" y="595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687840" y="38016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689280" y="487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689280" y="485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7:15:30Z</dcterms:created>
  <dc:creator>ENJOY</dc:creator>
  <dc:description/>
  <dc:language>en-US</dc:language>
  <cp:lastModifiedBy>ENJOY</cp:lastModifiedBy>
  <dcterms:modified xsi:type="dcterms:W3CDTF">2009-07-07T08:07:18Z</dcterms:modified>
  <cp:revision>7</cp:revision>
  <dc:subject/>
  <dc:title>Слайд 1</dc:title>
</cp:coreProperties>
</file>