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018-17D9-40F9-AD4A-99859BD2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EA7-C86E-4EC0-A136-19732EF9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1DC-5429-40B3-BF24-7FC396B7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644-6DA1-4958-86B1-E0144DEC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77B8-AC17-4E7B-AFDE-5F826108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790-7790-4A75-A5EE-4C907175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CAA2-C47D-4E10-B968-66EBB511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AE2A-527C-4222-8495-510D7CA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5D9A-DF55-4646-9493-931C5DB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01AA-EC13-484A-98D9-2F89C6DF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6302-9983-47C7-8F4E-8C0EB42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330-AE5F-42DB-A8EC-45C207E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1EE7-166A-4272-AFFB-4F289B3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40E7-DE09-4E04-9D55-AFB16EC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9645-AE7F-4B36-B127-8762F645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121-2955-41F4-87E2-FCE9E1B5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287-739F-40C4-BD93-4810CF59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1E41-A870-4C8A-9FC6-4E34039D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4034-EB42-4FAC-9E9E-C25011FB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BF46-5AC8-44D2-BAF0-D2D57A0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9836-AEB7-49DC-A078-D76C5BF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FE1C-604A-4D84-81DF-C13B9F65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220-E329-4FBB-ABDA-1083DFE0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4644-02A2-4802-8B07-B8113E7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7B7F-A4D5-4EE3-9A1F-B4ABA52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AE86-5CD6-42C9-9807-D570CFED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C520-805E-44A8-8733-79F312CD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18A2-98C3-420E-9FE4-50C709F0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65DB-97D8-4C67-8BC4-85B26026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1E1C-5659-4E22-A80D-017EC98B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FA7-EBBB-43D3-AC6E-4875AD50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387-3B22-471D-B4CF-2612DE7A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811-711E-49D1-8F7C-5756856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A93-6919-49D3-9C80-CEF89DD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024-A6B6-4D19-B1C8-4B075FC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6E8-0772-4FB4-B9BA-368524A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FE6-9A96-474C-B294-0FD59374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4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93D-C4A1-49E9-9F4F-91AB82F4F9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B0A-72D1-45DE-9084-266D7CC5E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27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81;&#209;&#128;&#208;&#190;&#208;&#180;&#208;&#190;&#209;&#13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47;&#1054;&#1042;&#1057;&#1050;&#1054;&#1045;%20&#1052;&#1054;&#1056;&#1045;.ppt#Slide 1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4 класса «В» МОУСОШ №4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Д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луцкий Игор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Жилина О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72000" cy="252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40216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Arial"/>
              </a:rPr>
              <a:t>Фауна Азовского моря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ичины высокой продуктивности Азовского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9640" y="2852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Мелководность мор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Хорошая прогреваемость и освещенность всей толщи в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Отличное перемешивание и насыщение вод кислоро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омысловыми вида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являются осетровые( белуга,осетр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севрюга), судак,лещ,сазан,тарань, и се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003" descr=""/>
          <p:cNvPicPr/>
          <p:nvPr/>
        </p:nvPicPr>
        <p:blipFill>
          <a:blip r:embed="rId1"/>
          <a:stretch/>
        </p:blipFill>
        <p:spPr>
          <a:xfrm>
            <a:off x="792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57" name="osetr" descr=""/>
          <p:cNvPicPr/>
          <p:nvPr/>
        </p:nvPicPr>
        <p:blipFill>
          <a:blip r:embed="rId2"/>
          <a:stretch/>
        </p:blipFill>
        <p:spPr>
          <a:xfrm>
            <a:off x="6084720" y="2895480"/>
            <a:ext cx="2870280" cy="3962520"/>
          </a:xfrm>
          <a:prstGeom prst="rect">
            <a:avLst/>
          </a:prstGeom>
          <a:ln w="0">
            <a:noFill/>
          </a:ln>
        </p:spPr>
      </p:pic>
      <p:pic>
        <p:nvPicPr>
          <p:cNvPr id="258" name="lesh" descr=""/>
          <p:cNvPicPr/>
          <p:nvPr/>
        </p:nvPicPr>
        <p:blipFill>
          <a:blip r:embed="rId3"/>
          <a:stretch/>
        </p:blipFill>
        <p:spPr>
          <a:xfrm>
            <a:off x="0" y="4827600"/>
            <a:ext cx="388620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sudak" descr=""/>
          <p:cNvPicPr/>
          <p:nvPr/>
        </p:nvPicPr>
        <p:blipFill>
          <a:blip r:embed="rId4"/>
          <a:stretch/>
        </p:blipFill>
        <p:spPr>
          <a:xfrm>
            <a:off x="0" y="0"/>
            <a:ext cx="3429000" cy="3112920"/>
          </a:xfrm>
          <a:prstGeom prst="rect">
            <a:avLst/>
          </a:prstGeom>
          <a:ln w="0">
            <a:noFill/>
          </a:ln>
        </p:spPr>
      </p:pic>
      <p:pic>
        <p:nvPicPr>
          <p:cNvPr id="260" name="Beluga_pic" descr=""/>
          <p:cNvPicPr/>
          <p:nvPr/>
        </p:nvPicPr>
        <p:blipFill>
          <a:blip r:embed="rId5"/>
          <a:stretch/>
        </p:blipFill>
        <p:spPr>
          <a:xfrm>
            <a:off x="3780000" y="189000"/>
            <a:ext cx="4790880" cy="1500120"/>
          </a:xfrm>
          <a:prstGeom prst="rect">
            <a:avLst/>
          </a:prstGeom>
          <a:ln w="0">
            <a:noFill/>
          </a:ln>
        </p:spPr>
      </p:pic>
      <p:pic>
        <p:nvPicPr>
          <p:cNvPr id="261" name="herring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4419360" cy="1582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7920" y="4610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78936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ь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7920" y="6370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274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е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9440" y="2712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274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6066000"/>
            <a:ext cx="54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7280" y="621828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0" y="2997360"/>
            <a:ext cx="3095640" cy="1833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2997360"/>
            <a:ext cx="1779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нчо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003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95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5640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163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1557360"/>
            <a:ext cx="257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34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987640" y="1484280"/>
            <a:ext cx="2879640" cy="136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30639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блема Азовского моря –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адение продуктивност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4360" y="2781360"/>
          <a:ext cx="7920000" cy="3043080"/>
        </p:xfrm>
        <a:graphic>
          <a:graphicData uri="http://schemas.openxmlformats.org/drawingml/2006/table">
            <a:tbl>
              <a:tblPr/>
              <a:tblGrid>
                <a:gridCol w="1962000"/>
                <a:gridCol w="762120"/>
                <a:gridCol w="761760"/>
                <a:gridCol w="695520"/>
                <a:gridCol w="720720"/>
                <a:gridCol w="793800"/>
                <a:gridCol w="718920"/>
                <a:gridCol w="722520"/>
                <a:gridCol w="782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ы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т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627280" y="2276640"/>
            <a:ext cx="5977080" cy="482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ов азовских рыб тыс. т. годы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чины снижения продуктивности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Азовского моря</a:t>
            </a:r>
            <a:br>
              <a:rPr sz="3600"/>
            </a:b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меньшение стока рек Дон и Кубань в результат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строительства водохранилищ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2. Биологическое загрязнение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3. Промышл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4. Сельскохозяйств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5. Нефтя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6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величение солености моря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ок рек Дон и Кубань (куб.км.) в Азовском море за период с 1930 по 1990 г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9160" y="6012000"/>
            <a:ext cx="291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55640" y="2565360"/>
            <a:ext cx="7914600" cy="2806200"/>
            <a:chOff x="755640" y="2565360"/>
            <a:chExt cx="7914600" cy="2806200"/>
          </a:xfrm>
        </p:grpSpPr>
        <p:grpSp>
          <p:nvGrpSpPr>
            <p:cNvPr id="319" name=""/>
            <p:cNvGrpSpPr/>
            <p:nvPr/>
          </p:nvGrpSpPr>
          <p:grpSpPr>
            <a:xfrm>
              <a:off x="755640" y="2565360"/>
              <a:ext cx="1383840" cy="1097280"/>
              <a:chOff x="755640" y="2565360"/>
              <a:chExt cx="1383840" cy="109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139840" y="2565360"/>
              <a:ext cx="1383840" cy="1097280"/>
              <a:chOff x="2139840" y="2565360"/>
              <a:chExt cx="1383840" cy="109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рма ест. стока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24040" y="2565360"/>
              <a:ext cx="850320" cy="1097280"/>
              <a:chOff x="3524040" y="2565360"/>
              <a:chExt cx="850320" cy="109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30- 194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75080" y="2565360"/>
              <a:ext cx="850680" cy="1097280"/>
              <a:chOff x="4375080" y="2565360"/>
              <a:chExt cx="850680" cy="109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41- 195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26120" y="2565360"/>
              <a:ext cx="891000" cy="1097280"/>
              <a:chOff x="5226120" y="2565360"/>
              <a:chExt cx="891000" cy="109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51- 196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17840" y="2565360"/>
              <a:ext cx="850680" cy="1097280"/>
              <a:chOff x="6117840" y="2565360"/>
              <a:chExt cx="850680" cy="109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61- 197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968880" y="2565360"/>
              <a:ext cx="850320" cy="1097280"/>
              <a:chOff x="6968880" y="2565360"/>
              <a:chExt cx="850320" cy="109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1- 198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19920" y="2565360"/>
              <a:ext cx="850320" cy="1097280"/>
              <a:chOff x="7819920" y="2565360"/>
              <a:chExt cx="850320" cy="1097280"/>
            </a:xfrm>
          </p:grpSpPr>
          <p:sp>
            <p:nvSpPr>
              <p:cNvPr id="341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1- 199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5640" y="3663000"/>
              <a:ext cx="1383840" cy="853560"/>
              <a:chOff x="755640" y="3663000"/>
              <a:chExt cx="1383840" cy="853560"/>
            </a:xfrm>
          </p:grpSpPr>
          <p:sp>
            <p:nvSpPr>
              <p:cNvPr id="344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139840" y="3663000"/>
              <a:ext cx="1383840" cy="853560"/>
              <a:chOff x="2139840" y="3663000"/>
              <a:chExt cx="1383840" cy="853560"/>
            </a:xfrm>
          </p:grpSpPr>
          <p:sp>
            <p:nvSpPr>
              <p:cNvPr id="347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524040" y="3663000"/>
              <a:ext cx="850320" cy="853560"/>
              <a:chOff x="3524040" y="3663000"/>
              <a:chExt cx="850320" cy="853560"/>
            </a:xfrm>
          </p:grpSpPr>
          <p:sp>
            <p:nvSpPr>
              <p:cNvPr id="350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75080" y="3663000"/>
              <a:ext cx="850680" cy="853560"/>
              <a:chOff x="4375080" y="3663000"/>
              <a:chExt cx="850680" cy="853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226120" y="3663000"/>
              <a:ext cx="891000" cy="853560"/>
              <a:chOff x="5226120" y="3663000"/>
              <a:chExt cx="891000" cy="853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117840" y="3663000"/>
              <a:ext cx="850680" cy="853560"/>
              <a:chOff x="6117840" y="3663000"/>
              <a:chExt cx="850680" cy="853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68880" y="3663000"/>
              <a:ext cx="850320" cy="853560"/>
              <a:chOff x="6968880" y="3663000"/>
              <a:chExt cx="850320" cy="853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,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819920" y="3663000"/>
              <a:ext cx="850320" cy="853560"/>
              <a:chOff x="7819920" y="3663000"/>
              <a:chExt cx="850320" cy="85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5640" y="4517280"/>
              <a:ext cx="1383840" cy="854280"/>
              <a:chOff x="755640" y="4517280"/>
              <a:chExt cx="1383840" cy="854280"/>
            </a:xfrm>
          </p:grpSpPr>
          <p:sp>
            <p:nvSpPr>
              <p:cNvPr id="368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бан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139840" y="4517280"/>
              <a:ext cx="1383840" cy="854280"/>
              <a:chOff x="2139840" y="4517280"/>
              <a:chExt cx="1383840" cy="854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040" y="4517280"/>
              <a:ext cx="850320" cy="854280"/>
              <a:chOff x="3524040" y="4517280"/>
              <a:chExt cx="850320" cy="85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375080" y="4517280"/>
              <a:ext cx="850680" cy="854280"/>
              <a:chOff x="4375080" y="4517280"/>
              <a:chExt cx="850680" cy="854280"/>
            </a:xfrm>
          </p:grpSpPr>
          <p:sp>
            <p:nvSpPr>
              <p:cNvPr id="377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226120" y="4517280"/>
              <a:ext cx="891000" cy="854280"/>
              <a:chOff x="5226120" y="4517280"/>
              <a:chExt cx="891000" cy="854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117840" y="4517280"/>
              <a:ext cx="850680" cy="854280"/>
              <a:chOff x="6117840" y="4517280"/>
              <a:chExt cx="850680" cy="854280"/>
            </a:xfrm>
          </p:grpSpPr>
          <p:sp>
            <p:nvSpPr>
              <p:cNvPr id="383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968880" y="4517280"/>
              <a:ext cx="850320" cy="854280"/>
              <a:chOff x="6968880" y="4517280"/>
              <a:chExt cx="850320" cy="85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819920" y="4517280"/>
              <a:ext cx="850320" cy="854280"/>
              <a:chOff x="7819920" y="4517280"/>
              <a:chExt cx="850320" cy="85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агрязнени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лучайное или связанное с деятельностью человека проникновение в природный комплекс моря чуждых ему растений, животных и микроорганизм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Arial"/>
              </a:rPr>
              <a:t>Увеличение солёности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53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зовское море: вчера, сегодня,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640"/>
            <a:ext cx="0" cy="68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0" cy="638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381720"/>
            <a:ext cx="8388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Промышлен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488360" cy="3889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995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Нефтя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64818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9900"/>
                </a:solidFill>
                <a:uFillTx/>
                <a:latin typeface="Arial"/>
              </a:rPr>
              <a:t>Э</a:t>
            </a: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КОЛОГИЧЕСКИЕ</a:t>
            </a:r>
            <a:br>
              <a:rPr sz="5400"/>
            </a:b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 КАТОСТРОФЫ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Азовское море 2007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762120" y="1268280"/>
            <a:ext cx="761976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кораблекрушений в воду попало около 6,8 тысячи тонн серы и около 1,3 тысячи тонн мазута.  Протяженность пятна вдоль берега  - 1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Последствия керченской катастрофы. Фото: ALEXANDER NEMENOV/AFP/Getty Images"/>
          <p:cNvPicPr/>
          <p:nvPr/>
        </p:nvPicPr>
        <p:blipFill>
          <a:blip r:embed="rId3"/>
          <a:stretch/>
        </p:blipFill>
        <p:spPr>
          <a:xfrm>
            <a:off x="723960" y="1989000"/>
            <a:ext cx="7664400" cy="4137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Последствия керченской катастрофы. Фото: ALEXANDER NEMENOV/AFP/Getty Images"/>
          <p:cNvPicPr/>
          <p:nvPr/>
        </p:nvPicPr>
        <p:blipFill>
          <a:blip r:embed="rId4"/>
          <a:stretch/>
        </p:blipFill>
        <p:spPr>
          <a:xfrm>
            <a:off x="755640" y="1916280"/>
            <a:ext cx="7664400" cy="42494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70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624800" cy="4176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33400" y="1989000"/>
            <a:ext cx="7626240" cy="4137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632720" cy="4137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00"/>
                </a:solidFill>
                <a:uFillTx/>
                <a:latin typeface="Arial"/>
              </a:rPr>
              <a:t>Азовское  море год спу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66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Берег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531200" cy="48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89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Мои наблюдения за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900000" y="1341360"/>
          <a:ext cx="7488000" cy="4824000"/>
        </p:xfrm>
        <a:graphic>
          <a:graphicData uri="http://schemas.openxmlformats.org/drawingml/2006/table">
            <a:tbl>
              <a:tblPr/>
              <a:tblGrid>
                <a:gridCol w="1214280"/>
                <a:gridCol w="1086840"/>
                <a:gridCol w="1291320"/>
                <a:gridCol w="1315800"/>
                <a:gridCol w="1173960"/>
                <a:gridCol w="1405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ух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ы у берег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у берега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в 20 м от бе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История изуч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Опомнись, чело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2200" y="1987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омнись, вздрогн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лог на земле твой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о что после себя ост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чем мы здесь себя просл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 истории изучения Азовского моря выделяют три эта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77840"/>
            <a:ext cx="7705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ий (географический) — со времён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до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XI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Геолого-географический — XIX ст. — 40-е годы X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плексный — середина XX ст. —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ая карта Азовско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Общие свед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hot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00280"/>
            <a:ext cx="777528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38 т.км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ксимальная глубина 14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глубина 8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ий объем воды 320 к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еность воды 2-11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м толща воды прогре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 26 –2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, зимой море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ЕОГРАФИЧЕСКИЕ ОБЪЕКТЫ АЗОВСК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00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844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561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666633"/>
                </a:solidFill>
                <a:latin typeface="Arial"/>
              </a:rPr>
              <a:t>Ресурсы Азовского мо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7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1.Биологически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.Дешевые транспортные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3.Курорты и здрав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15:30Z</dcterms:created>
  <dc:creator>ENJOY</dc:creator>
  <dc:description/>
  <dc:language>en-US</dc:language>
  <cp:lastModifiedBy>ENJOY</cp:lastModifiedBy>
  <dcterms:modified xsi:type="dcterms:W3CDTF">2009-07-07T08:07:18Z</dcterms:modified>
  <cp:revision>7</cp:revision>
  <dc:subject/>
  <dc:title>Слайд 1</dc:title>
</cp:coreProperties>
</file>