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677-E3AF-41CF-B0E4-51D7A02A0D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F0D-1A08-4372-A4D3-1FB3501F69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3F70-9B0A-43C5-A5D5-E27C642079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778-23E3-483C-9D8C-82A58B75DC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5AFA-928E-4969-A5E7-A1D18C453C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вода текстов в компьютер и их изменения  используется программа,   называемая  редак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едактору в принципе язык программирования незнаком, он воспринимает исходную программу как текст, который можно дополнять или изменять(то есть редактирова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создания  текста программы она еще не может выполняться маши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мпилятор представляет  собой  большую программу, которая переводит исходный текст с языка высокого  уровня на  машинный  язык, доступный компьютеру. Этот процесс  называется компиля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компиляции проверяется правильность написания  программы.  Если   ошибок  нет,  то программа может быть выполнена; в противном случае снова может быть выбран редакто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гут быть   ошибки, выполняемые  исполнительной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C92-F5DC-4A38-BF92-22ED428AAC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для разностной вычислительной машин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ись текста программы на языке программирования называют кодированием, а отладку программы - тестирован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акая терминология более корректна, чем использование одного слова "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, в которое, в зависимости от контекста, включают либо проектирование, кодирование и тестирование вместе, либо кодирование и тестирование, либо просто код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26A5-9C0B-466E-AC81-3ECEAC7DE9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для разностной вычислительной машин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ись текста программы на языке программирования называют кодированием, а отладку программы - тестирован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акая терминология более корректна, чем использование одного слова "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, в которое, в зависимости от контекста, включают либо проектирование, кодирование и тестирование вместе, либо кодирование и тестирование, либо просто код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2A5-DA75-48E5-B509-27B1131898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372E-EA0E-48A7-976A-29BE97C54D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635-CDCE-4B31-BB42-92942A095B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1E74-0701-4550-96F1-F3DB9E8DA7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4035-B8B9-4923-87C7-B88CBEC55B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AEEB-CDEE-4BBD-8E5A-0A71D03C4B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2ED4-9A8A-4FD3-804B-022186BE28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632B-C0E3-4086-B19A-BCAAB40643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я разбиения исходной задачи на части появилась сразу же, как только сложность эт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и достигла пределов, за которыми один программист не был в состоянии ни разработан, и заданные сроки программ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е решения, ни отладить программу. И хотя в литературе модульность чаще всего трактуется как метод программирования, скорее всего ее нужно рассматривать как принцип, поскольку все остальные методы могут быть применены па уровне моду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ота идеи принципа модульности и очевидные его достоинства не означают простоты  его  реализации.  Основная  трудность  состоит  в четком определении модуля и способа разделения общей программы н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у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нец, тестирование приходится проводить на разных уровнях - на уровне модулей и программы в целом. Поэтому, разрабатывая свою программу, определяйте сами, не велика ли плата за изящную структу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EE41-8ABC-48AC-98A2-27CC85D4B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очевидные преимущества, нисходящее проектирование имеет и ряд недостат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ектировании сверху вниз очень трудно свести конкретную задачу к конкретным, уже готовым, программным модулям, написанным ранее для другой зада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еко не вес программы имеют простую древовидную структуру, которая хорошо согласуется со стратегией нисходящего прое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шибки на верхнем уровне, возникшие на этапе проектирования или кодирования, могут иметь катастрофические последствия для программы в цел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ая трудоемкость проект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778A-5847-4E17-8E5B-CA8EF25F53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очевидные преимущества, нисходящее проектирование имеет и ряд недостат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ектировании сверху вниз очень трудно свести конкретную задачу к конкретным, уже готовым, программным модулям, написанным ранее для другой зада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еко не вес программы имеют простую древовидную структуру, которая хорошо согласуется со стратегией нисходящего прое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шибки на верхнем уровне, возникшие на этапе проектирования или кодирования, могут иметь катастрофические последствия для программы в цел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ая трудоемкость проект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5C5A-362E-49AF-BCE5-3D11BCD22B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сходящее проектирован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 основу проекта берутся какие-то уже готовые программные модули, из которых строятся другие, более сложные или недостающ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исходном наборе, таким образом, чтобы в итоге выполнилась исходная постановка задач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едостатком данной стратегии является то, что логически стройная структура программы получается лишь в результате многочисленных проб и ошибок, что затягивает сроки разработки програм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о многих случаях представляется разумным сочетать восходящую и нисходящую стратеги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нисходящем проектировании мы начинаем с управляющего модуля. Чтобы отладить программу этого модуля придется заменять модули нижнего уровня так называемыми "заглушками" - простыми программами, имитирующими работу этих моду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восходящем проектировании сначала надо будет составить и отладить программы модулей нижнего уровня, а затем переходить к управляющему модулю и при его отладке пользоваться полноценными отлаженными программами модулей нижнего уров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ADFD-5732-44E9-8F47-AE303B6A46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носительно перечисленных структур необходимо прежде всего понять, что они определены рекурсивно. Это означает, что в качестве любого компонента в этих структурах может быть использована любая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еречисленных структур, в которую, в свою очередь, могут входить в качестве "строительных блоков" те же структур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лгоритм или программа называются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уктурированными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если в них использованы только указанные типы структур, соединенные по описанным простым правилам (для программы это условие является необходимым, но недостаточным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тод структурного программирования оказал революционизирующее влияние на развитие программирования и формирование технологии программирования. Сообщалось о том, что производительность труда программистов удавалось повысить от 50 до 100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руктурный метод упорядочивай работу программиста, делает ее математически более строгой, а практически более конструктивн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лагодаря строгости стало возможным ввести в программирование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формальные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тоды проектирования, доказательства правильности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втоматического синтеза программ и тестов для них и т. д. Все это, конечно, не означает, что данный метод лишен недостатков. Так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руктурные программы часто оказываются более медленным и требуют больше памяти, чем неструктурированные. Сам метод структурного программирования более подходит для составления программ на языках высокого уровня и его преимущества становятся не такими очевидными при программировании па машинном языке или на ассемблере. И, наконец, структурное программирование, как показал опыт его многолетнего использования, не решило вопросов быстрого создания качественных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грамм коллективами программистов, по это, безусловно, элементарная культура программирова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3E55-0239-4E31-9C01-F310C239C5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4EC-764B-4658-B8DA-EFEFA8A9DE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4242-B49B-4977-A38C-7850AC399A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D6D6-B4F1-4D84-B735-170DFBE2E4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4FB6-DB78-461F-A090-BDBEF9C964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AA8A-253E-4B6A-B062-58941CB5BC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начальном этапе развития вычислительной техники программирование осуществлялось только в машинных командах. При программировании в машинных командах программист находится как бы на одном уровне с ПЭВМ: между его программой и реализующими ее техническими средствами ПЭВМ нет никаких посредников и программа выполняемся практически в том виде, в каком ее записал программист. Недостатки такого уровня программирования очевидны. Во-первых, программист должен не только в совершенстве знать систему команд ПЭВМ, уметь мыслить в " терминах" машинных функции, но и постоянно помнить, какие ячейки памяти и чем заняты. Во-вторых, такое программирование связано с большими трудо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ю в машинных командах присущи и ряд достоинств. Обеспечивая программисту полный контроль и управление последовательностью действий, которые выполняет ПЭВМ, оно позволяет оптимизировать программу с точки зрения времени ее выполнения и требуемого объем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ые недостатки и трудности программирования в машинных командах сдерживали широкое распространение вычислительной техники. Возникало явное противоречие между огромными возможностями ЭВМ. способных выполнять сотни тысяч команд в секунду, и столь же огромными временными затратами на разработку програм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976F-A742-42EE-AD0B-BB1EFF1129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ю в машинных командах присущи и ряд достоинств. Обеспечивая программисту полный контроль и управление последовательностью действий, которые выполняет ПЭВМ, оно позволяет оптимизировать программу с точки зрения времени ее выполнения и требуемого объем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ые недостатки и трудности программирования в машинных командах сдерживали широкое распространение вычислительной техники. Возникало явное противоречие между огромными возможностями ЭВМ, способных выполнять сотни тысяч команд в секунду, и столь же огромными временными затратами на разработку програм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F7E-158D-4F14-B406-FBE4A03971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матизируетс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есь процесс разработки программ, а лишь перевод исходного текста, написанного программистом, на язык машинных команд, а также поиск ошибок и исходном тексте, связанных с неправильным использованием средств языка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даже такая автоматизация существенно повысила производительность труда программиста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л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олько и не столько в том , чт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горитмическ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высокого уровня более удобен и близок человеку, чем язык машинных команд. Каждая конструкция такого языка обладает намного больше действий ПЭВМ, чем машинная команда, т. е. представляет собой крупный "блок'', - из которых "строится'' программа. При автоматическом переводе каждый такой "блок" преобразуется в целую последовательность машинных команд. Но за такое повышение производительности приходится "платить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автоматизация перевода требует жесткой формализации алгоритмического языка. Во-вторых, необходима разработка самих трансляторов. И, наконец, программы в машинных командах, получаемые в результате трансляции, как правило, длиннее и используют в несколько раз больше памяти, чем программы решения тех же задач, но написанные программистом сразу на машинн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ED1-E0B3-4BCE-8FBF-F0E857DC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62F-70D6-4FF4-804D-852A00C1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C27-B2FD-40D8-99FD-8C9EE935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A05-833C-4038-87EB-D3C731E0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8169-01EC-4931-9E0B-A1D181A4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FD02-7CFD-425B-A66C-7306FF38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1F88-631C-4DCE-9679-B16E2352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EE6-421D-4D70-BF01-18927478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1BD-3D04-4F56-BB1A-0141F60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3B0D-732B-43D2-82FC-40EC89EF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42CA-B165-4F4B-9F33-E8F3CB4D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396-9F87-49C7-A72A-1CB8F196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9642-0596-433C-8EFA-212D0DD7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CD20-B722-40B1-9D10-1E168F6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2D0C-066C-44F6-8E7C-81A48EA3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C682-149F-41F6-A62B-9011B2F7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33E8-7DBC-4EBD-94A7-13ADAB3B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1EA9-9E68-4CCA-980F-3B48EB61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C904-A0D7-4E12-93AD-71FA6360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EF0A-59FE-44C0-A994-506C259D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9919-525F-4A18-BA97-4D510A0C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2059-D018-4FC2-ACEE-F758D5F3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9F6-8C6B-44FF-8E0C-FE155055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E978-A156-4931-B6B3-ACB378E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E327-26BB-4A1F-9166-6F3020F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B713-9BB3-42EF-9309-D492F26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78FD-D881-4477-9458-646770CE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1942-9FDC-49FC-BF4A-02488CB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08F44-9726-4224-8DD7-2B13D5B7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8164-F1D8-4879-AB13-88410AF6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C6D1-35E7-46B9-9AA6-D8B9B571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B95AC-D7B2-4CCF-AFDD-7A8F5291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AE5C-931E-4EA8-B6E9-2838C10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836-1273-4F3A-A614-7076B112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1E6D-5A08-49FE-8CEB-4A52779F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14D4-6194-4FB1-AC54-87B787BD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61A5-7F8A-4D14-B19F-2E17A5DC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A2AA-1392-4408-9B58-AE902D1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DEC3-4DE4-4477-AC86-1E0DDAF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34A8C-A201-4272-B4F3-700498F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0190-E975-4CF4-B097-FA3E462B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B036-D25A-4C89-8EBF-2D8E9FFA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2BE3-193A-4C72-B2AF-769192B8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FFE-2A6B-4537-B940-D8D88DAB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0A9-3B46-4E9E-A8E6-587CE03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012-1BB3-4167-BEAC-F537B20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946-B0EC-4768-B0B5-908809D2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227-D1C3-462A-8088-ED9B3F85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4C66-F286-4B20-945F-16B937F211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8494-82D8-4A39-AA7F-C71927D07F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3900-7170-4CD1-B400-9A67EB8BD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CE1F-0D51-4373-AB3F-A69F45C074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8">
            <a:hlinkClick r:id="" action="ppaction://hlinkshowjump?jump=nextslide"/>
          </p:cNvPr>
          <p:cNvSpPr/>
          <p:nvPr/>
        </p:nvSpPr>
        <p:spPr>
          <a:xfrm>
            <a:off x="2133720" y="6095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>
            <a:hlinkClick r:id="" action="ppaction://hlinkshowjump?jump=firstslide"/>
          </p:cNvPr>
          <p:cNvSpPr/>
          <p:nvPr/>
        </p:nvSpPr>
        <p:spPr>
          <a:xfrm>
            <a:off x="8610480" y="64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68360" y="549360"/>
            <a:ext cx="8445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полнение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826920" y="1484280"/>
            <a:ext cx="7490160" cy="4176720"/>
          </a:xfrm>
          <a:custGeom>
            <a:avLst/>
            <a:gdLst>
              <a:gd name="textAreaLeft" fmla="*/ 270720 w 7490160"/>
              <a:gd name="textAreaRight" fmla="*/ 7219440 w 7490160"/>
              <a:gd name="textAreaTop" fmla="*/ 270720 h 4176720"/>
              <a:gd name="textAreaBottom" fmla="*/ 3906000 h 417672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>
              <a:alpha val="1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дготовка задач для решения на ПЭВМ</a:t>
            </a:r>
            <a:r>
              <a:rPr b="0" lang="en-B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Система программирования ПЭВ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азначение языков программ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Технологии программ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roup 12" descr=""/>
          <p:cNvPicPr/>
          <p:nvPr/>
        </p:nvPicPr>
        <p:blipFill>
          <a:blip r:embed="rId2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179280" y="5734080"/>
            <a:ext cx="8713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mic Sans MS"/>
              </a:rPr>
              <a:t>Агейчев Олег Михайлович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ститель директора по ШИС ГБОУ гимназии № 105 г. Санкт-Петербур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11280" y="620640"/>
            <a:ext cx="8136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нсляторы бывают дву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терпрета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иля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переводит каждую команду программы с одновременным её выполнением и, если обнаруживает ошибку, сообщает о ней и прекращает выполнение програм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переводит всю программу целиком и в конце работы выдаёт список ошибок, если они обнару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B81A-C491-456B-BB11-7CE1A967291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39640" y="33336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истема программирования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это система автоматизации  программирования,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образуемая языками        программирования, компиляторами и интерпретаторами програм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представленных на этих языках, соответствующей документацией, а также вспомогательными средствами для подготовки программ к выполнен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534-2159-44D7-BF9E-4D46C20A10EA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2793960"/>
            <a:ext cx="62643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Группа 19"/>
          <p:cNvGrpSpPr/>
          <p:nvPr/>
        </p:nvGrpSpPr>
        <p:grpSpPr>
          <a:xfrm>
            <a:off x="282240" y="1554120"/>
            <a:ext cx="4474080" cy="3746520"/>
            <a:chOff x="282240" y="1554120"/>
            <a:chExt cx="4474080" cy="3746520"/>
          </a:xfrm>
        </p:grpSpPr>
        <p:sp>
          <p:nvSpPr>
            <p:cNvPr id="260" name="AutoShape 4"/>
            <p:cNvSpPr/>
            <p:nvPr/>
          </p:nvSpPr>
          <p:spPr>
            <a:xfrm rot="15967200">
              <a:off x="-833040" y="3070080"/>
              <a:ext cx="3372840" cy="915840"/>
            </a:xfrm>
            <a:custGeom>
              <a:avLst/>
              <a:gdLst>
                <a:gd name="textAreaLeft" fmla="*/ 493920 w 3372840"/>
                <a:gd name="textAreaRight" fmla="*/ 2878920 w 3372840"/>
                <a:gd name="textAreaTop" fmla="*/ 133920 h 915840"/>
                <a:gd name="textAreaBottom" fmla="*/ 781920 h 9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>
              <a:off x="966960" y="429192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едак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1396080" y="2562840"/>
              <a:ext cx="929160" cy="1729080"/>
            </a:xfrm>
            <a:prstGeom prst="downArrow">
              <a:avLst>
                <a:gd name="adj1" fmla="val 50000"/>
                <a:gd name="adj2" fmla="val 46523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1038600" y="155412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омпиля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0917000">
              <a:off x="2901240" y="3935880"/>
              <a:ext cx="1210680" cy="1224720"/>
            </a:xfrm>
            <a:custGeom>
              <a:avLst/>
              <a:gdLst>
                <a:gd name="textAreaLeft" fmla="*/ 696600 w 1210680"/>
                <a:gd name="textAreaRight" fmla="*/ 1021680 w 1210680"/>
                <a:gd name="textAreaTop" fmla="*/ 164880 h 1224720"/>
                <a:gd name="textAreaBottom" fmla="*/ 524160 h 12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2897640" y="292284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полн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5380200">
              <a:off x="2998080" y="1662840"/>
              <a:ext cx="1083600" cy="1288440"/>
            </a:xfrm>
            <a:custGeom>
              <a:avLst/>
              <a:gdLst>
                <a:gd name="textAreaLeft" fmla="*/ 623520 w 1083600"/>
                <a:gd name="textAreaRight" fmla="*/ 914400 w 1083600"/>
                <a:gd name="textAreaTop" fmla="*/ 173520 h 1288440"/>
                <a:gd name="textAreaBottom" fmla="*/ 551520 h 12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11"/>
          <p:cNvSpPr/>
          <p:nvPr/>
        </p:nvSpPr>
        <p:spPr>
          <a:xfrm>
            <a:off x="539640" y="260280"/>
            <a:ext cx="475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мпилят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ереводит исходный текст с языка высокого  уровня на  машинный  язык, доступный компьюте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D04A-B3F4-4E66-B18A-D8AA8EC2BC4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81080" y="5445000"/>
            <a:ext cx="51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ввода текстов в компьютер и их изменения  используется программа,   называемая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дакторо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5003640" y="2276640"/>
            <a:ext cx="38862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ен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граммы могут быть   ошиб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их поиска используются специальные   средства,  помогающие  выявить ошибки - программа, называемая отладчик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11280" y="1125360"/>
            <a:ext cx="813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ля аналитической вычислительной машины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236160"/>
            <a:ext cx="8175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языков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D25-DCD7-4EB8-B72E-9AFC772D49A6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9" descr="038"/>
          <p:cNvPicPr/>
          <p:nvPr/>
        </p:nvPicPr>
        <p:blipFill>
          <a:blip r:embed="rId2"/>
          <a:stretch/>
        </p:blipFill>
        <p:spPr>
          <a:xfrm>
            <a:off x="3348000" y="3645000"/>
            <a:ext cx="25192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11280" y="836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пись текста программы на языке програм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д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лад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ограммы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ст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5E19-4FC8-44E0-A6A4-8A5E9C864471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>
            <a:lum bright="28000"/>
          </a:blip>
          <a:stretch/>
        </p:blipFill>
        <p:spPr>
          <a:xfrm>
            <a:off x="1908000" y="2781360"/>
            <a:ext cx="6255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964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 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мый распространённый язык програм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а нём написано больше программ, чем на любом другом. Подавляющее большинство профессиональных программистов владеют им. Исторически этот язык неотделим от операционной системы UNIX , которая в наши дни переживает своё второе рождение. 60-е годы были эпохой становления операционных систем и языков программирования высокого уровня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  с самого начала создавался так, чтобы на нём можно было писать систем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Разработчики языка - Кеннет Томсон и Деннис Ри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0214-15E5-4733-B078-2D7402B6DEA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3964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концепции язык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Pasca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были разработаны в 1967 г. профессором Николаусом Виртом, и он быстро превратился из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редства для обучения студент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ограммированию в инструмент для создания новых программных проектов. Язык назван в честь французского учёного Блеза Паскаля, внесшего вклад в развитие средств вычислительной тех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3BA-0BF4-48EE-BAB9-E1F3BEAF25B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11280" y="47628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это ни что иное, как Visual Pascal. Эт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реда 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простая и удобная 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держи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большую библиотек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товых компонент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кнопок, панелей, списков, таймеров, изображений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Basi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- эт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дин из самых старых языков 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Его создатели -  Джон Кемени и Том Куртц, работавшие в Дортмундском колледже в 1964 году. Свой язык они назвали по первым буквам слов «Beginner’s All Purpose Symbolic Instructions Code». Интерпретатор Basic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ыл первым программным продуктом фирмы Microso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снованной Полом Аленом и Уильямом Гейтсом в 1975 году. В дальнейшем он не только поставлялся как программа, но и зашивался в ПЗУ компьют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ередине 80 - годов фирма Microsoft разработала QuickBasic. Это был уже компилятор, а не интерпретатор. Вообще Basic’ов  несколько сотен. После появления Windows и визуальных средств разработки программ был создан Visual Bas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6B2F-A031-41CE-B9DB-871A7A435DEA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68360" y="47628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старейший язык программирования. В начале 50-х годов он был разработан исследовательской группой под руководством Джона Бэкуса. Его название происходи от 2-х слов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FORMULA TRANSLATIO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Первая версия системы  FORTRAN для компьютера IBM была выпущена в начале 195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LGO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также старейший язык программирования,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ниверсальный язык  программирования общего назнач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Его название происходи от 2-х слов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LGORITMIC LANGUAG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н был разработан международной рабочей группой, состоящей из 30 человек в 1969 г.   Язык очень стройный и изящный благодаря тому, что он основан на принципе ортогональности, согласно которому язык должен по возможности состоять из независимых элементов, свободно комбинирующихся друг с другом. Один из активных разработчиков ALGOL-68  - Чарльз Линд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4AF9-CF82-43C5-AA4A-A43906E18BB2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68360" y="40464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AD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язык программирования, который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сложности сравнивают с С++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азван в честь леди Ады Августы Лавлейс, работавшей вместе с Чарльзом Беббиджем и разрабатывавшей программы для его «аналитической машины». Разработан язык группой под руководством в 1979 г. Жана Ишбиа в рамках конкурса, объявленного Министерством Обороны США. Мода на объектно-ориентированное программирование привела к созданию новой принципиально его версии  ADA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4B2-FCA7-4405-9F85-DAE32565AA7D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11280" y="83664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ля решения любой задачи на ПЭВМ человек должен выполнить ряд работ, обеспечивающих многократное решение этой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задачи с различными исходными данным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 подготовки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2361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дготовка задач для решения на П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843120" y="2424240"/>
            <a:ext cx="653724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изац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841320" y="3792600"/>
            <a:ext cx="6539040" cy="82548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ограммы на одном из алгоритмических яз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57160" y="3144960"/>
            <a:ext cx="652320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алгоритма решен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885960" y="5808960"/>
            <a:ext cx="649440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адка программы на П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870120" y="4800600"/>
            <a:ext cx="6510240" cy="82548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бразование программы с алгоритмического на машинный язык (трансляция програм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DEC-9D05-4B69-8C89-2659B3A119C4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76500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При  написании программ пользуются некоторым     набором     методов,     способов,     принципов,     которые в совокупности  можно  определить термином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технологические средства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920" y="73080"/>
            <a:ext cx="7129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ехнологи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1332000" y="2575440"/>
            <a:ext cx="7200360" cy="3574800"/>
            <a:chOff x="1332000" y="2575440"/>
            <a:chExt cx="7200360" cy="3574800"/>
          </a:xfrm>
        </p:grpSpPr>
        <p:sp>
          <p:nvSpPr>
            <p:cNvPr id="307" name="Rectangle 8"/>
            <p:cNvSpPr/>
            <p:nvPr/>
          </p:nvSpPr>
          <p:spPr>
            <a:xfrm>
              <a:off x="1332000" y="2575440"/>
              <a:ext cx="71067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инцип модульно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332000" y="4056120"/>
              <a:ext cx="72003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тратегии проекти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1332000" y="5629680"/>
              <a:ext cx="72003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Метод структурного программи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94A8-4B3B-4A43-AF30-E69F4C68D45F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68360" y="1197000"/>
            <a:ext cx="842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ульность - это принцип программирования, состоящий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ольшие и сложные программы разрабатываются и отлаживаются по частя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которы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тем объединяются в единый комплекс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рамма считается модульной только в том случае, если каждый входящий в нее модуль не зависит от других, т.е. его можно модифицировать, не вызывая каких либо изменении в других модуля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692360" y="295560"/>
            <a:ext cx="5400720" cy="6426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моду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7D4-D888-4478-B087-FDAEE90784AE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0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382284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468360" y="155736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403280" y="406440"/>
            <a:ext cx="5977080" cy="6426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D02-CEAC-4923-A80E-7CACAB99DFA0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468360" y="1341360"/>
            <a:ext cx="8424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619280" y="563400"/>
            <a:ext cx="540072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1BDA-F557-477A-B486-A3589A8DEE4F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2916360" y="5000760"/>
            <a:ext cx="3800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430200" y="1484280"/>
            <a:ext cx="8713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ходящее проек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 основу проекта берутся какие-то уже готовые программные модули, из которых строятся другие, более сложные или недостающ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сходном наборе, таким образом, чтобы в итоге выполнилась исходная постановка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достатком данной стратегии является то, что логически стройная структура программы получается лишь в результате многочисленных проб и ошибок, что затягивает сроки разработки програм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743120" y="419040"/>
            <a:ext cx="540072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21F2-11CD-4678-9CB9-7D52FC30CF7A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8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9908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68360" y="1268280"/>
            <a:ext cx="842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тода структурного программировани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а разрабатывается в виде определенным образом соединенных структур трех различных типо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ледовательная (линейная)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й команды или программы выполняются последовательно в том порядке, в котором они записа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словная (выбора, или ветвления)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й ход вычислительного процесса зависит от выполнения некоторого услов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иклическая      (повторения),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     которой      определенная последовательность команд или программ повторяется до тех пор, пока не перестанет выполняться некоторое услов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042920" y="334800"/>
            <a:ext cx="734544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структурного программ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3533-5743-4526-A610-D27C8D544581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714240" y="349200"/>
            <a:ext cx="8209080" cy="62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числите этапы подготовки задачи для решения на ПЭВ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скройте назначение этапов подготовки задачи для решения на ПЭВ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чего создавались  языки ассемблер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м образом осуществлялось программирование на начальном этапе развития вычислительной техник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гда появились программ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такое языки высокого уровн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отличает языки высокого уровня от машинных язык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чего компьютеру переводчи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бывают транслятор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айте определение системы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грамма, которая переводит исходный текст с языка высокого  уровня на  машинный  язык, доступный компьютеру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называют кодирование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языки программирования относятся к числу наиболее распространённых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мпоненты Turbo Pascal, как мощной интегрированной систем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числите наиболее известные технологии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модульного принципа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стратегии проектирования вы знает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нисходящего и восходящего проект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структурною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ясните каким образом выполняются команды в линейных и циклических структурах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ик для 9 класса «Информатика и ИКТ»:  Глава 4. Основы алгоритмизации и объектно-ориентированного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ик для 11 класса «Информатика и ИКТ»: Основы алгоритмизации и объектно-ориентированного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Константина Поляко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polyakov.narod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Пресс ежемесячный журнал по компьютерам http://cp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ttp://www.izcity.com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http://www.citforum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Группа 4" descr=""/>
          <p:cNvPicPr/>
          <p:nvPr/>
        </p:nvPicPr>
        <p:blipFill>
          <a:blip r:embed="rId2"/>
          <a:stretch/>
        </p:blipFill>
        <p:spPr>
          <a:xfrm>
            <a:off x="-6480" y="6589800"/>
            <a:ext cx="91504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39640" y="692280"/>
            <a:ext cx="813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ализация задач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бы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троить математическую мод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т. е перей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держательно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новки задачи к ее строгому формальному описанию. В процессе формализации реальным объектам присваиваются математические наименования, а связи межд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ими описываются математическими зависим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1F7-36DD-4741-97C3-4D4B7169B560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968720" cy="296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2" name="Object 30"/>
              <p:cNvSpPr txBox="1"/>
              <p:nvPr/>
            </p:nvSpPr>
            <p:spPr>
              <a:xfrm>
                <a:off x="5651640" y="4149720"/>
                <a:ext cx="3043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11280" y="836640"/>
            <a:ext cx="813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работка алгорит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я задачи предполагает с помощью математическо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 определить и описать совокупность и последовательность действий, ведущих к нахождению требуемог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зуль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F7C-B096-4ABC-91A2-7613D52CE91B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2071800" cy="301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Object 30"/>
              <p:cNvSpPr txBox="1"/>
              <p:nvPr/>
            </p:nvSpPr>
            <p:spPr>
              <a:xfrm>
                <a:off x="3851280" y="3357720"/>
                <a:ext cx="14414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0"/>
              <p:cNvSpPr txBox="1"/>
              <p:nvPr/>
            </p:nvSpPr>
            <p:spPr>
              <a:xfrm>
                <a:off x="3780000" y="4076640"/>
                <a:ext cx="16430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1128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алгоритмическом языке необходимо для ввода алгоритма в память ПЭВ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ансляция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образование программ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алгоритмического языка на язык маш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ладка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лючается в проверке ее работоспособности. В процессе отладки задача с контрольными данными решается на ПЭВ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E748-C07B-4B2E-9F54-B311C768683E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564000" y="1557360"/>
          <a:ext cx="1801800" cy="1728720"/>
        </p:xfrm>
        <a:graphic>
          <a:graphicData uri="http://schemas.openxmlformats.org/drawingml/2006/table">
            <a:tbl>
              <a:tblPr/>
              <a:tblGrid>
                <a:gridCol w="1801800"/>
              </a:tblGrid>
              <a:tr h="172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100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:= 30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a – b * 3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&gt; b th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:= a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e c := b – 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>
                        <a:alpha val="27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5" name="Rectangle 4"/>
          <p:cNvSpPr/>
          <p:nvPr/>
        </p:nvSpPr>
        <p:spPr>
          <a:xfrm>
            <a:off x="1835280" y="4365720"/>
            <a:ext cx="58687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fc2d"/>
                </a:solidFill>
                <a:latin typeface="Times New Roman"/>
              </a:rPr>
              <a:t>8A  16  4A  00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001010  00010110  01001010  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fc2d"/>
                </a:solidFill>
                <a:latin typeface="Times New Roman"/>
              </a:rPr>
              <a:t>FE  CA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1111110  110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66916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 того,  чтобы  компьютер смог получить нужный результат, ему необходимо      указать путь решения,  то  есть задать    программу   и, возможно,     исходные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80880" y="1600200"/>
            <a:ext cx="190512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2438280"/>
            <a:ext cx="24382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505320" y="2438280"/>
            <a:ext cx="259056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124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6248520" y="2971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095880" y="2895480"/>
            <a:ext cx="381240" cy="7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4495680" y="5029200"/>
            <a:ext cx="2971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5562720" y="419112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914400" y="4800600"/>
            <a:ext cx="2666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4191120" y="4267080"/>
            <a:ext cx="304560" cy="106704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581280" y="5181480"/>
            <a:ext cx="83844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3581280" y="5105520"/>
            <a:ext cx="6858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9"/>
          <p:cNvSpPr/>
          <p:nvPr/>
        </p:nvSpPr>
        <p:spPr>
          <a:xfrm>
            <a:off x="2743200" y="1981080"/>
            <a:ext cx="304920" cy="443160"/>
          </a:xfrm>
          <a:prstGeom prst="downArrow">
            <a:avLst>
              <a:gd name="adj1" fmla="val 50000"/>
              <a:gd name="adj2" fmla="val 36334"/>
            </a:avLst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286000" y="1905120"/>
            <a:ext cx="685800" cy="759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962520" y="3276720"/>
            <a:ext cx="259056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574-467C-4960-A769-61CEE6A02588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80800"/>
            <a:ext cx="8640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истема программирования ПЭВ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611280" y="1125360"/>
            <a:ext cx="8136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начальном этап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я вычислительной техник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ирование осуществлялось только в машинных команда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программировании в машинных командах программист находится как бы на одном уровне с ПЭВМ: между его программой и реализующими ее техническими средствами ПЭВМ нет никаких посредников и программа выполняемся практически в том виде, в каком ее записал программис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2193840" y="4869000"/>
            <a:ext cx="4825800" cy="1441080"/>
            <a:chOff x="2193840" y="4869000"/>
            <a:chExt cx="4825800" cy="1441080"/>
          </a:xfrm>
        </p:grpSpPr>
        <p:sp>
          <p:nvSpPr>
            <p:cNvPr id="228" name="Rectangle 18"/>
            <p:cNvSpPr/>
            <p:nvPr/>
          </p:nvSpPr>
          <p:spPr>
            <a:xfrm>
              <a:off x="2193840" y="4968360"/>
              <a:ext cx="1794960" cy="1341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шинные коды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9"/>
            <p:cNvSpPr/>
            <p:nvPr/>
          </p:nvSpPr>
          <p:spPr>
            <a:xfrm>
              <a:off x="5080320" y="4869000"/>
              <a:ext cx="1939320" cy="1341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олне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ПЭВМ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20"/>
            <p:cNvSpPr/>
            <p:nvPr/>
          </p:nvSpPr>
          <p:spPr>
            <a:xfrm rot="16200000">
              <a:off x="4251600" y="5075280"/>
              <a:ext cx="486360" cy="857520"/>
            </a:xfrm>
            <a:prstGeom prst="downArrow">
              <a:avLst>
                <a:gd name="adj1" fmla="val 50000"/>
                <a:gd name="adj2" fmla="val 44078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D4B5-3FC1-47A3-AEEC-6D9DA8A678C4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39640" y="40464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иворечи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жду огромными возможностями ПЭВМ, способных выполнять сотни тысяч команд в секунду, и столь же огромными временными затратами на разработку и отладку пр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348000" y="4292640"/>
            <a:ext cx="165744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Ассембл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3693960" y="2320920"/>
            <a:ext cx="990720" cy="1828800"/>
          </a:xfrm>
          <a:prstGeom prst="downArrow">
            <a:avLst>
              <a:gd name="adj1" fmla="val 50000"/>
              <a:gd name="adj2" fmla="val 46148"/>
            </a:avLst>
          </a:prstGeom>
          <a:solidFill>
            <a:srgbClr val="fb24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826920" y="5157720"/>
            <a:ext cx="813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е отличие языка ассемблера от машинного языка заключается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и вместо двоичных кодов операций и адресов их символических обознач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B34F-3D6B-4D6F-A4A4-077107DDEB0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39640" y="765000"/>
            <a:ext cx="8280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 появилис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и  высо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анды языка высокого уровня - слова естественного язы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что упрощает работу программис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вычислительная машина могла выполнить программу, написанную на каком-либо языке программирования, в её программном обеспече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лжна быть программа - транслятор для этого язы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анслятор превращает программу в исполняемый фай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20"/>
          <p:cNvGrpSpPr/>
          <p:nvPr/>
        </p:nvGrpSpPr>
        <p:grpSpPr>
          <a:xfrm>
            <a:off x="684360" y="4292640"/>
            <a:ext cx="7602480" cy="1123920"/>
            <a:chOff x="684360" y="4292640"/>
            <a:chExt cx="7602480" cy="1123920"/>
          </a:xfrm>
        </p:grpSpPr>
        <p:sp>
          <p:nvSpPr>
            <p:cNvPr id="243" name="Rectangle 12"/>
            <p:cNvSpPr/>
            <p:nvPr/>
          </p:nvSpPr>
          <p:spPr>
            <a:xfrm>
              <a:off x="684360" y="4335480"/>
              <a:ext cx="201600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рамма на языке высокого уров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3492360" y="4335480"/>
              <a:ext cx="201636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анслято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6270480" y="4292640"/>
              <a:ext cx="201636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ши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8"/>
            <p:cNvSpPr/>
            <p:nvPr/>
          </p:nvSpPr>
          <p:spPr>
            <a:xfrm rot="16200000">
              <a:off x="2952720" y="4516560"/>
              <a:ext cx="287280" cy="792000"/>
            </a:xfrm>
            <a:prstGeom prst="downArrow">
              <a:avLst>
                <a:gd name="adj1" fmla="val 50000"/>
                <a:gd name="adj2" fmla="val 68922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9"/>
            <p:cNvSpPr/>
            <p:nvPr/>
          </p:nvSpPr>
          <p:spPr>
            <a:xfrm rot="16200000">
              <a:off x="5832360" y="4514400"/>
              <a:ext cx="287640" cy="792360"/>
            </a:xfrm>
            <a:prstGeom prst="downArrow">
              <a:avLst>
                <a:gd name="adj1" fmla="val 50000"/>
                <a:gd name="adj2" fmla="val 68867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6C4-BB71-45F5-A743-125BBDE25911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1:16:16Z</dcterms:created>
  <dc:creator>Вьюшкин И. М.</dc:creator>
  <dc:description/>
  <dc:language>en-US</dc:language>
  <cp:lastModifiedBy>АОМ</cp:lastModifiedBy>
  <dcterms:modified xsi:type="dcterms:W3CDTF">2012-02-18T16:04:21Z</dcterms:modified>
  <cp:revision>274</cp:revision>
  <dc:subject/>
  <dc:title>Turbo pascal 7.0</dc:title>
</cp:coreProperties>
</file>