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7ED-0814-4C17-94ED-4ED7682B51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DAAD-109C-4E4B-AFD6-D46566CA1E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52B2-11BF-4AC2-A534-893005A866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3D57-C57B-41A9-9D41-7C69D1D71F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6C3-DB83-44D5-B16C-C7DDCB0343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вода текстов в компьютер и их изменения  используется программа,   называемая  редак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едактору в принципе язык программирования незнаком, он воспринимает исходную программу как текст, который можно дополнять или изменять(то есть редактирова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создания  текста программы она еще не может выполняться маши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мпилятор представляет  собой  большую программу, которая переводит исходный текст с языка высокого  уровня на  машинный  язык, доступный компьютеру. Этот процесс  называется компиля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компиляции проверяется правильность написания  программы.  Если   ошибок  нет,  то программа может быть выполнена; в противном случае снова может быть выбран редакто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гут быть   ошибки, выполняемые  исполнительной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32E2-8963-4194-B26A-713594347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для разностной вычислительной машин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ись текста программы на языке программирования называют кодированием, а отладку программы - тестирован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акая терминология более корректна, чем использование одного слова "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, в которое, в зависимости от контекста, включают либо проектирование, кодирование и тестирование вместе, либо кодирование и тестирование, либо просто код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8F9-D559-47D4-AD73-4FF36757F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для разностной вычислительной машин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ись текста программы на языке программирования называют кодированием, а отладку программы - тестирован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акая терминология более корректна, чем использование одного слова "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, в которое, в зависимости от контекста, включают либо проектирование, кодирование и тестирование вместе, либо кодирование и тестирование, либо просто код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CE4-1BE6-41C8-BFEA-DF9C2CEBD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567A-7FA5-4AC5-A323-B75E709C5A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8FBE-99A3-4065-A951-04A4C69807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F7D-9442-41B4-85FC-CDA63879B5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718-13BC-4132-819E-589BAFEA7E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2363-2882-42FF-85C7-9E6E38B66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A96-DC3E-4DB2-AFDA-B1FAB0A255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CC0B-AEFE-4D4B-86E0-3451D704E3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я разбиения исходной задачи на части появилась сразу же, как только сложность эт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и достигла пределов, за которыми один программист не был в состоянии ни разработан, и заданные сроки программ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е решения, ни отладить программу. И хотя в литературе модульность чаще всего трактуется как метод программирования, скорее всего ее нужно рассматривать как принцип, поскольку все остальные методы могут быть применены па уровне моду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ота идеи принципа модульности и очевидные его достоинства не означают простоты  его  реализации.  Основная  трудность  состоит  в четком определении модуля и способа разделения общей программы н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у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нец, тестирование приходится проводить на разных уровнях - на уровне модулей и программы в целом. Поэтому, разрабатывая свою программу, определяйте сами, не велика ли плата за изящную 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1C29-1629-4325-99A1-D7330D8C21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очевидные преимущества, нисходящее проектирование имеет и ряд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ектировании сверху вниз очень трудно свести конкретную задачу к конкретным, уже готовым, программным модулям, написанным ранее для другой зада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еко не вес программы имеют простую древовидную структуру, которая хорошо согласуется со стратегией нисходящего прое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шибки на верхнем уровне, возникшие на этапе проектирования или кодирования, могут иметь катастрофические последствия для программы в цел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ая трудоемкость проект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6077-C9B3-447E-B797-A08E279FD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очевидные преимущества, нисходящее проектирование имеет и ряд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ектировании сверху вниз очень трудно свести конкретную задачу к конкретным, уже готовым, программным модулям, написанным ранее для другой зада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еко не вес программы имеют простую древовидную структуру, которая хорошо согласуется со стратегией нисходящего прое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шибки на верхнем уровне, возникшие на этапе проектирования или кодирования, могут иметь катастрофические последствия для программы в цел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ая трудоемкость проект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CDFC-F94B-4701-9E40-8B92E8DCF4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ходящее проек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 основу проекта берутся какие-то уже готовые программные модули, из которых строятся другие, более сложные или недостающ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исходном наборе, таким образом, чтобы в итоге выполнилась исходная постановка задач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едостатком данной стратегии является то, что логически стройная структура программы получается лишь в результате многочисленных проб и ошибок, что затягивает сроки разработки програм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 многих случаях представляется разумным сочетать восходящую и нисходящую стратег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нисходящем проектировании мы начинаем с управляющего модуля. Чтобы отладить программу этого модуля придется заменять модули нижнего уровня так называемыми "заглушками" - простыми программами, имитирующими работу этих моду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восходящем проектировании сначала надо будет составить и отладить программы модулей нижнего уровня, а затем переходить к управляющему модулю и при его отладке пользоваться полноценными отлаженными программами модулей нижнего уров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3788-15F2-40B6-B76A-33C0A6DB88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носительно перечисленных структур необходимо прежде всего понять, что они определены рекурсивно. Это означает, что в качестве любого компонента в этих структурах может быть использована любая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численных структур, в которую, в свою очередь, могут входить в качестве "строительных блоков" те же структур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лгоритм или программа называются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уктурированными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если в них использованы только указанные типы структур, соединенные по описанным простым правилам (для программы это условие является необходимым, но недостаточным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тод структурного программирования оказал революционизирующее влияние на развитие программирования и формирование технологии программирования. Сообщалось о том, что производительность труда программистов удавалось повысить от 50 до 100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руктурный метод упорядочивай работу программиста, делает ее математически более строгой, а практически более конструктивн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лагодаря строгости стало возможным ввести в программирование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формальные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тоды проектирования, доказательства правильности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втоматического синтеза программ и тестов для них и т. д. Все это, конечно, не означает, что данный метод лишен недостатков. Та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руктурные программы часто оказываются более медленным и требуют больше памяти, чем неструктурированные. Сам метод структурного программирования более подходит для составления программ на языках высокого уровня и его преимущества становятся не такими очевидными при программировании па машинном языке или на ассемблере. И, наконец, структурное программирование, как показал опыт его многолетнего использования, не решило вопросов быстрого создания качественных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рамм коллективами программистов, по это, безусловно, элементарная культура программирова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F35-C19D-4223-BF82-4778FB91E8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344-AF87-44A3-A39E-CF21BCF792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54C-B3E1-43A5-8D28-1FFAF3FDD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486-7BEA-4DE4-943D-F007B8915A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B108-CE7F-4AEF-A185-64307CB842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6E6-7795-46B7-AABB-ADD2D2C1CA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начальном этапе развития вычислительной техники программирование осуществлялось только в машинных командах. При программировании в машинных командах программист находится как бы на одном уровне с ПЭВМ: между его программой и реализующими ее техническими средствами ПЭВМ нет никаких посредников и программа выполняемся практически в том виде, в каком ее записал программист. Недостатки такого уровня программирования очевидны. Во-первых, программист должен не только в совершенстве знать систему команд ПЭВМ, уметь мыслить в " терминах" машинных функции, но и постоянно помнить, какие ячейки памяти и чем заняты. Во-вторых, такое программирование связано с большими трудо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ю в машинных командах присущи и ряд достоинств. Обеспечивая программисту полный контроль и управление последовательностью действий, которые выполняет ПЭВМ, оно позволяет оптимизировать программу с точки зрения времени ее выполнения и требуемого объем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ые недостатки и трудности программирования в машинных командах сдерживали широкое распространение вычислительной техники. Возникало явное противоречие между огромными возможностями ЭВМ. способных выполнять сотни тысяч команд в секунду, и столь же огромными временными затратами на разработку програм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325-699E-44D5-8D59-2C5A7DFA60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ю в машинных командах присущи и ряд достоинств. Обеспечивая программисту полный контроль и управление последовательностью действий, которые выполняет ПЭВМ, оно позволяет оптимизировать программу с точки зрения времени ее выполнения и требуемого объем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ые недостатки и трудности программирования в машинных командах сдерживали широкое распространение вычислительной техники. Возникало явное противоречие между огромными возможностями ЭВМ, способных выполнять сотни тысяч команд в секунду, и столь же огромными временными затратами на разработку програм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C54-A3D1-42AB-9030-A132D18B8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матизируетс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есь процесс разработки программ, а лишь перевод исходного текста, написанного программистом, на язык машинных команд, а также поиск ошибок и исходном тексте, связанных с неправильным использованием средств языка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даже такая автоматизация существенно повысила производительность труда программиста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л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олько и не столько в том , чт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горитмическ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высокого уровня более удобен и близок человеку, чем язык машинных команд. Каждая конструкция такого языка обладает намного больше действий ПЭВМ, чем машинная команда, т. е. представляет собой крупный "блок'', - из которых "строится'' программа. При автоматическом переводе каждый такой "блок" преобразуется в целую последовательность машинных команд. Но за такое повышение производительности приходится "платить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автоматизация перевода требует жесткой формализации алгоритмического языка. Во-вторых, необходима разработка самих трансляторов. И, наконец, программы в машинных командах, получаемые в результате трансляции, как правило, длиннее и используют в несколько раз больше памяти, чем программы решения тех же задач, но написанные программистом сразу на машинн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A21-446A-465F-9419-14339334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EFF-D9E4-43F1-8776-9A0E2ED8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18F-BF7C-4E71-B45E-D7A0D6E2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E20-5A39-4598-BB4D-1BA6B7A6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1C56-CBE4-4F46-AE12-C40C19CA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B05-9024-426D-BA08-92DFD475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BDEE-88F2-4987-ADF0-0CDBC60E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EA76-CBC3-4C3A-B54D-9D3F55A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185-4371-44C5-9A0A-129E048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1876-B007-4353-B2A5-050F418A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0E2-12FD-47C5-873A-2D4124E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37D-E427-42DA-B088-19C246C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D9C-B4B7-4D3C-9BCB-E4172F6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822C-B22E-43E3-9724-07720A2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63B-7C0A-4A34-AD8A-FD020F52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E3B3-7BB3-436A-AB23-A563F2E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268A-1B1E-484B-ADED-644E44A4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402C-322B-4371-A50A-04E3C6A2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3C53-82B3-4E99-A5E2-4D2DEC8E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FDCB-7B67-4714-AA84-786A4C0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C6E8-2FB6-4D44-9155-5658329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2E9D-D26E-47D8-AF66-E535FF99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A8B-FBF9-4D90-99EF-1014E6B0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072B-DB98-48F2-9EAC-728D77EE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DC2C-BAA2-4703-894E-BDEB342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13E3-52FD-4FFE-9331-1F4D85A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9A00-0C96-402A-9F86-C1E74D9B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9EDB-CEF6-4637-A318-4F2CCFC5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44F9-8923-4E98-BF86-B6DBD0F7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8EAE-8AC7-4EC8-A92F-1C2DE937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AEEF-6CD6-4767-AA66-B3924880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894F-F1CD-416D-A6BD-47B8A36F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DC4A-63E0-4D23-8E87-433277D7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B89-CE9B-4864-9A8C-60E3552C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19C8-DDA1-4F22-A4B3-669DCEF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2FB5-B0A6-491D-80CF-34BF5032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A767-7D5B-4B8D-A5D1-3A7A1F36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27E5-CE3E-4F87-B424-201DE451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A814-DB57-4233-B838-86EA6297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13D5-B3DC-41CF-9D36-A63500A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1F14-EE80-42CC-AFCF-7725716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CFEC-9A6F-4778-8E1F-FA925AC0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55E5-B66B-47FC-9F87-7D80E547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EDF-72E9-46BE-9F2E-15C3BA00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63C-68B2-4684-92FC-60E8E723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9D8-A564-467B-95FF-C82E3A89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813-F200-41B7-9E28-E44B124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1AE-10E8-4D4B-B0A7-C55692A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402-1520-4CFD-BEB4-B79B85C1A1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161-99E2-4981-A9FA-8EF9D6339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092-13EB-47A6-BD7B-16FE110E54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4A58-8087-4269-9377-74ADA0854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8">
            <a:hlinkClick r:id="" action="ppaction://hlinkshowjump?jump=nextslide"/>
          </p:cNvPr>
          <p:cNvSpPr/>
          <p:nvPr/>
        </p:nvSpPr>
        <p:spPr>
          <a:xfrm>
            <a:off x="2133720" y="6095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>
            <a:hlinkClick r:id="" action="ppaction://hlinkshowjump?jump=firstslide"/>
          </p:cNvPr>
          <p:cNvSpPr/>
          <p:nvPr/>
        </p:nvSpPr>
        <p:spPr>
          <a:xfrm>
            <a:off x="8610480" y="64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68360" y="549360"/>
            <a:ext cx="8445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полнение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826920" y="1484280"/>
            <a:ext cx="7490160" cy="4176720"/>
          </a:xfrm>
          <a:custGeom>
            <a:avLst/>
            <a:gdLst>
              <a:gd name="textAreaLeft" fmla="*/ 270720 w 7490160"/>
              <a:gd name="textAreaRight" fmla="*/ 7219440 w 7490160"/>
              <a:gd name="textAreaTop" fmla="*/ 270720 h 4176720"/>
              <a:gd name="textAreaBottom" fmla="*/ 3906000 h 417672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>
              <a:alpha val="1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дготовка задач для решения на ПЭВМ</a:t>
            </a:r>
            <a:r>
              <a:rPr b="0" lang="en-B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истема программирования ПЭВ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азначение языков программ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Технологии программ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roup 12" descr=""/>
          <p:cNvPicPr/>
          <p:nvPr/>
        </p:nvPicPr>
        <p:blipFill>
          <a:blip r:embed="rId2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179280" y="5734080"/>
            <a:ext cx="871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mic Sans MS"/>
              </a:rPr>
              <a:t>Агейчев Олег Михайлович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ститель директора по ШИС ГБОУ гимназии № 105 г. Санкт-Петербур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11280" y="620640"/>
            <a:ext cx="8136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нсляторы бывают дву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терпрета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иля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переводит каждую команду программы с одновременным её выполнением и, если обнаруживает ошибку, сообщает о ней и прекращает выполнение програм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переводит всю программу целиком и в конце работы выдаёт список ошибок, если они обнару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BA4-DA4A-4A71-BB51-A9BCD4A26EAE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39640" y="33336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истема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то система автоматизации  программирования,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образуемая языками        программирования, компиляторами и интерпретаторами програм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представленных на этих языках, соответствующей документацией, а также вспомогательными средствами для подготовки программ к выполнен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1FD6-2638-439E-BABF-E40891236BFA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2793960"/>
            <a:ext cx="62643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Группа 19"/>
          <p:cNvGrpSpPr/>
          <p:nvPr/>
        </p:nvGrpSpPr>
        <p:grpSpPr>
          <a:xfrm>
            <a:off x="282240" y="1554120"/>
            <a:ext cx="4474080" cy="3746520"/>
            <a:chOff x="282240" y="1554120"/>
            <a:chExt cx="4474080" cy="3746520"/>
          </a:xfrm>
        </p:grpSpPr>
        <p:sp>
          <p:nvSpPr>
            <p:cNvPr id="260" name="AutoShape 4"/>
            <p:cNvSpPr/>
            <p:nvPr/>
          </p:nvSpPr>
          <p:spPr>
            <a:xfrm rot="15967200">
              <a:off x="-833040" y="3070080"/>
              <a:ext cx="3372840" cy="915840"/>
            </a:xfrm>
            <a:custGeom>
              <a:avLst/>
              <a:gdLst>
                <a:gd name="textAreaLeft" fmla="*/ 493920 w 3372840"/>
                <a:gd name="textAreaRight" fmla="*/ 2878920 w 3372840"/>
                <a:gd name="textAreaTop" fmla="*/ 133920 h 915840"/>
                <a:gd name="textAreaBottom" fmla="*/ 781920 h 9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966960" y="429192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едак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1396080" y="2562840"/>
              <a:ext cx="929160" cy="1729080"/>
            </a:xfrm>
            <a:prstGeom prst="downArrow">
              <a:avLst>
                <a:gd name="adj1" fmla="val 50000"/>
                <a:gd name="adj2" fmla="val 46523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1038600" y="155412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пиля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0917000">
              <a:off x="2901240" y="3935880"/>
              <a:ext cx="1210680" cy="1224720"/>
            </a:xfrm>
            <a:custGeom>
              <a:avLst/>
              <a:gdLst>
                <a:gd name="textAreaLeft" fmla="*/ 696600 w 1210680"/>
                <a:gd name="textAreaRight" fmla="*/ 1021680 w 1210680"/>
                <a:gd name="textAreaTop" fmla="*/ 164880 h 1224720"/>
                <a:gd name="textAreaBottom" fmla="*/ 524160 h 12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2897640" y="292284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полн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5380200">
              <a:off x="2998080" y="1662840"/>
              <a:ext cx="1083600" cy="1288440"/>
            </a:xfrm>
            <a:custGeom>
              <a:avLst/>
              <a:gdLst>
                <a:gd name="textAreaLeft" fmla="*/ 623520 w 1083600"/>
                <a:gd name="textAreaRight" fmla="*/ 914400 w 1083600"/>
                <a:gd name="textAreaTop" fmla="*/ 173520 h 1288440"/>
                <a:gd name="textAreaBottom" fmla="*/ 551520 h 12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11"/>
          <p:cNvSpPr/>
          <p:nvPr/>
        </p:nvSpPr>
        <p:spPr>
          <a:xfrm>
            <a:off x="539640" y="260280"/>
            <a:ext cx="475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мпилят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ереводит исходный текст с языка высокого  уровня на  машинный  язык, доступный компьюте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54F-6A72-4E23-9D4C-CB97B5BC69F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81080" y="5445000"/>
            <a:ext cx="51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ввода текстов в компьютер и их изменения  используется программа,   называемая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дакторо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5003640" y="2276640"/>
            <a:ext cx="38862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ен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граммы могут быть   ошиб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их поиска используются специальные   средства,  помогающие  выявить ошибки - программа, называемая отладчик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11280" y="1125360"/>
            <a:ext cx="813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ля аналитической вычислительной машин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236160"/>
            <a:ext cx="8175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языков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4E4-A80D-48C2-BFF4-537C1A0A3DC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9" descr="038"/>
          <p:cNvPicPr/>
          <p:nvPr/>
        </p:nvPicPr>
        <p:blipFill>
          <a:blip r:embed="rId2"/>
          <a:stretch/>
        </p:blipFill>
        <p:spPr>
          <a:xfrm>
            <a:off x="3348000" y="3645000"/>
            <a:ext cx="25192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11280" y="836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пись текста программы на языке програм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д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лад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граммы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ст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654F-E9F7-4B21-8657-B19F434E09D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>
            <a:lum bright="28000"/>
          </a:blip>
          <a:stretch/>
        </p:blipFill>
        <p:spPr>
          <a:xfrm>
            <a:off x="1908000" y="2781360"/>
            <a:ext cx="6255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964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 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мый распространённый язык програм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а нём написано больше программ, чем на любом другом. Подавляющее большинство профессиональных программистов владеют им. Исторически этот язык неотделим от операционной системы UNIX , которая в наши дни переживает своё второе рождение. 60-е годы были эпохой становления операционных систем и языков программирования высокого уровня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  с самого начала создавался так, чтобы на нём можно было писать систем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Разработчики языка - Кеннет Томсон и Деннис Ри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E2D-BAB8-454F-B5A1-7E625437FEAC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концепции язык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Pasca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были разработаны в 1967 г. профессором Николаусом Виртом, и он быстро превратился из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редства для обучения студент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граммированию в инструмент для создания новых программных проектов. Язык назван в честь французского учёного Блеза Паскаля, внесшего вклад в развитие средств вычислительной тех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36FB-1284-497F-9E89-2D111B1E0C2A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11280" y="47628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это ни что иное, как Visual Pascal. Эт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реда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простая и удобная 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держи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большую библиотек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товых компонент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кнопок, панелей, списков, таймеров, изображений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Basi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- эт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дин из самых старых языков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Его создатели -  Джон Кемени и Том Куртц, работавшие в Дортмундском колледже в 1964 году. Свой язык они назвали по первым буквам слов «Beginner’s All Purpose Symbolic Instructions Code». Интерпретатор Basic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ыл первым программным продуктом фирмы Microso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снованной Полом Аленом и Уильямом Гейтсом в 1975 году. В дальнейшем он не только поставлялся как программа, но и зашивался в ПЗУ компьют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ередине 80 - годов фирма Microsoft разработала QuickBasic. Это был уже компилятор, а не интерпретатор. Вообще Basic’ов  несколько сотен. После появления Windows и визуальных средств разработки программ был создан Visual Bas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48DD-C813-4896-B024-209C4CF2076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68360" y="47628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старейший язык программирования. В начале 50-х годов он был разработан исследовательской группой под руководством Джона Бэкуса. Его название происходи от 2-х слов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FORMULA TRANSLATIO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Первая версия системы  FORTRAN для компьютера IBM была выпущена в начале 195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LGO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также старейший язык программирования,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ниверсальный язык  программирования общего назнач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Его название происходи от 2-х слов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LGORITMIC LANGUAG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н был разработан международной рабочей группой, состоящей из 30 человек в 1969 г.   Язык очень стройный и изящный благодаря тому, что он основан на принципе ортогональности, согласно которому язык должен по возможности состоять из независимых элементов, свободно комбинирующихся друг с другом. Один из активных разработчиков ALGOL-68  - Чарльз Линд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9B33-1B09-40AD-B253-4F2DB1B2B78E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68360" y="40464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AD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язык программирования, который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сложности сравнивают с С++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азван в честь леди Ады Августы Лавлейс, работавшей вместе с Чарльзом Беббиджем и разрабатывавшей программы для его «аналитической машины». Разработан язык группой под руководством в 1979 г. Жана Ишбиа в рамках конкурса, объявленного Министерством Обороны США. Мода на объектно-ориентированное программирование привела к созданию новой принципиально его версии  ADA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242-7C39-4B14-B86B-4419302487A6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11280" y="83664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ля решения любой задачи на ПЭВМ человек должен выполнить ряд работ, обеспечивающих многократное решение этой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задачи с различными исходными данным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подготовки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2361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дготовка задач для решения на П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43120" y="2424240"/>
            <a:ext cx="653724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изац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841320" y="3792600"/>
            <a:ext cx="6539040" cy="82548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ограммы на одном из алгоритмических яз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57160" y="3144960"/>
            <a:ext cx="652320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алгоритма решен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885960" y="5808960"/>
            <a:ext cx="649440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адка программы на П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870120" y="4800600"/>
            <a:ext cx="6510240" cy="82548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разование программы с алгоритмического на машинный язык (трансляция програм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269-7D0C-4C35-B19D-F8DF4D20BFE8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76500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При  написании программ пользуются некоторым     набором     методов,     способов,     принципов,     которые в совокупности  можно  определить термином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технологические средства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73080"/>
            <a:ext cx="7129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ехнолог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1332000" y="2575440"/>
            <a:ext cx="7200360" cy="3574800"/>
            <a:chOff x="1332000" y="2575440"/>
            <a:chExt cx="7200360" cy="3574800"/>
          </a:xfrm>
        </p:grpSpPr>
        <p:sp>
          <p:nvSpPr>
            <p:cNvPr id="307" name="Rectangle 8"/>
            <p:cNvSpPr/>
            <p:nvPr/>
          </p:nvSpPr>
          <p:spPr>
            <a:xfrm>
              <a:off x="1332000" y="2575440"/>
              <a:ext cx="71067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инцип модульн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332000" y="4056120"/>
              <a:ext cx="72003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тратегии проекти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1332000" y="5629680"/>
              <a:ext cx="72003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Метод структурного программи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BF08-A771-4A2F-B95D-6B6498A6EA3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68360" y="119700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ульность - это принцип программирования, состоящий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ольшие и сложные программы разрабатываются и отлаживаются по частя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которы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тем объединяются в единый комплек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рамма считается модульной только в том случае, если каждый входящий в нее модуль не зависит от других, т.е. его можно модифицировать, не вызывая каких либо изменении в других модуля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692360" y="295560"/>
            <a:ext cx="5400720" cy="6426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моду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785E-19B7-4A5C-B5D4-0FF0A3804308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0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382284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468360" y="155736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403280" y="406440"/>
            <a:ext cx="5977080" cy="6426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15D-0190-48B7-BB0D-165C06900377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68360" y="1341360"/>
            <a:ext cx="8424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619280" y="563400"/>
            <a:ext cx="540072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D93-EFCF-4CCE-B9B7-6E6D193181D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916360" y="5000760"/>
            <a:ext cx="3800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430200" y="1484280"/>
            <a:ext cx="8713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ходящее проек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 основу проекта берутся какие-то уже готовые программные модули, из которых строятся другие, более сложные или недостающ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сходном наборе, таким образом, чтобы в итоге выполнилась исходная постановка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достатком данной стратегии является то, что логически стройная структура программы получается лишь в результате многочисленных проб и ошибок, что затягивает сроки разработки програм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743120" y="419040"/>
            <a:ext cx="540072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B354-9580-4B9B-93BB-B42848885DC8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8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9908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68360" y="126828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тода структурного программирован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а разрабатывается в виде определенным образом соединенных структур трех различных типо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ледовательная (линейная)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команды или программы выполняются последовательно в том порядке, в котором они записа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словная (выбора, или ветвления)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ход вычислительного процесса зависит от выполнения некоторого услов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иклическая      (повторения),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     которой      определенная последовательность команд или программ повторяется до тех пор, пока не перестанет выполняться некоторое услов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042920" y="334800"/>
            <a:ext cx="734544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структурного программ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3B39-9118-429F-8DBF-D76BA21D0FA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714240" y="349200"/>
            <a:ext cx="820908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числите этапы подготовки задачи для решения на ПЭВ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скройте назначение этапов подготовки задачи для решения на ПЭВ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чего создавались  языки ассемблер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м образом осуществлялось программирование на начальном этапе развития вычислительной техник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гда появились программ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такое языки высокого уровн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отличает языки высокого уровня от машинных язык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чего компьютеру переводчи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бывают транслято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айте определение системы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грамма, которая переводит исходный текст с языка высокого  уровня на  машинный  язык, доступный компьютер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называют кодирование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языки программирования относятся к числу наиболее распространённых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мпоненты Turbo Pascal, как мощной интегрированной систем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числите наиболее известные технологии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модульного принципа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стратегии проектирования вы знает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нисходящего и восходящего проект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структурною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ясните каким образом выполняются команды в линейных и циклических структурах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ик для 9 класса «Информатика и ИКТ»:  Глава 4. Основы алгоритмизации и объектно-ориентированного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ик для 11 класса «Информатика и ИКТ»: Основы алгоритмизации и объектно-ориентированного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Константина Поляко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polyakov.narod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Пресс ежемесячный журнал по компьютерам http://cp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ttp://www.izcity.com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http://www.citforum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Группа 4" descr=""/>
          <p:cNvPicPr/>
          <p:nvPr/>
        </p:nvPicPr>
        <p:blipFill>
          <a:blip r:embed="rId2"/>
          <a:stretch/>
        </p:blipFill>
        <p:spPr>
          <a:xfrm>
            <a:off x="-6480" y="6589800"/>
            <a:ext cx="91504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39640" y="692280"/>
            <a:ext cx="813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ализация задач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бы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троить математическую мод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 е перей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держательно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и задачи к ее строгому формальному описанию. В процессе формализации реальным объектам присваиваются математические наименования, а связи межд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ми описываются математическими зависим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321D-8275-4206-B918-85D86A64546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968720" cy="296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2" name="Object 30"/>
              <p:cNvSpPr txBox="1"/>
              <p:nvPr/>
            </p:nvSpPr>
            <p:spPr>
              <a:xfrm>
                <a:off x="5651640" y="4149720"/>
                <a:ext cx="3043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11280" y="836640"/>
            <a:ext cx="813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отка алгорит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я задачи предполагает с помощью математическо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 определить и описать совокупность и последовательность действий, ведущих к нахождению требуемог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зуль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37B-9455-411E-BE90-B05DC29C2127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2071800" cy="301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Object 30"/>
              <p:cNvSpPr txBox="1"/>
              <p:nvPr/>
            </p:nvSpPr>
            <p:spPr>
              <a:xfrm>
                <a:off x="3851280" y="3357720"/>
                <a:ext cx="14414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0"/>
              <p:cNvSpPr txBox="1"/>
              <p:nvPr/>
            </p:nvSpPr>
            <p:spPr>
              <a:xfrm>
                <a:off x="3780000" y="4076640"/>
                <a:ext cx="1643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1128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алгоритмическом языке необходимо для ввода алгоритма в память П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ансляция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образование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алгоритмического языка на язык маш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ладка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лючается в проверке ее работоспособности. В процессе отладки задача с контрольными данными решается на П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004-D1D4-4EF3-81B1-16EEA2300FD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64000" y="1557360"/>
          <a:ext cx="1801800" cy="1728720"/>
        </p:xfrm>
        <a:graphic>
          <a:graphicData uri="http://schemas.openxmlformats.org/drawingml/2006/table">
            <a:tbl>
              <a:tblPr/>
              <a:tblGrid>
                <a:gridCol w="1801800"/>
              </a:tblGrid>
              <a:tr h="172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100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:= 30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a – b * 3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&gt; b th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:= a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 c := b – 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>
                        <a:alpha val="27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5" name="Rectangle 4"/>
          <p:cNvSpPr/>
          <p:nvPr/>
        </p:nvSpPr>
        <p:spPr>
          <a:xfrm>
            <a:off x="1835280" y="4365720"/>
            <a:ext cx="58687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fc2d"/>
                </a:solidFill>
                <a:latin typeface="Times New Roman"/>
              </a:rPr>
              <a:t>8A  16  4A  00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001010  00010110  0100101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fc2d"/>
                </a:solidFill>
                <a:latin typeface="Times New Roman"/>
              </a:rPr>
              <a:t>FE  CA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1111110  110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66916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 того,  чтобы  компьютер смог получить нужный результат, ему необходимо      указать путь решения,  то  есть задать    программу   и, возможно,     исходные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80880" y="1600200"/>
            <a:ext cx="19051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2438280"/>
            <a:ext cx="24382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505320" y="2438280"/>
            <a:ext cx="259056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124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6248520" y="2971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095880" y="2895480"/>
            <a:ext cx="381240" cy="7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495680" y="5029200"/>
            <a:ext cx="2971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5562720" y="419112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914400" y="4800600"/>
            <a:ext cx="2666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4191120" y="4267080"/>
            <a:ext cx="304560" cy="106704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581280" y="5181480"/>
            <a:ext cx="83844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581280" y="5105520"/>
            <a:ext cx="6858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9"/>
          <p:cNvSpPr/>
          <p:nvPr/>
        </p:nvSpPr>
        <p:spPr>
          <a:xfrm>
            <a:off x="2743200" y="1981080"/>
            <a:ext cx="304920" cy="443160"/>
          </a:xfrm>
          <a:prstGeom prst="downArrow">
            <a:avLst>
              <a:gd name="adj1" fmla="val 50000"/>
              <a:gd name="adj2" fmla="val 36334"/>
            </a:avLst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286000" y="1905120"/>
            <a:ext cx="685800" cy="759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962520" y="3276720"/>
            <a:ext cx="259056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D062-4EAE-4C05-A594-1B0C3F3C900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80800"/>
            <a:ext cx="8640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истема программирования ПЭ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611280" y="1125360"/>
            <a:ext cx="8136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начальном этап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я вычислительной техник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ирование осуществлялось только в машинных команда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программировании в машинных командах программист находится как бы на одном уровне с ПЭВМ: между его программой и реализующими ее техническими средствами ПЭВМ нет никаких посредников и программа выполняемся практически в том виде, в каком ее записал программис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2193840" y="4869000"/>
            <a:ext cx="4825800" cy="1441080"/>
            <a:chOff x="2193840" y="4869000"/>
            <a:chExt cx="4825800" cy="1441080"/>
          </a:xfrm>
        </p:grpSpPr>
        <p:sp>
          <p:nvSpPr>
            <p:cNvPr id="228" name="Rectangle 18"/>
            <p:cNvSpPr/>
            <p:nvPr/>
          </p:nvSpPr>
          <p:spPr>
            <a:xfrm>
              <a:off x="2193840" y="4968360"/>
              <a:ext cx="1794960" cy="134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ные коды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9"/>
            <p:cNvSpPr/>
            <p:nvPr/>
          </p:nvSpPr>
          <p:spPr>
            <a:xfrm>
              <a:off x="5080320" y="4869000"/>
              <a:ext cx="1939320" cy="134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олн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ЭВМ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20"/>
            <p:cNvSpPr/>
            <p:nvPr/>
          </p:nvSpPr>
          <p:spPr>
            <a:xfrm rot="16200000">
              <a:off x="4251600" y="5075280"/>
              <a:ext cx="486360" cy="857520"/>
            </a:xfrm>
            <a:prstGeom prst="downArrow">
              <a:avLst>
                <a:gd name="adj1" fmla="val 50000"/>
                <a:gd name="adj2" fmla="val 44078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C17-FFDC-4020-841E-E13326EBA948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39640" y="40464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ивореч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жду огромными возможностями ПЭВМ, способных выполнять сотни тысяч команд в секунду, и столь же огромными временными затратами на разработку и отладку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348000" y="4292640"/>
            <a:ext cx="165744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Ассембл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3693960" y="2320920"/>
            <a:ext cx="990720" cy="1828800"/>
          </a:xfrm>
          <a:prstGeom prst="downArrow">
            <a:avLst>
              <a:gd name="adj1" fmla="val 50000"/>
              <a:gd name="adj2" fmla="val 46148"/>
            </a:avLst>
          </a:prstGeom>
          <a:solidFill>
            <a:srgbClr val="fb24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826920" y="5157720"/>
            <a:ext cx="813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е отличие языка ассемблера от машинного языка заключается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и вместо двоичных кодов операций и адресов их символических обознач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3D7-46BA-4309-B229-95D575950F72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39640" y="765000"/>
            <a:ext cx="8280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 появилис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и  высо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ы языка высокого уровня - слова естественного язы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что упрощает работу программи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вычислительная машина могла выполнить программу, написанную на каком-либо языке программирования, в её программном обеспе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лжна быть программа - транслятор для этого язы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анслятор превращает программу в исполняемый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20"/>
          <p:cNvGrpSpPr/>
          <p:nvPr/>
        </p:nvGrpSpPr>
        <p:grpSpPr>
          <a:xfrm>
            <a:off x="684360" y="4292640"/>
            <a:ext cx="7602480" cy="1123920"/>
            <a:chOff x="684360" y="4292640"/>
            <a:chExt cx="7602480" cy="1123920"/>
          </a:xfrm>
        </p:grpSpPr>
        <p:sp>
          <p:nvSpPr>
            <p:cNvPr id="243" name="Rectangle 12"/>
            <p:cNvSpPr/>
            <p:nvPr/>
          </p:nvSpPr>
          <p:spPr>
            <a:xfrm>
              <a:off x="684360" y="4335480"/>
              <a:ext cx="201600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рамма на языке высокого уров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3492360" y="4335480"/>
              <a:ext cx="201636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лят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6270480" y="4292640"/>
              <a:ext cx="201636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8"/>
            <p:cNvSpPr/>
            <p:nvPr/>
          </p:nvSpPr>
          <p:spPr>
            <a:xfrm rot="16200000">
              <a:off x="2952720" y="4516560"/>
              <a:ext cx="287280" cy="792000"/>
            </a:xfrm>
            <a:prstGeom prst="downArrow">
              <a:avLst>
                <a:gd name="adj1" fmla="val 50000"/>
                <a:gd name="adj2" fmla="val 68922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9"/>
            <p:cNvSpPr/>
            <p:nvPr/>
          </p:nvSpPr>
          <p:spPr>
            <a:xfrm rot="16200000">
              <a:off x="5832360" y="4514400"/>
              <a:ext cx="287640" cy="792360"/>
            </a:xfrm>
            <a:prstGeom prst="downArrow">
              <a:avLst>
                <a:gd name="adj1" fmla="val 50000"/>
                <a:gd name="adj2" fmla="val 68867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57B0-34DD-434A-896E-9BFD7FFF229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1:16:16Z</dcterms:created>
  <dc:creator>Вьюшкин И. М.</dc:creator>
  <dc:description/>
  <dc:language>en-US</dc:language>
  <cp:lastModifiedBy>АОМ</cp:lastModifiedBy>
  <dcterms:modified xsi:type="dcterms:W3CDTF">2012-02-18T16:04:21Z</dcterms:modified>
  <cp:revision>274</cp:revision>
  <dc:subject/>
  <dc:title>Turbo pascal 7.0</dc:title>
</cp:coreProperties>
</file>