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5A8-10EA-4772-A9E9-7FC99FBC38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40F-F3F0-404D-AB22-4E293FF71A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8D47-5148-4492-BF26-023EB36BC5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2AF-9736-4940-A7A1-257C2D0509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537-A5EA-4180-A082-E0EFF39D93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редак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едактору в принципе язык программирования незнаком, он воспринимает исходную программу как текст, который можно дополнять или изменять(то есть редактирова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создания  текста программы она еще не может выполняться маши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мпилятор представляет  собой  большую программу, которая переводит исходный текст с языка высокого  уровня на  машинный  язык, доступный компьютеру. Этот процесс  называется компиля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компиляции проверяется правильность написания  программы.  Если   ошибок  нет,  то программа может быть выполнена; в противном случае снова может быть выбран редакто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гут быть   ошибки, выполняемые  исполнительной систем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33D1-F668-4FB9-B92C-0BE9B96A5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479-6B9A-4ED5-9E73-4B35ACE488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для разностной вычислительной машин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ись текста программы на языке программирования называют кодированием, а отладку программы - тестирован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акая терминология более корректна, чем использование одного слова "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", в которое, в зависимости от контекста, включают либо проектирование, кодирование и тестирование вместе, либо кодирование и тестирование, либо просто кодирова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ABAA-9604-4EF1-8D3D-D19F2B7428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DC18-B3D6-4740-B155-EF4B86123A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82A1-1EC5-439F-A0D9-7CFE6B2CAB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82FB-6F67-44BA-83D0-8909A0E780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2F1-D5CE-407D-9D50-79B76B1E1C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A317-89C2-4E0A-B4BE-C896E37858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890-49FD-4F2F-A41E-CEEDD9FC77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языков программирования отчасти объясняется многообразием задач, для решения которых создаются программы на этих язы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4F33-76DB-4B55-BBB8-AD08DE420E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я разбиения исходной задачи на части появилась сразу же, как только сложность эт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 достигла пределов, за которыми один программист не был в состоянии ни разработан, и заданные сроки программ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е решения, ни отладить программу. И хотя в литературе модульность чаще всего трактуется как метод программирования, скорее всего ее нужно рассматривать как принцип, поскольку все остальные методы могут быть применены па уровне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ота идеи принципа модульности и очевидные его достоинства не означают простоты  его  реализации.  Основная  трудность  состоит  в четком определении модуля и способа разделения общей программы н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у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нец, тестирование приходится проводить на разных уровнях - на уровне модулей и программы в целом. Поэтому, разрабатывая свою программу, определяйте сами, не велика ли плата за изящную структу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A14-BC8E-4D37-B1FF-CF51DF7CE1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8B4B-9108-4DD7-89EC-0C6C1EA282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мотря на очевидные преимущества, нисходящее проектирование имеет и ряд недостат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ектировании сверху вниз очень трудно свести конкретную задачу к конкретным, уже готовым, программным модулям, написанным ранее для другой задач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еко не вес программы имеют простую древовидную структуру, которая хорошо согласуется со стратегией нисходящего проектиро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шибки на верхнем уровне, возникшие на этапе проектирования или кодирования, могут иметь катастрофические последствия для программы в цел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ая трудоемкость проект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E300-F9EC-4173-8BC6-47D2F59295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 многих случаях представляется разумным сочетать восходящую и нисходящую стратег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нисходящем проектировании мы начинаем с управляющего модуля. Чтобы отладить программу этого модуля придется заменять модули нижнего уровня так называемыми "заглушками" - простыми программами, имитирующими работу этих моду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 восходящем проектировании сначала надо будет составить и отладить программы модулей нижнего уровня, а затем переходить к управляющему модулю и при его отладке пользоваться полноценными отлаженными программами модулей нижнего уров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6420-6EBA-4F22-82EB-2E70977B1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тносительно перечисленных структур необходимо прежде всего понять, что они определены рекурсивно. Это означает, что в качестве любого компонента в этих структурах может быть использована любая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численных структур, в которую, в свою очередь, могут входить в качестве "строительных блоков" те же структур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лгоритм или программа называются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уктурированными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если в них использованы только указанные типы структур, соединенные по описанным простым правилам (для программы это условие является необходимым, но недостаточным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 оказал революционизирующее влияние на развитие программирования и формирование технологии программирования. Сообщалось о том, что производительность труда программистов удавалось повысить от 50 до 100%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й метод упорядочивай работу программиста, делает ее математически более строгой, а практически более конструктивн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лагодаря строгости стало возможным ввести в программирование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формальные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етоды проектирования, доказательства правильности,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автоматического синтеза программ и тестов для них и т. д. Все это, конечно, не означает, что данный метод лишен недостатков. Так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руктурные программы часто оказываются более медленным и требуют больше памяти, чем неструктурированные. Сам метод структурного программирования более подходит для составления программ на языках высокого уровня и его преимущества становятся не такими очевидными при программировании па машинном языке или на ассемблере. И, наконец, структурное программирование, как показал опыт его многолетнего использования, не решило вопросов быстрого создания качественных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рограмм коллективами программистов, по это, безусловно, элементарная культура программирова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66BD-6001-445E-9401-4D81F5B49B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4CD-B07D-4A5A-BFAD-D15D2E44A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488-97B8-49B3-B7C5-37A033BC1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A31D-3AD3-42C4-BF35-E0892B73A5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трансляции определяются в ПЭВМ ячейки памяти для размещения данных, осуществляется преобразование операторов алгоритмического языка в коды машинных команд. Как правило, трансляция осуществляется по специальным программам, хранящимся в ПЭВ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ограммы решения задачи составляется документация на нее. В документации содержится постановка задачи, перечень входных и выходных данных, пределы их изменений, описание математической модели и алгоритма решения задачи, запись алгоритма на входном языке машины, инструкция оператору ПЭВМ и пользователю как готовить исходные данные и использовать результаты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A2E5-B679-465D-AE04-49BBF1A4C0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628-BA68-4728-83F9-864CAE5FD9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начальном этапе развития вычислительной техники программирование осуществлялось только в машинных командах. 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Недостатки такого уровня программирования очевидны. Во-первых, программист должен не только в совершенстве знать систему команд ПЭВМ, уметь мыслить в " терминах" машинных функции, но и постоянно помнить, какие ячейки памяти и чем заняты. Во-вторых, такое программирование связано с большими трудозатрат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.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3DC-6A5B-4F6E-929C-B15AC7C34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ю в машинных командах присущи и ряд достоинств. Обеспечивая программисту полный контроль и управление последовательностью действий, которые выполняет ПЭВМ, оно позволяет оптимизировать программу с точки зрения времени ее выполнения и требуемого объем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ые недостатки и трудности программирования в машинных командах сдерживали широкое распространение вычислительной техники. Возникало явное противоречие между огромными возможностями ЭВМ, способных выполнять сотни тысяч команд в секунду, и столь же огромными временными затратами на разработку програм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0F7-709C-488E-93CF-CCC860EFA2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матизируетс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есь процесс разработки программ, а лишь перевод исходного текста, написанного программистом, на язык машинных команд, а также поиск ошибок и исходном тексте, связанных с неправильным использованием средств языка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даже такая автоматизация существенно повысила производительность труда программиста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ел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олько и не столько в том , чт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горитмическ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высокого уровня более удобен и близок человеку, чем язык машинных команд. Каждая конструкция такого языка обладает намного больше действий ПЭВМ, чем машинная команда, т. е. представляет собой крупный "блок'', - из которых "строится'' программа. При автоматическом переводе каждый такой "блок" преобразуется в целую последовательность машинных команд. Но за такое повышение производительности приходится "платить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автоматизация перевода требует жесткой формализации алгоритмического языка. Во-вторых, необходима разработка самих трансляторов. И, наконец, программы в машинных командах, получаемые в результате трансляции, как правило, длиннее и используют в несколько раз больше памяти, чем программы решения тех же задач, но написанные программистом сразу на машинном язы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622-CEC1-4F54-88A4-27917360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529-63F3-44B4-AAE8-C16D1A55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FBD-2A21-4336-AB7D-3536BE6E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C7B-6547-4BC6-AA6C-99761942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D31D-986C-4239-B75C-CC847117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B52A-4DED-4990-9961-73FFB04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3830-C4B5-453A-8549-5FA1C885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244-76D0-4E66-B6F5-BAB91F4B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F939-311B-40FB-BB84-C0F3FC48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577-26A1-444C-AF49-BD12FCB6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B5D-3935-4E24-8008-920211E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288-912A-42E9-A451-8D951A6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7EA-8E26-49E7-93AE-57E4DADD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07DF-CDDA-41E3-B821-F484F70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3CD-7B97-4F01-8BF9-480843E1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E369-6165-44E7-8F88-ECC15520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EE47-A287-46FD-821F-A35FC19D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E6FA-43CC-4D54-9BB5-4B9C3B22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BAAA-8443-46A2-8D5D-CE219E8A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0ACE-6842-4C76-9D89-CBC104A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A35F-D2BC-495D-9A3B-55E7280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C8C2-93E6-4014-813F-05B6AC6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D01-1052-4155-80C4-E1BDC85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8D7F-CE06-4085-8C84-A93CC5F2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34D3-0073-4665-8053-4D2B295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77ED-2323-4808-9272-C7CCA034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74762-6A64-4C24-A021-CF2E9B1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CE3D-2D96-4EB0-BB6A-C1436F1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410C-5887-4C79-BC1E-D7EB8595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D1B1-C764-4B76-A00C-7388C882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F58E-AFAE-4509-8EDD-72E4C6EA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42A4-7957-4778-A3E5-03F0837E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6CE6C-0EAB-4140-8D15-D9F1DC1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084-DD9F-4045-ACE0-4DCB611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5CF6-91C1-4A66-B95C-AEFB7255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14B0-D141-4117-889B-1F6885D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7C0E-FE2E-4742-B9C0-0B55283A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550ED-3208-4A9C-82F9-2625B14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599E-1311-4DD0-A3DC-8566A4F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3200-CAA4-40D8-9784-36453F2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9C71-8309-43CD-80E9-A0D68B3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CD4A-6CB1-4765-B8B0-2000C00C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7B56-8E3E-4645-AC7B-D575C0B5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2AA-2DCE-439E-A551-92637683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686-CBE6-478A-92E5-064233E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94E-2F24-4DC9-88CA-8848017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FBA-E5EC-459A-8043-475E7B70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CAD-60EF-4A4A-8CED-61FD661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CAB-E638-4236-A067-1840D7ED55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A206-3845-463A-BE15-528719A483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1EE-1594-4049-80A0-E41FFD4EDB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DAD-E3AE-4995-AD0F-E9094FEBA8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8">
            <a:hlinkClick r:id="" action="ppaction://hlinkshowjump?jump=nextslide"/>
          </p:cNvPr>
          <p:cNvSpPr/>
          <p:nvPr/>
        </p:nvSpPr>
        <p:spPr>
          <a:xfrm>
            <a:off x="2133720" y="6095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>
            <a:hlinkClick r:id="" action="ppaction://hlinkshowjump?jump=firstslide"/>
          </p:cNvPr>
          <p:cNvSpPr/>
          <p:nvPr/>
        </p:nvSpPr>
        <p:spPr>
          <a:xfrm>
            <a:off x="8610480" y="6400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68360" y="549360"/>
            <a:ext cx="8445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ыполнение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826920" y="1484280"/>
            <a:ext cx="7490160" cy="4176720"/>
          </a:xfrm>
          <a:custGeom>
            <a:avLst/>
            <a:gdLst>
              <a:gd name="textAreaLeft" fmla="*/ 270720 w 7490160"/>
              <a:gd name="textAreaRight" fmla="*/ 7219440 w 7490160"/>
              <a:gd name="textAreaTop" fmla="*/ 270720 h 4176720"/>
              <a:gd name="textAreaBottom" fmla="*/ 3906000 h 417672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>
              <a:alpha val="14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дготовка задач для решения на ПЭВМ</a:t>
            </a:r>
            <a:r>
              <a:rPr b="0" lang="en-B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Назначение языков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Технологии программир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Group 12" descr=""/>
          <p:cNvPicPr/>
          <p:nvPr/>
        </p:nvPicPr>
        <p:blipFill>
          <a:blip r:embed="rId2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179280" y="5734080"/>
            <a:ext cx="871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mic Sans MS"/>
              </a:rPr>
              <a:t>Агейчев Олег Михайлович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ститель директора по ШИС ГБОУ гимназии № 105 г. Санкт-Петербур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11280" y="620640"/>
            <a:ext cx="8136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ансляторы бывают дву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терпрета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мпиля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каждую команду программы с одновременным её выполнением и, если обнаруживает ошибку, сообщает о ней и прекращает выполнение програм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переводит всю программу целиком и в конце работы выдаёт список ошибок, если они обнаруж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53C-0375-482A-A31A-58176871D0F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39640" y="33336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истема программирования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то система автоматизации  программирования,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бразуемая языками        программирования, компиляторами и интерпретаторами программ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редставленных на этих языках, соответствующей документацией, а также вспомогательными средствами для подготовки программ к выполнен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8EAC-B7A7-475F-914C-9E83194016AB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2793960"/>
            <a:ext cx="62643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Группа 19"/>
          <p:cNvGrpSpPr/>
          <p:nvPr/>
        </p:nvGrpSpPr>
        <p:grpSpPr>
          <a:xfrm>
            <a:off x="282240" y="1554120"/>
            <a:ext cx="4474080" cy="3746520"/>
            <a:chOff x="282240" y="1554120"/>
            <a:chExt cx="4474080" cy="3746520"/>
          </a:xfrm>
        </p:grpSpPr>
        <p:sp>
          <p:nvSpPr>
            <p:cNvPr id="260" name="AutoShape 4"/>
            <p:cNvSpPr/>
            <p:nvPr/>
          </p:nvSpPr>
          <p:spPr>
            <a:xfrm rot="15967200">
              <a:off x="-833040" y="3070080"/>
              <a:ext cx="3372840" cy="915840"/>
            </a:xfrm>
            <a:custGeom>
              <a:avLst/>
              <a:gdLst>
                <a:gd name="textAreaLeft" fmla="*/ 493920 w 3372840"/>
                <a:gd name="textAreaRight" fmla="*/ 2878920 w 3372840"/>
                <a:gd name="textAreaTop" fmla="*/ 133920 h 915840"/>
                <a:gd name="textAreaBottom" fmla="*/ 781920 h 9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966960" y="42919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едак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>
              <a:off x="1396080" y="2562840"/>
              <a:ext cx="929160" cy="1729080"/>
            </a:xfrm>
            <a:prstGeom prst="downArrow">
              <a:avLst>
                <a:gd name="adj1" fmla="val 50000"/>
                <a:gd name="adj2" fmla="val 46523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1038600" y="155412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пиля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0917000">
              <a:off x="2901240" y="3935880"/>
              <a:ext cx="1210680" cy="1224720"/>
            </a:xfrm>
            <a:custGeom>
              <a:avLst/>
              <a:gdLst>
                <a:gd name="textAreaLeft" fmla="*/ 696600 w 1210680"/>
                <a:gd name="textAreaRight" fmla="*/ 1021680 w 1210680"/>
                <a:gd name="textAreaTop" fmla="*/ 164880 h 1224720"/>
                <a:gd name="textAreaBottom" fmla="*/ 524160 h 12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2897640" y="2922840"/>
              <a:ext cx="185868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полн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5380200">
              <a:off x="2998080" y="1662840"/>
              <a:ext cx="1083600" cy="1288440"/>
            </a:xfrm>
            <a:custGeom>
              <a:avLst/>
              <a:gdLst>
                <a:gd name="textAreaLeft" fmla="*/ 623520 w 1083600"/>
                <a:gd name="textAreaRight" fmla="*/ 914400 w 1083600"/>
                <a:gd name="textAreaTop" fmla="*/ 173520 h 1288440"/>
                <a:gd name="textAreaBottom" fmla="*/ 551520 h 12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b240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11"/>
          <p:cNvSpPr/>
          <p:nvPr/>
        </p:nvSpPr>
        <p:spPr>
          <a:xfrm>
            <a:off x="539640" y="260280"/>
            <a:ext cx="475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мпилят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ереводит исходный текст с языка высокого  уровня на  машинный  язык, доступный компьюте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90D3-4639-4E6A-962B-C1F53E96230B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81080" y="5445000"/>
            <a:ext cx="51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ввода текстов в компьютер и их изменения  используется программа,   называемая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дакторо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5003640" y="2276640"/>
            <a:ext cx="388620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ен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граммы могут быть   ошиб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их поиска используются специальные   средства,  помогающие  выявить ошибки - программа, называемая отладчик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11280" y="1125360"/>
            <a:ext cx="813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 появилось задолго до появления не только первых персональных ЭВМ, но вообще ЭВМ. (Программы лед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ды Августы Лавлей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ля аналитической вычислительной машин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эббидж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ком программирования ЭВМ первого поколения был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 машинных код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язык низкого уровня). Во втором поколении появились языки  высокого уровня. Команды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зыка высокого уровн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слова естественного языка, что упрощает работу программ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236160"/>
            <a:ext cx="8175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языков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FC4-1577-4970-8901-C3355E7EFEF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9" descr="038"/>
          <p:cNvPicPr/>
          <p:nvPr/>
        </p:nvPicPr>
        <p:blipFill>
          <a:blip r:embed="rId2"/>
          <a:stretch/>
        </p:blipFill>
        <p:spPr>
          <a:xfrm>
            <a:off x="3348000" y="3645000"/>
            <a:ext cx="25192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11280" y="836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пись текста программы на языке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д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ы -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ст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1B5-9E0A-4A23-87A8-33E81A6B1424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>
            <a:lum bright="28000"/>
          </a:blip>
          <a:stretch/>
        </p:blipFill>
        <p:spPr>
          <a:xfrm>
            <a:off x="1908000" y="2781360"/>
            <a:ext cx="625500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мый распространённый язык программиров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 нём написано больше программ, чем на любом другом. Подавляющее большинство профессиональных программистов владеют им. Исторически этот язык неотделим от операционной системы UNIX , которая в наши дни переживает своё второе рождение. 60-е годы были эпохой становления операционных систем и языков программирования высокого уровня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  с самого начала создавался так, чтобы на нём можно было писать системные зада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Разработчики языка - Кеннет Томсон и Деннис Ри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626-CF1A-402E-A2A3-E295B5F7379C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овные концепции языка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Pasca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были разработаны в 1967 г. профессором Николаусом Виртом, и он быстро превратился из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редства для обучения студент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ограммированию в инструмент для создания новых программных проектов. Язык назван в честь французского учёного Блеза Паскаля, внесшего вклад в развитие средств вычислительной тех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4F2-9ADA-4DDD-87DA-21D94F38D59E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11280" y="47628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это ни что иное, как Visual Pascal. Эт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реда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простая и удобная и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держи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большую библиотек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отовых компонент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кнопок, панелей, списков, таймеров, изображений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Basi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- эт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дин из самых старых языков 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создатели -  Джон Кемени и Том Куртц, работавшие в Дортмундском колледже в 1964 году. Свой язык они назвали по первым буквам слов «Beginner’s All Purpose Symbolic Instructions Code». Интерпретатор Basic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ыл первым программным продуктом фирмы Microso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снованной Полом Аленом и Уильямом Гейтсом в 1975 году. В дальнейшем он не только поставлялся как программа, но и зашивался в ПЗУ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ередине 80 - годов фирма Microsoft разработала QuickBasic. Это был уже компилятор, а не интерпретатор. Вообще Basic’ов  несколько сотен. После появления Windows и визуальных средств разработки программ был создан Visual Bas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3BDB-988D-40F1-AB3C-6F77CAA66F11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68360" y="47628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TRA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старейший язык программирования. В начале 50-х годов он был разработан исследовательской группой под руководством Джона Бэкуса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FORMULA TRANSLATIO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Первая версия системы  FORTRAN для компьютера IBM была выпущена в начале 195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также старейший язык программирования,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ниверсальный язык  программирования общего назнач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Его название происходи от 2-х слов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LGORITMIC LANGUAG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н был разработан международной рабочей группой, состоящей из 30 человек в 1969 г.   Язык очень стройный и изящный благодаря тому, что он основан на принципе ортогональности, согласно которому язык должен по возможности состоять из независимых элементов, свободно комбинирующихся друг с другом. Один из активных разработчиков ALGOL-68  - Чарльз Линд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2930-6D7C-4F61-92E6-313DBE999C1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68360" y="40464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Языки программирован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AD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язык программирования, который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сложности сравнивают с С++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азван в честь леди Ады Августы Лавлейс, работавшей вместе с Чарльзом Беббиджем и разрабатывавшей программы для его «аналитической машины». Разработан язык группой под руководством в 1979 г. Жана Ишбиа в рамках конкурса, объявленного Министерством Обороны США. Мода на объектно-ориентированное программирование привела к созданию новой принципиально его версии  ADA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2527-E763-494A-92DB-2B7AA9E26E3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280" y="83664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ля решения любой задачи на ПЭВМ человек должен выполнить ряд работ, обеспечивающих многократное решение этой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задачи с различными исходными данным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 подготовки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2361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дготовка задач для решения на П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43120" y="2424240"/>
            <a:ext cx="653724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изац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841320" y="3792600"/>
            <a:ext cx="65390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ограммы на одном из алгоритмических яз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7160" y="3144960"/>
            <a:ext cx="65232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алгоритма решения 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885960" y="5808960"/>
            <a:ext cx="6494400" cy="45972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адка программы на П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870120" y="4800600"/>
            <a:ext cx="6510240" cy="825480"/>
          </a:xfrm>
          <a:prstGeom prst="rect">
            <a:avLst/>
          </a:prstGeom>
          <a:solidFill>
            <a:srgbClr val="99ccff">
              <a:alpha val="28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бразование программы с алгоритмического на машинный язык (трансляция програм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DA9-9B60-4EA7-973A-6FB7AB35270A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При  написании программ пользуются некоторым     набором     методов,     способов,     принципов,     которые в совокупности  можно  определить термином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технологические средства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73080"/>
            <a:ext cx="71294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хнолог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1332000" y="2575440"/>
            <a:ext cx="7200360" cy="3574800"/>
            <a:chOff x="1332000" y="2575440"/>
            <a:chExt cx="7200360" cy="3574800"/>
          </a:xfrm>
        </p:grpSpPr>
        <p:sp>
          <p:nvSpPr>
            <p:cNvPr id="307" name="Rectangle 8"/>
            <p:cNvSpPr/>
            <p:nvPr/>
          </p:nvSpPr>
          <p:spPr>
            <a:xfrm>
              <a:off x="1332000" y="2575440"/>
              <a:ext cx="71067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ринцип модуль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332000" y="405612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Стратегии проект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1332000" y="5629680"/>
              <a:ext cx="7200360" cy="520560"/>
            </a:xfrm>
            <a:prstGeom prst="rect">
              <a:avLst/>
            </a:prstGeom>
            <a:solidFill>
              <a:srgbClr val="99ccff">
                <a:alpha val="28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етод структурного программиров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43D7-AE2E-4610-83DB-9BB0B5A8BF99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68360" y="119700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ульность - это принцип программирования, состоящий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ольшие и сложные программы разрабатываются и отлаживаются по частя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которы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тем объединяются в единый комплек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грамма считается модульной только в том случае, если каждый входящий в нее модуль не зависит от других, т.е. его можно модифицировать, не вызывая каких либо изменении в других модуля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692360" y="295560"/>
            <a:ext cx="540072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нцип моду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9D58-C180-41EC-B2B3-FA4007F71F3B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0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3822840" cy="21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68360" y="155736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тегия проектирования определяет "направление движения" программиста от исходной постановки задачи к конечной цели - программе решения этой задачи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чаю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ве стратегии: нисходящее проектирование (сверху вниз) и восходящее (снизу вверх)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снове обеих стратегий лежит принцип моду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403280" y="406440"/>
            <a:ext cx="5977080" cy="6426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5F2-8A24-4500-8A74-B433A4F8B53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68360" y="1341360"/>
            <a:ext cx="8424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исходящее проектирование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азработка программы начинается сверху, с самых общих сведений о проекте и продолжается по уровням иерархии вниз путем разбиения на каждом уровне задачи предыдущего уровня на ряд более мелки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самостоятельных подзадач до тех пор, пока не окажется возможным записать программы решения задач нижнего уровня на одном из языков программиро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619280" y="56340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5A21-7AB9-4031-86A6-C1D9E49BA00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916360" y="5000760"/>
            <a:ext cx="38005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30200" y="1484280"/>
            <a:ext cx="8713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ходящее проектирован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 основу проекта берутся какие-то уже готовые программные модули, из которых строятся другие, более сложные или недостающ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сходном наборе, таким образом, чтобы в итоге выполнилась исходная постановка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достатком данной стратегии является то, что логически стройная структура программы получается лишь в результате многочисленных проб и ошибок, что затягивает сроки разработки програ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43120" y="419040"/>
            <a:ext cx="540072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тегии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DAA-8795-450B-9ED5-2BE65F09F26D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8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990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68360" y="1268280"/>
            <a:ext cx="8424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тода структурного программировани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а разрабатывается в виде определенным образом соединенных структур трех различных тип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ледовательная (линейна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команды или программы выполняются последовательно в том порядке, в котором они записа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словная (выбора, или ветвления)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ход вычислительного процесса зависит от выполнения некоторого усло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иклическая      (повторения),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     которой      определенная последовательность команд или программ повторяется до тех пор, пока не перестанет выполняться некоторое услов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042920" y="334800"/>
            <a:ext cx="7345440" cy="581400"/>
          </a:xfrm>
          <a:prstGeom prst="rect">
            <a:avLst/>
          </a:prstGeom>
          <a:solidFill>
            <a:srgbClr val="99ccff">
              <a:alpha val="28000"/>
            </a:srgbClr>
          </a:solidFill>
          <a:ln w="0">
            <a:noFill/>
          </a:ln>
          <a:effectLst>
            <a:outerShdw dist="107932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структурного программ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FA4D-9E71-45FE-B869-0D742A1D3B3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714240" y="349200"/>
            <a:ext cx="8209080" cy="62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этапы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скройте назначение этапов подготовки задачи для решения на ПЭВ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создавались  языки ассемблер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м образом осуществлялось программирование на начальном этапе развития вычислительной техник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гда появились програм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такое языки высокого уровн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отличает языки высокого уровня от машинных язык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ля чего компьютеру переводчи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бывают транслятор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айте определение системы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ограмма, которая переводит исходный текст с языка высокого  уровня на  машинный  язык, доступный компьютеру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Что называют кодированием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языки программирования относятся к числу наиболее распространённых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мпоненты Turbo Pascal, как мощной интегрированной систем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еречислите наиболее известные технологии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модульного принципа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акие стратегии проектирования вы знаете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нисходящего и восходящего проект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 чем суть структурною программ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ясните каким образом выполняются команды в линейных и циклических структурах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9 класса «Информатика и ИКТ»:  Глава 4.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ик для 11 класса «Информатика и ИКТ»: Основы алгоритмизации и объектно-ориентированного программ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Константина Поляко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polyakov.narod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Пресс ежемесячный журнал по компьютерам http://cp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http://www.izcity.com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http://www.citforum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Группа 4" descr=""/>
          <p:cNvPicPr/>
          <p:nvPr/>
        </p:nvPicPr>
        <p:blipFill>
          <a:blip r:embed="rId2"/>
          <a:stretch/>
        </p:blipFill>
        <p:spPr>
          <a:xfrm>
            <a:off x="-6480" y="6589800"/>
            <a:ext cx="91504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39640" y="692280"/>
            <a:ext cx="813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ализация задач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ит в том, чтобы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троить математическую модел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 е перей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держательн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ановки задачи к ее строгому формальному описанию. В процессе формализации реальным объектам присваиваются математические наименования, а связи межд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ими описываются математическими зависим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DC3-EAA1-4636-8F84-3EA5F6034561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968720" cy="296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2" name="Object 30"/>
              <p:cNvSpPr txBox="1"/>
              <p:nvPr/>
            </p:nvSpPr>
            <p:spPr>
              <a:xfrm>
                <a:off x="5651640" y="4149720"/>
                <a:ext cx="3043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11280" y="836640"/>
            <a:ext cx="813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работка алгоритма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я задачи предполагает с помощью математическо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 определить и описать совокупность и последовательность действий, ведущих к нахождению требуемог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зуль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3CEF-D1BA-439B-B6C5-63BB374A4BEC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2071800" cy="301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Object 30"/>
              <p:cNvSpPr txBox="1"/>
              <p:nvPr/>
            </p:nvSpPr>
            <p:spPr>
              <a:xfrm>
                <a:off x="3851280" y="3357720"/>
                <a:ext cx="14414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0"/>
              <p:cNvSpPr txBox="1"/>
              <p:nvPr/>
            </p:nvSpPr>
            <p:spPr>
              <a:xfrm>
                <a:off x="3780000" y="4076640"/>
                <a:ext cx="1643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11280" y="620640"/>
            <a:ext cx="8136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алгоритмическом языке необходимо для ввода алгоритма в память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ция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образование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алгоритмического языка на язык маш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ладка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лючается в проверке ее работоспособности. В процессе отладки задача с контрольными данными решается на ПЭВ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101-7AFC-43F4-A79A-7057D18A4EA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64000" y="1557360"/>
          <a:ext cx="1801800" cy="1728720"/>
        </p:xfrm>
        <a:graphic>
          <a:graphicData uri="http://schemas.openxmlformats.org/drawingml/2006/table">
            <a:tbl>
              <a:tblPr/>
              <a:tblGrid>
                <a:gridCol w="1801800"/>
              </a:tblGrid>
              <a:tr h="172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10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:= 30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:= a – b * 3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&gt; b th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:= a – 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 c := b – 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>
                        <a:alpha val="27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5" name="Rectangle 4"/>
          <p:cNvSpPr/>
          <p:nvPr/>
        </p:nvSpPr>
        <p:spPr>
          <a:xfrm>
            <a:off x="1835280" y="4365720"/>
            <a:ext cx="58687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8A  16  4A  0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001010  00010110  01001010  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fc2d"/>
                </a:solidFill>
                <a:latin typeface="Times New Roman"/>
              </a:rPr>
              <a:t>FE  CA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1111110  110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66916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 того,  чтобы  компьютер смог получить нужный результат, ему необходимо      указать путь решения,  то  есть задать    программу   и, возможно,     исходные д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80880" y="1600200"/>
            <a:ext cx="190512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2438280"/>
            <a:ext cx="2438280" cy="160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ж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505320" y="243828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124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6248520" y="2971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6095880" y="2895480"/>
            <a:ext cx="381240" cy="763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495680" y="5029200"/>
            <a:ext cx="2971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2"/>
          <p:cNvSpPr/>
          <p:nvPr/>
        </p:nvSpPr>
        <p:spPr>
          <a:xfrm>
            <a:off x="5562720" y="41911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914400" y="4800600"/>
            <a:ext cx="2666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4191120" y="4267080"/>
            <a:ext cx="304560" cy="106704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581280" y="5181480"/>
            <a:ext cx="83844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581280" y="5105520"/>
            <a:ext cx="68580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9"/>
          <p:cNvSpPr/>
          <p:nvPr/>
        </p:nvSpPr>
        <p:spPr>
          <a:xfrm>
            <a:off x="2743200" y="1981080"/>
            <a:ext cx="304920" cy="443160"/>
          </a:xfrm>
          <a:prstGeom prst="downArrow">
            <a:avLst>
              <a:gd name="adj1" fmla="val 50000"/>
              <a:gd name="adj2" fmla="val 36334"/>
            </a:avLst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286000" y="1905120"/>
            <a:ext cx="685800" cy="759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62520" y="3276720"/>
            <a:ext cx="259056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1AB-314E-4623-96E3-84B29281BC90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80800"/>
            <a:ext cx="8640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истема программирования ПЭВ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611280" y="1125360"/>
            <a:ext cx="8136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начальном этап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я вычислительной техник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раммирование осуществлялось только в машинных команда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программировании в машинных командах программист находится как бы на одном уровне с ПЭВМ: между его программой и реализующими ее техническими средствами ПЭВМ нет никаких посредников и программа выполняемся практически в том виде, в каком ее записал программис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2193840" y="4869000"/>
            <a:ext cx="4825800" cy="1441080"/>
            <a:chOff x="2193840" y="4869000"/>
            <a:chExt cx="4825800" cy="1441080"/>
          </a:xfrm>
        </p:grpSpPr>
        <p:sp>
          <p:nvSpPr>
            <p:cNvPr id="228" name="Rectangle 18"/>
            <p:cNvSpPr/>
            <p:nvPr/>
          </p:nvSpPr>
          <p:spPr>
            <a:xfrm>
              <a:off x="2193840" y="4968360"/>
              <a:ext cx="179496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коды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5080320" y="4869000"/>
              <a:ext cx="1939320" cy="1341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ени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ПЭВМ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20"/>
            <p:cNvSpPr/>
            <p:nvPr/>
          </p:nvSpPr>
          <p:spPr>
            <a:xfrm rot="16200000">
              <a:off x="4251600" y="5075280"/>
              <a:ext cx="486360" cy="857520"/>
            </a:xfrm>
            <a:prstGeom prst="downArrow">
              <a:avLst>
                <a:gd name="adj1" fmla="val 50000"/>
                <a:gd name="adj2" fmla="val 44078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30E-D612-4CC0-A12A-E3B60B10B0E5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39640" y="40464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речи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 огромными возможностями ПЭВМ, способных выполнять сотни тысяч команд в секунду, и столь же огромными временными затратами на разработку и отладку пр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348000" y="4292640"/>
            <a:ext cx="165744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Ассембл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3693960" y="2320920"/>
            <a:ext cx="990720" cy="1828800"/>
          </a:xfrm>
          <a:prstGeom prst="downArrow">
            <a:avLst>
              <a:gd name="adj1" fmla="val 50000"/>
              <a:gd name="adj2" fmla="val 46148"/>
            </a:avLst>
          </a:prstGeom>
          <a:solidFill>
            <a:srgbClr val="fb24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826920" y="5157720"/>
            <a:ext cx="81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е отличие языка ассемблера от машинного языка заключается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и вместо двоичных кодов операций и адресов их символических обознач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F05-43F9-4864-B163-161BABFE8273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-129528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39640" y="765000"/>
            <a:ext cx="8280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лее появилис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зыки  высокого уровн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анды языка высокого уровня - слова естествен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что упрощает работу программи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вычислительная машина могла выполнить программу, написанную на каком-либо языке программирования, в её программном обеспе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лжна быть программа - транслятор для этого язы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анслятор превращает программу в исполняемый фай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20"/>
          <p:cNvGrpSpPr/>
          <p:nvPr/>
        </p:nvGrpSpPr>
        <p:grpSpPr>
          <a:xfrm>
            <a:off x="684360" y="4292640"/>
            <a:ext cx="7602480" cy="1123920"/>
            <a:chOff x="684360" y="4292640"/>
            <a:chExt cx="7602480" cy="1123920"/>
          </a:xfrm>
        </p:grpSpPr>
        <p:sp>
          <p:nvSpPr>
            <p:cNvPr id="243" name="Rectangle 12"/>
            <p:cNvSpPr/>
            <p:nvPr/>
          </p:nvSpPr>
          <p:spPr>
            <a:xfrm>
              <a:off x="684360" y="4335480"/>
              <a:ext cx="201600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рамма на языке высокого уровн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3492360" y="433548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ансля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6270480" y="4292640"/>
              <a:ext cx="2016360" cy="10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ны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д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8"/>
            <p:cNvSpPr/>
            <p:nvPr/>
          </p:nvSpPr>
          <p:spPr>
            <a:xfrm rot="16200000">
              <a:off x="2952720" y="4516560"/>
              <a:ext cx="287280" cy="792000"/>
            </a:xfrm>
            <a:prstGeom prst="downArrow">
              <a:avLst>
                <a:gd name="adj1" fmla="val 50000"/>
                <a:gd name="adj2" fmla="val 68922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9"/>
            <p:cNvSpPr/>
            <p:nvPr/>
          </p:nvSpPr>
          <p:spPr>
            <a:xfrm rot="16200000">
              <a:off x="5832360" y="4514400"/>
              <a:ext cx="287640" cy="792360"/>
            </a:xfrm>
            <a:prstGeom prst="downArrow">
              <a:avLst>
                <a:gd name="adj1" fmla="val 50000"/>
                <a:gd name="adj2" fmla="val 68867"/>
              </a:avLst>
            </a:prstGeom>
            <a:solidFill>
              <a:srgbClr val="fb24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Group 12" descr=""/>
          <p:cNvPicPr/>
          <p:nvPr/>
        </p:nvPicPr>
        <p:blipFill>
          <a:blip r:embed="rId1"/>
          <a:stretch/>
        </p:blipFill>
        <p:spPr>
          <a:xfrm>
            <a:off x="-6480" y="6450120"/>
            <a:ext cx="9156960" cy="414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8820000" y="0"/>
            <a:ext cx="32400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14EA-FDA0-42C3-B18A-F7F5EF564FFF}" type="slidenum"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1:16:16Z</dcterms:created>
  <dc:creator>Вьюшкин И. М.</dc:creator>
  <dc:description/>
  <dc:language>en-US</dc:language>
  <cp:lastModifiedBy>АОМ</cp:lastModifiedBy>
  <dcterms:modified xsi:type="dcterms:W3CDTF">2012-02-18T16:04:21Z</dcterms:modified>
  <cp:revision>274</cp:revision>
  <dc:subject/>
  <dc:title>Turbo pascal 7.0</dc:title>
</cp:coreProperties>
</file>