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B33-5B4B-44A6-82BF-A4CB9915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BCF-6194-475E-AC50-ACD8DC8D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6CA-192A-4CDB-84AF-3F3815ED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20F-81CF-444D-9BCF-2F05E3FE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40C-1018-422F-956B-AB8A69E3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62C-C21B-470F-9F0F-682D58C5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A8C-6DA3-4246-88D9-1E8A65E3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63E-45A9-4139-B5DF-EA2929B4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06B-B033-424F-BED6-52A68F32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383-9169-468B-8F6A-70256A83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9F9-0D10-4878-B860-D7AF4B3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B50-C863-4F9E-A126-0CA6614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66A5-DC27-4D4F-A24B-9FBD3CD57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685800"/>
            <a:ext cx="83534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имфоническое творче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5" descr="tchaikovski"/>
          <p:cNvPicPr/>
          <p:nvPr/>
        </p:nvPicPr>
        <p:blipFill>
          <a:blip r:embed="rId1"/>
          <a:stretch/>
        </p:blipFill>
        <p:spPr>
          <a:xfrm>
            <a:off x="609480" y="2286000"/>
            <a:ext cx="28544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5"/>
          <p:cNvSpPr txBox="1"/>
          <p:nvPr/>
        </p:nvSpPr>
        <p:spPr>
          <a:xfrm>
            <a:off x="457200" y="457200"/>
            <a:ext cx="46483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нструменталь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 вокальные произ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04920" y="17524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бласти камерно-инструментального творчества Чайковским написано 3 квартета. Выдающимся камерным произведением является трио, написанное на смерть Н.Г.Рубинштейна. Чайковским было написано множество фортепианных произведений. Это три концерта, фантазия, соната, свыше 100 фортепианных сочи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457200" y="4038480"/>
            <a:ext cx="1714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оман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0880" y="456876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е ста романсов написано Чайковским. Они различны по настроению: радостны и светлы такие романсы как «То были раннею весной», «День ли царит», драматичны романсы «Ночь», «Снова, как прежде, оди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1242213688_12"/>
          <p:cNvPicPr/>
          <p:nvPr/>
        </p:nvPicPr>
        <p:blipFill>
          <a:blip r:embed="rId1"/>
          <a:stretch/>
        </p:blipFill>
        <p:spPr>
          <a:xfrm>
            <a:off x="5943600" y="152280"/>
            <a:ext cx="30290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04920" y="266688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йковский внес новое почти в каждую область музыкального искусства. Принципы симфонизма Чайковского развивались в творчестве многих последующих композиторов. Это воздействие проявилось: в идейно-образном содержании музыкальных произведений, в творческом методе композиторов, в особенностях музыкальной драматургии и средств выраз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3152"/>
          <p:cNvPicPr/>
          <p:nvPr/>
        </p:nvPicPr>
        <p:blipFill>
          <a:blip r:embed="rId1"/>
          <a:stretch/>
        </p:blipFill>
        <p:spPr>
          <a:xfrm>
            <a:off x="304920" y="1522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noty-1"/>
          <p:cNvPicPr/>
          <p:nvPr/>
        </p:nvPicPr>
        <p:blipFill>
          <a:blip r:embed="rId2"/>
          <a:stretch/>
        </p:blipFill>
        <p:spPr>
          <a:xfrm>
            <a:off x="4191120" y="0"/>
            <a:ext cx="3733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piano1"/>
          <p:cNvPicPr/>
          <p:nvPr/>
        </p:nvPicPr>
        <p:blipFill>
          <a:blip r:embed="rId1"/>
          <a:stretch/>
        </p:blipFill>
        <p:spPr>
          <a:xfrm>
            <a:off x="609480" y="3657600"/>
            <a:ext cx="378000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noty-1"/>
          <p:cNvPicPr/>
          <p:nvPr/>
        </p:nvPicPr>
        <p:blipFill>
          <a:blip r:embed="rId2"/>
          <a:stretch/>
        </p:blipFill>
        <p:spPr>
          <a:xfrm>
            <a:off x="3809880" y="685800"/>
            <a:ext cx="37339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данн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ть детей с твор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.И.Чайковского и выяснить как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его творчестве занимала сим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noty-1"/>
          <p:cNvPicPr/>
          <p:nvPr/>
        </p:nvPicPr>
        <p:blipFill>
          <a:blip r:embed="rId1"/>
          <a:stretch/>
        </p:blipFill>
        <p:spPr>
          <a:xfrm>
            <a:off x="533520" y="3505320"/>
            <a:ext cx="3733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533520" y="457200"/>
            <a:ext cx="54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сновополагающий вопрос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80880" y="1066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ую роль играет симфония в творчестве П.И.Чайковск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533520" y="1981080"/>
            <a:ext cx="43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облемные вопро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7200" y="2666880"/>
            <a:ext cx="38862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такое симфо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то такой П.И.Чайков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й вклад внес П.И.Чайковский в музыкальное творчест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мфония и ее роль в творчестве П.И.Чайк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гие жанры, имеющие место в творчестве П.И.Чайк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noty-1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286000" y="228600"/>
            <a:ext cx="43434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Что такое симфо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" y="1219320"/>
            <a:ext cx="396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фония – это музыкальное произведение в сонатной циклической форме, предназначенное для исполнения симфоническим оркестром; один из важнейших жанров симфонической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noty-1"/>
          <p:cNvPicPr/>
          <p:nvPr/>
        </p:nvPicPr>
        <p:blipFill>
          <a:blip r:embed="rId1"/>
          <a:stretch/>
        </p:blipFill>
        <p:spPr>
          <a:xfrm>
            <a:off x="4343400" y="762120"/>
            <a:ext cx="37339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457200" y="457200"/>
            <a:ext cx="47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ётр Ильич Чай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5780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1840-1893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4920" y="1066680"/>
            <a:ext cx="861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мя Петра Ильича Чайковского, продолжателя традиций Глинки и Даргомыжского, выделяется среди композиторов - классиков. Его бессмертные произведения стоят в одном ряду с произведениями А.С.Пушкина, Л.Толстого. Чайковский глубоко национальный композитор. В произведениях он показывает жизнь русского общества, его быт; дает картины русской прир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0880" y="2438280"/>
            <a:ext cx="4343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узыка интонационно близка русской народной песне. Сам композитор писал: «Что касается вообще русского элемента в моей музыке, то есть родственных с народной песнью приемов в мелодии и гармонии, то это происходит вследствие того, что я вырос в глуши, с детства, с самого раннего, проникся неизъяснимой красотой характеристических черт русской народной музыки, что я до страсти люблю русский элемент во всех его проявлениях, что, одним словом, я русский в полнейшем смысле этого слова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523880" y="304920"/>
            <a:ext cx="5086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клад 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 музыкальное творч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880" y="1371600"/>
            <a:ext cx="853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.И.Чайковский, вобрав в себя лучшие достижения европейской и русской музыкальной культуры, опираясь на русское народное творчество и городской романс XIX века, создал классические образцы русского национального музыкального искус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04920" y="2438280"/>
            <a:ext cx="426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 создал лирическую оперу, русский классический балет; его фортепианные и скрипичные концерты являются большим вкладом в мировую камерно-инструментальную музыку. По-новому зазвучали его фортепианные миниатюры и лирические романсы. Музыка Чайковского лирична. Основным средством выразительности является развернутая мелодия. Мелодия включает в себя и широкий напев русской народной песни и напевно-декламационную выразительность человеческой речи. Музыку Чайковского отличают простота и доступность при высоком профессионально-художественном мастер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371600" y="22860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имфония и ее ро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 творчестве 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1523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мфоническая музыка занимала большое место в творчестве Чайковского на протяжении всей его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04920" y="2286000"/>
            <a:ext cx="258588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вертюра "Гроз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48120" y="22860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Его значительное 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380880" y="2743200"/>
            <a:ext cx="22719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симфони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228600" y="327672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мфония "Манфред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е увертюры и поэмы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28600" y="38098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Фатум», «Ромео и Джульетта», «Буря», «Франческа да Римини», «Гамлет», «Воевод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228600" y="4724280"/>
            <a:ext cx="30099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дающиеся произвед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280" y="5181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ая и 5-ая симф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4495680" y="380880"/>
            <a:ext cx="4038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перное творче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80880" y="243828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пера в его творчестве занимает большое место. Композитором написано 10 опер: «Воевода». «Ундина»,«Кузнец-Вакула», опера в последующем изменении получившая название «Черевички»; 3 оперы на исторический сюжет - «Опричник», «Мазепа». «Орлеанская Дева»; опера «Чародейка»; «Иоланта». Вершиной оперного творчества Чайковского являются оперы «Евгений Онегин» и «Пиковая дам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4207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990720" y="380880"/>
            <a:ext cx="1095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а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28600" y="11430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щение П.И.Чайковского к жанру балета не случайно. Его дарованию свойственно ощущение пластичности музы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28600" y="2286000"/>
            <a:ext cx="52578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позитор подходит к балету как к симфоническому программному произведению. Принципы симфонизации балета - в этом заключается реформа Чайковского. «Ведь балет - та же симфония» - писал компози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йковским написаны три бале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Лебединое озеро», «Спящая красавица»,«Щелкунчи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южеты всех балетов сказоч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MG_3698"/>
          <p:cNvPicPr/>
          <p:nvPr/>
        </p:nvPicPr>
        <p:blipFill>
          <a:blip r:embed="rId1"/>
          <a:stretch/>
        </p:blipFill>
        <p:spPr>
          <a:xfrm>
            <a:off x="5715000" y="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</cp:lastModifiedBy>
  <dcterms:modified xsi:type="dcterms:W3CDTF">2012-01-12T15:07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