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DB3-D38B-4A06-834A-9C209CBE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4319-CDAA-4C27-B76B-46EBB22A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221B-7BD0-4338-97BC-33E1B8EE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7EE8-9ACA-4871-AAA2-ACD8E910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D82-E702-46D1-A7C5-B6C82416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FC7-C403-409F-BE65-A19979F5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5CA7-20E3-4296-B09C-F93EDFDC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1E48-3A3F-41BE-AB6D-EA250BBB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4A2-F370-4526-8F23-D50B38BF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0953-C94A-4116-AC17-93529414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102-0C15-4BCE-BAD1-0AB1D642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65C-470D-4A9C-9DB0-236D6277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CA96-32E6-42DD-AFEC-EED9CF1AF4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57200" y="685800"/>
            <a:ext cx="83534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Симфоническое творчеств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.И.Чайковск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Picture 5" descr="tchaikovski"/>
          <p:cNvPicPr/>
          <p:nvPr/>
        </p:nvPicPr>
        <p:blipFill>
          <a:blip r:embed="rId1"/>
          <a:stretch/>
        </p:blipFill>
        <p:spPr>
          <a:xfrm>
            <a:off x="609480" y="2286000"/>
            <a:ext cx="28544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5"/>
          <p:cNvSpPr txBox="1"/>
          <p:nvPr/>
        </p:nvSpPr>
        <p:spPr>
          <a:xfrm>
            <a:off x="457200" y="457200"/>
            <a:ext cx="464832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Инструменталь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и вокальные произвед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04920" y="175248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области камерно-инструментального творчества Чайковским написано 3 квартета. Выдающимся камерным произведением является трио, написанное на смерть Н.Г.Рубинштейна. Чайковским было написано множество фортепианных произведений. Это три концерта, фантазия, соната, свыше 100 фортепианных сочин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7"/>
          <p:cNvSpPr txBox="1"/>
          <p:nvPr/>
        </p:nvSpPr>
        <p:spPr>
          <a:xfrm>
            <a:off x="457200" y="4038480"/>
            <a:ext cx="1714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Романс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80880" y="456876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олее ста романсов написано Чайковским. Они различны по настроению: радостны и светлы такие романсы как «То были раннею весной», «День ли царит», драматичны романсы «Ночь», «Снова, как прежде, один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1242213688_12"/>
          <p:cNvPicPr/>
          <p:nvPr/>
        </p:nvPicPr>
        <p:blipFill>
          <a:blip r:embed="rId1"/>
          <a:stretch/>
        </p:blipFill>
        <p:spPr>
          <a:xfrm>
            <a:off x="5943600" y="152280"/>
            <a:ext cx="30290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04920" y="2666880"/>
            <a:ext cx="396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айковский внес новое почти в каждую область музыкального искусства. Принципы симфонизма Чайковского развивались в творчестве многих последующих композиторов. Это воздействие проявилось: в идейно-образном содержании музыкальных произведений, в творческом методе композиторов, в особенностях музыкальной драматургии и средств вырази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3152"/>
          <p:cNvPicPr/>
          <p:nvPr/>
        </p:nvPicPr>
        <p:blipFill>
          <a:blip r:embed="rId1"/>
          <a:stretch/>
        </p:blipFill>
        <p:spPr>
          <a:xfrm>
            <a:off x="304920" y="152280"/>
            <a:ext cx="3276360" cy="2457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noty-1"/>
          <p:cNvPicPr/>
          <p:nvPr/>
        </p:nvPicPr>
        <p:blipFill>
          <a:blip r:embed="rId2"/>
          <a:stretch/>
        </p:blipFill>
        <p:spPr>
          <a:xfrm>
            <a:off x="4191120" y="0"/>
            <a:ext cx="37335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piano1"/>
          <p:cNvPicPr/>
          <p:nvPr/>
        </p:nvPicPr>
        <p:blipFill>
          <a:blip r:embed="rId1"/>
          <a:stretch/>
        </p:blipFill>
        <p:spPr>
          <a:xfrm>
            <a:off x="609480" y="3657600"/>
            <a:ext cx="3780000" cy="2514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noty-1"/>
          <p:cNvPicPr/>
          <p:nvPr/>
        </p:nvPicPr>
        <p:blipFill>
          <a:blip r:embed="rId2"/>
          <a:stretch/>
        </p:blipFill>
        <p:spPr>
          <a:xfrm>
            <a:off x="3809880" y="685800"/>
            <a:ext cx="373392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данной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знакомить детей с твор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.И.Чайковского и выяснить како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его творчестве занимала симф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noty-1"/>
          <p:cNvPicPr/>
          <p:nvPr/>
        </p:nvPicPr>
        <p:blipFill>
          <a:blip r:embed="rId1"/>
          <a:stretch/>
        </p:blipFill>
        <p:spPr>
          <a:xfrm>
            <a:off x="533520" y="3505320"/>
            <a:ext cx="37335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533520" y="457200"/>
            <a:ext cx="5476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Основополагающий вопрос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80880" y="10666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ую роль играет симфония в творчестве П.И.Чайковск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533520" y="1981080"/>
            <a:ext cx="4343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облемные вопрос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57200" y="2666880"/>
            <a:ext cx="38862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о такое симфо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то такой П.И.Чайковск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ой вклад внес П.И.Чайковский в музыкальное творчеств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имфония и ее роль в творчестве П.И.Чайк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ругие жанры, имеющие место в творчестве П.И.Чайк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noty-1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2286000" y="228600"/>
            <a:ext cx="43434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Что такое симфония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57200" y="1219320"/>
            <a:ext cx="3962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фония – это музыкальное произведение в сонатной циклической форме, предназначенное для исполнения симфоническим оркестром; один из важнейших жанров симфонической музы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noty-1"/>
          <p:cNvPicPr/>
          <p:nvPr/>
        </p:nvPicPr>
        <p:blipFill>
          <a:blip r:embed="rId1"/>
          <a:stretch/>
        </p:blipFill>
        <p:spPr>
          <a:xfrm>
            <a:off x="4343400" y="762120"/>
            <a:ext cx="373392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457200" y="457200"/>
            <a:ext cx="475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ётр Ильич Чайков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257800" y="457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1840-1893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04920" y="1066680"/>
            <a:ext cx="8610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мя Петра Ильича Чайковского, продолжателя традиций Глинки и Даргомыжского, выделяется среди композиторов - классиков. Его бессмертные произведения стоят в одном ряду с произведениями А.С.Пушкина, Л.Толстого. Чайковский глубоко национальный композитор. В произведениях он показывает жизнь русского общества, его быт; дает картины русской прир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80880" y="2438280"/>
            <a:ext cx="4343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узыка интонационно близка русской народной песне. Сам композитор писал: «Что касается вообще русского элемента в моей музыке, то есть родственных с народной песнью приемов в мелодии и гармонии, то это происходит вследствие того, что я вырос в глуши, с детства, с самого раннего, проникся неизъяснимой красотой характеристических черт русской народной музыки, что я до страсти люблю русский элемент во всех его проявлениях, что, одним словом, я русский в полнейшем смысле этого слова.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1523880" y="304920"/>
            <a:ext cx="5086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Вклад П.И.Чайковск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в музыкальное творче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80880" y="1371600"/>
            <a:ext cx="8534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.И.Чайковский, вобрав в себя лучшие достижения европейской и русской музыкальной культуры, опираясь на русское народное творчество и городской романс XIX века, создал классические образцы русского национального музыкального искус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04920" y="2438280"/>
            <a:ext cx="4267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н создал лирическую оперу, русский классический балет; его фортепианные и скрипичные концерты являются большим вкладом в мировую камерно-инструментальную музыку. По-новому зазвучали его фортепианные миниатюры и лирические романсы. Музыка Чайковского лирична. Основным средством выразительности является развернутая мелодия. Мелодия включает в себя и широкий напев русской народной песни и напевно-декламационную выразительность человеческой речи. Музыку Чайковского отличают простота и доступность при высоком профессионально-художественном мастер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1371600" y="228600"/>
            <a:ext cx="6076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Симфония и ее рол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в творчестве П.И.Чайковск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57200" y="1523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имфоническая музыка занимала большое место в творчестве Чайковского на протяжении всей его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6"/>
          <p:cNvSpPr txBox="1"/>
          <p:nvPr/>
        </p:nvSpPr>
        <p:spPr>
          <a:xfrm>
            <a:off x="304920" y="2286000"/>
            <a:ext cx="258588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вертюра "Гроз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048120" y="22860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Его значительное произ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8"/>
          <p:cNvSpPr txBox="1"/>
          <p:nvPr/>
        </p:nvSpPr>
        <p:spPr>
          <a:xfrm>
            <a:off x="380880" y="2743200"/>
            <a:ext cx="22719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 симфоний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228600" y="327672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мфония "Манфред"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ее увертюры и поэмы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28600" y="380988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Фатум», «Ромео и Джульетта», «Буря», «Франческа да Римини», «Гамлет», «Воевод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11"/>
          <p:cNvSpPr txBox="1"/>
          <p:nvPr/>
        </p:nvSpPr>
        <p:spPr>
          <a:xfrm>
            <a:off x="228600" y="4724280"/>
            <a:ext cx="30099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дающиеся произведе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152280" y="51814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-ая и 5-ая симф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4495680" y="380880"/>
            <a:ext cx="40388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Оперное творчеств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.И.Чайковск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80880" y="243828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пера в его творчестве занимает большое место. Композитором написано 10 опер: «Воевода». «Ундина»,«Кузнец-Вакула», опера в последующем изменении получившая название «Черевички»; 3 оперы на исторический сюжет - «Опричник», «Мазепа». «Орлеанская Дева»; опера «Чародейка»; «Иоланта». Вершиной оперного творчества Чайковского являются оперы «Евгений Онегин» и «Пиковая дам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4207"/>
          <p:cNvPicPr/>
          <p:nvPr/>
        </p:nvPicPr>
        <p:blipFill>
          <a:blip r:embed="rId1"/>
          <a:stretch/>
        </p:blipFill>
        <p:spPr>
          <a:xfrm>
            <a:off x="380880" y="228600"/>
            <a:ext cx="2838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990720" y="380880"/>
            <a:ext cx="1095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Бал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28600" y="114300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ращение П.И.Чайковского к жанру балета не случайно. Его дарованию свойственно ощущение пластичности музы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28600" y="2286000"/>
            <a:ext cx="525780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мпозитор подходит к балету как к симфоническому программному произведению. Принципы симфонизации балета - в этом заключается реформа Чайковского. «Ведь балет - та же симфония» - писал композит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айковским написаны три бале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Лебединое озеро», «Спящая красавица»,«Щелкунчи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южеты всех балетов сказоч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IMG_3698"/>
          <p:cNvPicPr/>
          <p:nvPr/>
        </p:nvPicPr>
        <p:blipFill>
          <a:blip r:embed="rId1"/>
          <a:stretch/>
        </p:blipFill>
        <p:spPr>
          <a:xfrm>
            <a:off x="5715000" y="0"/>
            <a:ext cx="289548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ктория</cp:lastModifiedBy>
  <dcterms:modified xsi:type="dcterms:W3CDTF">2012-01-12T15:07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