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4C6-2261-42C4-AA74-1D96F8A6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D9-4C59-4749-ABD4-C3A9521F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CFF-795F-4A13-8BAD-E6C9E3AA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3A8-FDAE-4D08-A68B-AE5344AA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736-46D9-4247-AD80-63A3D7FA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38C-9E10-436A-8BBA-E494E08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D8F-C755-4DDD-801B-DC19844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506-1DC2-4001-9805-5DEE6DF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08B-5908-43FE-A5A2-6F170986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125-75FB-4FCA-8622-82D729F8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799-9F4A-433D-B6A7-545535B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780-0983-4DDF-9F85-EAC658F2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6DE-BB81-4845-8CAF-B85930833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68580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ческ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tchaikovski"/>
          <p:cNvPicPr/>
          <p:nvPr/>
        </p:nvPicPr>
        <p:blipFill>
          <a:blip r:embed="rId1"/>
          <a:stretch/>
        </p:blipFill>
        <p:spPr>
          <a:xfrm>
            <a:off x="609480" y="2286000"/>
            <a:ext cx="2854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457200" y="457200"/>
            <a:ext cx="46483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нструменталь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 вокальные произ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04920" y="17524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бласти камерно-инструментального творчества Чайковским написано 3 квартета. Выдающимся камерным произведением является трио, написанное на смерть Н.Г.Рубинштейна. Чайковским было написано множество фортепианных произведений. Это три концерта, фантазия, соната, свыше 100 фортепианных сочи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457200" y="4038480"/>
            <a:ext cx="17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оман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0880" y="456876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ста романсов написано Чайковским. Они различны по настроению: радостны и светлы такие романсы как «То были раннею весной», «День ли царит», драматичны романсы «Ночь», «Снова, как прежде, од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242213688_12"/>
          <p:cNvPicPr/>
          <p:nvPr/>
        </p:nvPicPr>
        <p:blipFill>
          <a:blip r:embed="rId1"/>
          <a:stretch/>
        </p:blipFill>
        <p:spPr>
          <a:xfrm>
            <a:off x="5943600" y="152280"/>
            <a:ext cx="30290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4920" y="266688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й внес новое почти в каждую область музыкального искусства. Принципы симфонизма Чайковского развивались в творчестве многих последующих композиторов. Это воздействие проявилось: в идейно-образном содержании музыкальных произведений, в творческом методе композиторов, в особенностях музыкальной драматургии и средств выраз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3152"/>
          <p:cNvPicPr/>
          <p:nvPr/>
        </p:nvPicPr>
        <p:blipFill>
          <a:blip r:embed="rId1"/>
          <a:stretch/>
        </p:blipFill>
        <p:spPr>
          <a:xfrm>
            <a:off x="304920" y="1522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noty-1"/>
          <p:cNvPicPr/>
          <p:nvPr/>
        </p:nvPicPr>
        <p:blipFill>
          <a:blip r:embed="rId2"/>
          <a:stretch/>
        </p:blipFill>
        <p:spPr>
          <a:xfrm>
            <a:off x="4191120" y="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piano1"/>
          <p:cNvPicPr/>
          <p:nvPr/>
        </p:nvPicPr>
        <p:blipFill>
          <a:blip r:embed="rId1"/>
          <a:stretch/>
        </p:blipFill>
        <p:spPr>
          <a:xfrm>
            <a:off x="609480" y="3657600"/>
            <a:ext cx="378000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noty-1"/>
          <p:cNvPicPr/>
          <p:nvPr/>
        </p:nvPicPr>
        <p:blipFill>
          <a:blip r:embed="rId2"/>
          <a:stretch/>
        </p:blipFill>
        <p:spPr>
          <a:xfrm>
            <a:off x="3809880" y="68580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данн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ть детей с твор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И.Чайковского и выяснить ка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его творчестве занимала сим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noty-1"/>
          <p:cNvPicPr/>
          <p:nvPr/>
        </p:nvPicPr>
        <p:blipFill>
          <a:blip r:embed="rId1"/>
          <a:stretch/>
        </p:blipFill>
        <p:spPr>
          <a:xfrm>
            <a:off x="533520" y="350532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457200"/>
            <a:ext cx="54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сновополагающи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0880" y="1066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ую роль играет симфония в творчестве П.И.Чайковс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33520" y="198108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облемные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200" y="2666880"/>
            <a:ext cx="38862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то такой П.И.Чайков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й вклад внес П.И.Чайковский в музыкальное творч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я и ее роль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гие жанры, имеющие место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noty-1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286000" y="228600"/>
            <a:ext cx="43434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то такое симфо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219320"/>
            <a:ext cx="396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фония – это музыкальное произведение в сонатной циклической форме, предназначенное для исполнения симфоническим оркестром; один из важнейших жанров симфоническ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noty-1"/>
          <p:cNvPicPr/>
          <p:nvPr/>
        </p:nvPicPr>
        <p:blipFill>
          <a:blip r:embed="rId1"/>
          <a:stretch/>
        </p:blipFill>
        <p:spPr>
          <a:xfrm>
            <a:off x="4343400" y="76212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57200" y="45720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ётр Ильич Чай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1840-1893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1066680"/>
            <a:ext cx="861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я Петра Ильича Чайковского, продолжателя традиций Глинки и Даргомыжского, выделяется среди композиторов - классиков. Его бессмертные произведения стоят в одном ряду с произведениями А.С.Пушкина, Л.Толстого. Чайковский глубоко национальный композитор. В произведениях он показывает жизнь русского общества, его быт; дает картины русской прир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0880" y="2438280"/>
            <a:ext cx="4343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узыка интонационно близка русской народной песне. Сам композитор писал: «Что касается вообще русского элемента в моей музыке, то есть родственных с народной песнью приемов в мелодии и гармонии, то это происходит вследствие того, что я вырос в глуши, с детства, с самого раннего, проникся неизъяснимой красотой характеристических черт русской народной музыки, что я до страсти люблю русский элемент во всех его проявлениях, что, одним словом, я русский в полнейшем смысле этого слова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523880" y="304920"/>
            <a:ext cx="5086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клад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музыкальное твор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880" y="1371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.И.Чайковский, вобрав в себя лучшие достижения европейской и русской музыкальной культуры, опираясь на русское народное творчество и городской романс XIX века, создал классические образцы русского национального музыкального 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04920" y="2438280"/>
            <a:ext cx="426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 создал лирическую оперу, русский классический балет; его фортепианные и скрипичные концерты являются большим вкладом в мировую камерно-инструментальную музыку. По-новому зазвучали его фортепианные миниатюры и лирические романсы. Музыка Чайковского лирична. Основным средством выразительности является развернутая мелодия. Мелодия включает в себя и широкий напев русской народной песни и напевно-декламационную выразительность человеческой речи. Музыку Чайковского отличают простота и доступность при высоком профессионально-художественном мастер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71600" y="22860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я и ее ро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творчестве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1523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ческая музыка занимала большое место в творчестве Чайковского на протяжении всей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04920" y="2286000"/>
            <a:ext cx="258588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вертюра "Гроз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8120" y="22860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Его значительн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380880" y="2743200"/>
            <a:ext cx="2271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симфон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28600" y="327672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мфония "Манфред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е увертюры и поэмы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28600" y="38098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Фатум», «Ромео и Джульетта», «Буря», «Франческа да Римини», «Гамлет», «Воево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228600" y="4724280"/>
            <a:ext cx="3009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дающиеся произвед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280" y="5181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ая и 5-ая симф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4495680" y="380880"/>
            <a:ext cx="403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перн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80880" y="2438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ера в его творчестве занимает большое место. Композитором написано 10 опер: «Воевода». «Ундина»,«Кузнец-Вакула», опера в последующем изменении получившая название «Черевички»; 3 оперы на исторический сюжет - «Опричник», «Мазепа». «Орлеанская Дева»; опера «Чародейка»; «Иоланта». Вершиной оперного творчества Чайковского являются оперы «Евгений Онегин» и «Пиковая дам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4207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990720" y="380880"/>
            <a:ext cx="109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а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11430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щение П.И.Чайковского к жанру балета не случайно. Его дарованию свойственно ощущение пластичности музы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2286000"/>
            <a:ext cx="52578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озитор подходит к балету как к симфоническому программному произведению. Принципы симфонизации балета - в этом заключается реформа Чайковского. «Ведь балет - та же симфония» - писал компози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м написаны три бале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Лебединое озеро», «Спящая красавица»,«Щелкунчи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южеты всех балетов сказоч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_3698"/>
          <p:cNvPicPr/>
          <p:nvPr/>
        </p:nvPicPr>
        <p:blipFill>
          <a:blip r:embed="rId1"/>
          <a:stretch/>
        </p:blipFill>
        <p:spPr>
          <a:xfrm>
            <a:off x="5715000" y="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2-01-12T15:07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