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02D-260B-446A-A3D3-95693A44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980-DBF8-43C2-B188-553DA272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DA5-852E-4DFA-B271-057106D5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74A-E487-4594-9D5C-0A2F1BDC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4AAC-E660-43B6-B913-D1EE61BF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05D1-C949-4F8D-B019-2C479EF8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E6A9-B9F4-4BEC-BF43-75CE9D16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1A1C-FA1F-4A49-B523-507BB335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CCAD-6097-413E-8F4C-3C7E73E8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C602-25A9-4E97-9CAC-8A7976FD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E855-367C-42E7-A246-1648FA93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79D-735D-4B84-AD9B-7A27B26B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AEA3-A8C7-41BA-BB34-C76DEA65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44F2-3D79-46CD-9ED8-0F886934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3A52-748C-4B43-8776-B3BADCC9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206A-FB25-4CD0-8D6C-9C7D0327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8F20-9BE2-4BAA-9C3F-D873C6FA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46869-00AC-4826-A321-0A3B681A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18627-7E5F-4429-815A-64C6878A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554EB-4F9A-4690-AC15-8C8F7656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A63DB-E26D-4750-A527-8EAB81E3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7A21F-A877-40C3-9C66-418E2BA7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C22-D24D-48B6-A680-06024445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4BE2E-4C99-43CC-82D8-85A39F93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07A7F-85AD-4CD0-9682-323DD49F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6623-AFC3-4148-A375-C46BA3A3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FE7B-2FB3-4591-B9CC-5F98F424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862E6-6CAE-466D-AC19-BCF692FE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FA223-B8F7-4437-9AEF-5E0287B2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66F70-54DE-4083-B0A6-33E90C12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727C-9F90-4A3B-8ECC-25D9FA35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8F8E-9CD9-4A1F-B2C9-2E3720C4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5C412-C5BF-40D4-B4E6-5B154774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34F-919A-4D30-9FBF-69B70A55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B3EBA-AD65-444B-BE4B-6B8749C6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4FB61-BA87-4190-AA7E-DFD69169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26243-10C6-4B07-9CD0-C56609EF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709C6-EFD6-4F67-8083-16F90D45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144A9-52CF-464C-B4B5-DB75AB64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BFA5F-AF2C-4457-B54B-8C6DE1D9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42CE6-900E-4444-913A-508BA5C9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56878-6961-474F-96A2-6F631E2F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657B7-48B5-42C2-9DB1-0F53AB31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70B-8F94-4F48-8439-B2C78C29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F5B-EC8F-4525-9F55-F6D55CCD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1D9-391E-4232-BE79-846FDB5C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990-C2B2-453F-A2D0-79DA1338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E409-906F-40DA-A365-2D7C6B0C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4E95-E37B-4694-A082-E388A8162C5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4C10-521E-4091-9AF3-D52E2C96F25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D8D1-A6FD-4B16-B84F-373D43D017E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8168-BEBD-4B9D-9943-D5A7BE0488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hyperlink" Target="http://www.pole.com.ru/norm.htm#nhome1" TargetMode="External"/><Relationship Id="rId4" Type="http://schemas.openxmlformats.org/officeDocument/2006/relationships/hyperlink" Target="http://www.pole.com.ru/norm.htm#nhome1" TargetMode="External"/><Relationship Id="rId5" Type="http://schemas.openxmlformats.org/officeDocument/2006/relationships/hyperlink" Target="http://www.pole.com.ru/norm.htm#nhome1" TargetMode="External"/><Relationship Id="rId6" Type="http://schemas.openxmlformats.org/officeDocument/2006/relationships/hyperlink" Target="http://www.pole.com.ru/norm.htm#nmicro" TargetMode="External"/><Relationship Id="rId7" Type="http://schemas.openxmlformats.org/officeDocument/2006/relationships/hyperlink" Target="http://www.pole.com.ru/norm.htm#ninduct" TargetMode="External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8207280" cy="1584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321264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втор: Иванчикова О.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кадемический колледж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очи - 2011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48276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55440" y="-231840"/>
            <a:ext cx="8253360" cy="11588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30280" y="85716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обретая бытовую технику проверяйте в Гигиеническом заключении (сертификате) отметку о соответствии изделия требованиям "Межгосударственных санитарных норм допустимых уровней физических факторов при применении товаров народного потребления в бытовых условиях", МСанПиН 001-96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спользуйте технику с меньшей потребляемой мощностью: магнитные поля промышленной частоты будут меньше при прочих равных условиях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 потенциально неблагоприятным источникам магнитного поля промышленной частоты в квартире относятся холодильники с системой “без инея”, некоторые типы “теплых полов”, нагреватели, телевизоры, некоторые системы сигнализации, различного рода зарядные устройства, выпрямители и преобразователи тока – спальное место должно быть на расстоянии не менее 2-х метров от этих предметов если они работают во время Вашего ночного отдыха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 размещении в квартире бытовой техники руководствуйтесь принципами приведенными на рисунках а и б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2109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Рисунок а:</a:t>
            </a:r>
            <a:r>
              <a:rPr b="1" i="1" lang="ru-RU" sz="1800" spc="-1" strike="noStrike">
                <a:solidFill>
                  <a:srgbClr val="04617b"/>
                </a:solidFill>
                <a:latin typeface="Calibri"/>
              </a:rPr>
              <a:t>Вариант неправильного размещения бытовых электроприборов в помещении квартир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Рисунок 4" descr="homebad.jpg"/>
          <p:cNvPicPr/>
          <p:nvPr/>
        </p:nvPicPr>
        <p:blipFill>
          <a:blip r:embed="rId2"/>
          <a:srcRect l="15487" t="0" r="15487" b="0"/>
          <a:stretch/>
        </p:blipFill>
        <p:spPr>
          <a:xfrm rot="420000">
            <a:off x="2720520" y="517680"/>
            <a:ext cx="5891400" cy="50162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39" name="Управляющая кнопка: назад 5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Управляющая кнопка: возврат 6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785520"/>
            <a:ext cx="2212920" cy="38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Рисунок б: </a:t>
            </a:r>
            <a:r>
              <a:rPr b="1" i="1" lang="en-US" sz="2000" spc="-1" strike="noStrike">
                <a:solidFill>
                  <a:srgbClr val="04617b"/>
                </a:solidFill>
                <a:latin typeface="Calibri"/>
              </a:rPr>
              <a:t>Вариант правильного размещения бытовых электроприборов в помещениях квартиры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Рисунок 4" descr="homegood.jpg"/>
          <p:cNvPicPr/>
          <p:nvPr/>
        </p:nvPicPr>
        <p:blipFill>
          <a:blip r:embed="rId2"/>
          <a:srcRect l="15487" t="0" r="15487" b="0"/>
          <a:stretch/>
        </p:blipFill>
        <p:spPr>
          <a:xfrm rot="420000">
            <a:off x="2730240" y="579240"/>
            <a:ext cx="6099120" cy="51926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45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Управляющая кнопка: назад 6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2"/>
          <a:stretch/>
        </p:blipFill>
        <p:spPr>
          <a:xfrm>
            <a:off x="55440" y="-231840"/>
            <a:ext cx="8253360" cy="20113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30280" y="157176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8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икроволновая печь (или СВЧ-печь) в своей работе использует для разогрева пищи электромагнитное поле, называемое также микроволновым излучением или СВЧ-излучением. Рабочая частота СВЧ-излучения микроволновых печей составляет 2,45 ГГц. Именно этого излучения и боятся многие люди. Однако, современные микроволновые печи оборудованы достаточно совершенной защитой, которая не дает электромагнитному полю вырываться за пределы рабочего объема. Вместе с тем, нельзя говорить что поле совершенно не проникает вне микроволновой печи. По разным причинам часть электромагнитного поля предназначенного для курицы проникает наружу, особенно интенсивно, как правило, в районе правого нижнего угла дверцы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274680" y="-6480"/>
            <a:ext cx="8034120" cy="7016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0280" y="71424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Для обеспечения безопасности при использовании печей в быту в России действуют санитарные нормы, ограничивающие предельную величину утечки СВЧ-излучения микроволновой печи. Называются они "Предельно допустимые уровни плотности потока энергии, создаваемой микроволновыми печами" и имеют обозначение СН № 2666-83. Согласно этим санитарным нормам, величина плотности потока энергии электромагнитного поля не должна превышать 10 мкВт/см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 на расстоянии 50 см от любой точки корпуса печи при нагреве 1 литра воды. На практике практически все новые современные микроволновые печи выдерживают это требование с большим запасом. Тем не менее, при покупке новой печи надо убедиться, что в сертификате соответствия зафиксировано соответствие вашей печи требованиям этих санитарных норм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адо помнить, что со временем степень защиты может снижаться, в основном из-за появления микрощелей в уплотнении дверцы. Это может происходить как из-за попадания грязи, так и из-за механических повреждений. Поэтому дверца и ее уплотнение требует аккуратности в обращении и тщательного ухода. Срок гарантированной стойкости защиты от утечек электромагнитного поля при нормальной эксплуатации - несколько лет. Через 5-6 лет эксплуатации целесообразно проверить качество защиты для чего пригласить специалиста из специально аккредитованной лаборатории по контролю электромагнитного поля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Кроме СВЧ-излучения работу микроволновой печи сопровождает интенсивное магнитное поле, создаваемое током промышленной частоты 50 Гц протекающим в системе электропитания печи. При этом микроволновая печь является одним из наиболее мощных источников магнитного поля в квартире. Для населения уровень магнитного поля промышленной частоты в нашей стране до сих пор не ограничен несмотря на его существенное действие на организм человека при продолжительном облучении. В бытовых условиях однократное кратковременнное включение ( на несколько минут ) не окажет существенного влияния на здоровье человека. Однако, сейчас часто бытовая микроволновая печь используется для разогрева пищи в кафе и в сходных других производственных условиях. При этом работающий с ней человек попадает в ситуацию хронического облучения магнитным полем промышленной частоты. В таком случае на рабочем месте необходим обязательный контроль магнитного поля промышленной частоты и СВЧ-излучения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2"/>
          <a:stretch/>
        </p:blipFill>
        <p:spPr>
          <a:xfrm>
            <a:off x="55440" y="-231840"/>
            <a:ext cx="8253360" cy="11588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53028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Проверяйте при покупке в Гигиеническом заключении ( или соответствующем сертификате) запись о соответствии микроволновой печи санитарным нормам СН № 2666-83 "</a:t>
            </a:r>
            <a:r>
              <a:rPr b="0" i="1" lang="en-US" sz="2200" spc="-1" strike="noStrike">
                <a:solidFill>
                  <a:srgbClr val="ffffff"/>
                </a:solidFill>
                <a:latin typeface="Constantia"/>
              </a:rPr>
              <a:t>Предельно допустимые уровни плотности потока энергии, создаваемой микроволновыми печами"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Учитывая специфику микроволновой печи, целесообразно включив ее отойти на расстояние не менее 1,5 метра - в этом случае гарантированно электромагнитное поле вас не затронет вообщ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При покупке микроволновой печи при прочих равных заявленных условиях надо выбирать печь с меньшим энергопотреблением - она создает меньший уровень магнитного поля промышленной частот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2"/>
          <a:stretch/>
        </p:blipFill>
        <p:spPr>
          <a:xfrm>
            <a:off x="109440" y="298440"/>
            <a:ext cx="8663040" cy="1554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Documents and Settings\Администратор\Мои документы\Bluetooth\inbox\Фото023.jpg"/>
          <p:cNvPicPr/>
          <p:nvPr/>
        </p:nvPicPr>
        <p:blipFill>
          <a:blip r:embed="rId3"/>
          <a:stretch/>
        </p:blipFill>
        <p:spPr>
          <a:xfrm>
            <a:off x="0" y="1857240"/>
            <a:ext cx="5429160" cy="4214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Documents and Settings\Администратор\Мои документы\Bluetooth\inbox\Фото024.jpg"/>
          <p:cNvPicPr/>
          <p:nvPr/>
        </p:nvPicPr>
        <p:blipFill>
          <a:blip r:embed="rId4"/>
          <a:stretch/>
        </p:blipFill>
        <p:spPr>
          <a:xfrm>
            <a:off x="5340240" y="1214280"/>
            <a:ext cx="3803760" cy="5072400"/>
          </a:xfrm>
          <a:prstGeom prst="rect">
            <a:avLst/>
          </a:prstGeom>
          <a:ln w="0">
            <a:noFill/>
          </a:ln>
        </p:spPr>
      </p:pic>
      <p:sp>
        <p:nvSpPr>
          <p:cNvPr id="266" name="Управляющая кнопка: назад 4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Управляющая кнопка: домой 6"/>
          <p:cNvSpPr/>
          <p:nvPr/>
        </p:nvSpPr>
        <p:spPr>
          <a:xfrm>
            <a:off x="707220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7719" y="3837"/>
                </a:moveTo>
                <a:lnTo>
                  <a:pt x="40295" y="6448"/>
                </a:lnTo>
                <a:lnTo>
                  <a:pt x="40295" y="4707"/>
                </a:lnTo>
                <a:lnTo>
                  <a:pt x="42070" y="4707"/>
                </a:lnTo>
                <a:lnTo>
                  <a:pt x="42070" y="8224"/>
                </a:lnTo>
                <a:lnTo>
                  <a:pt x="44682" y="10800"/>
                </a:lnTo>
                <a:lnTo>
                  <a:pt x="43028" y="10800"/>
                </a:lnTo>
                <a:lnTo>
                  <a:pt x="43028" y="17989"/>
                </a:lnTo>
                <a:lnTo>
                  <a:pt x="32409" y="17989"/>
                </a:lnTo>
                <a:lnTo>
                  <a:pt x="32409" y="10800"/>
                </a:lnTo>
                <a:lnTo>
                  <a:pt x="30756" y="10800"/>
                </a:lnTo>
                <a:close/>
              </a:path>
              <a:path fill="darkenLess" w="75437" h="21600">
                <a:moveTo>
                  <a:pt x="40295" y="6448"/>
                </a:moveTo>
                <a:lnTo>
                  <a:pt x="40295" y="4707"/>
                </a:lnTo>
                <a:lnTo>
                  <a:pt x="42070" y="4707"/>
                </a:lnTo>
                <a:lnTo>
                  <a:pt x="42070" y="8224"/>
                </a:lnTo>
                <a:close/>
              </a:path>
              <a:path fill="darkenLess" w="75437" h="21600">
                <a:moveTo>
                  <a:pt x="36796" y="14299"/>
                </a:moveTo>
                <a:lnTo>
                  <a:pt x="38641" y="14299"/>
                </a:lnTo>
                <a:lnTo>
                  <a:pt x="38641" y="17989"/>
                </a:lnTo>
                <a:lnTo>
                  <a:pt x="43028" y="17989"/>
                </a:lnTo>
                <a:lnTo>
                  <a:pt x="43028" y="10800"/>
                </a:lnTo>
                <a:lnTo>
                  <a:pt x="32409" y="10800"/>
                </a:lnTo>
                <a:lnTo>
                  <a:pt x="32409" y="17989"/>
                </a:lnTo>
                <a:lnTo>
                  <a:pt x="36796" y="1798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2"/>
          <a:stretch/>
        </p:blipFill>
        <p:spPr>
          <a:xfrm>
            <a:off x="539640" y="0"/>
            <a:ext cx="7785360" cy="1359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1.Источник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2.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 Санитарно- гигиеническое нормирование ЭМП бытовых приборов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3.Возможные биологические эффект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4.Рекомендаци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8" action="ppaction://hlinksldjump"/>
              </a:rPr>
              <a:t>5.Микроволновые печ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9" action="ppaction://hlinksldjump"/>
              </a:rPr>
              <a:t>   -источни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0" action="ppaction://hlinksldjump"/>
              </a:rPr>
              <a:t>-обеспечение безопасно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1" action="ppaction://hlinksldjump"/>
              </a:rPr>
              <a:t>-рекомендаци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2"/>
          <a:stretch/>
        </p:blipFill>
        <p:spPr>
          <a:xfrm>
            <a:off x="55440" y="-304920"/>
            <a:ext cx="8253360" cy="1158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30280" y="928800"/>
            <a:ext cx="7772400" cy="592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се бытовые приборы, работающие с использованием электрического тока, являются источниками электромагнитных пол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аиболее мощными следует признать СВЧ-печи, аэрогрили, холодильники с системой “без инея”, кухонные вытяжки, электроплиты, телевизоры. Реально создаваемое ЭМП в зависимости от конкретной модели и режима работы может сильно различаться среди оборудования одного типа (смотри рисунок 1). Все ниже приведенные данные относятся к магнитному полю промышленной частоты 50 Гц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Значения магнитного поля тесно связаны с мощностью прибора - чем она выше, тем выше магнитное поле при его работе. Значения электрического поля промышленной частоты практически всех электробытовых приборов не превышают нескольких десятков В/м на расстоянии 0,5 м, что значительно меньше ПДУ 500 В/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4617b"/>
                </a:solidFill>
                <a:latin typeface="Calibri"/>
              </a:rPr>
              <a:t>Средние уровни магнитного поля промышленной частоты бытовых электроприборов на расстоянии 0,3 м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Рисунок 5" descr="srcgrph.gif"/>
          <p:cNvPicPr/>
          <p:nvPr/>
        </p:nvPicPr>
        <p:blipFill>
          <a:blip r:embed="rId2"/>
          <a:srcRect l="691" t="0" r="691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08" name="Прямоугольник 4"/>
          <p:cNvSpPr/>
          <p:nvPr/>
        </p:nvSpPr>
        <p:spPr>
          <a:xfrm>
            <a:off x="2286000" y="296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Управляющая кнопка: назад 6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Управляющая кнопка: возврат 7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2"/>
          <a:stretch/>
        </p:blipFill>
        <p:spPr>
          <a:xfrm>
            <a:off x="268200" y="652320"/>
            <a:ext cx="8504280" cy="12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0" y="1857240"/>
          <a:ext cx="10787040" cy="5000760"/>
        </p:xfrm>
        <a:graphic>
          <a:graphicData uri="http://schemas.openxmlformats.org/drawingml/2006/table">
            <a:tbl>
              <a:tblPr/>
              <a:tblGrid>
                <a:gridCol w="4341960"/>
                <a:gridCol w="4341600"/>
                <a:gridCol w="2103480"/>
              </a:tblGrid>
              <a:tr h="1176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Источ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c4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Расстояние, на котором фиксируется величина больше 0,2 мкТ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fe8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0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Холодильник, оснащенный системой "No frost" (во время работы компрессор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1,2 м от дверцы; 1,4 м от задней стен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Холодильник обычный (во время работы компрессор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0,1 м от мо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Утюг (режим нагрев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0,25 м от руч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Телевизор 14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1,1 м от экрана; 1,2 м от боковой стен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Электрорадиа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0,3 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Торшер с двумя лампами по 75 В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0,03 м (от провод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Электродух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0,4 м от передней стен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Аэрогри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1,4 м от боковой стен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4617b"/>
                </a:solidFill>
                <a:latin typeface="Calibri"/>
              </a:rPr>
              <a:t>Изменение уровня магнитного поля промышленной частоты бытовых электроприборов в зависимости расстояния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Рисунок 4" descr="ftrans.gif"/>
          <p:cNvPicPr/>
          <p:nvPr/>
        </p:nvPicPr>
        <p:blipFill>
          <a:blip r:embed="rId2"/>
          <a:srcRect l="11590" t="0" r="11590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17" name="Управляющая кнопка: назад 5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Управляющая кнопка: возврат 6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219240" y="-6480"/>
            <a:ext cx="8334360" cy="1420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0280" y="135720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сновным документом, устанавливающим требования к ПДУ ЭМП бытовых приборов являются "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Межгосударственные санитарные нормы допустимых уровней физических факторов при применении товаров народного потребления в бытовых условиях", 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МСанПиН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 001-96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. Для отдельных видов товаров установлены свои нормы: "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Предельно допустимые уровни плотности потока энергии, создаваемой микроволновыми печами" СН № 2666-83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, "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Предельно допустимые нормы напряженности электромагнитного поля, создаваемого индукционными бытовыми печами, работающими на частоте 20 - 22 кГц" СН № 2550-82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. Значения ПДУ ЭМП для бытовой техники приведены ниж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7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Источник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c4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Диапазо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fe8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Значение ПДУ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ef2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римечани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af2"/>
                    </a:solidFill>
                  </a:tcPr>
                </a:tc>
              </a:tr>
              <a:tr h="274680"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Индукционные печ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 - 22 к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00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словия измерения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 А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сстояние 0,3 м от корпус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ff7"/>
                    </a:solidFill>
                  </a:tcPr>
                </a:tc>
              </a:tr>
              <a:tr h="272880"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ВЧ печ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,45 Г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 мкВт/см</a:t>
                      </a:r>
                      <a:r>
                        <a:rPr b="0" lang="en-US" sz="7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словия измерения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сстояние 0,50 </a:t>
                      </a: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0,05 м от любой точки, при нагрузке 1 литр в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ff7"/>
                    </a:solidFill>
                  </a:tcPr>
                </a:tc>
              </a:tr>
              <a:tr h="287280">
                <a:tc row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идеодисплейный терминал ПЭВ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 Гц - 2 к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7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пду </a:t>
                      </a: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= 25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словия измерения: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7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пду </a:t>
                      </a: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= 250 нТ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сстояние 0,5 м вокруг монитора ПЭВ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 - 400 к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7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пду </a:t>
                      </a: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= 2,5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8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7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пду </a:t>
                      </a: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= 25 нТ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ff7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оверхностный электростатический потенциа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 = 500 </a:t>
                      </a: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словия измерения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сстояние 0,1 м от экрана монитора ПЭВ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ff7"/>
                    </a:solidFill>
                  </a:tcPr>
                </a:tc>
              </a:tr>
              <a:tr h="272880">
                <a:tc row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рочая проду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0 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 = 500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словия измерения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,3 - 300 к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 = 25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43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,3 - 3 М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 = 15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сстояние 0,5 м от корпуса издел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 - 30 М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 = 10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0 - 300 М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 = 3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,3 - 30 Г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ПЭ = 10 мкВт/см</a:t>
                      </a:r>
                      <a:r>
                        <a:rPr b="0" lang="en-US" sz="7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2"/>
          <a:stretch/>
        </p:blipFill>
        <p:spPr>
          <a:xfrm>
            <a:off x="55440" y="-585720"/>
            <a:ext cx="8528040" cy="20127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0280" y="142884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Человеческий организм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всегда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реагирует на электромагнитное поле. Однако, для того чтобы эта реакция переросла в паталогию и привела к заболеванию необходимо совпадение ряда условий – в том числе достаточно высокий уровень поля и продолжительность облучения. Поэтому, при использовании бытовой техники с малыми уровнями поля и/или кратковременно ЭМП бытовой техники не оказывает влияния на здоровье основной части населения. Потенциальная опасность может грозить лишь людям с повышенной чувствительностью к ЭМП и аллергикам, также зачастую обладающим повышенной чувствительностью к ЭМП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роме того, согласно современным представлениям, магнитное поле промышленной частоты может быть опасным для здоровья человека, если происходит продолжительное облучение ( регулярно, не менее 8 часов в сутки, в течение нескольких лет) с уровнем выше 0,2 микротесл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4:10:41Z</dcterms:created>
  <dc:creator>Галина</dc:creator>
  <dc:description/>
  <dc:language>en-US</dc:language>
  <cp:lastModifiedBy>Галина</cp:lastModifiedBy>
  <dcterms:modified xsi:type="dcterms:W3CDTF">2011-06-20T14:16:53Z</dcterms:modified>
  <cp:revision>1</cp:revision>
  <dc:subject/>
  <dc:title>Слайд 1</dc:title>
</cp:coreProperties>
</file>