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20.png" ContentType="image/png"/>
  <Override PartName="/ppt/media/image18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B846-9A5C-4CE4-AF3B-9454AF199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8EA1-6C0F-457D-A8BF-5E60FEFD0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4B07-AB4A-4727-8C5D-FD08E06DA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EBAE-606A-4637-AD9B-5BAD369E1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93621-71DA-4EB8-B636-0F74C39FF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6E316-4DD0-442E-82D4-A0706B8A7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AAF65-F277-405F-A469-7ED42EEF3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C707A-E523-4750-8145-83AB5DCA1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4E6F1-61DC-4F98-8C35-0F333357A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62A9B-30BB-4B5F-8F6D-E0AD7D803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BA1F9-B4A0-459D-9841-D6B15983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DA3F-AAE7-4060-AC4E-422676C9A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C4FA0-32AB-4136-A6EE-162A0D87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96C80-6017-47DF-9304-8E48BEC3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22B19-EAEF-410C-9BF5-CDBCC7452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48AC3-6D48-4C63-93A8-BC368858B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783D5-A984-41D6-A16C-3F4E44C80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93FC9-3318-4EB3-B040-74DCC0E00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A47D6-D3FA-4D98-B84B-8D166543D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84300-A2AF-4978-8460-FF2B1F1AB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072B7-E706-42F4-B592-C7FAF301B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62F31-C8C0-4CAA-A9B4-77E994005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44EB-38C6-4882-BECC-4B8A73E05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079DE-A344-4EF9-9ACE-07FF81BAF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44922-7CEC-4A16-9A52-57D5B1A2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5F0AA-6E1B-4924-8EFD-00D038F9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8B2AF-E8AD-4926-A79D-814D2E77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E543D-9986-4659-A0CB-73270DC90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F3CCF-711A-4926-ADAB-05B8947A2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89F0C-A2D2-45C2-84D4-49B1FADB8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52BB5-E280-4337-8130-998B60178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EF4E8-EC42-402D-AE89-0559EF11E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6A6AC-B235-489E-8E3D-E1347FE42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8AB5-DF26-4400-B686-CFEDB1332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7A016-75FC-4319-A5B8-91C60B563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07F22-E83C-460E-8349-D8AC30194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375D5-3C72-4FFE-B156-527D82A61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547E7-FB41-4AEF-AAD2-6E2016E4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72CC9-E99E-41F3-B427-EC8C10D98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515FA-D35E-422E-A1A3-3E0E369E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08292-651D-46A5-B88C-02884D112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626CA-65B5-4703-BD50-D35F8D342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31E08-B96C-4941-A7E1-A9A4699E5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48A9-E0AC-4F3B-AAFE-4CFE097CF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A70B-9ECE-4CAA-AC5F-8D6FB6010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C779-9BDB-4605-ADBE-F91BA8C7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4277-951C-4A36-A49B-890AFDA5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F916-F91C-4BF2-A02A-FBC4BE55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CA28D-6985-4D63-83D0-91D25A399D9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07A82-D191-47A1-A150-7D358357E8C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A8FB1-F2C5-4325-B34E-0F6E2C179CE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D0B26-F394-489A-96AA-5BA417D695B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" Target="slide3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3.xml"/><Relationship Id="rId9" Type="http://schemas.openxmlformats.org/officeDocument/2006/relationships/slide" Target="slide13.xml"/><Relationship Id="rId10" Type="http://schemas.openxmlformats.org/officeDocument/2006/relationships/slide" Target="slide14.xml"/><Relationship Id="rId11" Type="http://schemas.openxmlformats.org/officeDocument/2006/relationships/slide" Target="slide15.xml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ng"/><Relationship Id="rId3" Type="http://schemas.openxmlformats.org/officeDocument/2006/relationships/hyperlink" Target="http://www.pole.com.ru/norm.htm#nhome1" TargetMode="External"/><Relationship Id="rId4" Type="http://schemas.openxmlformats.org/officeDocument/2006/relationships/hyperlink" Target="http://www.pole.com.ru/norm.htm#nhome1" TargetMode="External"/><Relationship Id="rId5" Type="http://schemas.openxmlformats.org/officeDocument/2006/relationships/hyperlink" Target="http://www.pole.com.ru/norm.htm#nhome1" TargetMode="External"/><Relationship Id="rId6" Type="http://schemas.openxmlformats.org/officeDocument/2006/relationships/hyperlink" Target="http://www.pole.com.ru/norm.htm#nmicro" TargetMode="External"/><Relationship Id="rId7" Type="http://schemas.openxmlformats.org/officeDocument/2006/relationships/hyperlink" Target="http://www.pole.com.ru/norm.htm#ninduct" TargetMode="External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2"/>
          <a:stretch/>
        </p:blipFill>
        <p:spPr>
          <a:xfrm>
            <a:off x="755640" y="189000"/>
            <a:ext cx="8207280" cy="15843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9640" y="3212640"/>
            <a:ext cx="78552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Автор: Иванчикова О.И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Академический колледж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Сочи - 2011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324000" y="1989000"/>
            <a:ext cx="4827600" cy="45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2"/>
          <a:stretch/>
        </p:blipFill>
        <p:spPr>
          <a:xfrm>
            <a:off x="55440" y="-231840"/>
            <a:ext cx="8253360" cy="115884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530280" y="857160"/>
            <a:ext cx="7772400" cy="5857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приобретая бытовую технику проверяйте в Гигиеническом заключении (сертификате) отметку о соответствии изделия требованиям "Межгосударственных санитарных норм допустимых уровней физических факторов при применении товаров народного потребления в бытовых условиях", МСанПиН 001-96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используйте технику с меньшей потребляемой мощностью: магнитные поля промышленной частоты будут меньше при прочих равных условиях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к потенциально неблагоприятным источникам магнитного поля промышленной частоты в квартире относятся холодильники с системой “без инея”, некоторые типы “теплых полов”, нагреватели, телевизоры, некоторые системы сигнализации, различного рода зарядные устройства, выпрямители и преобразователи тока – спальное место должно быть на расстоянии не менее 2-х метров от этих предметов если они работают во время Вашего ночного отдыха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при размещении в квартире бытовой техники руководствуйтесь принципами приведенными на рисунках а и б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3" name="Управляющая кнопка: назад 3">
            <a:hlinkClick r:id="" action="ppaction://hlinkshowjump?jump=previousslide"/>
          </p:cNvPr>
          <p:cNvSpPr/>
          <p:nvPr/>
        </p:nvSpPr>
        <p:spPr>
          <a:xfrm flipV="1">
            <a:off x="5857920" y="6714360"/>
            <a:ext cx="500040" cy="142920"/>
          </a:xfrm>
          <a:custGeom>
            <a:avLst/>
            <a:gdLst>
              <a:gd name="textAreaLeft" fmla="*/ 9000 w 500040"/>
              <a:gd name="textAreaRight" fmla="*/ 491040 w 50004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75437" h="21600">
                <a:moveTo>
                  <a:pt x="0" y="0"/>
                </a:moveTo>
                <a:lnTo>
                  <a:pt x="75437" y="0"/>
                </a:lnTo>
                <a:lnTo>
                  <a:pt x="75437" y="21600"/>
                </a:lnTo>
                <a:lnTo>
                  <a:pt x="0" y="21600"/>
                </a:lnTo>
                <a:close/>
              </a:path>
              <a:path fill="lightenLess" w="75437" h="21600">
                <a:moveTo>
                  <a:pt x="0" y="0"/>
                </a:moveTo>
                <a:lnTo>
                  <a:pt x="75437" y="0"/>
                </a:lnTo>
                <a:lnTo>
                  <a:pt x="74037" y="1400"/>
                </a:lnTo>
                <a:lnTo>
                  <a:pt x="1400" y="1400"/>
                </a:lnTo>
                <a:close/>
              </a:path>
              <a:path fill="darken" w="75437" h="21600">
                <a:moveTo>
                  <a:pt x="75437" y="0"/>
                </a:moveTo>
                <a:lnTo>
                  <a:pt x="75437" y="21600"/>
                </a:lnTo>
                <a:lnTo>
                  <a:pt x="74037" y="20200"/>
                </a:lnTo>
                <a:lnTo>
                  <a:pt x="74037" y="1400"/>
                </a:lnTo>
                <a:close/>
              </a:path>
              <a:path fill="darkenLess" w="75437" h="21600">
                <a:moveTo>
                  <a:pt x="75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037" y="20200"/>
                </a:lnTo>
                <a:close/>
              </a:path>
              <a:path fill="lighten" w="75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437" h="21600">
                <a:moveTo>
                  <a:pt x="30712" y="10800"/>
                </a:moveTo>
                <a:lnTo>
                  <a:pt x="44725" y="3794"/>
                </a:lnTo>
                <a:lnTo>
                  <a:pt x="44725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7000920" y="6715080"/>
            <a:ext cx="571320" cy="142920"/>
          </a:xfrm>
          <a:custGeom>
            <a:avLst/>
            <a:gdLst>
              <a:gd name="textAreaLeft" fmla="*/ 9000 w 571320"/>
              <a:gd name="textAreaRight" fmla="*/ 562320 w 5713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86183" h="21600">
                <a:moveTo>
                  <a:pt x="0" y="0"/>
                </a:moveTo>
                <a:lnTo>
                  <a:pt x="86183" y="0"/>
                </a:lnTo>
                <a:lnTo>
                  <a:pt x="86183" y="21600"/>
                </a:lnTo>
                <a:lnTo>
                  <a:pt x="0" y="21600"/>
                </a:lnTo>
                <a:close/>
              </a:path>
              <a:path fill="lightenLess" w="86183" h="21600">
                <a:moveTo>
                  <a:pt x="0" y="0"/>
                </a:moveTo>
                <a:lnTo>
                  <a:pt x="86183" y="0"/>
                </a:lnTo>
                <a:lnTo>
                  <a:pt x="84783" y="1400"/>
                </a:lnTo>
                <a:lnTo>
                  <a:pt x="1400" y="1400"/>
                </a:lnTo>
                <a:close/>
              </a:path>
              <a:path fill="darken" w="86183" h="21600">
                <a:moveTo>
                  <a:pt x="86183" y="0"/>
                </a:moveTo>
                <a:lnTo>
                  <a:pt x="86183" y="21600"/>
                </a:lnTo>
                <a:lnTo>
                  <a:pt x="84783" y="20200"/>
                </a:lnTo>
                <a:lnTo>
                  <a:pt x="84783" y="1400"/>
                </a:lnTo>
                <a:close/>
              </a:path>
              <a:path fill="darkenLess" w="86183" h="21600">
                <a:moveTo>
                  <a:pt x="86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783" y="20200"/>
                </a:lnTo>
                <a:close/>
              </a:path>
              <a:path fill="lighten" w="86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183" h="21600">
                <a:moveTo>
                  <a:pt x="36085" y="3794"/>
                </a:moveTo>
                <a:lnTo>
                  <a:pt x="50098" y="10800"/>
                </a:lnTo>
                <a:lnTo>
                  <a:pt x="36085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Управляющая кнопка: возврат 5">
            <a:hlinkClick r:id="" action="ppaction://hlinkshowjump?jump=previousslide"/>
          </p:cNvPr>
          <p:cNvSpPr/>
          <p:nvPr/>
        </p:nvSpPr>
        <p:spPr>
          <a:xfrm>
            <a:off x="6429240" y="6715080"/>
            <a:ext cx="500040" cy="142920"/>
          </a:xfrm>
          <a:custGeom>
            <a:avLst/>
            <a:gdLst>
              <a:gd name="textAreaLeft" fmla="*/ 9000 w 500040"/>
              <a:gd name="textAreaRight" fmla="*/ 491040 w 50004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75437" h="21600">
                <a:moveTo>
                  <a:pt x="0" y="0"/>
                </a:moveTo>
                <a:lnTo>
                  <a:pt x="75437" y="0"/>
                </a:lnTo>
                <a:lnTo>
                  <a:pt x="75437" y="21600"/>
                </a:lnTo>
                <a:lnTo>
                  <a:pt x="0" y="21600"/>
                </a:lnTo>
                <a:close/>
              </a:path>
              <a:path fill="lightenLess" w="75437" h="21600">
                <a:moveTo>
                  <a:pt x="0" y="0"/>
                </a:moveTo>
                <a:lnTo>
                  <a:pt x="75437" y="0"/>
                </a:lnTo>
                <a:lnTo>
                  <a:pt x="74037" y="1400"/>
                </a:lnTo>
                <a:lnTo>
                  <a:pt x="1400" y="1400"/>
                </a:lnTo>
                <a:close/>
              </a:path>
              <a:path fill="darken" w="75437" h="21600">
                <a:moveTo>
                  <a:pt x="75437" y="0"/>
                </a:moveTo>
                <a:lnTo>
                  <a:pt x="75437" y="21600"/>
                </a:lnTo>
                <a:lnTo>
                  <a:pt x="74037" y="20200"/>
                </a:lnTo>
                <a:lnTo>
                  <a:pt x="74037" y="1400"/>
                </a:lnTo>
                <a:close/>
              </a:path>
              <a:path fill="darkenLess" w="75437" h="21600">
                <a:moveTo>
                  <a:pt x="75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037" y="20200"/>
                </a:lnTo>
                <a:close/>
              </a:path>
              <a:path fill="lighten" w="75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437" h="21600">
                <a:moveTo>
                  <a:pt x="30712" y="7493"/>
                </a:moveTo>
                <a:lnTo>
                  <a:pt x="34220" y="7493"/>
                </a:lnTo>
                <a:lnTo>
                  <a:pt x="34220" y="12828"/>
                </a:lnTo>
                <a:cubicBezTo>
                  <a:pt x="34220" y="13751"/>
                  <a:pt x="35020" y="14482"/>
                  <a:pt x="36056" y="14482"/>
                </a:cubicBezTo>
                <a:lnTo>
                  <a:pt x="37719" y="14482"/>
                </a:lnTo>
                <a:cubicBezTo>
                  <a:pt x="38754" y="14482"/>
                  <a:pt x="39555" y="13751"/>
                  <a:pt x="39555" y="12828"/>
                </a:cubicBezTo>
                <a:lnTo>
                  <a:pt x="39555" y="7493"/>
                </a:lnTo>
                <a:lnTo>
                  <a:pt x="37719" y="7493"/>
                </a:lnTo>
                <a:lnTo>
                  <a:pt x="41226" y="3985"/>
                </a:lnTo>
                <a:lnTo>
                  <a:pt x="44899" y="7493"/>
                </a:lnTo>
                <a:lnTo>
                  <a:pt x="43063" y="7493"/>
                </a:lnTo>
                <a:lnTo>
                  <a:pt x="43063" y="12828"/>
                </a:lnTo>
                <a:cubicBezTo>
                  <a:pt x="43063" y="15596"/>
                  <a:pt x="40486" y="18155"/>
                  <a:pt x="37719" y="18155"/>
                </a:cubicBezTo>
                <a:lnTo>
                  <a:pt x="36056" y="18155"/>
                </a:lnTo>
                <a:cubicBezTo>
                  <a:pt x="33288" y="18155"/>
                  <a:pt x="30712" y="15596"/>
                  <a:pt x="30712" y="12828"/>
                </a:cubicBez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2109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4617b"/>
                </a:solidFill>
                <a:latin typeface="Calibri"/>
              </a:rPr>
              <a:t>Рисунок а:</a:t>
            </a:r>
            <a:r>
              <a:rPr b="1" i="1" lang="ru-RU" sz="1800" spc="-1" strike="noStrike">
                <a:solidFill>
                  <a:srgbClr val="04617b"/>
                </a:solidFill>
                <a:latin typeface="Calibri"/>
              </a:rPr>
              <a:t>Вариант неправильного размещения бытовых электроприборов в помещении квартиры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t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8" name="Рисунок 4" descr="homebad.jpg"/>
          <p:cNvPicPr/>
          <p:nvPr/>
        </p:nvPicPr>
        <p:blipFill>
          <a:blip r:embed="rId2"/>
          <a:srcRect l="15487" t="0" r="15487" b="0"/>
          <a:stretch/>
        </p:blipFill>
        <p:spPr>
          <a:xfrm rot="420000">
            <a:off x="2720520" y="517680"/>
            <a:ext cx="5891400" cy="501624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  <p:sp>
        <p:nvSpPr>
          <p:cNvPr id="239" name="Управляющая кнопка: назад 5">
            <a:hlinkClick r:id="" action="ppaction://hlinkshowjump?jump=previousslide"/>
          </p:cNvPr>
          <p:cNvSpPr/>
          <p:nvPr/>
        </p:nvSpPr>
        <p:spPr>
          <a:xfrm flipV="1">
            <a:off x="5857920" y="6714360"/>
            <a:ext cx="500040" cy="142920"/>
          </a:xfrm>
          <a:custGeom>
            <a:avLst/>
            <a:gdLst>
              <a:gd name="textAreaLeft" fmla="*/ 9000 w 500040"/>
              <a:gd name="textAreaRight" fmla="*/ 491040 w 50004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75437" h="21600">
                <a:moveTo>
                  <a:pt x="0" y="0"/>
                </a:moveTo>
                <a:lnTo>
                  <a:pt x="75437" y="0"/>
                </a:lnTo>
                <a:lnTo>
                  <a:pt x="75437" y="21600"/>
                </a:lnTo>
                <a:lnTo>
                  <a:pt x="0" y="21600"/>
                </a:lnTo>
                <a:close/>
              </a:path>
              <a:path fill="lightenLess" w="75437" h="21600">
                <a:moveTo>
                  <a:pt x="0" y="0"/>
                </a:moveTo>
                <a:lnTo>
                  <a:pt x="75437" y="0"/>
                </a:lnTo>
                <a:lnTo>
                  <a:pt x="74037" y="1400"/>
                </a:lnTo>
                <a:lnTo>
                  <a:pt x="1400" y="1400"/>
                </a:lnTo>
                <a:close/>
              </a:path>
              <a:path fill="darken" w="75437" h="21600">
                <a:moveTo>
                  <a:pt x="75437" y="0"/>
                </a:moveTo>
                <a:lnTo>
                  <a:pt x="75437" y="21600"/>
                </a:lnTo>
                <a:lnTo>
                  <a:pt x="74037" y="20200"/>
                </a:lnTo>
                <a:lnTo>
                  <a:pt x="74037" y="1400"/>
                </a:lnTo>
                <a:close/>
              </a:path>
              <a:path fill="darkenLess" w="75437" h="21600">
                <a:moveTo>
                  <a:pt x="75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037" y="20200"/>
                </a:lnTo>
                <a:close/>
              </a:path>
              <a:path fill="lighten" w="75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437" h="21600">
                <a:moveTo>
                  <a:pt x="30712" y="10800"/>
                </a:moveTo>
                <a:lnTo>
                  <a:pt x="44725" y="3794"/>
                </a:lnTo>
                <a:lnTo>
                  <a:pt x="44725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Управляющая кнопка: возврат 6">
            <a:hlinkClick r:id="" action="ppaction://hlinkshowjump?jump=previousslide"/>
          </p:cNvPr>
          <p:cNvSpPr/>
          <p:nvPr/>
        </p:nvSpPr>
        <p:spPr>
          <a:xfrm>
            <a:off x="6429240" y="6715080"/>
            <a:ext cx="500040" cy="142920"/>
          </a:xfrm>
          <a:custGeom>
            <a:avLst/>
            <a:gdLst>
              <a:gd name="textAreaLeft" fmla="*/ 9000 w 500040"/>
              <a:gd name="textAreaRight" fmla="*/ 491040 w 50004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75437" h="21600">
                <a:moveTo>
                  <a:pt x="0" y="0"/>
                </a:moveTo>
                <a:lnTo>
                  <a:pt x="75437" y="0"/>
                </a:lnTo>
                <a:lnTo>
                  <a:pt x="75437" y="21600"/>
                </a:lnTo>
                <a:lnTo>
                  <a:pt x="0" y="21600"/>
                </a:lnTo>
                <a:close/>
              </a:path>
              <a:path fill="lightenLess" w="75437" h="21600">
                <a:moveTo>
                  <a:pt x="0" y="0"/>
                </a:moveTo>
                <a:lnTo>
                  <a:pt x="75437" y="0"/>
                </a:lnTo>
                <a:lnTo>
                  <a:pt x="74037" y="1400"/>
                </a:lnTo>
                <a:lnTo>
                  <a:pt x="1400" y="1400"/>
                </a:lnTo>
                <a:close/>
              </a:path>
              <a:path fill="darken" w="75437" h="21600">
                <a:moveTo>
                  <a:pt x="75437" y="0"/>
                </a:moveTo>
                <a:lnTo>
                  <a:pt x="75437" y="21600"/>
                </a:lnTo>
                <a:lnTo>
                  <a:pt x="74037" y="20200"/>
                </a:lnTo>
                <a:lnTo>
                  <a:pt x="74037" y="1400"/>
                </a:lnTo>
                <a:close/>
              </a:path>
              <a:path fill="darkenLess" w="75437" h="21600">
                <a:moveTo>
                  <a:pt x="75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037" y="20200"/>
                </a:lnTo>
                <a:close/>
              </a:path>
              <a:path fill="lighten" w="75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437" h="21600">
                <a:moveTo>
                  <a:pt x="30712" y="7493"/>
                </a:moveTo>
                <a:lnTo>
                  <a:pt x="34220" y="7493"/>
                </a:lnTo>
                <a:lnTo>
                  <a:pt x="34220" y="12828"/>
                </a:lnTo>
                <a:cubicBezTo>
                  <a:pt x="34220" y="13751"/>
                  <a:pt x="35020" y="14482"/>
                  <a:pt x="36056" y="14482"/>
                </a:cubicBezTo>
                <a:lnTo>
                  <a:pt x="37719" y="14482"/>
                </a:lnTo>
                <a:cubicBezTo>
                  <a:pt x="38754" y="14482"/>
                  <a:pt x="39555" y="13751"/>
                  <a:pt x="39555" y="12828"/>
                </a:cubicBezTo>
                <a:lnTo>
                  <a:pt x="39555" y="7493"/>
                </a:lnTo>
                <a:lnTo>
                  <a:pt x="37719" y="7493"/>
                </a:lnTo>
                <a:lnTo>
                  <a:pt x="41226" y="3985"/>
                </a:lnTo>
                <a:lnTo>
                  <a:pt x="44899" y="7493"/>
                </a:lnTo>
                <a:lnTo>
                  <a:pt x="43063" y="7493"/>
                </a:lnTo>
                <a:lnTo>
                  <a:pt x="43063" y="12828"/>
                </a:lnTo>
                <a:cubicBezTo>
                  <a:pt x="43063" y="15596"/>
                  <a:pt x="40486" y="18155"/>
                  <a:pt x="37719" y="18155"/>
                </a:cubicBezTo>
                <a:lnTo>
                  <a:pt x="36056" y="18155"/>
                </a:lnTo>
                <a:cubicBezTo>
                  <a:pt x="33288" y="18155"/>
                  <a:pt x="30712" y="15596"/>
                  <a:pt x="30712" y="12828"/>
                </a:cubicBez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Управляющая кнопка: далее 7">
            <a:hlinkClick r:id="" action="ppaction://hlinkshowjump?jump=nextslide"/>
          </p:cNvPr>
          <p:cNvSpPr/>
          <p:nvPr/>
        </p:nvSpPr>
        <p:spPr>
          <a:xfrm>
            <a:off x="7000920" y="6715080"/>
            <a:ext cx="571320" cy="142920"/>
          </a:xfrm>
          <a:custGeom>
            <a:avLst/>
            <a:gdLst>
              <a:gd name="textAreaLeft" fmla="*/ 9000 w 571320"/>
              <a:gd name="textAreaRight" fmla="*/ 562320 w 5713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86183" h="21600">
                <a:moveTo>
                  <a:pt x="0" y="0"/>
                </a:moveTo>
                <a:lnTo>
                  <a:pt x="86183" y="0"/>
                </a:lnTo>
                <a:lnTo>
                  <a:pt x="86183" y="21600"/>
                </a:lnTo>
                <a:lnTo>
                  <a:pt x="0" y="21600"/>
                </a:lnTo>
                <a:close/>
              </a:path>
              <a:path fill="lightenLess" w="86183" h="21600">
                <a:moveTo>
                  <a:pt x="0" y="0"/>
                </a:moveTo>
                <a:lnTo>
                  <a:pt x="86183" y="0"/>
                </a:lnTo>
                <a:lnTo>
                  <a:pt x="84783" y="1400"/>
                </a:lnTo>
                <a:lnTo>
                  <a:pt x="1400" y="1400"/>
                </a:lnTo>
                <a:close/>
              </a:path>
              <a:path fill="darken" w="86183" h="21600">
                <a:moveTo>
                  <a:pt x="86183" y="0"/>
                </a:moveTo>
                <a:lnTo>
                  <a:pt x="86183" y="21600"/>
                </a:lnTo>
                <a:lnTo>
                  <a:pt x="84783" y="20200"/>
                </a:lnTo>
                <a:lnTo>
                  <a:pt x="84783" y="1400"/>
                </a:lnTo>
                <a:close/>
              </a:path>
              <a:path fill="darkenLess" w="86183" h="21600">
                <a:moveTo>
                  <a:pt x="86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783" y="20200"/>
                </a:lnTo>
                <a:close/>
              </a:path>
              <a:path fill="lighten" w="86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183" h="21600">
                <a:moveTo>
                  <a:pt x="36085" y="3794"/>
                </a:moveTo>
                <a:lnTo>
                  <a:pt x="50098" y="10800"/>
                </a:lnTo>
                <a:lnTo>
                  <a:pt x="36085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785520"/>
            <a:ext cx="2212920" cy="3857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17b"/>
                </a:solidFill>
                <a:latin typeface="Calibri"/>
              </a:rPr>
              <a:t>Рисунок б: </a:t>
            </a:r>
            <a:r>
              <a:rPr b="1" i="1" lang="en-US" sz="2000" spc="-1" strike="noStrike">
                <a:solidFill>
                  <a:srgbClr val="04617b"/>
                </a:solidFill>
                <a:latin typeface="Calibri"/>
              </a:rPr>
              <a:t>Вариант правильного размещения бытовых электроприборов в помещениях квартиры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t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4" name="Рисунок 4" descr="homegood.jpg"/>
          <p:cNvPicPr/>
          <p:nvPr/>
        </p:nvPicPr>
        <p:blipFill>
          <a:blip r:embed="rId2"/>
          <a:srcRect l="15487" t="0" r="15487" b="0"/>
          <a:stretch/>
        </p:blipFill>
        <p:spPr>
          <a:xfrm rot="420000">
            <a:off x="2730240" y="579240"/>
            <a:ext cx="6099120" cy="519264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  <p:sp>
        <p:nvSpPr>
          <p:cNvPr id="245" name="Управляющая кнопка: возврат 5">
            <a:hlinkClick r:id="" action="ppaction://hlinkshowjump?jump=previousslide"/>
          </p:cNvPr>
          <p:cNvSpPr/>
          <p:nvPr/>
        </p:nvSpPr>
        <p:spPr>
          <a:xfrm>
            <a:off x="6429240" y="6715080"/>
            <a:ext cx="500040" cy="142920"/>
          </a:xfrm>
          <a:custGeom>
            <a:avLst/>
            <a:gdLst>
              <a:gd name="textAreaLeft" fmla="*/ 9000 w 500040"/>
              <a:gd name="textAreaRight" fmla="*/ 491040 w 50004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75437" h="21600">
                <a:moveTo>
                  <a:pt x="0" y="0"/>
                </a:moveTo>
                <a:lnTo>
                  <a:pt x="75437" y="0"/>
                </a:lnTo>
                <a:lnTo>
                  <a:pt x="75437" y="21600"/>
                </a:lnTo>
                <a:lnTo>
                  <a:pt x="0" y="21600"/>
                </a:lnTo>
                <a:close/>
              </a:path>
              <a:path fill="lightenLess" w="75437" h="21600">
                <a:moveTo>
                  <a:pt x="0" y="0"/>
                </a:moveTo>
                <a:lnTo>
                  <a:pt x="75437" y="0"/>
                </a:lnTo>
                <a:lnTo>
                  <a:pt x="74037" y="1400"/>
                </a:lnTo>
                <a:lnTo>
                  <a:pt x="1400" y="1400"/>
                </a:lnTo>
                <a:close/>
              </a:path>
              <a:path fill="darken" w="75437" h="21600">
                <a:moveTo>
                  <a:pt x="75437" y="0"/>
                </a:moveTo>
                <a:lnTo>
                  <a:pt x="75437" y="21600"/>
                </a:lnTo>
                <a:lnTo>
                  <a:pt x="74037" y="20200"/>
                </a:lnTo>
                <a:lnTo>
                  <a:pt x="74037" y="1400"/>
                </a:lnTo>
                <a:close/>
              </a:path>
              <a:path fill="darkenLess" w="75437" h="21600">
                <a:moveTo>
                  <a:pt x="75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037" y="20200"/>
                </a:lnTo>
                <a:close/>
              </a:path>
              <a:path fill="lighten" w="75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437" h="21600">
                <a:moveTo>
                  <a:pt x="30712" y="7493"/>
                </a:moveTo>
                <a:lnTo>
                  <a:pt x="34220" y="7493"/>
                </a:lnTo>
                <a:lnTo>
                  <a:pt x="34220" y="12828"/>
                </a:lnTo>
                <a:cubicBezTo>
                  <a:pt x="34220" y="13751"/>
                  <a:pt x="35020" y="14482"/>
                  <a:pt x="36056" y="14482"/>
                </a:cubicBezTo>
                <a:lnTo>
                  <a:pt x="37719" y="14482"/>
                </a:lnTo>
                <a:cubicBezTo>
                  <a:pt x="38754" y="14482"/>
                  <a:pt x="39555" y="13751"/>
                  <a:pt x="39555" y="12828"/>
                </a:cubicBezTo>
                <a:lnTo>
                  <a:pt x="39555" y="7493"/>
                </a:lnTo>
                <a:lnTo>
                  <a:pt x="37719" y="7493"/>
                </a:lnTo>
                <a:lnTo>
                  <a:pt x="41226" y="3985"/>
                </a:lnTo>
                <a:lnTo>
                  <a:pt x="44899" y="7493"/>
                </a:lnTo>
                <a:lnTo>
                  <a:pt x="43063" y="7493"/>
                </a:lnTo>
                <a:lnTo>
                  <a:pt x="43063" y="12828"/>
                </a:lnTo>
                <a:cubicBezTo>
                  <a:pt x="43063" y="15596"/>
                  <a:pt x="40486" y="18155"/>
                  <a:pt x="37719" y="18155"/>
                </a:cubicBezTo>
                <a:lnTo>
                  <a:pt x="36056" y="18155"/>
                </a:lnTo>
                <a:cubicBezTo>
                  <a:pt x="33288" y="18155"/>
                  <a:pt x="30712" y="15596"/>
                  <a:pt x="30712" y="12828"/>
                </a:cubicBez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Управляющая кнопка: назад 6">
            <a:hlinkClick r:id="" action="ppaction://hlinkshowjump?jump=previousslide"/>
          </p:cNvPr>
          <p:cNvSpPr/>
          <p:nvPr/>
        </p:nvSpPr>
        <p:spPr>
          <a:xfrm flipV="1">
            <a:off x="5857920" y="6714360"/>
            <a:ext cx="500040" cy="142920"/>
          </a:xfrm>
          <a:custGeom>
            <a:avLst/>
            <a:gdLst>
              <a:gd name="textAreaLeft" fmla="*/ 9000 w 500040"/>
              <a:gd name="textAreaRight" fmla="*/ 491040 w 50004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75437" h="21600">
                <a:moveTo>
                  <a:pt x="0" y="0"/>
                </a:moveTo>
                <a:lnTo>
                  <a:pt x="75437" y="0"/>
                </a:lnTo>
                <a:lnTo>
                  <a:pt x="75437" y="21600"/>
                </a:lnTo>
                <a:lnTo>
                  <a:pt x="0" y="21600"/>
                </a:lnTo>
                <a:close/>
              </a:path>
              <a:path fill="lightenLess" w="75437" h="21600">
                <a:moveTo>
                  <a:pt x="0" y="0"/>
                </a:moveTo>
                <a:lnTo>
                  <a:pt x="75437" y="0"/>
                </a:lnTo>
                <a:lnTo>
                  <a:pt x="74037" y="1400"/>
                </a:lnTo>
                <a:lnTo>
                  <a:pt x="1400" y="1400"/>
                </a:lnTo>
                <a:close/>
              </a:path>
              <a:path fill="darken" w="75437" h="21600">
                <a:moveTo>
                  <a:pt x="75437" y="0"/>
                </a:moveTo>
                <a:lnTo>
                  <a:pt x="75437" y="21600"/>
                </a:lnTo>
                <a:lnTo>
                  <a:pt x="74037" y="20200"/>
                </a:lnTo>
                <a:lnTo>
                  <a:pt x="74037" y="1400"/>
                </a:lnTo>
                <a:close/>
              </a:path>
              <a:path fill="darkenLess" w="75437" h="21600">
                <a:moveTo>
                  <a:pt x="75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037" y="20200"/>
                </a:lnTo>
                <a:close/>
              </a:path>
              <a:path fill="lighten" w="75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437" h="21600">
                <a:moveTo>
                  <a:pt x="30712" y="10800"/>
                </a:moveTo>
                <a:lnTo>
                  <a:pt x="44725" y="3794"/>
                </a:lnTo>
                <a:lnTo>
                  <a:pt x="44725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Управляющая кнопка: далее 7">
            <a:hlinkClick r:id="" action="ppaction://hlinkshowjump?jump=nextslide"/>
          </p:cNvPr>
          <p:cNvSpPr/>
          <p:nvPr/>
        </p:nvSpPr>
        <p:spPr>
          <a:xfrm>
            <a:off x="7000920" y="6715080"/>
            <a:ext cx="571320" cy="142920"/>
          </a:xfrm>
          <a:custGeom>
            <a:avLst/>
            <a:gdLst>
              <a:gd name="textAreaLeft" fmla="*/ 9000 w 571320"/>
              <a:gd name="textAreaRight" fmla="*/ 562320 w 5713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86183" h="21600">
                <a:moveTo>
                  <a:pt x="0" y="0"/>
                </a:moveTo>
                <a:lnTo>
                  <a:pt x="86183" y="0"/>
                </a:lnTo>
                <a:lnTo>
                  <a:pt x="86183" y="21600"/>
                </a:lnTo>
                <a:lnTo>
                  <a:pt x="0" y="21600"/>
                </a:lnTo>
                <a:close/>
              </a:path>
              <a:path fill="lightenLess" w="86183" h="21600">
                <a:moveTo>
                  <a:pt x="0" y="0"/>
                </a:moveTo>
                <a:lnTo>
                  <a:pt x="86183" y="0"/>
                </a:lnTo>
                <a:lnTo>
                  <a:pt x="84783" y="1400"/>
                </a:lnTo>
                <a:lnTo>
                  <a:pt x="1400" y="1400"/>
                </a:lnTo>
                <a:close/>
              </a:path>
              <a:path fill="darken" w="86183" h="21600">
                <a:moveTo>
                  <a:pt x="86183" y="0"/>
                </a:moveTo>
                <a:lnTo>
                  <a:pt x="86183" y="21600"/>
                </a:lnTo>
                <a:lnTo>
                  <a:pt x="84783" y="20200"/>
                </a:lnTo>
                <a:lnTo>
                  <a:pt x="84783" y="1400"/>
                </a:lnTo>
                <a:close/>
              </a:path>
              <a:path fill="darkenLess" w="86183" h="21600">
                <a:moveTo>
                  <a:pt x="86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783" y="20200"/>
                </a:lnTo>
                <a:close/>
              </a:path>
              <a:path fill="lighten" w="86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183" h="21600">
                <a:moveTo>
                  <a:pt x="36085" y="3794"/>
                </a:moveTo>
                <a:lnTo>
                  <a:pt x="50098" y="10800"/>
                </a:lnTo>
                <a:lnTo>
                  <a:pt x="36085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Заголовок 1" descr=""/>
          <p:cNvPicPr/>
          <p:nvPr/>
        </p:nvPicPr>
        <p:blipFill>
          <a:blip r:embed="rId2"/>
          <a:stretch/>
        </p:blipFill>
        <p:spPr>
          <a:xfrm>
            <a:off x="55440" y="-231840"/>
            <a:ext cx="8253360" cy="201132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530280" y="1571760"/>
            <a:ext cx="7772400" cy="5286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98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Микроволновая печь (или СВЧ-печь) в своей работе использует для разогрева пищи электромагнитное поле, называемое также микроволновым излучением или СВЧ-излучением. Рабочая частота СВЧ-излучения микроволновых печей составляет 2,45 ГГц. Именно этого излучения и боятся многие люди. Однако, современные микроволновые печи оборудованы достаточно совершенной защитой, которая не дает электромагнитному полю вырываться за пределы рабочего объема. Вместе с тем, нельзя говорить что поле совершенно не проникает вне микроволновой печи. По разным причинам часть электромагнитного поля предназначенного для курицы проникает наружу, особенно интенсивно, как правило, в районе правого нижнего угла дверцы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Управляющая кнопка: назад 3">
            <a:hlinkClick r:id="" action="ppaction://hlinkshowjump?jump=previousslide"/>
          </p:cNvPr>
          <p:cNvSpPr/>
          <p:nvPr/>
        </p:nvSpPr>
        <p:spPr>
          <a:xfrm flipV="1">
            <a:off x="5857920" y="6714360"/>
            <a:ext cx="500040" cy="142920"/>
          </a:xfrm>
          <a:custGeom>
            <a:avLst/>
            <a:gdLst>
              <a:gd name="textAreaLeft" fmla="*/ 9000 w 500040"/>
              <a:gd name="textAreaRight" fmla="*/ 491040 w 50004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75437" h="21600">
                <a:moveTo>
                  <a:pt x="0" y="0"/>
                </a:moveTo>
                <a:lnTo>
                  <a:pt x="75437" y="0"/>
                </a:lnTo>
                <a:lnTo>
                  <a:pt x="75437" y="21600"/>
                </a:lnTo>
                <a:lnTo>
                  <a:pt x="0" y="21600"/>
                </a:lnTo>
                <a:close/>
              </a:path>
              <a:path fill="lightenLess" w="75437" h="21600">
                <a:moveTo>
                  <a:pt x="0" y="0"/>
                </a:moveTo>
                <a:lnTo>
                  <a:pt x="75437" y="0"/>
                </a:lnTo>
                <a:lnTo>
                  <a:pt x="74037" y="1400"/>
                </a:lnTo>
                <a:lnTo>
                  <a:pt x="1400" y="1400"/>
                </a:lnTo>
                <a:close/>
              </a:path>
              <a:path fill="darken" w="75437" h="21600">
                <a:moveTo>
                  <a:pt x="75437" y="0"/>
                </a:moveTo>
                <a:lnTo>
                  <a:pt x="75437" y="21600"/>
                </a:lnTo>
                <a:lnTo>
                  <a:pt x="74037" y="20200"/>
                </a:lnTo>
                <a:lnTo>
                  <a:pt x="74037" y="1400"/>
                </a:lnTo>
                <a:close/>
              </a:path>
              <a:path fill="darkenLess" w="75437" h="21600">
                <a:moveTo>
                  <a:pt x="75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037" y="20200"/>
                </a:lnTo>
                <a:close/>
              </a:path>
              <a:path fill="lighten" w="75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437" h="21600">
                <a:moveTo>
                  <a:pt x="30712" y="10800"/>
                </a:moveTo>
                <a:lnTo>
                  <a:pt x="44725" y="3794"/>
                </a:lnTo>
                <a:lnTo>
                  <a:pt x="44725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Управляющая кнопка: возврат 4">
            <a:hlinkClick r:id="" action="ppaction://hlinkshowjump?jump=previousslide"/>
          </p:cNvPr>
          <p:cNvSpPr/>
          <p:nvPr/>
        </p:nvSpPr>
        <p:spPr>
          <a:xfrm>
            <a:off x="6429240" y="6715080"/>
            <a:ext cx="500040" cy="142920"/>
          </a:xfrm>
          <a:custGeom>
            <a:avLst/>
            <a:gdLst>
              <a:gd name="textAreaLeft" fmla="*/ 9000 w 500040"/>
              <a:gd name="textAreaRight" fmla="*/ 491040 w 50004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75437" h="21600">
                <a:moveTo>
                  <a:pt x="0" y="0"/>
                </a:moveTo>
                <a:lnTo>
                  <a:pt x="75437" y="0"/>
                </a:lnTo>
                <a:lnTo>
                  <a:pt x="75437" y="21600"/>
                </a:lnTo>
                <a:lnTo>
                  <a:pt x="0" y="21600"/>
                </a:lnTo>
                <a:close/>
              </a:path>
              <a:path fill="lightenLess" w="75437" h="21600">
                <a:moveTo>
                  <a:pt x="0" y="0"/>
                </a:moveTo>
                <a:lnTo>
                  <a:pt x="75437" y="0"/>
                </a:lnTo>
                <a:lnTo>
                  <a:pt x="74037" y="1400"/>
                </a:lnTo>
                <a:lnTo>
                  <a:pt x="1400" y="1400"/>
                </a:lnTo>
                <a:close/>
              </a:path>
              <a:path fill="darken" w="75437" h="21600">
                <a:moveTo>
                  <a:pt x="75437" y="0"/>
                </a:moveTo>
                <a:lnTo>
                  <a:pt x="75437" y="21600"/>
                </a:lnTo>
                <a:lnTo>
                  <a:pt x="74037" y="20200"/>
                </a:lnTo>
                <a:lnTo>
                  <a:pt x="74037" y="1400"/>
                </a:lnTo>
                <a:close/>
              </a:path>
              <a:path fill="darkenLess" w="75437" h="21600">
                <a:moveTo>
                  <a:pt x="75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037" y="20200"/>
                </a:lnTo>
                <a:close/>
              </a:path>
              <a:path fill="lighten" w="75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437" h="21600">
                <a:moveTo>
                  <a:pt x="30712" y="7493"/>
                </a:moveTo>
                <a:lnTo>
                  <a:pt x="34220" y="7493"/>
                </a:lnTo>
                <a:lnTo>
                  <a:pt x="34220" y="12828"/>
                </a:lnTo>
                <a:cubicBezTo>
                  <a:pt x="34220" y="13751"/>
                  <a:pt x="35020" y="14482"/>
                  <a:pt x="36056" y="14482"/>
                </a:cubicBezTo>
                <a:lnTo>
                  <a:pt x="37719" y="14482"/>
                </a:lnTo>
                <a:cubicBezTo>
                  <a:pt x="38754" y="14482"/>
                  <a:pt x="39555" y="13751"/>
                  <a:pt x="39555" y="12828"/>
                </a:cubicBezTo>
                <a:lnTo>
                  <a:pt x="39555" y="7493"/>
                </a:lnTo>
                <a:lnTo>
                  <a:pt x="37719" y="7493"/>
                </a:lnTo>
                <a:lnTo>
                  <a:pt x="41226" y="3985"/>
                </a:lnTo>
                <a:lnTo>
                  <a:pt x="44899" y="7493"/>
                </a:lnTo>
                <a:lnTo>
                  <a:pt x="43063" y="7493"/>
                </a:lnTo>
                <a:lnTo>
                  <a:pt x="43063" y="12828"/>
                </a:lnTo>
                <a:cubicBezTo>
                  <a:pt x="43063" y="15596"/>
                  <a:pt x="40486" y="18155"/>
                  <a:pt x="37719" y="18155"/>
                </a:cubicBezTo>
                <a:lnTo>
                  <a:pt x="36056" y="18155"/>
                </a:lnTo>
                <a:cubicBezTo>
                  <a:pt x="33288" y="18155"/>
                  <a:pt x="30712" y="15596"/>
                  <a:pt x="30712" y="12828"/>
                </a:cubicBez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7000920" y="6715080"/>
            <a:ext cx="571320" cy="142920"/>
          </a:xfrm>
          <a:custGeom>
            <a:avLst/>
            <a:gdLst>
              <a:gd name="textAreaLeft" fmla="*/ 9000 w 571320"/>
              <a:gd name="textAreaRight" fmla="*/ 562320 w 5713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86183" h="21600">
                <a:moveTo>
                  <a:pt x="0" y="0"/>
                </a:moveTo>
                <a:lnTo>
                  <a:pt x="86183" y="0"/>
                </a:lnTo>
                <a:lnTo>
                  <a:pt x="86183" y="21600"/>
                </a:lnTo>
                <a:lnTo>
                  <a:pt x="0" y="21600"/>
                </a:lnTo>
                <a:close/>
              </a:path>
              <a:path fill="lightenLess" w="86183" h="21600">
                <a:moveTo>
                  <a:pt x="0" y="0"/>
                </a:moveTo>
                <a:lnTo>
                  <a:pt x="86183" y="0"/>
                </a:lnTo>
                <a:lnTo>
                  <a:pt x="84783" y="1400"/>
                </a:lnTo>
                <a:lnTo>
                  <a:pt x="1400" y="1400"/>
                </a:lnTo>
                <a:close/>
              </a:path>
              <a:path fill="darken" w="86183" h="21600">
                <a:moveTo>
                  <a:pt x="86183" y="0"/>
                </a:moveTo>
                <a:lnTo>
                  <a:pt x="86183" y="21600"/>
                </a:lnTo>
                <a:lnTo>
                  <a:pt x="84783" y="20200"/>
                </a:lnTo>
                <a:lnTo>
                  <a:pt x="84783" y="1400"/>
                </a:lnTo>
                <a:close/>
              </a:path>
              <a:path fill="darkenLess" w="86183" h="21600">
                <a:moveTo>
                  <a:pt x="86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783" y="20200"/>
                </a:lnTo>
                <a:close/>
              </a:path>
              <a:path fill="lighten" w="86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183" h="21600">
                <a:moveTo>
                  <a:pt x="36085" y="3794"/>
                </a:moveTo>
                <a:lnTo>
                  <a:pt x="50098" y="10800"/>
                </a:lnTo>
                <a:lnTo>
                  <a:pt x="36085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Заголовок 1" descr=""/>
          <p:cNvPicPr/>
          <p:nvPr/>
        </p:nvPicPr>
        <p:blipFill>
          <a:blip r:embed="rId2"/>
          <a:stretch/>
        </p:blipFill>
        <p:spPr>
          <a:xfrm>
            <a:off x="274680" y="-6480"/>
            <a:ext cx="8034120" cy="7016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530280" y="714240"/>
            <a:ext cx="7772400" cy="5857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Для обеспечения безопасности при использовании печей в быту в России действуют санитарные нормы, ограничивающие предельную величину утечки СВЧ-излучения микроволновой печи. Называются они "Предельно допустимые уровни плотности потока энергии, создаваемой микроволновыми печами" и имеют обозначение СН № 2666-83. Согласно этим санитарным нормам, величина плотности потока энергии электромагнитного поля не должна превышать 10 мкВт/см</a:t>
            </a:r>
            <a:r>
              <a:rPr b="0" lang="ru-RU" sz="1400" spc="-1" strike="noStrike" baseline="30000">
                <a:solidFill>
                  <a:srgbClr val="ffffff"/>
                </a:solidFill>
                <a:latin typeface="Constantia"/>
              </a:rPr>
              <a:t>2</a:t>
            </a: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 на расстоянии 50 см от любой точки корпуса печи при нагреве 1 литра воды. На практике практически все новые современные микроволновые печи выдерживают это требование с большим запасом. Тем не менее, при покупке новой печи надо убедиться, что в сертификате соответствия зафиксировано соответствие вашей печи требованиям этих санитарных норм.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Надо помнить, что со временем степень защиты может снижаться, в основном из-за появления микрощелей в уплотнении дверцы. Это может происходить как из-за попадания грязи, так и из-за механических повреждений. Поэтому дверца и ее уплотнение требует аккуратности в обращении и тщательного ухода. Срок гарантированной стойкости защиты от утечек электромагнитного поля при нормальной эксплуатации - несколько лет. Через 5-6 лет эксплуатации целесообразно проверить качество защиты для чего пригласить специалиста из специально аккредитованной лаборатории по контролю электромагнитного поля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Кроме СВЧ-излучения работу микроволновой печи сопровождает интенсивное магнитное поле, создаваемое током промышленной частоты 50 Гц протекающим в системе электропитания печи. При этом микроволновая печь является одним из наиболее мощных источников магнитного поля в квартире. Для населения уровень магнитного поля промышленной частоты в нашей стране до сих пор не ограничен несмотря на его существенное действие на организм человека при продолжительном облучении. В бытовых условиях однократное кратковременнное включение ( на несколько минут ) не окажет существенного влияния на здоровье человека. Однако, сейчас часто бытовая микроволновая печь используется для разогрева пищи в кафе и в сходных других производственных условиях. При этом работающий с ней человек попадает в ситуацию хронического облучения магнитным полем промышленной частоты. В таком случае на рабочем месте необходим обязательный контроль магнитного поля промышленной частоты и СВЧ-излучения.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5" name="Управляющая кнопка: назад 3">
            <a:hlinkClick r:id="" action="ppaction://hlinkshowjump?jump=previousslide"/>
          </p:cNvPr>
          <p:cNvSpPr/>
          <p:nvPr/>
        </p:nvSpPr>
        <p:spPr>
          <a:xfrm flipV="1">
            <a:off x="5857920" y="6714360"/>
            <a:ext cx="500040" cy="142920"/>
          </a:xfrm>
          <a:custGeom>
            <a:avLst/>
            <a:gdLst>
              <a:gd name="textAreaLeft" fmla="*/ 9000 w 500040"/>
              <a:gd name="textAreaRight" fmla="*/ 491040 w 50004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75437" h="21600">
                <a:moveTo>
                  <a:pt x="0" y="0"/>
                </a:moveTo>
                <a:lnTo>
                  <a:pt x="75437" y="0"/>
                </a:lnTo>
                <a:lnTo>
                  <a:pt x="75437" y="21600"/>
                </a:lnTo>
                <a:lnTo>
                  <a:pt x="0" y="21600"/>
                </a:lnTo>
                <a:close/>
              </a:path>
              <a:path fill="lightenLess" w="75437" h="21600">
                <a:moveTo>
                  <a:pt x="0" y="0"/>
                </a:moveTo>
                <a:lnTo>
                  <a:pt x="75437" y="0"/>
                </a:lnTo>
                <a:lnTo>
                  <a:pt x="74037" y="1400"/>
                </a:lnTo>
                <a:lnTo>
                  <a:pt x="1400" y="1400"/>
                </a:lnTo>
                <a:close/>
              </a:path>
              <a:path fill="darken" w="75437" h="21600">
                <a:moveTo>
                  <a:pt x="75437" y="0"/>
                </a:moveTo>
                <a:lnTo>
                  <a:pt x="75437" y="21600"/>
                </a:lnTo>
                <a:lnTo>
                  <a:pt x="74037" y="20200"/>
                </a:lnTo>
                <a:lnTo>
                  <a:pt x="74037" y="1400"/>
                </a:lnTo>
                <a:close/>
              </a:path>
              <a:path fill="darkenLess" w="75437" h="21600">
                <a:moveTo>
                  <a:pt x="75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037" y="20200"/>
                </a:lnTo>
                <a:close/>
              </a:path>
              <a:path fill="lighten" w="75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437" h="21600">
                <a:moveTo>
                  <a:pt x="30712" y="10800"/>
                </a:moveTo>
                <a:lnTo>
                  <a:pt x="44725" y="3794"/>
                </a:lnTo>
                <a:lnTo>
                  <a:pt x="44725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Управляющая кнопка: возврат 4">
            <a:hlinkClick r:id="" action="ppaction://hlinkshowjump?jump=previousslide"/>
          </p:cNvPr>
          <p:cNvSpPr/>
          <p:nvPr/>
        </p:nvSpPr>
        <p:spPr>
          <a:xfrm>
            <a:off x="6429240" y="6715080"/>
            <a:ext cx="500040" cy="142920"/>
          </a:xfrm>
          <a:custGeom>
            <a:avLst/>
            <a:gdLst>
              <a:gd name="textAreaLeft" fmla="*/ 9000 w 500040"/>
              <a:gd name="textAreaRight" fmla="*/ 491040 w 50004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75437" h="21600">
                <a:moveTo>
                  <a:pt x="0" y="0"/>
                </a:moveTo>
                <a:lnTo>
                  <a:pt x="75437" y="0"/>
                </a:lnTo>
                <a:lnTo>
                  <a:pt x="75437" y="21600"/>
                </a:lnTo>
                <a:lnTo>
                  <a:pt x="0" y="21600"/>
                </a:lnTo>
                <a:close/>
              </a:path>
              <a:path fill="lightenLess" w="75437" h="21600">
                <a:moveTo>
                  <a:pt x="0" y="0"/>
                </a:moveTo>
                <a:lnTo>
                  <a:pt x="75437" y="0"/>
                </a:lnTo>
                <a:lnTo>
                  <a:pt x="74037" y="1400"/>
                </a:lnTo>
                <a:lnTo>
                  <a:pt x="1400" y="1400"/>
                </a:lnTo>
                <a:close/>
              </a:path>
              <a:path fill="darken" w="75437" h="21600">
                <a:moveTo>
                  <a:pt x="75437" y="0"/>
                </a:moveTo>
                <a:lnTo>
                  <a:pt x="75437" y="21600"/>
                </a:lnTo>
                <a:lnTo>
                  <a:pt x="74037" y="20200"/>
                </a:lnTo>
                <a:lnTo>
                  <a:pt x="74037" y="1400"/>
                </a:lnTo>
                <a:close/>
              </a:path>
              <a:path fill="darkenLess" w="75437" h="21600">
                <a:moveTo>
                  <a:pt x="75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037" y="20200"/>
                </a:lnTo>
                <a:close/>
              </a:path>
              <a:path fill="lighten" w="75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437" h="21600">
                <a:moveTo>
                  <a:pt x="30712" y="7493"/>
                </a:moveTo>
                <a:lnTo>
                  <a:pt x="34220" y="7493"/>
                </a:lnTo>
                <a:lnTo>
                  <a:pt x="34220" y="12828"/>
                </a:lnTo>
                <a:cubicBezTo>
                  <a:pt x="34220" y="13751"/>
                  <a:pt x="35020" y="14482"/>
                  <a:pt x="36056" y="14482"/>
                </a:cubicBezTo>
                <a:lnTo>
                  <a:pt x="37719" y="14482"/>
                </a:lnTo>
                <a:cubicBezTo>
                  <a:pt x="38754" y="14482"/>
                  <a:pt x="39555" y="13751"/>
                  <a:pt x="39555" y="12828"/>
                </a:cubicBezTo>
                <a:lnTo>
                  <a:pt x="39555" y="7493"/>
                </a:lnTo>
                <a:lnTo>
                  <a:pt x="37719" y="7493"/>
                </a:lnTo>
                <a:lnTo>
                  <a:pt x="41226" y="3985"/>
                </a:lnTo>
                <a:lnTo>
                  <a:pt x="44899" y="7493"/>
                </a:lnTo>
                <a:lnTo>
                  <a:pt x="43063" y="7493"/>
                </a:lnTo>
                <a:lnTo>
                  <a:pt x="43063" y="12828"/>
                </a:lnTo>
                <a:cubicBezTo>
                  <a:pt x="43063" y="15596"/>
                  <a:pt x="40486" y="18155"/>
                  <a:pt x="37719" y="18155"/>
                </a:cubicBezTo>
                <a:lnTo>
                  <a:pt x="36056" y="18155"/>
                </a:lnTo>
                <a:cubicBezTo>
                  <a:pt x="33288" y="18155"/>
                  <a:pt x="30712" y="15596"/>
                  <a:pt x="30712" y="12828"/>
                </a:cubicBez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7000920" y="6715080"/>
            <a:ext cx="571320" cy="142920"/>
          </a:xfrm>
          <a:custGeom>
            <a:avLst/>
            <a:gdLst>
              <a:gd name="textAreaLeft" fmla="*/ 9000 w 571320"/>
              <a:gd name="textAreaRight" fmla="*/ 562320 w 5713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86183" h="21600">
                <a:moveTo>
                  <a:pt x="0" y="0"/>
                </a:moveTo>
                <a:lnTo>
                  <a:pt x="86183" y="0"/>
                </a:lnTo>
                <a:lnTo>
                  <a:pt x="86183" y="21600"/>
                </a:lnTo>
                <a:lnTo>
                  <a:pt x="0" y="21600"/>
                </a:lnTo>
                <a:close/>
              </a:path>
              <a:path fill="lightenLess" w="86183" h="21600">
                <a:moveTo>
                  <a:pt x="0" y="0"/>
                </a:moveTo>
                <a:lnTo>
                  <a:pt x="86183" y="0"/>
                </a:lnTo>
                <a:lnTo>
                  <a:pt x="84783" y="1400"/>
                </a:lnTo>
                <a:lnTo>
                  <a:pt x="1400" y="1400"/>
                </a:lnTo>
                <a:close/>
              </a:path>
              <a:path fill="darken" w="86183" h="21600">
                <a:moveTo>
                  <a:pt x="86183" y="0"/>
                </a:moveTo>
                <a:lnTo>
                  <a:pt x="86183" y="21600"/>
                </a:lnTo>
                <a:lnTo>
                  <a:pt x="84783" y="20200"/>
                </a:lnTo>
                <a:lnTo>
                  <a:pt x="84783" y="1400"/>
                </a:lnTo>
                <a:close/>
              </a:path>
              <a:path fill="darkenLess" w="86183" h="21600">
                <a:moveTo>
                  <a:pt x="86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783" y="20200"/>
                </a:lnTo>
                <a:close/>
              </a:path>
              <a:path fill="lighten" w="86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183" h="21600">
                <a:moveTo>
                  <a:pt x="36085" y="3794"/>
                </a:moveTo>
                <a:lnTo>
                  <a:pt x="50098" y="10800"/>
                </a:lnTo>
                <a:lnTo>
                  <a:pt x="36085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Заголовок 1" descr=""/>
          <p:cNvPicPr/>
          <p:nvPr/>
        </p:nvPicPr>
        <p:blipFill>
          <a:blip r:embed="rId2"/>
          <a:stretch/>
        </p:blipFill>
        <p:spPr>
          <a:xfrm>
            <a:off x="55440" y="-231840"/>
            <a:ext cx="8253360" cy="115884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530280" y="85680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Проверяйте при покупке в Гигиеническом заключении ( или соответствующем сертификате) запись о соответствии микроволновой печи санитарным нормам СН № 2666-83 "</a:t>
            </a:r>
            <a:r>
              <a:rPr b="0" i="1" lang="en-US" sz="2200" spc="-1" strike="noStrike">
                <a:solidFill>
                  <a:srgbClr val="ffffff"/>
                </a:solidFill>
                <a:latin typeface="Constantia"/>
              </a:rPr>
              <a:t>Предельно допустимые уровни плотности потока энергии, создаваемой микроволновыми печами"</a:t>
            </a: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Учитывая специфику микроволновой печи, целесообразно включив ее отойти на расстояние не менее 1,5 метра - в этом случае гарантированно электромагнитное поле вас не затронет вообще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При покупке микроволновой печи при прочих равных заявленных условиях надо выбирать печь с меньшим энергопотреблением - она создает меньший уровень магнитного поля промышленной частоты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0" name="Управляющая кнопка: назад 3">
            <a:hlinkClick r:id="" action="ppaction://hlinkshowjump?jump=previousslide"/>
          </p:cNvPr>
          <p:cNvSpPr/>
          <p:nvPr/>
        </p:nvSpPr>
        <p:spPr>
          <a:xfrm flipV="1">
            <a:off x="5857920" y="6714360"/>
            <a:ext cx="500040" cy="142920"/>
          </a:xfrm>
          <a:custGeom>
            <a:avLst/>
            <a:gdLst>
              <a:gd name="textAreaLeft" fmla="*/ 9000 w 500040"/>
              <a:gd name="textAreaRight" fmla="*/ 491040 w 50004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75437" h="21600">
                <a:moveTo>
                  <a:pt x="0" y="0"/>
                </a:moveTo>
                <a:lnTo>
                  <a:pt x="75437" y="0"/>
                </a:lnTo>
                <a:lnTo>
                  <a:pt x="75437" y="21600"/>
                </a:lnTo>
                <a:lnTo>
                  <a:pt x="0" y="21600"/>
                </a:lnTo>
                <a:close/>
              </a:path>
              <a:path fill="lightenLess" w="75437" h="21600">
                <a:moveTo>
                  <a:pt x="0" y="0"/>
                </a:moveTo>
                <a:lnTo>
                  <a:pt x="75437" y="0"/>
                </a:lnTo>
                <a:lnTo>
                  <a:pt x="74037" y="1400"/>
                </a:lnTo>
                <a:lnTo>
                  <a:pt x="1400" y="1400"/>
                </a:lnTo>
                <a:close/>
              </a:path>
              <a:path fill="darken" w="75437" h="21600">
                <a:moveTo>
                  <a:pt x="75437" y="0"/>
                </a:moveTo>
                <a:lnTo>
                  <a:pt x="75437" y="21600"/>
                </a:lnTo>
                <a:lnTo>
                  <a:pt x="74037" y="20200"/>
                </a:lnTo>
                <a:lnTo>
                  <a:pt x="74037" y="1400"/>
                </a:lnTo>
                <a:close/>
              </a:path>
              <a:path fill="darkenLess" w="75437" h="21600">
                <a:moveTo>
                  <a:pt x="75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037" y="20200"/>
                </a:lnTo>
                <a:close/>
              </a:path>
              <a:path fill="lighten" w="75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437" h="21600">
                <a:moveTo>
                  <a:pt x="30712" y="10800"/>
                </a:moveTo>
                <a:lnTo>
                  <a:pt x="44725" y="3794"/>
                </a:lnTo>
                <a:lnTo>
                  <a:pt x="44725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Управляющая кнопка: возврат 4">
            <a:hlinkClick r:id="" action="ppaction://hlinkshowjump?jump=previousslide"/>
          </p:cNvPr>
          <p:cNvSpPr/>
          <p:nvPr/>
        </p:nvSpPr>
        <p:spPr>
          <a:xfrm>
            <a:off x="6429240" y="6715080"/>
            <a:ext cx="500040" cy="142920"/>
          </a:xfrm>
          <a:custGeom>
            <a:avLst/>
            <a:gdLst>
              <a:gd name="textAreaLeft" fmla="*/ 9000 w 500040"/>
              <a:gd name="textAreaRight" fmla="*/ 491040 w 50004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75437" h="21600">
                <a:moveTo>
                  <a:pt x="0" y="0"/>
                </a:moveTo>
                <a:lnTo>
                  <a:pt x="75437" y="0"/>
                </a:lnTo>
                <a:lnTo>
                  <a:pt x="75437" y="21600"/>
                </a:lnTo>
                <a:lnTo>
                  <a:pt x="0" y="21600"/>
                </a:lnTo>
                <a:close/>
              </a:path>
              <a:path fill="lightenLess" w="75437" h="21600">
                <a:moveTo>
                  <a:pt x="0" y="0"/>
                </a:moveTo>
                <a:lnTo>
                  <a:pt x="75437" y="0"/>
                </a:lnTo>
                <a:lnTo>
                  <a:pt x="74037" y="1400"/>
                </a:lnTo>
                <a:lnTo>
                  <a:pt x="1400" y="1400"/>
                </a:lnTo>
                <a:close/>
              </a:path>
              <a:path fill="darken" w="75437" h="21600">
                <a:moveTo>
                  <a:pt x="75437" y="0"/>
                </a:moveTo>
                <a:lnTo>
                  <a:pt x="75437" y="21600"/>
                </a:lnTo>
                <a:lnTo>
                  <a:pt x="74037" y="20200"/>
                </a:lnTo>
                <a:lnTo>
                  <a:pt x="74037" y="1400"/>
                </a:lnTo>
                <a:close/>
              </a:path>
              <a:path fill="darkenLess" w="75437" h="21600">
                <a:moveTo>
                  <a:pt x="75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037" y="20200"/>
                </a:lnTo>
                <a:close/>
              </a:path>
              <a:path fill="lighten" w="75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437" h="21600">
                <a:moveTo>
                  <a:pt x="30712" y="7493"/>
                </a:moveTo>
                <a:lnTo>
                  <a:pt x="34220" y="7493"/>
                </a:lnTo>
                <a:lnTo>
                  <a:pt x="34220" y="12828"/>
                </a:lnTo>
                <a:cubicBezTo>
                  <a:pt x="34220" y="13751"/>
                  <a:pt x="35020" y="14482"/>
                  <a:pt x="36056" y="14482"/>
                </a:cubicBezTo>
                <a:lnTo>
                  <a:pt x="37719" y="14482"/>
                </a:lnTo>
                <a:cubicBezTo>
                  <a:pt x="38754" y="14482"/>
                  <a:pt x="39555" y="13751"/>
                  <a:pt x="39555" y="12828"/>
                </a:cubicBezTo>
                <a:lnTo>
                  <a:pt x="39555" y="7493"/>
                </a:lnTo>
                <a:lnTo>
                  <a:pt x="37719" y="7493"/>
                </a:lnTo>
                <a:lnTo>
                  <a:pt x="41226" y="3985"/>
                </a:lnTo>
                <a:lnTo>
                  <a:pt x="44899" y="7493"/>
                </a:lnTo>
                <a:lnTo>
                  <a:pt x="43063" y="7493"/>
                </a:lnTo>
                <a:lnTo>
                  <a:pt x="43063" y="12828"/>
                </a:lnTo>
                <a:cubicBezTo>
                  <a:pt x="43063" y="15596"/>
                  <a:pt x="40486" y="18155"/>
                  <a:pt x="37719" y="18155"/>
                </a:cubicBezTo>
                <a:lnTo>
                  <a:pt x="36056" y="18155"/>
                </a:lnTo>
                <a:cubicBezTo>
                  <a:pt x="33288" y="18155"/>
                  <a:pt x="30712" y="15596"/>
                  <a:pt x="30712" y="12828"/>
                </a:cubicBez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7000920" y="6715080"/>
            <a:ext cx="571320" cy="142920"/>
          </a:xfrm>
          <a:custGeom>
            <a:avLst/>
            <a:gdLst>
              <a:gd name="textAreaLeft" fmla="*/ 9000 w 571320"/>
              <a:gd name="textAreaRight" fmla="*/ 562320 w 5713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86183" h="21600">
                <a:moveTo>
                  <a:pt x="0" y="0"/>
                </a:moveTo>
                <a:lnTo>
                  <a:pt x="86183" y="0"/>
                </a:lnTo>
                <a:lnTo>
                  <a:pt x="86183" y="21600"/>
                </a:lnTo>
                <a:lnTo>
                  <a:pt x="0" y="21600"/>
                </a:lnTo>
                <a:close/>
              </a:path>
              <a:path fill="lightenLess" w="86183" h="21600">
                <a:moveTo>
                  <a:pt x="0" y="0"/>
                </a:moveTo>
                <a:lnTo>
                  <a:pt x="86183" y="0"/>
                </a:lnTo>
                <a:lnTo>
                  <a:pt x="84783" y="1400"/>
                </a:lnTo>
                <a:lnTo>
                  <a:pt x="1400" y="1400"/>
                </a:lnTo>
                <a:close/>
              </a:path>
              <a:path fill="darken" w="86183" h="21600">
                <a:moveTo>
                  <a:pt x="86183" y="0"/>
                </a:moveTo>
                <a:lnTo>
                  <a:pt x="86183" y="21600"/>
                </a:lnTo>
                <a:lnTo>
                  <a:pt x="84783" y="20200"/>
                </a:lnTo>
                <a:lnTo>
                  <a:pt x="84783" y="1400"/>
                </a:lnTo>
                <a:close/>
              </a:path>
              <a:path fill="darkenLess" w="86183" h="21600">
                <a:moveTo>
                  <a:pt x="86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783" y="20200"/>
                </a:lnTo>
                <a:close/>
              </a:path>
              <a:path fill="lighten" w="86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183" h="21600">
                <a:moveTo>
                  <a:pt x="36085" y="3794"/>
                </a:moveTo>
                <a:lnTo>
                  <a:pt x="50098" y="10800"/>
                </a:lnTo>
                <a:lnTo>
                  <a:pt x="36085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Заголовок 1" descr=""/>
          <p:cNvPicPr/>
          <p:nvPr/>
        </p:nvPicPr>
        <p:blipFill>
          <a:blip r:embed="rId2"/>
          <a:stretch/>
        </p:blipFill>
        <p:spPr>
          <a:xfrm>
            <a:off x="109440" y="298440"/>
            <a:ext cx="8663040" cy="15541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C:\Documents and Settings\Администратор\Мои документы\Bluetooth\inbox\Фото023.jpg"/>
          <p:cNvPicPr/>
          <p:nvPr/>
        </p:nvPicPr>
        <p:blipFill>
          <a:blip r:embed="rId3"/>
          <a:stretch/>
        </p:blipFill>
        <p:spPr>
          <a:xfrm>
            <a:off x="0" y="1857240"/>
            <a:ext cx="5429160" cy="42148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C:\Documents and Settings\Администратор\Мои документы\Bluetooth\inbox\Фото024.jpg"/>
          <p:cNvPicPr/>
          <p:nvPr/>
        </p:nvPicPr>
        <p:blipFill>
          <a:blip r:embed="rId4"/>
          <a:stretch/>
        </p:blipFill>
        <p:spPr>
          <a:xfrm>
            <a:off x="5340240" y="1214280"/>
            <a:ext cx="3803760" cy="5072400"/>
          </a:xfrm>
          <a:prstGeom prst="rect">
            <a:avLst/>
          </a:prstGeom>
          <a:ln w="0">
            <a:noFill/>
          </a:ln>
        </p:spPr>
      </p:pic>
      <p:sp>
        <p:nvSpPr>
          <p:cNvPr id="266" name="Управляющая кнопка: назад 4">
            <a:hlinkClick r:id="" action="ppaction://hlinkshowjump?jump=previousslide"/>
          </p:cNvPr>
          <p:cNvSpPr/>
          <p:nvPr/>
        </p:nvSpPr>
        <p:spPr>
          <a:xfrm flipV="1">
            <a:off x="5857920" y="6714360"/>
            <a:ext cx="500040" cy="142920"/>
          </a:xfrm>
          <a:custGeom>
            <a:avLst/>
            <a:gdLst>
              <a:gd name="textAreaLeft" fmla="*/ 9000 w 500040"/>
              <a:gd name="textAreaRight" fmla="*/ 491040 w 50004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75437" h="21600">
                <a:moveTo>
                  <a:pt x="0" y="0"/>
                </a:moveTo>
                <a:lnTo>
                  <a:pt x="75437" y="0"/>
                </a:lnTo>
                <a:lnTo>
                  <a:pt x="75437" y="21600"/>
                </a:lnTo>
                <a:lnTo>
                  <a:pt x="0" y="21600"/>
                </a:lnTo>
                <a:close/>
              </a:path>
              <a:path fill="lightenLess" w="75437" h="21600">
                <a:moveTo>
                  <a:pt x="0" y="0"/>
                </a:moveTo>
                <a:lnTo>
                  <a:pt x="75437" y="0"/>
                </a:lnTo>
                <a:lnTo>
                  <a:pt x="74037" y="1400"/>
                </a:lnTo>
                <a:lnTo>
                  <a:pt x="1400" y="1400"/>
                </a:lnTo>
                <a:close/>
              </a:path>
              <a:path fill="darken" w="75437" h="21600">
                <a:moveTo>
                  <a:pt x="75437" y="0"/>
                </a:moveTo>
                <a:lnTo>
                  <a:pt x="75437" y="21600"/>
                </a:lnTo>
                <a:lnTo>
                  <a:pt x="74037" y="20200"/>
                </a:lnTo>
                <a:lnTo>
                  <a:pt x="74037" y="1400"/>
                </a:lnTo>
                <a:close/>
              </a:path>
              <a:path fill="darkenLess" w="75437" h="21600">
                <a:moveTo>
                  <a:pt x="75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037" y="20200"/>
                </a:lnTo>
                <a:close/>
              </a:path>
              <a:path fill="lighten" w="75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437" h="21600">
                <a:moveTo>
                  <a:pt x="30712" y="10800"/>
                </a:moveTo>
                <a:lnTo>
                  <a:pt x="44725" y="3794"/>
                </a:lnTo>
                <a:lnTo>
                  <a:pt x="44725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Управляющая кнопка: возврат 5">
            <a:hlinkClick r:id="" action="ppaction://hlinkshowjump?jump=previousslide"/>
          </p:cNvPr>
          <p:cNvSpPr/>
          <p:nvPr/>
        </p:nvSpPr>
        <p:spPr>
          <a:xfrm>
            <a:off x="6429240" y="6715080"/>
            <a:ext cx="500040" cy="142920"/>
          </a:xfrm>
          <a:custGeom>
            <a:avLst/>
            <a:gdLst>
              <a:gd name="textAreaLeft" fmla="*/ 9000 w 500040"/>
              <a:gd name="textAreaRight" fmla="*/ 491040 w 50004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75437" h="21600">
                <a:moveTo>
                  <a:pt x="0" y="0"/>
                </a:moveTo>
                <a:lnTo>
                  <a:pt x="75437" y="0"/>
                </a:lnTo>
                <a:lnTo>
                  <a:pt x="75437" y="21600"/>
                </a:lnTo>
                <a:lnTo>
                  <a:pt x="0" y="21600"/>
                </a:lnTo>
                <a:close/>
              </a:path>
              <a:path fill="lightenLess" w="75437" h="21600">
                <a:moveTo>
                  <a:pt x="0" y="0"/>
                </a:moveTo>
                <a:lnTo>
                  <a:pt x="75437" y="0"/>
                </a:lnTo>
                <a:lnTo>
                  <a:pt x="74037" y="1400"/>
                </a:lnTo>
                <a:lnTo>
                  <a:pt x="1400" y="1400"/>
                </a:lnTo>
                <a:close/>
              </a:path>
              <a:path fill="darken" w="75437" h="21600">
                <a:moveTo>
                  <a:pt x="75437" y="0"/>
                </a:moveTo>
                <a:lnTo>
                  <a:pt x="75437" y="21600"/>
                </a:lnTo>
                <a:lnTo>
                  <a:pt x="74037" y="20200"/>
                </a:lnTo>
                <a:lnTo>
                  <a:pt x="74037" y="1400"/>
                </a:lnTo>
                <a:close/>
              </a:path>
              <a:path fill="darkenLess" w="75437" h="21600">
                <a:moveTo>
                  <a:pt x="75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037" y="20200"/>
                </a:lnTo>
                <a:close/>
              </a:path>
              <a:path fill="lighten" w="75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437" h="21600">
                <a:moveTo>
                  <a:pt x="30712" y="7493"/>
                </a:moveTo>
                <a:lnTo>
                  <a:pt x="34220" y="7493"/>
                </a:lnTo>
                <a:lnTo>
                  <a:pt x="34220" y="12828"/>
                </a:lnTo>
                <a:cubicBezTo>
                  <a:pt x="34220" y="13751"/>
                  <a:pt x="35020" y="14482"/>
                  <a:pt x="36056" y="14482"/>
                </a:cubicBezTo>
                <a:lnTo>
                  <a:pt x="37719" y="14482"/>
                </a:lnTo>
                <a:cubicBezTo>
                  <a:pt x="38754" y="14482"/>
                  <a:pt x="39555" y="13751"/>
                  <a:pt x="39555" y="12828"/>
                </a:cubicBezTo>
                <a:lnTo>
                  <a:pt x="39555" y="7493"/>
                </a:lnTo>
                <a:lnTo>
                  <a:pt x="37719" y="7493"/>
                </a:lnTo>
                <a:lnTo>
                  <a:pt x="41226" y="3985"/>
                </a:lnTo>
                <a:lnTo>
                  <a:pt x="44899" y="7493"/>
                </a:lnTo>
                <a:lnTo>
                  <a:pt x="43063" y="7493"/>
                </a:lnTo>
                <a:lnTo>
                  <a:pt x="43063" y="12828"/>
                </a:lnTo>
                <a:cubicBezTo>
                  <a:pt x="43063" y="15596"/>
                  <a:pt x="40486" y="18155"/>
                  <a:pt x="37719" y="18155"/>
                </a:cubicBezTo>
                <a:lnTo>
                  <a:pt x="36056" y="18155"/>
                </a:lnTo>
                <a:cubicBezTo>
                  <a:pt x="33288" y="18155"/>
                  <a:pt x="30712" y="15596"/>
                  <a:pt x="30712" y="12828"/>
                </a:cubicBez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Управляющая кнопка: домой 6"/>
          <p:cNvSpPr/>
          <p:nvPr/>
        </p:nvSpPr>
        <p:spPr>
          <a:xfrm>
            <a:off x="7072200" y="6715080"/>
            <a:ext cx="500040" cy="142920"/>
          </a:xfrm>
          <a:custGeom>
            <a:avLst/>
            <a:gdLst>
              <a:gd name="textAreaLeft" fmla="*/ 9000 w 500040"/>
              <a:gd name="textAreaRight" fmla="*/ 491040 w 50004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75437" h="21600">
                <a:moveTo>
                  <a:pt x="0" y="0"/>
                </a:moveTo>
                <a:lnTo>
                  <a:pt x="75437" y="0"/>
                </a:lnTo>
                <a:lnTo>
                  <a:pt x="75437" y="21600"/>
                </a:lnTo>
                <a:lnTo>
                  <a:pt x="0" y="21600"/>
                </a:lnTo>
                <a:close/>
              </a:path>
              <a:path fill="lightenLess" w="75437" h="21600">
                <a:moveTo>
                  <a:pt x="0" y="0"/>
                </a:moveTo>
                <a:lnTo>
                  <a:pt x="75437" y="0"/>
                </a:lnTo>
                <a:lnTo>
                  <a:pt x="74037" y="1400"/>
                </a:lnTo>
                <a:lnTo>
                  <a:pt x="1400" y="1400"/>
                </a:lnTo>
                <a:close/>
              </a:path>
              <a:path fill="darken" w="75437" h="21600">
                <a:moveTo>
                  <a:pt x="75437" y="0"/>
                </a:moveTo>
                <a:lnTo>
                  <a:pt x="75437" y="21600"/>
                </a:lnTo>
                <a:lnTo>
                  <a:pt x="74037" y="20200"/>
                </a:lnTo>
                <a:lnTo>
                  <a:pt x="74037" y="1400"/>
                </a:lnTo>
                <a:close/>
              </a:path>
              <a:path fill="darkenLess" w="75437" h="21600">
                <a:moveTo>
                  <a:pt x="75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037" y="20200"/>
                </a:lnTo>
                <a:close/>
              </a:path>
              <a:path fill="lighten" w="75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437" h="21600">
                <a:moveTo>
                  <a:pt x="37719" y="3837"/>
                </a:moveTo>
                <a:lnTo>
                  <a:pt x="40295" y="6448"/>
                </a:lnTo>
                <a:lnTo>
                  <a:pt x="40295" y="4707"/>
                </a:lnTo>
                <a:lnTo>
                  <a:pt x="42070" y="4707"/>
                </a:lnTo>
                <a:lnTo>
                  <a:pt x="42070" y="8224"/>
                </a:lnTo>
                <a:lnTo>
                  <a:pt x="44682" y="10800"/>
                </a:lnTo>
                <a:lnTo>
                  <a:pt x="43028" y="10800"/>
                </a:lnTo>
                <a:lnTo>
                  <a:pt x="43028" y="17989"/>
                </a:lnTo>
                <a:lnTo>
                  <a:pt x="32409" y="17989"/>
                </a:lnTo>
                <a:lnTo>
                  <a:pt x="32409" y="10800"/>
                </a:lnTo>
                <a:lnTo>
                  <a:pt x="30756" y="10800"/>
                </a:lnTo>
                <a:close/>
              </a:path>
              <a:path fill="darkenLess" w="75437" h="21600">
                <a:moveTo>
                  <a:pt x="40295" y="6448"/>
                </a:moveTo>
                <a:lnTo>
                  <a:pt x="40295" y="4707"/>
                </a:lnTo>
                <a:lnTo>
                  <a:pt x="42070" y="4707"/>
                </a:lnTo>
                <a:lnTo>
                  <a:pt x="42070" y="8224"/>
                </a:lnTo>
                <a:close/>
              </a:path>
              <a:path fill="darkenLess" w="75437" h="21600">
                <a:moveTo>
                  <a:pt x="36796" y="14299"/>
                </a:moveTo>
                <a:lnTo>
                  <a:pt x="38641" y="14299"/>
                </a:lnTo>
                <a:lnTo>
                  <a:pt x="38641" y="17989"/>
                </a:lnTo>
                <a:lnTo>
                  <a:pt x="43028" y="17989"/>
                </a:lnTo>
                <a:lnTo>
                  <a:pt x="43028" y="10800"/>
                </a:lnTo>
                <a:lnTo>
                  <a:pt x="32409" y="10800"/>
                </a:lnTo>
                <a:lnTo>
                  <a:pt x="32409" y="17989"/>
                </a:lnTo>
                <a:lnTo>
                  <a:pt x="36796" y="17989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Заголовок 1" descr=""/>
          <p:cNvPicPr/>
          <p:nvPr/>
        </p:nvPicPr>
        <p:blipFill>
          <a:blip r:embed="rId2"/>
          <a:stretch/>
        </p:blipFill>
        <p:spPr>
          <a:xfrm>
            <a:off x="539640" y="0"/>
            <a:ext cx="7785360" cy="1359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539640" y="1412640"/>
            <a:ext cx="7772400" cy="5143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e2d700"/>
                </a:solidFill>
                <a:uFillTx/>
                <a:latin typeface="Constantia"/>
                <a:hlinkClick r:id="rId3" action="ppaction://hlinksldjump"/>
              </a:rPr>
              <a:t>1.Источники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e2d700"/>
                </a:solidFill>
                <a:uFillTx/>
                <a:latin typeface="Constantia"/>
                <a:hlinkClick r:id="rId4" action="ppaction://hlinksldjump"/>
              </a:rPr>
              <a:t>2.</a:t>
            </a:r>
            <a:r>
              <a:rPr b="0" lang="en-US" sz="2200" spc="-1" strike="noStrike" u="sng">
                <a:solidFill>
                  <a:srgbClr val="e2d700"/>
                </a:solidFill>
                <a:uFillTx/>
                <a:latin typeface="Constantia"/>
                <a:hlinkClick r:id="rId5" action="ppaction://hlinksldjump"/>
              </a:rPr>
              <a:t> Санитарно- гигиеническое нормирование ЭМП бытовых приборов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e2d700"/>
                </a:solidFill>
                <a:uFillTx/>
                <a:latin typeface="Constantia"/>
                <a:hlinkClick r:id="rId6" action="ppaction://hlinksldjump"/>
              </a:rPr>
              <a:t>3.Возможные биологические эффекты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e2d700"/>
                </a:solidFill>
                <a:uFillTx/>
                <a:latin typeface="Constantia"/>
                <a:hlinkClick r:id="rId7" action="ppaction://hlinksldjump"/>
              </a:rPr>
              <a:t>4.Рекомендации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e2d700"/>
                </a:solidFill>
                <a:uFillTx/>
                <a:latin typeface="Constantia"/>
                <a:hlinkClick r:id="rId8" action="ppaction://hlinksldjump"/>
              </a:rPr>
              <a:t>5.Микроволновые печи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e2d700"/>
                </a:solidFill>
                <a:uFillTx/>
                <a:latin typeface="Constantia"/>
                <a:hlinkClick r:id="rId9" action="ppaction://hlinksldjump"/>
              </a:rPr>
              <a:t>   -источник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200" spc="-1" strike="noStrike" u="sng">
                <a:solidFill>
                  <a:srgbClr val="e2d700"/>
                </a:solidFill>
                <a:uFillTx/>
                <a:latin typeface="Constantia"/>
                <a:hlinkClick r:id="rId10" action="ppaction://hlinksldjump"/>
              </a:rPr>
              <a:t>-обеспечение безопасности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200" spc="-1" strike="noStrike" u="sng">
                <a:solidFill>
                  <a:srgbClr val="e2d700"/>
                </a:solidFill>
                <a:uFillTx/>
                <a:latin typeface="Constantia"/>
                <a:hlinkClick r:id="rId11" action="ppaction://hlinksldjump"/>
              </a:rPr>
              <a:t>-рекомендации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Заголовок 1" descr=""/>
          <p:cNvPicPr/>
          <p:nvPr/>
        </p:nvPicPr>
        <p:blipFill>
          <a:blip r:embed="rId2"/>
          <a:stretch/>
        </p:blipFill>
        <p:spPr>
          <a:xfrm>
            <a:off x="55440" y="-304920"/>
            <a:ext cx="8253360" cy="115884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530280" y="928800"/>
            <a:ext cx="7772400" cy="5929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94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Все бытовые приборы, работающие с использованием электрического тока, являются источниками электромагнитных полей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Наиболее мощными следует признать СВЧ-печи, аэрогрили, холодильники с системой “без инея”, кухонные вытяжки, электроплиты, телевизоры. Реально создаваемое ЭМП в зависимости от конкретной модели и режима работы может сильно различаться среди оборудования одного типа (смотри рисунок 1). Все ниже приведенные данные относятся к магнитному полю промышленной частоты 50 Гц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Значения магнитного поля тесно связаны с мощностью прибора - чем она выше, тем выше магнитное поле при его работе. Значения электрического поля промышленной частоты практически всех электробытовых приборов не превышают нескольких десятков В/м на расстоянии 0,5 м, что значительно меньше ПДУ 500 В/м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Управляющая кнопка: назад 3">
            <a:hlinkClick r:id="" action="ppaction://hlinkshowjump?jump=previousslide"/>
          </p:cNvPr>
          <p:cNvSpPr/>
          <p:nvPr/>
        </p:nvSpPr>
        <p:spPr>
          <a:xfrm flipV="1">
            <a:off x="5857920" y="6714360"/>
            <a:ext cx="500040" cy="142920"/>
          </a:xfrm>
          <a:custGeom>
            <a:avLst/>
            <a:gdLst>
              <a:gd name="textAreaLeft" fmla="*/ 9000 w 500040"/>
              <a:gd name="textAreaRight" fmla="*/ 491040 w 50004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75437" h="21600">
                <a:moveTo>
                  <a:pt x="0" y="0"/>
                </a:moveTo>
                <a:lnTo>
                  <a:pt x="75437" y="0"/>
                </a:lnTo>
                <a:lnTo>
                  <a:pt x="75437" y="21600"/>
                </a:lnTo>
                <a:lnTo>
                  <a:pt x="0" y="21600"/>
                </a:lnTo>
                <a:close/>
              </a:path>
              <a:path fill="lightenLess" w="75437" h="21600">
                <a:moveTo>
                  <a:pt x="0" y="0"/>
                </a:moveTo>
                <a:lnTo>
                  <a:pt x="75437" y="0"/>
                </a:lnTo>
                <a:lnTo>
                  <a:pt x="74037" y="1400"/>
                </a:lnTo>
                <a:lnTo>
                  <a:pt x="1400" y="1400"/>
                </a:lnTo>
                <a:close/>
              </a:path>
              <a:path fill="darken" w="75437" h="21600">
                <a:moveTo>
                  <a:pt x="75437" y="0"/>
                </a:moveTo>
                <a:lnTo>
                  <a:pt x="75437" y="21600"/>
                </a:lnTo>
                <a:lnTo>
                  <a:pt x="74037" y="20200"/>
                </a:lnTo>
                <a:lnTo>
                  <a:pt x="74037" y="1400"/>
                </a:lnTo>
                <a:close/>
              </a:path>
              <a:path fill="darkenLess" w="75437" h="21600">
                <a:moveTo>
                  <a:pt x="75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037" y="20200"/>
                </a:lnTo>
                <a:close/>
              </a:path>
              <a:path fill="lighten" w="75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437" h="21600">
                <a:moveTo>
                  <a:pt x="30712" y="10800"/>
                </a:moveTo>
                <a:lnTo>
                  <a:pt x="44725" y="3794"/>
                </a:lnTo>
                <a:lnTo>
                  <a:pt x="44725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Управляющая кнопка: возврат 4">
            <a:hlinkClick r:id="" action="ppaction://hlinkshowjump?jump=previousslide"/>
          </p:cNvPr>
          <p:cNvSpPr/>
          <p:nvPr/>
        </p:nvSpPr>
        <p:spPr>
          <a:xfrm>
            <a:off x="6429240" y="6715080"/>
            <a:ext cx="500040" cy="142920"/>
          </a:xfrm>
          <a:custGeom>
            <a:avLst/>
            <a:gdLst>
              <a:gd name="textAreaLeft" fmla="*/ 9000 w 500040"/>
              <a:gd name="textAreaRight" fmla="*/ 491040 w 50004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75437" h="21600">
                <a:moveTo>
                  <a:pt x="0" y="0"/>
                </a:moveTo>
                <a:lnTo>
                  <a:pt x="75437" y="0"/>
                </a:lnTo>
                <a:lnTo>
                  <a:pt x="75437" y="21600"/>
                </a:lnTo>
                <a:lnTo>
                  <a:pt x="0" y="21600"/>
                </a:lnTo>
                <a:close/>
              </a:path>
              <a:path fill="lightenLess" w="75437" h="21600">
                <a:moveTo>
                  <a:pt x="0" y="0"/>
                </a:moveTo>
                <a:lnTo>
                  <a:pt x="75437" y="0"/>
                </a:lnTo>
                <a:lnTo>
                  <a:pt x="74037" y="1400"/>
                </a:lnTo>
                <a:lnTo>
                  <a:pt x="1400" y="1400"/>
                </a:lnTo>
                <a:close/>
              </a:path>
              <a:path fill="darken" w="75437" h="21600">
                <a:moveTo>
                  <a:pt x="75437" y="0"/>
                </a:moveTo>
                <a:lnTo>
                  <a:pt x="75437" y="21600"/>
                </a:lnTo>
                <a:lnTo>
                  <a:pt x="74037" y="20200"/>
                </a:lnTo>
                <a:lnTo>
                  <a:pt x="74037" y="1400"/>
                </a:lnTo>
                <a:close/>
              </a:path>
              <a:path fill="darkenLess" w="75437" h="21600">
                <a:moveTo>
                  <a:pt x="75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037" y="20200"/>
                </a:lnTo>
                <a:close/>
              </a:path>
              <a:path fill="lighten" w="75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437" h="21600">
                <a:moveTo>
                  <a:pt x="30712" y="7493"/>
                </a:moveTo>
                <a:lnTo>
                  <a:pt x="34220" y="7493"/>
                </a:lnTo>
                <a:lnTo>
                  <a:pt x="34220" y="12828"/>
                </a:lnTo>
                <a:cubicBezTo>
                  <a:pt x="34220" y="13751"/>
                  <a:pt x="35020" y="14482"/>
                  <a:pt x="36056" y="14482"/>
                </a:cubicBezTo>
                <a:lnTo>
                  <a:pt x="37719" y="14482"/>
                </a:lnTo>
                <a:cubicBezTo>
                  <a:pt x="38754" y="14482"/>
                  <a:pt x="39555" y="13751"/>
                  <a:pt x="39555" y="12828"/>
                </a:cubicBezTo>
                <a:lnTo>
                  <a:pt x="39555" y="7493"/>
                </a:lnTo>
                <a:lnTo>
                  <a:pt x="37719" y="7493"/>
                </a:lnTo>
                <a:lnTo>
                  <a:pt x="41226" y="3985"/>
                </a:lnTo>
                <a:lnTo>
                  <a:pt x="44899" y="7493"/>
                </a:lnTo>
                <a:lnTo>
                  <a:pt x="43063" y="7493"/>
                </a:lnTo>
                <a:lnTo>
                  <a:pt x="43063" y="12828"/>
                </a:lnTo>
                <a:cubicBezTo>
                  <a:pt x="43063" y="15596"/>
                  <a:pt x="40486" y="18155"/>
                  <a:pt x="37719" y="18155"/>
                </a:cubicBezTo>
                <a:lnTo>
                  <a:pt x="36056" y="18155"/>
                </a:lnTo>
                <a:cubicBezTo>
                  <a:pt x="33288" y="18155"/>
                  <a:pt x="30712" y="15596"/>
                  <a:pt x="30712" y="12828"/>
                </a:cubicBez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7000920" y="6715080"/>
            <a:ext cx="571320" cy="142920"/>
          </a:xfrm>
          <a:custGeom>
            <a:avLst/>
            <a:gdLst>
              <a:gd name="textAreaLeft" fmla="*/ 9000 w 571320"/>
              <a:gd name="textAreaRight" fmla="*/ 562320 w 5713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86183" h="21600">
                <a:moveTo>
                  <a:pt x="0" y="0"/>
                </a:moveTo>
                <a:lnTo>
                  <a:pt x="86183" y="0"/>
                </a:lnTo>
                <a:lnTo>
                  <a:pt x="86183" y="21600"/>
                </a:lnTo>
                <a:lnTo>
                  <a:pt x="0" y="21600"/>
                </a:lnTo>
                <a:close/>
              </a:path>
              <a:path fill="lightenLess" w="86183" h="21600">
                <a:moveTo>
                  <a:pt x="0" y="0"/>
                </a:moveTo>
                <a:lnTo>
                  <a:pt x="86183" y="0"/>
                </a:lnTo>
                <a:lnTo>
                  <a:pt x="84783" y="1400"/>
                </a:lnTo>
                <a:lnTo>
                  <a:pt x="1400" y="1400"/>
                </a:lnTo>
                <a:close/>
              </a:path>
              <a:path fill="darken" w="86183" h="21600">
                <a:moveTo>
                  <a:pt x="86183" y="0"/>
                </a:moveTo>
                <a:lnTo>
                  <a:pt x="86183" y="21600"/>
                </a:lnTo>
                <a:lnTo>
                  <a:pt x="84783" y="20200"/>
                </a:lnTo>
                <a:lnTo>
                  <a:pt x="84783" y="1400"/>
                </a:lnTo>
                <a:close/>
              </a:path>
              <a:path fill="darkenLess" w="86183" h="21600">
                <a:moveTo>
                  <a:pt x="86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783" y="20200"/>
                </a:lnTo>
                <a:close/>
              </a:path>
              <a:path fill="lighten" w="86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183" h="21600">
                <a:moveTo>
                  <a:pt x="36085" y="3794"/>
                </a:moveTo>
                <a:lnTo>
                  <a:pt x="50098" y="10800"/>
                </a:lnTo>
                <a:lnTo>
                  <a:pt x="36085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4617b"/>
                </a:solidFill>
                <a:latin typeface="Calibri"/>
              </a:rPr>
              <a:t>Средние уровни магнитного поля промышленной частоты бытовых электроприборов на расстоянии 0,3 м.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t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Рисунок 5" descr="srcgrph.gif"/>
          <p:cNvPicPr/>
          <p:nvPr/>
        </p:nvPicPr>
        <p:blipFill>
          <a:blip r:embed="rId2"/>
          <a:srcRect l="691" t="0" r="691" b="0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  <p:sp>
        <p:nvSpPr>
          <p:cNvPr id="208" name="Прямоугольник 4"/>
          <p:cNvSpPr/>
          <p:nvPr/>
        </p:nvSpPr>
        <p:spPr>
          <a:xfrm>
            <a:off x="2286000" y="29671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Управляющая кнопка: назад 6">
            <a:hlinkClick r:id="" action="ppaction://hlinkshowjump?jump=previousslide"/>
          </p:cNvPr>
          <p:cNvSpPr/>
          <p:nvPr/>
        </p:nvSpPr>
        <p:spPr>
          <a:xfrm flipV="1">
            <a:off x="5857920" y="6714360"/>
            <a:ext cx="500040" cy="142920"/>
          </a:xfrm>
          <a:custGeom>
            <a:avLst/>
            <a:gdLst>
              <a:gd name="textAreaLeft" fmla="*/ 9000 w 500040"/>
              <a:gd name="textAreaRight" fmla="*/ 491040 w 50004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75437" h="21600">
                <a:moveTo>
                  <a:pt x="0" y="0"/>
                </a:moveTo>
                <a:lnTo>
                  <a:pt x="75437" y="0"/>
                </a:lnTo>
                <a:lnTo>
                  <a:pt x="75437" y="21600"/>
                </a:lnTo>
                <a:lnTo>
                  <a:pt x="0" y="21600"/>
                </a:lnTo>
                <a:close/>
              </a:path>
              <a:path fill="lightenLess" w="75437" h="21600">
                <a:moveTo>
                  <a:pt x="0" y="0"/>
                </a:moveTo>
                <a:lnTo>
                  <a:pt x="75437" y="0"/>
                </a:lnTo>
                <a:lnTo>
                  <a:pt x="74037" y="1400"/>
                </a:lnTo>
                <a:lnTo>
                  <a:pt x="1400" y="1400"/>
                </a:lnTo>
                <a:close/>
              </a:path>
              <a:path fill="darken" w="75437" h="21600">
                <a:moveTo>
                  <a:pt x="75437" y="0"/>
                </a:moveTo>
                <a:lnTo>
                  <a:pt x="75437" y="21600"/>
                </a:lnTo>
                <a:lnTo>
                  <a:pt x="74037" y="20200"/>
                </a:lnTo>
                <a:lnTo>
                  <a:pt x="74037" y="1400"/>
                </a:lnTo>
                <a:close/>
              </a:path>
              <a:path fill="darkenLess" w="75437" h="21600">
                <a:moveTo>
                  <a:pt x="75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037" y="20200"/>
                </a:lnTo>
                <a:close/>
              </a:path>
              <a:path fill="lighten" w="75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437" h="21600">
                <a:moveTo>
                  <a:pt x="30712" y="10800"/>
                </a:moveTo>
                <a:lnTo>
                  <a:pt x="44725" y="3794"/>
                </a:lnTo>
                <a:lnTo>
                  <a:pt x="44725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Управляющая кнопка: возврат 7">
            <a:hlinkClick r:id="" action="ppaction://hlinkshowjump?jump=previousslide"/>
          </p:cNvPr>
          <p:cNvSpPr/>
          <p:nvPr/>
        </p:nvSpPr>
        <p:spPr>
          <a:xfrm>
            <a:off x="6429240" y="6715080"/>
            <a:ext cx="500040" cy="142920"/>
          </a:xfrm>
          <a:custGeom>
            <a:avLst/>
            <a:gdLst>
              <a:gd name="textAreaLeft" fmla="*/ 9000 w 500040"/>
              <a:gd name="textAreaRight" fmla="*/ 491040 w 50004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75437" h="21600">
                <a:moveTo>
                  <a:pt x="0" y="0"/>
                </a:moveTo>
                <a:lnTo>
                  <a:pt x="75437" y="0"/>
                </a:lnTo>
                <a:lnTo>
                  <a:pt x="75437" y="21600"/>
                </a:lnTo>
                <a:lnTo>
                  <a:pt x="0" y="21600"/>
                </a:lnTo>
                <a:close/>
              </a:path>
              <a:path fill="lightenLess" w="75437" h="21600">
                <a:moveTo>
                  <a:pt x="0" y="0"/>
                </a:moveTo>
                <a:lnTo>
                  <a:pt x="75437" y="0"/>
                </a:lnTo>
                <a:lnTo>
                  <a:pt x="74037" y="1400"/>
                </a:lnTo>
                <a:lnTo>
                  <a:pt x="1400" y="1400"/>
                </a:lnTo>
                <a:close/>
              </a:path>
              <a:path fill="darken" w="75437" h="21600">
                <a:moveTo>
                  <a:pt x="75437" y="0"/>
                </a:moveTo>
                <a:lnTo>
                  <a:pt x="75437" y="21600"/>
                </a:lnTo>
                <a:lnTo>
                  <a:pt x="74037" y="20200"/>
                </a:lnTo>
                <a:lnTo>
                  <a:pt x="74037" y="1400"/>
                </a:lnTo>
                <a:close/>
              </a:path>
              <a:path fill="darkenLess" w="75437" h="21600">
                <a:moveTo>
                  <a:pt x="75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037" y="20200"/>
                </a:lnTo>
                <a:close/>
              </a:path>
              <a:path fill="lighten" w="75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437" h="21600">
                <a:moveTo>
                  <a:pt x="30712" y="7493"/>
                </a:moveTo>
                <a:lnTo>
                  <a:pt x="34220" y="7493"/>
                </a:lnTo>
                <a:lnTo>
                  <a:pt x="34220" y="12828"/>
                </a:lnTo>
                <a:cubicBezTo>
                  <a:pt x="34220" y="13751"/>
                  <a:pt x="35020" y="14482"/>
                  <a:pt x="36056" y="14482"/>
                </a:cubicBezTo>
                <a:lnTo>
                  <a:pt x="37719" y="14482"/>
                </a:lnTo>
                <a:cubicBezTo>
                  <a:pt x="38754" y="14482"/>
                  <a:pt x="39555" y="13751"/>
                  <a:pt x="39555" y="12828"/>
                </a:cubicBezTo>
                <a:lnTo>
                  <a:pt x="39555" y="7493"/>
                </a:lnTo>
                <a:lnTo>
                  <a:pt x="37719" y="7493"/>
                </a:lnTo>
                <a:lnTo>
                  <a:pt x="41226" y="3985"/>
                </a:lnTo>
                <a:lnTo>
                  <a:pt x="44899" y="7493"/>
                </a:lnTo>
                <a:lnTo>
                  <a:pt x="43063" y="7493"/>
                </a:lnTo>
                <a:lnTo>
                  <a:pt x="43063" y="12828"/>
                </a:lnTo>
                <a:cubicBezTo>
                  <a:pt x="43063" y="15596"/>
                  <a:pt x="40486" y="18155"/>
                  <a:pt x="37719" y="18155"/>
                </a:cubicBezTo>
                <a:lnTo>
                  <a:pt x="36056" y="18155"/>
                </a:lnTo>
                <a:cubicBezTo>
                  <a:pt x="33288" y="18155"/>
                  <a:pt x="30712" y="15596"/>
                  <a:pt x="30712" y="12828"/>
                </a:cubicBez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Управляющая кнопка: далее 8">
            <a:hlinkClick r:id="" action="ppaction://hlinkshowjump?jump=nextslide"/>
          </p:cNvPr>
          <p:cNvSpPr/>
          <p:nvPr/>
        </p:nvSpPr>
        <p:spPr>
          <a:xfrm>
            <a:off x="7000920" y="6715080"/>
            <a:ext cx="571320" cy="142920"/>
          </a:xfrm>
          <a:custGeom>
            <a:avLst/>
            <a:gdLst>
              <a:gd name="textAreaLeft" fmla="*/ 9000 w 571320"/>
              <a:gd name="textAreaRight" fmla="*/ 562320 w 5713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86183" h="21600">
                <a:moveTo>
                  <a:pt x="0" y="0"/>
                </a:moveTo>
                <a:lnTo>
                  <a:pt x="86183" y="0"/>
                </a:lnTo>
                <a:lnTo>
                  <a:pt x="86183" y="21600"/>
                </a:lnTo>
                <a:lnTo>
                  <a:pt x="0" y="21600"/>
                </a:lnTo>
                <a:close/>
              </a:path>
              <a:path fill="lightenLess" w="86183" h="21600">
                <a:moveTo>
                  <a:pt x="0" y="0"/>
                </a:moveTo>
                <a:lnTo>
                  <a:pt x="86183" y="0"/>
                </a:lnTo>
                <a:lnTo>
                  <a:pt x="84783" y="1400"/>
                </a:lnTo>
                <a:lnTo>
                  <a:pt x="1400" y="1400"/>
                </a:lnTo>
                <a:close/>
              </a:path>
              <a:path fill="darken" w="86183" h="21600">
                <a:moveTo>
                  <a:pt x="86183" y="0"/>
                </a:moveTo>
                <a:lnTo>
                  <a:pt x="86183" y="21600"/>
                </a:lnTo>
                <a:lnTo>
                  <a:pt x="84783" y="20200"/>
                </a:lnTo>
                <a:lnTo>
                  <a:pt x="84783" y="1400"/>
                </a:lnTo>
                <a:close/>
              </a:path>
              <a:path fill="darkenLess" w="86183" h="21600">
                <a:moveTo>
                  <a:pt x="86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783" y="20200"/>
                </a:lnTo>
                <a:close/>
              </a:path>
              <a:path fill="lighten" w="86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183" h="21600">
                <a:moveTo>
                  <a:pt x="36085" y="3794"/>
                </a:moveTo>
                <a:lnTo>
                  <a:pt x="50098" y="10800"/>
                </a:lnTo>
                <a:lnTo>
                  <a:pt x="36085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Заголовок 1" descr=""/>
          <p:cNvPicPr/>
          <p:nvPr/>
        </p:nvPicPr>
        <p:blipFill>
          <a:blip r:embed="rId2"/>
          <a:stretch/>
        </p:blipFill>
        <p:spPr>
          <a:xfrm>
            <a:off x="268200" y="652320"/>
            <a:ext cx="8504280" cy="1200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3" name=""/>
          <p:cNvGraphicFramePr/>
          <p:nvPr/>
        </p:nvGraphicFramePr>
        <p:xfrm>
          <a:off x="0" y="1857240"/>
          <a:ext cx="10787040" cy="5000760"/>
        </p:xfrm>
        <a:graphic>
          <a:graphicData uri="http://schemas.openxmlformats.org/drawingml/2006/table">
            <a:tbl>
              <a:tblPr/>
              <a:tblGrid>
                <a:gridCol w="4341960"/>
                <a:gridCol w="4341600"/>
                <a:gridCol w="2103480"/>
              </a:tblGrid>
              <a:tr h="1176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0080"/>
                          </a:solidFill>
                          <a:latin typeface="Arial"/>
                        </a:rPr>
                        <a:t>Источни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c4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400080"/>
                          </a:solidFill>
                          <a:latin typeface="Arial"/>
                        </a:rPr>
                        <a:t>Расстояние, на котором фиксируется величина больше 0,2 мкТл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3fe85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90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400080"/>
                          </a:solidFill>
                          <a:latin typeface="Arial"/>
                        </a:rPr>
                        <a:t>Холодильник, оснащенный системой "No frost" (во время работы компрессора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fd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0080"/>
                          </a:solidFill>
                          <a:latin typeface="Arial"/>
                        </a:rPr>
                        <a:t>1,2 м от дверцы; 1,4 м от задней стенк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ffc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3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0080"/>
                          </a:solidFill>
                          <a:latin typeface="Arial"/>
                        </a:rPr>
                        <a:t>Холодильник обычный (во время работы компрессора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fd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0080"/>
                          </a:solidFill>
                          <a:latin typeface="Arial"/>
                        </a:rPr>
                        <a:t>0,1 м от мото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ffc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0080"/>
                          </a:solidFill>
                          <a:latin typeface="Arial"/>
                        </a:rPr>
                        <a:t>Утюг (режим нагрева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fd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0080"/>
                          </a:solidFill>
                          <a:latin typeface="Arial"/>
                        </a:rPr>
                        <a:t>0,25 м от руч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ffc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3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0080"/>
                          </a:solidFill>
                          <a:latin typeface="Arial"/>
                        </a:rPr>
                        <a:t>Телевизор 14"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fd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0080"/>
                          </a:solidFill>
                          <a:latin typeface="Arial"/>
                        </a:rPr>
                        <a:t>1,1 м от экрана; 1,2 м от боковой стенки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ffc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9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400080"/>
                          </a:solidFill>
                          <a:latin typeface="Arial"/>
                        </a:rPr>
                        <a:t>Электрорадиато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fd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0080"/>
                          </a:solidFill>
                          <a:latin typeface="Arial"/>
                        </a:rPr>
                        <a:t>0,3 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ffc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0080"/>
                          </a:solidFill>
                          <a:latin typeface="Arial"/>
                        </a:rPr>
                        <a:t>Торшер с двумя лампами по 75 В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fd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0080"/>
                          </a:solidFill>
                          <a:latin typeface="Arial"/>
                        </a:rPr>
                        <a:t>0,03 м (от провода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ffc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400080"/>
                          </a:solidFill>
                          <a:latin typeface="Arial"/>
                        </a:rPr>
                        <a:t>Электродухов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fd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0080"/>
                          </a:solidFill>
                          <a:latin typeface="Arial"/>
                        </a:rPr>
                        <a:t>0,4 м от передней стен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ffc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400080"/>
                          </a:solidFill>
                          <a:latin typeface="Arial"/>
                        </a:rPr>
                        <a:t>Аэрогриль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fd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0080"/>
                          </a:solidFill>
                          <a:latin typeface="Arial"/>
                        </a:rPr>
                        <a:t>1,4 м от боковой стен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ffc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4617b"/>
                </a:solidFill>
                <a:latin typeface="Calibri"/>
              </a:rPr>
              <a:t>Изменение уровня магнитного поля промышленной частоты бытовых электроприборов в зависимости расстояния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t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Рисунок 4" descr="ftrans.gif"/>
          <p:cNvPicPr/>
          <p:nvPr/>
        </p:nvPicPr>
        <p:blipFill>
          <a:blip r:embed="rId2"/>
          <a:srcRect l="11590" t="0" r="11590" b="0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  <p:sp>
        <p:nvSpPr>
          <p:cNvPr id="217" name="Управляющая кнопка: назад 5">
            <a:hlinkClick r:id="" action="ppaction://hlinkshowjump?jump=previousslide"/>
          </p:cNvPr>
          <p:cNvSpPr/>
          <p:nvPr/>
        </p:nvSpPr>
        <p:spPr>
          <a:xfrm flipV="1">
            <a:off x="5857920" y="6714360"/>
            <a:ext cx="500040" cy="142920"/>
          </a:xfrm>
          <a:custGeom>
            <a:avLst/>
            <a:gdLst>
              <a:gd name="textAreaLeft" fmla="*/ 9000 w 500040"/>
              <a:gd name="textAreaRight" fmla="*/ 491040 w 50004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75437" h="21600">
                <a:moveTo>
                  <a:pt x="0" y="0"/>
                </a:moveTo>
                <a:lnTo>
                  <a:pt x="75437" y="0"/>
                </a:lnTo>
                <a:lnTo>
                  <a:pt x="75437" y="21600"/>
                </a:lnTo>
                <a:lnTo>
                  <a:pt x="0" y="21600"/>
                </a:lnTo>
                <a:close/>
              </a:path>
              <a:path fill="lightenLess" w="75437" h="21600">
                <a:moveTo>
                  <a:pt x="0" y="0"/>
                </a:moveTo>
                <a:lnTo>
                  <a:pt x="75437" y="0"/>
                </a:lnTo>
                <a:lnTo>
                  <a:pt x="74037" y="1400"/>
                </a:lnTo>
                <a:lnTo>
                  <a:pt x="1400" y="1400"/>
                </a:lnTo>
                <a:close/>
              </a:path>
              <a:path fill="darken" w="75437" h="21600">
                <a:moveTo>
                  <a:pt x="75437" y="0"/>
                </a:moveTo>
                <a:lnTo>
                  <a:pt x="75437" y="21600"/>
                </a:lnTo>
                <a:lnTo>
                  <a:pt x="74037" y="20200"/>
                </a:lnTo>
                <a:lnTo>
                  <a:pt x="74037" y="1400"/>
                </a:lnTo>
                <a:close/>
              </a:path>
              <a:path fill="darkenLess" w="75437" h="21600">
                <a:moveTo>
                  <a:pt x="75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037" y="20200"/>
                </a:lnTo>
                <a:close/>
              </a:path>
              <a:path fill="lighten" w="75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437" h="21600">
                <a:moveTo>
                  <a:pt x="30712" y="10800"/>
                </a:moveTo>
                <a:lnTo>
                  <a:pt x="44725" y="3794"/>
                </a:lnTo>
                <a:lnTo>
                  <a:pt x="44725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Управляющая кнопка: возврат 6">
            <a:hlinkClick r:id="" action="ppaction://hlinkshowjump?jump=previousslide"/>
          </p:cNvPr>
          <p:cNvSpPr/>
          <p:nvPr/>
        </p:nvSpPr>
        <p:spPr>
          <a:xfrm>
            <a:off x="6429240" y="6715080"/>
            <a:ext cx="500040" cy="142920"/>
          </a:xfrm>
          <a:custGeom>
            <a:avLst/>
            <a:gdLst>
              <a:gd name="textAreaLeft" fmla="*/ 9000 w 500040"/>
              <a:gd name="textAreaRight" fmla="*/ 491040 w 50004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75437" h="21600">
                <a:moveTo>
                  <a:pt x="0" y="0"/>
                </a:moveTo>
                <a:lnTo>
                  <a:pt x="75437" y="0"/>
                </a:lnTo>
                <a:lnTo>
                  <a:pt x="75437" y="21600"/>
                </a:lnTo>
                <a:lnTo>
                  <a:pt x="0" y="21600"/>
                </a:lnTo>
                <a:close/>
              </a:path>
              <a:path fill="lightenLess" w="75437" h="21600">
                <a:moveTo>
                  <a:pt x="0" y="0"/>
                </a:moveTo>
                <a:lnTo>
                  <a:pt x="75437" y="0"/>
                </a:lnTo>
                <a:lnTo>
                  <a:pt x="74037" y="1400"/>
                </a:lnTo>
                <a:lnTo>
                  <a:pt x="1400" y="1400"/>
                </a:lnTo>
                <a:close/>
              </a:path>
              <a:path fill="darken" w="75437" h="21600">
                <a:moveTo>
                  <a:pt x="75437" y="0"/>
                </a:moveTo>
                <a:lnTo>
                  <a:pt x="75437" y="21600"/>
                </a:lnTo>
                <a:lnTo>
                  <a:pt x="74037" y="20200"/>
                </a:lnTo>
                <a:lnTo>
                  <a:pt x="74037" y="1400"/>
                </a:lnTo>
                <a:close/>
              </a:path>
              <a:path fill="darkenLess" w="75437" h="21600">
                <a:moveTo>
                  <a:pt x="75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037" y="20200"/>
                </a:lnTo>
                <a:close/>
              </a:path>
              <a:path fill="lighten" w="75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437" h="21600">
                <a:moveTo>
                  <a:pt x="30712" y="7493"/>
                </a:moveTo>
                <a:lnTo>
                  <a:pt x="34220" y="7493"/>
                </a:lnTo>
                <a:lnTo>
                  <a:pt x="34220" y="12828"/>
                </a:lnTo>
                <a:cubicBezTo>
                  <a:pt x="34220" y="13751"/>
                  <a:pt x="35020" y="14482"/>
                  <a:pt x="36056" y="14482"/>
                </a:cubicBezTo>
                <a:lnTo>
                  <a:pt x="37719" y="14482"/>
                </a:lnTo>
                <a:cubicBezTo>
                  <a:pt x="38754" y="14482"/>
                  <a:pt x="39555" y="13751"/>
                  <a:pt x="39555" y="12828"/>
                </a:cubicBezTo>
                <a:lnTo>
                  <a:pt x="39555" y="7493"/>
                </a:lnTo>
                <a:lnTo>
                  <a:pt x="37719" y="7493"/>
                </a:lnTo>
                <a:lnTo>
                  <a:pt x="41226" y="3985"/>
                </a:lnTo>
                <a:lnTo>
                  <a:pt x="44899" y="7493"/>
                </a:lnTo>
                <a:lnTo>
                  <a:pt x="43063" y="7493"/>
                </a:lnTo>
                <a:lnTo>
                  <a:pt x="43063" y="12828"/>
                </a:lnTo>
                <a:cubicBezTo>
                  <a:pt x="43063" y="15596"/>
                  <a:pt x="40486" y="18155"/>
                  <a:pt x="37719" y="18155"/>
                </a:cubicBezTo>
                <a:lnTo>
                  <a:pt x="36056" y="18155"/>
                </a:lnTo>
                <a:cubicBezTo>
                  <a:pt x="33288" y="18155"/>
                  <a:pt x="30712" y="15596"/>
                  <a:pt x="30712" y="12828"/>
                </a:cubicBez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Управляющая кнопка: далее 7">
            <a:hlinkClick r:id="" action="ppaction://hlinkshowjump?jump=nextslide"/>
          </p:cNvPr>
          <p:cNvSpPr/>
          <p:nvPr/>
        </p:nvSpPr>
        <p:spPr>
          <a:xfrm>
            <a:off x="7000920" y="6715080"/>
            <a:ext cx="571320" cy="142920"/>
          </a:xfrm>
          <a:custGeom>
            <a:avLst/>
            <a:gdLst>
              <a:gd name="textAreaLeft" fmla="*/ 9000 w 571320"/>
              <a:gd name="textAreaRight" fmla="*/ 562320 w 5713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86183" h="21600">
                <a:moveTo>
                  <a:pt x="0" y="0"/>
                </a:moveTo>
                <a:lnTo>
                  <a:pt x="86183" y="0"/>
                </a:lnTo>
                <a:lnTo>
                  <a:pt x="86183" y="21600"/>
                </a:lnTo>
                <a:lnTo>
                  <a:pt x="0" y="21600"/>
                </a:lnTo>
                <a:close/>
              </a:path>
              <a:path fill="lightenLess" w="86183" h="21600">
                <a:moveTo>
                  <a:pt x="0" y="0"/>
                </a:moveTo>
                <a:lnTo>
                  <a:pt x="86183" y="0"/>
                </a:lnTo>
                <a:lnTo>
                  <a:pt x="84783" y="1400"/>
                </a:lnTo>
                <a:lnTo>
                  <a:pt x="1400" y="1400"/>
                </a:lnTo>
                <a:close/>
              </a:path>
              <a:path fill="darken" w="86183" h="21600">
                <a:moveTo>
                  <a:pt x="86183" y="0"/>
                </a:moveTo>
                <a:lnTo>
                  <a:pt x="86183" y="21600"/>
                </a:lnTo>
                <a:lnTo>
                  <a:pt x="84783" y="20200"/>
                </a:lnTo>
                <a:lnTo>
                  <a:pt x="84783" y="1400"/>
                </a:lnTo>
                <a:close/>
              </a:path>
              <a:path fill="darkenLess" w="86183" h="21600">
                <a:moveTo>
                  <a:pt x="86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783" y="20200"/>
                </a:lnTo>
                <a:close/>
              </a:path>
              <a:path fill="lighten" w="86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183" h="21600">
                <a:moveTo>
                  <a:pt x="36085" y="3794"/>
                </a:moveTo>
                <a:lnTo>
                  <a:pt x="50098" y="10800"/>
                </a:lnTo>
                <a:lnTo>
                  <a:pt x="36085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2"/>
          <a:stretch/>
        </p:blipFill>
        <p:spPr>
          <a:xfrm>
            <a:off x="219240" y="-6480"/>
            <a:ext cx="8334360" cy="14209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530280" y="1357200"/>
            <a:ext cx="7772400" cy="5500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Основным документом, устанавливающим требования к ПДУ ЭМП бытовых приборов являются "</a:t>
            </a:r>
            <a:r>
              <a:rPr b="0" lang="ru-RU" sz="22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Межгосударственные санитарные нормы допустимых уровней физических факторов при применении товаров народного потребления в бытовых условиях", </a:t>
            </a:r>
            <a:r>
              <a:rPr b="0" lang="ru-RU" sz="22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МСанПиН</a:t>
            </a:r>
            <a:r>
              <a:rPr b="0" lang="ru-RU" sz="2200" spc="-1" strike="noStrike" u="sng">
                <a:solidFill>
                  <a:srgbClr val="e2d700"/>
                </a:solidFill>
                <a:uFillTx/>
                <a:latin typeface="Constantia"/>
                <a:hlinkClick r:id="rId5"/>
              </a:rPr>
              <a:t> 001-96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. Для отдельных видов товаров установлены свои нормы: "</a:t>
            </a:r>
            <a:r>
              <a:rPr b="0" lang="ru-RU" sz="2200" spc="-1" strike="noStrike" u="sng">
                <a:solidFill>
                  <a:srgbClr val="e2d700"/>
                </a:solidFill>
                <a:uFillTx/>
                <a:latin typeface="Constantia"/>
                <a:hlinkClick r:id="rId6"/>
              </a:rPr>
              <a:t>Предельно допустимые уровни плотности потока энергии, создаваемой микроволновыми печами" СН № 2666-83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, "</a:t>
            </a:r>
            <a:r>
              <a:rPr b="0" lang="ru-RU" sz="2200" spc="-1" strike="noStrike" u="sng">
                <a:solidFill>
                  <a:srgbClr val="e2d700"/>
                </a:solidFill>
                <a:uFillTx/>
                <a:latin typeface="Constantia"/>
                <a:hlinkClick r:id="rId7"/>
              </a:rPr>
              <a:t>Предельно допустимые нормы напряженности электромагнитного поля, создаваемого индукционными бытовыми печами, работающими на частоте 20 - 22 кГц" СН № 2550-82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. Значения ПДУ ЭМП для бытовой техники приведены ниже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Управляющая кнопка: назад 3">
            <a:hlinkClick r:id="" action="ppaction://hlinkshowjump?jump=previousslide"/>
          </p:cNvPr>
          <p:cNvSpPr/>
          <p:nvPr/>
        </p:nvSpPr>
        <p:spPr>
          <a:xfrm flipV="1">
            <a:off x="5857920" y="6714360"/>
            <a:ext cx="500040" cy="142920"/>
          </a:xfrm>
          <a:custGeom>
            <a:avLst/>
            <a:gdLst>
              <a:gd name="textAreaLeft" fmla="*/ 9000 w 500040"/>
              <a:gd name="textAreaRight" fmla="*/ 491040 w 50004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75437" h="21600">
                <a:moveTo>
                  <a:pt x="0" y="0"/>
                </a:moveTo>
                <a:lnTo>
                  <a:pt x="75437" y="0"/>
                </a:lnTo>
                <a:lnTo>
                  <a:pt x="75437" y="21600"/>
                </a:lnTo>
                <a:lnTo>
                  <a:pt x="0" y="21600"/>
                </a:lnTo>
                <a:close/>
              </a:path>
              <a:path fill="lightenLess" w="75437" h="21600">
                <a:moveTo>
                  <a:pt x="0" y="0"/>
                </a:moveTo>
                <a:lnTo>
                  <a:pt x="75437" y="0"/>
                </a:lnTo>
                <a:lnTo>
                  <a:pt x="74037" y="1400"/>
                </a:lnTo>
                <a:lnTo>
                  <a:pt x="1400" y="1400"/>
                </a:lnTo>
                <a:close/>
              </a:path>
              <a:path fill="darken" w="75437" h="21600">
                <a:moveTo>
                  <a:pt x="75437" y="0"/>
                </a:moveTo>
                <a:lnTo>
                  <a:pt x="75437" y="21600"/>
                </a:lnTo>
                <a:lnTo>
                  <a:pt x="74037" y="20200"/>
                </a:lnTo>
                <a:lnTo>
                  <a:pt x="74037" y="1400"/>
                </a:lnTo>
                <a:close/>
              </a:path>
              <a:path fill="darkenLess" w="75437" h="21600">
                <a:moveTo>
                  <a:pt x="75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037" y="20200"/>
                </a:lnTo>
                <a:close/>
              </a:path>
              <a:path fill="lighten" w="75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437" h="21600">
                <a:moveTo>
                  <a:pt x="30712" y="10800"/>
                </a:moveTo>
                <a:lnTo>
                  <a:pt x="44725" y="3794"/>
                </a:lnTo>
                <a:lnTo>
                  <a:pt x="44725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Управляющая кнопка: возврат 4">
            <a:hlinkClick r:id="" action="ppaction://hlinkshowjump?jump=previousslide"/>
          </p:cNvPr>
          <p:cNvSpPr/>
          <p:nvPr/>
        </p:nvSpPr>
        <p:spPr>
          <a:xfrm>
            <a:off x="6429240" y="6715080"/>
            <a:ext cx="500040" cy="142920"/>
          </a:xfrm>
          <a:custGeom>
            <a:avLst/>
            <a:gdLst>
              <a:gd name="textAreaLeft" fmla="*/ 9000 w 500040"/>
              <a:gd name="textAreaRight" fmla="*/ 491040 w 50004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75437" h="21600">
                <a:moveTo>
                  <a:pt x="0" y="0"/>
                </a:moveTo>
                <a:lnTo>
                  <a:pt x="75437" y="0"/>
                </a:lnTo>
                <a:lnTo>
                  <a:pt x="75437" y="21600"/>
                </a:lnTo>
                <a:lnTo>
                  <a:pt x="0" y="21600"/>
                </a:lnTo>
                <a:close/>
              </a:path>
              <a:path fill="lightenLess" w="75437" h="21600">
                <a:moveTo>
                  <a:pt x="0" y="0"/>
                </a:moveTo>
                <a:lnTo>
                  <a:pt x="75437" y="0"/>
                </a:lnTo>
                <a:lnTo>
                  <a:pt x="74037" y="1400"/>
                </a:lnTo>
                <a:lnTo>
                  <a:pt x="1400" y="1400"/>
                </a:lnTo>
                <a:close/>
              </a:path>
              <a:path fill="darken" w="75437" h="21600">
                <a:moveTo>
                  <a:pt x="75437" y="0"/>
                </a:moveTo>
                <a:lnTo>
                  <a:pt x="75437" y="21600"/>
                </a:lnTo>
                <a:lnTo>
                  <a:pt x="74037" y="20200"/>
                </a:lnTo>
                <a:lnTo>
                  <a:pt x="74037" y="1400"/>
                </a:lnTo>
                <a:close/>
              </a:path>
              <a:path fill="darkenLess" w="75437" h="21600">
                <a:moveTo>
                  <a:pt x="75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037" y="20200"/>
                </a:lnTo>
                <a:close/>
              </a:path>
              <a:path fill="lighten" w="75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437" h="21600">
                <a:moveTo>
                  <a:pt x="30712" y="7493"/>
                </a:moveTo>
                <a:lnTo>
                  <a:pt x="34220" y="7493"/>
                </a:lnTo>
                <a:lnTo>
                  <a:pt x="34220" y="12828"/>
                </a:lnTo>
                <a:cubicBezTo>
                  <a:pt x="34220" y="13751"/>
                  <a:pt x="35020" y="14482"/>
                  <a:pt x="36056" y="14482"/>
                </a:cubicBezTo>
                <a:lnTo>
                  <a:pt x="37719" y="14482"/>
                </a:lnTo>
                <a:cubicBezTo>
                  <a:pt x="38754" y="14482"/>
                  <a:pt x="39555" y="13751"/>
                  <a:pt x="39555" y="12828"/>
                </a:cubicBezTo>
                <a:lnTo>
                  <a:pt x="39555" y="7493"/>
                </a:lnTo>
                <a:lnTo>
                  <a:pt x="37719" y="7493"/>
                </a:lnTo>
                <a:lnTo>
                  <a:pt x="41226" y="3985"/>
                </a:lnTo>
                <a:lnTo>
                  <a:pt x="44899" y="7493"/>
                </a:lnTo>
                <a:lnTo>
                  <a:pt x="43063" y="7493"/>
                </a:lnTo>
                <a:lnTo>
                  <a:pt x="43063" y="12828"/>
                </a:lnTo>
                <a:cubicBezTo>
                  <a:pt x="43063" y="15596"/>
                  <a:pt x="40486" y="18155"/>
                  <a:pt x="37719" y="18155"/>
                </a:cubicBezTo>
                <a:lnTo>
                  <a:pt x="36056" y="18155"/>
                </a:lnTo>
                <a:cubicBezTo>
                  <a:pt x="33288" y="18155"/>
                  <a:pt x="30712" y="15596"/>
                  <a:pt x="30712" y="12828"/>
                </a:cubicBez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7000920" y="6715080"/>
            <a:ext cx="571320" cy="142920"/>
          </a:xfrm>
          <a:custGeom>
            <a:avLst/>
            <a:gdLst>
              <a:gd name="textAreaLeft" fmla="*/ 9000 w 571320"/>
              <a:gd name="textAreaRight" fmla="*/ 562320 w 5713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86183" h="21600">
                <a:moveTo>
                  <a:pt x="0" y="0"/>
                </a:moveTo>
                <a:lnTo>
                  <a:pt x="86183" y="0"/>
                </a:lnTo>
                <a:lnTo>
                  <a:pt x="86183" y="21600"/>
                </a:lnTo>
                <a:lnTo>
                  <a:pt x="0" y="21600"/>
                </a:lnTo>
                <a:close/>
              </a:path>
              <a:path fill="lightenLess" w="86183" h="21600">
                <a:moveTo>
                  <a:pt x="0" y="0"/>
                </a:moveTo>
                <a:lnTo>
                  <a:pt x="86183" y="0"/>
                </a:lnTo>
                <a:lnTo>
                  <a:pt x="84783" y="1400"/>
                </a:lnTo>
                <a:lnTo>
                  <a:pt x="1400" y="1400"/>
                </a:lnTo>
                <a:close/>
              </a:path>
              <a:path fill="darken" w="86183" h="21600">
                <a:moveTo>
                  <a:pt x="86183" y="0"/>
                </a:moveTo>
                <a:lnTo>
                  <a:pt x="86183" y="21600"/>
                </a:lnTo>
                <a:lnTo>
                  <a:pt x="84783" y="20200"/>
                </a:lnTo>
                <a:lnTo>
                  <a:pt x="84783" y="1400"/>
                </a:lnTo>
                <a:close/>
              </a:path>
              <a:path fill="darkenLess" w="86183" h="21600">
                <a:moveTo>
                  <a:pt x="86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783" y="20200"/>
                </a:lnTo>
                <a:close/>
              </a:path>
              <a:path fill="lighten" w="86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183" h="21600">
                <a:moveTo>
                  <a:pt x="36085" y="3794"/>
                </a:moveTo>
                <a:lnTo>
                  <a:pt x="50098" y="10800"/>
                </a:lnTo>
                <a:lnTo>
                  <a:pt x="36085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272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Источник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c4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Диапазон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3fe85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Значение ПДУ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ef2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Примечание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af2"/>
                    </a:solidFill>
                  </a:tcPr>
                </a:tc>
              </a:tr>
              <a:tr h="274680">
                <a:tc row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Индукционные печ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fdfff"/>
                    </a:solidFill>
                  </a:tcPr>
                </a:tc>
                <a:tc row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0 - 22 кГц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ffc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500 В/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d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Условия измерения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dff7"/>
                    </a:solidFill>
                  </a:tcPr>
                </a:tc>
              </a:tr>
              <a:tr h="273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ff7"/>
                    </a:solidFill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4 А/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d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расстояние 0,3 м от корпус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dff7"/>
                    </a:solidFill>
                  </a:tcPr>
                </a:tc>
              </a:tr>
              <a:tr h="272880">
                <a:tc row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СВЧ печ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fdfff"/>
                    </a:solidFill>
                  </a:tcPr>
                </a:tc>
                <a:tc row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,45 ГГц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ffc4"/>
                    </a:solidFill>
                  </a:tcPr>
                </a:tc>
                <a:tc row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0 мкВт/см</a:t>
                      </a:r>
                      <a:r>
                        <a:rPr b="0" lang="en-US" sz="7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d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Условия измерения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dff7"/>
                    </a:solidFill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ff7"/>
                    </a:solidFill>
                  </a:tcPr>
                </a:tc>
              </a:tr>
              <a:tr h="47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расстояние 0,50 </a:t>
                      </a: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0,05 м от любой точки, при нагрузке 1 литр воды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dff7"/>
                    </a:solidFill>
                  </a:tcPr>
                </a:tc>
              </a:tr>
              <a:tr h="287280">
                <a:tc rowSpan="9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Видеодисплейный терминал ПЭВ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fdfff"/>
                    </a:solidFill>
                  </a:tcPr>
                </a:tc>
                <a:tc row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5 Гц - 2 кГц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ffc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Е</a:t>
                      </a:r>
                      <a:r>
                        <a:rPr b="0" lang="ru-RU" sz="7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пду </a:t>
                      </a:r>
                      <a:r>
                        <a:rPr b="0" lang="ru-RU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= 25 В/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d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Условия измерения: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dff7"/>
                    </a:solidFill>
                  </a:tcPr>
                </a:tc>
              </a:tr>
              <a:tr h="27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ff7"/>
                    </a:solidFill>
                  </a:tcPr>
                </a:tc>
              </a:tr>
              <a:tr h="49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В</a:t>
                      </a:r>
                      <a:r>
                        <a:rPr b="0" lang="ru-RU" sz="7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пду </a:t>
                      </a:r>
                      <a:r>
                        <a:rPr b="0" lang="ru-RU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= 250 нТ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d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расстояние 0,5 м вокруг монитора ПЭВ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ff7"/>
                    </a:solidFill>
                  </a:tcPr>
                </a:tc>
              </a:tr>
              <a:tr h="28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 - 400 кГц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ffc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Е</a:t>
                      </a:r>
                      <a:r>
                        <a:rPr b="0" lang="ru-RU" sz="7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пду </a:t>
                      </a:r>
                      <a:r>
                        <a:rPr b="0" lang="ru-RU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= 2,5 В/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d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ff7"/>
                    </a:solidFill>
                  </a:tcPr>
                </a:tc>
              </a:tr>
              <a:tr h="27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ff7"/>
                    </a:solidFill>
                  </a:tcPr>
                </a:tc>
              </a:tr>
              <a:tr h="28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В</a:t>
                      </a:r>
                      <a:r>
                        <a:rPr b="0" lang="ru-RU" sz="7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пду </a:t>
                      </a:r>
                      <a:r>
                        <a:rPr b="0" lang="ru-RU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= 25 нТ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d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dff7"/>
                    </a:solidFill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поверхностный электростатический потенциа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ffc4"/>
                    </a:solidFill>
                  </a:tcPr>
                </a:tc>
                <a:tc row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V = 500 </a:t>
                      </a:r>
                      <a:r>
                        <a:rPr b="0" lang="ru-RU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В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d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Условия измерения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dff7"/>
                    </a:solidFill>
                  </a:tcPr>
                </a:tc>
              </a:tr>
              <a:tr h="27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ff7"/>
                    </a:solidFill>
                  </a:tcPr>
                </a:tc>
              </a:tr>
              <a:tr h="47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расстояние 0,1 м от экрана монитора ПЭВ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dff7"/>
                    </a:solidFill>
                  </a:tcPr>
                </a:tc>
              </a:tr>
              <a:tr h="272880">
                <a:tc rowSpan="6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Прочая продукц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fd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50 Гц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ffc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Е = 500 В/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d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Условия измерения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dff7"/>
                    </a:solidFill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,3 - 300 кГц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ffc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Е = 25 В/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d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ff7"/>
                    </a:solidFill>
                  </a:tcPr>
                </a:tc>
              </a:tr>
              <a:tr h="43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,3 - 3 МГц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ffc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Е = 15 В/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d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расстояние 0,5 м от корпуса издел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ff7"/>
                    </a:solidFill>
                  </a:tcPr>
                </a:tc>
              </a:tr>
              <a:tr h="273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3 - 30 МГц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ffc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Е = 10 В/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d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ff7"/>
                    </a:solidFill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30 - 300 МГц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ffc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Е = 3 В/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d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ff7"/>
                    </a:solidFill>
                  </a:tcPr>
                </a:tc>
              </a:tr>
              <a:tr h="27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,3 - 30 ГГц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ffc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ППЭ = 10 мкВт/см</a:t>
                      </a:r>
                      <a:r>
                        <a:rPr b="0" lang="en-US" sz="7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d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d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2"/>
          <a:stretch/>
        </p:blipFill>
        <p:spPr>
          <a:xfrm>
            <a:off x="55440" y="-585720"/>
            <a:ext cx="8528040" cy="201276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530280" y="1428840"/>
            <a:ext cx="7772400" cy="5286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9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Человеческий организм </a:t>
            </a: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всегда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реагирует на электромагнитное поле. Однако, для того чтобы эта реакция переросла в паталогию и привела к заболеванию необходимо совпадение ряда условий – в том числе достаточно высокий уровень поля и продолжительность облучения. Поэтому, при использовании бытовой техники с малыми уровнями поля и/или кратковременно ЭМП бытовой техники не оказывает влияния на здоровье основной части населения. Потенциальная опасность может грозить лишь людям с повышенной чувствительностью к ЭМП и аллергикам, также зачастую обладающим повышенной чувствительностью к ЭМП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Кроме того, согласно современным представлениям, магнитное поле промышленной частоты может быть опасным для здоровья человека, если происходит продолжительное облучение ( регулярно, не менее 8 часов в сутки, в течение нескольких лет) с уровнем выше 0,2 микротесл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Управляющая кнопка: назад 3">
            <a:hlinkClick r:id="" action="ppaction://hlinkshowjump?jump=previousslide"/>
          </p:cNvPr>
          <p:cNvSpPr/>
          <p:nvPr/>
        </p:nvSpPr>
        <p:spPr>
          <a:xfrm flipV="1">
            <a:off x="5857920" y="6714360"/>
            <a:ext cx="500040" cy="142920"/>
          </a:xfrm>
          <a:custGeom>
            <a:avLst/>
            <a:gdLst>
              <a:gd name="textAreaLeft" fmla="*/ 9000 w 500040"/>
              <a:gd name="textAreaRight" fmla="*/ 491040 w 50004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75437" h="21600">
                <a:moveTo>
                  <a:pt x="0" y="0"/>
                </a:moveTo>
                <a:lnTo>
                  <a:pt x="75437" y="0"/>
                </a:lnTo>
                <a:lnTo>
                  <a:pt x="75437" y="21600"/>
                </a:lnTo>
                <a:lnTo>
                  <a:pt x="0" y="21600"/>
                </a:lnTo>
                <a:close/>
              </a:path>
              <a:path fill="lightenLess" w="75437" h="21600">
                <a:moveTo>
                  <a:pt x="0" y="0"/>
                </a:moveTo>
                <a:lnTo>
                  <a:pt x="75437" y="0"/>
                </a:lnTo>
                <a:lnTo>
                  <a:pt x="74037" y="1400"/>
                </a:lnTo>
                <a:lnTo>
                  <a:pt x="1400" y="1400"/>
                </a:lnTo>
                <a:close/>
              </a:path>
              <a:path fill="darken" w="75437" h="21600">
                <a:moveTo>
                  <a:pt x="75437" y="0"/>
                </a:moveTo>
                <a:lnTo>
                  <a:pt x="75437" y="21600"/>
                </a:lnTo>
                <a:lnTo>
                  <a:pt x="74037" y="20200"/>
                </a:lnTo>
                <a:lnTo>
                  <a:pt x="74037" y="1400"/>
                </a:lnTo>
                <a:close/>
              </a:path>
              <a:path fill="darkenLess" w="75437" h="21600">
                <a:moveTo>
                  <a:pt x="75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037" y="20200"/>
                </a:lnTo>
                <a:close/>
              </a:path>
              <a:path fill="lighten" w="75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437" h="21600">
                <a:moveTo>
                  <a:pt x="30712" y="10800"/>
                </a:moveTo>
                <a:lnTo>
                  <a:pt x="44725" y="3794"/>
                </a:lnTo>
                <a:lnTo>
                  <a:pt x="44725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7000920" y="6715080"/>
            <a:ext cx="571320" cy="142920"/>
          </a:xfrm>
          <a:custGeom>
            <a:avLst/>
            <a:gdLst>
              <a:gd name="textAreaLeft" fmla="*/ 9000 w 571320"/>
              <a:gd name="textAreaRight" fmla="*/ 562320 w 5713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86183" h="21600">
                <a:moveTo>
                  <a:pt x="0" y="0"/>
                </a:moveTo>
                <a:lnTo>
                  <a:pt x="86183" y="0"/>
                </a:lnTo>
                <a:lnTo>
                  <a:pt x="86183" y="21600"/>
                </a:lnTo>
                <a:lnTo>
                  <a:pt x="0" y="21600"/>
                </a:lnTo>
                <a:close/>
              </a:path>
              <a:path fill="lightenLess" w="86183" h="21600">
                <a:moveTo>
                  <a:pt x="0" y="0"/>
                </a:moveTo>
                <a:lnTo>
                  <a:pt x="86183" y="0"/>
                </a:lnTo>
                <a:lnTo>
                  <a:pt x="84783" y="1400"/>
                </a:lnTo>
                <a:lnTo>
                  <a:pt x="1400" y="1400"/>
                </a:lnTo>
                <a:close/>
              </a:path>
              <a:path fill="darken" w="86183" h="21600">
                <a:moveTo>
                  <a:pt x="86183" y="0"/>
                </a:moveTo>
                <a:lnTo>
                  <a:pt x="86183" y="21600"/>
                </a:lnTo>
                <a:lnTo>
                  <a:pt x="84783" y="20200"/>
                </a:lnTo>
                <a:lnTo>
                  <a:pt x="84783" y="1400"/>
                </a:lnTo>
                <a:close/>
              </a:path>
              <a:path fill="darkenLess" w="86183" h="21600">
                <a:moveTo>
                  <a:pt x="86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783" y="20200"/>
                </a:lnTo>
                <a:close/>
              </a:path>
              <a:path fill="lighten" w="86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183" h="21600">
                <a:moveTo>
                  <a:pt x="36085" y="3794"/>
                </a:moveTo>
                <a:lnTo>
                  <a:pt x="50098" y="10800"/>
                </a:lnTo>
                <a:lnTo>
                  <a:pt x="36085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Управляющая кнопка: возврат 5">
            <a:hlinkClick r:id="" action="ppaction://hlinkshowjump?jump=previousslide"/>
          </p:cNvPr>
          <p:cNvSpPr/>
          <p:nvPr/>
        </p:nvSpPr>
        <p:spPr>
          <a:xfrm>
            <a:off x="6429240" y="6715080"/>
            <a:ext cx="500040" cy="142920"/>
          </a:xfrm>
          <a:custGeom>
            <a:avLst/>
            <a:gdLst>
              <a:gd name="textAreaLeft" fmla="*/ 9000 w 500040"/>
              <a:gd name="textAreaRight" fmla="*/ 491040 w 50004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75437" h="21600">
                <a:moveTo>
                  <a:pt x="0" y="0"/>
                </a:moveTo>
                <a:lnTo>
                  <a:pt x="75437" y="0"/>
                </a:lnTo>
                <a:lnTo>
                  <a:pt x="75437" y="21600"/>
                </a:lnTo>
                <a:lnTo>
                  <a:pt x="0" y="21600"/>
                </a:lnTo>
                <a:close/>
              </a:path>
              <a:path fill="lightenLess" w="75437" h="21600">
                <a:moveTo>
                  <a:pt x="0" y="0"/>
                </a:moveTo>
                <a:lnTo>
                  <a:pt x="75437" y="0"/>
                </a:lnTo>
                <a:lnTo>
                  <a:pt x="74037" y="1400"/>
                </a:lnTo>
                <a:lnTo>
                  <a:pt x="1400" y="1400"/>
                </a:lnTo>
                <a:close/>
              </a:path>
              <a:path fill="darken" w="75437" h="21600">
                <a:moveTo>
                  <a:pt x="75437" y="0"/>
                </a:moveTo>
                <a:lnTo>
                  <a:pt x="75437" y="21600"/>
                </a:lnTo>
                <a:lnTo>
                  <a:pt x="74037" y="20200"/>
                </a:lnTo>
                <a:lnTo>
                  <a:pt x="74037" y="1400"/>
                </a:lnTo>
                <a:close/>
              </a:path>
              <a:path fill="darkenLess" w="75437" h="21600">
                <a:moveTo>
                  <a:pt x="75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037" y="20200"/>
                </a:lnTo>
                <a:close/>
              </a:path>
              <a:path fill="lighten" w="75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437" h="21600">
                <a:moveTo>
                  <a:pt x="30712" y="7493"/>
                </a:moveTo>
                <a:lnTo>
                  <a:pt x="34220" y="7493"/>
                </a:lnTo>
                <a:lnTo>
                  <a:pt x="34220" y="12828"/>
                </a:lnTo>
                <a:cubicBezTo>
                  <a:pt x="34220" y="13751"/>
                  <a:pt x="35020" y="14482"/>
                  <a:pt x="36056" y="14482"/>
                </a:cubicBezTo>
                <a:lnTo>
                  <a:pt x="37719" y="14482"/>
                </a:lnTo>
                <a:cubicBezTo>
                  <a:pt x="38754" y="14482"/>
                  <a:pt x="39555" y="13751"/>
                  <a:pt x="39555" y="12828"/>
                </a:cubicBezTo>
                <a:lnTo>
                  <a:pt x="39555" y="7493"/>
                </a:lnTo>
                <a:lnTo>
                  <a:pt x="37719" y="7493"/>
                </a:lnTo>
                <a:lnTo>
                  <a:pt x="41226" y="3985"/>
                </a:lnTo>
                <a:lnTo>
                  <a:pt x="44899" y="7493"/>
                </a:lnTo>
                <a:lnTo>
                  <a:pt x="43063" y="7493"/>
                </a:lnTo>
                <a:lnTo>
                  <a:pt x="43063" y="12828"/>
                </a:lnTo>
                <a:cubicBezTo>
                  <a:pt x="43063" y="15596"/>
                  <a:pt x="40486" y="18155"/>
                  <a:pt x="37719" y="18155"/>
                </a:cubicBezTo>
                <a:lnTo>
                  <a:pt x="36056" y="18155"/>
                </a:lnTo>
                <a:cubicBezTo>
                  <a:pt x="33288" y="18155"/>
                  <a:pt x="30712" y="15596"/>
                  <a:pt x="30712" y="12828"/>
                </a:cubicBez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0T14:10:41Z</dcterms:created>
  <dc:creator>Галина</dc:creator>
  <dc:description/>
  <dc:language>en-US</dc:language>
  <cp:lastModifiedBy>Галина</cp:lastModifiedBy>
  <dcterms:modified xsi:type="dcterms:W3CDTF">2011-06-20T14:16:53Z</dcterms:modified>
  <cp:revision>1</cp:revision>
  <dc:subject/>
  <dc:title>Слайд 1</dc:title>
</cp:coreProperties>
</file>