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A9A-7B5A-433E-8BC8-0F58CA2B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A5E-9816-44BA-85C2-9A7C839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1DE-E1B0-4763-9D0F-34BEF2ED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6AC-9C43-4645-B759-5515DA6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CFF2-A032-45A3-895C-6014A9ED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280-21BB-4100-BE5E-3474D6CD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5F3F-611F-4AE7-BDF0-667E411D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47A4-9CB4-450C-8E68-B606989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753-1C28-4D0E-8A54-6A9D858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990A-7580-4EC7-BE6D-65A64B84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3738-BC0F-4905-9C84-3BCBD65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322-A55D-4E6B-AE7B-6F8FCCD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D81-3ADC-40F0-B8E5-B26D365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6A3-049F-4117-8495-42E1AB0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7EB-CE91-4942-BA07-CCB1E05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811-0CE4-4D1F-8460-724F5421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5FE-E635-4A75-BF93-21B0FFCE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B56C-B0D0-4CD2-9E32-51E0B8F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8E68-7E2A-4263-B481-85B8E065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3CF0-C5C7-4C45-880B-B7779740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C659-4356-4063-ADF5-280B06F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B352-F4F3-4B0B-82D5-B653E87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25F-420D-4FE5-828D-B0C81F3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47BA-691B-4ED6-A239-8FC436F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E5D8-6BFD-4504-A207-ACCEB31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F1C4-C084-486B-836D-36E84D6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8B42-9049-491E-8894-EA77498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428B-9F76-438D-8CAF-CAF9243F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246D-9407-4CD8-9E88-C6EA4FC4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F17E-38D2-40FF-9B6B-B0E397D6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8432-28C5-40BA-8EF6-9C3590B2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977B-5BE4-4800-988C-B188206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5C6C-5D08-479A-8236-212D91F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C07-AC8B-4F43-A89C-91307CE6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0A016-A3B9-4886-A3CE-68A13780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E0C7-D14B-41A9-B860-00C3CEE7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7598-593A-4A05-9BAA-FB5F150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B0D0-1EB0-4A13-9B70-8118CE7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45E7-D6DA-4878-89CC-61D9CB3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A906-B77A-477C-A3B1-1C52E404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DCFC-D7E3-48FF-9474-8E065DF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7FBB-C4ED-4326-ABBF-F9B382C7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E2BB-506A-406B-98DD-0BD8D4D6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6C4-9A69-40A4-99DD-78FD65BF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6FF-9B33-434C-9E03-95667B74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5BA-5C47-4227-B1EE-86161C4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B5B-3118-463A-AA94-4BA6773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1EC-E28F-40AF-B560-DCC816D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EFA-2919-49E0-A98B-34140B99A9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E62-8B7A-42AF-828F-9CC07936B2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394-0A9B-4542-8A6D-749535BAD4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BA5-0DE9-4BB7-B512-3DF72B8E67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hyperlink" Target="http://www.pole.com.ru/norm.htm#nhome1" TargetMode="External"/><Relationship Id="rId4" Type="http://schemas.openxmlformats.org/officeDocument/2006/relationships/hyperlink" Target="http://www.pole.com.ru/norm.htm#nhome1" TargetMode="External"/><Relationship Id="rId5" Type="http://schemas.openxmlformats.org/officeDocument/2006/relationships/hyperlink" Target="http://www.pole.com.ru/norm.htm#nhome1" TargetMode="External"/><Relationship Id="rId6" Type="http://schemas.openxmlformats.org/officeDocument/2006/relationships/hyperlink" Target="http://www.pole.com.ru/norm.htm#nmicro" TargetMode="External"/><Relationship Id="rId7" Type="http://schemas.openxmlformats.org/officeDocument/2006/relationships/hyperlink" Target="http://www.pole.com.ru/norm.htm#ninduct" TargetMode="External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820728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втор: Иванчикова О.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кадемический колледж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чи -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48276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0280" y="85716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обретая бытовую технику проверяйте в Гигиеническом заключении (сертификате) отметку о соответствии изделия требованиям "Межгосударственных санитарных норм допустимых уровней физических факторов при применении товаров народного потребления в бытовых условиях", МСанПиН 001-96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пользуйте технику с меньшей потребляемой мощностью: магнитные поля промышленной частоты будут меньше при прочих равных условия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 потенциально неблагоприятным источникам магнитного поля промышленной частоты в квартире относятся холодильники с системой “без инея”, некоторые типы “теплых полов”, нагреватели, телевизоры, некоторые системы сигнализации, различного рода зарядные устройства, выпрямители и преобразователи тока – спальное место должно быть на расстоянии не менее 2-х метров от этих предметов если они работают во время Вашего ночного отдых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размещении в квартире бытовой техники руководствуйтесь принципами приведенными на рисунках а и б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21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Рисунок а:</a:t>
            </a:r>
            <a:r>
              <a:rPr b="1" i="1" lang="ru-RU" sz="1800" spc="-1" strike="noStrike">
                <a:solidFill>
                  <a:srgbClr val="04617b"/>
                </a:solidFill>
                <a:latin typeface="Calibri"/>
              </a:rPr>
              <a:t>Вариант неправильного размещения бытовых электроприборов в помещении квартир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4" descr="homeba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20520" y="517680"/>
            <a:ext cx="5891400" cy="50162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9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785520"/>
            <a:ext cx="2212920" cy="38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Рисунок б: </a:t>
            </a:r>
            <a:r>
              <a:rPr b="1" i="1" lang="en-US" sz="2000" spc="-1" strike="noStrike">
                <a:solidFill>
                  <a:srgbClr val="04617b"/>
                </a:solidFill>
                <a:latin typeface="Calibri"/>
              </a:rPr>
              <a:t>Вариант правильного размещения бытовых электроприборов в помещениях квартир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4" descr="homegoo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30240" y="579240"/>
            <a:ext cx="6099120" cy="51926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4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028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икроволновая печь (или СВЧ-печь) в своей работе использует для разогрева пищи электромагнитное поле, называемое также микроволновым излучением или СВЧ-излучением. Рабочая частота СВЧ-излучения микроволновых печей составляет 2,45 ГГц. Именно этого излучения и боятся многие люди. Однако, современные микроволновые печи оборудованы достаточно совершенной защитой, которая не дает электромагнитному полю вырываться за пределы рабочего объема. Вместе с тем, нельзя говорить что поле совершенно не проникает вне микроволновой печи. По разным причинам часть электромагнитного поля предназначенного для курицы проникает наружу, особенно интенсивно, как правило, в районе правого нижнего угла дверц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274680" y="-6480"/>
            <a:ext cx="8034120" cy="701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028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Для обеспечения безопасности при использовании печей в быту в России действуют санитарные нормы, ограничивающие предельную величину утечки СВЧ-излучения микроволновой печи. Называются они "Предельно допустимые уровни плотности потока энергии, создаваемой микроволновыми печами" и имеют обозначение СН № 2666-83. Согласно этим санитарным нормам, величина плотности потока энергии электромагнитного поля не должна превышать 10 мкВт/с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на расстоянии 50 см от любой точки корпуса печи при нагреве 1 литра воды. На практике практически все новые современные микроволновые печи выдерживают это требование с большим запасом. Тем не менее, при покупке новой печи надо убедиться, что в сертификате соответствия зафиксировано соответствие вашей печи требованиям этих санитарных норм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до помнить, что со временем степень защиты может снижаться, в основном из-за появления микрощелей в уплотнении дверцы. Это может происходить как из-за попадания грязи, так и из-за механических повреждений. Поэтому дверца и ее уплотнение требует аккуратности в обращении и тщательного ухода. Срок гарантированной стойкости защиты от утечек электромагнитного поля при нормальной эксплуатации - несколько лет. Через 5-6 лет эксплуатации целесообразно проверить качество защиты для чего пригласить специалиста из специально аккредитованной лаборатории по контролю электромагнитного пол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роме СВЧ-излучения работу микроволновой печи сопровождает интенсивное магнитное поле, создаваемое током промышленной частоты 50 Гц протекающим в системе электропитания печи. При этом микроволновая печь является одним из наиболее мощных источников магнитного поля в квартире. Для населения уровень магнитного поля промышленной частоты в нашей стране до сих пор не ограничен несмотря на его существенное действие на организм человека при продолжительном облучении. В бытовых условиях однократное кратковременнное включение ( на несколько минут ) не окажет существенного влияния на здоровье человека. Однако, сейчас часто бытовая микроволновая печь используется для разогрева пищи в кафе и в сходных других производственных условиях. При этом работающий с ней человек попадает в ситуацию хронического облучения магнитным полем промышленной частоты. В таком случае на рабочем месте необходим обязательный контроль магнитного поля промышленной частоты и СВЧ-излучен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028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оверяйте при покупке в Гигиеническом заключении ( или соответствующем сертификате) запись о соответствии микроволновой печи санитарным нормам СН № 2666-83 "</a:t>
            </a:r>
            <a:r>
              <a:rPr b="0" i="1" lang="en-US" sz="2200" spc="-1" strike="noStrike">
                <a:solidFill>
                  <a:srgbClr val="ffffff"/>
                </a:solidFill>
                <a:latin typeface="Constantia"/>
              </a:rPr>
              <a:t>Предельно допустимые уровни плотности потока энергии, создаваемой микроволновыми печами"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Учитывая специфику микроволновой печи, целесообразно включив ее отойти на расстояние не менее 1,5 метра - в этом случае гарантированно электромагнитное поле вас не затронет вообщ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и покупке микроволновой печи при прочих равных заявленных условиях надо выбирать печь с меньшим энергопотреблением - она создает меньший уровень магнитного поля промышленной частот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Администратор\Мои документы\Bluetooth\inbox\Фото023.jpg"/>
          <p:cNvPicPr/>
          <p:nvPr/>
        </p:nvPicPr>
        <p:blipFill>
          <a:blip r:embed="rId3"/>
          <a:stretch/>
        </p:blipFill>
        <p:spPr>
          <a:xfrm>
            <a:off x="0" y="1857240"/>
            <a:ext cx="5429160" cy="421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Bluetooth\inbox\Фото024.jpg"/>
          <p:cNvPicPr/>
          <p:nvPr/>
        </p:nvPicPr>
        <p:blipFill>
          <a:blip r:embed="rId4"/>
          <a:stretch/>
        </p:blipFill>
        <p:spPr>
          <a:xfrm>
            <a:off x="5340240" y="1214280"/>
            <a:ext cx="3803760" cy="507240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4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Управляющая кнопка: домой 6"/>
          <p:cNvSpPr/>
          <p:nvPr/>
        </p:nvSpPr>
        <p:spPr>
          <a:xfrm>
            <a:off x="707220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7719" y="3837"/>
                </a:moveTo>
                <a:lnTo>
                  <a:pt x="40295" y="6448"/>
                </a:ln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lnTo>
                  <a:pt x="44682" y="10800"/>
                </a:lnTo>
                <a:lnTo>
                  <a:pt x="43028" y="10800"/>
                </a:lnTo>
                <a:lnTo>
                  <a:pt x="43028" y="17989"/>
                </a:lnTo>
                <a:lnTo>
                  <a:pt x="32409" y="17989"/>
                </a:lnTo>
                <a:lnTo>
                  <a:pt x="32409" y="10800"/>
                </a:lnTo>
                <a:lnTo>
                  <a:pt x="30756" y="10800"/>
                </a:lnTo>
                <a:close/>
              </a:path>
              <a:path fill="darkenLess" w="75437" h="21600">
                <a:moveTo>
                  <a:pt x="40295" y="6448"/>
                </a:move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close/>
              </a:path>
              <a:path fill="darkenLess" w="75437" h="21600">
                <a:moveTo>
                  <a:pt x="36796" y="14299"/>
                </a:moveTo>
                <a:lnTo>
                  <a:pt x="38641" y="14299"/>
                </a:lnTo>
                <a:lnTo>
                  <a:pt x="38641" y="17989"/>
                </a:lnTo>
                <a:lnTo>
                  <a:pt x="43028" y="17989"/>
                </a:lnTo>
                <a:lnTo>
                  <a:pt x="43028" y="10800"/>
                </a:lnTo>
                <a:lnTo>
                  <a:pt x="32409" y="10800"/>
                </a:lnTo>
                <a:lnTo>
                  <a:pt x="32409" y="17989"/>
                </a:lnTo>
                <a:lnTo>
                  <a:pt x="36796" y="1798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7785360" cy="135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1.Источни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2.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Санитарно- гигиеническое нормирование ЭМП бытовых прибор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3.Возможные биологические эффек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4.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5.Микроволновые печ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   -источни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-обеспечение безопас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-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55440" y="-30492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92880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бытовые приборы, работающие с использованием электрического тока, являются источниками электромагнитных по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иболее мощными следует признать СВЧ-печи, аэрогрили, холодильники с системой “без инея”, кухонные вытяжки, электроплиты, телевизоры. Реально создаваемое ЭМП в зависимости от конкретной модели и режима работы может сильно различаться среди оборудования одного типа (смотри рисунок 1). Все ниже приведенные данные относятся к магнитному полю промышленной частоты 50 Гц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Значения магнитного поля тесно связаны с мощностью прибора - чем она выше, тем выше магнитное поле при его работе. Значения электрического поля промышленной частоты практически всех электробытовых приборов не превышают нескольких десятков В/м на расстоянии 0,5 м, что значительно меньше ПДУ 500 В/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Средние уровни магнитного поля промышленной частоты бытовых электроприборов на расстоянии 0,3 м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5" descr="srcgrph.gif"/>
          <p:cNvPicPr/>
          <p:nvPr/>
        </p:nvPicPr>
        <p:blipFill>
          <a:blip r:embed="rId2"/>
          <a:srcRect l="691" t="0" r="69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8" name="Прямоугольник 4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Управляющая кнопка: возврат 7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1857240"/>
          <a:ext cx="10787040" cy="500076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  <a:gridCol w="2103480"/>
              </a:tblGrid>
              <a:tr h="117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Расстояние, на котором фиксируется величина больше 0,2 мкТ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, оснащенный системой "No frost"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2 м от дверцы; 1,4 м от задней стен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 обычный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1 м от мо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Утюг (режим нагрев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25 м от ру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елевизор 14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1 м от экрана; 1,2 м от боковой сте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ради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3 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оршер с двумя лампами по 75 В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03 м (от пров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дух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4 м от передне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Аэрогри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4 м от боково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Изменение уровня магнитного поля промышленной частоты бытовых электроприборов в зависимости расстояния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4" descr="ftrans.gif"/>
          <p:cNvPicPr/>
          <p:nvPr/>
        </p:nvPicPr>
        <p:blipFill>
          <a:blip r:embed="rId2"/>
          <a:srcRect l="11590" t="0" r="11590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17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334360" cy="1420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новным документом, устанавливающим требования к ПДУ ЭМП бытовых приборов являются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ежгосударственные санитарные нормы допустимых уровней физических факторов при применении товаров народного потребления в бытовых условиях",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МСанПиН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 001-96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Для отдельных видов товаров установлены свои нормы: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Предельно допустимые уровни плотности потока энергии, создаваемой микроволновыми печами" СН № 2666-83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едельно допустимые нормы напряженности электромагнитного поля, создаваемого индукционными бытовыми печами, работающими на частоте 20 - 22 кГц" СН № 2550-82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Значения ПДУ ЭМП для бытовой техники приведены ниж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7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сточни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Диапазо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начение ПД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f2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имечан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af2"/>
                    </a:solidFill>
                  </a:tcPr>
                </a:tc>
              </a:tr>
              <a:tr h="2746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дукционные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 - 2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А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3 м от корпус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ВЧ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,45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0 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0,05 м от любой точки, при нагрузке 1 литр в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87280">
                <a:tc row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идеодисплейный терминал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 Гц - 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0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вокруг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- 4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,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оверхностный электростатический потенци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 = 500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1 м от экрана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чая проду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 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от корпуса изде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 - 3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 - 30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3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ПЭ = 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2"/>
          <a:stretch/>
        </p:blipFill>
        <p:spPr>
          <a:xfrm>
            <a:off x="55440" y="-585720"/>
            <a:ext cx="8528040" cy="201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0280" y="142884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ческий организм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егд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реагирует на электромагнитное поле. Однако, для того чтобы эта реакция переросла в паталогию и привела к заболеванию необходимо совпадение ряда условий – в том числе достаточно высокий уровень поля и продолжительность облучения. Поэтому, при использовании бытовой техники с малыми уровнями поля и/или кратковременно ЭМП бытовой техники не оказывает влияния на здоровье основной части населения. Потенциальная опасность может грозить лишь людям с повышенной чувствительностью к ЭМП и аллергикам, также зачастую обладающим повышенной чувствительностью к ЭМП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оме того, согласно современным представлениям, магнитное поле промышленной частоты может быть опасным для здоровья человека, если происходит продолжительное облучение ( регулярно, не менее 8 часов в сутки, в течение нескольких лет) с уровнем выше 0,2 микротес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4:10:41Z</dcterms:created>
  <dc:creator>Галина</dc:creator>
  <dc:description/>
  <dc:language>en-US</dc:language>
  <cp:lastModifiedBy>Галина</cp:lastModifiedBy>
  <dcterms:modified xsi:type="dcterms:W3CDTF">2011-06-20T14:16:53Z</dcterms:modified>
  <cp:revision>1</cp:revision>
  <dc:subject/>
  <dc:title>Слайд 1</dc:title>
</cp:coreProperties>
</file>