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3D8-64EF-4656-BE6C-96E2501C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D93-316E-4D01-84FF-6AD0CB5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A2F-F358-4871-B2EA-2A84C1EB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62E-00C0-4FDC-9336-D7673763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B9171-77E1-49D9-83F2-0E206BC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FE5F0-D7C8-4122-B08F-EAADD47B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636BA-3472-480E-B440-59A3BBD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E8FEB-C9AC-4794-A744-4D6DBC1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6AA20-6873-4391-962D-1A0A3DC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D387A-F4D0-4928-A878-13765CE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5BA73-8E7C-4620-A8A7-5E3A79A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472-CDFF-48C2-A602-171E5106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C70C-F53A-4B7E-BBBC-7DB8442C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3C9C1-8DF7-4013-8AD7-6C0A3B73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E1CE9-2204-40D8-84C8-6BD1EAD4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02A39-B76E-4968-B640-C7BC7A03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B5515-C4C3-49EA-B1EA-9B943664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6B4-8EC8-4D96-BB2F-86F7E1E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AA9-7DFE-488A-96B1-A9DAEA95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4E9-02F6-48F8-8D01-F620A5C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249-6219-41F8-9C59-7DCBFC5D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ECC-16F4-4DB5-8ADC-319F7DBC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954-C363-4F44-B5DA-7DBFA89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7BE-A6E5-49B0-ACBE-EC17FCF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EA3A-B61B-4957-B2FB-A18B33D88E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0763-0104-4456-B988-09D56B28B4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Королевство Исп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п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б Исп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аг Исп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Испания"/>
          <p:cNvPicPr/>
          <p:nvPr/>
        </p:nvPicPr>
        <p:blipFill>
          <a:blip r:embed="rId1"/>
          <a:stretch/>
        </p:blipFill>
        <p:spPr>
          <a:xfrm>
            <a:off x="5791320" y="4191120"/>
            <a:ext cx="2057400" cy="1309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Герб Испании"/>
          <p:cNvPicPr/>
          <p:nvPr/>
        </p:nvPicPr>
        <p:blipFill>
          <a:blip r:embed="rId2"/>
          <a:stretch/>
        </p:blipFill>
        <p:spPr>
          <a:xfrm>
            <a:off x="6095880" y="14479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295272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295272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 rot="10800000">
            <a:off x="684000" y="1235880"/>
            <a:ext cx="3662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ана в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фициальные язы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ский, каталанский, баскский, галисий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лиц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ри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пнейшие го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рид, Барсел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правлен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ственная конституционна монарх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ритор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-я в 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4 782 км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селе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тность29-е в 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9,7 чел./км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0 847 371 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лю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6705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— государство на юго-западе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нимает бо́льшую часть Пиренейского полуостр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ничит 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португалией на западе Пиренейского полуостро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британским владением Гибралтар на ю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ренейского полуостро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Марокко на севере Афр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Францией и Андоррой на севе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омывается Атлантическим океаном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е и севере, а также Средиземным морем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е и ю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cationSpain"/>
          <p:cNvPicPr/>
          <p:nvPr/>
        </p:nvPicPr>
        <p:blipFill>
          <a:blip r:embed="rId1"/>
          <a:stretch/>
        </p:blipFill>
        <p:spPr>
          <a:xfrm>
            <a:off x="2895480" y="4952880"/>
            <a:ext cx="365760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делится на три климатические зоны: Север страны (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исии до Каталонии) — подвержен влиянию Атланти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еана. Для этого района характерна мягкая, влажная зима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ренно теплое лето. Юго-восточное побережье (Андалусия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ремадура) — климат средиземноморского типа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ительно мягкой, короткой зимой и сухим, жарким летом.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го района типичен достаточно низкий уровень осадк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адающих преимущественно осенью и зимой. Центра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то — здесь климат резко континентальный, со значитель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падами между дневной и ночной температурой (в цен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и летом температура в течение дня поднимается до +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дусов, а ночью опускается до +15 градусов). Лето жаркое сухо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има сухая, холод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льеф Испании очень разнообразен. В рельефе доминирующ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ль играют системы горных хребтов и высокогорных плоскогор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скогорья и горы составляют около 90 % её территории. Поч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вину поверхности страны занимает обширное, самое больш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Европе высокое плоскогорье — Месета. Месета отлич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дованием плато, складчато-глыбовых хребтов и гор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ловин. На севере Месету окаймляют мощные Кантабрий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ы, которые протянулись вдоль побережья Бискайского зал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600 км, изолируя внутренние районы от влияния моря. Пирене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ют собой несколько параллельных хребт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гивающихся с запада на восток на 450 км. Здесь наход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их вершина — пик Ането, достигающий 3404м. Са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горная вершина Испании находится на о.Тенерифе — э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улкан Тейде, высота которого достигает 3718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лезные ископаем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ра Испании отличаются рудоносностью и располаг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ными запасами разнообразных руд. Главные место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зных ископаемых расположены в горных систем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оясывающих Месету, и в периферийных районах стра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спании имеются крупные запасы качественной железной р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содержанием металла до 50 %. По запасам медных пири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занимает первое место в Европе. Там же встреч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ганец и оло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близи португальской границы были обнаружены место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ана. По запасам ртути Испания занимает первое место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листическом мире. В руде, добываемой в Альмаден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держится до 6-9 % ртути. В Андалузии и Галисии встреча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рождения платины, золота и сереб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недавнего времени считалось, что в Испании нет нефти.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днее время. В верховьях Эбро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х глубинах обнаружены признаки неф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03T16:18:0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