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313-1828-4FB8-9466-984DD73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48A-895C-4C51-B596-577E27C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5B-64BE-403B-8BF9-E48C74C4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865-BEC5-4D9C-A237-F91684FA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B45F-D3C3-4300-B2A0-5131B328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DA10E-EC62-444D-941C-526F01A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BC85-2443-4D7D-9AF5-3640B79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A5179-23AB-406D-9BAE-56D16E6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E86B-5D11-47DD-990C-FAA8B5B1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4FB5-6FB8-43D7-95C0-B222A703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F36E2-BBC5-418D-A17D-427E461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B1A-AFD0-4E91-A7EA-FBEAEF12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B218-F2EB-4CC0-95F4-68F6480B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714E-1992-4E59-9B6B-C1CB8C7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2C4A5-44A5-44BF-8816-E218C725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D3C9B-9197-4C91-BCB8-F0F9BA06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C7C04-D65B-4A71-9D55-0C127DB5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6C4-3FBB-42C3-A6C3-0531FBB8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C4C-6427-4103-8DB5-415570A9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009-26A4-475B-BF54-17673375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B04-3F42-4814-942A-762BC364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C59-0BAA-46F5-8F09-93ED9BB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AEF-C7CA-446C-A33E-29A0B190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5CD-0760-464A-A753-DCEA3C1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1BA-F25A-44BA-ACEA-97C159622A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51C-F925-4BC8-8D18-2EAFEDAA06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3e3ff"/>
                </a:solidFill>
                <a:latin typeface="Arial"/>
              </a:rPr>
              <a:t>Королевство Исп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п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б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Исп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Испания"/>
          <p:cNvPicPr/>
          <p:nvPr/>
        </p:nvPicPr>
        <p:blipFill>
          <a:blip r:embed="rId1"/>
          <a:stretch/>
        </p:blipFill>
        <p:spPr>
          <a:xfrm>
            <a:off x="5791320" y="4191120"/>
            <a:ext cx="2057400" cy="130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Герб Испании"/>
          <p:cNvPicPr/>
          <p:nvPr/>
        </p:nvPicPr>
        <p:blipFill>
          <a:blip r:embed="rId2"/>
          <a:stretch/>
        </p:blipFill>
        <p:spPr>
          <a:xfrm>
            <a:off x="6095880" y="14479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95272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 rot="10800000">
            <a:off x="684000" y="1235880"/>
            <a:ext cx="3662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ана 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ициальные язы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ский, каталанский, баскский, галисий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лиц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пнейшие го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рид, Барсел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правле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ственная конституционна монарх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ритор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-я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04 782 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еле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сть29-е в 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9,7 чел./км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0 847 371 ч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ю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705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— государство на юго-западе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нимает бо́льшую часть Пиренейского полуост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чит 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ртугалией на западе 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британским владением Гибралтар на ю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ренейского полуостро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Марокко на севере Афр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Францией и Андоррой на севе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омывается Атлантическим океано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аде и севере, а также Средиземным морем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ке и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cationSpain"/>
          <p:cNvPicPr/>
          <p:nvPr/>
        </p:nvPicPr>
        <p:blipFill>
          <a:blip r:embed="rId1"/>
          <a:stretch/>
        </p:blipFill>
        <p:spPr>
          <a:xfrm>
            <a:off x="2895480" y="4952880"/>
            <a:ext cx="36576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делится на три климатические зоны: Север страны (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исии до Каталонии) — подвержен влиянию Атлант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еана. Для этого района характерна мягкая, влажная зим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ренно теплое лето. Юго-восточное побережье (Андалуси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ремадура) — климат средиземноморского типа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ительно мягкой, короткой зимой и сухим, жарким летом.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го района типичен достаточно низкий уровень осадк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ающих преимущественно осенью и зимой. Центр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то — здесь климат резко континентальный, со значитель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адами между дневной и ночной температурой (в цен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и летом температура в течение дня поднимается до +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дусов, а ночью опускается до +15 градусов). Лето жаркое сухо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а сухая, холод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льеф Испании очень разнообразен. В рельефе доминирующ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ль играют системы горных хребтов и высокогорных плоскогор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скогорья и горы составляют около 90 % её территории. Поч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вину поверхности страны занимает обширное, самое больш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Европе высокое плоскогорье — Месета. Месета отлич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дованием плато, складчато-глыбовых хребтов и го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ловин. На севере Месету окаймляют мощные Кантабрий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ы, которые протянулись вдоль побережья Бискайского за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600 км, изолируя внутренние районы от влияния моря. Пирене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ют собой несколько параллельных хребт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гивающихся с запада на восток на 450 км. Здесь находи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их вершина — пик Ането, достигающий 3404м. Са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ая горная вершина Испании находится на о.Тенерифе —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улкан Тейде, высота которого достигает 3718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ра Испании отличаются рудоносностью и располаг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ыми запасами разнообразных руд. Главные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зных ископаемых расположены в горных систем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оясывающих Месету, и в периферийных район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спании имеются крупные запасы качественной железной р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держанием металла до 50 %. По запасам медных пири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ания занимает первое место в Европе. Там же встреч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ганец и ол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близи португальской границы были обнаружены местор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на. По запасам ртути Испания занимает первое место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листическом мире. В руде, добываемой в Альмаде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держится до 6-9 % ртути. В Андалузии и Галисии встреч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сторождения платины, золота и сереб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едавнего времени считалось, что в Испании нет нефти.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ее время. В верховьях Эбро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х глубинах обнаружены признаки неф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03T16:18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