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F59-C59C-476C-AB10-1FD805B9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E87-FE6F-4A6B-9882-C5720A51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97C-F685-4A28-B51E-7B8CC5CD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046-3A9D-4AC5-A2E9-1CB69AA5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AF6DE-BE84-4119-9F54-4E6F9CB5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17F73-0539-4807-B46C-E8B1DB69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AC2F0-AFB7-453E-B3B4-755303CA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AAD38-05EE-4C85-BC0B-8A27842B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49282-5552-4BA6-AB65-6293FFD3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734F4-7E1B-49AA-AEB2-B1CC192B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8A830-126D-4DCF-A6EA-AD5D563D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5C0-1290-49F3-983A-913E5342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AD493-6BC8-417E-AAD0-23A0CB59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B959C-6472-4C17-96B0-8E8B4917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9899D-35EE-44EB-90E5-80AB387C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C4D34-83A6-4E59-A95F-F2BFFCE6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C4836-5691-4306-A893-D74B9839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F87-DB8F-4413-8ACA-3A7249F0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CF8-C00C-4DD8-9297-0C112193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F1F-8991-4D21-8B1C-ACFBB339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F79-3B59-47C4-92B2-D76B8B03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7C7-141B-45D6-B744-2744307D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2AA-69C9-435B-982B-D16F893B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605-B4E4-402E-A04C-A04585B0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0EDE-A200-4709-B444-03BA92B628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1029-9533-45B1-9D70-2DB4E004AF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3e3ff"/>
                </a:solidFill>
                <a:latin typeface="Arial"/>
              </a:rPr>
              <a:t>Королевство Испан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сп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0" y="159984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б Исп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лаг Исп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Испания"/>
          <p:cNvPicPr/>
          <p:nvPr/>
        </p:nvPicPr>
        <p:blipFill>
          <a:blip r:embed="rId1"/>
          <a:stretch/>
        </p:blipFill>
        <p:spPr>
          <a:xfrm>
            <a:off x="5791320" y="4191120"/>
            <a:ext cx="2057400" cy="1309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Герб Испании"/>
          <p:cNvPicPr/>
          <p:nvPr/>
        </p:nvPicPr>
        <p:blipFill>
          <a:blip r:embed="rId2"/>
          <a:stretch/>
        </p:blipFill>
        <p:spPr>
          <a:xfrm>
            <a:off x="6095880" y="144792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2952720"/>
            <a:ext cx="142884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2952720"/>
            <a:ext cx="142884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 rot="10800000">
            <a:off x="684000" y="1235880"/>
            <a:ext cx="36622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ана в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фициальные язык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анский, каталанский, баскский, галисий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олиц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дри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упнейшие город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дрид, Барсел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а правлени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ледственная конституционна монарх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ритори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0-я в мир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04 782 км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селе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тность29-е в мир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9,7 чел./км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0 847 371 ч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алю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в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67053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ания — государство на юго-западе Европ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нимает бо́льшую часть Пиренейского полуостр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ничит 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португалией на западе Пиренейского полуостро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британским владением Гибралтар на ю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иренейского полуостро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Марокко на севере Африк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Францией и Андоррой на севе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ания омывается Атлантическим океаном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аде и севере, а также Средиземным морем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токе и ю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LocationSpain"/>
          <p:cNvPicPr/>
          <p:nvPr/>
        </p:nvPicPr>
        <p:blipFill>
          <a:blip r:embed="rId1"/>
          <a:stretch/>
        </p:blipFill>
        <p:spPr>
          <a:xfrm>
            <a:off x="2895480" y="4952880"/>
            <a:ext cx="365760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лима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ания делится на три климатические зоны: Север страны (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лисии до Каталонии) — подвержен влиянию Атлантиче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еана. Для этого района характерна мягкая, влажная зима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меренно теплое лето. Юго-восточное побережье (Андалусия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тремадура) — климат средиземноморского типа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ительно мягкой, короткой зимой и сухим, жарким летом. Д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го района типичен достаточно низкий уровень осадк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адающих преимущественно осенью и зимой. Централь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то — здесь климат резко континентальный, со значительны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падами между дневной и ночной температурой (в цент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ании летом температура в течение дня поднимается до +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дусов, а ночью опускается до +15 градусов). Лето жаркое сухо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има сухая, холодн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лье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льеф Испании очень разнообразен. В рельефе доминирующу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ль играют системы горных хребтов и высокогорных плоскогор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оскогорья и горы составляют около 90 % её территории. Поч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овину поверхности страны занимает обширное, самое больш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Европе высокое плоскогорье — Месета. Месета отлич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едованием плато, складчато-глыбовых хребтов и гор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ловин. На севере Месету окаймляют мощные Кантабрий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ры, которые протянулись вдоль побережья Бискайского зал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600 км, изолируя внутренние районы от влияния моря. Пирене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тавляют собой несколько параллельных хребт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тягивающихся с запада на восток на 450 км. Здесь находи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ая их вершина — пик Ането, достигающий 3404м. Са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кая горная вершина Испании находится на о.Тенерифе — э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улкан Тейде, высота которого достигает 3718 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олезные ископаемы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дра Испании отличаются рудоносностью и располаг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пными запасами разнообразных руд. Главные месторо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езных ископаемых расположены в горных система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оясывающих Месету, и в периферийных районах стра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Испании имеются крупные запасы качественной железной ру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содержанием металла до 50 %. По запасам медных пири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ания занимает первое место в Европе. Там же встреча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рганец и оло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близи португальской границы были обнаружены месторо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ана. По запасам ртути Испания занимает первое место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питалистическом мире. В руде, добываемой в Альмаден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держится до 6-9 % ртути. В Андалузии и Галисии встречаю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сторождения платины, золота и сереб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недавнего времени считалось, что в Испании нет нефти.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днее время. В верховьях Эбро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ительных глубинах обнаружены признаки неф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1-10-03T16:18:0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