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47F6-6DE7-408F-BAA0-90493220BB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5DE3-1F40-438C-8F4C-A911944830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72A-80DE-4D48-8A50-48510BC2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294-8031-42A4-A5D3-2BDE6571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7D1-4F50-454D-97A5-914C0D89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4A9-08C8-4B9C-A24D-D3011E3D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D4BE-08B3-4B37-A949-FBD38BE9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2A26-7F13-44F8-9EB9-130D7A34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02B6-498B-4F6F-A2F0-2E258298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A729-2B90-4EE1-9272-7F26915B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55CE-C966-4E73-AA3C-8CA7597E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F014-5A3A-4D9B-99CA-329C3103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E279-CFE1-48D9-B6C4-13407E72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A367-FE6C-4B00-AD75-C0C1814E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A340-5F05-4AC2-BA2D-0EC497C4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D92A-F802-4555-9EA4-CB069BF2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F93C-E312-4312-BED9-2CCF1A86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963D-2263-41EC-A3F1-7129B130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F3A4-D81E-41F6-8114-6F112382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9649-18CF-42B6-B7EE-ED43D50D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C1CD-ED4F-4FCC-9AB5-10BCA97F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A03-3F31-48FA-B05A-44E72658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BB4-5F70-4866-82F5-FE7090DD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935A-5A9A-485B-B841-9B68C1D2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78B-113B-425B-941F-AA39C2EC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F221-2362-4D71-8606-71191C99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E152-2B3C-4E4C-A3FB-1F41B22F03F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F327-E821-4A1D-8F49-46688B3B8DE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C:\Documents and Settings\завуч\Рабочий стол\славян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3286080" y="592920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осточные славян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1285560"/>
            <a:ext cx="4038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лемена ______многочисленны, выносливы, легко переносят жар, холод, дождь, наготу, недостаток в пище. К прибывшим к ним иноземцам они относятся ласково и, оказывают им знаки своего расположения. Они селятся в лесах, у неудобнопроходимых рек, болот и озёр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юрки-кочев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вя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рманы-викинг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2920" y="2708280"/>
            <a:ext cx="40388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авя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Cloud"/>
          <p:cNvSpPr/>
          <p:nvPr/>
        </p:nvSpPr>
        <p:spPr>
          <a:xfrm rot="15670200">
            <a:off x="4942080" y="1142640"/>
            <a:ext cx="3492360" cy="47530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25092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WordArt 11"/>
          <p:cNvSpPr txBox="1"/>
          <p:nvPr/>
        </p:nvSpPr>
        <p:spPr>
          <a:xfrm>
            <a:off x="900000" y="18900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1116000" y="476280"/>
            <a:ext cx="698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Times New Roman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7858080" y="5572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5880" y="1000080"/>
          <a:ext cx="7500960" cy="4929120"/>
        </p:xfrm>
        <a:graphic>
          <a:graphicData uri="http://schemas.openxmlformats.org/drawingml/2006/table">
            <a:tbl>
              <a:tblPr/>
              <a:tblGrid>
                <a:gridCol w="3751200"/>
                <a:gridCol w="374976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довая общ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седская общ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82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обще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44" name="Прямоугольник 5"/>
          <p:cNvSpPr/>
          <p:nvPr/>
        </p:nvSpPr>
        <p:spPr>
          <a:xfrm>
            <a:off x="785880" y="35712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равните Родовую и Соседскую общи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Группа 19"/>
          <p:cNvGrpSpPr/>
          <p:nvPr/>
        </p:nvGrpSpPr>
        <p:grpSpPr>
          <a:xfrm>
            <a:off x="0" y="563400"/>
            <a:ext cx="8929800" cy="6413400"/>
            <a:chOff x="0" y="563400"/>
            <a:chExt cx="8929800" cy="6413400"/>
          </a:xfrm>
        </p:grpSpPr>
        <p:sp>
          <p:nvSpPr>
            <p:cNvPr id="146" name="Freeform 5"/>
            <p:cNvSpPr/>
            <p:nvPr/>
          </p:nvSpPr>
          <p:spPr>
            <a:xfrm rot="20241600">
              <a:off x="757440" y="1837800"/>
              <a:ext cx="7395480" cy="3864240"/>
            </a:xfrm>
            <a:prstGeom prst="pie">
              <a:avLst/>
            </a:prstGeom>
            <a:gradFill rotWithShape="0">
              <a:gsLst>
                <a:gs pos="0">
                  <a:srgbClr val="f9f2f0"/>
                </a:gs>
                <a:gs pos="100000">
                  <a:srgbClr val="be796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361680" y="1285560"/>
              <a:ext cx="1792440" cy="1584360"/>
            </a:xfrm>
            <a:prstGeom prst="ellipse">
              <a:avLst/>
            </a:prstGeom>
            <a:gradFill rotWithShape="0">
              <a:gsLst>
                <a:gs pos="0">
                  <a:srgbClr val="fff3da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720000"/>
                  </a:solidFill>
                  <a:latin typeface="Arial"/>
                </a:rPr>
                <a:t>меха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8" name="Oval 10"/>
            <p:cNvGrpSpPr/>
            <p:nvPr/>
          </p:nvGrpSpPr>
          <p:grpSpPr>
            <a:xfrm>
              <a:off x="564480" y="3249000"/>
              <a:ext cx="2349360" cy="1463040"/>
              <a:chOff x="564480" y="3249000"/>
              <a:chExt cx="2349360" cy="1463040"/>
            </a:xfrm>
          </p:grpSpPr>
          <p:pic>
            <p:nvPicPr>
              <p:cNvPr id="149" name="Oval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564480" y="3249000"/>
                <a:ext cx="2349360" cy="146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816480" y="3480840"/>
                <a:ext cx="1106640" cy="100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0000"/>
                    </a:solidFill>
                    <a:latin typeface="Arial"/>
                  </a:rPr>
                  <a:t>Рабы ,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0000"/>
                    </a:solidFill>
                    <a:latin typeface="Arial"/>
                  </a:rPr>
                  <a:t>челядь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1" name="Oval 13"/>
            <p:cNvSpPr/>
            <p:nvPr/>
          </p:nvSpPr>
          <p:spPr>
            <a:xfrm>
              <a:off x="1938960" y="5202360"/>
              <a:ext cx="1721520" cy="1655640"/>
            </a:xfrm>
            <a:prstGeom prst="ellipse">
              <a:avLst/>
            </a:prstGeom>
            <a:gradFill rotWithShape="0">
              <a:gsLst>
                <a:gs pos="0">
                  <a:srgbClr val="efded8"/>
                </a:gs>
                <a:gs pos="100000">
                  <a:srgbClr val="be796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Изделия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ремесл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5780520" y="3916440"/>
              <a:ext cx="1792440" cy="1657440"/>
            </a:xfrm>
            <a:prstGeom prst="ellipse">
              <a:avLst/>
            </a:prstGeom>
            <a:gradFill rotWithShape="0">
              <a:gsLst>
                <a:gs pos="0">
                  <a:srgbClr val="fbeac7"/>
                </a:gs>
                <a:gs pos="100000">
                  <a:srgbClr val="fee7f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77af9"/>
                  </a:solidFill>
                  <a:latin typeface="Tahoma"/>
                </a:rPr>
                <a:t>Лён, ткани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Oval 19"/>
            <p:cNvSpPr/>
            <p:nvPr/>
          </p:nvSpPr>
          <p:spPr>
            <a:xfrm>
              <a:off x="5567040" y="1058760"/>
              <a:ext cx="1792440" cy="1584360"/>
            </a:xfrm>
            <a:prstGeom prst="ellipse">
              <a:avLst/>
            </a:prstGeom>
            <a:gradFill rotWithShape="0">
              <a:gsLst>
                <a:gs pos="0">
                  <a:srgbClr val="ffe6c1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зерно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4" name="Овал 14"/>
            <p:cNvGrpSpPr/>
            <p:nvPr/>
          </p:nvGrpSpPr>
          <p:grpSpPr>
            <a:xfrm>
              <a:off x="4055040" y="4901040"/>
              <a:ext cx="1887840" cy="1816560"/>
              <a:chOff x="4055040" y="4901040"/>
              <a:chExt cx="1887840" cy="1816560"/>
            </a:xfrm>
          </p:grpSpPr>
          <p:pic>
            <p:nvPicPr>
              <p:cNvPr id="155" name="Овал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4055040" y="4901040"/>
                <a:ext cx="1887840" cy="181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4343760" y="5177880"/>
                <a:ext cx="1307880" cy="12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0000"/>
                    </a:solidFill>
                    <a:latin typeface="Tahoma"/>
                  </a:rPr>
                  <a:t>мясо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7" name="Овал 15"/>
            <p:cNvGrpSpPr/>
            <p:nvPr/>
          </p:nvGrpSpPr>
          <p:grpSpPr>
            <a:xfrm>
              <a:off x="1353600" y="1682280"/>
              <a:ext cx="1881720" cy="1822680"/>
              <a:chOff x="1353600" y="1682280"/>
              <a:chExt cx="1881720" cy="1822680"/>
            </a:xfrm>
          </p:grpSpPr>
          <p:pic>
            <p:nvPicPr>
              <p:cNvPr id="158" name="Овал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1353600" y="1682280"/>
                <a:ext cx="1881720" cy="182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1640520" y="1963080"/>
                <a:ext cx="1307880" cy="12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0" name="Овал 16"/>
            <p:cNvGrpSpPr/>
            <p:nvPr/>
          </p:nvGrpSpPr>
          <p:grpSpPr>
            <a:xfrm>
              <a:off x="0" y="4694040"/>
              <a:ext cx="1887840" cy="1822680"/>
              <a:chOff x="0" y="4694040"/>
              <a:chExt cx="1887840" cy="1822680"/>
            </a:xfrm>
          </p:grpSpPr>
          <p:pic>
            <p:nvPicPr>
              <p:cNvPr id="161" name="Овал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4694040"/>
                <a:ext cx="1887840" cy="182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289080" y="4976280"/>
                <a:ext cx="1307880" cy="12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c00000"/>
                    </a:solidFill>
                    <a:latin typeface="Tahoma"/>
                  </a:rPr>
                  <a:t>кожи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3" name="Овал 17"/>
            <p:cNvGrpSpPr/>
            <p:nvPr/>
          </p:nvGrpSpPr>
          <p:grpSpPr>
            <a:xfrm>
              <a:off x="7041960" y="2255400"/>
              <a:ext cx="1887840" cy="1822680"/>
              <a:chOff x="7041960" y="2255400"/>
              <a:chExt cx="1887840" cy="1822680"/>
            </a:xfrm>
          </p:grpSpPr>
          <p:pic>
            <p:nvPicPr>
              <p:cNvPr id="164" name="Овал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7041960" y="2255400"/>
                <a:ext cx="1887840" cy="182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7331760" y="2534760"/>
                <a:ext cx="1307880" cy="12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ffff"/>
                    </a:solidFill>
                    <a:latin typeface="Tahoma"/>
                  </a:rPr>
                  <a:t>воск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66" name="TextBox 22"/>
          <p:cNvSpPr/>
          <p:nvPr/>
        </p:nvSpPr>
        <p:spPr>
          <a:xfrm>
            <a:off x="1357200" y="2357280"/>
            <a:ext cx="18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к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Прямоугольник 23" descr=""/>
          <p:cNvPicPr/>
          <p:nvPr/>
        </p:nvPicPr>
        <p:blipFill>
          <a:blip r:embed="rId6"/>
          <a:stretch/>
        </p:blipFill>
        <p:spPr>
          <a:xfrm>
            <a:off x="208080" y="165240"/>
            <a:ext cx="8654760" cy="517320"/>
          </a:xfrm>
          <a:prstGeom prst="rect">
            <a:avLst/>
          </a:prstGeom>
          <a:ln w="0">
            <a:noFill/>
          </a:ln>
        </p:spPr>
      </p:pic>
      <p:grpSp>
        <p:nvGrpSpPr>
          <p:cNvPr id="168" name="Овал 18"/>
          <p:cNvGrpSpPr/>
          <p:nvPr/>
        </p:nvGrpSpPr>
        <p:grpSpPr>
          <a:xfrm>
            <a:off x="3193920" y="3054240"/>
            <a:ext cx="1895760" cy="1822680"/>
            <a:chOff x="3193920" y="3054240"/>
            <a:chExt cx="1895760" cy="1822680"/>
          </a:xfrm>
        </p:grpSpPr>
        <p:pic>
          <p:nvPicPr>
            <p:cNvPr id="169" name="Овал 18" descr=""/>
            <p:cNvPicPr/>
            <p:nvPr/>
          </p:nvPicPr>
          <p:blipFill>
            <a:blip r:embed="rId7"/>
            <a:stretch/>
          </p:blipFill>
          <p:spPr>
            <a:xfrm>
              <a:off x="3193920" y="3054240"/>
              <a:ext cx="189576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486240" y="3333600"/>
              <a:ext cx="1314360" cy="12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20000"/>
                  </a:solidFill>
                  <a:latin typeface="Tahoma"/>
                </a:rPr>
                <a:t>Дань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Обязанности данников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72" name="Скругленный прямоугольник 3"/>
          <p:cNvGrpSpPr/>
          <p:nvPr/>
        </p:nvGrpSpPr>
        <p:grpSpPr>
          <a:xfrm>
            <a:off x="3224160" y="2822400"/>
            <a:ext cx="2762280" cy="1536840"/>
            <a:chOff x="3224160" y="2822400"/>
            <a:chExt cx="2762280" cy="1536840"/>
          </a:xfrm>
        </p:grpSpPr>
        <p:pic>
          <p:nvPicPr>
            <p:cNvPr id="173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224160" y="2822400"/>
              <a:ext cx="276228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355920" y="2927520"/>
              <a:ext cx="250344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5" name="Скругленный прямоугольник 7"/>
          <p:cNvSpPr/>
          <p:nvPr/>
        </p:nvSpPr>
        <p:spPr>
          <a:xfrm>
            <a:off x="1071720" y="2643120"/>
            <a:ext cx="2000160" cy="16430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ринимать князя на погост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Скругленный прямоугольник 8"/>
          <p:cNvSpPr/>
          <p:nvPr/>
        </p:nvSpPr>
        <p:spPr>
          <a:xfrm>
            <a:off x="3286080" y="4500720"/>
            <a:ext cx="2714760" cy="15001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Оснащать корабли, ткать для них пару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Скругленный прямоугольник 9"/>
          <p:cNvSpPr/>
          <p:nvPr/>
        </p:nvSpPr>
        <p:spPr>
          <a:xfrm>
            <a:off x="6215040" y="2714760"/>
            <a:ext cx="2000160" cy="15714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Строить ладь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Скругленный прямоугольник 10"/>
          <p:cNvSpPr/>
          <p:nvPr/>
        </p:nvSpPr>
        <p:spPr>
          <a:xfrm>
            <a:off x="3286080" y="1143000"/>
            <a:ext cx="2643120" cy="13572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Наводить дороги и мос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Box 19"/>
          <p:cNvSpPr/>
          <p:nvPr/>
        </p:nvSpPr>
        <p:spPr>
          <a:xfrm>
            <a:off x="3714840" y="314316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214200" y="2000160"/>
            <a:ext cx="864396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сточная Европ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древност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85840" y="149976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59"/>
                </a:solidFill>
                <a:latin typeface="Tahoma"/>
              </a:rPr>
              <a:t>К какому времени относится заселение славянами Восточной Евро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ыс. до н.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ая половин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ыс. н.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чал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ыс. н.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2920" y="2565360"/>
            <a:ext cx="403884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ая половин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ыс. н.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429080" y="1785960"/>
            <a:ext cx="4176720" cy="29527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WordArt 11"/>
          <p:cNvSpPr txBox="1"/>
          <p:nvPr/>
        </p:nvSpPr>
        <p:spPr>
          <a:xfrm>
            <a:off x="857160" y="21420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AutoShape 12">
            <a:hlinkClick r:id="rId3" action="ppaction://hlinksldjump"/>
          </p:cNvPr>
          <p:cNvSpPr/>
          <p:nvPr/>
        </p:nvSpPr>
        <p:spPr>
          <a:xfrm>
            <a:off x="25092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85840" y="1285560"/>
            <a:ext cx="4038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называлась система земледелия у восточных славян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ш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сечно - огнев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уполь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2920" y="2349360"/>
            <a:ext cx="403884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сечно - огнев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357800" y="1571760"/>
            <a:ext cx="4176720" cy="295272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10">
            <a:hlinkClick r:id="rId1" action="ppaction://hlinksldjump"/>
          </p:cNvPr>
          <p:cNvSpPr/>
          <p:nvPr/>
        </p:nvSpPr>
        <p:spPr>
          <a:xfrm>
            <a:off x="25092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WordArt 11"/>
          <p:cNvSpPr txBox="1"/>
          <p:nvPr/>
        </p:nvSpPr>
        <p:spPr>
          <a:xfrm>
            <a:off x="785880" y="142920"/>
            <a:ext cx="720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280" y="2071800"/>
            <a:ext cx="4038840" cy="32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го у славян называли волхвам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еменных вожд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оземных купц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рецов и прорица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ин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2920" y="2781000"/>
            <a:ext cx="403884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рецов и прорица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4572000" y="2500200"/>
            <a:ext cx="4176720" cy="2952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9">
            <a:hlinkClick r:id="rId1" action="ppaction://hlinksldjump"/>
          </p:cNvPr>
          <p:cNvSpPr/>
          <p:nvPr/>
        </p:nvSpPr>
        <p:spPr>
          <a:xfrm>
            <a:off x="25092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WordArt 11"/>
          <p:cNvSpPr txBox="1"/>
          <p:nvPr/>
        </p:nvSpPr>
        <p:spPr>
          <a:xfrm>
            <a:off x="900000" y="18900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56760" y="1500120"/>
            <a:ext cx="403884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е тюркское государство существовало в районе рек Волги и Кам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2840" indent="-222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за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2840" indent="-222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лга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2840" indent="-222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а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2840" indent="-222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ра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16000" y="2852640"/>
            <a:ext cx="40388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лга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786200" y="2500200"/>
            <a:ext cx="4176720" cy="2952720"/>
          </a:xfrm>
          <a:prstGeom prst="rect">
            <a:avLst/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10">
            <a:hlinkClick r:id="rId1" action="ppaction://hlinksldjump"/>
          </p:cNvPr>
          <p:cNvSpPr/>
          <p:nvPr/>
        </p:nvSpPr>
        <p:spPr>
          <a:xfrm>
            <a:off x="179280" y="5589720"/>
            <a:ext cx="792360" cy="7189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805" h="21600">
                <a:moveTo>
                  <a:pt x="0" y="0"/>
                </a:moveTo>
                <a:lnTo>
                  <a:pt x="23805" y="0"/>
                </a:lnTo>
                <a:lnTo>
                  <a:pt x="23805" y="21600"/>
                </a:lnTo>
                <a:lnTo>
                  <a:pt x="0" y="21600"/>
                </a:lnTo>
                <a:close/>
              </a:path>
              <a:path fill="lightenLess" w="23805" h="21600">
                <a:moveTo>
                  <a:pt x="0" y="0"/>
                </a:moveTo>
                <a:lnTo>
                  <a:pt x="23805" y="0"/>
                </a:lnTo>
                <a:lnTo>
                  <a:pt x="22405" y="1400"/>
                </a:lnTo>
                <a:lnTo>
                  <a:pt x="1400" y="1400"/>
                </a:lnTo>
                <a:close/>
              </a:path>
              <a:path fill="darken" w="23805" h="21600">
                <a:moveTo>
                  <a:pt x="23805" y="0"/>
                </a:moveTo>
                <a:lnTo>
                  <a:pt x="23805" y="21600"/>
                </a:lnTo>
                <a:lnTo>
                  <a:pt x="22405" y="20200"/>
                </a:lnTo>
                <a:lnTo>
                  <a:pt x="22405" y="1400"/>
                </a:lnTo>
                <a:close/>
              </a:path>
              <a:path fill="darkenLess" w="23805" h="21600">
                <a:moveTo>
                  <a:pt x="23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5" y="20200"/>
                </a:lnTo>
                <a:close/>
              </a:path>
              <a:path fill="lighten" w="23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5" h="21600">
                <a:moveTo>
                  <a:pt x="4896" y="3794"/>
                </a:moveTo>
                <a:lnTo>
                  <a:pt x="18909" y="10800"/>
                </a:lnTo>
                <a:lnTo>
                  <a:pt x="4896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WordArt 11"/>
          <p:cNvSpPr txBox="1"/>
          <p:nvPr/>
        </p:nvSpPr>
        <p:spPr>
          <a:xfrm>
            <a:off x="900000" y="18900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428652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называлась община у славя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в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ч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тч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85840" y="1785960"/>
            <a:ext cx="403884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в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4572000" y="1714680"/>
            <a:ext cx="4176720" cy="2952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25092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0827" y="3837"/>
                </a:moveTo>
                <a:lnTo>
                  <a:pt x="13403" y="6448"/>
                </a:ln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lnTo>
                  <a:pt x="17790" y="10800"/>
                </a:lnTo>
                <a:lnTo>
                  <a:pt x="16136" y="10800"/>
                </a:lnTo>
                <a:lnTo>
                  <a:pt x="16136" y="17989"/>
                </a:lnTo>
                <a:lnTo>
                  <a:pt x="5518" y="17989"/>
                </a:lnTo>
                <a:lnTo>
                  <a:pt x="5518" y="10800"/>
                </a:lnTo>
                <a:lnTo>
                  <a:pt x="3864" y="10800"/>
                </a:lnTo>
                <a:close/>
              </a:path>
              <a:path fill="darkenLess" w="21654" h="21600">
                <a:moveTo>
                  <a:pt x="13403" y="6448"/>
                </a:move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close/>
              </a:path>
              <a:path fill="darkenLess" w="21654" h="21600">
                <a:moveTo>
                  <a:pt x="9904" y="14299"/>
                </a:moveTo>
                <a:lnTo>
                  <a:pt x="11750" y="14299"/>
                </a:lnTo>
                <a:lnTo>
                  <a:pt x="11750" y="17989"/>
                </a:lnTo>
                <a:lnTo>
                  <a:pt x="16136" y="17989"/>
                </a:lnTo>
                <a:lnTo>
                  <a:pt x="16136" y="10800"/>
                </a:lnTo>
                <a:lnTo>
                  <a:pt x="5518" y="10800"/>
                </a:lnTo>
                <a:lnTo>
                  <a:pt x="5518" y="17989"/>
                </a:lnTo>
                <a:lnTo>
                  <a:pt x="990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8244000" y="6093000"/>
            <a:ext cx="647640" cy="53964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920" h="21600">
                <a:moveTo>
                  <a:pt x="7433" y="3985"/>
                </a:moveTo>
                <a:lnTo>
                  <a:pt x="14431" y="3985"/>
                </a:lnTo>
                <a:lnTo>
                  <a:pt x="18487" y="7484"/>
                </a:lnTo>
                <a:lnTo>
                  <a:pt x="18487" y="17615"/>
                </a:lnTo>
                <a:lnTo>
                  <a:pt x="7433" y="17615"/>
                </a:lnTo>
                <a:close/>
              </a:path>
              <a:path fill="darken" w="25920" h="21600">
                <a:moveTo>
                  <a:pt x="14431" y="3985"/>
                </a:moveTo>
                <a:lnTo>
                  <a:pt x="18487" y="7484"/>
                </a:lnTo>
                <a:lnTo>
                  <a:pt x="14431" y="7484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WordArt 11"/>
          <p:cNvSpPr txBox="1"/>
          <p:nvPr/>
        </p:nvSpPr>
        <p:spPr>
          <a:xfrm>
            <a:off x="900000" y="18900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428652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чём особенность христианства по сравнению с язычество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об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ёхб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иноб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785840" y="1785960"/>
            <a:ext cx="403884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иноб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572000" y="1571760"/>
            <a:ext cx="4176720" cy="2952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25092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0827" y="3837"/>
                </a:moveTo>
                <a:lnTo>
                  <a:pt x="13403" y="6448"/>
                </a:ln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lnTo>
                  <a:pt x="17790" y="10800"/>
                </a:lnTo>
                <a:lnTo>
                  <a:pt x="16136" y="10800"/>
                </a:lnTo>
                <a:lnTo>
                  <a:pt x="16136" y="17989"/>
                </a:lnTo>
                <a:lnTo>
                  <a:pt x="5518" y="17989"/>
                </a:lnTo>
                <a:lnTo>
                  <a:pt x="5518" y="10800"/>
                </a:lnTo>
                <a:lnTo>
                  <a:pt x="3864" y="10800"/>
                </a:lnTo>
                <a:close/>
              </a:path>
              <a:path fill="darkenLess" w="21654" h="21600">
                <a:moveTo>
                  <a:pt x="13403" y="6448"/>
                </a:move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close/>
              </a:path>
              <a:path fill="darkenLess" w="21654" h="21600">
                <a:moveTo>
                  <a:pt x="9904" y="14299"/>
                </a:moveTo>
                <a:lnTo>
                  <a:pt x="11750" y="14299"/>
                </a:lnTo>
                <a:lnTo>
                  <a:pt x="11750" y="17989"/>
                </a:lnTo>
                <a:lnTo>
                  <a:pt x="16136" y="17989"/>
                </a:lnTo>
                <a:lnTo>
                  <a:pt x="16136" y="10800"/>
                </a:lnTo>
                <a:lnTo>
                  <a:pt x="5518" y="10800"/>
                </a:lnTo>
                <a:lnTo>
                  <a:pt x="5518" y="17989"/>
                </a:lnTo>
                <a:lnTo>
                  <a:pt x="990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8244000" y="6093000"/>
            <a:ext cx="647640" cy="53964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920" h="21600">
                <a:moveTo>
                  <a:pt x="7433" y="3985"/>
                </a:moveTo>
                <a:lnTo>
                  <a:pt x="14431" y="3985"/>
                </a:lnTo>
                <a:lnTo>
                  <a:pt x="18487" y="7484"/>
                </a:lnTo>
                <a:lnTo>
                  <a:pt x="18487" y="17615"/>
                </a:lnTo>
                <a:lnTo>
                  <a:pt x="7433" y="17615"/>
                </a:lnTo>
                <a:close/>
              </a:path>
              <a:path fill="darken" w="25920" h="21600">
                <a:moveTo>
                  <a:pt x="14431" y="3985"/>
                </a:moveTo>
                <a:lnTo>
                  <a:pt x="18487" y="7484"/>
                </a:lnTo>
                <a:lnTo>
                  <a:pt x="14431" y="7484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900000" y="18900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13840" y="1714680"/>
            <a:ext cx="428652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кажите основные виды хозяйственной деятельности славя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доводство и винодел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товод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емледел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товодство и земледел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85840" y="1785960"/>
            <a:ext cx="403884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товодство и земледел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4643280" y="1643040"/>
            <a:ext cx="4176720" cy="2952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214200" y="5929200"/>
            <a:ext cx="720720" cy="7192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3" h="21600">
                <a:moveTo>
                  <a:pt x="10822" y="3837"/>
                </a:moveTo>
                <a:lnTo>
                  <a:pt x="13398" y="6448"/>
                </a:lnTo>
                <a:lnTo>
                  <a:pt x="13398" y="4707"/>
                </a:lnTo>
                <a:lnTo>
                  <a:pt x="15173" y="4707"/>
                </a:lnTo>
                <a:lnTo>
                  <a:pt x="15173" y="8224"/>
                </a:lnTo>
                <a:lnTo>
                  <a:pt x="17785" y="10800"/>
                </a:lnTo>
                <a:lnTo>
                  <a:pt x="16131" y="10800"/>
                </a:lnTo>
                <a:lnTo>
                  <a:pt x="16131" y="17989"/>
                </a:lnTo>
                <a:lnTo>
                  <a:pt x="5512" y="17989"/>
                </a:lnTo>
                <a:lnTo>
                  <a:pt x="5512" y="10800"/>
                </a:lnTo>
                <a:lnTo>
                  <a:pt x="3859" y="10800"/>
                </a:lnTo>
                <a:close/>
              </a:path>
              <a:path fill="darkenLess" w="21643" h="21600">
                <a:moveTo>
                  <a:pt x="13398" y="6448"/>
                </a:moveTo>
                <a:lnTo>
                  <a:pt x="13398" y="4707"/>
                </a:lnTo>
                <a:lnTo>
                  <a:pt x="15173" y="4707"/>
                </a:lnTo>
                <a:lnTo>
                  <a:pt x="15173" y="8224"/>
                </a:lnTo>
                <a:close/>
              </a:path>
              <a:path fill="darkenLess" w="21643" h="21600">
                <a:moveTo>
                  <a:pt x="9899" y="14299"/>
                </a:moveTo>
                <a:lnTo>
                  <a:pt x="11744" y="14299"/>
                </a:lnTo>
                <a:lnTo>
                  <a:pt x="11744" y="17989"/>
                </a:lnTo>
                <a:lnTo>
                  <a:pt x="16131" y="17989"/>
                </a:lnTo>
                <a:lnTo>
                  <a:pt x="16131" y="10800"/>
                </a:lnTo>
                <a:lnTo>
                  <a:pt x="5512" y="10800"/>
                </a:lnTo>
                <a:lnTo>
                  <a:pt x="5512" y="17989"/>
                </a:lnTo>
                <a:lnTo>
                  <a:pt x="989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8244000" y="6093000"/>
            <a:ext cx="647640" cy="53964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920" h="21600">
                <a:moveTo>
                  <a:pt x="7433" y="3985"/>
                </a:moveTo>
                <a:lnTo>
                  <a:pt x="14431" y="3985"/>
                </a:lnTo>
                <a:lnTo>
                  <a:pt x="18487" y="7484"/>
                </a:lnTo>
                <a:lnTo>
                  <a:pt x="18487" y="17615"/>
                </a:lnTo>
                <a:lnTo>
                  <a:pt x="7433" y="17615"/>
                </a:lnTo>
                <a:close/>
              </a:path>
              <a:path fill="darken" w="25920" h="21600">
                <a:moveTo>
                  <a:pt x="14431" y="3985"/>
                </a:moveTo>
                <a:lnTo>
                  <a:pt x="18487" y="7484"/>
                </a:lnTo>
                <a:lnTo>
                  <a:pt x="14431" y="7484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WordArt 11"/>
          <p:cNvSpPr txBox="1"/>
          <p:nvPr/>
        </p:nvSpPr>
        <p:spPr>
          <a:xfrm>
            <a:off x="900000" y="18900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6:47:33Z</dcterms:created>
  <dc:creator>User</dc:creator>
  <dc:description/>
  <dc:language>en-US</dc:language>
  <cp:lastModifiedBy>Toshiba</cp:lastModifiedBy>
  <dcterms:modified xsi:type="dcterms:W3CDTF">2009-11-18T06:45:26Z</dcterms:modified>
  <cp:revision>53</cp:revision>
  <dc:subject/>
  <dc:title>Слайд 1</dc:title>
</cp:coreProperties>
</file>