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8AB0-8F7E-4858-8503-103513D732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CB08-8924-44AD-AFC5-A5544F9045A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E98E-BCF1-479E-AC18-D38BDF457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C4CE-1BCC-495C-A561-9075FBD3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381F-1242-4E2F-B376-FC8CF657E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2F44-2CFC-4C18-AA18-93DD6A41F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69AA-D28C-446C-824E-00AD473F8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1A8D-50C2-4ACA-87ED-B1C08EE4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5657-D66A-481A-B061-E0BC7529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3548-92C9-41D9-BF2F-E89117AF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8C97-DF61-49FE-955A-C649DC4D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733F-EAC3-478D-9E0D-20D47DC5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2541-691D-47E4-BE6D-2A5EF2DA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BB90-CEFB-483A-B39A-7CABAA93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0694-54DE-46A7-B480-BDCF5318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FBCB2-DE78-4F64-B051-6ACF84F8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EA92-410B-4CD8-9F45-B67050B1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975F-635E-4E9A-BB82-D49FC05BA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CF8C-6224-4F07-80F2-D04D3AD56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0484-8326-4390-8055-AC2D987B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6B8E-4700-4D78-B81F-DF545C71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D639-156D-4538-B66F-3092BAA3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2C37-C07C-4B06-9064-E9780C10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048B-A980-407A-AD1A-E5886ABF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80E6-1727-49C7-9305-0963819C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DB4D-E4F5-4FB4-9638-41ACDE73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7295-F800-4825-8A06-A0ECF855FC7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1E0D-1D8B-40CB-AB30-D7BCCF8530C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C:\Documents and Settings\завуч\Рабочий стол\славяне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Box 5"/>
          <p:cNvSpPr/>
          <p:nvPr/>
        </p:nvSpPr>
        <p:spPr>
          <a:xfrm>
            <a:off x="3286080" y="5929200"/>
            <a:ext cx="585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Восточные славян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5280" y="1285560"/>
            <a:ext cx="40384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лемена ______многочисленны, выносливы, легко переносят жар, холод, дождь, наготу, недостаток в пище. К прибывшим к ним иноземцам они относятся ласково и, оказывают им знаки своего расположения. Они селятся в лесах, у неудобнопроходимых рек, болот и озёр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юрки-кочев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авян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орманы-викинг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вар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2920" y="2708280"/>
            <a:ext cx="403884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лавян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Cloud"/>
          <p:cNvSpPr/>
          <p:nvPr/>
        </p:nvSpPr>
        <p:spPr>
          <a:xfrm rot="15670200">
            <a:off x="4942080" y="1142640"/>
            <a:ext cx="3492360" cy="475308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250920" y="5589720"/>
            <a:ext cx="720720" cy="7189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4" h="21600">
                <a:moveTo>
                  <a:pt x="3821" y="3794"/>
                </a:moveTo>
                <a:lnTo>
                  <a:pt x="17834" y="10800"/>
                </a:lnTo>
                <a:lnTo>
                  <a:pt x="3821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WordArt 11"/>
          <p:cNvSpPr txBox="1"/>
          <p:nvPr/>
        </p:nvSpPr>
        <p:spPr>
          <a:xfrm>
            <a:off x="900000" y="189000"/>
            <a:ext cx="7201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Восточная Европа в древности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4"/>
          <p:cNvSpPr txBox="1"/>
          <p:nvPr/>
        </p:nvSpPr>
        <p:spPr>
          <a:xfrm>
            <a:off x="1116000" y="476280"/>
            <a:ext cx="6985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2700000"/>
                </a:gradFill>
                <a:latin typeface="Times New Roman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2700000"/>
              </a:gradFill>
              <a:latin typeface="Times New Roman"/>
              <a:ea typeface="Times New Roman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7858080" y="5572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85880" y="1000080"/>
          <a:ext cx="7500960" cy="4929120"/>
        </p:xfrm>
        <a:graphic>
          <a:graphicData uri="http://schemas.openxmlformats.org/drawingml/2006/table">
            <a:tbl>
              <a:tblPr/>
              <a:tblGrid>
                <a:gridCol w="3751200"/>
                <a:gridCol w="374976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одовая общ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седская общ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822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c0000"/>
                          </a:solidFill>
                          <a:latin typeface="Tahoma"/>
                        </a:rPr>
                        <a:t>обще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</a:tbl>
          </a:graphicData>
        </a:graphic>
      </p:graphicFrame>
      <p:sp>
        <p:nvSpPr>
          <p:cNvPr id="144" name="Прямоугольник 5"/>
          <p:cNvSpPr/>
          <p:nvPr/>
        </p:nvSpPr>
        <p:spPr>
          <a:xfrm>
            <a:off x="785880" y="357120"/>
            <a:ext cx="72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равните Родовую и Соседскую общи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Группа 19"/>
          <p:cNvGrpSpPr/>
          <p:nvPr/>
        </p:nvGrpSpPr>
        <p:grpSpPr>
          <a:xfrm>
            <a:off x="0" y="563400"/>
            <a:ext cx="8929800" cy="6413400"/>
            <a:chOff x="0" y="563400"/>
            <a:chExt cx="8929800" cy="6413400"/>
          </a:xfrm>
        </p:grpSpPr>
        <p:sp>
          <p:nvSpPr>
            <p:cNvPr id="146" name="Freeform 5"/>
            <p:cNvSpPr/>
            <p:nvPr/>
          </p:nvSpPr>
          <p:spPr>
            <a:xfrm rot="20241600">
              <a:off x="757440" y="1837800"/>
              <a:ext cx="7395480" cy="3864240"/>
            </a:xfrm>
            <a:prstGeom prst="pie">
              <a:avLst/>
            </a:prstGeom>
            <a:gradFill rotWithShape="0">
              <a:gsLst>
                <a:gs pos="0">
                  <a:srgbClr val="f9f2f0"/>
                </a:gs>
                <a:gs pos="100000">
                  <a:srgbClr val="be796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>
              <a:off x="3361680" y="1285560"/>
              <a:ext cx="1792440" cy="1584360"/>
            </a:xfrm>
            <a:prstGeom prst="ellipse">
              <a:avLst/>
            </a:prstGeom>
            <a:gradFill rotWithShape="0">
              <a:gsLst>
                <a:gs pos="0">
                  <a:srgbClr val="fff3da"/>
                </a:gs>
                <a:gs pos="100000">
                  <a:srgbClr val="ffcc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720000"/>
                  </a:solidFill>
                  <a:latin typeface="Arial"/>
                </a:rPr>
                <a:t>меха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48" name="Oval 10"/>
            <p:cNvGrpSpPr/>
            <p:nvPr/>
          </p:nvGrpSpPr>
          <p:grpSpPr>
            <a:xfrm>
              <a:off x="564480" y="3249000"/>
              <a:ext cx="2349360" cy="1463040"/>
              <a:chOff x="564480" y="3249000"/>
              <a:chExt cx="2349360" cy="1463040"/>
            </a:xfrm>
          </p:grpSpPr>
          <p:pic>
            <p:nvPicPr>
              <p:cNvPr id="149" name="Oval 10" descr=""/>
              <p:cNvPicPr/>
              <p:nvPr/>
            </p:nvPicPr>
            <p:blipFill>
              <a:blip r:embed="rId1"/>
              <a:stretch/>
            </p:blipFill>
            <p:spPr>
              <a:xfrm>
                <a:off x="564480" y="3249000"/>
                <a:ext cx="2349360" cy="146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>
                <a:off x="816480" y="3480840"/>
                <a:ext cx="1106640" cy="100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0000"/>
                    </a:solidFill>
                    <a:latin typeface="Arial"/>
                  </a:rPr>
                  <a:t>Рабы ,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0000"/>
                    </a:solidFill>
                    <a:latin typeface="Arial"/>
                  </a:rPr>
                  <a:t>челядь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51" name="Oval 13"/>
            <p:cNvSpPr/>
            <p:nvPr/>
          </p:nvSpPr>
          <p:spPr>
            <a:xfrm>
              <a:off x="1938960" y="5202360"/>
              <a:ext cx="1721520" cy="1655640"/>
            </a:xfrm>
            <a:prstGeom prst="ellipse">
              <a:avLst/>
            </a:prstGeom>
            <a:gradFill rotWithShape="0">
              <a:gsLst>
                <a:gs pos="0">
                  <a:srgbClr val="efded8"/>
                </a:gs>
                <a:gs pos="100000">
                  <a:srgbClr val="be796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Arial"/>
                </a:rPr>
                <a:t>Изделия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ru-RU" sz="2000" spc="-1" strike="noStrike">
                  <a:solidFill>
                    <a:srgbClr val="ff0000"/>
                  </a:solidFill>
                  <a:latin typeface="Arial"/>
                </a:rPr>
                <a:t>ремесла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5780520" y="3916440"/>
              <a:ext cx="1792440" cy="1657440"/>
            </a:xfrm>
            <a:prstGeom prst="ellipse">
              <a:avLst/>
            </a:prstGeom>
            <a:gradFill rotWithShape="0">
              <a:gsLst>
                <a:gs pos="0">
                  <a:srgbClr val="fbeac7"/>
                </a:gs>
                <a:gs pos="100000">
                  <a:srgbClr val="fee7f2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77af9"/>
                  </a:solidFill>
                  <a:latin typeface="Tahoma"/>
                </a:rPr>
                <a:t>Лён, ткани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Oval 19"/>
            <p:cNvSpPr/>
            <p:nvPr/>
          </p:nvSpPr>
          <p:spPr>
            <a:xfrm>
              <a:off x="5567040" y="1058760"/>
              <a:ext cx="1792440" cy="1584360"/>
            </a:xfrm>
            <a:prstGeom prst="ellipse">
              <a:avLst/>
            </a:prstGeom>
            <a:gradFill rotWithShape="0">
              <a:gsLst>
                <a:gs pos="0">
                  <a:srgbClr val="ffe6c1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Arial"/>
                </a:rPr>
                <a:t>зерно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54" name="Овал 14"/>
            <p:cNvGrpSpPr/>
            <p:nvPr/>
          </p:nvGrpSpPr>
          <p:grpSpPr>
            <a:xfrm>
              <a:off x="4055040" y="4901040"/>
              <a:ext cx="1887840" cy="1816560"/>
              <a:chOff x="4055040" y="4901040"/>
              <a:chExt cx="1887840" cy="1816560"/>
            </a:xfrm>
          </p:grpSpPr>
          <p:pic>
            <p:nvPicPr>
              <p:cNvPr id="155" name="Овал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4055040" y="4901040"/>
                <a:ext cx="1887840" cy="181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" name=""/>
              <p:cNvSpPr/>
              <p:nvPr/>
            </p:nvSpPr>
            <p:spPr>
              <a:xfrm>
                <a:off x="4343760" y="5177880"/>
                <a:ext cx="1307880" cy="12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ff0000"/>
                    </a:solidFill>
                    <a:latin typeface="Tahoma"/>
                  </a:rPr>
                  <a:t>мясо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7" name="Овал 15"/>
            <p:cNvGrpSpPr/>
            <p:nvPr/>
          </p:nvGrpSpPr>
          <p:grpSpPr>
            <a:xfrm>
              <a:off x="1353600" y="1682280"/>
              <a:ext cx="1881720" cy="1822680"/>
              <a:chOff x="1353600" y="1682280"/>
              <a:chExt cx="1881720" cy="1822680"/>
            </a:xfrm>
          </p:grpSpPr>
          <p:pic>
            <p:nvPicPr>
              <p:cNvPr id="158" name="Овал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1353600" y="1682280"/>
                <a:ext cx="1881720" cy="182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"/>
              <p:cNvSpPr/>
              <p:nvPr/>
            </p:nvSpPr>
            <p:spPr>
              <a:xfrm>
                <a:off x="1640520" y="1963080"/>
                <a:ext cx="1307880" cy="12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60" name="Овал 16"/>
            <p:cNvGrpSpPr/>
            <p:nvPr/>
          </p:nvGrpSpPr>
          <p:grpSpPr>
            <a:xfrm>
              <a:off x="0" y="4694040"/>
              <a:ext cx="1887840" cy="1822680"/>
              <a:chOff x="0" y="4694040"/>
              <a:chExt cx="1887840" cy="1822680"/>
            </a:xfrm>
          </p:grpSpPr>
          <p:pic>
            <p:nvPicPr>
              <p:cNvPr id="161" name="Овал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4694040"/>
                <a:ext cx="1887840" cy="182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" name=""/>
              <p:cNvSpPr/>
              <p:nvPr/>
            </p:nvSpPr>
            <p:spPr>
              <a:xfrm>
                <a:off x="289080" y="4976280"/>
                <a:ext cx="1307880" cy="12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c00000"/>
                    </a:solidFill>
                    <a:latin typeface="Tahoma"/>
                  </a:rPr>
                  <a:t>кожи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63" name="Овал 17"/>
            <p:cNvGrpSpPr/>
            <p:nvPr/>
          </p:nvGrpSpPr>
          <p:grpSpPr>
            <a:xfrm>
              <a:off x="7041960" y="2255400"/>
              <a:ext cx="1887840" cy="1822680"/>
              <a:chOff x="7041960" y="2255400"/>
              <a:chExt cx="1887840" cy="1822680"/>
            </a:xfrm>
          </p:grpSpPr>
          <p:pic>
            <p:nvPicPr>
              <p:cNvPr id="164" name="Овал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7041960" y="2255400"/>
                <a:ext cx="1887840" cy="182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" name=""/>
              <p:cNvSpPr/>
              <p:nvPr/>
            </p:nvSpPr>
            <p:spPr>
              <a:xfrm>
                <a:off x="7331760" y="2534760"/>
                <a:ext cx="1307880" cy="12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ffffff"/>
                    </a:solidFill>
                    <a:latin typeface="Tahoma"/>
                  </a:rPr>
                  <a:t>воск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66" name="TextBox 22"/>
          <p:cNvSpPr/>
          <p:nvPr/>
        </p:nvSpPr>
        <p:spPr>
          <a:xfrm>
            <a:off x="1357200" y="2357280"/>
            <a:ext cx="18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ко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Прямоугольник 23" descr=""/>
          <p:cNvPicPr/>
          <p:nvPr/>
        </p:nvPicPr>
        <p:blipFill>
          <a:blip r:embed="rId6"/>
          <a:stretch/>
        </p:blipFill>
        <p:spPr>
          <a:xfrm>
            <a:off x="208080" y="165240"/>
            <a:ext cx="8654760" cy="517320"/>
          </a:xfrm>
          <a:prstGeom prst="rect">
            <a:avLst/>
          </a:prstGeom>
          <a:ln w="0">
            <a:noFill/>
          </a:ln>
        </p:spPr>
      </p:pic>
      <p:grpSp>
        <p:nvGrpSpPr>
          <p:cNvPr id="168" name="Овал 18"/>
          <p:cNvGrpSpPr/>
          <p:nvPr/>
        </p:nvGrpSpPr>
        <p:grpSpPr>
          <a:xfrm>
            <a:off x="3193920" y="3054240"/>
            <a:ext cx="1895760" cy="1822680"/>
            <a:chOff x="3193920" y="3054240"/>
            <a:chExt cx="1895760" cy="1822680"/>
          </a:xfrm>
        </p:grpSpPr>
        <p:pic>
          <p:nvPicPr>
            <p:cNvPr id="169" name="Овал 18" descr=""/>
            <p:cNvPicPr/>
            <p:nvPr/>
          </p:nvPicPr>
          <p:blipFill>
            <a:blip r:embed="rId7"/>
            <a:stretch/>
          </p:blipFill>
          <p:spPr>
            <a:xfrm>
              <a:off x="3193920" y="3054240"/>
              <a:ext cx="1895760" cy="18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3486240" y="3333600"/>
              <a:ext cx="1314360" cy="12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720000"/>
                  </a:solidFill>
                  <a:latin typeface="Tahoma"/>
                </a:rPr>
                <a:t>Дань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ahoma"/>
              </a:rPr>
              <a:t>Обязанности данников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72" name="Скругленный прямоугольник 3"/>
          <p:cNvGrpSpPr/>
          <p:nvPr/>
        </p:nvGrpSpPr>
        <p:grpSpPr>
          <a:xfrm>
            <a:off x="3224160" y="2822400"/>
            <a:ext cx="2762280" cy="1536840"/>
            <a:chOff x="3224160" y="2822400"/>
            <a:chExt cx="2762280" cy="1536840"/>
          </a:xfrm>
        </p:grpSpPr>
        <p:pic>
          <p:nvPicPr>
            <p:cNvPr id="173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3224160" y="2822400"/>
              <a:ext cx="276228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3355920" y="2927520"/>
              <a:ext cx="2503440" cy="12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5" name="Скругленный прямоугольник 7"/>
          <p:cNvSpPr/>
          <p:nvPr/>
        </p:nvSpPr>
        <p:spPr>
          <a:xfrm>
            <a:off x="1071720" y="2643120"/>
            <a:ext cx="2000160" cy="16430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Принимать князя на погоста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Скругленный прямоугольник 8"/>
          <p:cNvSpPr/>
          <p:nvPr/>
        </p:nvSpPr>
        <p:spPr>
          <a:xfrm>
            <a:off x="3286080" y="4500720"/>
            <a:ext cx="2714760" cy="15001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Оснащать корабли, ткать для них парус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Скругленный прямоугольник 9"/>
          <p:cNvSpPr/>
          <p:nvPr/>
        </p:nvSpPr>
        <p:spPr>
          <a:xfrm>
            <a:off x="6215040" y="2714760"/>
            <a:ext cx="2000160" cy="15714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Строить ладь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Скругленный прямоугольник 10"/>
          <p:cNvSpPr/>
          <p:nvPr/>
        </p:nvSpPr>
        <p:spPr>
          <a:xfrm>
            <a:off x="3286080" y="1143000"/>
            <a:ext cx="2643120" cy="13572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Наводить дороги и мос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Box 19"/>
          <p:cNvSpPr/>
          <p:nvPr/>
        </p:nvSpPr>
        <p:spPr>
          <a:xfrm>
            <a:off x="3714840" y="314316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бо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214200" y="2000160"/>
            <a:ext cx="8643960" cy="344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осточная Европа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 древности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85840" y="1499760"/>
            <a:ext cx="40384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59"/>
                </a:solidFill>
                <a:latin typeface="Tahoma"/>
              </a:rPr>
              <a:t>К какому времени относится заселение славянами Восточной Европ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тыс. до н.э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торая половина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тыс. н.э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чало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тыс. н.э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2920" y="2565360"/>
            <a:ext cx="403884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торая половина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тыс. н.э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4429080" y="1785960"/>
            <a:ext cx="4176720" cy="295272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WordArt 11"/>
          <p:cNvSpPr txBox="1"/>
          <p:nvPr/>
        </p:nvSpPr>
        <p:spPr>
          <a:xfrm>
            <a:off x="857160" y="214200"/>
            <a:ext cx="7201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Восточная Европа в древности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AutoShape 12">
            <a:hlinkClick r:id="rId3" action="ppaction://hlinksldjump"/>
          </p:cNvPr>
          <p:cNvSpPr/>
          <p:nvPr/>
        </p:nvSpPr>
        <p:spPr>
          <a:xfrm>
            <a:off x="250920" y="5589720"/>
            <a:ext cx="720720" cy="7189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4" h="21600">
                <a:moveTo>
                  <a:pt x="3821" y="3794"/>
                </a:moveTo>
                <a:lnTo>
                  <a:pt x="17834" y="10800"/>
                </a:lnTo>
                <a:lnTo>
                  <a:pt x="3821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85840" y="1285560"/>
            <a:ext cx="40384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называлась система земледелия у восточных славян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ашен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сечно - огнев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вуполь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2920" y="2349360"/>
            <a:ext cx="4038840" cy="19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сечно - огнев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4357800" y="1571760"/>
            <a:ext cx="4176720" cy="2952720"/>
          </a:xfrm>
          <a:prstGeom prst="rect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AutoShape 10">
            <a:hlinkClick r:id="rId1" action="ppaction://hlinksldjump"/>
          </p:cNvPr>
          <p:cNvSpPr/>
          <p:nvPr/>
        </p:nvSpPr>
        <p:spPr>
          <a:xfrm>
            <a:off x="250920" y="5589720"/>
            <a:ext cx="720720" cy="7189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4" h="21600">
                <a:moveTo>
                  <a:pt x="3821" y="3794"/>
                </a:moveTo>
                <a:lnTo>
                  <a:pt x="17834" y="10800"/>
                </a:lnTo>
                <a:lnTo>
                  <a:pt x="3821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WordArt 11"/>
          <p:cNvSpPr txBox="1"/>
          <p:nvPr/>
        </p:nvSpPr>
        <p:spPr>
          <a:xfrm>
            <a:off x="785880" y="142920"/>
            <a:ext cx="7200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Восточная Европа в древности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9280" y="2071800"/>
            <a:ext cx="4038840" cy="32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го у славян называли волхвам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леменных вожд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оземных купц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рецов и прорицател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ин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2920" y="2781000"/>
            <a:ext cx="403884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рецов и прорицател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4572000" y="2500200"/>
            <a:ext cx="4176720" cy="295272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AutoShape 9">
            <a:hlinkClick r:id="rId1" action="ppaction://hlinksldjump"/>
          </p:cNvPr>
          <p:cNvSpPr/>
          <p:nvPr/>
        </p:nvSpPr>
        <p:spPr>
          <a:xfrm>
            <a:off x="250920" y="5589720"/>
            <a:ext cx="720720" cy="7189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4" h="21600">
                <a:moveTo>
                  <a:pt x="3821" y="3794"/>
                </a:moveTo>
                <a:lnTo>
                  <a:pt x="17834" y="10800"/>
                </a:lnTo>
                <a:lnTo>
                  <a:pt x="3821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WordArt 11"/>
          <p:cNvSpPr txBox="1"/>
          <p:nvPr/>
        </p:nvSpPr>
        <p:spPr>
          <a:xfrm>
            <a:off x="900000" y="189000"/>
            <a:ext cx="7201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Восточная Европа в древности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56760" y="1500120"/>
            <a:ext cx="4038840" cy="22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ое тюркское государство существовало в районе рек Волги и Кам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2840" indent="-2228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азар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2840" indent="-2228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улгар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2840" indent="-2228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вар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2840" indent="-2228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рав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16000" y="2852640"/>
            <a:ext cx="40388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улгар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4786200" y="2500200"/>
            <a:ext cx="4176720" cy="2952720"/>
          </a:xfrm>
          <a:prstGeom prst="rect">
            <a:avLst/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AutoShape 10">
            <a:hlinkClick r:id="rId1" action="ppaction://hlinksldjump"/>
          </p:cNvPr>
          <p:cNvSpPr/>
          <p:nvPr/>
        </p:nvSpPr>
        <p:spPr>
          <a:xfrm>
            <a:off x="179280" y="5589720"/>
            <a:ext cx="792360" cy="718920"/>
          </a:xfrm>
          <a:custGeom>
            <a:avLst/>
            <a:gdLst>
              <a:gd name="textAreaLeft" fmla="*/ 46440 w 792360"/>
              <a:gd name="textAreaRight" fmla="*/ 745920 w 79236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3805" h="21600">
                <a:moveTo>
                  <a:pt x="0" y="0"/>
                </a:moveTo>
                <a:lnTo>
                  <a:pt x="23805" y="0"/>
                </a:lnTo>
                <a:lnTo>
                  <a:pt x="23805" y="21600"/>
                </a:lnTo>
                <a:lnTo>
                  <a:pt x="0" y="21600"/>
                </a:lnTo>
                <a:close/>
              </a:path>
              <a:path fill="lightenLess" w="23805" h="21600">
                <a:moveTo>
                  <a:pt x="0" y="0"/>
                </a:moveTo>
                <a:lnTo>
                  <a:pt x="23805" y="0"/>
                </a:lnTo>
                <a:lnTo>
                  <a:pt x="22405" y="1400"/>
                </a:lnTo>
                <a:lnTo>
                  <a:pt x="1400" y="1400"/>
                </a:lnTo>
                <a:close/>
              </a:path>
              <a:path fill="darken" w="23805" h="21600">
                <a:moveTo>
                  <a:pt x="23805" y="0"/>
                </a:moveTo>
                <a:lnTo>
                  <a:pt x="23805" y="21600"/>
                </a:lnTo>
                <a:lnTo>
                  <a:pt x="22405" y="20200"/>
                </a:lnTo>
                <a:lnTo>
                  <a:pt x="22405" y="1400"/>
                </a:lnTo>
                <a:close/>
              </a:path>
              <a:path fill="darkenLess" w="23805" h="21600">
                <a:moveTo>
                  <a:pt x="238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05" y="20200"/>
                </a:lnTo>
                <a:close/>
              </a:path>
              <a:path fill="lighten" w="238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05" h="21600">
                <a:moveTo>
                  <a:pt x="4896" y="3794"/>
                </a:moveTo>
                <a:lnTo>
                  <a:pt x="18909" y="10800"/>
                </a:lnTo>
                <a:lnTo>
                  <a:pt x="4896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WordArt 11"/>
          <p:cNvSpPr txBox="1"/>
          <p:nvPr/>
        </p:nvSpPr>
        <p:spPr>
          <a:xfrm>
            <a:off x="900000" y="189000"/>
            <a:ext cx="7201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Восточная Европа в древности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13840" y="1714320"/>
            <a:ext cx="4286520" cy="27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 называлась община у славян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рв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ч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тч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785840" y="1785960"/>
            <a:ext cx="403884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рв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4572000" y="1714680"/>
            <a:ext cx="4176720" cy="2952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AutoShape 9"/>
          <p:cNvSpPr/>
          <p:nvPr/>
        </p:nvSpPr>
        <p:spPr>
          <a:xfrm>
            <a:off x="250920" y="5589720"/>
            <a:ext cx="720720" cy="7189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4" h="21600">
                <a:moveTo>
                  <a:pt x="10827" y="3837"/>
                </a:moveTo>
                <a:lnTo>
                  <a:pt x="13403" y="6448"/>
                </a:lnTo>
                <a:lnTo>
                  <a:pt x="13403" y="4707"/>
                </a:lnTo>
                <a:lnTo>
                  <a:pt x="15179" y="4707"/>
                </a:lnTo>
                <a:lnTo>
                  <a:pt x="15179" y="8224"/>
                </a:lnTo>
                <a:lnTo>
                  <a:pt x="17790" y="10800"/>
                </a:lnTo>
                <a:lnTo>
                  <a:pt x="16136" y="10800"/>
                </a:lnTo>
                <a:lnTo>
                  <a:pt x="16136" y="17989"/>
                </a:lnTo>
                <a:lnTo>
                  <a:pt x="5518" y="17989"/>
                </a:lnTo>
                <a:lnTo>
                  <a:pt x="5518" y="10800"/>
                </a:lnTo>
                <a:lnTo>
                  <a:pt x="3864" y="10800"/>
                </a:lnTo>
                <a:close/>
              </a:path>
              <a:path fill="darkenLess" w="21654" h="21600">
                <a:moveTo>
                  <a:pt x="13403" y="6448"/>
                </a:moveTo>
                <a:lnTo>
                  <a:pt x="13403" y="4707"/>
                </a:lnTo>
                <a:lnTo>
                  <a:pt x="15179" y="4707"/>
                </a:lnTo>
                <a:lnTo>
                  <a:pt x="15179" y="8224"/>
                </a:lnTo>
                <a:close/>
              </a:path>
              <a:path fill="darkenLess" w="21654" h="21600">
                <a:moveTo>
                  <a:pt x="9904" y="14299"/>
                </a:moveTo>
                <a:lnTo>
                  <a:pt x="11750" y="14299"/>
                </a:lnTo>
                <a:lnTo>
                  <a:pt x="11750" y="17989"/>
                </a:lnTo>
                <a:lnTo>
                  <a:pt x="16136" y="17989"/>
                </a:lnTo>
                <a:lnTo>
                  <a:pt x="16136" y="10800"/>
                </a:lnTo>
                <a:lnTo>
                  <a:pt x="5518" y="10800"/>
                </a:lnTo>
                <a:lnTo>
                  <a:pt x="5518" y="17989"/>
                </a:lnTo>
                <a:lnTo>
                  <a:pt x="9904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8244000" y="6093000"/>
            <a:ext cx="647640" cy="539640"/>
          </a:xfrm>
          <a:custGeom>
            <a:avLst/>
            <a:gdLst>
              <a:gd name="textAreaLeft" fmla="*/ 34920 w 647640"/>
              <a:gd name="textAreaRight" fmla="*/ 612720 w 647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5920" h="21600">
                <a:moveTo>
                  <a:pt x="0" y="0"/>
                </a:moveTo>
                <a:lnTo>
                  <a:pt x="25920" y="0"/>
                </a:lnTo>
                <a:lnTo>
                  <a:pt x="25920" y="21600"/>
                </a:lnTo>
                <a:lnTo>
                  <a:pt x="0" y="21600"/>
                </a:lnTo>
                <a:close/>
              </a:path>
              <a:path fill="lightenLess" w="25920" h="21600">
                <a:moveTo>
                  <a:pt x="0" y="0"/>
                </a:moveTo>
                <a:lnTo>
                  <a:pt x="25920" y="0"/>
                </a:lnTo>
                <a:lnTo>
                  <a:pt x="24520" y="1400"/>
                </a:lnTo>
                <a:lnTo>
                  <a:pt x="1400" y="1400"/>
                </a:lnTo>
                <a:close/>
              </a:path>
              <a:path fill="darken" w="25920" h="21600">
                <a:moveTo>
                  <a:pt x="25920" y="0"/>
                </a:moveTo>
                <a:lnTo>
                  <a:pt x="25920" y="21600"/>
                </a:lnTo>
                <a:lnTo>
                  <a:pt x="24520" y="20200"/>
                </a:lnTo>
                <a:lnTo>
                  <a:pt x="24520" y="1400"/>
                </a:lnTo>
                <a:close/>
              </a:path>
              <a:path fill="darkenLess" w="25920" h="21600">
                <a:moveTo>
                  <a:pt x="25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0" y="20200"/>
                </a:lnTo>
                <a:close/>
              </a:path>
              <a:path fill="lighten" w="25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5920" h="21600">
                <a:moveTo>
                  <a:pt x="7433" y="3985"/>
                </a:moveTo>
                <a:lnTo>
                  <a:pt x="14431" y="3985"/>
                </a:lnTo>
                <a:lnTo>
                  <a:pt x="18487" y="7484"/>
                </a:lnTo>
                <a:lnTo>
                  <a:pt x="18487" y="17615"/>
                </a:lnTo>
                <a:lnTo>
                  <a:pt x="7433" y="17615"/>
                </a:lnTo>
                <a:close/>
              </a:path>
              <a:path fill="darken" w="25920" h="21600">
                <a:moveTo>
                  <a:pt x="14431" y="3985"/>
                </a:moveTo>
                <a:lnTo>
                  <a:pt x="18487" y="7484"/>
                </a:lnTo>
                <a:lnTo>
                  <a:pt x="14431" y="7484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WordArt 11"/>
          <p:cNvSpPr txBox="1"/>
          <p:nvPr/>
        </p:nvSpPr>
        <p:spPr>
          <a:xfrm>
            <a:off x="900000" y="189000"/>
            <a:ext cx="7201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Восточная Европа в древности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13840" y="1714320"/>
            <a:ext cx="4286520" cy="27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чём особенность христианства по сравнению с язычеством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ногобож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ёхбож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динобож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785840" y="1785960"/>
            <a:ext cx="403884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динобож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4572000" y="1571760"/>
            <a:ext cx="4176720" cy="2952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250920" y="5589720"/>
            <a:ext cx="720720" cy="7189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4" h="21600">
                <a:moveTo>
                  <a:pt x="10827" y="3837"/>
                </a:moveTo>
                <a:lnTo>
                  <a:pt x="13403" y="6448"/>
                </a:lnTo>
                <a:lnTo>
                  <a:pt x="13403" y="4707"/>
                </a:lnTo>
                <a:lnTo>
                  <a:pt x="15179" y="4707"/>
                </a:lnTo>
                <a:lnTo>
                  <a:pt x="15179" y="8224"/>
                </a:lnTo>
                <a:lnTo>
                  <a:pt x="17790" y="10800"/>
                </a:lnTo>
                <a:lnTo>
                  <a:pt x="16136" y="10800"/>
                </a:lnTo>
                <a:lnTo>
                  <a:pt x="16136" y="17989"/>
                </a:lnTo>
                <a:lnTo>
                  <a:pt x="5518" y="17989"/>
                </a:lnTo>
                <a:lnTo>
                  <a:pt x="5518" y="10800"/>
                </a:lnTo>
                <a:lnTo>
                  <a:pt x="3864" y="10800"/>
                </a:lnTo>
                <a:close/>
              </a:path>
              <a:path fill="darkenLess" w="21654" h="21600">
                <a:moveTo>
                  <a:pt x="13403" y="6448"/>
                </a:moveTo>
                <a:lnTo>
                  <a:pt x="13403" y="4707"/>
                </a:lnTo>
                <a:lnTo>
                  <a:pt x="15179" y="4707"/>
                </a:lnTo>
                <a:lnTo>
                  <a:pt x="15179" y="8224"/>
                </a:lnTo>
                <a:close/>
              </a:path>
              <a:path fill="darkenLess" w="21654" h="21600">
                <a:moveTo>
                  <a:pt x="9904" y="14299"/>
                </a:moveTo>
                <a:lnTo>
                  <a:pt x="11750" y="14299"/>
                </a:lnTo>
                <a:lnTo>
                  <a:pt x="11750" y="17989"/>
                </a:lnTo>
                <a:lnTo>
                  <a:pt x="16136" y="17989"/>
                </a:lnTo>
                <a:lnTo>
                  <a:pt x="16136" y="10800"/>
                </a:lnTo>
                <a:lnTo>
                  <a:pt x="5518" y="10800"/>
                </a:lnTo>
                <a:lnTo>
                  <a:pt x="5518" y="17989"/>
                </a:lnTo>
                <a:lnTo>
                  <a:pt x="9904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AutoShape 10"/>
          <p:cNvSpPr/>
          <p:nvPr/>
        </p:nvSpPr>
        <p:spPr>
          <a:xfrm>
            <a:off x="8244000" y="6093000"/>
            <a:ext cx="647640" cy="539640"/>
          </a:xfrm>
          <a:custGeom>
            <a:avLst/>
            <a:gdLst>
              <a:gd name="textAreaLeft" fmla="*/ 34920 w 647640"/>
              <a:gd name="textAreaRight" fmla="*/ 612720 w 647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5920" h="21600">
                <a:moveTo>
                  <a:pt x="0" y="0"/>
                </a:moveTo>
                <a:lnTo>
                  <a:pt x="25920" y="0"/>
                </a:lnTo>
                <a:lnTo>
                  <a:pt x="25920" y="21600"/>
                </a:lnTo>
                <a:lnTo>
                  <a:pt x="0" y="21600"/>
                </a:lnTo>
                <a:close/>
              </a:path>
              <a:path fill="lightenLess" w="25920" h="21600">
                <a:moveTo>
                  <a:pt x="0" y="0"/>
                </a:moveTo>
                <a:lnTo>
                  <a:pt x="25920" y="0"/>
                </a:lnTo>
                <a:lnTo>
                  <a:pt x="24520" y="1400"/>
                </a:lnTo>
                <a:lnTo>
                  <a:pt x="1400" y="1400"/>
                </a:lnTo>
                <a:close/>
              </a:path>
              <a:path fill="darken" w="25920" h="21600">
                <a:moveTo>
                  <a:pt x="25920" y="0"/>
                </a:moveTo>
                <a:lnTo>
                  <a:pt x="25920" y="21600"/>
                </a:lnTo>
                <a:lnTo>
                  <a:pt x="24520" y="20200"/>
                </a:lnTo>
                <a:lnTo>
                  <a:pt x="24520" y="1400"/>
                </a:lnTo>
                <a:close/>
              </a:path>
              <a:path fill="darkenLess" w="25920" h="21600">
                <a:moveTo>
                  <a:pt x="25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0" y="20200"/>
                </a:lnTo>
                <a:close/>
              </a:path>
              <a:path fill="lighten" w="25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5920" h="21600">
                <a:moveTo>
                  <a:pt x="7433" y="3985"/>
                </a:moveTo>
                <a:lnTo>
                  <a:pt x="14431" y="3985"/>
                </a:lnTo>
                <a:lnTo>
                  <a:pt x="18487" y="7484"/>
                </a:lnTo>
                <a:lnTo>
                  <a:pt x="18487" y="17615"/>
                </a:lnTo>
                <a:lnTo>
                  <a:pt x="7433" y="17615"/>
                </a:lnTo>
                <a:close/>
              </a:path>
              <a:path fill="darken" w="25920" h="21600">
                <a:moveTo>
                  <a:pt x="14431" y="3985"/>
                </a:moveTo>
                <a:lnTo>
                  <a:pt x="18487" y="7484"/>
                </a:lnTo>
                <a:lnTo>
                  <a:pt x="14431" y="7484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WordArt 11"/>
          <p:cNvSpPr txBox="1"/>
          <p:nvPr/>
        </p:nvSpPr>
        <p:spPr>
          <a:xfrm>
            <a:off x="900000" y="189000"/>
            <a:ext cx="7201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Восточная Европа в древности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13840" y="1714680"/>
            <a:ext cx="4286520" cy="40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кажите основные виды хозяйственной деятельности славян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доводство и винодел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котовод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емледел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котоводство и земледел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785840" y="1785960"/>
            <a:ext cx="403884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котоводство и земледел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4643280" y="1643040"/>
            <a:ext cx="4176720" cy="2952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214200" y="5929200"/>
            <a:ext cx="720720" cy="71928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43" h="21600">
                <a:moveTo>
                  <a:pt x="0" y="0"/>
                </a:moveTo>
                <a:lnTo>
                  <a:pt x="21643" y="0"/>
                </a:lnTo>
                <a:lnTo>
                  <a:pt x="21643" y="21600"/>
                </a:lnTo>
                <a:lnTo>
                  <a:pt x="0" y="21600"/>
                </a:lnTo>
                <a:close/>
              </a:path>
              <a:path fill="lightenLess" w="21643" h="21600">
                <a:moveTo>
                  <a:pt x="0" y="0"/>
                </a:moveTo>
                <a:lnTo>
                  <a:pt x="21643" y="0"/>
                </a:lnTo>
                <a:lnTo>
                  <a:pt x="20243" y="1400"/>
                </a:lnTo>
                <a:lnTo>
                  <a:pt x="1400" y="1400"/>
                </a:lnTo>
                <a:close/>
              </a:path>
              <a:path fill="darken" w="21643" h="21600">
                <a:moveTo>
                  <a:pt x="21643" y="0"/>
                </a:moveTo>
                <a:lnTo>
                  <a:pt x="21643" y="21600"/>
                </a:lnTo>
                <a:lnTo>
                  <a:pt x="20243" y="20200"/>
                </a:lnTo>
                <a:lnTo>
                  <a:pt x="20243" y="1400"/>
                </a:lnTo>
                <a:close/>
              </a:path>
              <a:path fill="darkenLess" w="21643" h="21600">
                <a:moveTo>
                  <a:pt x="21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3" y="20200"/>
                </a:lnTo>
                <a:close/>
              </a:path>
              <a:path fill="lighten" w="21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3" h="21600">
                <a:moveTo>
                  <a:pt x="10822" y="3837"/>
                </a:moveTo>
                <a:lnTo>
                  <a:pt x="13398" y="6448"/>
                </a:lnTo>
                <a:lnTo>
                  <a:pt x="13398" y="4707"/>
                </a:lnTo>
                <a:lnTo>
                  <a:pt x="15173" y="4707"/>
                </a:lnTo>
                <a:lnTo>
                  <a:pt x="15173" y="8224"/>
                </a:lnTo>
                <a:lnTo>
                  <a:pt x="17785" y="10800"/>
                </a:lnTo>
                <a:lnTo>
                  <a:pt x="16131" y="10800"/>
                </a:lnTo>
                <a:lnTo>
                  <a:pt x="16131" y="17989"/>
                </a:lnTo>
                <a:lnTo>
                  <a:pt x="5512" y="17989"/>
                </a:lnTo>
                <a:lnTo>
                  <a:pt x="5512" y="10800"/>
                </a:lnTo>
                <a:lnTo>
                  <a:pt x="3859" y="10800"/>
                </a:lnTo>
                <a:close/>
              </a:path>
              <a:path fill="darkenLess" w="21643" h="21600">
                <a:moveTo>
                  <a:pt x="13398" y="6448"/>
                </a:moveTo>
                <a:lnTo>
                  <a:pt x="13398" y="4707"/>
                </a:lnTo>
                <a:lnTo>
                  <a:pt x="15173" y="4707"/>
                </a:lnTo>
                <a:lnTo>
                  <a:pt x="15173" y="8224"/>
                </a:lnTo>
                <a:close/>
              </a:path>
              <a:path fill="darkenLess" w="21643" h="21600">
                <a:moveTo>
                  <a:pt x="9899" y="14299"/>
                </a:moveTo>
                <a:lnTo>
                  <a:pt x="11744" y="14299"/>
                </a:lnTo>
                <a:lnTo>
                  <a:pt x="11744" y="17989"/>
                </a:lnTo>
                <a:lnTo>
                  <a:pt x="16131" y="17989"/>
                </a:lnTo>
                <a:lnTo>
                  <a:pt x="16131" y="10800"/>
                </a:lnTo>
                <a:lnTo>
                  <a:pt x="5512" y="10800"/>
                </a:lnTo>
                <a:lnTo>
                  <a:pt x="5512" y="17989"/>
                </a:lnTo>
                <a:lnTo>
                  <a:pt x="9899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8244000" y="6093000"/>
            <a:ext cx="647640" cy="539640"/>
          </a:xfrm>
          <a:custGeom>
            <a:avLst/>
            <a:gdLst>
              <a:gd name="textAreaLeft" fmla="*/ 34920 w 647640"/>
              <a:gd name="textAreaRight" fmla="*/ 612720 w 647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5920" h="21600">
                <a:moveTo>
                  <a:pt x="0" y="0"/>
                </a:moveTo>
                <a:lnTo>
                  <a:pt x="25920" y="0"/>
                </a:lnTo>
                <a:lnTo>
                  <a:pt x="25920" y="21600"/>
                </a:lnTo>
                <a:lnTo>
                  <a:pt x="0" y="21600"/>
                </a:lnTo>
                <a:close/>
              </a:path>
              <a:path fill="lightenLess" w="25920" h="21600">
                <a:moveTo>
                  <a:pt x="0" y="0"/>
                </a:moveTo>
                <a:lnTo>
                  <a:pt x="25920" y="0"/>
                </a:lnTo>
                <a:lnTo>
                  <a:pt x="24520" y="1400"/>
                </a:lnTo>
                <a:lnTo>
                  <a:pt x="1400" y="1400"/>
                </a:lnTo>
                <a:close/>
              </a:path>
              <a:path fill="darken" w="25920" h="21600">
                <a:moveTo>
                  <a:pt x="25920" y="0"/>
                </a:moveTo>
                <a:lnTo>
                  <a:pt x="25920" y="21600"/>
                </a:lnTo>
                <a:lnTo>
                  <a:pt x="24520" y="20200"/>
                </a:lnTo>
                <a:lnTo>
                  <a:pt x="24520" y="1400"/>
                </a:lnTo>
                <a:close/>
              </a:path>
              <a:path fill="darkenLess" w="25920" h="21600">
                <a:moveTo>
                  <a:pt x="25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0" y="20200"/>
                </a:lnTo>
                <a:close/>
              </a:path>
              <a:path fill="lighten" w="25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5920" h="21600">
                <a:moveTo>
                  <a:pt x="7433" y="3985"/>
                </a:moveTo>
                <a:lnTo>
                  <a:pt x="14431" y="3985"/>
                </a:lnTo>
                <a:lnTo>
                  <a:pt x="18487" y="7484"/>
                </a:lnTo>
                <a:lnTo>
                  <a:pt x="18487" y="17615"/>
                </a:lnTo>
                <a:lnTo>
                  <a:pt x="7433" y="17615"/>
                </a:lnTo>
                <a:close/>
              </a:path>
              <a:path fill="darken" w="25920" h="21600">
                <a:moveTo>
                  <a:pt x="14431" y="3985"/>
                </a:moveTo>
                <a:lnTo>
                  <a:pt x="18487" y="7484"/>
                </a:lnTo>
                <a:lnTo>
                  <a:pt x="14431" y="7484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WordArt 11"/>
          <p:cNvSpPr txBox="1"/>
          <p:nvPr/>
        </p:nvSpPr>
        <p:spPr>
          <a:xfrm>
            <a:off x="900000" y="189000"/>
            <a:ext cx="7201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Восточная Европа в древности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06:47:33Z</dcterms:created>
  <dc:creator>User</dc:creator>
  <dc:description/>
  <dc:language>en-US</dc:language>
  <cp:lastModifiedBy>Toshiba</cp:lastModifiedBy>
  <dcterms:modified xsi:type="dcterms:W3CDTF">2009-11-18T06:45:26Z</dcterms:modified>
  <cp:revision>53</cp:revision>
  <dc:subject/>
  <dc:title>Слайд 1</dc:title>
</cp:coreProperties>
</file>