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11.wmf" ContentType="image/x-wmf"/>
  <Override PartName="/ppt/media/image17.jpeg" ContentType="image/jpeg"/>
  <Override PartName="/ppt/media/image4.png" ContentType="image/pn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5AA1-56A2-41DD-BF20-A2CE76D9FB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BE65-7357-42F0-A263-DBBB06E72276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41B-72E2-46A4-81DE-A17EF09A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E22-18F7-4DB0-A43B-937963C2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6CC-0634-4195-9A0A-F92D5787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182-D67B-4D09-8468-E5D6185D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BDA-4D27-4CF8-96BC-845D5A63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114-63F6-40FD-95B1-05043FC4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1E2-228B-428E-940D-C96AD68A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9E4-15DD-4A62-B3F1-9A0A5B67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CF1-1BED-45B6-9F0C-49744AE7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2D1-A7DF-4464-BC04-30DC54A8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8FC-3F99-4555-8D64-79A7573F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2AA-B36E-4D28-9BB5-0F987CC8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050F-231E-4351-BA48-8A62FBAA997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1A9B-6777-4C32-B26D-C8D951BFB74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2.xm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ЕМЬЯ – как малая группа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Картинка 1 из 1685232"/>
          <p:cNvPicPr/>
          <p:nvPr/>
        </p:nvPicPr>
        <p:blipFill>
          <a:blip r:embed="rId1"/>
          <a:stretch/>
        </p:blipFill>
        <p:spPr>
          <a:xfrm>
            <a:off x="395280" y="722160"/>
            <a:ext cx="3097080" cy="175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554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Семейное воспитание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362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истематическое целенаправленное воздействие на ребёнка взрослых членов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семьи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и семейного уклада.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Главная и общая задача— подготовка детей к жизни в существующих социальных условиях; более узкая, конкретная — усвоение ими знаний, умений и навыков, необходимых для нормального формирования личности в условиях семьи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9" name="Picture 5" descr="Картинка 11 из 29"/>
          <p:cNvPicPr/>
          <p:nvPr/>
        </p:nvPicPr>
        <p:blipFill>
          <a:blip r:embed="rId2"/>
          <a:stretch/>
        </p:blipFill>
        <p:spPr>
          <a:xfrm>
            <a:off x="6012000" y="333360"/>
            <a:ext cx="2832120" cy="18734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90" name="Picture 8" descr="MC900233224[1]"/>
          <p:cNvPicPr/>
          <p:nvPr/>
        </p:nvPicPr>
        <p:blipFill>
          <a:blip r:embed="rId3"/>
          <a:stretch/>
        </p:blipFill>
        <p:spPr>
          <a:xfrm>
            <a:off x="7740720" y="5300640"/>
            <a:ext cx="1112760" cy="12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Выполните задание к параграфу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3" name="Picture 5" descr="Картинка 19 из 1643686"/>
          <p:cNvPicPr/>
          <p:nvPr/>
        </p:nvPicPr>
        <p:blipFill>
          <a:blip r:embed="rId1"/>
          <a:stretch/>
        </p:blipFill>
        <p:spPr>
          <a:xfrm>
            <a:off x="3348000" y="2589120"/>
            <a:ext cx="5014800" cy="39020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94" name="Picture 6" descr="MC900324622[1]"/>
          <p:cNvPicPr/>
          <p:nvPr/>
        </p:nvPicPr>
        <p:blipFill>
          <a:blip r:embed="rId2"/>
          <a:stretch/>
        </p:blipFill>
        <p:spPr>
          <a:xfrm>
            <a:off x="1116000" y="2708280"/>
            <a:ext cx="1265400" cy="181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ногопоколенная семья - семья, в которой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живут вместе три и более поколений, связанных общим хозяйством. 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оногамная семья — состоящая из двух партнёров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олигамная семья — один из супругов имеет несколько брачных партнёров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6" name="Picture 5" descr="Картинка 16 из 163233"/>
          <p:cNvPicPr/>
          <p:nvPr/>
        </p:nvPicPr>
        <p:blipFill>
          <a:blip r:embed="rId1"/>
          <a:stretch/>
        </p:blipFill>
        <p:spPr>
          <a:xfrm>
            <a:off x="6084720" y="1484280"/>
            <a:ext cx="2730600" cy="2382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97" name="Picture 7" descr="Картинка 28 из 163233"/>
          <p:cNvPicPr/>
          <p:nvPr/>
        </p:nvPicPr>
        <p:blipFill>
          <a:blip r:embed="rId2"/>
          <a:stretch/>
        </p:blipFill>
        <p:spPr>
          <a:xfrm>
            <a:off x="1835280" y="1844640"/>
            <a:ext cx="3120840" cy="2278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98" name="AutoShape 8">
            <a:hlinkClick r:id="rId3" action="ppaction://hlinksldjump"/>
          </p:cNvPr>
          <p:cNvSpPr/>
          <p:nvPr/>
        </p:nvSpPr>
        <p:spPr>
          <a:xfrm>
            <a:off x="810108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Нуклеарные семьи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(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nuclear family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) — семьи, состоящие из одной брачной пары с детьми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0" name="Picture 5" descr="Картинка 12 из 163233"/>
          <p:cNvPicPr/>
          <p:nvPr/>
        </p:nvPicPr>
        <p:blipFill>
          <a:blip r:embed="rId1"/>
          <a:stretch/>
        </p:blipFill>
        <p:spPr>
          <a:xfrm>
            <a:off x="2843280" y="2133720"/>
            <a:ext cx="5715000" cy="42861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01" name="AutoShape 6"/>
          <p:cNvSpPr/>
          <p:nvPr/>
        </p:nvSpPr>
        <p:spPr>
          <a:xfrm>
            <a:off x="826920" y="357336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Неполной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— семья только из одного родителя с детьми, или семья, состоящая только из родителей без детей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3" name="Picture 5" descr="Картинка 34 из 2855"/>
          <p:cNvPicPr/>
          <p:nvPr/>
        </p:nvPicPr>
        <p:blipFill>
          <a:blip r:embed="rId1"/>
          <a:stretch/>
        </p:blipFill>
        <p:spPr>
          <a:xfrm>
            <a:off x="4932360" y="1916280"/>
            <a:ext cx="3809880" cy="2695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04" name="Picture 7" descr="Картинка 75 из 2855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71640" y="2133720"/>
            <a:ext cx="3333600" cy="27813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05" name="Picture 9" descr="Картинка 93 из 2855"/>
          <p:cNvPicPr/>
          <p:nvPr/>
        </p:nvPicPr>
        <p:blipFill>
          <a:blip r:embed="rId3"/>
          <a:stretch/>
        </p:blipFill>
        <p:spPr>
          <a:xfrm>
            <a:off x="4356000" y="5013360"/>
            <a:ext cx="2305080" cy="1428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06" name="AutoShape 10"/>
          <p:cNvSpPr/>
          <p:nvPr/>
        </p:nvSpPr>
        <p:spPr>
          <a:xfrm>
            <a:off x="7667640" y="551664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Традиционн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едполагает главенство мужчины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(Патриархальная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9" name="Picture 7" descr="Картинка 19 из 13913"/>
          <p:cNvPicPr/>
          <p:nvPr/>
        </p:nvPicPr>
        <p:blipFill>
          <a:blip r:embed="rId1"/>
          <a:stretch/>
        </p:blipFill>
        <p:spPr>
          <a:xfrm>
            <a:off x="3059280" y="2781360"/>
            <a:ext cx="5695920" cy="36860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110" name="AutoShape 8"/>
          <p:cNvSpPr/>
          <p:nvPr/>
        </p:nvSpPr>
        <p:spPr>
          <a:xfrm>
            <a:off x="684360" y="3860640"/>
            <a:ext cx="57600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Партнёр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2" name="Picture 4" descr="Картинка 1 из 13913"/>
          <p:cNvPicPr/>
          <p:nvPr/>
        </p:nvPicPr>
        <p:blipFill>
          <a:blip r:embed="rId1"/>
          <a:stretch/>
        </p:blipFill>
        <p:spPr>
          <a:xfrm>
            <a:off x="3780000" y="2430360"/>
            <a:ext cx="5002200" cy="4071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39640" y="1484280"/>
            <a:ext cx="78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или эгалитарная – справедливое, пропорциональное распределение семейных обязанностей.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843280" y="5661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26792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ознакомиться с психологией семейного воспитания; объяснить и понять новые термины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мь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Виды семе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Функции семьи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мейный цикл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Гендорное поведе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мейное воспита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896E-3ECA-4D83-B3E6-A6ACE91D031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емья - это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оциальная группа, обладающая исторически определённой организацией, члены которой связаны брачными или родственными отношениями (а также отношениями по взятию детей на воспитание), общностью быта, взаимной моральной ответственностью и социальной необходимостью, которая обусловлена потребностью общества в физическом и духовном воспроизводстве населения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0" name="Picture 5" descr="Картинка 16 из 750"/>
          <p:cNvPicPr/>
          <p:nvPr/>
        </p:nvPicPr>
        <p:blipFill>
          <a:blip r:embed="rId1"/>
          <a:stretch/>
        </p:blipFill>
        <p:spPr>
          <a:xfrm>
            <a:off x="6659640" y="333360"/>
            <a:ext cx="2195280" cy="1449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>
            <a:off x="7812000" y="2924280"/>
            <a:ext cx="505080" cy="50472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8244000" y="4941720"/>
            <a:ext cx="504720" cy="50508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7740720" y="5877000"/>
            <a:ext cx="504720" cy="50472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Виды семей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5" name="Diagram 20"/>
          <p:cNvGrpSpPr/>
          <p:nvPr/>
        </p:nvGrpSpPr>
        <p:grpSpPr>
          <a:xfrm>
            <a:off x="1547640" y="1195560"/>
            <a:ext cx="6264000" cy="5583960"/>
            <a:chOff x="1547640" y="1195560"/>
            <a:chExt cx="6264000" cy="5583960"/>
          </a:xfrm>
        </p:grpSpPr>
        <p:sp>
          <p:nvSpPr>
            <p:cNvPr id="66" name="_s1028"/>
            <p:cNvSpPr/>
            <p:nvPr/>
          </p:nvSpPr>
          <p:spPr>
            <a:xfrm flipH="1" flipV="1">
              <a:off x="3187080" y="3744000"/>
              <a:ext cx="750240" cy="233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7" name="_s1029"/>
            <p:cNvSpPr/>
            <p:nvPr/>
          </p:nvSpPr>
          <p:spPr>
            <a:xfrm>
              <a:off x="1547640" y="2851560"/>
              <a:ext cx="1679400" cy="1444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1" action="ppaction://hlinksldjump"/>
                </a:rPr>
                <a:t>НУКЛЕАРН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8" name="_s1030"/>
            <p:cNvSpPr/>
            <p:nvPr/>
          </p:nvSpPr>
          <p:spPr>
            <a:xfrm flipH="1">
              <a:off x="3756240" y="4811040"/>
              <a:ext cx="464760" cy="613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" name="_s1031"/>
            <p:cNvSpPr/>
            <p:nvPr/>
          </p:nvSpPr>
          <p:spPr>
            <a:xfrm>
              <a:off x="2516400" y="5280840"/>
              <a:ext cx="1563840" cy="1498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АРТНЁРСК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" name="_s1032"/>
            <p:cNvSpPr/>
            <p:nvPr/>
          </p:nvSpPr>
          <p:spPr>
            <a:xfrm>
              <a:off x="5135760" y="4811040"/>
              <a:ext cx="466920" cy="613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1" name="_s1033"/>
            <p:cNvSpPr/>
            <p:nvPr/>
          </p:nvSpPr>
          <p:spPr>
            <a:xfrm>
              <a:off x="5278680" y="5280840"/>
              <a:ext cx="1564560" cy="1498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НЕПОЛНЫЕ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 flipV="1">
              <a:off x="5419440" y="3741120"/>
              <a:ext cx="752400" cy="2358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3" name="_s1035"/>
            <p:cNvSpPr/>
            <p:nvPr/>
          </p:nvSpPr>
          <p:spPr>
            <a:xfrm>
              <a:off x="6010560" y="2764080"/>
              <a:ext cx="1801080" cy="1498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ТРАДИЦИОНН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4" name="_s1036"/>
            <p:cNvSpPr/>
            <p:nvPr/>
          </p:nvSpPr>
          <p:spPr>
            <a:xfrm flipV="1">
              <a:off x="4678200" y="2702880"/>
              <a:ext cx="0" cy="757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" name="_s1037"/>
            <p:cNvSpPr/>
            <p:nvPr/>
          </p:nvSpPr>
          <p:spPr>
            <a:xfrm>
              <a:off x="3491640" y="1195560"/>
              <a:ext cx="2190240" cy="1503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МНОГОПОКОЛЕНН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3923640" y="3429000"/>
              <a:ext cx="1566000" cy="14986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 зависимости от места человека в семье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родительская — это семья, в которой человек рождаетс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репродуктивные — семья, которую человек создаёт сам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 зависимости от проживания семьи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матрилокальная — молодая семья, проживающая с родителями жены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патрилокальная — семья, проживающая совместно с родителями мужа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неолокальная — семья переезжает в жилище, удалённое от места проживания родителе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Функции семь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епродуктивная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в любой семье важнейшей является проблема деторождения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хозяйственно-экономическая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включает питание семьи, приобретение и содержание домашнего имущества, одежды, обуви, благоустройство жилища, создание домашнего уюта, организацию жизни и быта семьи, формирование и расходование домашнего бюджет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егенеративная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(лат. regeneratio — возрождение, возобновление). Означает наследование статуса, фамилии, имущества, социального положения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Функции семь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образовательно-воспитательн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(социализация). Состоит в удовлетворении потребностей в отцовстве и материнстве, контактах с детьми, их воспитании, самореализации в детях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рекреативн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(лат. recreatio — восстановление). Связана с отдыхом, организацией досуга, заботой о здоровье и благополучии членов семь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уховного общени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развития личностей членов семьи, духовное взаимообогащение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оциально-статусн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предоставление определённого социального статуса членам семьи, воспроизводство социальной структур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психотерапевтическ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позволяет членам семьи удовлетворять потребности в симпатии, уважении, признании, эмоциональной поддержке, психологической защит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Calibri"/>
              </a:rPr>
              <a:t>Семейный цикл</a:t>
            </a:r>
            <a:br>
              <a:rPr sz="4000"/>
            </a:b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 позиций воспроизводства населения весьма важным критерием построения демографической типологии семей является стадия жизненного цикла семьи. Семейный цикл определяется стадиями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одительств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пред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от заключения брака и до рождения первенца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епродуктивное 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между рождениями первого и последнего дете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оциализационное 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от рождения первенца до выделения из семьи (чаще всего через вступление в брак) последнего ребёнка (в случае одного ребёнка в семье совпадает с предыдущей стадией)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пра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от рождения первого внука до смерти одного из прародителе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Гендерное поведение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Ге́ндер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(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gender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, от лат.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genus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«род») — социальный пол, определяющий поведение человека в обществе и то, как это поведение воспринимается. Это то полоролевое поведение, которое определяет отношение с другими людьми: друзьями, коллегами, одноклассниками, родителями, случайными прохожими и т. д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1:37:24Z</dcterms:created>
  <dc:creator>Admin</dc:creator>
  <dc:description>http://aida.ucoz.ru</dc:description>
  <dc:language>en-US</dc:language>
  <cp:lastModifiedBy>COMP</cp:lastModifiedBy>
  <dcterms:modified xsi:type="dcterms:W3CDTF">2011-10-11T15:20:46Z</dcterms:modified>
  <cp:revision>40</cp:revision>
  <dc:subject/>
  <dc:title>СЕМЬЯ </dc:title>
</cp:coreProperties>
</file>