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0.jpeg" ContentType="image/jpeg"/>
  <Override PartName="/ppt/media/image13.wmf" ContentType="image/x-wmf"/>
  <Override PartName="/ppt/media/image8.jpeg" ContentType="image/jpeg"/>
  <Override PartName="/ppt/media/image6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11.wmf" ContentType="image/x-wmf"/>
  <Override PartName="/ppt/media/image17.jpeg" ContentType="image/jpeg"/>
  <Override PartName="/ppt/media/image4.png" ContentType="image/png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0A8C-DA57-4F77-82DB-846CDC8B1B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8954-6C82-48A9-9E79-A6C4BD6D87FF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D0E-4615-4CA5-ACA2-89CD7444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728-FE1F-4242-9BDF-1CF6356C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BFF-6981-4A58-B53E-B6C131C7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25B-D9A4-42C6-AD35-0595DA03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117-850B-4FCA-B541-C9D8ECCD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EC9-D644-4219-8B41-904A4D69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156-6847-41F8-A3D7-83FBF986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968-61B2-49D6-B9E3-93DAA502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AFA-51DE-482B-9F6E-42E09E30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4A9-8B75-4EF3-8A28-31E79262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74E-EE69-4AFA-BAA2-0117101D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11F-6CEE-44E7-AD26-1519D07F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3DAC-CAEA-4FC1-AAFC-6D795FCFF19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C079-D159-490C-A1E2-4F7ABF805F5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2.xm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7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СЕМЬЯ – как малая группа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Картинка 1 из 1685232"/>
          <p:cNvPicPr/>
          <p:nvPr/>
        </p:nvPicPr>
        <p:blipFill>
          <a:blip r:embed="rId1"/>
          <a:stretch/>
        </p:blipFill>
        <p:spPr>
          <a:xfrm>
            <a:off x="395280" y="722160"/>
            <a:ext cx="3097080" cy="1758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554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Семейное воспитание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362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систематическое целенаправленное воздействие на ребёнка взрослых членов </a:t>
            </a:r>
            <a:r>
              <a:rPr b="0" i="1" lang="ru-RU" sz="3200" spc="-1" strike="noStrike">
                <a:solidFill>
                  <a:srgbClr val="800000"/>
                </a:solidFill>
                <a:latin typeface="Calibri"/>
              </a:rPr>
              <a:t>семьи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 и семейного уклада.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Главная и общая задача— подготовка детей к жизни в существующих социальных условиях; более узкая, конкретная — усвоение ими знаний, умений и навыков, необходимых для нормального формирования личности в условиях семьи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9" name="Picture 5" descr="Картинка 11 из 29"/>
          <p:cNvPicPr/>
          <p:nvPr/>
        </p:nvPicPr>
        <p:blipFill>
          <a:blip r:embed="rId2"/>
          <a:stretch/>
        </p:blipFill>
        <p:spPr>
          <a:xfrm>
            <a:off x="6012000" y="333360"/>
            <a:ext cx="2832120" cy="18734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90" name="Picture 8" descr="MC900233224[1]"/>
          <p:cNvPicPr/>
          <p:nvPr/>
        </p:nvPicPr>
        <p:blipFill>
          <a:blip r:embed="rId3"/>
          <a:stretch/>
        </p:blipFill>
        <p:spPr>
          <a:xfrm>
            <a:off x="7740720" y="5300640"/>
            <a:ext cx="1112760" cy="12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Выполните задание к параграфу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3" name="Picture 5" descr="Картинка 19 из 1643686"/>
          <p:cNvPicPr/>
          <p:nvPr/>
        </p:nvPicPr>
        <p:blipFill>
          <a:blip r:embed="rId1"/>
          <a:stretch/>
        </p:blipFill>
        <p:spPr>
          <a:xfrm>
            <a:off x="3348000" y="2589120"/>
            <a:ext cx="5014800" cy="39020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94" name="Picture 6" descr="MC900324622[1]"/>
          <p:cNvPicPr/>
          <p:nvPr/>
        </p:nvPicPr>
        <p:blipFill>
          <a:blip r:embed="rId2"/>
          <a:stretch/>
        </p:blipFill>
        <p:spPr>
          <a:xfrm>
            <a:off x="1116000" y="2708280"/>
            <a:ext cx="1265400" cy="181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Многопоколенная семья - семья, в которой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живут вместе три и более поколений, связанных общим хозяйством. 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моногамная семья — состоящая из двух партнёров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полигамная семья — один из супругов имеет несколько брачных партнёров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6" name="Picture 5" descr="Картинка 16 из 163233"/>
          <p:cNvPicPr/>
          <p:nvPr/>
        </p:nvPicPr>
        <p:blipFill>
          <a:blip r:embed="rId1"/>
          <a:stretch/>
        </p:blipFill>
        <p:spPr>
          <a:xfrm>
            <a:off x="6084720" y="1484280"/>
            <a:ext cx="2730600" cy="23828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97" name="Picture 7" descr="Картинка 28 из 163233"/>
          <p:cNvPicPr/>
          <p:nvPr/>
        </p:nvPicPr>
        <p:blipFill>
          <a:blip r:embed="rId2"/>
          <a:stretch/>
        </p:blipFill>
        <p:spPr>
          <a:xfrm>
            <a:off x="1835280" y="1844640"/>
            <a:ext cx="3120840" cy="22780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98" name="AutoShape 8">
            <a:hlinkClick r:id="rId3" action="ppaction://hlinksldjump"/>
          </p:cNvPr>
          <p:cNvSpPr/>
          <p:nvPr/>
        </p:nvSpPr>
        <p:spPr>
          <a:xfrm>
            <a:off x="8101080" y="5877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Нуклеарные семьи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( </a:t>
            </a:r>
            <a:r>
              <a:rPr b="0" i="1" lang="ru-RU" sz="3200" spc="-1" strike="noStrike">
                <a:solidFill>
                  <a:srgbClr val="800000"/>
                </a:solidFill>
                <a:latin typeface="Calibri"/>
              </a:rPr>
              <a:t>nuclear family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) — семьи, состоящие из одной брачной пары с детьми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00" name="Picture 5" descr="Картинка 12 из 163233"/>
          <p:cNvPicPr/>
          <p:nvPr/>
        </p:nvPicPr>
        <p:blipFill>
          <a:blip r:embed="rId1"/>
          <a:stretch/>
        </p:blipFill>
        <p:spPr>
          <a:xfrm>
            <a:off x="2843280" y="2133720"/>
            <a:ext cx="5715000" cy="42861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01" name="AutoShape 6"/>
          <p:cNvSpPr/>
          <p:nvPr/>
        </p:nvSpPr>
        <p:spPr>
          <a:xfrm>
            <a:off x="826920" y="3573360"/>
            <a:ext cx="576360" cy="57636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Неполной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 — семья только из одного родителя с детьми, или семья, состоящая только из родителей без детей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03" name="Picture 5" descr="Картинка 34 из 2855"/>
          <p:cNvPicPr/>
          <p:nvPr/>
        </p:nvPicPr>
        <p:blipFill>
          <a:blip r:embed="rId1"/>
          <a:stretch/>
        </p:blipFill>
        <p:spPr>
          <a:xfrm>
            <a:off x="4932360" y="1916280"/>
            <a:ext cx="3809880" cy="26953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04" name="Picture 7" descr="Картинка 75 из 2855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71640" y="2133720"/>
            <a:ext cx="3333600" cy="27813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05" name="Picture 9" descr="Картинка 93 из 2855"/>
          <p:cNvPicPr/>
          <p:nvPr/>
        </p:nvPicPr>
        <p:blipFill>
          <a:blip r:embed="rId3"/>
          <a:stretch/>
        </p:blipFill>
        <p:spPr>
          <a:xfrm>
            <a:off x="4356000" y="5013360"/>
            <a:ext cx="2305080" cy="14288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06" name="AutoShape 10"/>
          <p:cNvSpPr/>
          <p:nvPr/>
        </p:nvSpPr>
        <p:spPr>
          <a:xfrm>
            <a:off x="7667640" y="5516640"/>
            <a:ext cx="576360" cy="57636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Традиционн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едполагает главенство мужчины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(Патриархальная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09" name="Picture 7" descr="Картинка 19 из 13913"/>
          <p:cNvPicPr/>
          <p:nvPr/>
        </p:nvPicPr>
        <p:blipFill>
          <a:blip r:embed="rId1"/>
          <a:stretch/>
        </p:blipFill>
        <p:spPr>
          <a:xfrm>
            <a:off x="3059280" y="2781360"/>
            <a:ext cx="5695920" cy="36860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sp>
        <p:nvSpPr>
          <p:cNvPr id="110" name="AutoShape 8"/>
          <p:cNvSpPr/>
          <p:nvPr/>
        </p:nvSpPr>
        <p:spPr>
          <a:xfrm>
            <a:off x="684360" y="3860640"/>
            <a:ext cx="576000" cy="57636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Партнёрск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2" name="Picture 4" descr="Картинка 1 из 13913"/>
          <p:cNvPicPr/>
          <p:nvPr/>
        </p:nvPicPr>
        <p:blipFill>
          <a:blip r:embed="rId1"/>
          <a:stretch/>
        </p:blipFill>
        <p:spPr>
          <a:xfrm>
            <a:off x="3780000" y="2430360"/>
            <a:ext cx="5002200" cy="4071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39640" y="1484280"/>
            <a:ext cx="788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или эгалитарная – справедливое, пропорциональное распределение семейных обязанностей.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2843280" y="5661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267920"/>
            <a:ext cx="8435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ознакомиться с психологией семейного воспитания; объяснить и понять новые термины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емь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Виды семей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Функции семьи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емейный цикл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Гендорное поведени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емейное воспитани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E8A5-B3C3-4D4E-9968-A3605E17C02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Семья - это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социальная группа, обладающая исторически определённой организацией, члены которой связаны брачными или родственными отношениями (а также отношениями по взятию детей на воспитание), общностью быта, взаимной моральной ответственностью и социальной необходимостью, которая обусловлена потребностью общества в физическом и духовном воспроизводстве населения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0" name="Picture 5" descr="Картинка 16 из 750"/>
          <p:cNvPicPr/>
          <p:nvPr/>
        </p:nvPicPr>
        <p:blipFill>
          <a:blip r:embed="rId1"/>
          <a:stretch/>
        </p:blipFill>
        <p:spPr>
          <a:xfrm>
            <a:off x="6659640" y="333360"/>
            <a:ext cx="2195280" cy="14493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6"/>
          <p:cNvSpPr/>
          <p:nvPr/>
        </p:nvSpPr>
        <p:spPr>
          <a:xfrm>
            <a:off x="7812000" y="2924280"/>
            <a:ext cx="505080" cy="50472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8244000" y="4941720"/>
            <a:ext cx="504720" cy="50508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7740720" y="5877000"/>
            <a:ext cx="504720" cy="50472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Виды семей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65" name="Diagram 20"/>
          <p:cNvGrpSpPr/>
          <p:nvPr/>
        </p:nvGrpSpPr>
        <p:grpSpPr>
          <a:xfrm>
            <a:off x="1547640" y="1195560"/>
            <a:ext cx="6264000" cy="5583960"/>
            <a:chOff x="1547640" y="1195560"/>
            <a:chExt cx="6264000" cy="5583960"/>
          </a:xfrm>
        </p:grpSpPr>
        <p:sp>
          <p:nvSpPr>
            <p:cNvPr id="66" name="_s1028"/>
            <p:cNvSpPr/>
            <p:nvPr/>
          </p:nvSpPr>
          <p:spPr>
            <a:xfrm flipH="1" flipV="1">
              <a:off x="3187080" y="3744000"/>
              <a:ext cx="750240" cy="2332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7" name="_s1029"/>
            <p:cNvSpPr/>
            <p:nvPr/>
          </p:nvSpPr>
          <p:spPr>
            <a:xfrm>
              <a:off x="1547640" y="2851560"/>
              <a:ext cx="1679400" cy="1444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ff"/>
                  </a:solidFill>
                  <a:uFillTx/>
                  <a:latin typeface="Arial"/>
                  <a:hlinkClick r:id="rId1" action="ppaction://hlinksldjump"/>
                </a:rPr>
                <a:t>НУКЛЕАРНАЯ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8" name="_s1030"/>
            <p:cNvSpPr/>
            <p:nvPr/>
          </p:nvSpPr>
          <p:spPr>
            <a:xfrm flipH="1">
              <a:off x="3756240" y="4811040"/>
              <a:ext cx="464760" cy="613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" name="_s1031"/>
            <p:cNvSpPr/>
            <p:nvPr/>
          </p:nvSpPr>
          <p:spPr>
            <a:xfrm>
              <a:off x="2516400" y="5280840"/>
              <a:ext cx="1563840" cy="1498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ff"/>
                  </a:solidFill>
                  <a:uFillTx/>
                  <a:latin typeface="Arial"/>
                  <a:hlinkClick r:id="rId2" action="ppaction://hlinksldjump"/>
                </a:rPr>
                <a:t>ПАРТНЁРСКАЯ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" name="_s1032"/>
            <p:cNvSpPr/>
            <p:nvPr/>
          </p:nvSpPr>
          <p:spPr>
            <a:xfrm>
              <a:off x="5135760" y="4811040"/>
              <a:ext cx="466920" cy="613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1" name="_s1033"/>
            <p:cNvSpPr/>
            <p:nvPr/>
          </p:nvSpPr>
          <p:spPr>
            <a:xfrm>
              <a:off x="5278680" y="5280840"/>
              <a:ext cx="1564560" cy="1498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ff"/>
                  </a:solidFill>
                  <a:uFillTx/>
                  <a:latin typeface="Arial"/>
                  <a:hlinkClick r:id="rId3" action="ppaction://hlinksldjump"/>
                </a:rPr>
                <a:t>НЕПОЛНЫЕ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2" name="_s1034"/>
            <p:cNvSpPr/>
            <p:nvPr/>
          </p:nvSpPr>
          <p:spPr>
            <a:xfrm flipV="1">
              <a:off x="5419440" y="3741120"/>
              <a:ext cx="752400" cy="2358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3" name="_s1035"/>
            <p:cNvSpPr/>
            <p:nvPr/>
          </p:nvSpPr>
          <p:spPr>
            <a:xfrm>
              <a:off x="6010560" y="2764080"/>
              <a:ext cx="1801080" cy="1498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ff"/>
                  </a:solidFill>
                  <a:uFillTx/>
                  <a:latin typeface="Arial"/>
                  <a:hlinkClick r:id="rId4" action="ppaction://hlinksldjump"/>
                </a:rPr>
                <a:t>ТРАДИЦИОННАЯ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4" name="_s1036"/>
            <p:cNvSpPr/>
            <p:nvPr/>
          </p:nvSpPr>
          <p:spPr>
            <a:xfrm flipV="1">
              <a:off x="4678200" y="2702880"/>
              <a:ext cx="0" cy="757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" name="_s1037"/>
            <p:cNvSpPr/>
            <p:nvPr/>
          </p:nvSpPr>
          <p:spPr>
            <a:xfrm>
              <a:off x="3491640" y="1195560"/>
              <a:ext cx="2190240" cy="1503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ff"/>
                  </a:solidFill>
                  <a:uFillTx/>
                  <a:latin typeface="Arial"/>
                  <a:hlinkClick r:id="rId5" action="ppaction://hlinksldjump"/>
                </a:rPr>
                <a:t>МНОГОПОКОЛЕННАЯ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" name="_s1038"/>
            <p:cNvSpPr/>
            <p:nvPr/>
          </p:nvSpPr>
          <p:spPr>
            <a:xfrm>
              <a:off x="3923640" y="3429000"/>
              <a:ext cx="1566000" cy="14986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СЕМЬЯ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 зависимости от места человека в семье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родительская — это семья, в которой человек рождаетс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репродуктивные — семья, которую человек создаёт сам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 зависимости от проживания семьи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матрилокальная — молодая семья, проживающая с родителями жены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патрилокальная — семья, проживающая совместно с родителями мужа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неолокальная — семья переезжает в жилище, удалённое от места проживания родителе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Функции семьи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епродуктивная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в любой семье важнейшей является проблема деторождения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хозяйственно-экономическая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включает питание семьи, приобретение и содержание домашнего имущества, одежды, обуви, благоустройство жилища, создание домашнего уюта, организацию жизни и быта семьи, формирование и расходование домашнего бюджета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егенеративная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(лат. regeneratio — возрождение, возобновление). Означает наследование статуса, фамилии, имущества, социального положения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Функции семьи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образовательно-воспитательная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— (социализация). Состоит в удовлетворении потребностей в отцовстве и материнстве, контактах с детьми, их воспитании, самореализации в детях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рекреативная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— (лат. recreatio — восстановление). Связана с отдыхом, организацией досуга, заботой о здоровье и благополучии членов семьи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уховного общения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— развития личностей членов семьи, духовное взаимообогащение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оциально-статусная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— предоставление определённого социального статуса членам семьи, воспроизводство социальной структур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психотерапевтическая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— позволяет членам семьи удовлетворять потребности в симпатии, уважении, признании, эмоциональной поддержке, психологической защите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Calibri"/>
              </a:rPr>
              <a:t>Семейный цикл</a:t>
            </a:r>
            <a:br>
              <a:rPr sz="4000"/>
            </a:b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 позиций воспроизводства населения весьма важным критерием построения демографической типологии семей является стадия жизненного цикла семьи. Семейный цикл определяется стадиями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одительства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предродительство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период от заключения брака и до рождения первенца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епродуктивное родительство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период между рождениями первого и последнего детей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оциализационное родительство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период от рождения первенца до выделения из семьи (чаще всего через вступление в брак) последнего ребёнка (в случае одного ребёнка в семье совпадает с предыдущей стадией)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прародительство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период от рождения первого внука до смерти одного из прародителе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Гендерное поведение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Ге́ндер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 ( </a:t>
            </a:r>
            <a:r>
              <a:rPr b="0" i="1" lang="ru-RU" sz="3200" spc="-1" strike="noStrike">
                <a:solidFill>
                  <a:srgbClr val="800000"/>
                </a:solidFill>
                <a:latin typeface="Calibri"/>
              </a:rPr>
              <a:t>gender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, от лат. </a:t>
            </a:r>
            <a:r>
              <a:rPr b="0" i="1" lang="ru-RU" sz="3200" spc="-1" strike="noStrike">
                <a:solidFill>
                  <a:srgbClr val="800000"/>
                </a:solidFill>
                <a:latin typeface="Calibri"/>
              </a:rPr>
              <a:t>genus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 «род») — социальный пол, определяющий поведение человека в обществе и то, как это поведение воспринимается. Это то полоролевое поведение, которое определяет отношение с другими людьми: друзьями, коллегами, одноклассниками, родителями, случайными прохожими и т. д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1:37:24Z</dcterms:created>
  <dc:creator>Admin</dc:creator>
  <dc:description>http://aida.ucoz.ru</dc:description>
  <dc:language>en-US</dc:language>
  <cp:lastModifiedBy>COMP</cp:lastModifiedBy>
  <dcterms:modified xsi:type="dcterms:W3CDTF">2011-10-11T15:20:46Z</dcterms:modified>
  <cp:revision>40</cp:revision>
  <dc:subject/>
  <dc:title>СЕМЬЯ </dc:title>
</cp:coreProperties>
</file>