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17.jpeg" ContentType="image/jpeg"/>
  <Override PartName="/ppt/media/image4.png" ContentType="image/pn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5BD5-701B-4A14-9155-FFE4C450D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9D7F-3DD0-42FB-B927-7B4F9B5C4E4E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6B9-9772-4EAD-9EF1-96FD79CD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F54-04FD-40B8-BE37-CCCFEC01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758-243E-48CB-B794-A798F42C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783-EE47-46A3-80C7-E4F750EE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B10-E6F4-409A-B282-81714A1E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A05-800F-494A-BEC7-725A5A94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EAA-F8EB-43B0-BF22-F4DF8E2F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E0B-F487-4C81-9CAB-4ADC4064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1A6-CFBA-45E9-B4F7-0BC33974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813-1327-4396-AF13-20CB7C39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402-1C76-406D-8AED-A5FF1225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7A9-DF09-4A1B-B0B2-891C25BC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B1D6-245C-4DB8-9061-438E08D1464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0FEC-33FE-4226-9D14-CCAFC8274B5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2.xm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ЕМЬЯ – как малая группа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Картинка 1 из 1685232"/>
          <p:cNvPicPr/>
          <p:nvPr/>
        </p:nvPicPr>
        <p:blipFill>
          <a:blip r:embed="rId1"/>
          <a:stretch/>
        </p:blipFill>
        <p:spPr>
          <a:xfrm>
            <a:off x="395280" y="722160"/>
            <a:ext cx="3097080" cy="175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554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Семейное воспитание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362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истематическое целенаправленное воздействие на ребёнка взрослых членов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семьи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и семейного уклада.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лавная и общая задача— подготовка детей к жизни в существующих социальных условиях; более узкая, конкретная — усвоение ими знаний, умений и навыков, необходимых для нормального формирования личности в условиях семьи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9" name="Picture 5" descr="Картинка 11 из 29"/>
          <p:cNvPicPr/>
          <p:nvPr/>
        </p:nvPicPr>
        <p:blipFill>
          <a:blip r:embed="rId2"/>
          <a:stretch/>
        </p:blipFill>
        <p:spPr>
          <a:xfrm>
            <a:off x="6012000" y="333360"/>
            <a:ext cx="2832120" cy="1873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0" name="Picture 8" descr="MC900233224[1]"/>
          <p:cNvPicPr/>
          <p:nvPr/>
        </p:nvPicPr>
        <p:blipFill>
          <a:blip r:embed="rId3"/>
          <a:stretch/>
        </p:blipFill>
        <p:spPr>
          <a:xfrm>
            <a:off x="7740720" y="5300640"/>
            <a:ext cx="1112760" cy="12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Выполните задание к параграфу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3" name="Picture 5" descr="Картинка 19 из 1643686"/>
          <p:cNvPicPr/>
          <p:nvPr/>
        </p:nvPicPr>
        <p:blipFill>
          <a:blip r:embed="rId1"/>
          <a:stretch/>
        </p:blipFill>
        <p:spPr>
          <a:xfrm>
            <a:off x="3348000" y="2589120"/>
            <a:ext cx="5014800" cy="39020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94" name="Picture 6" descr="MC900324622[1]"/>
          <p:cNvPicPr/>
          <p:nvPr/>
        </p:nvPicPr>
        <p:blipFill>
          <a:blip r:embed="rId2"/>
          <a:stretch/>
        </p:blipFill>
        <p:spPr>
          <a:xfrm>
            <a:off x="1116000" y="2708280"/>
            <a:ext cx="1265400" cy="181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ногопоколенная семья - семья, в которой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живут вместе три и более поколений, связанных общим хозяйством. 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оногамная семья — состоящая из двух партнёров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олигамная семья — один из супругов имеет несколько брачных партнёров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6" name="Picture 5" descr="Картинка 16 из 163233"/>
          <p:cNvPicPr/>
          <p:nvPr/>
        </p:nvPicPr>
        <p:blipFill>
          <a:blip r:embed="rId1"/>
          <a:stretch/>
        </p:blipFill>
        <p:spPr>
          <a:xfrm>
            <a:off x="6084720" y="1484280"/>
            <a:ext cx="2730600" cy="2382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97" name="Picture 7" descr="Картинка 28 из 163233"/>
          <p:cNvPicPr/>
          <p:nvPr/>
        </p:nvPicPr>
        <p:blipFill>
          <a:blip r:embed="rId2"/>
          <a:stretch/>
        </p:blipFill>
        <p:spPr>
          <a:xfrm>
            <a:off x="1835280" y="1844640"/>
            <a:ext cx="3120840" cy="2278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98" name="AutoShape 8">
            <a:hlinkClick r:id="rId3" action="ppaction://hlinksldjump"/>
          </p:cNvPr>
          <p:cNvSpPr/>
          <p:nvPr/>
        </p:nvSpPr>
        <p:spPr>
          <a:xfrm>
            <a:off x="810108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Нуклеарные семьи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(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nuclear family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) — семьи, состоящие из одной брачной пары с детьми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0" name="Picture 5" descr="Картинка 12 из 163233"/>
          <p:cNvPicPr/>
          <p:nvPr/>
        </p:nvPicPr>
        <p:blipFill>
          <a:blip r:embed="rId1"/>
          <a:stretch/>
        </p:blipFill>
        <p:spPr>
          <a:xfrm>
            <a:off x="2843280" y="2133720"/>
            <a:ext cx="5715000" cy="42861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1" name="AutoShape 6"/>
          <p:cNvSpPr/>
          <p:nvPr/>
        </p:nvSpPr>
        <p:spPr>
          <a:xfrm>
            <a:off x="826920" y="357336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Неполной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— семья только из одного родителя с детьми, или семья, состоящая только из родителей без детей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3" name="Picture 5" descr="Картинка 34 из 2855"/>
          <p:cNvPicPr/>
          <p:nvPr/>
        </p:nvPicPr>
        <p:blipFill>
          <a:blip r:embed="rId1"/>
          <a:stretch/>
        </p:blipFill>
        <p:spPr>
          <a:xfrm>
            <a:off x="4932360" y="1916280"/>
            <a:ext cx="3809880" cy="2695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04" name="Picture 7" descr="Картинка 75 из 2855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71640" y="2133720"/>
            <a:ext cx="3333600" cy="27813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05" name="Picture 9" descr="Картинка 93 из 2855"/>
          <p:cNvPicPr/>
          <p:nvPr/>
        </p:nvPicPr>
        <p:blipFill>
          <a:blip r:embed="rId3"/>
          <a:stretch/>
        </p:blipFill>
        <p:spPr>
          <a:xfrm>
            <a:off x="4356000" y="5013360"/>
            <a:ext cx="2305080" cy="1428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06" name="AutoShape 10"/>
          <p:cNvSpPr/>
          <p:nvPr/>
        </p:nvSpPr>
        <p:spPr>
          <a:xfrm>
            <a:off x="7667640" y="551664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Традиционн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едполагает главенство мужчины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(Патриархальная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9" name="Picture 7" descr="Картинка 19 из 13913"/>
          <p:cNvPicPr/>
          <p:nvPr/>
        </p:nvPicPr>
        <p:blipFill>
          <a:blip r:embed="rId1"/>
          <a:stretch/>
        </p:blipFill>
        <p:spPr>
          <a:xfrm>
            <a:off x="3059280" y="2781360"/>
            <a:ext cx="5695920" cy="36860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110" name="AutoShape 8"/>
          <p:cNvSpPr/>
          <p:nvPr/>
        </p:nvSpPr>
        <p:spPr>
          <a:xfrm>
            <a:off x="684360" y="3860640"/>
            <a:ext cx="57600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Партнёрская семья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2" name="Picture 4" descr="Картинка 1 из 13913"/>
          <p:cNvPicPr/>
          <p:nvPr/>
        </p:nvPicPr>
        <p:blipFill>
          <a:blip r:embed="rId1"/>
          <a:stretch/>
        </p:blipFill>
        <p:spPr>
          <a:xfrm>
            <a:off x="3780000" y="2430360"/>
            <a:ext cx="5002200" cy="4071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39640" y="1484280"/>
            <a:ext cx="78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или эгалитарная – справедливое, пропорциональное распределение семейных обязанностей.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843280" y="5661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знакомиться с психологией семейного воспитания; объяснить и понять новые термины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иды семе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Функции семьи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ейный цикл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Гендорное повед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ейное воспита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B4ED-B4CC-4FEE-8C18-CBBE0D7BD75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емья - это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оциальная группа, обладающая исторически определённой организацией, члены которой связаны брачными или родственными отношениями (а также отношениями по взятию детей на воспитание), общностью быта, взаимной моральной ответственностью и социальной необходимостью, которая обусловлена потребностью общества в физическом и духовном воспроизводстве населения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0" name="Picture 5" descr="Картинка 16 из 750"/>
          <p:cNvPicPr/>
          <p:nvPr/>
        </p:nvPicPr>
        <p:blipFill>
          <a:blip r:embed="rId1"/>
          <a:stretch/>
        </p:blipFill>
        <p:spPr>
          <a:xfrm>
            <a:off x="6659640" y="333360"/>
            <a:ext cx="2195280" cy="1449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>
            <a:off x="7812000" y="2924280"/>
            <a:ext cx="505080" cy="50472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8244000" y="4941720"/>
            <a:ext cx="504720" cy="50508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7740720" y="5877000"/>
            <a:ext cx="504720" cy="50472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Виды семей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5" name="Diagram 20"/>
          <p:cNvGrpSpPr/>
          <p:nvPr/>
        </p:nvGrpSpPr>
        <p:grpSpPr>
          <a:xfrm>
            <a:off x="1547640" y="1195560"/>
            <a:ext cx="6264000" cy="5583960"/>
            <a:chOff x="1547640" y="1195560"/>
            <a:chExt cx="6264000" cy="5583960"/>
          </a:xfrm>
        </p:grpSpPr>
        <p:sp>
          <p:nvSpPr>
            <p:cNvPr id="66" name="_s1028"/>
            <p:cNvSpPr/>
            <p:nvPr/>
          </p:nvSpPr>
          <p:spPr>
            <a:xfrm flipH="1" flipV="1">
              <a:off x="3187080" y="3744000"/>
              <a:ext cx="750240" cy="233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7" name="_s1029"/>
            <p:cNvSpPr/>
            <p:nvPr/>
          </p:nvSpPr>
          <p:spPr>
            <a:xfrm>
              <a:off x="1547640" y="2851560"/>
              <a:ext cx="1679400" cy="144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1" action="ppaction://hlinksldjump"/>
                </a:rPr>
                <a:t>НУКЛЕАРН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8" name="_s1030"/>
            <p:cNvSpPr/>
            <p:nvPr/>
          </p:nvSpPr>
          <p:spPr>
            <a:xfrm flipH="1">
              <a:off x="3756240" y="4811040"/>
              <a:ext cx="464760" cy="613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" name="_s1031"/>
            <p:cNvSpPr/>
            <p:nvPr/>
          </p:nvSpPr>
          <p:spPr>
            <a:xfrm>
              <a:off x="2516400" y="5280840"/>
              <a:ext cx="1563840" cy="1498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АРТНЁРСК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" name="_s1032"/>
            <p:cNvSpPr/>
            <p:nvPr/>
          </p:nvSpPr>
          <p:spPr>
            <a:xfrm>
              <a:off x="5135760" y="4811040"/>
              <a:ext cx="466920" cy="613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1" name="_s1033"/>
            <p:cNvSpPr/>
            <p:nvPr/>
          </p:nvSpPr>
          <p:spPr>
            <a:xfrm>
              <a:off x="5278680" y="5280840"/>
              <a:ext cx="1564560" cy="1498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НЕПОЛНЫЕ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 flipV="1">
              <a:off x="5419440" y="3741120"/>
              <a:ext cx="752400" cy="2358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3" name="_s1035"/>
            <p:cNvSpPr/>
            <p:nvPr/>
          </p:nvSpPr>
          <p:spPr>
            <a:xfrm>
              <a:off x="6010560" y="2764080"/>
              <a:ext cx="1801080" cy="1498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ТРАДИЦИОНН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4" name="_s1036"/>
            <p:cNvSpPr/>
            <p:nvPr/>
          </p:nvSpPr>
          <p:spPr>
            <a:xfrm flipV="1">
              <a:off x="4678200" y="2702880"/>
              <a:ext cx="0" cy="757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" name="_s1037"/>
            <p:cNvSpPr/>
            <p:nvPr/>
          </p:nvSpPr>
          <p:spPr>
            <a:xfrm>
              <a:off x="3491640" y="1195560"/>
              <a:ext cx="2190240" cy="1503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МНОГОПОКОЛЕННА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3923640" y="3429000"/>
              <a:ext cx="1566000" cy="1498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 зависимости от места человека в семье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родительская — это семья, в которой человек рождаетс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репродуктивные — семья, которую человек создаёт сам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 зависимости от проживания семьи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матрилокальная — молодая семья, проживающая с родителями жены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патрилокальная — семья, проживающая совместно с родителями муж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неолокальная — семья переезжает в жилище, удалённое от места проживания родителе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Функции семь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продуктивна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в любой семье важнейшей является проблема деторождения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хозяйственно-экономическа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включает питание семьи, приобретение и содержание домашнего имущества, одежды, обуви, благоустройство жилища, создание домашнего уюта, организацию жизни и быта семьи, формирование и расходование домашнего бюджет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генеративна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(лат. regeneratio — возрождение, возобновление). Означает наследование статуса, фамилии, имущества, социального положения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Функции семь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образовательно-воспитатель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(социализация). Состоит в удовлетворении потребностей в отцовстве и материнстве, контактах с детьми, их воспитании, самореализации в детях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рекреатив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(лат. recreatio — восстановление). Связана с отдыхом, организацией досуга, заботой о здоровье и благополучии членов семь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уховного общени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развития личностей членов семьи, духовное взаимообогащение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оциально-статусн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предоставление определённого социального статуса членам семьи, воспроизводство социальной структур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психотерапевтическая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 — позволяет членам семьи удовлетворять потребности в симпатии, уважении, признании, эмоциональной поддержке, психологической защит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alibri"/>
              </a:rPr>
              <a:t>Семейный цикл</a:t>
            </a: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 позиций воспроизводства населения весьма важным критерием построения демографической типологии семей является стадия жизненного цикла семьи. Семейный цикл определяется стадиями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ьств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ред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от заключения брака и до рождения первенца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продуктивное 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между рождениями первого и последнего дете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оциализационное 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от рождения первенца до выделения из семьи (чаще всего через вступление в брак) последнего ребёнка (в случае одного ребёнка в семье совпадает с предыдущей стадией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рародительство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 — период от рождения первого внука до смерти одного из прародителе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Гендерное поведе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е́ндер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(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gender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, от лат. </a:t>
            </a:r>
            <a:r>
              <a:rPr b="0" i="1" lang="ru-RU" sz="3200" spc="-1" strike="noStrike">
                <a:solidFill>
                  <a:srgbClr val="800000"/>
                </a:solidFill>
                <a:latin typeface="Calibri"/>
              </a:rPr>
              <a:t>genus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 «род») — социальный пол, определяющий поведение человека в обществе и то, как это поведение воспринимается. Это то полоролевое поведение, которое определяет отношение с другими людьми: друзьями, коллегами, одноклассниками, родителями, случайными прохожими и т. д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1:37:24Z</dcterms:created>
  <dc:creator>Admin</dc:creator>
  <dc:description>http://aida.ucoz.ru</dc:description>
  <dc:language>en-US</dc:language>
  <cp:lastModifiedBy>COMP</cp:lastModifiedBy>
  <dcterms:modified xsi:type="dcterms:W3CDTF">2011-10-11T15:20:46Z</dcterms:modified>
  <cp:revision>40</cp:revision>
  <dc:subject/>
  <dc:title>СЕМЬЯ </dc:title>
</cp:coreProperties>
</file>