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CB3-9650-4940-BDE0-B2594924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A40-9398-4E79-9B4F-A2005A9F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541-48FA-4478-A431-788C2413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312-9929-45E0-B905-B331227B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543D-66BF-46F3-A232-E2BF8AF1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D52F-53A2-49B4-9B25-AF5401E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A614-E766-4529-9C83-BDFB023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E0D3-0F9B-4B0C-B58A-E118628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BE0E-C97A-440D-B151-B6AD37A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4EE-596D-42F8-9C24-2BF6C578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9DD-88A5-4DCA-8E55-7D26DFE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177-B9A1-4103-8186-F09071C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1591-28C9-4F87-BED3-6551F98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CA7-4AD6-42E0-9FE0-AFEBF27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A30-50D9-49EE-92B2-544DF6C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E638-F908-41C9-9CF6-9B7811A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E964-C289-45AB-B43A-1E9E920C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D3A-89FC-49B7-9D03-0B442C8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DE9-E213-4E6F-9658-7EEE992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13E-2127-4AB3-9A65-1DFCAA7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267-860D-4D7C-BEFB-A5A4360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E29-7B2F-4588-8C77-0F84BD0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F38-895C-46A5-BE6F-9B39DD7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04E-8D79-4E8D-814D-7E281AD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22F-ECAF-4C1A-B083-D3E3E09AB8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D1C-BF65-4B98-9A18-962E97098E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VNECIRC.EX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69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Вневписанная 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окружность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треугольн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3141360"/>
            <a:ext cx="683892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ждый треугольник определяет семейство окружностей, помогающих глубже и полнее понять «устройство»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.Ф.Шары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65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0923" t="38529" r="50009" b="11463"/>
          <a:stretch/>
        </p:blipFill>
        <p:spPr>
          <a:xfrm>
            <a:off x="1752480" y="320040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11706" t="18733" r="26568" b="11463"/>
          <a:stretch/>
        </p:blipFill>
        <p:spPr>
          <a:xfrm>
            <a:off x="1828800" y="1752480"/>
            <a:ext cx="60199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13267" t="16651" r="15630" b="11463"/>
          <a:stretch/>
        </p:blipFill>
        <p:spPr>
          <a:xfrm>
            <a:off x="1981080" y="1600200"/>
            <a:ext cx="6934320" cy="525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12488" t="16651" r="15630" b="11463"/>
          <a:stretch/>
        </p:blipFill>
        <p:spPr>
          <a:xfrm>
            <a:off x="1905120" y="160020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12488" t="17690" r="16409" b="11463"/>
          <a:stretch/>
        </p:blipFill>
        <p:spPr>
          <a:xfrm>
            <a:off x="1905120" y="1676520"/>
            <a:ext cx="693396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16360" y="39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000" y="5445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068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3360" y="39178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6960" y="299088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43888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95280" y="155736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03640" y="4149720"/>
            <a:ext cx="0" cy="1295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11640" y="4149720"/>
            <a:ext cx="792000" cy="1079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924360" y="3357720"/>
            <a:ext cx="1079280" cy="792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2852640"/>
            <a:ext cx="2592360" cy="2592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40000" y="4149720"/>
            <a:ext cx="2663640" cy="12952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вписанной окружностью треугольника называется окружность, касающаяся одной из его сторон и продолжений двух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53280" y="182880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59800" y="52484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393372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60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99920" y="38847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3789360"/>
            <a:ext cx="288720" cy="194472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3933720"/>
            <a:ext cx="1295640" cy="43200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140360" y="3933720"/>
            <a:ext cx="144360" cy="216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052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6280"/>
            <a:ext cx="1584360" cy="2174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933720"/>
            <a:ext cx="863640" cy="18003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647640" cy="20178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а. Найдите радиус вневписанной окружности треугольника, если радиусы двух других вневписанных окружностей равны 2002 и 4004, а радиус вписанной окружности равен 1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33920" y="2506680"/>
                <a:ext cx="25905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1457280"/>
                <a:ext cx="1663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05320" y="1496880"/>
                <a:ext cx="15238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943600" y="152388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жите формулу Ге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87320" y="2514600"/>
                <a:ext cx="60706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известна сторо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исанной окружности и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вписанной окружности, касающейся сторо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должений сторо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8:55:10Z</dcterms:created>
  <dc:creator>User</dc:creator>
  <dc:description/>
  <dc:language>en-US</dc:language>
  <cp:lastModifiedBy>Галина</cp:lastModifiedBy>
  <dcterms:modified xsi:type="dcterms:W3CDTF">2008-02-04T13:56:52Z</dcterms:modified>
  <cp:revision>10</cp:revision>
  <dc:subject/>
  <dc:title>Вневписанная окружность</dc:title>
</cp:coreProperties>
</file>