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38A-3EC9-4FA7-954A-D9CE8E04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83A-2514-410C-84EF-682D9A2E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657A-3103-47A7-B3C5-17B4F903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F51-181E-4395-BA30-1A94B743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209C-62A9-43D7-9F54-87FF00AD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FC48-D44E-4ADC-B45B-73DED076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CBCB-EA58-4AF9-A84D-9C1E0DD7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0F0C-FD5B-4788-8028-2F85A3D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39E2-53F2-4378-8B5C-447DF75C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9A2F-05EB-4AAB-9668-9D77CCBC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D370-F226-4B06-BA92-7181585F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886-A2B2-4731-BE19-9560ADBD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8E49-914E-4C05-A111-941A9AE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C2E2-5BE5-492E-A971-05069A37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F4C1-7E5F-4082-8497-1D2171DA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D4A9-CCBA-4A17-AB7D-3BE4CE7D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4415-4598-435A-A366-8F119609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4FE-756B-4830-9C90-D1F3F9C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33C-617A-4F1F-99D8-E3AAA9A8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FE8-3C18-47A3-9437-4FE123B0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1E09-7B66-489C-9A41-1E2FFD23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CD7-C720-4F03-8A4E-B7043E92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86E-8492-405F-98FB-9BF27E56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CB3-003A-42BD-AFFC-FCDE587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EA6-E019-4774-BB82-E49730E530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4009-8C86-420E-A52A-65AE573F8C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file:///VNECIRC.EX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69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Вневписанная 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окружность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 треугольник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4920" y="3141360"/>
            <a:ext cx="683892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ждый треугольник определяет семейство окружностей, помогающих глубже и полнее понять «устройство»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.Ф.Шары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43800" y="1371600"/>
            <a:ext cx="65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10923" t="38529" r="50009" b="11463"/>
          <a:stretch/>
        </p:blipFill>
        <p:spPr>
          <a:xfrm>
            <a:off x="1752480" y="3200400"/>
            <a:ext cx="3810240" cy="3657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11706" t="18733" r="26568" b="11463"/>
          <a:stretch/>
        </p:blipFill>
        <p:spPr>
          <a:xfrm>
            <a:off x="1828800" y="1752480"/>
            <a:ext cx="6019920" cy="5105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13267" t="16651" r="15630" b="11463"/>
          <a:stretch/>
        </p:blipFill>
        <p:spPr>
          <a:xfrm>
            <a:off x="1981080" y="1600200"/>
            <a:ext cx="6934320" cy="5257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12488" t="16651" r="15630" b="11463"/>
          <a:stretch/>
        </p:blipFill>
        <p:spPr>
          <a:xfrm>
            <a:off x="1905120" y="1600200"/>
            <a:ext cx="7010280" cy="5257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rcRect l="12488" t="17690" r="16409" b="11463"/>
          <a:stretch/>
        </p:blipFill>
        <p:spPr>
          <a:xfrm>
            <a:off x="1905120" y="1676520"/>
            <a:ext cx="6933960" cy="5181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16360" y="3933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000" y="5445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068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13360" y="39178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86960" y="2990880"/>
            <a:ext cx="40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438880"/>
            <a:ext cx="43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95280" y="155736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003640" y="4149720"/>
            <a:ext cx="0" cy="1295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211640" y="4149720"/>
            <a:ext cx="792000" cy="1079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924360" y="3357720"/>
            <a:ext cx="1079280" cy="792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2852640"/>
            <a:ext cx="2592360" cy="2592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340000" y="4149720"/>
            <a:ext cx="2663640" cy="12952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2524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09720" y="37893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вписанной окружностью треугольника называется окружность, касающаяся одной из его сторон и продолжений двух друг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153280" y="182880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59800" y="52484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524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9720" y="37893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1964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2263680" y="2349360"/>
          <a:ext cx="43243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2349360"/>
                    <a:ext cx="43243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393372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27480" y="416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7800" y="42861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7600" y="34225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60800" y="4286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3360" y="334980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35480" y="5602320"/>
            <a:ext cx="47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35160" y="35672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Tahoma"/>
              </a:rPr>
              <a:t>K</a:t>
            </a:r>
            <a:r>
              <a:rPr b="1" lang="en-US" sz="1800" spc="-1" strike="noStrike" baseline="-25000">
                <a:solidFill>
                  <a:srgbClr val="330066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0320" y="378792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9600" y="4651200"/>
            <a:ext cx="29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66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99920" y="3884760"/>
            <a:ext cx="30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66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08360" y="3716280"/>
            <a:ext cx="1295280" cy="64944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7280" y="3789360"/>
            <a:ext cx="288720" cy="194472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3933720"/>
            <a:ext cx="1295640" cy="43200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140360" y="3933720"/>
            <a:ext cx="144360" cy="2160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0528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6280"/>
            <a:ext cx="1584360" cy="2174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933720"/>
            <a:ext cx="863640" cy="18003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55640" y="3716280"/>
            <a:ext cx="647640" cy="20178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жите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ача. Найдите радиус вневписанной окружности треугольника, если радиусы двух других вневписанных окружностей равны 2002 и 4004, а радиус вписанной окружности равен 1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33920" y="2506680"/>
                <a:ext cx="25905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1457280"/>
                <a:ext cx="1663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05320" y="1496880"/>
                <a:ext cx="152388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943600" y="1523880"/>
                <a:ext cx="144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75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жите формулу Гер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87320" y="2514600"/>
                <a:ext cx="60706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вписанная окружно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Домашнее зад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те треугольн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известна сторо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диус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исанной окружности и радиус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вписанной окружности, касающейся сторо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должений сторон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8:55:10Z</dcterms:created>
  <dc:creator>User</dc:creator>
  <dc:description/>
  <dc:language>en-US</dc:language>
  <cp:lastModifiedBy>Галина</cp:lastModifiedBy>
  <dcterms:modified xsi:type="dcterms:W3CDTF">2008-02-04T13:56:52Z</dcterms:modified>
  <cp:revision>10</cp:revision>
  <dc:subject/>
  <dc:title>Вневписанная окружность</dc:title>
</cp:coreProperties>
</file>