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994-4AAC-4805-8A61-5A71A887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837-9C2C-481D-8D4B-FD859235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79E-9AAC-4A18-BB53-4052DFF1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7FA-7F6F-499B-8A11-D7D7EC1F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C9CD-DBF6-48B5-83C3-42144161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19D6-8D74-4545-A385-8A1BDDE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DB45-90C3-4FAD-B1FB-AE637332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444F-AF1A-4B8C-84BE-A8A2B527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E06E-6B28-443F-832C-3E597E1A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E8A7-0D8E-4E95-B887-76237404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4F9A-DBF2-4FF0-9601-6D6EA14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2A5-0EFF-4FCD-98B2-732FFE60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9155-D7A1-4AED-8E3A-962EB206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38A8-2880-4620-9DD7-3C3A9059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2428-D8A3-47F0-A1C5-855DFCAB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2BA5-1196-4A39-BA10-3FD735F2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263E-1346-4442-B072-74248C48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2FB-84E1-4EDB-BFE0-CCFA9EC3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E7D-A9FB-4FAC-95DC-3DDF57F9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012-1692-456A-A72E-543969D2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B89-EAE7-4CB8-98C5-45D3A05E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EA3-1F90-444F-9BD9-D16D5102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BF8-A602-4920-AC9E-10F3C67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C07-716F-45BD-89EA-BA08317A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7B9F-9329-4DCA-841D-083287177E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1769-12EA-4C76-BE89-76EC281672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file:///VNECIRC.EX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69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Вневписанная 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окружность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 треугольник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4920" y="3141360"/>
            <a:ext cx="683892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ждый треугольник определяет семейство окружностей, помогающих глубже и полнее понять «устройство»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.Ф.Шары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43800" y="1371600"/>
            <a:ext cx="65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10923" t="38529" r="50009" b="11463"/>
          <a:stretch/>
        </p:blipFill>
        <p:spPr>
          <a:xfrm>
            <a:off x="1752480" y="3200400"/>
            <a:ext cx="3810240" cy="3657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11706" t="18733" r="26568" b="11463"/>
          <a:stretch/>
        </p:blipFill>
        <p:spPr>
          <a:xfrm>
            <a:off x="1828800" y="1752480"/>
            <a:ext cx="6019920" cy="5105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13267" t="16651" r="15630" b="11463"/>
          <a:stretch/>
        </p:blipFill>
        <p:spPr>
          <a:xfrm>
            <a:off x="1981080" y="1600200"/>
            <a:ext cx="6934320" cy="525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12488" t="16651" r="15630" b="11463"/>
          <a:stretch/>
        </p:blipFill>
        <p:spPr>
          <a:xfrm>
            <a:off x="1905120" y="1600200"/>
            <a:ext cx="7010280" cy="5257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rcRect l="12488" t="17690" r="16409" b="11463"/>
          <a:stretch/>
        </p:blipFill>
        <p:spPr>
          <a:xfrm>
            <a:off x="1905120" y="1676520"/>
            <a:ext cx="6933960" cy="5181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16360" y="3933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000" y="5445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068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3360" y="39178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6960" y="2990880"/>
            <a:ext cx="40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438880"/>
            <a:ext cx="43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95280" y="155736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003640" y="4149720"/>
            <a:ext cx="0" cy="1295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11640" y="4149720"/>
            <a:ext cx="792000" cy="1079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924360" y="3357720"/>
            <a:ext cx="1079280" cy="7920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2852640"/>
            <a:ext cx="2592360" cy="2592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340000" y="4149720"/>
            <a:ext cx="2663640" cy="12952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2524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09720" y="37893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вписанной окружностью треугольника называется окружность, касающаяся одной из его сторон и продолжений двух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153280" y="182880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59800" y="52484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524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9720" y="37893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393372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960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99920" y="38847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3789360"/>
            <a:ext cx="288720" cy="194472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3933720"/>
            <a:ext cx="1295640" cy="43200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140360" y="3933720"/>
            <a:ext cx="144360" cy="2160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052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716280"/>
            <a:ext cx="1584360" cy="2174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933720"/>
            <a:ext cx="863640" cy="18003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55640" y="3716280"/>
            <a:ext cx="647640" cy="20178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жите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а. Найдите радиус вневписанной окружности треугольника, если радиусы двух других вневписанных окружностей равны 2002 и 4004, а радиус вписанной окружности равен 1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733920" y="2506680"/>
                <a:ext cx="25905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1457280"/>
                <a:ext cx="1663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05320" y="1496880"/>
                <a:ext cx="15238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943600" y="152388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75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жите формулу Гер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87320" y="2514600"/>
                <a:ext cx="60706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еугольн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известна сторо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диус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исанной окружности и радиус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вписанной окружности, касающейся сторон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должений сторо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8:55:10Z</dcterms:created>
  <dc:creator>User</dc:creator>
  <dc:description/>
  <dc:language>en-US</dc:language>
  <cp:lastModifiedBy>Галина</cp:lastModifiedBy>
  <dcterms:modified xsi:type="dcterms:W3CDTF">2008-02-04T13:56:52Z</dcterms:modified>
  <cp:revision>10</cp:revision>
  <dc:subject/>
  <dc:title>Вневписанная окружность</dc:title>
</cp:coreProperties>
</file>