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187-F35D-4076-B130-AB90D839E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4AC-C4B1-4DB6-951D-A6690695A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5A5C-E827-4945-8C21-7F44F0A57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B53-AE4F-4841-838F-C4997E365E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1F1-A2FA-436F-B19C-FD0232269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B325-BC4E-438E-B5DF-7363225512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5F9-67E1-4B43-84C7-B83CF48DD6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F379-0F16-4FC4-B800-DAB36A4F50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9D11-8139-4313-997E-38D2342A8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8B87-33C4-4120-A97A-580BFCF96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82D5-3F71-4304-8D4C-1BB3FD718E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AEB-664F-4189-8D05-9F55F20283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8F8-9636-4884-8954-D1D1D47E7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72EF-F4B0-4214-BB06-28D4DA9BD5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44B-E830-4198-8BA4-3035B19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1E4-5DFC-4201-9B53-A4CE4654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532-1A98-4161-9D66-837DCECE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C00-9417-4DD5-861E-36E2F148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EEDA-5F07-4357-887D-72ADC1A0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F820-6E84-4A5C-A8AD-713CB55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E696-2895-4342-961C-2002F45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DC2-C87D-4F03-86A4-0F918C0E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FD19-859A-44D8-994D-733F82B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80D-0E3B-41C4-A4F4-A8AEB4B1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704-8B21-4988-B8EF-8BDEC6D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3A3-A3D0-4851-AD64-B82EEF6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5F4-8208-4AFD-8CDE-EC5E16F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015-AC81-4969-85B6-DBD940E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62AA-DB72-4111-96B3-133A661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16B-BD08-4D44-BD32-69689EA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B87B-BAC8-4745-94A9-3CDC5B0E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DCC-344C-4170-A9FF-1E663541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BA3-F87D-452A-B3D7-9A2C6BF5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129-E0BA-4057-8E60-BD8222D5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BEA-5AB8-4CF8-8B2B-65D34DB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4E0-1AB8-45A8-BF07-A0394D4D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04F-9047-46B4-B39B-F95FF30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399-C811-4836-A9E3-F75BAFF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5B5A-C526-442D-821A-B67188122D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3E2-9A5A-4F00-A0A5-ECDCDE1D6EE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06320" y="1146240"/>
            <a:ext cx="8334360" cy="2560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857760"/>
            <a:ext cx="78548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кторина по сказкам для учащихся 1-4 клас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429160" y="6072120"/>
            <a:ext cx="35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в.библиотекой Пахомо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ьг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428760"/>
            <a:ext cx="70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№ 18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Кот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Photo-0001.jpg"/>
          <p:cNvPicPr/>
          <p:nvPr/>
        </p:nvPicPr>
        <p:blipFill>
          <a:blip r:embed="rId1"/>
          <a:stretch/>
        </p:blipFill>
        <p:spPr>
          <a:xfrm>
            <a:off x="928800" y="114300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827640" y="635796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ТЕЛЕФ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Photo-0003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786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688760" y="63579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ЦЫПЛЁ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571680" y="571680"/>
            <a:ext cx="6215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 СКАЗОК  РАСТЕРЯЛИ  СВОИ ВЕ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 ПОМОЖЕМ  ЭТИ  ВЕЩИ  СОБ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КИ И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о-дере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окоди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, 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, «Федорино го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деное солн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Photo-0005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643800" y="1428840"/>
            <a:ext cx="22302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 flipV="1" rot="10800000">
            <a:off x="285840" y="50932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Книга  ищет чита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КМ\Рабочий стол\Photo-0007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02280" y="2357280"/>
            <a:ext cx="2241720" cy="3071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Photo-0008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2143080" y="785880"/>
            <a:ext cx="2401920" cy="32925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Photo-0009.jpg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85840" y="1643040"/>
            <a:ext cx="2282760" cy="3000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Photo-0002.jpg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714920" y="285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Photo-0001.jpg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4143240" y="321480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00080" y="857160"/>
            <a:ext cx="74296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МА:  ВИКТОРИНА  ПО СКАЗКАМ  К.И. ЧУКОВ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крепить знания учащихся по  детской литерат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) Развить интерес к чтению, мышление, внимание, пам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) Научить культуре поведения на празд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4" descr=""/>
          <p:cNvPicPr/>
          <p:nvPr/>
        </p:nvPicPr>
        <p:blipFill>
          <a:blip r:embed="rId1"/>
          <a:stretch/>
        </p:blipFill>
        <p:spPr>
          <a:xfrm>
            <a:off x="1517760" y="1590840"/>
            <a:ext cx="7126200" cy="41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Photo-0004.jpg"/>
          <p:cNvPicPr/>
          <p:nvPr/>
        </p:nvPicPr>
        <p:blipFill>
          <a:blip r:embed="rId1"/>
          <a:stretch/>
        </p:blipFill>
        <p:spPr>
          <a:xfrm>
            <a:off x="1925640" y="725400"/>
            <a:ext cx="5292720" cy="590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00040" y="357120"/>
            <a:ext cx="450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УГАД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друг откуда-то ш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кобыле прискак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т вам теле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  гиппопотам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Айболит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лго, долго кроко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ре синее туши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Путаниц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 злодей- то не шу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ки- ноги он Мухе верёвками кру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убы острые в самое сердце вонз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кровь у неё выпива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Муха-цокотух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КМ\Рабочий стол\Photo-0003.jpg"/>
          <p:cNvPicPr/>
          <p:nvPr/>
        </p:nvPicPr>
        <p:blipFill>
          <a:blip r:embed="rId1"/>
          <a:stretch/>
        </p:blipFill>
        <p:spPr>
          <a:xfrm>
            <a:off x="5429160" y="928800"/>
            <a:ext cx="3208320" cy="53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9" descr="Photo-000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85840" y="114300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52960" y="357120"/>
            <a:ext cx="47739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 . ЧЬИ ЭТО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де убийца, Где зло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боюсь его когте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Кому велено чирика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мурлыкайте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знаменитый капит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е не страшен ураган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Стыдно старому реве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не заяц, а Медве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поди-ка, косолап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окодила исцарапа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Федорушку прощ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адким чаем угощ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шай, кушай, Федора Егоров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857840" y="85716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комарик  «Муха-Цокотух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44520" y="19288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инька «Путаниц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071960" y="292896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Бибигон «Приключение Бибигон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286160" y="43578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зайчиха «Краденое солнц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929120" y="5572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самовар «Федорино гор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5840" y="428760"/>
            <a:ext cx="84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   Я утверждаю, что все эти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К.И.Чуков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ли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«</a:t>
            </a: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ЛОБ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ая народная ска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ВИННИ-ПУ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ил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Х. Андер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КРОКОДИ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ПРИКЛЮЧЕНИЕ  БИБИГ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Photo-000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2643120"/>
            <a:ext cx="2500200" cy="3857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Photo-0006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00840" y="857160"/>
            <a:ext cx="290016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00040" y="571680"/>
            <a:ext cx="807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ТОР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У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БОЙНИК, ЗЛОДЕЙ, УЖАСНЫ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ИЙ УМЫВАЛЬНИ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АБУШК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ОМНЫЙ И ГРОЗНЫЙ ИНДЮ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Я ДЕТИШЕК КРОКОДИЛА В СКАЗКЕ «КРОКОДИЛ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ЕЦ, МОЛОДЕЦ, ОН ГЕРОЙ УДАЛО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З НЯНИ ГУЛЯЕТ ПО УЛИЦ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785960" y="114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ДОКТОР  АЙБО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143080" y="1785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КАРА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857840" y="22860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АРМА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071960" y="285768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ОЙДОД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571840" y="3357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ЦОКОТУ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2428920" y="39290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ФЕДОРА  ЕГОРО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76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РУНДУЛ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928960" y="550080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ТОТОШЕНЬКА, КОКОШЕНЬКА, ЛЕЛЁШЕН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357800" y="6488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ВАНЯ ВАСИЛЬЧ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4" descr="Photo-0007.jpg"/>
          <p:cNvPicPr/>
          <p:nvPr/>
        </p:nvPicPr>
        <p:blipFill>
          <a:blip r:embed="rId1"/>
          <a:stretch/>
        </p:blipFill>
        <p:spPr>
          <a:xfrm>
            <a:off x="6643800" y="1023840"/>
            <a:ext cx="22795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Photo-000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1285920"/>
            <a:ext cx="7500960" cy="4857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785880" y="428760"/>
            <a:ext cx="43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Й СКАЗКИ ИЛЛЮСТР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071720" y="62150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44:53Z</dcterms:created>
  <dc:creator>КМ</dc:creator>
  <dc:description/>
  <dc:language>en-US</dc:language>
  <cp:lastModifiedBy>Коля</cp:lastModifiedBy>
  <dcterms:modified xsi:type="dcterms:W3CDTF">2013-05-06T19:29:33Z</dcterms:modified>
  <cp:revision>55</cp:revision>
  <dc:subject/>
  <dc:title>Корней Иванович Чуковский (1882-1969)</dc:title>
</cp:coreProperties>
</file>