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E72-D97A-4B06-9443-3ACB860597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4E2B-92A9-4E2E-BC52-963F0734C7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9DD5-BE13-4553-9840-440D3CE9C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C6C8-4F30-49F5-BF8C-62020DF888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F0C8-E842-4913-BD80-DFFA14420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30C7-8ECF-4A0F-99FA-269AB708D3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894B-C809-4A10-B4A1-FA4ECBDAEF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32C-A4FD-4E43-BCDE-4CE60B2071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8B11-0F23-41C5-97F9-65C0284A20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B888-613C-41E3-81BF-CEC5E3A6A7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2562-463A-4E17-BBE3-39A6A7BEFB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0968-F8D7-4484-BBAF-FB71343E4E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672-42E2-4039-9D52-37CD17193C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3D2-1509-4A27-A302-4EF2B9A954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C79-B0A1-4B0B-83E9-ECBAB107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1AA-4460-4434-9BEF-E519FB8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608-47A7-4722-9766-34140F4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0F9-A0B5-42B5-9A39-4196649F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92DF-80FB-4BA9-AAB7-D4F8DBBE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9A22-32A9-4C3E-BF4C-411C949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DEB3-71B9-4882-B9A4-328D766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8E3-69F6-4F41-AC2A-A4CF8807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FA5-65CE-4951-8983-0CE15D6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3D1A-9304-41A9-98C8-50DFFBD9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9FC2-D733-429F-8642-7DEF00E6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814-AE84-4CBA-8A25-6FD1AC4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EB51-04F1-4B16-A21D-F069E04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8BBF-35C1-4978-892D-3A0CE6F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C06-8E5A-427E-8344-B1F024F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17E-17BC-4E54-9A5E-3551B1A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C23B-DE67-42B1-86BB-BD501938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A35-0314-44B8-8809-D8BF2B33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38F-F91E-492D-B430-94C5238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73A-FA9A-4B1D-8F4D-E353FEB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D82-6826-4C0B-A10C-2D09E23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72E-8DD0-4946-B6AC-4BDC557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CC7-09CB-4B15-8C97-D74A443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7D0-FF99-41CA-B671-9E9D4AE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399B-C19F-4C76-A57C-31A6678B98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82F-218D-4A05-8429-4CB6B890501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706320" y="1146240"/>
            <a:ext cx="8334360" cy="2560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857760"/>
            <a:ext cx="7854840" cy="1123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кторина по сказкам для учащихся 1-4 клас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429160" y="6072120"/>
            <a:ext cx="35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в.библиотекой Пахомо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ьг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428760"/>
            <a:ext cx="70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ОУ 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№ 18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Котл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Photo-0001.jpg"/>
          <p:cNvPicPr/>
          <p:nvPr/>
        </p:nvPicPr>
        <p:blipFill>
          <a:blip r:embed="rId1"/>
          <a:stretch/>
        </p:blipFill>
        <p:spPr>
          <a:xfrm>
            <a:off x="928800" y="114300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827640" y="635796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ТЕЛЕФО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" descr="Photo-0003.jpg"/>
          <p:cNvPicPr/>
          <p:nvPr/>
        </p:nvPicPr>
        <p:blipFill>
          <a:blip r:embed="rId1"/>
          <a:stretch/>
        </p:blipFill>
        <p:spPr>
          <a:xfrm>
            <a:off x="1000080" y="1071720"/>
            <a:ext cx="7072200" cy="4786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688760" y="635796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«ЦЫПЛЁН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571680" y="571680"/>
            <a:ext cx="6215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 СКАЗОК  РАСТЕРЯЛИ  СВОИ ВЕ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 ПОМОЖЕМ  ЭТИ  ВЕЩИ  СОБ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ЛКИ И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о-дере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окоди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, 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ф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, «Федорино го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деное солнц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Photo-0005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643800" y="1428840"/>
            <a:ext cx="223020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 flipV="1" rot="10800000">
            <a:off x="285840" y="50932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onstantia"/>
              </a:rPr>
              <a:t>Книга  ищет чита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КМ\Рабочий стол\Photo-0007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02280" y="2357280"/>
            <a:ext cx="2241720" cy="3071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Photo-0008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2143080" y="785880"/>
            <a:ext cx="2401920" cy="32925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Photo-0009.jpg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285840" y="1643040"/>
            <a:ext cx="2282760" cy="3000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Photo-0002.jpg"/>
          <p:cNvPicPr/>
          <p:nvPr/>
        </p:nvPicPr>
        <p:blipFill>
          <a:blip r:embed="rId4">
            <a:lum contrast="40000"/>
          </a:blip>
          <a:stretch/>
        </p:blipFill>
        <p:spPr>
          <a:xfrm>
            <a:off x="4714920" y="285840"/>
            <a:ext cx="2428920" cy="3143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Photo-0001.jpg"/>
          <p:cNvPicPr/>
          <p:nvPr/>
        </p:nvPicPr>
        <p:blipFill>
          <a:blip r:embed="rId5">
            <a:lum contrast="40000"/>
          </a:blip>
          <a:stretch/>
        </p:blipFill>
        <p:spPr>
          <a:xfrm>
            <a:off x="4143240" y="321480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000080" y="857160"/>
            <a:ext cx="742968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МА:  ВИКТОРИНА  ПО СКАЗКАМ  К.И. ЧУКОВ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ЦЕЛ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)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крепить знания учащихся по  детской литерату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) Развить интерес к чтению, мышление, внимание, памя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) Научить культуре поведения на празд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Box 4" descr=""/>
          <p:cNvPicPr/>
          <p:nvPr/>
        </p:nvPicPr>
        <p:blipFill>
          <a:blip r:embed="rId1"/>
          <a:stretch/>
        </p:blipFill>
        <p:spPr>
          <a:xfrm>
            <a:off x="1517760" y="1590840"/>
            <a:ext cx="7126200" cy="41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Photo-0004.jpg"/>
          <p:cNvPicPr/>
          <p:nvPr/>
        </p:nvPicPr>
        <p:blipFill>
          <a:blip r:embed="rId1"/>
          <a:stretch/>
        </p:blipFill>
        <p:spPr>
          <a:xfrm>
            <a:off x="1925640" y="725400"/>
            <a:ext cx="5292720" cy="590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00040" y="357120"/>
            <a:ext cx="4500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. УГАДАЙ-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друг откуда-то ша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 кобыле прискак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от вам теле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  гиппопотама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Айболит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лго, долго кроко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ре синее туши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Путаниц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 злодей- то не шу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ки- ноги он Мухе верёвками кру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убы острые в самое сердце вонз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кровь у неё выпива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«Муха-цокотух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КМ\Рабочий стол\Photo-0003.jpg"/>
          <p:cNvPicPr/>
          <p:nvPr/>
        </p:nvPicPr>
        <p:blipFill>
          <a:blip r:embed="rId1"/>
          <a:stretch/>
        </p:blipFill>
        <p:spPr>
          <a:xfrm>
            <a:off x="5429160" y="928800"/>
            <a:ext cx="3208320" cy="53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9" descr="Photo-0004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85840" y="114300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552960" y="357120"/>
            <a:ext cx="477396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 . ЧЬИ ЭТО С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де убийца, Где злод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боюсь его когте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Кому велено чирика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е мурлыкайте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знаменитый капита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не не страшен ураган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Стыдно старому реве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не заяц, а Медве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ы поди-ка, косолап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окодила исцарапай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«Я Федорушку прощ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ладким чаем угощ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шай, кушай, Федора Егоров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4857840" y="857160"/>
            <a:ext cx="37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комарик  «Муха-Цокотух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844520" y="19288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инька «Путаниц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071960" y="292896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Бибигон «Приключение Бибигон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286160" y="435780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зайчиха «Краденое солнц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929120" y="5572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(самовар «Федорино горе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85840" y="428760"/>
            <a:ext cx="8429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.   Я утверждаю, что все эти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К.И.Чуков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ли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Constantia"/>
              </a:rPr>
              <a:t>«</a:t>
            </a: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ЛОБ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ая народная сказ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ВИННИ-ПУ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Мил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.Х. Андер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КРОКОДИ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«ПРИКЛЮЧЕНИЕ  БИБИГ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И. Чук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Photo-000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2643120"/>
            <a:ext cx="2500200" cy="3857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Photo-0006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000840" y="857160"/>
            <a:ext cx="290016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500040" y="571680"/>
            <a:ext cx="807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ТОР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У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БОЙНИК, ЗЛОДЕЙ, УЖАСНЫ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ЛИКИЙ УМЫВАЛЬНИ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АБУШК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ОМНЫЙ И ГРОЗНЫЙ ИНДЮ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Я ДЕТИШЕК КРОКОДИЛА В СКАЗКЕ «КРОКОДИЛ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ЕЦ, МОЛОДЕЦ, ОН ГЕРОЙ УДАЛОЙ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З НЯНИ ГУЛЯЕТ ПО УЛИЦ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785960" y="114300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ДОКТОР  АЙБО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143080" y="1785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КАРАК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857840" y="22860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АРМА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071960" y="285768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ОЙДОДЫ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2571840" y="3357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ЦОКОТУХ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2428920" y="392904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ФЕДОРА  ЕГОРО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760" y="4500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БРУНДУЛЯ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2928960" y="550080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ТОТОШЕНЬКА, КОКОШЕНЬКА, ЛЕЛЁШЕН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357800" y="6488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ВАНЯ ВАСИЛЬЧ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4" descr="Photo-0007.jpg"/>
          <p:cNvPicPr/>
          <p:nvPr/>
        </p:nvPicPr>
        <p:blipFill>
          <a:blip r:embed="rId1"/>
          <a:stretch/>
        </p:blipFill>
        <p:spPr>
          <a:xfrm>
            <a:off x="6643800" y="1023840"/>
            <a:ext cx="227952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Photo-000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857160" y="1285920"/>
            <a:ext cx="7500960" cy="4857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785880" y="428760"/>
            <a:ext cx="43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Й СКАЗКИ ИЛЛЮСТР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071720" y="62150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44:53Z</dcterms:created>
  <dc:creator>КМ</dc:creator>
  <dc:description/>
  <dc:language>en-US</dc:language>
  <cp:lastModifiedBy>Коля</cp:lastModifiedBy>
  <dcterms:modified xsi:type="dcterms:W3CDTF">2013-05-06T19:29:33Z</dcterms:modified>
  <cp:revision>55</cp:revision>
  <dc:subject/>
  <dc:title>Корней Иванович Чуковский (1882-1969)</dc:title>
</cp:coreProperties>
</file>