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C86F-19B3-471E-BA4B-A81C931369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2C03-C46F-4C82-862D-5A691B2F57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E43B-2950-417B-9BD7-49DEBD37C7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E607-EDB6-4AFA-8162-E73ADB00DE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9FF2-B9DD-4F1D-BC72-52A3408DD2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D9B8-4758-433D-8506-68C6B20254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F0DC-3732-47EF-B65E-F70581DEAB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C986-9A96-4CAB-8BD1-445E6EFE86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470F-1638-404D-A5F9-168E104101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957A-F924-4F88-879E-D158BD080A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A37-A76D-4E48-A4EA-FB9ECEFE4A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0492-78F1-450C-BA16-3771608CB9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6760-D6D3-4E26-9A00-D75CB9378D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9AFC-F4B8-4514-8FD0-6EE5F8AAD0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F33-9B18-47F3-A531-2DD2630C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A29-3BBD-473C-9DFE-C1C9505B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1D4-3E57-4DC8-A403-533317DC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1BD-B72A-4BFD-B334-A104E0B3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A14D-D1BC-43DD-9E1D-A390899B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C57E-3063-4E1E-9756-89BD273D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0E88-1734-4786-92C4-ECAB7E52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203A-541C-4ACB-9633-DE85655C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B9B4-38A5-426A-AB37-FDFFF2BA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1941-9CBC-4F21-B1B0-DDA63ADD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6317-C7BA-4B42-8213-205050D9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F1D-7ED5-4BCE-9E74-EB569046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1C35-A5ED-42A4-89F4-3EFACDDC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8FC0-7FA3-41C3-B058-E3A4B375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58A2-E2F0-4F1B-9A7F-F42364D5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934F-4938-446B-AF97-B5DC4AEC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CF5A-0672-46CC-8198-5E3E48E1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B0B-BB64-4759-9AD5-033B0563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F77-FCC3-486B-91E9-B27E6B06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9F5-2CFA-40B3-91E8-C9FE0551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EC6-43F5-4534-8D25-6FDFE02E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C9A-D040-4951-80C4-8C504D7D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624-A859-43CE-A44C-7F314B07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027-0015-4FF0-8BC8-800B6AA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4E82-4849-48FF-A04A-D3644668BA3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B28B-0F09-4544-BF07-D15CC1243C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706320" y="1146240"/>
            <a:ext cx="8334360" cy="2560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857760"/>
            <a:ext cx="78548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кторина по сказкам для учащихся 1-4 класс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429160" y="6072120"/>
            <a:ext cx="35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в.библиотекой Пахомо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льга Фе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187280" y="428760"/>
            <a:ext cx="70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У 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№ 18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Котл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Photo-0001.jpg"/>
          <p:cNvPicPr/>
          <p:nvPr/>
        </p:nvPicPr>
        <p:blipFill>
          <a:blip r:embed="rId1"/>
          <a:stretch/>
        </p:blipFill>
        <p:spPr>
          <a:xfrm>
            <a:off x="928800" y="1143000"/>
            <a:ext cx="7215120" cy="48578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827640" y="635796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«ТЕЛЕФ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" descr="Photo-0003.jpg"/>
          <p:cNvPicPr/>
          <p:nvPr/>
        </p:nvPicPr>
        <p:blipFill>
          <a:blip r:embed="rId1"/>
          <a:stretch/>
        </p:blipFill>
        <p:spPr>
          <a:xfrm>
            <a:off x="1000080" y="1071720"/>
            <a:ext cx="7072200" cy="4786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688760" y="635796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«ЦЫПЛЁН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571680" y="571680"/>
            <a:ext cx="621504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  СКАЗОК  РАСТЕРЯЛИ  СВОИ ВЕЩ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 ПОМОЖЕМ  ЭТИ  ВЕЩИ  СОБ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КОЛАД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леф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КИ И БАШ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о-дере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окоди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, Б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леф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ха-цокотуха», «Федорино гор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деное солнц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3" descr="Photo-0005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643800" y="1428840"/>
            <a:ext cx="223020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 flipV="1" rot="10800000">
            <a:off x="285840" y="509328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nstantia"/>
              </a:rPr>
              <a:t>Книга  ищет читате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Documents and Settings\КМ\Рабочий стол\Photo-0007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902280" y="2357280"/>
            <a:ext cx="2241720" cy="30718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Photo-0008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2143080" y="785880"/>
            <a:ext cx="2401920" cy="32925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Photo-0009.jpg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285840" y="1643040"/>
            <a:ext cx="2282760" cy="3000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Photo-0002.jpg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4714920" y="285840"/>
            <a:ext cx="2428920" cy="3143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Photo-0001.jpg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4143240" y="3214800"/>
            <a:ext cx="242892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1000080" y="857160"/>
            <a:ext cx="74296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МА:  ВИКТОРИНА  ПО СКАЗКАМ  К.И. ЧУКОВ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ЦЕЛ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крепить знания учащихся по  детской литерату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) Развить интерес к чтению, мышление, внимание, памя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) Научить культуре поведения на празд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xtBox 4" descr=""/>
          <p:cNvPicPr/>
          <p:nvPr/>
        </p:nvPicPr>
        <p:blipFill>
          <a:blip r:embed="rId1"/>
          <a:stretch/>
        </p:blipFill>
        <p:spPr>
          <a:xfrm>
            <a:off x="1517760" y="1590840"/>
            <a:ext cx="7126200" cy="41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Photo-0004.jpg"/>
          <p:cNvPicPr/>
          <p:nvPr/>
        </p:nvPicPr>
        <p:blipFill>
          <a:blip r:embed="rId1"/>
          <a:stretch/>
        </p:blipFill>
        <p:spPr>
          <a:xfrm>
            <a:off x="1925640" y="725400"/>
            <a:ext cx="5292720" cy="590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00040" y="357120"/>
            <a:ext cx="4500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УГАДАЙ-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друг откуда-то ш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кобыле прискак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от вам теле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  гиппопотама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«Айболит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лго, долго крокод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ре синее туши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«Путаниц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 злодей- то не шут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уки- ноги он Мухе верёвками крут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убы острые в самое сердце вонз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кровь у неё выпива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«Муха-цокотух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КМ\Рабочий стол\Photo-0003.jpg"/>
          <p:cNvPicPr/>
          <p:nvPr/>
        </p:nvPicPr>
        <p:blipFill>
          <a:blip r:embed="rId1"/>
          <a:stretch/>
        </p:blipFill>
        <p:spPr>
          <a:xfrm>
            <a:off x="5429160" y="928800"/>
            <a:ext cx="3208320" cy="53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9" descr="Photo-0004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85840" y="1143000"/>
            <a:ext cx="8501040" cy="53578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552960" y="357120"/>
            <a:ext cx="477396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 . ЧЬИ ЭТО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Где убийца, Где злод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е боюсь его когте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Кому велено чирикат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е мурлыкайте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Я знаменитый капита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не не страшен ураган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Стыдно старому ревет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ы не заяц, а Медве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ы поди-ка, косолап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рокодила исцарапай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Я Федорушку прощ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ладким чаем угощ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шай, кушай, Федора Егоровн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4857840" y="857160"/>
            <a:ext cx="37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комарик  «Муха-Цокотух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844520" y="192888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инька «Путаниц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071960" y="292896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Бибигон «Приключение Бибигон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286160" y="435780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зайчиха «Краденое солнц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929120" y="55720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самовар «Федорино гор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85840" y="428760"/>
            <a:ext cx="8429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.   Я утверждаю, что все эти сказ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л К.И.Чуков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ли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«</a:t>
            </a: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ЛОБ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сская народная сказ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АЙБОЛ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Чу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ВИННИ-ПУ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 Мил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Х. Андерс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КРОКОДИ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 Чу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ПРИКЛЮЧЕНИЕ  БИБИГ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 Чу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Photo-0002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5840" y="2643120"/>
            <a:ext cx="2500200" cy="38577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Photo-0006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000840" y="857160"/>
            <a:ext cx="290016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500040" y="571680"/>
            <a:ext cx="807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И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КТОР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У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БОЙНИК, ЗЛОДЕЙ, УЖАСНЫ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ЛИКИЙ УМЫВАЛЬНИК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Х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АБУШК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ОМНЫЙ И ГРОЗНЫЙ ИНДЮ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Я ДЕТИШЕК КРОКОДИЛА В СКАЗКЕ «КРОКОДИЛ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ЕЦ, МОЛОДЕЦ, ОН ГЕРОЙ УДАЛОЙ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ЕЗ НЯНИ ГУЛЯЕТ ПО УЛИЦ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785960" y="1143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ДОКТОР  АЙБО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143080" y="17859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КАРАК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857840" y="2286000"/>
            <a:ext cx="22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БАРМА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071960" y="285768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МОЙДОДЫ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2571840" y="3357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ЦОКОТУХ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2428920" y="392904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ФЕДОРА  ЕГОРО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000760" y="45007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БРУНДУЛЯ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2928960" y="5500800"/>
            <a:ext cx="69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ТОТОШЕНЬКА, КОКОШЕНЬКА, ЛЕЛЁШЕНЬ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357800" y="64882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ВАНЯ ВАСИЛЬЧ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4" descr="Photo-0007.jpg"/>
          <p:cNvPicPr/>
          <p:nvPr/>
        </p:nvPicPr>
        <p:blipFill>
          <a:blip r:embed="rId1"/>
          <a:stretch/>
        </p:blipFill>
        <p:spPr>
          <a:xfrm>
            <a:off x="6643800" y="1023840"/>
            <a:ext cx="227952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Photo-000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57160" y="1285920"/>
            <a:ext cx="7500960" cy="48578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785880" y="428760"/>
            <a:ext cx="4357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Й СКАЗКИ ИЛЛЮСТРАЦ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071720" y="621504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8:44:53Z</dcterms:created>
  <dc:creator>КМ</dc:creator>
  <dc:description/>
  <dc:language>en-US</dc:language>
  <cp:lastModifiedBy>Коля</cp:lastModifiedBy>
  <dcterms:modified xsi:type="dcterms:W3CDTF">2013-05-06T19:29:33Z</dcterms:modified>
  <cp:revision>55</cp:revision>
  <dc:subject/>
  <dc:title>Корней Иванович Чуковский (1882-1969)</dc:title>
</cp:coreProperties>
</file>