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740-3833-4877-9330-4793DA1C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37A-47B9-43F0-84FD-5AADB523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486-1D5F-464B-A666-A64913A2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5C5-160A-46AB-9F94-BC0C5C72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8C9-7996-4788-9820-59A73BEE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1B7-6CFF-410D-A61E-46DD6DFA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503-1A50-47D3-8DAF-FB55A6C3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C02-C30B-4DFE-82E1-592D4B43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D50-74E2-4FE7-A970-A5D372DC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AD5-0636-42C6-94E9-141B2CB5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2EE-7646-412B-A09A-0D2F4127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4A0-2168-47DA-88DC-509AEC8F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B9C9-4682-486A-B2A5-3A3909919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8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00"/>
                </a:solidFill>
                <a:latin typeface="Georgia"/>
              </a:rPr>
              <a:t>Равнобедренный треуголь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 учитель мате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Красногор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банова Татья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MCj04241680000[1]"/>
          <p:cNvPicPr/>
          <p:nvPr/>
        </p:nvPicPr>
        <p:blipFill>
          <a:blip r:embed="rId2"/>
          <a:stretch/>
        </p:blipFill>
        <p:spPr>
          <a:xfrm>
            <a:off x="5749920" y="263520"/>
            <a:ext cx="183528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2019240" y="584280"/>
            <a:ext cx="499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8"/>
          <p:cNvSpPr/>
          <p:nvPr/>
        </p:nvSpPr>
        <p:spPr>
          <a:xfrm>
            <a:off x="2019240" y="3594240"/>
            <a:ext cx="538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9"/>
          <p:cNvSpPr/>
          <p:nvPr/>
        </p:nvSpPr>
        <p:spPr>
          <a:xfrm>
            <a:off x="2019240" y="3960720"/>
            <a:ext cx="499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0"/>
          <p:cNvSpPr/>
          <p:nvPr/>
        </p:nvSpPr>
        <p:spPr>
          <a:xfrm>
            <a:off x="981000" y="950760"/>
            <a:ext cx="718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6000" spc="-1" strike="noStrike">
                <a:solidFill>
                  <a:srgbClr val="993300"/>
                </a:solidFill>
                <a:latin typeface="Georgia"/>
              </a:rPr>
              <a:t>Спасибо за внимани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2"/>
          <p:cNvSpPr/>
          <p:nvPr/>
        </p:nvSpPr>
        <p:spPr>
          <a:xfrm>
            <a:off x="2019240" y="5334120"/>
            <a:ext cx="49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ем Вам успехов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93" descr="MCj03974900000[1]"/>
          <p:cNvPicPr/>
          <p:nvPr/>
        </p:nvPicPr>
        <p:blipFill>
          <a:blip r:embed="rId2"/>
          <a:stretch/>
        </p:blipFill>
        <p:spPr>
          <a:xfrm>
            <a:off x="3659040" y="3429000"/>
            <a:ext cx="182592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92" dur="123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93" dur="123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9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95" dur="123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9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Georgia"/>
              </a:rPr>
              <a:t>Пл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равнобедренного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о углов равнобедренного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о биссектрисы, медианы и высоты равнобедренного треугольника, проведенных к осн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1520" y="274320"/>
            <a:ext cx="76374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Равнобедренный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5960" y="4923000"/>
            <a:ext cx="5610240" cy="85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угольник называется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внобедрен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ве его стороны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0"/>
          <p:cNvSpPr/>
          <p:nvPr/>
        </p:nvSpPr>
        <p:spPr>
          <a:xfrm>
            <a:off x="3325680" y="1628640"/>
            <a:ext cx="1625760" cy="2381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2932200" y="4010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3973680" y="123336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5043600" y="399096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>
            <a:off x="3600360" y="2874960"/>
            <a:ext cx="176400" cy="18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4511520" y="2871360"/>
            <a:ext cx="189000" cy="189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1"/>
          <p:cNvSpPr/>
          <p:nvPr/>
        </p:nvSpPr>
        <p:spPr>
          <a:xfrm>
            <a:off x="6246720" y="2611440"/>
            <a:ext cx="21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 = В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3"/>
          <p:cNvSpPr/>
          <p:nvPr/>
        </p:nvSpPr>
        <p:spPr>
          <a:xfrm>
            <a:off x="841320" y="6033960"/>
            <a:ext cx="38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 и ВС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ковые сторо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5"/>
          <p:cNvSpPr/>
          <p:nvPr/>
        </p:nvSpPr>
        <p:spPr>
          <a:xfrm>
            <a:off x="5638680" y="603252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 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4"/>
          <p:cNvSpPr/>
          <p:nvPr/>
        </p:nvSpPr>
        <p:spPr>
          <a:xfrm flipV="1">
            <a:off x="3395520" y="1862280"/>
            <a:ext cx="1176480" cy="19684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4572000" y="1870200"/>
            <a:ext cx="1206360" cy="1947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3395520" y="3801960"/>
            <a:ext cx="2352960" cy="15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552680" y="754200"/>
            <a:ext cx="657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984400" y="37638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394160" y="1446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929200" y="3736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495440" y="523800"/>
            <a:ext cx="634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981000" y="595440"/>
            <a:ext cx="71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Равносторонний треугольни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2046240" y="5716440"/>
            <a:ext cx="49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угольник, все стороны которого равны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вносторонни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3911760" y="2779560"/>
            <a:ext cx="11412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H="1">
            <a:off x="5035320" y="2639160"/>
            <a:ext cx="206280" cy="2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4504680" y="3720240"/>
            <a:ext cx="13464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2851200" y="4587840"/>
            <a:ext cx="34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 = ВС = А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4"/>
          <p:cNvSpPr/>
          <p:nvPr/>
        </p:nvSpPr>
        <p:spPr>
          <a:xfrm>
            <a:off x="1495440" y="3584520"/>
            <a:ext cx="20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3743280" y="755640"/>
            <a:ext cx="1625760" cy="22496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314880" y="2997360"/>
            <a:ext cx="32040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4370400" y="351000"/>
            <a:ext cx="3776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 flipH="1">
            <a:off x="5437080" y="2984400"/>
            <a:ext cx="36216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1428840" y="3735360"/>
            <a:ext cx="62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гл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основании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авн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4484520" y="3948120"/>
            <a:ext cx="15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4"/>
          <p:cNvSpPr/>
          <p:nvPr/>
        </p:nvSpPr>
        <p:spPr>
          <a:xfrm>
            <a:off x="4486320" y="3876840"/>
            <a:ext cx="352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5" descr=""/>
          <p:cNvPicPr/>
          <p:nvPr/>
        </p:nvPicPr>
        <p:blipFill>
          <a:blip r:embed="rId6"/>
          <a:stretch/>
        </p:blipFill>
        <p:spPr>
          <a:xfrm>
            <a:off x="3646440" y="5342040"/>
            <a:ext cx="1790640" cy="536400"/>
          </a:xfrm>
          <a:prstGeom prst="rect">
            <a:avLst/>
          </a:prstGeom>
          <a:ln w="0">
            <a:noFill/>
          </a:ln>
        </p:spPr>
      </p:pic>
      <p:sp>
        <p:nvSpPr>
          <p:cNvPr id="82" name="Freeform 48"/>
          <p:cNvSpPr/>
          <p:nvPr/>
        </p:nvSpPr>
        <p:spPr>
          <a:xfrm>
            <a:off x="3844800" y="2692440"/>
            <a:ext cx="150840" cy="291960"/>
          </a:xfrm>
          <a:custGeom>
            <a:avLst/>
            <a:gdLst/>
            <a:ahLst/>
            <a:rect l="l" t="t" r="r" b="b"/>
            <a:pathLst>
              <a:path w="95" h="184">
                <a:moveTo>
                  <a:pt x="0" y="0"/>
                </a:moveTo>
                <a:cubicBezTo>
                  <a:pt x="32" y="32"/>
                  <a:pt x="65" y="65"/>
                  <a:pt x="80" y="96"/>
                </a:cubicBezTo>
                <a:cubicBezTo>
                  <a:pt x="95" y="127"/>
                  <a:pt x="91" y="155"/>
                  <a:pt x="88" y="184"/>
                </a:cubicBezTo>
              </a:path>
            </a:pathLst>
          </a:custGeom>
          <a:solidFill>
            <a:srgbClr val="333399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9"/>
          <p:cNvSpPr/>
          <p:nvPr/>
        </p:nvSpPr>
        <p:spPr>
          <a:xfrm>
            <a:off x="5103720" y="2666880"/>
            <a:ext cx="100080" cy="330480"/>
          </a:xfrm>
          <a:custGeom>
            <a:avLst/>
            <a:gdLst/>
            <a:ahLst/>
            <a:rect l="l" t="t" r="r" b="b"/>
            <a:pathLst>
              <a:path w="63" h="208">
                <a:moveTo>
                  <a:pt x="63" y="0"/>
                </a:moveTo>
                <a:cubicBezTo>
                  <a:pt x="38" y="38"/>
                  <a:pt x="14" y="77"/>
                  <a:pt x="7" y="112"/>
                </a:cubicBezTo>
                <a:cubicBezTo>
                  <a:pt x="0" y="147"/>
                  <a:pt x="22" y="193"/>
                  <a:pt x="23" y="20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>
            <a:off x="3740040" y="1038240"/>
            <a:ext cx="1625760" cy="2381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378240" y="3578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375080" y="59544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24560" y="357840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4362480" y="1082520"/>
            <a:ext cx="419040" cy="2870280"/>
            <a:chOff x="4362480" y="1082520"/>
            <a:chExt cx="419040" cy="2870280"/>
          </a:xfrm>
        </p:grpSpPr>
        <p:sp>
          <p:nvSpPr>
            <p:cNvPr id="89" name="Line 9"/>
            <p:cNvSpPr/>
            <p:nvPr/>
          </p:nvSpPr>
          <p:spPr>
            <a:xfrm>
              <a:off x="4552920" y="1082520"/>
              <a:ext cx="0" cy="2336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0"/>
            <p:cNvSpPr/>
            <p:nvPr/>
          </p:nvSpPr>
          <p:spPr>
            <a:xfrm>
              <a:off x="4413240" y="3584520"/>
              <a:ext cx="3556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4362480" y="1628640"/>
              <a:ext cx="177840" cy="100080"/>
            </a:xfrm>
            <a:custGeom>
              <a:avLst/>
              <a:gdLst/>
              <a:ahLst/>
              <a:rect l="l" t="t" r="r" b="b"/>
              <a:pathLst>
                <a:path w="112" h="63">
                  <a:moveTo>
                    <a:pt x="0" y="0"/>
                  </a:moveTo>
                  <a:cubicBezTo>
                    <a:pt x="19" y="24"/>
                    <a:pt x="38" y="49"/>
                    <a:pt x="56" y="56"/>
                  </a:cubicBezTo>
                  <a:cubicBezTo>
                    <a:pt x="74" y="63"/>
                    <a:pt x="101" y="44"/>
                    <a:pt x="112" y="4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4552920" y="1679400"/>
              <a:ext cx="228600" cy="763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48"/>
                  </a:moveTo>
                  <a:cubicBezTo>
                    <a:pt x="28" y="44"/>
                    <a:pt x="56" y="40"/>
                    <a:pt x="80" y="32"/>
                  </a:cubicBezTo>
                  <a:cubicBezTo>
                    <a:pt x="104" y="24"/>
                    <a:pt x="124" y="12"/>
                    <a:pt x="144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3"/>
          <p:cNvSpPr/>
          <p:nvPr/>
        </p:nvSpPr>
        <p:spPr>
          <a:xfrm>
            <a:off x="977760" y="5168880"/>
            <a:ext cx="718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равнобедренном треугольнике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иссектри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веденная к основанию, является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медианой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и высот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079800" y="4346640"/>
            <a:ext cx="29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- биссектрис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3743280" y="525600"/>
            <a:ext cx="1625760" cy="22636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414600" y="2789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367160" y="158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430960" y="2789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1138320" y="4919760"/>
            <a:ext cx="682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сота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внобедренного треугольника, проведенная к основанию, является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едианой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иссектрис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289320" y="3963960"/>
            <a:ext cx="2583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D -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со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 flipH="1" flipV="1">
            <a:off x="8288280" y="1973160"/>
            <a:ext cx="1440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4457880" y="482760"/>
            <a:ext cx="282240" cy="2306160"/>
            <a:chOff x="4457880" y="482760"/>
            <a:chExt cx="282240" cy="2306160"/>
          </a:xfrm>
        </p:grpSpPr>
        <p:sp>
          <p:nvSpPr>
            <p:cNvPr id="103" name="Line 5"/>
            <p:cNvSpPr/>
            <p:nvPr/>
          </p:nvSpPr>
          <p:spPr>
            <a:xfrm>
              <a:off x="4549680" y="482760"/>
              <a:ext cx="49320" cy="2285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8"/>
            <p:cNvSpPr/>
            <p:nvPr/>
          </p:nvSpPr>
          <p:spPr>
            <a:xfrm>
              <a:off x="4457880" y="2652840"/>
              <a:ext cx="282240" cy="1360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34"/>
          <p:cNvSpPr/>
          <p:nvPr/>
        </p:nvSpPr>
        <p:spPr>
          <a:xfrm>
            <a:off x="4367160" y="278928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4"/>
          <p:cNvSpPr/>
          <p:nvPr/>
        </p:nvSpPr>
        <p:spPr>
          <a:xfrm>
            <a:off x="3762360" y="990720"/>
            <a:ext cx="1625760" cy="23810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572000" y="1035000"/>
            <a:ext cx="0" cy="2336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168800" y="3281400"/>
            <a:ext cx="6336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4910040" y="3257640"/>
            <a:ext cx="8892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432240" y="34034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456080" y="6271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456160" y="342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429080" y="35305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244520" y="4898880"/>
            <a:ext cx="66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едиана</a:t>
            </a:r>
            <a:r>
              <a:rPr b="0" i="1" lang="ru-RU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внобедренного треугольника, проведенная к основанию, является</a:t>
            </a:r>
            <a:r>
              <a:rPr b="0" i="1" lang="ru-RU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ысотой</a:t>
            </a:r>
            <a:r>
              <a:rPr b="0" i="1" lang="ru-RU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i="1" lang="ru-RU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иссектрис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397320" y="4054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D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диа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>
            <a:off x="1486080" y="1281240"/>
            <a:ext cx="1295280" cy="20826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124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917720" y="639720"/>
            <a:ext cx="44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917720" y="63972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781360" y="312408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781360" y="312408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292640" y="1096920"/>
            <a:ext cx="28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ая сторо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813200" y="191772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13"/>
          <p:cNvCxnSpPr>
            <a:stCxn id="122" idx="2"/>
          </p:cNvCxnSpPr>
          <p:nvPr/>
        </p:nvCxnSpPr>
        <p:spPr>
          <a:xfrm flipH="1">
            <a:off x="2456640" y="1463760"/>
            <a:ext cx="3251880" cy="854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15"/>
          <p:cNvCxnSpPr>
            <a:stCxn id="123" idx="2"/>
            <a:endCxn id="116" idx="3"/>
          </p:cNvCxnSpPr>
          <p:nvPr/>
        </p:nvCxnSpPr>
        <p:spPr>
          <a:xfrm flipH="1">
            <a:off x="2133360" y="2284200"/>
            <a:ext cx="3696480" cy="10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16"/>
          <p:cNvCxnSpPr/>
          <p:nvPr/>
        </p:nvCxnSpPr>
        <p:spPr>
          <a:xfrm flipH="1">
            <a:off x="2174040" y="1482840"/>
            <a:ext cx="3575880" cy="19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17"/>
          <p:cNvCxnSpPr>
            <a:stCxn id="123" idx="2"/>
            <a:endCxn id="116" idx="5"/>
          </p:cNvCxnSpPr>
          <p:nvPr/>
        </p:nvCxnSpPr>
        <p:spPr>
          <a:xfrm flipH="1">
            <a:off x="2476080" y="2284200"/>
            <a:ext cx="33537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Text Box 19"/>
          <p:cNvSpPr/>
          <p:nvPr/>
        </p:nvSpPr>
        <p:spPr>
          <a:xfrm>
            <a:off x="2362320" y="4137120"/>
            <a:ext cx="2692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0" descr=""/>
          <p:cNvPicPr/>
          <p:nvPr/>
        </p:nvPicPr>
        <p:blipFill>
          <a:blip r:embed="rId3"/>
          <a:stretch/>
        </p:blipFill>
        <p:spPr>
          <a:xfrm>
            <a:off x="977760" y="5643720"/>
            <a:ext cx="1479600" cy="409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2"/>
          <p:cNvSpPr/>
          <p:nvPr/>
        </p:nvSpPr>
        <p:spPr>
          <a:xfrm>
            <a:off x="3098880" y="4354560"/>
            <a:ext cx="309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3" descr=""/>
          <p:cNvPicPr/>
          <p:nvPr/>
        </p:nvPicPr>
        <p:blipFill>
          <a:blip r:embed="rId4"/>
          <a:stretch/>
        </p:blipFill>
        <p:spPr>
          <a:xfrm>
            <a:off x="901800" y="4935600"/>
            <a:ext cx="155556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5" descr=""/>
          <p:cNvPicPr/>
          <p:nvPr/>
        </p:nvPicPr>
        <p:blipFill>
          <a:blip r:embed="rId5"/>
          <a:stretch/>
        </p:blipFill>
        <p:spPr>
          <a:xfrm>
            <a:off x="835200" y="4226040"/>
            <a:ext cx="1622160" cy="423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8"/>
          <p:cNvSpPr/>
          <p:nvPr/>
        </p:nvSpPr>
        <p:spPr>
          <a:xfrm>
            <a:off x="3962520" y="45720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 = В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2133720" y="1281240"/>
            <a:ext cx="0" cy="2082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2038320" y="3492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3568680" y="38592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33"/>
          <p:cNvCxnSpPr>
            <a:stCxn id="139" idx="3"/>
          </p:cNvCxnSpPr>
          <p:nvPr/>
        </p:nvCxnSpPr>
        <p:spPr>
          <a:xfrm flipV="1">
            <a:off x="4292280" y="3363480"/>
            <a:ext cx="1537560" cy="68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35"/>
          <p:cNvCxnSpPr/>
          <p:nvPr/>
        </p:nvCxnSpPr>
        <p:spPr>
          <a:xfrm flipV="1">
            <a:off x="4317480" y="3977640"/>
            <a:ext cx="1512360" cy="12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37"/>
          <p:cNvCxnSpPr/>
          <p:nvPr/>
        </p:nvCxnSpPr>
        <p:spPr>
          <a:xfrm>
            <a:off x="4292640" y="4096800"/>
            <a:ext cx="145800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Text Box 38"/>
          <p:cNvSpPr/>
          <p:nvPr/>
        </p:nvSpPr>
        <p:spPr>
          <a:xfrm>
            <a:off x="5829480" y="33638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ссектрис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9"/>
          <p:cNvSpPr/>
          <p:nvPr/>
        </p:nvSpPr>
        <p:spPr>
          <a:xfrm>
            <a:off x="5829480" y="39877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6051600" y="45687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а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AutoShape 41"/>
          <p:cNvCxnSpPr/>
          <p:nvPr/>
        </p:nvCxnSpPr>
        <p:spPr>
          <a:xfrm>
            <a:off x="4298760" y="4172040"/>
            <a:ext cx="1028880" cy="95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Text Box 42"/>
          <p:cNvSpPr/>
          <p:nvPr/>
        </p:nvSpPr>
        <p:spPr>
          <a:xfrm>
            <a:off x="5749920" y="5484960"/>
            <a:ext cx="17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3962520" y="700200"/>
            <a:ext cx="85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546120" y="3492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6"/>
          <p:cNvSpPr/>
          <p:nvPr/>
        </p:nvSpPr>
        <p:spPr>
          <a:xfrm>
            <a:off x="546120" y="37306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7"/>
          <p:cNvSpPr/>
          <p:nvPr/>
        </p:nvSpPr>
        <p:spPr>
          <a:xfrm>
            <a:off x="368280" y="3492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8"/>
          <p:cNvSpPr/>
          <p:nvPr/>
        </p:nvSpPr>
        <p:spPr>
          <a:xfrm>
            <a:off x="6197760" y="27050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0"/>
          <p:cNvSpPr/>
          <p:nvPr/>
        </p:nvSpPr>
        <p:spPr>
          <a:xfrm>
            <a:off x="5829480" y="1521000"/>
            <a:ext cx="22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054760" y="1281240"/>
            <a:ext cx="29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8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7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8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16:58Z</dcterms:created>
  <dc:creator>SC</dc:creator>
  <dc:description/>
  <dc:language>en-US</dc:language>
  <cp:lastModifiedBy>Коля</cp:lastModifiedBy>
  <dcterms:modified xsi:type="dcterms:W3CDTF">2013-03-30T22:05:21Z</dcterms:modified>
  <cp:revision>24</cp:revision>
  <dc:subject/>
  <dc:title>Равнобедренный треугольни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3000000000001024140</vt:lpwstr>
  </property>
</Properties>
</file>