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ECF-144C-466B-938F-DB878EAD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AE9-4865-4FDE-A60E-CF88EF72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2EB-DF97-4040-B49F-DBC882C0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E6B-5285-4A57-9710-33D44F2D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A700-2E89-47D8-B499-D6417782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B06A-671A-49F6-A3CB-DE660FBA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FC86-081C-43ED-A97A-356ECDA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8FD9-A0C5-435A-98DF-A623A154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1751-A5B5-4EC0-8304-33167E99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F69C-5B7D-4572-B954-6C19B91E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7551-10CC-4D70-875C-433E47C6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051-62F0-46C2-96D5-88DF8577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F552-A01F-48B2-AFF7-848A73A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EF90-EA3F-4026-B550-BC5DD50E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6773-59FE-4656-A182-41673B2D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327B-B90E-4487-B6FA-5E5D33D4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2325-B749-4A00-82A3-D09C6FAC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C1E-B94B-490F-A60A-8786A2C3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F17-FB16-4C62-A0C1-FC203AD3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509-C517-41CA-807E-C52E169E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C2A-BF9A-4C0A-BE0C-5BEC8E35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F70-8201-4076-8D3F-18D2531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F32-A4B7-47F3-BE04-15EEA60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1D8-8B8F-4646-A6AA-8141C95F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D99B-AEEA-42B5-927B-F563C42D7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92FF-BA5B-4192-A5C2-9A5A368DA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47920" y="533520"/>
            <a:ext cx="5638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я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уголь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8098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изучения нов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63403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c8cb4"/>
                </a:solidFill>
                <a:latin typeface="Arial"/>
              </a:rPr>
              <a:t>Подготовила учитель МОУ «Ломовская СОШ» О.М.Якуш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58422" t="78849" r="28332" b="7856"/>
          <a:stretch/>
        </p:blipFill>
        <p:spPr>
          <a:xfrm>
            <a:off x="2286000" y="304920"/>
            <a:ext cx="3886200" cy="2836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редняя линия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38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сторо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4724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3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6см.                Определите стороны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267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=2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=2</a:t>
            </a:r>
            <a:r>
              <a:rPr b="1" lang="ru-RU" sz="2400" spc="-1" strike="noStrike" baseline="30000">
                <a:solidFill>
                  <a:srgbClr val="6600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4=8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=6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м,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=10см,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C=12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14400" y="3657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периметр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АВ=20см, ВС=18см, АС=19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029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Р=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P+PK+MK=9,5+10+9=28,5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74582" t="9894" r="10978" b="72364"/>
          <a:stretch/>
        </p:blipFill>
        <p:spPr>
          <a:xfrm>
            <a:off x="2286000" y="220680"/>
            <a:ext cx="37339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106668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ее задание: п.62, задача 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3657600" y="2590920"/>
            <a:ext cx="1447920" cy="251460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2514600"/>
              <a:gd name="textAreaBottom" fmla="*/ 2421000 h 2514600"/>
            </a:gdLst>
            <a:ahLst/>
            <a:rect l="textAreaLeft" t="textAreaTop" r="textAreaRight" b="textAreaBottom"/>
            <a:pathLst>
              <a:path w="21600" h="37509">
                <a:moveTo>
                  <a:pt x="0" y="0"/>
                </a:moveTo>
                <a:lnTo>
                  <a:pt x="21600" y="0"/>
                </a:lnTo>
                <a:lnTo>
                  <a:pt x="21600" y="37509"/>
                </a:lnTo>
                <a:lnTo>
                  <a:pt x="0" y="37509"/>
                </a:lnTo>
                <a:close/>
              </a:path>
              <a:path fill="lightenLess" w="21600" h="37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09">
                <a:moveTo>
                  <a:pt x="21600" y="0"/>
                </a:moveTo>
                <a:lnTo>
                  <a:pt x="21600" y="37509"/>
                </a:lnTo>
                <a:lnTo>
                  <a:pt x="20200" y="36109"/>
                </a:lnTo>
                <a:lnTo>
                  <a:pt x="20200" y="1400"/>
                </a:lnTo>
                <a:close/>
              </a:path>
              <a:path fill="darkenLess" w="21600" h="37509">
                <a:moveTo>
                  <a:pt x="21600" y="37509"/>
                </a:moveTo>
                <a:lnTo>
                  <a:pt x="0" y="37509"/>
                </a:lnTo>
                <a:lnTo>
                  <a:pt x="1400" y="36109"/>
                </a:lnTo>
                <a:lnTo>
                  <a:pt x="20200" y="36109"/>
                </a:lnTo>
                <a:close/>
              </a:path>
              <a:path fill="lighten" w="21600" h="37509">
                <a:moveTo>
                  <a:pt x="0" y="37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09"/>
                </a:lnTo>
                <a:close/>
              </a:path>
              <a:path fill="darken" w="21600" h="37509">
                <a:moveTo>
                  <a:pt x="10800" y="227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509">
                <a:moveTo>
                  <a:pt x="11905" y="22236"/>
                </a:moveTo>
                <a:lnTo>
                  <a:pt x="11905" y="20278"/>
                </a:lnTo>
                <a:cubicBezTo>
                  <a:pt x="11905" y="19451"/>
                  <a:pt x="12236" y="18754"/>
                  <a:pt x="12837" y="18754"/>
                </a:cubicBezTo>
                <a:cubicBezTo>
                  <a:pt x="13968" y="18754"/>
                  <a:pt x="14865" y="17388"/>
                  <a:pt x="14865" y="15804"/>
                </a:cubicBezTo>
                <a:cubicBezTo>
                  <a:pt x="14865" y="13489"/>
                  <a:pt x="13011" y="11748"/>
                  <a:pt x="10800" y="11748"/>
                </a:cubicBezTo>
                <a:cubicBezTo>
                  <a:pt x="8589" y="11748"/>
                  <a:pt x="6918" y="13489"/>
                  <a:pt x="6918" y="15804"/>
                </a:cubicBezTo>
                <a:lnTo>
                  <a:pt x="8772" y="15804"/>
                </a:lnTo>
                <a:cubicBezTo>
                  <a:pt x="8772" y="14664"/>
                  <a:pt x="9695" y="13776"/>
                  <a:pt x="10800" y="13776"/>
                </a:cubicBezTo>
                <a:cubicBezTo>
                  <a:pt x="11905" y="13776"/>
                  <a:pt x="12837" y="14664"/>
                  <a:pt x="12837" y="15804"/>
                </a:cubicBezTo>
                <a:cubicBezTo>
                  <a:pt x="12837" y="16544"/>
                  <a:pt x="12367" y="17275"/>
                  <a:pt x="11905" y="17275"/>
                </a:cubicBezTo>
                <a:cubicBezTo>
                  <a:pt x="10800" y="17275"/>
                  <a:pt x="9695" y="18754"/>
                  <a:pt x="9695" y="20278"/>
                </a:cubicBezTo>
                <a:lnTo>
                  <a:pt x="9695" y="22236"/>
                </a:lnTo>
                <a:close/>
              </a:path>
            </a:pathLst>
          </a:custGeom>
          <a:solidFill>
            <a:srgbClr val="cac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2160" r="0" b="0"/>
          <a:stretch/>
        </p:blipFill>
        <p:spPr>
          <a:xfrm>
            <a:off x="2286000" y="228600"/>
            <a:ext cx="3581280" cy="2940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3200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аны треугольника пересекаются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 одной то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 отношении 2: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читая от верш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14600" y="4572000"/>
                <a:ext cx="41148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О</m:t>
                        </m:r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О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О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О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71435" t="76830" r="15810" b="7180"/>
          <a:stretch/>
        </p:blipFill>
        <p:spPr>
          <a:xfrm>
            <a:off x="1295280" y="533520"/>
            <a:ext cx="586764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0"/>
            <a:ext cx="86108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яснение к презент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слайд: Тема урока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айд скрыт от пока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слайд: Решение задачи на использование имеющихся знаний учащихся, необходимых на уроке.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комый отрезок является объектом изучения новой тем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слайд: Тема урок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слайд: Учащиеся выполняют построение треугольника в тетради, отмечают середины двух его сторон, проводят отрезок, который называется средней линией. Записывают определение в тетра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слайд: Устное решение задач по теме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слайд: Построение всех средних линий в одном треугольнике. Вывод о их количе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слайд: Еще раз определение средней линии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слайд: Возврат к задаче, решенной в самом начале урока, которая позволяет выявить свойство средней линии треуголь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слайд: Теорема о средней линии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, 11 слайды: Устное решение задач на использование теор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слайд: Домашнее задани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в зависимости от темпа урока слайды 13 и 14 не используют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 слайд: Свойство медиан тре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слайд: Рисунок, используется для доказательства свойства медиан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слайд: Пояснени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айд скрыт от показа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2571" t="5989" r="8684" b="7122"/>
          <a:stretch/>
        </p:blipFill>
        <p:spPr>
          <a:xfrm>
            <a:off x="1295280" y="1371600"/>
            <a:ext cx="6858000" cy="2882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длину отрез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90720" y="4572000"/>
            <a:ext cx="7238880" cy="425520"/>
            <a:chOff x="990720" y="4572000"/>
            <a:chExt cx="7238880" cy="425520"/>
          </a:xfrm>
        </p:grpSpPr>
        <p:grpSp>
          <p:nvGrpSpPr>
            <p:cNvPr id="106" name=""/>
            <p:cNvGrpSpPr/>
            <p:nvPr/>
          </p:nvGrpSpPr>
          <p:grpSpPr>
            <a:xfrm>
              <a:off x="990720" y="4572000"/>
              <a:ext cx="2286000" cy="425520"/>
              <a:chOff x="990720" y="4572000"/>
              <a:chExt cx="2286000" cy="425520"/>
            </a:xfrm>
          </p:grpSpPr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990720" y="4572000"/>
                    <a:ext cx="9903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KLM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" name=""/>
                  <p:cNvSpPr txBox="1"/>
                  <p:nvPr/>
                </p:nvSpPr>
                <p:spPr>
                  <a:xfrm>
                    <a:off x="2286000" y="4572000"/>
                    <a:ext cx="99072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KQ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9" name=""/>
            <p:cNvSpPr/>
            <p:nvPr/>
          </p:nvSpPr>
          <p:spPr>
            <a:xfrm>
              <a:off x="1905120" y="4572000"/>
              <a:ext cx="63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                   - подобны по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знаку подоб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880" y="5029200"/>
                <a:ext cx="23623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19520" y="5029200"/>
            <a:ext cx="1917720" cy="822240"/>
            <a:chOff x="2819520" y="5029200"/>
            <a:chExt cx="1917720" cy="82224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276720" y="5029200"/>
                  <a:ext cx="146052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KQ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2819520" y="52578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00600" y="4952880"/>
            <a:ext cx="1600200" cy="836640"/>
            <a:chOff x="4800600" y="4952880"/>
            <a:chExt cx="1600200" cy="836640"/>
          </a:xfrm>
        </p:grpSpPr>
        <p:sp>
          <p:nvSpPr>
            <p:cNvPr id="119" name=""/>
            <p:cNvSpPr/>
            <p:nvPr/>
          </p:nvSpPr>
          <p:spPr>
            <a:xfrm>
              <a:off x="4800600" y="52578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257800" y="4952880"/>
                  <a:ext cx="11430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400800" y="5181480"/>
            <a:ext cx="2286000" cy="435240"/>
            <a:chOff x="6400800" y="5181480"/>
            <a:chExt cx="2286000" cy="435240"/>
          </a:xfrm>
        </p:grpSpPr>
        <p:grpSp>
          <p:nvGrpSpPr>
            <p:cNvPr id="124" name=""/>
            <p:cNvGrpSpPr/>
            <p:nvPr/>
          </p:nvGrpSpPr>
          <p:grpSpPr>
            <a:xfrm>
              <a:off x="6400800" y="5181480"/>
              <a:ext cx="1752480" cy="435240"/>
              <a:chOff x="6400800" y="5181480"/>
              <a:chExt cx="1752480" cy="435240"/>
            </a:xfrm>
          </p:grpSpPr>
          <p:sp>
            <p:nvSpPr>
              <p:cNvPr id="125" name=""/>
              <p:cNvSpPr/>
              <p:nvPr/>
            </p:nvSpPr>
            <p:spPr>
              <a:xfrm>
                <a:off x="6400800" y="5257800"/>
                <a:ext cx="380880" cy="304920"/>
              </a:xfrm>
              <a:prstGeom prst="rightArrow">
                <a:avLst>
                  <a:gd name="adj1" fmla="val 50000"/>
                  <a:gd name="adj2" fmla="val 31228"/>
                </a:avLst>
              </a:prstGeom>
              <a:solidFill>
                <a:srgbClr val="8c8c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781680" y="5181480"/>
                    <a:ext cx="1371600" cy="43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8305920" y="52578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880" y="6172200"/>
            <a:ext cx="1447920" cy="385920"/>
            <a:chOff x="380880" y="6172200"/>
            <a:chExt cx="1447920" cy="385920"/>
          </a:xfrm>
        </p:grpSpPr>
        <p:sp>
          <p:nvSpPr>
            <p:cNvPr id="129" name=""/>
            <p:cNvSpPr/>
            <p:nvPr/>
          </p:nvSpPr>
          <p:spPr>
            <a:xfrm>
              <a:off x="380880" y="6172200"/>
              <a:ext cx="381240" cy="304920"/>
            </a:xfrm>
            <a:prstGeom prst="rightArrow">
              <a:avLst>
                <a:gd name="adj1" fmla="val 50000"/>
                <a:gd name="adj2" fmla="val 31257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914400" y="6172200"/>
                  <a:ext cx="9144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05120" y="6172200"/>
            <a:ext cx="1828800" cy="426960"/>
            <a:chOff x="1905120" y="6172200"/>
            <a:chExt cx="1828800" cy="426960"/>
          </a:xfrm>
        </p:grpSpPr>
        <p:sp>
          <p:nvSpPr>
            <p:cNvPr id="133" name=""/>
            <p:cNvSpPr/>
            <p:nvPr/>
          </p:nvSpPr>
          <p:spPr>
            <a:xfrm>
              <a:off x="1905120" y="624852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2362320" y="6172200"/>
                  <a:ext cx="13716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38480" y="6172200"/>
            <a:ext cx="4594320" cy="380880"/>
            <a:chOff x="4038480" y="6172200"/>
            <a:chExt cx="4594320" cy="380880"/>
          </a:xfrm>
        </p:grpSpPr>
        <p:sp>
          <p:nvSpPr>
            <p:cNvPr id="137" name=""/>
            <p:cNvSpPr/>
            <p:nvPr/>
          </p:nvSpPr>
          <p:spPr>
            <a:xfrm>
              <a:off x="4038480" y="6248520"/>
              <a:ext cx="381240" cy="304560"/>
            </a:xfrm>
            <a:prstGeom prst="rightArrow">
              <a:avLst>
                <a:gd name="adj1" fmla="val 50000"/>
                <a:gd name="adj2" fmla="val 31294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4724280" y="6172200"/>
                  <a:ext cx="39085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K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" name=""/>
          <p:cNvSpPr/>
          <p:nvPr/>
        </p:nvSpPr>
        <p:spPr>
          <a:xfrm>
            <a:off x="54864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352680" y="2819520"/>
            <a:ext cx="1447920" cy="106668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600200" y="2209680"/>
            <a:ext cx="5638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я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уголь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4389" t="0" r="0" b="0"/>
          <a:stretch/>
        </p:blipFill>
        <p:spPr>
          <a:xfrm>
            <a:off x="2590920" y="325440"/>
            <a:ext cx="3352680" cy="2509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95280" y="3352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редняя линия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495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Средней линией треугольника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называется отрезок, соединяющий середины двух его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2276" t="3009" r="6814" b="3815"/>
          <a:stretch/>
        </p:blipFill>
        <p:spPr>
          <a:xfrm>
            <a:off x="2590920" y="228600"/>
            <a:ext cx="34290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895480" y="1219320"/>
            <a:ext cx="2362320" cy="304560"/>
            <a:chOff x="2895480" y="1219320"/>
            <a:chExt cx="2362320" cy="30456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2895480" y="1219320"/>
              <a:ext cx="2714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4952880" y="1219320"/>
              <a:ext cx="30492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3352680" y="152388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8067" t="10260" r="81615" b="75477"/>
          <a:stretch/>
        </p:blipFill>
        <p:spPr>
          <a:xfrm>
            <a:off x="762120" y="228600"/>
            <a:ext cx="2501640" cy="2514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33273" t="12067" r="51843" b="74727"/>
          <a:stretch/>
        </p:blipFill>
        <p:spPr>
          <a:xfrm>
            <a:off x="609480" y="4267080"/>
            <a:ext cx="3048120" cy="1967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18233" t="11729" r="66926" b="74727"/>
          <a:stretch/>
        </p:blipFill>
        <p:spPr>
          <a:xfrm>
            <a:off x="5334120" y="762120"/>
            <a:ext cx="2895480" cy="1922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457200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редняя линия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=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1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 Чему равны отрез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, KF, FL, 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4572000"/>
            <a:ext cx="2666880" cy="1130400"/>
            <a:chOff x="533520" y="4572000"/>
            <a:chExt cx="2666880" cy="1130400"/>
          </a:xfrm>
        </p:grpSpPr>
        <p:sp>
          <p:nvSpPr>
            <p:cNvPr id="156" name=""/>
            <p:cNvSpPr/>
            <p:nvPr/>
          </p:nvSpPr>
          <p:spPr>
            <a:xfrm>
              <a:off x="990720" y="4648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53341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518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1080" y="45720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8600" y="2895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отрез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редней линией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28195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отрез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редней линией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йте среднюю линию дан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95280" y="1143000"/>
            <a:ext cx="7086600" cy="4041000"/>
            <a:chOff x="1295280" y="1143000"/>
            <a:chExt cx="7086600" cy="4041000"/>
          </a:xfrm>
        </p:grpSpPr>
        <p:sp>
          <p:nvSpPr>
            <p:cNvPr id="164" name=""/>
            <p:cNvSpPr/>
            <p:nvPr/>
          </p:nvSpPr>
          <p:spPr>
            <a:xfrm>
              <a:off x="1828800" y="1676520"/>
              <a:ext cx="6019920" cy="3276360"/>
            </a:xfrm>
            <a:prstGeom prst="triangle">
              <a:avLst>
                <a:gd name="adj" fmla="val 24579"/>
              </a:avLst>
            </a:prstGeom>
            <a:solidFill>
              <a:srgbClr val="bebed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5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87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2895480"/>
            <a:ext cx="4267440" cy="536040"/>
            <a:chOff x="1981080" y="2895480"/>
            <a:chExt cx="4267440" cy="536040"/>
          </a:xfrm>
        </p:grpSpPr>
        <p:sp>
          <p:nvSpPr>
            <p:cNvPr id="169" name=""/>
            <p:cNvSpPr/>
            <p:nvPr/>
          </p:nvSpPr>
          <p:spPr>
            <a:xfrm>
              <a:off x="571500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90920" y="3352680"/>
              <a:ext cx="2971800" cy="0"/>
            </a:xfrm>
            <a:prstGeom prst="line">
              <a:avLst/>
            </a:prstGeom>
            <a:ln w="57240">
              <a:solidFill>
                <a:srgbClr val="9e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>
            <a:off x="4723920" y="3352680"/>
            <a:ext cx="838440" cy="1600200"/>
          </a:xfrm>
          <a:prstGeom prst="line">
            <a:avLst/>
          </a:prstGeom>
          <a:ln w="57240">
            <a:solidFill>
              <a:srgbClr val="9e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90920" y="3352680"/>
            <a:ext cx="2438280" cy="2136240"/>
            <a:chOff x="2590920" y="3352680"/>
            <a:chExt cx="2438280" cy="2136240"/>
          </a:xfrm>
        </p:grpSpPr>
        <p:sp>
          <p:nvSpPr>
            <p:cNvPr id="174" name=""/>
            <p:cNvSpPr/>
            <p:nvPr/>
          </p:nvSpPr>
          <p:spPr>
            <a:xfrm>
              <a:off x="449568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3352680"/>
              <a:ext cx="2133360" cy="1600200"/>
            </a:xfrm>
            <a:prstGeom prst="line">
              <a:avLst/>
            </a:prstGeom>
            <a:ln w="57240">
              <a:solidFill>
                <a:srgbClr val="9e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9480" y="5562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 любом треугольнике можно постро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средни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609480" y="2209680"/>
            <a:ext cx="8001000" cy="1556280"/>
          </a:xfrm>
          <a:prstGeom prst="rect">
            <a:avLst/>
          </a:prstGeom>
          <a:solidFill>
            <a:srgbClr val="a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редней линией треугольника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называется отрезок, соединяющий середины двух его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295280" y="533520"/>
            <a:ext cx="6858000" cy="2882880"/>
            <a:chOff x="1295280" y="533520"/>
            <a:chExt cx="6858000" cy="28828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2571" t="5989" r="8684" b="7122"/>
            <a:stretch/>
          </p:blipFill>
          <p:spPr>
            <a:xfrm>
              <a:off x="1295280" y="533520"/>
              <a:ext cx="685800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486400" y="1219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838080" y="3809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яя линий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араллель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тьей сто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5562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яя линия равна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олов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тьей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4419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14600" y="4495680"/>
                <a:ext cx="3429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914400" y="182880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редняя линия треугольника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параллельна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одной из его сторон и равна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половине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эт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kk</cp:lastModifiedBy>
  <dcterms:modified xsi:type="dcterms:W3CDTF">2008-03-23T17:01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