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938-D1E9-4038-B096-CB9CC915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8AE8-7D24-451D-AE16-02F6FFAC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136C-1756-4BAE-84E3-B2007F3C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822C-3DE3-44A0-9D86-20E6F344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C714-8623-4DEC-9F6A-767B5893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A88D-30CD-4E30-90C0-6488CC32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6B2B-4180-4B7B-9A7B-3C87E012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8507-C1FE-491D-9338-3D04BD2B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9B00-EC59-4305-ABFF-A2A56F12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C120-ACEB-4C19-9924-C4B9305F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878C-FA44-4A6B-9DF4-96598F19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51D-864F-4346-BBED-2080343F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3AD3-B436-4DDE-AD05-69C89245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B577-B653-41BE-8497-658BB82B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50ED-2FA6-4E78-B8B9-AA12278F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E984-C49F-4402-A7A7-430CB4A6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74E2-E956-4DEE-8F22-86E094B3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8D2F-3E21-417C-A658-ECB3F49F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F9F-60DB-44A8-9745-A62806EB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278-44E6-4500-906E-7C03AF03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1C4E-8E75-4DDF-B641-8FA2FE84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C52A-C0C2-4C37-BC8F-FE8D248A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406A-96C6-45E4-90A9-13E6C77D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0CAA-371D-49AE-AC98-03724E74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863F-FF57-4925-9609-B02C6A91D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E82B-53F0-4AA1-A6B6-5254D6D01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447920" y="533520"/>
            <a:ext cx="56386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редняя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еугольни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8098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изучения нов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6340320"/>
            <a:ext cx="32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c8cb4"/>
                </a:solidFill>
                <a:latin typeface="Arial"/>
              </a:rPr>
              <a:t>Подготовила учитель МОУ «Ломовская СОШ» О.М.Якуш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58422" t="78849" r="28332" b="7856"/>
          <a:stretch/>
        </p:blipFill>
        <p:spPr>
          <a:xfrm>
            <a:off x="2286000" y="304920"/>
            <a:ext cx="3886200" cy="2836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5800" y="3352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редняя линия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3809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сторон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4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47242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3см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5см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6см.                Определите стороны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4267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=2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E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=2</a:t>
            </a:r>
            <a:r>
              <a:rPr b="1" lang="ru-RU" sz="2400" spc="-1" strike="noStrike" baseline="30000">
                <a:solidFill>
                  <a:srgbClr val="660066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4=8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5562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=6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м,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=10см,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C=12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14400" y="36576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периметр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АВ=20см, ВС=18см, АС=19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50292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Р=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P+PK+MK=9,5+10+9=28,5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74582" t="9894" r="10978" b="72364"/>
          <a:stretch/>
        </p:blipFill>
        <p:spPr>
          <a:xfrm>
            <a:off x="2286000" y="220680"/>
            <a:ext cx="373392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447920" y="106668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машнее задание: п.62, задача 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3657600" y="2590920"/>
            <a:ext cx="1447920" cy="251460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2514600"/>
              <a:gd name="textAreaBottom" fmla="*/ 2421000 h 2514600"/>
            </a:gdLst>
            <a:ahLst/>
            <a:rect l="textAreaLeft" t="textAreaTop" r="textAreaRight" b="textAreaBottom"/>
            <a:pathLst>
              <a:path w="21600" h="37509">
                <a:moveTo>
                  <a:pt x="0" y="0"/>
                </a:moveTo>
                <a:lnTo>
                  <a:pt x="21600" y="0"/>
                </a:lnTo>
                <a:lnTo>
                  <a:pt x="21600" y="37509"/>
                </a:lnTo>
                <a:lnTo>
                  <a:pt x="0" y="37509"/>
                </a:lnTo>
                <a:close/>
              </a:path>
              <a:path fill="lightenLess" w="21600" h="375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509">
                <a:moveTo>
                  <a:pt x="21600" y="0"/>
                </a:moveTo>
                <a:lnTo>
                  <a:pt x="21600" y="37509"/>
                </a:lnTo>
                <a:lnTo>
                  <a:pt x="20200" y="36109"/>
                </a:lnTo>
                <a:lnTo>
                  <a:pt x="20200" y="1400"/>
                </a:lnTo>
                <a:close/>
              </a:path>
              <a:path fill="darkenLess" w="21600" h="37509">
                <a:moveTo>
                  <a:pt x="21600" y="37509"/>
                </a:moveTo>
                <a:lnTo>
                  <a:pt x="0" y="37509"/>
                </a:lnTo>
                <a:lnTo>
                  <a:pt x="1400" y="36109"/>
                </a:lnTo>
                <a:lnTo>
                  <a:pt x="20200" y="36109"/>
                </a:lnTo>
                <a:close/>
              </a:path>
              <a:path fill="lighten" w="21600" h="37509">
                <a:moveTo>
                  <a:pt x="0" y="37509"/>
                </a:moveTo>
                <a:lnTo>
                  <a:pt x="0" y="0"/>
                </a:lnTo>
                <a:lnTo>
                  <a:pt x="1400" y="1400"/>
                </a:lnTo>
                <a:lnTo>
                  <a:pt x="1400" y="36109"/>
                </a:lnTo>
                <a:close/>
              </a:path>
              <a:path fill="darken" w="21600" h="37509">
                <a:moveTo>
                  <a:pt x="10800" y="2275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7509">
                <a:moveTo>
                  <a:pt x="11905" y="22236"/>
                </a:moveTo>
                <a:lnTo>
                  <a:pt x="11905" y="20278"/>
                </a:lnTo>
                <a:cubicBezTo>
                  <a:pt x="11905" y="19451"/>
                  <a:pt x="12236" y="18754"/>
                  <a:pt x="12837" y="18754"/>
                </a:cubicBezTo>
                <a:cubicBezTo>
                  <a:pt x="13968" y="18754"/>
                  <a:pt x="14865" y="17388"/>
                  <a:pt x="14865" y="15804"/>
                </a:cubicBezTo>
                <a:cubicBezTo>
                  <a:pt x="14865" y="13489"/>
                  <a:pt x="13011" y="11748"/>
                  <a:pt x="10800" y="11748"/>
                </a:cubicBezTo>
                <a:cubicBezTo>
                  <a:pt x="8589" y="11748"/>
                  <a:pt x="6918" y="13489"/>
                  <a:pt x="6918" y="15804"/>
                </a:cubicBezTo>
                <a:lnTo>
                  <a:pt x="8772" y="15804"/>
                </a:lnTo>
                <a:cubicBezTo>
                  <a:pt x="8772" y="14664"/>
                  <a:pt x="9695" y="13776"/>
                  <a:pt x="10800" y="13776"/>
                </a:cubicBezTo>
                <a:cubicBezTo>
                  <a:pt x="11905" y="13776"/>
                  <a:pt x="12837" y="14664"/>
                  <a:pt x="12837" y="15804"/>
                </a:cubicBezTo>
                <a:cubicBezTo>
                  <a:pt x="12837" y="16544"/>
                  <a:pt x="12367" y="17275"/>
                  <a:pt x="11905" y="17275"/>
                </a:cubicBezTo>
                <a:cubicBezTo>
                  <a:pt x="10800" y="17275"/>
                  <a:pt x="9695" y="18754"/>
                  <a:pt x="9695" y="20278"/>
                </a:cubicBezTo>
                <a:lnTo>
                  <a:pt x="9695" y="22236"/>
                </a:lnTo>
                <a:close/>
              </a:path>
            </a:pathLst>
          </a:custGeom>
          <a:solidFill>
            <a:srgbClr val="cac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0" t="2160" r="0" b="0"/>
          <a:stretch/>
        </p:blipFill>
        <p:spPr>
          <a:xfrm>
            <a:off x="2286000" y="228600"/>
            <a:ext cx="3581280" cy="2940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7200" y="3200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аны треугольника пересекаются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в одной точ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делятся этой точкой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в отношении 2: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считая от верш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514600" y="4572000"/>
                <a:ext cx="411480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СО</m:t>
                        </m:r>
                      </m:num>
                      <m:den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О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О</m:t>
                        </m:r>
                      </m:num>
                      <m:den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О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</m:num>
                      <m:den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О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rcRect l="71435" t="76830" r="15810" b="7180"/>
          <a:stretch/>
        </p:blipFill>
        <p:spPr>
          <a:xfrm>
            <a:off x="1295280" y="533520"/>
            <a:ext cx="586764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0"/>
            <a:ext cx="861084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яснение к презент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слайд: Тема урока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слайд скрыт от пока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слайд: Решение задачи на использование имеющихся знаний учащихся, необходимых на уроке.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скомый отрезок является объектом изучения новой тем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слайд: Тема урока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слайд: Учащиеся выполняют построение треугольника в тетради, отмечают середины двух его сторон, проводят отрезок, который называется средней линией. Записывают определение в тетрад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слайд: Устное решение задач по теме уро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слайд: Построение всех средних линий в одном треугольнике. Вывод о их количест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слайд: Еще раз определение средней линии треуголь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слайд: Возврат к задаче, решенной в самом начале урока, которая позволяет выявить свойство средней линии треугольн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слайд: Теорема о средней линии треуголь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, 11 слайды: Устное решение задач на использование теоре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слайд: Домашнее задани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в зависимости от темпа урока слайды 13 и 14 не используютс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 слайд: Свойство медиан треуголь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слайд: Рисунок, используется для доказательства свойства медиан треуголь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слайд: Пояснени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слайд скрыт от показа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2571" t="5989" r="8684" b="7122"/>
          <a:stretch/>
        </p:blipFill>
        <p:spPr>
          <a:xfrm>
            <a:off x="1295280" y="1371600"/>
            <a:ext cx="6858000" cy="2882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19320" y="533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длину отрез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990720" y="4572000"/>
            <a:ext cx="7238880" cy="425520"/>
            <a:chOff x="990720" y="4572000"/>
            <a:chExt cx="7238880" cy="425520"/>
          </a:xfrm>
        </p:grpSpPr>
        <p:grpSp>
          <p:nvGrpSpPr>
            <p:cNvPr id="106" name=""/>
            <p:cNvGrpSpPr/>
            <p:nvPr/>
          </p:nvGrpSpPr>
          <p:grpSpPr>
            <a:xfrm>
              <a:off x="990720" y="4572000"/>
              <a:ext cx="2286000" cy="425520"/>
              <a:chOff x="990720" y="4572000"/>
              <a:chExt cx="2286000" cy="425520"/>
            </a:xfrm>
          </p:grpSpPr>
          <mc:AlternateContent>
            <mc:Choice xmlns:a14="http://schemas.microsoft.com/office/drawing/2010/main" Requires="a14">
              <p:sp>
                <p:nvSpPr>
                  <p:cNvPr id="107" name=""/>
                  <p:cNvSpPr txBox="1"/>
                  <p:nvPr/>
                </p:nvSpPr>
                <p:spPr>
                  <a:xfrm>
                    <a:off x="990720" y="4572000"/>
                    <a:ext cx="99036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KLM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8" name=""/>
                  <p:cNvSpPr txBox="1"/>
                  <p:nvPr/>
                </p:nvSpPr>
                <p:spPr>
                  <a:xfrm>
                    <a:off x="2286000" y="4572000"/>
                    <a:ext cx="990720" cy="42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KQN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9" name=""/>
            <p:cNvSpPr/>
            <p:nvPr/>
          </p:nvSpPr>
          <p:spPr>
            <a:xfrm>
              <a:off x="1905120" y="4572000"/>
              <a:ext cx="632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                    - подобны по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изнаку подобия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80880" y="5029200"/>
                <a:ext cx="23623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19520" y="5029200"/>
            <a:ext cx="1917720" cy="822240"/>
            <a:chOff x="2819520" y="5029200"/>
            <a:chExt cx="1917720" cy="822240"/>
          </a:xfrm>
        </p:grpSpPr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3276720" y="5029200"/>
                  <a:ext cx="1460520" cy="82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KL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KQ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KM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K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2819520" y="525780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8c8c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800600" y="4952880"/>
            <a:ext cx="1600200" cy="836640"/>
            <a:chOff x="4800600" y="4952880"/>
            <a:chExt cx="1600200" cy="836640"/>
          </a:xfrm>
        </p:grpSpPr>
        <p:sp>
          <p:nvSpPr>
            <p:cNvPr id="119" name=""/>
            <p:cNvSpPr/>
            <p:nvPr/>
          </p:nvSpPr>
          <p:spPr>
            <a:xfrm>
              <a:off x="4800600" y="525780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8c8c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5257800" y="4952880"/>
                  <a:ext cx="114300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400800" y="5181480"/>
            <a:ext cx="2286000" cy="435240"/>
            <a:chOff x="6400800" y="5181480"/>
            <a:chExt cx="2286000" cy="435240"/>
          </a:xfrm>
        </p:grpSpPr>
        <p:grpSp>
          <p:nvGrpSpPr>
            <p:cNvPr id="124" name=""/>
            <p:cNvGrpSpPr/>
            <p:nvPr/>
          </p:nvGrpSpPr>
          <p:grpSpPr>
            <a:xfrm>
              <a:off x="6400800" y="5181480"/>
              <a:ext cx="1752480" cy="435240"/>
              <a:chOff x="6400800" y="5181480"/>
              <a:chExt cx="1752480" cy="435240"/>
            </a:xfrm>
          </p:grpSpPr>
          <p:sp>
            <p:nvSpPr>
              <p:cNvPr id="125" name=""/>
              <p:cNvSpPr/>
              <p:nvPr/>
            </p:nvSpPr>
            <p:spPr>
              <a:xfrm>
                <a:off x="6400800" y="5257800"/>
                <a:ext cx="380880" cy="304920"/>
              </a:xfrm>
              <a:prstGeom prst="rightArrow">
                <a:avLst>
                  <a:gd name="adj1" fmla="val 50000"/>
                  <a:gd name="adj2" fmla="val 31228"/>
                </a:avLst>
              </a:prstGeom>
              <a:solidFill>
                <a:srgbClr val="8c8cb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6" name=""/>
                  <p:cNvSpPr txBox="1"/>
                  <p:nvPr/>
                </p:nvSpPr>
                <p:spPr>
                  <a:xfrm>
                    <a:off x="6781680" y="5181480"/>
                    <a:ext cx="1371600" cy="435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7" name=""/>
            <p:cNvSpPr/>
            <p:nvPr/>
          </p:nvSpPr>
          <p:spPr>
            <a:xfrm>
              <a:off x="8305920" y="525780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8c8c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80880" y="6172200"/>
            <a:ext cx="1447920" cy="385920"/>
            <a:chOff x="380880" y="6172200"/>
            <a:chExt cx="1447920" cy="385920"/>
          </a:xfrm>
        </p:grpSpPr>
        <p:sp>
          <p:nvSpPr>
            <p:cNvPr id="129" name=""/>
            <p:cNvSpPr/>
            <p:nvPr/>
          </p:nvSpPr>
          <p:spPr>
            <a:xfrm>
              <a:off x="380880" y="6172200"/>
              <a:ext cx="381240" cy="304920"/>
            </a:xfrm>
            <a:prstGeom prst="rightArrow">
              <a:avLst>
                <a:gd name="adj1" fmla="val 50000"/>
                <a:gd name="adj2" fmla="val 31257"/>
              </a:avLst>
            </a:prstGeom>
            <a:solidFill>
              <a:srgbClr val="8c8c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914400" y="6172200"/>
                  <a:ext cx="91440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905120" y="6172200"/>
            <a:ext cx="1828800" cy="426960"/>
            <a:chOff x="1905120" y="6172200"/>
            <a:chExt cx="1828800" cy="426960"/>
          </a:xfrm>
        </p:grpSpPr>
        <p:sp>
          <p:nvSpPr>
            <p:cNvPr id="133" name=""/>
            <p:cNvSpPr/>
            <p:nvPr/>
          </p:nvSpPr>
          <p:spPr>
            <a:xfrm>
              <a:off x="1905120" y="6248520"/>
              <a:ext cx="380880" cy="304560"/>
            </a:xfrm>
            <a:prstGeom prst="rightArrow">
              <a:avLst>
                <a:gd name="adj1" fmla="val 50000"/>
                <a:gd name="adj2" fmla="val 31265"/>
              </a:avLst>
            </a:prstGeom>
            <a:solidFill>
              <a:srgbClr val="8c8c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2362320" y="6172200"/>
                  <a:ext cx="137160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38480" y="6172200"/>
            <a:ext cx="4594320" cy="380880"/>
            <a:chOff x="4038480" y="6172200"/>
            <a:chExt cx="4594320" cy="380880"/>
          </a:xfrm>
        </p:grpSpPr>
        <p:sp>
          <p:nvSpPr>
            <p:cNvPr id="137" name=""/>
            <p:cNvSpPr/>
            <p:nvPr/>
          </p:nvSpPr>
          <p:spPr>
            <a:xfrm>
              <a:off x="4038480" y="6248520"/>
              <a:ext cx="381240" cy="304560"/>
            </a:xfrm>
            <a:prstGeom prst="rightArrow">
              <a:avLst>
                <a:gd name="adj1" fmla="val 50000"/>
                <a:gd name="adj2" fmla="val 31294"/>
              </a:avLst>
            </a:prstGeom>
            <a:solidFill>
              <a:srgbClr val="8c8c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4724280" y="6172200"/>
                  <a:ext cx="3908520" cy="3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N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KM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9" name=""/>
          <p:cNvSpPr/>
          <p:nvPr/>
        </p:nvSpPr>
        <p:spPr>
          <a:xfrm>
            <a:off x="54864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352680" y="2819520"/>
            <a:ext cx="1447920" cy="106668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600200" y="2209680"/>
            <a:ext cx="56386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редняя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еугольни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4389" t="0" r="0" b="0"/>
          <a:stretch/>
        </p:blipFill>
        <p:spPr>
          <a:xfrm>
            <a:off x="2590920" y="325440"/>
            <a:ext cx="3352680" cy="2509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95280" y="33526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редняя линия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4495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Средней линией треугольника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называется отрезок, соединяющий середины двух его сто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2276" t="3009" r="6814" b="3815"/>
          <a:stretch/>
        </p:blipFill>
        <p:spPr>
          <a:xfrm>
            <a:off x="2590920" y="228600"/>
            <a:ext cx="3429000" cy="265752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2895480" y="1219320"/>
            <a:ext cx="2362320" cy="304560"/>
            <a:chOff x="2895480" y="1219320"/>
            <a:chExt cx="2362320" cy="30456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2895480" y="1219320"/>
              <a:ext cx="27144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4952880" y="1219320"/>
              <a:ext cx="304920" cy="28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3352680" y="1523880"/>
            <a:ext cx="1524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0066"/>
                                      </p:to>
                                    </p:animClr>
                                    <p:set>
                                      <p:cBhvr>
                                        <p:cTn id="12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8067" t="10260" r="81615" b="75477"/>
          <a:stretch/>
        </p:blipFill>
        <p:spPr>
          <a:xfrm>
            <a:off x="762120" y="228600"/>
            <a:ext cx="2501640" cy="2514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33273" t="12067" r="51843" b="74727"/>
          <a:stretch/>
        </p:blipFill>
        <p:spPr>
          <a:xfrm>
            <a:off x="609480" y="4267080"/>
            <a:ext cx="3048120" cy="1967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rcRect l="18233" t="11729" r="66926" b="74727"/>
          <a:stretch/>
        </p:blipFill>
        <p:spPr>
          <a:xfrm>
            <a:off x="5334120" y="762120"/>
            <a:ext cx="2895480" cy="1922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457200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редняя линия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 = 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 = 1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. Чему равны отрез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K, KF, FL, 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33520" y="4572000"/>
            <a:ext cx="2666880" cy="1130400"/>
            <a:chOff x="533520" y="4572000"/>
            <a:chExt cx="2666880" cy="1130400"/>
          </a:xfrm>
        </p:grpSpPr>
        <p:sp>
          <p:nvSpPr>
            <p:cNvPr id="156" name=""/>
            <p:cNvSpPr/>
            <p:nvPr/>
          </p:nvSpPr>
          <p:spPr>
            <a:xfrm>
              <a:off x="990720" y="46483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3520" y="53341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95480" y="518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81080" y="45720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28600" y="2895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ли отрез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редней линией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28195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ли отрез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редней линией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38080" y="609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йте среднюю линию данного тре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295280" y="1143000"/>
            <a:ext cx="7086600" cy="4041000"/>
            <a:chOff x="1295280" y="1143000"/>
            <a:chExt cx="7086600" cy="4041000"/>
          </a:xfrm>
        </p:grpSpPr>
        <p:sp>
          <p:nvSpPr>
            <p:cNvPr id="164" name=""/>
            <p:cNvSpPr/>
            <p:nvPr/>
          </p:nvSpPr>
          <p:spPr>
            <a:xfrm>
              <a:off x="1828800" y="1676520"/>
              <a:ext cx="6019920" cy="3276360"/>
            </a:xfrm>
            <a:prstGeom prst="triangle">
              <a:avLst>
                <a:gd name="adj" fmla="val 24579"/>
              </a:avLst>
            </a:prstGeom>
            <a:solidFill>
              <a:srgbClr val="bebed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9528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48720" y="4648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240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981080" y="2895480"/>
            <a:ext cx="4267440" cy="536040"/>
            <a:chOff x="1981080" y="2895480"/>
            <a:chExt cx="4267440" cy="536040"/>
          </a:xfrm>
        </p:grpSpPr>
        <p:sp>
          <p:nvSpPr>
            <p:cNvPr id="169" name=""/>
            <p:cNvSpPr/>
            <p:nvPr/>
          </p:nvSpPr>
          <p:spPr>
            <a:xfrm>
              <a:off x="5715000" y="2895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81080" y="2971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90920" y="3352680"/>
              <a:ext cx="2971800" cy="0"/>
            </a:xfrm>
            <a:prstGeom prst="line">
              <a:avLst/>
            </a:prstGeom>
            <a:ln w="57240">
              <a:solidFill>
                <a:srgbClr val="9e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H="1">
            <a:off x="4723920" y="3352680"/>
            <a:ext cx="838440" cy="1600200"/>
          </a:xfrm>
          <a:prstGeom prst="line">
            <a:avLst/>
          </a:prstGeom>
          <a:ln w="57240">
            <a:solidFill>
              <a:srgbClr val="9e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590920" y="3352680"/>
            <a:ext cx="2438280" cy="2136240"/>
            <a:chOff x="2590920" y="3352680"/>
            <a:chExt cx="2438280" cy="2136240"/>
          </a:xfrm>
        </p:grpSpPr>
        <p:sp>
          <p:nvSpPr>
            <p:cNvPr id="174" name=""/>
            <p:cNvSpPr/>
            <p:nvPr/>
          </p:nvSpPr>
          <p:spPr>
            <a:xfrm>
              <a:off x="4495680" y="5029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3352680"/>
              <a:ext cx="2133360" cy="1600200"/>
            </a:xfrm>
            <a:prstGeom prst="line">
              <a:avLst/>
            </a:prstGeom>
            <a:ln w="57240">
              <a:solidFill>
                <a:srgbClr val="9e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09480" y="55627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В любом треугольнике можно постро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средние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609480" y="2209680"/>
            <a:ext cx="8001000" cy="1556280"/>
          </a:xfrm>
          <a:prstGeom prst="rect">
            <a:avLst/>
          </a:prstGeom>
          <a:solidFill>
            <a:srgbClr val="a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Средней линией треугольника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называется отрезок, соединяющий середины двух его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295280" y="533520"/>
            <a:ext cx="6858000" cy="2882880"/>
            <a:chOff x="1295280" y="533520"/>
            <a:chExt cx="6858000" cy="288288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rcRect l="2571" t="5989" r="8684" b="7122"/>
            <a:stretch/>
          </p:blipFill>
          <p:spPr>
            <a:xfrm>
              <a:off x="1295280" y="533520"/>
              <a:ext cx="6858000" cy="28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486400" y="12193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838080" y="3809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яя линий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параллель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ретьей стор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5562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яя линия равна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полов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ретьей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44197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514600" y="4495680"/>
                <a:ext cx="342900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2cb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914400" y="1828800"/>
            <a:ext cx="7010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Средняя линия треугольника 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параллельна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одной из его сторон и равна 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половине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этой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akk</cp:lastModifiedBy>
  <dcterms:modified xsi:type="dcterms:W3CDTF">2008-03-23T17:01:5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