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camera.wav" ContentType="audio/x-wav"/>
  <Override PartName="/ppt/media/image7.png" ContentType="image/png"/>
  <Override PartName="/ppt/media/image5.png" ContentType="image/png"/>
  <Override PartName="/ppt/media/image10.png" ContentType="image/png"/>
  <Override PartName="/ppt/media/applause.wav" ContentType="audio/x-wav"/>
  <Override PartName="/ppt/media/drumroll.wav" ContentType="audio/x-wav"/>
  <Override PartName="/ppt/media/image1.png" ContentType="image/png"/>
  <Override PartName="/ppt/media/image3.png" ContentType="image/png"/>
  <Override PartName="/ppt/media/image8.png" ContentType="image/png"/>
  <Override PartName="/ppt/media/image2.png" ContentType="image/png"/>
  <Override PartName="/ppt/media/image4.jpeg" ContentType="image/jpeg"/>
  <Override PartName="/ppt/media/clap.wav" ContentType="audio/x-wav"/>
  <Override PartName="/ppt/media/chimes.wav" ContentType="audio/x-wav"/>
  <Override PartName="/ppt/media/ricochet.wav" ContentType="audio/x-wav"/>
  <Override PartName="/ppt/media/image6.wmf" ContentType="image/x-wmf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643A-D53C-4087-AE18-912128639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5987-3B66-4966-9615-E86390F7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4878-E52D-4FE2-AF1B-8C947C457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DE58-B570-4C81-B6B7-8CA6D4739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255B-6C87-426F-8D0C-73B9356D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02B1-3341-41C0-9D48-8A0394E5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C555-BF29-4F45-94C5-44DDAD6A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2D48-3118-40C3-A7B4-0074FB5F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C6B1-7406-41D4-95E8-9FCE8429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E720-2C55-4C22-ACDE-AEC64911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52FA-B1FA-40CD-ADA1-6762F146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35F4-D9E2-4A48-9A96-7E036E4E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CC99-DD1D-4F48-9A07-B48C88C8106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ricochet.wav"/><Relationship Id="rId4" Type="http://schemas.openxmlformats.org/officeDocument/2006/relationships/audio" Target="../media/ricochet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очинение команды «Ах!» школы №79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038480" y="3809520"/>
            <a:ext cx="51055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до непременн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стряхивать себя физически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тобы быть здоровыми нравственн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.Н.Толст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4" descr="C:\Documents and Settings\Администратор\Рабочий стол\школа\030.gif"/>
          <p:cNvPicPr/>
          <p:nvPr/>
        </p:nvPicPr>
        <p:blipFill>
          <a:blip r:embed="rId1"/>
          <a:stretch/>
        </p:blipFill>
        <p:spPr>
          <a:xfrm>
            <a:off x="228600" y="1600200"/>
            <a:ext cx="3846600" cy="4572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1143000" y="83808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«О спорт, ты благородство!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6000">
    <p:blinds dir="horz"/>
    <p:sndAc>
      <p:stSnd>
        <p:snd r:embed="rId2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C:\Documents and Settings\Администратор\Рабочий стол\школа\002.gif"/>
          <p:cNvPicPr/>
          <p:nvPr/>
        </p:nvPicPr>
        <p:blipFill>
          <a:blip r:embed="rId1"/>
          <a:stretch/>
        </p:blipFill>
        <p:spPr>
          <a:xfrm>
            <a:off x="0" y="533520"/>
            <a:ext cx="3809880" cy="25779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3886200" y="0"/>
            <a:ext cx="52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ловек- творение природы. Но для того чтобы наслаждаться её сокровищами, он должен отвечать по крайне мере одному требованию: быть здоровым, физически и нравственно. Это аксиома, про которую мы в суете дней, увы, элементарно забываем. А, ведь здоровь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это не столько природный дар, сколько плод собственных усили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4" descr="C:\Documents and Settings\Администратор\Рабочий стол\школа\004.gif"/>
          <p:cNvPicPr/>
          <p:nvPr/>
        </p:nvPicPr>
        <p:blipFill>
          <a:blip r:embed="rId2"/>
          <a:stretch/>
        </p:blipFill>
        <p:spPr>
          <a:xfrm>
            <a:off x="5410080" y="4114800"/>
            <a:ext cx="3349800" cy="25606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0" y="3844800"/>
            <a:ext cx="4952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мотрите на спортсменов, как они прекрасно выглядят: красивы, стройны, пластичны, сильны… и благородны. Спортсмены, мне кажется, всегда готовы дарить благо другим, потому что они сильные физически, и у них очень высоко развита нравственная сторона душ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6000">
    <p:wipe dir="d"/>
    <p:sndAc>
      <p:stSnd>
        <p:snd r:embed="rId3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895480" y="0"/>
            <a:ext cx="624852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не однажды посчастливилось увидеть, как рано утром тренировались спортсмены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н и она. Скорее всего эти двое были влюблены не только в спорт…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ходило солнце.  И они бежали, кажется, на каждом шаге касаясь его розового шара. На фоне свежего чистого солнечного сияния движения бегунов были воздушными, словно бы бег уже не умещался в пределах, отведённых земным тяготением, а обращался в полёт. Неважно, как выглядели  эти двое, какого они роста, какого цвета у них глаза, волосы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эти двое были прекрасны, а их лёгкий утренний бег в нежно розовом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ете остался в моей памяти как метафора молодости, здоровья, согласия и благородства. И бежали они рядом, вместе брали крутой подъём, поддерживали единый ритм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разве это не свидетельство согласия? Это единомышленники и друзья. Но спорт знает примеры благородства и среди соперников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4" descr="C:\картинки\МОРЕ\SEA_0007.JPG"/>
          <p:cNvPicPr/>
          <p:nvPr/>
        </p:nvPicPr>
        <p:blipFill>
          <a:blip r:embed="rId1"/>
          <a:stretch/>
        </p:blipFill>
        <p:spPr>
          <a:xfrm>
            <a:off x="-15840" y="380880"/>
            <a:ext cx="2911320" cy="6096240"/>
          </a:xfrm>
          <a:prstGeom prst="rect">
            <a:avLst/>
          </a:prstGeom>
          <a:ln w="0">
            <a:noFill/>
          </a:ln>
        </p:spPr>
      </p:pic>
    </p:spTree>
  </p:cSld>
  <p:transition advTm="21000">
    <p:wipe dir="r"/>
    <p:sndAc>
      <p:stSnd>
        <p:snd r:embed="rId2" name="chimes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304920"/>
            <a:ext cx="48769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II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лимпийских играх оказались рядом Виктор Капитанов, член сборной команды СССР совсем мало известный в спорте, и фаворит в велосипедного спорта Ливно Трапе. Пошли вместе, помогая друг другу. Прохрипит Трапе: «Пилено!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и выйдет вперёд Капитанов, прикроет спиной от знойного ветра итальянца, даст передохнуть. «Давай!» - говорит Капитанов, и Трапе послушно берёт бремя лидирующего на себя. Оторвались, ушли.   Золотая медаль теперь только и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Picture 3" descr="C:\Documents and Settings\Администратор\Рабочий стол\школа\009.gif"/>
          <p:cNvPicPr/>
          <p:nvPr/>
        </p:nvPicPr>
        <p:blipFill>
          <a:blip r:embed="rId1"/>
          <a:stretch/>
        </p:blipFill>
        <p:spPr>
          <a:xfrm>
            <a:off x="4795920" y="838080"/>
            <a:ext cx="4348080" cy="4724640"/>
          </a:xfrm>
          <a:prstGeom prst="rect">
            <a:avLst/>
          </a:prstGeom>
          <a:ln w="0">
            <a:noFill/>
          </a:ln>
        </p:spPr>
      </p:pic>
    </p:spTree>
  </p:cSld>
  <p:transition advTm="16000">
    <p:cover dir="lu"/>
    <p:sndAc>
      <p:stSnd>
        <p:snd r:embed="rId2" name="chimes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лько на последнем круге был нарушен закон спортивного благородства и честной борьбы. Трапе остался за спиной Капитанова  отдыхать. До финиша всего лишь 250 метров. Трапе рванулся вперёд. Всего 20 метров  его отделяют от победы. И тогда Капитанов встал с седла на педали… Через несколько секунд он стал советским олимпийским чемпионом в велосипедных гонках. Рим вручал ему золотую медаль. Москва отметила его подвиг орденом. А я думаю, он победил потому, что был честен и благороден до конца, и победа – это его наград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юбая победа, и в спорте, и жизни, начинается прежде всего с победы над собо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Picture 4" descr="C:\Program Files\Common Files\Microsoft Shared\Clipart\cagcat50\PE01562_.wmf"/>
          <p:cNvPicPr/>
          <p:nvPr/>
        </p:nvPicPr>
        <p:blipFill>
          <a:blip r:embed="rId1"/>
          <a:stretch/>
        </p:blipFill>
        <p:spPr>
          <a:xfrm>
            <a:off x="2917800" y="3733920"/>
            <a:ext cx="2967120" cy="3124080"/>
          </a:xfrm>
          <a:prstGeom prst="rect">
            <a:avLst/>
          </a:prstGeom>
          <a:ln w="0">
            <a:noFill/>
          </a:ln>
        </p:spPr>
      </p:pic>
    </p:spTree>
  </p:cSld>
  <p:transition advTm="20000">
    <p:cover dir="ru"/>
    <p:sndAc>
      <p:stSnd>
        <p:snd r:embed="rId2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384480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отдаю дань благородству Виктора  Ивановича Чунарина. Это чемпион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V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VI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лимпийский игр в упражнениях  на брусьях. Человек он очень и очень добрый, хотя пришлось ему пережить фашистский плен, узнать концлагеря и жестокость. Уже  будучи абсолютным олимпийским чемпионом, Виктор Иванович оставался предельно скромным , никогда и мысли не допускал о том, что к нему может быть какое-то иное отношение, чем к новичкам сборной, что у него могут быть какие-то привилеги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3" descr="C:\Documents and Settings\Администратор\Рабочий стол\школа\007.gif"/>
          <p:cNvPicPr/>
          <p:nvPr/>
        </p:nvPicPr>
        <p:blipFill>
          <a:blip r:embed="rId1"/>
          <a:stretch/>
        </p:blipFill>
        <p:spPr>
          <a:xfrm>
            <a:off x="5334120" y="0"/>
            <a:ext cx="3024000" cy="3733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Documents and Settings\Администратор\Рабочий стол\школа\020.gif"/>
          <p:cNvPicPr/>
          <p:nvPr/>
        </p:nvPicPr>
        <p:blipFill>
          <a:blip r:embed="rId2"/>
          <a:stretch/>
        </p:blipFill>
        <p:spPr>
          <a:xfrm>
            <a:off x="685800" y="0"/>
            <a:ext cx="3174840" cy="3809880"/>
          </a:xfrm>
          <a:prstGeom prst="rect">
            <a:avLst/>
          </a:prstGeom>
          <a:ln w="0">
            <a:noFill/>
          </a:ln>
        </p:spPr>
      </p:pic>
    </p:spTree>
  </p:cSld>
  <p:transition advTm="16000">
    <p:strips dir="lu"/>
    <p:sndAc>
      <p:stSnd>
        <p:snd r:embed="rId3" name="ricochet.wav"/>
      </p:stSnd>
    </p:sndAc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агодаря Чунарину в сборной пятидесятых годов каждый спортсмен имел своё творческое лицо. Чунарин человек – легенда. Он и сейчас остаётся примером для молодых спортсменов. А спортивное благородство Виктор Иванович проявил уже в том, что вывел на помост  своего лучшего ученик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олодю Сафронов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Picture 3" descr="C:\Documents and Settings\Администратор\Рабочий стол\школа\001.gif"/>
          <p:cNvPicPr/>
          <p:nvPr/>
        </p:nvPicPr>
        <p:blipFill>
          <a:blip r:embed="rId1"/>
          <a:stretch/>
        </p:blipFill>
        <p:spPr>
          <a:xfrm>
            <a:off x="1447920" y="2182680"/>
            <a:ext cx="5790960" cy="42087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zoom dir="out"/>
    <p:sndAc>
      <p:stSnd>
        <p:snd r:embed="rId2" name="applause.wav"/>
      </p:stSnd>
    </p:sndAc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3581280" y="4419720"/>
            <a:ext cx="55627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тренерской работе и Ольга Корбут и много других. Они хотят быть полезными людям, стране, честь которой защищали  на спортивных аренах. Как это благородно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Picture 3" descr="C:\Documents and Settings\Администратор\Рабочий стол\школа\008.gif"/>
          <p:cNvPicPr/>
          <p:nvPr/>
        </p:nvPicPr>
        <p:blipFill>
          <a:blip r:embed="rId1"/>
          <a:stretch/>
        </p:blipFill>
        <p:spPr>
          <a:xfrm>
            <a:off x="0" y="0"/>
            <a:ext cx="3276720" cy="2347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Documents and Settings\Администратор\Рабочий стол\школа\006.gif"/>
          <p:cNvPicPr/>
          <p:nvPr/>
        </p:nvPicPr>
        <p:blipFill>
          <a:blip r:embed="rId2"/>
          <a:stretch/>
        </p:blipFill>
        <p:spPr>
          <a:xfrm>
            <a:off x="0" y="4219560"/>
            <a:ext cx="3276720" cy="26384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3657600" y="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порте нельзя «жить вечно». Годы берут своё, спортсмены  покидают корты, помосты, дорожки и т.д. Но их призвание – спорт - приводит к тренерской работ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80880" y="2286000"/>
            <a:ext cx="792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талья Кучинская, Полина Астахова обучали детей в спортшколе в Киеве, Михаил Воронин избирался заместителем председателя федерации гимнастики,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куль организовал медицинский центр по восстановлению опорно-двигательной систем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5000">
    <p:wipe dir="u"/>
    <p:sndAc>
      <p:stSnd>
        <p:snd r:embed="rId3" name="clap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08:47:43Z</dcterms:created>
  <dc:creator>Малярова</dc:creator>
  <dc:description/>
  <dc:language>en-US</dc:language>
  <cp:lastModifiedBy>ZooM</cp:lastModifiedBy>
  <dcterms:modified xsi:type="dcterms:W3CDTF">2013-12-03T20:48:45Z</dcterms:modified>
  <cp:revision>22</cp:revision>
  <dc:subject/>
  <dc:title>Сочинение команды «Ах!»  школы №79  </dc:title>
</cp:coreProperties>
</file>