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camera.wav" ContentType="audio/x-wav"/>
  <Override PartName="/ppt/media/image7.png" ContentType="image/png"/>
  <Override PartName="/ppt/media/image5.png" ContentType="image/png"/>
  <Override PartName="/ppt/media/image10.png" ContentType="image/png"/>
  <Override PartName="/ppt/media/applause.wav" ContentType="audio/x-wav"/>
  <Override PartName="/ppt/media/drumroll.wav" ContentType="audio/x-wav"/>
  <Override PartName="/ppt/media/image1.png" ContentType="image/png"/>
  <Override PartName="/ppt/media/image3.png" ContentType="image/png"/>
  <Override PartName="/ppt/media/image8.png" ContentType="image/png"/>
  <Override PartName="/ppt/media/image2.png" ContentType="image/png"/>
  <Override PartName="/ppt/media/image4.jpeg" ContentType="image/jpeg"/>
  <Override PartName="/ppt/media/clap.wav" ContentType="audio/x-wav"/>
  <Override PartName="/ppt/media/chimes.wav" ContentType="audio/x-wav"/>
  <Override PartName="/ppt/media/ricochet.wav" ContentType="audio/x-wav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AD7-BD70-4FC3-A331-24A69A3B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45A-8F6A-419B-8037-2F3DE0DF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FAB-7046-4A38-8AB8-2DAD470F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3EC-51D8-41B7-A241-0EBB7FC5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F36-8416-4628-BDAF-02A64282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1C8-536C-492F-96B0-CE3F3D74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CFF-B8FB-4D5A-A66E-3FED5B26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5D7-8AE5-4903-8410-C720C8E4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EE8-109A-4B95-832D-C6096E18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A84-C92B-4F96-97E7-6B21A627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13D-0202-45D5-9010-33F3A1BB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E04-FD31-4264-A4AD-44308D7B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27EE-703A-4202-BCB5-A9C9A8BD93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чинение команды «Ах!» школы №79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480" y="3809520"/>
            <a:ext cx="51055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до непремен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тряхивать себя физическ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быть здоровыми нравствен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.Н.Толст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C:\Documents and Settings\Администратор\Рабочий стол\школа\030.gif"/>
          <p:cNvPicPr/>
          <p:nvPr/>
        </p:nvPicPr>
        <p:blipFill>
          <a:blip r:embed="rId1"/>
          <a:stretch/>
        </p:blipFill>
        <p:spPr>
          <a:xfrm>
            <a:off x="228600" y="1600200"/>
            <a:ext cx="384660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143000" y="8380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«О спорт, ты благородство!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blinds dir="horz"/>
    <p:sndAc>
      <p:stSnd>
        <p:snd r:embed="rId2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Documents and Settings\Администратор\Рабочий стол\школа\002.gif"/>
          <p:cNvPicPr/>
          <p:nvPr/>
        </p:nvPicPr>
        <p:blipFill>
          <a:blip r:embed="rId1"/>
          <a:stretch/>
        </p:blipFill>
        <p:spPr>
          <a:xfrm>
            <a:off x="0" y="533520"/>
            <a:ext cx="3809880" cy="2577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3886200" y="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- творение природы. Но для того чтобы наслаждаться её сокровищами, он должен отвечать по крайне мере одному требованию: быть здоровым, физически и нравственно. Это аксиома, про которую мы в суете дней, увы, элементарно забываем. А, ведь здоровь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это не столько природный дар, сколько плод собственных усил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4" descr="C:\Documents and Settings\Администратор\Рабочий стол\школа\004.gif"/>
          <p:cNvPicPr/>
          <p:nvPr/>
        </p:nvPicPr>
        <p:blipFill>
          <a:blip r:embed="rId2"/>
          <a:stretch/>
        </p:blipFill>
        <p:spPr>
          <a:xfrm>
            <a:off x="5410080" y="4114800"/>
            <a:ext cx="3349800" cy="2560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3844800"/>
            <a:ext cx="4952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мотрите на спортсменов, как они прекрасно выглядят: красивы, стройны, пластичны, сильны… и благородны. Спортсмены, мне кажется, всегда готовы дарить благо другим, потому что они сильные физически, и у них очень высоко развита нравственная сторона душ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6000">
    <p:wipe dir="d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895480" y="0"/>
            <a:ext cx="62485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 однажды посчастливилось увидеть, как рано утром тренировались спортсмены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н и она. Скорее всего эти двое были влюблены не только в спорт…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ходило солнце.  И они бежали, кажется, на каждом шаге касаясь его розового шара. На фоне свежего чистого солнечного сияния движения бегунов были воздушными, словно бы бег уже не умещался в пределах, отведённых земным тяготением, а обращался в полёт. Неважно, как выглядели  эти двое, какого они роста, какого цвета у них глаза, волосы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эти двое были прекрасны, а их лёгкий утренний бег в нежно розовом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е остался в моей памяти как метафора молодости, здоровья, согласия и благородства. И бежали они рядом, вместе брали крутой подъём, поддерживали единый ритм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разве это не свидетельство согласия? Это единомышленники и друзья. Но спорт знает примеры благородства и среди соперник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C:\картинки\МОРЕ\SEA_0007.JPG"/>
          <p:cNvPicPr/>
          <p:nvPr/>
        </p:nvPicPr>
        <p:blipFill>
          <a:blip r:embed="rId1"/>
          <a:stretch/>
        </p:blipFill>
        <p:spPr>
          <a:xfrm>
            <a:off x="-15840" y="380880"/>
            <a:ext cx="2911320" cy="6096240"/>
          </a:xfrm>
          <a:prstGeom prst="rect">
            <a:avLst/>
          </a:prstGeom>
          <a:ln w="0">
            <a:noFill/>
          </a:ln>
        </p:spPr>
      </p:pic>
    </p:spTree>
  </p:cSld>
  <p:transition advTm="21000">
    <p:wipe dir="r"/>
    <p:sndAc>
      <p:stSnd>
        <p:snd r:embed="rId2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304920"/>
            <a:ext cx="4876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лимпийских играх оказались рядом Виктор Капитанов, член сборной команды СССР совсем мало известный в спорте, и фаворит в велосипедного спорта Ливно Трапе. Пошли вместе, помогая друг другу. Прохрипит Трапе: «Пилено!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 выйдет вперёд Капитанов, прикроет спиной от знойного ветра итальянца, даст передохнуть. «Давай!» - говорит Капитанов, и Трапе послушно берёт бремя лидирующего на себя. Оторвались, ушли.   Золотая медаль теперь только и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3" descr="C:\Documents and Settings\Администратор\Рабочий стол\школа\009.gif"/>
          <p:cNvPicPr/>
          <p:nvPr/>
        </p:nvPicPr>
        <p:blipFill>
          <a:blip r:embed="rId1"/>
          <a:stretch/>
        </p:blipFill>
        <p:spPr>
          <a:xfrm>
            <a:off x="4795920" y="838080"/>
            <a:ext cx="4348080" cy="472464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lu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ько на последнем круге был нарушен закон спортивного благородства и честной борьбы. Трапе остался за спиной Капитанова  отдыхать. До финиша всего лишь 250 метров. Трапе рванулся вперёд. Всего 20 метров  его отделяют от победы. И тогда Капитанов встал с седла на педали… Через несколько секунд он стал советским олимпийским чемпионом в велосипедных гонках. Рим вручал ему золотую медаль. Москва отметила его подвиг орденом. А я думаю, он победил потому, что был честен и благороден до конца, и победа – это его награ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ая победа, и в спорте, и жизни, начинается прежде всего с победы над соб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4" descr="C:\Program Files\Common Files\Microsoft Shared\Clipart\cagcat50\PE01562_.wmf"/>
          <p:cNvPicPr/>
          <p:nvPr/>
        </p:nvPicPr>
        <p:blipFill>
          <a:blip r:embed="rId1"/>
          <a:stretch/>
        </p:blipFill>
        <p:spPr>
          <a:xfrm>
            <a:off x="2917800" y="3733920"/>
            <a:ext cx="2967120" cy="312408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u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38448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отдаю дань благородству Виктора  Ивановича Чунарина. Это чемпио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лимпийский игр в упражнениях  на брусьях. Человек он очень и очень добрый, хотя пришлось ему пережить фашистский плен, узнать концлагеря и жестокость. Уже  будучи абсолютным олимпийским чемпионом, Виктор Иванович оставался предельно скромным , никогда и мысли не допускал о том, что к нему может быть какое-то иное отношение, чем к новичкам сборной, что у него могут быть какие-то привилег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3" descr="C:\Documents and Settings\Администратор\Рабочий стол\школа\007.gif"/>
          <p:cNvPicPr/>
          <p:nvPr/>
        </p:nvPicPr>
        <p:blipFill>
          <a:blip r:embed="rId1"/>
          <a:stretch/>
        </p:blipFill>
        <p:spPr>
          <a:xfrm>
            <a:off x="5334120" y="0"/>
            <a:ext cx="3024000" cy="3733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Администратор\Рабочий стол\школа\020.gif"/>
          <p:cNvPicPr/>
          <p:nvPr/>
        </p:nvPicPr>
        <p:blipFill>
          <a:blip r:embed="rId2"/>
          <a:stretch/>
        </p:blipFill>
        <p:spPr>
          <a:xfrm>
            <a:off x="685800" y="0"/>
            <a:ext cx="3174840" cy="380988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u"/>
    <p:sndAc>
      <p:stSnd>
        <p:snd r:embed="rId3" name="ricochet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я Чунарину в сборной пятидесятых годов каждый спортсмен имел своё творческое лицо. Чунарин человек – легенда. Он и сейчас остаётся примером для молодых спортсменов. А спортивное благородство Виктор Иванович проявил уже в том, что вывел на помост  своего лучшего учени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олодю Сафроно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3" descr="C:\Documents and Settings\Администратор\Рабочий стол\школа\001.gif"/>
          <p:cNvPicPr/>
          <p:nvPr/>
        </p:nvPicPr>
        <p:blipFill>
          <a:blip r:embed="rId1"/>
          <a:stretch/>
        </p:blipFill>
        <p:spPr>
          <a:xfrm>
            <a:off x="1447920" y="2182680"/>
            <a:ext cx="5790960" cy="42087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  <p:sndAc>
      <p:stSnd>
        <p:snd r:embed="rId2" name="applause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581280" y="4419720"/>
            <a:ext cx="5562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тренерской работе и Ольга Корбут и много других. Они хотят быть полезными людям, стране, честь которой защищали  на спортивных аренах. Как это благородно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3" descr="C:\Documents and Settings\Администратор\Рабочий стол\школа\008.gif"/>
          <p:cNvPicPr/>
          <p:nvPr/>
        </p:nvPicPr>
        <p:blipFill>
          <a:blip r:embed="rId1"/>
          <a:stretch/>
        </p:blipFill>
        <p:spPr>
          <a:xfrm>
            <a:off x="0" y="0"/>
            <a:ext cx="3276720" cy="2347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Администратор\Рабочий стол\школа\006.gif"/>
          <p:cNvPicPr/>
          <p:nvPr/>
        </p:nvPicPr>
        <p:blipFill>
          <a:blip r:embed="rId2"/>
          <a:stretch/>
        </p:blipFill>
        <p:spPr>
          <a:xfrm>
            <a:off x="0" y="4219560"/>
            <a:ext cx="3276720" cy="2638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657600" y="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порте нельзя «жить вечно». Годы берут своё, спортсмены  покидают корты, помосты, дорожки и т.д. Но их призвание – спорт - приводит к тренерской работ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80880" y="228600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талья Кучинская, Полина Астахова обучали детей в спортшколе в Киеве, Михаил Воронин избирался заместителем председателя федерации гимнастики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куль организовал медицинский центр по восстановлению опорно-двигательной сист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wipe dir="u"/>
    <p:sndAc>
      <p:stSnd>
        <p:snd r:embed="rId3" name="clap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08:47:43Z</dcterms:created>
  <dc:creator>Малярова</dc:creator>
  <dc:description/>
  <dc:language>en-US</dc:language>
  <cp:lastModifiedBy>ZooM</cp:lastModifiedBy>
  <dcterms:modified xsi:type="dcterms:W3CDTF">2013-12-03T20:48:45Z</dcterms:modified>
  <cp:revision>22</cp:revision>
  <dc:subject/>
  <dc:title>Сочинение команды «Ах!»  школы №79  </dc:title>
</cp:coreProperties>
</file>