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amera.wav" ContentType="audio/x-wav"/>
  <Override PartName="/ppt/media/image7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drumroll.wav" ContentType="audio/x-wav"/>
  <Override PartName="/ppt/media/image1.png" ContentType="image/png"/>
  <Override PartName="/ppt/media/image3.png" ContentType="image/png"/>
  <Override PartName="/ppt/media/image8.png" ContentType="image/png"/>
  <Override PartName="/ppt/media/image2.png" ContentType="image/png"/>
  <Override PartName="/ppt/media/image4.jpeg" ContentType="image/jpeg"/>
  <Override PartName="/ppt/media/clap.wav" ContentType="audio/x-wav"/>
  <Override PartName="/ppt/media/chimes.wav" ContentType="audio/x-wav"/>
  <Override PartName="/ppt/media/ricochet.wav" ContentType="audio/x-wav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89A-A7BC-4B48-A609-CC9A2C66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312-1E00-487B-8917-8488731C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309-BF12-4729-BA0C-DCAA7AD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DB4-CBE5-497D-AE7E-FABFA03F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706-C3B1-4F1F-8AED-A727051A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112-E17A-4E11-8153-13EDB03D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BB6-FBB8-40EE-B933-610711E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9F2-BAB8-45AD-8975-8067744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31D-342C-45EB-BA11-70E30FA3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851-3147-4510-9D18-1F37A62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0F1-D663-49C7-9655-2AF891C3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2DD-967C-4660-B141-2DA7B30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05F5-BCFB-4796-9CD9-30046E1033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чинение команды «Ах!» школы №79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38480" y="3809520"/>
            <a:ext cx="5105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непремен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яхивать себя физичес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быть здоровыми нравствен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.Н.Толст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C:\Documents and Settings\Администратор\Рабочий стол\школа\030.gif"/>
          <p:cNvPicPr/>
          <p:nvPr/>
        </p:nvPicPr>
        <p:blipFill>
          <a:blip r:embed="rId1"/>
          <a:stretch/>
        </p:blipFill>
        <p:spPr>
          <a:xfrm>
            <a:off x="228600" y="1600200"/>
            <a:ext cx="38466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43000" y="8380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О спорт, ты благородств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blinds dir="horz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Администратор\Рабочий стол\школа\002.gif"/>
          <p:cNvPicPr/>
          <p:nvPr/>
        </p:nvPicPr>
        <p:blipFill>
          <a:blip r:embed="rId1"/>
          <a:stretch/>
        </p:blipFill>
        <p:spPr>
          <a:xfrm>
            <a:off x="0" y="533520"/>
            <a:ext cx="3809880" cy="2577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3886200" y="0"/>
            <a:ext cx="525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- творение природы. Но для того чтобы наслаждаться её сокровищами, он должен отвечать по крайне мере одному требованию: быть здоровым, физически и нравственно. Это аксиома, про которую мы в суете дней, увы, элементарно забываем. А, ведь здоровь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о не столько природный дар, сколько плод собственных усил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4" descr="C:\Documents and Settings\Администратор\Рабочий стол\школа\004.gif"/>
          <p:cNvPicPr/>
          <p:nvPr/>
        </p:nvPicPr>
        <p:blipFill>
          <a:blip r:embed="rId2"/>
          <a:stretch/>
        </p:blipFill>
        <p:spPr>
          <a:xfrm>
            <a:off x="5410080" y="4114800"/>
            <a:ext cx="3349800" cy="2560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3844800"/>
            <a:ext cx="495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отрите на спортсменов, как они прекрасно выглядят: красивы, стройны, пластичны, сильны… и благородны. Спортсмены, мне кажется, всегда готовы дарить благо другим, потому что они сильные физически, и у них очень высоко развита нравственная сторона душ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6000">
    <p:wipe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895480" y="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однажды посчастливилось увидеть, как рано утром тренировались спортсмен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н и она. Скорее всего эти двое были влюблены не только в спорт…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ходило солнце.  И они бежали, кажется, на каждом шаге касаясь его розового шара. На фоне свежего чистого солнечного сияния движения бегунов были воздушными, словно бы бег уже не умещался в пределах, отведённых земным тяготением, а обращался в полёт. Неважно, как выглядели  эти двое, какого они роста, какого цвета у них глаза, волосы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эти двое были прекрасны, а их лёгкий утренний бег в нежно розово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е остался в моей памяти как метафора молодости, здоровья, согласия и благородства. И бежали они рядом, вместе брали крутой подъём, поддерживали единый ритм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азве это не свидетельство согласия? Это единомышленники и друзья. Но спорт знает примеры благородства и среди соперник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C:\картинки\МОРЕ\SEA_0007.JPG"/>
          <p:cNvPicPr/>
          <p:nvPr/>
        </p:nvPicPr>
        <p:blipFill>
          <a:blip r:embed="rId1"/>
          <a:stretch/>
        </p:blipFill>
        <p:spPr>
          <a:xfrm>
            <a:off x="-15840" y="380880"/>
            <a:ext cx="2911320" cy="6096240"/>
          </a:xfrm>
          <a:prstGeom prst="rect">
            <a:avLst/>
          </a:prstGeom>
          <a:ln w="0">
            <a:noFill/>
          </a:ln>
        </p:spPr>
      </p:pic>
    </p:spTree>
  </p:cSld>
  <p:transition advTm="21000">
    <p:wipe dir="r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304920"/>
            <a:ext cx="4876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х играх оказались рядом Виктор Капитанов, член сборной команды СССР совсем мало известный в спорте, и фаворит в велосипедного спорта Ливно Трапе. Пошли вместе, помогая друг другу. Прохрипит Трапе: «Пилено!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 выйдет вперёд Капитанов, прикроет спиной от знойного ветра итальянца, даст передохнуть. «Давай!» - говорит Капитанов, и Трапе послушно берёт бремя лидирующего на себя. Оторвались, ушли.   Золотая медаль теперь только 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3" descr="C:\Documents and Settings\Администратор\Рабочий стол\школа\009.gif"/>
          <p:cNvPicPr/>
          <p:nvPr/>
        </p:nvPicPr>
        <p:blipFill>
          <a:blip r:embed="rId1"/>
          <a:stretch/>
        </p:blipFill>
        <p:spPr>
          <a:xfrm>
            <a:off x="4795920" y="838080"/>
            <a:ext cx="4348080" cy="4724640"/>
          </a:xfrm>
          <a:prstGeom prst="rect">
            <a:avLst/>
          </a:prstGeom>
          <a:ln w="0">
            <a:noFill/>
          </a:ln>
        </p:spPr>
      </p:pic>
    </p:spTree>
  </p:cSld>
  <p:transition advTm="16000">
    <p:cover dir="lu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на последнем круге был нарушен закон спортивного благородства и честной борьбы. Трапе остался за спиной Капитанова  отдыхать. До финиша всего лишь 250 метров. Трапе рванулся вперёд. Всего 20 метров  его отделяют от победы. И тогда Капитанов встал с седла на педали… Через несколько секунд он стал советским олимпийским чемпионом в велосипедных гонках. Рим вручал ему золотую медаль. Москва отметила его подвиг орденом. А я думаю, он победил потому, что был честен и благороден до конца, и победа – это его награ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ая победа, и в спорте, и жизни, начинается прежде всего с победы над соб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2917800" y="3733920"/>
            <a:ext cx="2967120" cy="312408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u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38448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отдаю дань благородству Виктора  Ивановича Чунарина. Это чемпион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лимпийский игр в упражнениях  на брусьях. Человек он очень и очень добрый, хотя пришлось ему пережить фашистский плен, узнать концлагеря и жестокость. Уже  будучи абсолютным олимпийским чемпионом, Виктор Иванович оставался предельно скромным , никогда и мысли не допускал о том, что к нему может быть какое-то иное отношение, чем к новичкам сборной, что у него могут быть какие-то привилег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3" descr="C:\Documents and Settings\Администратор\Рабочий стол\школа\007.gif"/>
          <p:cNvPicPr/>
          <p:nvPr/>
        </p:nvPicPr>
        <p:blipFill>
          <a:blip r:embed="rId1"/>
          <a:stretch/>
        </p:blipFill>
        <p:spPr>
          <a:xfrm>
            <a:off x="5334120" y="0"/>
            <a:ext cx="3024000" cy="373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Администратор\Рабочий стол\школа\020.gif"/>
          <p:cNvPicPr/>
          <p:nvPr/>
        </p:nvPicPr>
        <p:blipFill>
          <a:blip r:embed="rId2"/>
          <a:stretch/>
        </p:blipFill>
        <p:spPr>
          <a:xfrm>
            <a:off x="685800" y="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u"/>
    <p:sndAc>
      <p:stSnd>
        <p:snd r:embed="rId3" name="ricochet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я Чунарину в сборной пятидесятых годов каждый спортсмен имел своё творческое лицо. Чунарин человек – легенда. Он и сейчас остаётся примером для молодых спортсменов. А спортивное благородство Виктор Иванович проявил уже в том, что вывел на помост  своего лучшего учени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лодю Сафроно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3" descr="C:\Documents and Settings\Администратор\Рабочий стол\школа\001.gif"/>
          <p:cNvPicPr/>
          <p:nvPr/>
        </p:nvPicPr>
        <p:blipFill>
          <a:blip r:embed="rId1"/>
          <a:stretch/>
        </p:blipFill>
        <p:spPr>
          <a:xfrm>
            <a:off x="1447920" y="2182680"/>
            <a:ext cx="5790960" cy="420876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  <p:sndAc>
      <p:stSnd>
        <p:snd r:embed="rId2" name="applaus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581280" y="4419720"/>
            <a:ext cx="5562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тренерской работе и Ольга Корбут и много других. Они хотят быть полезными людям, стране, честь которой защищали  на спортивных аренах. Как это благородно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3" descr="C:\Documents and Settings\Администратор\Рабочий стол\школа\008.gif"/>
          <p:cNvPicPr/>
          <p:nvPr/>
        </p:nvPicPr>
        <p:blipFill>
          <a:blip r:embed="rId1"/>
          <a:stretch/>
        </p:blipFill>
        <p:spPr>
          <a:xfrm>
            <a:off x="0" y="0"/>
            <a:ext cx="3276720" cy="23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Администратор\Рабочий стол\школа\006.gif"/>
          <p:cNvPicPr/>
          <p:nvPr/>
        </p:nvPicPr>
        <p:blipFill>
          <a:blip r:embed="rId2"/>
          <a:stretch/>
        </p:blipFill>
        <p:spPr>
          <a:xfrm>
            <a:off x="0" y="4219560"/>
            <a:ext cx="3276720" cy="2638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657600" y="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порте нельзя «жить вечно». Годы берут своё, спортсмены  покидают корты, помосты, дорожки и т.д. Но их призвание – спорт - приводит к тренерской рабо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22860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талья Кучинская, Полина Астахова обучали детей в спортшколе в Киеве, Михаил Воронин избирался заместителем председателя федерации гимнастики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куль организовал медицинский центр по восстановлению опорно-двигательной сист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5000">
    <p:wipe dir="u"/>
    <p:sndAc>
      <p:stSnd>
        <p:snd r:embed="rId3" name="clap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08:47:43Z</dcterms:created>
  <dc:creator>Малярова</dc:creator>
  <dc:description/>
  <dc:language>en-US</dc:language>
  <cp:lastModifiedBy>ZooM</cp:lastModifiedBy>
  <dcterms:modified xsi:type="dcterms:W3CDTF">2013-12-03T20:48:45Z</dcterms:modified>
  <cp:revision>22</cp:revision>
  <dc:subject/>
  <dc:title>Сочинение команды «Ах!»  школы №79  </dc:title>
</cp:coreProperties>
</file>