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570D-02B2-4128-92BE-6A5F14989F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A667-5332-40C1-8A29-3377507E1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3418-CFC8-4A20-A956-D0838A97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853-7171-49D8-870E-4E4EFA71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5A9-7594-45FF-9B8C-A18DF91B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E77-D086-418A-B9C9-395FF18D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794-6BA4-4110-9F4B-B5190C54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3BC-33E6-4E1A-B565-920D0FF2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419-9018-41FC-9CF0-993BF1F2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F21-54CD-43A5-BC06-FDFD2B24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A51-1499-4B9C-83B4-17B639A0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731-9F99-465C-8087-8AAF15B6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DD9-97F9-4856-8A53-E0AA5CB7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955-3788-4E0A-910D-C705C4A9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97B2-0DD6-4D5F-8D98-2D88534BDC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2708280"/>
            <a:ext cx="6861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Современные исполнители классической музы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Виктор Зинчук.</a:t>
            </a: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Гитар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Антонио Вивальди 1678-1741"/>
          <p:cNvPicPr/>
          <p:nvPr/>
        </p:nvPicPr>
        <p:blipFill>
          <a:blip r:embed="rId2"/>
          <a:stretch/>
        </p:blipFill>
        <p:spPr>
          <a:xfrm>
            <a:off x="500040" y="2643120"/>
            <a:ext cx="2859120" cy="342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4" name="Прямоугольник 2"/>
          <p:cNvSpPr/>
          <p:nvPr/>
        </p:nvSpPr>
        <p:spPr>
          <a:xfrm>
            <a:off x="1500120" y="642960"/>
            <a:ext cx="59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ook Antiqua"/>
              </a:rPr>
              <a:t>«Шторм» (Летняя гроз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D:\Мои документы\Миронова Т.В\музыка\Новая папка\zinchuk1.jpg"/>
          <p:cNvPicPr/>
          <p:nvPr/>
        </p:nvPicPr>
        <p:blipFill>
          <a:blip r:embed="rId3"/>
          <a:stretch/>
        </p:blipFill>
        <p:spPr>
          <a:xfrm>
            <a:off x="4643280" y="2714760"/>
            <a:ext cx="3357720" cy="335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Мои документы\Миронова Т.В\музыка\Новая папка\21.jpg"/>
          <p:cNvPicPr/>
          <p:nvPr/>
        </p:nvPicPr>
        <p:blipFill>
          <a:blip r:embed="rId2"/>
          <a:stretch/>
        </p:blipFill>
        <p:spPr>
          <a:xfrm>
            <a:off x="571680" y="500040"/>
            <a:ext cx="2000160" cy="281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7" name="Picture 3" descr="D:\Мои документы\Миронова Т.В\музыка\Новая папка\23.jpg"/>
          <p:cNvPicPr/>
          <p:nvPr/>
        </p:nvPicPr>
        <p:blipFill>
          <a:blip r:embed="rId3"/>
          <a:stretch/>
        </p:blipFill>
        <p:spPr>
          <a:xfrm>
            <a:off x="5214960" y="214200"/>
            <a:ext cx="3595680" cy="3595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D:\Мои документы\Миронова Т.В\музыка\Новая папка\24.jpg"/>
          <p:cNvPicPr/>
          <p:nvPr/>
        </p:nvPicPr>
        <p:blipFill>
          <a:blip r:embed="rId4"/>
          <a:stretch/>
        </p:blipFill>
        <p:spPr>
          <a:xfrm>
            <a:off x="1285920" y="0"/>
            <a:ext cx="6143760" cy="6797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9" name="Picture 5" descr="D:\Мои документы\Миронова Т.В\музыка\Новая папка\25.jpg"/>
          <p:cNvPicPr/>
          <p:nvPr/>
        </p:nvPicPr>
        <p:blipFill>
          <a:blip r:embed="rId5"/>
          <a:stretch/>
        </p:blipFill>
        <p:spPr>
          <a:xfrm>
            <a:off x="762120" y="787320"/>
            <a:ext cx="7619760" cy="5283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D:\Мои документы\Миронова Т.В\музыка\Новая папка\27.jpg"/>
          <p:cNvPicPr/>
          <p:nvPr/>
        </p:nvPicPr>
        <p:blipFill>
          <a:blip r:embed="rId6"/>
          <a:stretch/>
        </p:blipFill>
        <p:spPr>
          <a:xfrm>
            <a:off x="1500120" y="-46080"/>
            <a:ext cx="6072120" cy="686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D:\Мои документы\Миронова Т.В\музыка\Новая папка\26.jpg"/>
          <p:cNvPicPr/>
          <p:nvPr/>
        </p:nvPicPr>
        <p:blipFill>
          <a:blip r:embed="rId7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D:\Мои документы\Миронова Т.В\музыка\Новая папка\22.jpg"/>
          <p:cNvPicPr/>
          <p:nvPr/>
        </p:nvPicPr>
        <p:blipFill>
          <a:blip r:embed="rId8"/>
          <a:stretch/>
        </p:blipFill>
        <p:spPr>
          <a:xfrm>
            <a:off x="428760" y="32076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1" nodeType="afterEffect" fill="hold" presetClass="exit" presetID="8" presetSubtype="16">
                                  <p:stCondLst>
                                    <p:cond delay="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9000"/>
                            </p:stCondLst>
                            <p:childTnLst>
                              <p:par>
                                <p:cTn id="2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7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4000"/>
                            </p:stCondLst>
                            <p:childTnLst>
                              <p:par>
                                <p:cTn id="239" nodeType="afterEffect" fill="hold" presetClass="exit" presetID="8" presetSubtype="16">
                                  <p:stCondLst>
                                    <p:cond delay="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0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7000"/>
                            </p:stCondLst>
                            <p:childTnLst>
                              <p:par>
                                <p:cTn id="2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5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0"/>
                            </p:stCondLst>
                            <p:childTnLst>
                              <p:par>
                                <p:cTn id="247" nodeType="afterEffect" fill="hold" presetClass="exit" presetID="8" presetSubtype="16">
                                  <p:stCondLst>
                                    <p:cond delay="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8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23000"/>
                            </p:stCondLst>
                            <p:childTnLst>
                              <p:par>
                                <p:cTn id="2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0"/>
                            </p:stCondLst>
                            <p:childTnLst>
                              <p:par>
                                <p:cTn id="255" nodeType="afterEffect" fill="hold" presetClass="exit" presetID="8" presetSubtype="16">
                                  <p:stCondLst>
                                    <p:cond delay="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8000"/>
                            </p:stCondLst>
                            <p:childTnLst>
                              <p:par>
                                <p:cTn id="2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1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0001"/>
          <p:cNvPicPr/>
          <p:nvPr/>
        </p:nvPicPr>
        <p:blipFill>
          <a:blip r:embed="rId2"/>
          <a:stretch/>
        </p:blipFill>
        <p:spPr>
          <a:xfrm>
            <a:off x="428760" y="2071800"/>
            <a:ext cx="3549600" cy="37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786280" y="2000160"/>
            <a:ext cx="2619360" cy="392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Box 3"/>
          <p:cNvSpPr/>
          <p:nvPr/>
        </p:nvSpPr>
        <p:spPr>
          <a:xfrm>
            <a:off x="1508760" y="642960"/>
            <a:ext cx="61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Соната № 14 «Лунна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Мои документы\Миронова Т.В\музыка\Новая папка\1.jpg"/>
          <p:cNvPicPr/>
          <p:nvPr/>
        </p:nvPicPr>
        <p:blipFill>
          <a:blip r:embed="rId2"/>
          <a:stretch/>
        </p:blipFill>
        <p:spPr>
          <a:xfrm>
            <a:off x="357120" y="357120"/>
            <a:ext cx="3214800" cy="2757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D:\Мои документы\Миронова Т.В\музыка\Новая папка\2.jpg"/>
          <p:cNvPicPr/>
          <p:nvPr/>
        </p:nvPicPr>
        <p:blipFill>
          <a:blip r:embed="rId3"/>
          <a:stretch/>
        </p:blipFill>
        <p:spPr>
          <a:xfrm>
            <a:off x="6286680" y="2643120"/>
            <a:ext cx="2649240" cy="3968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D:\Мои документы\Миронова Т.В\музыка\Новая папка\9.jpg"/>
          <p:cNvPicPr/>
          <p:nvPr/>
        </p:nvPicPr>
        <p:blipFill>
          <a:blip r:embed="rId4"/>
          <a:stretch/>
        </p:blipFill>
        <p:spPr>
          <a:xfrm>
            <a:off x="1357200" y="984240"/>
            <a:ext cx="6821640" cy="4802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:\Мои документы\Миронова Т.В\музыка\Новая папка\10.jpg"/>
          <p:cNvPicPr/>
          <p:nvPr/>
        </p:nvPicPr>
        <p:blipFill>
          <a:blip r:embed="rId5"/>
          <a:stretch/>
        </p:blipFill>
        <p:spPr>
          <a:xfrm>
            <a:off x="357120" y="357120"/>
            <a:ext cx="4286160" cy="5810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:\Мои документы\Миронова Т.В\музыка\Новая папка\7.jpg"/>
          <p:cNvPicPr/>
          <p:nvPr/>
        </p:nvPicPr>
        <p:blipFill>
          <a:blip r:embed="rId6"/>
          <a:stretch/>
        </p:blipFill>
        <p:spPr>
          <a:xfrm>
            <a:off x="2857680" y="571680"/>
            <a:ext cx="6126120" cy="5783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D:\Мои документы\Миронова Т.В\музыка\Новая папка\11.jpg"/>
          <p:cNvPicPr/>
          <p:nvPr/>
        </p:nvPicPr>
        <p:blipFill>
          <a:blip r:embed="rId7"/>
          <a:stretch/>
        </p:blipFill>
        <p:spPr>
          <a:xfrm>
            <a:off x="500040" y="374760"/>
            <a:ext cx="8001000" cy="600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D:\Мои документы\Миронова Т.В\музыка\Новая папка\13.jpg"/>
          <p:cNvPicPr/>
          <p:nvPr/>
        </p:nvPicPr>
        <p:blipFill>
          <a:blip r:embed="rId8"/>
          <a:stretch/>
        </p:blipFill>
        <p:spPr>
          <a:xfrm>
            <a:off x="1928880" y="128520"/>
            <a:ext cx="5286240" cy="660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D:\Мои документы\Миронова Т.В\музыка\Новая папка\8.jpg"/>
          <p:cNvPicPr/>
          <p:nvPr/>
        </p:nvPicPr>
        <p:blipFill>
          <a:blip r:embed="rId9"/>
          <a:stretch/>
        </p:blipFill>
        <p:spPr>
          <a:xfrm>
            <a:off x="120600" y="357120"/>
            <a:ext cx="9007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94" nodeType="afterEffect" fill="hold" presetClass="exit" presetID="8" presetSubtype="16">
                                  <p:stCondLst>
                                    <p:cond delay="2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5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8" presetSubtype="16">
                                  <p:stCondLst>
                                    <p:cond delay="2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8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8" presetSubtype="16">
                                  <p:stCondLst>
                                    <p:cond delay="2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1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2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4000"/>
                            </p:stCondLst>
                            <p:childTnLst>
                              <p:par>
                                <p:cTn id="308" nodeType="afterEffect" fill="hold" presetClass="exit" presetID="5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7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9000"/>
                            </p:stCondLst>
                            <p:childTnLst>
                              <p:par>
                                <p:cTn id="316" nodeType="afterEffect" fill="hold" presetClass="exit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22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25000"/>
                            </p:stCondLst>
                            <p:childTnLst>
                              <p:par>
                                <p:cTn id="326" nodeType="afterEffect" fill="hold" presetClass="exit" presetID="8" presetSubtype="16">
                                  <p:stCondLst>
                                    <p:cond delay="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80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63000"/>
                            </p:stCondLst>
                            <p:childTnLst>
                              <p:par>
                                <p:cTn id="336" nodeType="afterEffect" fill="hold" presetClass="exit" presetID="8" presetSubtype="16">
                                  <p:stCondLst>
                                    <p:cond delay="2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88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571680" y="357120"/>
            <a:ext cx="4000320" cy="60008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95" name="TextBox 2"/>
          <p:cNvSpPr/>
          <p:nvPr/>
        </p:nvSpPr>
        <p:spPr>
          <a:xfrm>
            <a:off x="4709880" y="642960"/>
            <a:ext cx="423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ВИКТОР ЗИНЧ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Компози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Гитари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Аранжировщ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Исполн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ТАЛ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Наш современ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Антонио Вивальди 1678-1741"/>
          <p:cNvPicPr/>
          <p:nvPr/>
        </p:nvPicPr>
        <p:blipFill>
          <a:blip r:embed="rId1"/>
          <a:stretch/>
        </p:blipFill>
        <p:spPr>
          <a:xfrm>
            <a:off x="250920" y="1125360"/>
            <a:ext cx="2700360" cy="324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Picture 3" descr="0011"/>
          <p:cNvPicPr/>
          <p:nvPr/>
        </p:nvPicPr>
        <p:blipFill>
          <a:blip r:embed="rId2"/>
          <a:stretch/>
        </p:blipFill>
        <p:spPr>
          <a:xfrm>
            <a:off x="1116000" y="2637000"/>
            <a:ext cx="2714760" cy="289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" name="Picture 2" descr="0001"/>
          <p:cNvPicPr/>
          <p:nvPr/>
        </p:nvPicPr>
        <p:blipFill>
          <a:blip r:embed="rId3"/>
          <a:stretch/>
        </p:blipFill>
        <p:spPr>
          <a:xfrm>
            <a:off x="3203640" y="3716280"/>
            <a:ext cx="2714400" cy="289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" name="Picture 5" descr="Николо Паганини 1782-1840"/>
          <p:cNvPicPr/>
          <p:nvPr/>
        </p:nvPicPr>
        <p:blipFill>
          <a:blip r:embed="rId4"/>
          <a:stretch/>
        </p:blipFill>
        <p:spPr>
          <a:xfrm>
            <a:off x="4284720" y="1197000"/>
            <a:ext cx="2817720" cy="226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3" name="Picture 6" descr="Иоганн Штраус1899 1825-"/>
          <p:cNvPicPr/>
          <p:nvPr/>
        </p:nvPicPr>
        <p:blipFill>
          <a:blip r:embed="rId5"/>
          <a:stretch/>
        </p:blipFill>
        <p:spPr>
          <a:xfrm>
            <a:off x="6372360" y="2852640"/>
            <a:ext cx="2565360" cy="374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" name="Text Box 7"/>
          <p:cNvSpPr/>
          <p:nvPr/>
        </p:nvSpPr>
        <p:spPr>
          <a:xfrm>
            <a:off x="1187280" y="7452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Наши ВЕЛИ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Book Antiqua"/>
              </a:rPr>
              <a:t>«современн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4762440" cy="3333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6" name="Text Box 5"/>
          <p:cNvSpPr/>
          <p:nvPr/>
        </p:nvSpPr>
        <p:spPr>
          <a:xfrm>
            <a:off x="510480" y="403200"/>
            <a:ext cx="43596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Book Antiqua"/>
              </a:rPr>
              <a:t>Виктор Зинчу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Book Antiqua"/>
              </a:rPr>
              <a:t>Гитар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Book Antiqua"/>
              </a:rPr>
              <a:t>Аранжиров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Book Antiqua"/>
              </a:rPr>
              <a:t>Исполн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Book Antiqua"/>
              </a:rPr>
              <a:t>Компози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36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88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36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Иоганн Штраус1899 1825-"/>
          <p:cNvPicPr/>
          <p:nvPr/>
        </p:nvPicPr>
        <p:blipFill>
          <a:blip r:embed="rId1"/>
          <a:stretch/>
        </p:blipFill>
        <p:spPr>
          <a:xfrm>
            <a:off x="900000" y="476280"/>
            <a:ext cx="2565360" cy="374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" name="Text Box 5"/>
          <p:cNvSpPr/>
          <p:nvPr/>
        </p:nvSpPr>
        <p:spPr>
          <a:xfrm>
            <a:off x="340920" y="4653000"/>
            <a:ext cx="654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Book Antiqua"/>
              </a:rPr>
              <a:t>Иоганн Штраус-младш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Book Antiqua"/>
              </a:rPr>
              <a:t>«Полька-пиццикат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Николо Паганини 1782-1840"/>
          <p:cNvPicPr/>
          <p:nvPr/>
        </p:nvPicPr>
        <p:blipFill>
          <a:blip r:embed="rId1"/>
          <a:stretch/>
        </p:blipFill>
        <p:spPr>
          <a:xfrm>
            <a:off x="826920" y="765000"/>
            <a:ext cx="3889440" cy="3121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0" name="Text Box 5"/>
          <p:cNvSpPr/>
          <p:nvPr/>
        </p:nvSpPr>
        <p:spPr>
          <a:xfrm>
            <a:off x="808200" y="4313160"/>
            <a:ext cx="505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Николо Пагани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Каприс №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0001"/>
          <p:cNvPicPr/>
          <p:nvPr/>
        </p:nvPicPr>
        <p:blipFill>
          <a:blip r:embed="rId1"/>
          <a:stretch/>
        </p:blipFill>
        <p:spPr>
          <a:xfrm>
            <a:off x="755640" y="333360"/>
            <a:ext cx="4049640" cy="431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" name="Text Box 5"/>
          <p:cNvSpPr/>
          <p:nvPr/>
        </p:nvSpPr>
        <p:spPr>
          <a:xfrm>
            <a:off x="306360" y="4869000"/>
            <a:ext cx="61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Людвиг ван Бетхов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Соната № 14 «Лунна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Антонио Вивальди 1678-1741"/>
          <p:cNvPicPr/>
          <p:nvPr/>
        </p:nvPicPr>
        <p:blipFill>
          <a:blip r:embed="rId1"/>
          <a:stretch/>
        </p:blipFill>
        <p:spPr>
          <a:xfrm>
            <a:off x="611280" y="476280"/>
            <a:ext cx="3062160" cy="367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" name="Text Box 5"/>
          <p:cNvSpPr/>
          <p:nvPr/>
        </p:nvSpPr>
        <p:spPr>
          <a:xfrm>
            <a:off x="234720" y="4205160"/>
            <a:ext cx="666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Антонио Виваль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Book Antiqua"/>
              </a:rPr>
              <a:t>«Шторм» (Летняя гроз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Иоганн Штраус1899 1825-"/>
          <p:cNvPicPr/>
          <p:nvPr/>
        </p:nvPicPr>
        <p:blipFill>
          <a:blip r:embed="rId2"/>
          <a:stretch/>
        </p:blipFill>
        <p:spPr>
          <a:xfrm>
            <a:off x="428760" y="1539720"/>
            <a:ext cx="3214440" cy="469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Text Box 6"/>
          <p:cNvSpPr/>
          <p:nvPr/>
        </p:nvSpPr>
        <p:spPr>
          <a:xfrm>
            <a:off x="993240" y="260280"/>
            <a:ext cx="591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Book Antiqua"/>
              </a:rPr>
              <a:t>ПОЛЬКА-ПИЦЦИКА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5357880" y="1643040"/>
            <a:ext cx="3143160" cy="4714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Мои документы\Миронова Т.В\музыка\Новая папка\16.jpg"/>
          <p:cNvPicPr/>
          <p:nvPr/>
        </p:nvPicPr>
        <p:blipFill>
          <a:blip r:embed="rId2"/>
          <a:srcRect l="0" t="0" r="0" b="15748"/>
          <a:stretch/>
        </p:blipFill>
        <p:spPr>
          <a:xfrm>
            <a:off x="214200" y="285840"/>
            <a:ext cx="7913880" cy="500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D:\Мои документы\Миронова Т.В\музыка\Новая папка\19.jpg"/>
          <p:cNvPicPr/>
          <p:nvPr/>
        </p:nvPicPr>
        <p:blipFill>
          <a:blip r:embed="rId3"/>
          <a:stretch/>
        </p:blipFill>
        <p:spPr>
          <a:xfrm>
            <a:off x="1643040" y="1571760"/>
            <a:ext cx="7186680" cy="4929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D:\Мои документы\Миронова Т.В\музыка\Новая папка\20.jpg"/>
          <p:cNvPicPr/>
          <p:nvPr/>
        </p:nvPicPr>
        <p:blipFill>
          <a:blip r:embed="rId4"/>
          <a:stretch/>
        </p:blipFill>
        <p:spPr>
          <a:xfrm>
            <a:off x="1023840" y="333360"/>
            <a:ext cx="7096320" cy="619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:\Мои документы\Миронова Т.В\музыка\Новая папка\18.jpg"/>
          <p:cNvPicPr/>
          <p:nvPr/>
        </p:nvPicPr>
        <p:blipFill>
          <a:blip r:embed="rId5"/>
          <a:stretch/>
        </p:blipFill>
        <p:spPr>
          <a:xfrm>
            <a:off x="500040" y="276120"/>
            <a:ext cx="5143680" cy="6257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D:\Мои документы\Миронова Т.В\музыка\Новая папка\17.jpg"/>
          <p:cNvPicPr/>
          <p:nvPr/>
        </p:nvPicPr>
        <p:blipFill>
          <a:blip r:embed="rId6"/>
          <a:stretch/>
        </p:blipFill>
        <p:spPr>
          <a:xfrm>
            <a:off x="500040" y="268200"/>
            <a:ext cx="829800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xit" presetID="3" presetSubtype="10">
                                  <p:stCondLst>
                                    <p:cond delay="25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0" nodeType="afterEffect" fill="hold" presetClass="exit" presetID="5" presetSubtype="10">
                                  <p:stCondLst>
                                    <p:cond delay="2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8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178" nodeType="afterEffect" fill="hold" presetClass="exit" presetID="3" presetSubtype="5">
                                  <p:stCondLst>
                                    <p:cond delay="20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2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4000"/>
                            </p:stCondLst>
                            <p:childTnLst>
                              <p:par>
                                <p:cTn id="186" nodeType="afterEffect" fill="hold" presetClass="exit" presetID="5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45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3:23:09Z</dcterms:created>
  <dc:creator>Т. И. Видехина</dc:creator>
  <dc:description/>
  <dc:language>en-US</dc:language>
  <cp:lastModifiedBy>Т. И. Видехина</cp:lastModifiedBy>
  <dcterms:modified xsi:type="dcterms:W3CDTF">2010-10-01T14:14:28Z</dcterms:modified>
  <cp:revision>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2d0000000000010243100207f6000400038000</vt:lpwstr>
  </property>
</Properties>
</file>