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png" ContentType="image/png"/>
  <Override PartName="/ppt/media/image7.png" ContentType="image/png"/>
  <Override PartName="/ppt/media/image4.gif" ContentType="image/gif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21.wmf" ContentType="image/x-wmf"/>
  <Override PartName="/ppt/media/image5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gif" ContentType="image/gif"/>
  <Override PartName="/ppt/media/image2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8.png" ContentType="image/png"/>
  <Override PartName="/ppt/media/image1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DC9D-B524-4D84-A579-8CFF21C6D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41E2-D0B0-4D24-B793-AE65F545D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DA8A-9CD1-4CC2-AF42-C982FE356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9497-6584-4F3B-BD08-FEB6C9EF0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A3471-E270-4A0E-9D85-DAF8F258D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BC92A-D77B-4F87-9FF8-580545741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69B2A-8834-461B-BCC2-926223829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3C446-7C31-4E54-822D-F41942961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ECC92-92C1-43D9-BC28-06B0C033F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10B00-39B7-4981-924A-5A2F05F65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F6EEF-89ED-4094-8C50-807F79D4D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57AD-B974-4300-9520-4403696BB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EFEA9-86C6-4088-B73B-1155900FC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D50EC-B233-4CA0-B2A3-FE309D2AF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57A9E-1A9F-4371-A583-BDF49576E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098B7-70C6-4E52-B977-27C8CB2C6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B33DE-2FC0-4875-9B07-476C3B95B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04D361-2137-4E71-A9B2-DEDC36B4F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6BF974-D6C6-4CDC-9A02-2052E9677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CA6B28-588B-4000-A5B6-A0DA7259E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49C89F-1C5E-4158-A1D3-D69A43B13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3FEA58-1CD1-49CE-94D9-6AFED77CA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24DC-D84E-4E23-88ED-90B6C8374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91635D-8E30-4D02-8942-EF43359BD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4565C0-6E5D-4A38-9C14-09C424A61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E7B0CE-3E2F-4498-AFB7-C07002C71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E96D4C-C341-4A2C-B277-F468DAD96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D9FC09-82F8-4450-A190-D6F389220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E4FBA8-ECFD-4B7A-9273-2A3C33F08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85454F-0DB6-4D8A-89A0-74467B8BC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10A6-9007-44D3-B23B-3496C717D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3246-5FFD-4E7E-A7A7-36D9EAF60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7290-CD5D-42FB-8CF8-7F58490BF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D7E3-6EC4-4672-8AFF-6A083D7F2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D3AC-DA81-4F9E-B075-FC756C1C5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6E98-ECFC-4BCC-8740-9BCFA6575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CDFA9-952F-4D78-A500-36CE869A764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45FA4-E51A-4D47-8F25-BE12C606FA2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8DD36-6C57-4EBE-8AB2-C578698915F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hyperlink" Target="http://social-teacher.ucoz.ru/index/0-8" TargetMode="External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Заголовок 1" descr=""/>
          <p:cNvPicPr/>
          <p:nvPr/>
        </p:nvPicPr>
        <p:blipFill>
          <a:blip r:embed="rId1"/>
          <a:stretch/>
        </p:blipFill>
        <p:spPr>
          <a:xfrm>
            <a:off x="774720" y="-115920"/>
            <a:ext cx="4857840" cy="376704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 rot="21083400">
            <a:off x="1393920" y="2808360"/>
            <a:ext cx="42386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оциальный педаго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Тригубенко Е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Заголовок 1" descr=""/>
          <p:cNvPicPr/>
          <p:nvPr/>
        </p:nvPicPr>
        <p:blipFill>
          <a:blip r:embed="rId1"/>
          <a:stretch/>
        </p:blipFill>
        <p:spPr>
          <a:xfrm>
            <a:off x="450720" y="-201600"/>
            <a:ext cx="8242560" cy="162864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 txBox="1"/>
          <p:nvPr/>
        </p:nvSpPr>
        <p:spPr>
          <a:xfrm>
            <a:off x="499680" y="1928520"/>
            <a:ext cx="818676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46c0a"/>
                </a:solidFill>
                <a:latin typeface="Arial"/>
              </a:rPr>
              <a:t>Созидательные педагогические прием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46c0a"/>
                </a:solidFill>
                <a:latin typeface="Arial"/>
              </a:rPr>
              <a:t>Приемы, способствующие формированию у воспитанника правильного повед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46c0a"/>
                </a:solidFill>
                <a:latin typeface="Arial"/>
              </a:rPr>
              <a:t>Приемы, построенные на понимании динамики чувств и интересов учен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Заголовок 1" descr=""/>
          <p:cNvPicPr/>
          <p:nvPr/>
        </p:nvPicPr>
        <p:blipFill>
          <a:blip r:embed="rId1"/>
          <a:stretch/>
        </p:blipFill>
        <p:spPr>
          <a:xfrm>
            <a:off x="450720" y="165240"/>
            <a:ext cx="8242560" cy="26082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ратить внимание на позитивные стороны личности ребён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мочь ему в осознании ответственности за выбор стратегии повед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действовать в определении шагов по выходу из проблемной ситуа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особствовать осознанию необходимости обращения к специалистам, способным оказать действенную помощ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5" descr="baby18"/>
          <p:cNvPicPr/>
          <p:nvPr/>
        </p:nvPicPr>
        <p:blipFill>
          <a:blip r:embed="rId2"/>
          <a:stretch/>
        </p:blipFill>
        <p:spPr>
          <a:xfrm>
            <a:off x="7215120" y="4572000"/>
            <a:ext cx="1371600" cy="16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Заголовок 1" descr=""/>
          <p:cNvPicPr/>
          <p:nvPr/>
        </p:nvPicPr>
        <p:blipFill>
          <a:blip r:embed="rId1"/>
          <a:stretch/>
        </p:blipFill>
        <p:spPr>
          <a:xfrm>
            <a:off x="444600" y="158760"/>
            <a:ext cx="8254800" cy="127332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 u="sng">
                <a:solidFill>
                  <a:srgbClr val="000000"/>
                </a:solidFill>
                <a:uFillTx/>
                <a:latin typeface="Arial"/>
              </a:rPr>
              <a:t>с семьёй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77933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Arial"/>
              </a:rPr>
              <a:t>Определение проблемы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Arial"/>
              </a:rPr>
              <a:t>Изучение и оценка всех возможных вариантов решения проблемы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Arial"/>
              </a:rPr>
              <a:t>Оценка возможностей семьи в самостоятельном обращении за помощью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Arial"/>
              </a:rPr>
              <a:t>Помощь в установлении контакта с учреждением 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 u="sng">
                <a:solidFill>
                  <a:srgbClr val="000000"/>
                </a:solidFill>
                <a:uFillTx/>
                <a:latin typeface="Arial"/>
              </a:rPr>
              <a:t>с учреждением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Arial"/>
              </a:rPr>
              <a:t>Обращение социального педагога в учреждение, установление договоренности со специалистом, который в дальнейшем будет работать с семьёй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Arial"/>
              </a:rPr>
              <a:t>Установление договоренности о возможности получения информации о работе с семьёй после обращения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social-teacher.ucoz.ru/index/0-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ардахаев Л. В. Социальная педагогика: учебник. – М.: Гардарики, 2006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икитина Н. И., Глухова М. Ф. Методика и технология работы социального педагога. – М.: Владос, 2007.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«Методические рекомендации для педагогов и специалистов образовательных учреждений по организации работы с детьми группы риска» МУ «Центр образования», 2009.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рылова. Т.А. Социально-педагогические технологии в работе с детьми группы риска. Москва,Школьные технологии, 2010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2" descr="MPj04394090000[1]"/>
          <p:cNvPicPr/>
          <p:nvPr/>
        </p:nvPicPr>
        <p:blipFill>
          <a:blip r:embed="rId3"/>
          <a:stretch/>
        </p:blipFill>
        <p:spPr>
          <a:xfrm>
            <a:off x="6143760" y="4048200"/>
            <a:ext cx="238896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3" descr="MCj04379900000[1]"/>
          <p:cNvPicPr/>
          <p:nvPr/>
        </p:nvPicPr>
        <p:blipFill>
          <a:blip r:embed="rId2"/>
          <a:stretch/>
        </p:blipFill>
        <p:spPr>
          <a:xfrm>
            <a:off x="2916360" y="2852640"/>
            <a:ext cx="3271680" cy="31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2400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Georgia"/>
              </a:rPr>
              <a:t>АДАПТАЦИЯ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риспособление организма к изменяющимся внешним условиям. Обычно возникает в связи с кардинальной сменой деятельности человека и его социального окруже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KIDS01"/>
          <p:cNvPicPr/>
          <p:nvPr/>
        </p:nvPicPr>
        <p:blipFill>
          <a:blip r:embed="rId1"/>
          <a:stretch/>
        </p:blipFill>
        <p:spPr>
          <a:xfrm>
            <a:off x="5867280" y="4302000"/>
            <a:ext cx="2676600" cy="22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Заголовок 1" descr=""/>
          <p:cNvPicPr/>
          <p:nvPr/>
        </p:nvPicPr>
        <p:blipFill>
          <a:blip r:embed="rId1"/>
          <a:stretch/>
        </p:blipFill>
        <p:spPr>
          <a:xfrm>
            <a:off x="438120" y="231840"/>
            <a:ext cx="8345520" cy="11952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 txBox="1"/>
          <p:nvPr/>
        </p:nvSpPr>
        <p:spPr>
          <a:xfrm>
            <a:off x="3240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50"/>
                </a:solidFill>
                <a:latin typeface="Arial"/>
              </a:rPr>
              <a:t>Образовательный компонент</a:t>
            </a:r>
            <a:r>
              <a:rPr b="0" i="1" lang="ru-RU" sz="2400" spc="-1" strike="noStrike">
                <a:solidFill>
                  <a:srgbClr val="00b050"/>
                </a:solidFill>
                <a:latin typeface="Arial"/>
              </a:rPr>
              <a:t>: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оциально-педагогическая  помощь семье  в обучении и воспита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50"/>
                </a:solidFill>
                <a:latin typeface="Arial"/>
              </a:rPr>
              <a:t>Посреднический компонент-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это организация и поддержание связей между детьми и взрослыми, между семьёй и государственными службами, организациями и учреждениями, способными оказать семье необходимую помощь и поддерж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Rectangle 53" descr=""/>
          <p:cNvPicPr/>
          <p:nvPr/>
        </p:nvPicPr>
        <p:blipFill>
          <a:blip r:embed="rId1"/>
          <a:stretch/>
        </p:blipFill>
        <p:spPr>
          <a:xfrm>
            <a:off x="378000" y="92160"/>
            <a:ext cx="8315280" cy="1334880"/>
          </a:xfrm>
          <a:prstGeom prst="rect">
            <a:avLst/>
          </a:prstGeom>
          <a:ln w="0">
            <a:noFill/>
          </a:ln>
        </p:spPr>
      </p:pic>
      <p:grpSp>
        <p:nvGrpSpPr>
          <p:cNvPr id="130" name="Diagram 38"/>
          <p:cNvGrpSpPr/>
          <p:nvPr/>
        </p:nvGrpSpPr>
        <p:grpSpPr>
          <a:xfrm>
            <a:off x="1084320" y="1989000"/>
            <a:ext cx="6998400" cy="4526280"/>
            <a:chOff x="1084320" y="1989000"/>
            <a:chExt cx="6998400" cy="4526280"/>
          </a:xfrm>
        </p:grpSpPr>
        <p:sp>
          <p:nvSpPr>
            <p:cNvPr id="131" name="_s1028"/>
            <p:cNvSpPr/>
            <p:nvPr/>
          </p:nvSpPr>
          <p:spPr>
            <a:xfrm flipH="1" flipV="1">
              <a:off x="2899080" y="3686040"/>
              <a:ext cx="842040" cy="2836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_s1029"/>
            <p:cNvSpPr/>
            <p:nvPr/>
          </p:nvSpPr>
          <p:spPr>
            <a:xfrm>
              <a:off x="1084320" y="2837520"/>
              <a:ext cx="1944720" cy="1131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eorgia"/>
                </a:rPr>
                <a:t>Классный руководител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_s1030"/>
            <p:cNvSpPr/>
            <p:nvPr/>
          </p:nvSpPr>
          <p:spPr>
            <a:xfrm flipH="1">
              <a:off x="2899080" y="4534560"/>
              <a:ext cx="843480" cy="2829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_s1031"/>
            <p:cNvSpPr/>
            <p:nvPr/>
          </p:nvSpPr>
          <p:spPr>
            <a:xfrm>
              <a:off x="1084320" y="4535280"/>
              <a:ext cx="1944720" cy="1131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Georgia"/>
                </a:rPr>
                <a:t>Соцпедагог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_s1032"/>
            <p:cNvSpPr/>
            <p:nvPr/>
          </p:nvSpPr>
          <p:spPr>
            <a:xfrm>
              <a:off x="4583160" y="4816440"/>
              <a:ext cx="720" cy="5666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_s1033"/>
            <p:cNvSpPr/>
            <p:nvPr/>
          </p:nvSpPr>
          <p:spPr>
            <a:xfrm>
              <a:off x="3611160" y="5383800"/>
              <a:ext cx="1944720" cy="1131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orgia"/>
                </a:rPr>
                <a:t>Родители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_s1034"/>
            <p:cNvSpPr/>
            <p:nvPr/>
          </p:nvSpPr>
          <p:spPr>
            <a:xfrm>
              <a:off x="5424120" y="4533840"/>
              <a:ext cx="843120" cy="2836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_s1035"/>
            <p:cNvSpPr/>
            <p:nvPr/>
          </p:nvSpPr>
          <p:spPr>
            <a:xfrm>
              <a:off x="6138000" y="4535280"/>
              <a:ext cx="1944720" cy="11314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eorgia"/>
                </a:rPr>
                <a:t>Психолог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_s1036"/>
            <p:cNvSpPr/>
            <p:nvPr/>
          </p:nvSpPr>
          <p:spPr>
            <a:xfrm flipV="1">
              <a:off x="5424120" y="3686040"/>
              <a:ext cx="843120" cy="2829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_s1037"/>
            <p:cNvSpPr/>
            <p:nvPr/>
          </p:nvSpPr>
          <p:spPr>
            <a:xfrm>
              <a:off x="6138000" y="2837520"/>
              <a:ext cx="1944720" cy="11314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eorgia"/>
                </a:rPr>
                <a:t>Учитель-предметни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_s1038"/>
            <p:cNvSpPr/>
            <p:nvPr/>
          </p:nvSpPr>
          <p:spPr>
            <a:xfrm flipV="1">
              <a:off x="4583160" y="3119760"/>
              <a:ext cx="0" cy="5666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_s1039"/>
            <p:cNvSpPr/>
            <p:nvPr/>
          </p:nvSpPr>
          <p:spPr>
            <a:xfrm>
              <a:off x="3611160" y="1989000"/>
              <a:ext cx="1944720" cy="1131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Georgia"/>
                </a:rPr>
                <a:t>А</a:t>
              </a:r>
              <a:r>
                <a:rPr b="1" lang="ru-RU" sz="1800" spc="-1" strike="noStrike">
                  <a:solidFill>
                    <a:srgbClr val="000000"/>
                  </a:solidFill>
                  <a:latin typeface="Georgia"/>
                </a:rPr>
                <a:t>дминистра-ция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_s1040"/>
            <p:cNvSpPr/>
            <p:nvPr/>
          </p:nvSpPr>
          <p:spPr>
            <a:xfrm>
              <a:off x="3611160" y="3686400"/>
              <a:ext cx="1944720" cy="113148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Georgia"/>
                </a:rPr>
                <a:t>Пятиклас-сни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4" name="Picture 55" descr="Новый рисунок (1)"/>
          <p:cNvPicPr/>
          <p:nvPr/>
        </p:nvPicPr>
        <p:blipFill>
          <a:blip r:embed="rId9"/>
          <a:stretch/>
        </p:blipFill>
        <p:spPr>
          <a:xfrm>
            <a:off x="6962760" y="476280"/>
            <a:ext cx="189540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аренные де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бообучаемые (дети с проблемами в обучении и развитии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ные дети (дети с ограниченными возможностями здоровья, психофизически и соматически ослабленные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из проблемных и неблагополучных сем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ически запущенные дети.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Заголовок 1" descr=""/>
          <p:cNvPicPr/>
          <p:nvPr/>
        </p:nvPicPr>
        <p:blipFill>
          <a:blip r:embed="rId1"/>
          <a:stretch/>
        </p:blipFill>
        <p:spPr>
          <a:xfrm>
            <a:off x="450720" y="12600"/>
            <a:ext cx="8242560" cy="1414440"/>
          </a:xfrm>
          <a:prstGeom prst="rect">
            <a:avLst/>
          </a:prstGeom>
          <a:ln w="0">
            <a:noFill/>
          </a:ln>
        </p:spPr>
      </p:pic>
      <p:sp>
        <p:nvSpPr>
          <p:cNvPr id="149" name="Прямоугольник 4"/>
          <p:cNvSpPr/>
          <p:nvPr/>
        </p:nvSpPr>
        <p:spPr>
          <a:xfrm>
            <a:off x="500040" y="2000160"/>
            <a:ext cx="8464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учение документ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ланирование совместной работы с детьми и родителями «группы риск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ализация плана совместных мероприят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Заголовок 1" descr=""/>
          <p:cNvPicPr/>
          <p:nvPr/>
        </p:nvPicPr>
        <p:blipFill>
          <a:blip r:embed="rId1"/>
          <a:stretch/>
        </p:blipFill>
        <p:spPr>
          <a:xfrm>
            <a:off x="450720" y="79200"/>
            <a:ext cx="8242560" cy="1347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1" name=""/>
          <p:cNvGraphicFramePr/>
          <p:nvPr/>
        </p:nvGraphicFramePr>
        <p:xfrm>
          <a:off x="357120" y="1000080"/>
          <a:ext cx="8229600" cy="40291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2739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ероприят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тветственн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015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роль посещаемости занятий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роль текущей успеваемост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азание педагогической помощи в ликвидации пробелов в знаниях, умениях и навыках проблемных детей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влечение учащихся в  объединения дополнительного образования в  школе и  вне школы, общественно-полезную деятельность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ие профилактических бесед, разбор конфликтных ситуаций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ещение уроков с целью наблюдения за учащимс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правление на консультацию к психологу или мед. специалисту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йствие в трудоустройстве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мощь в выборе учебного заведения для дальнейшего образовани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ечение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ечение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ечение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ечение  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ечение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ечение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ечение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ечение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ечение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.  руководитель,  зам. дир. по УВ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. руководитель, зам.дир. по УВ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. руководители, учителя-предметни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. руководители, руководители  объединений ДО, соц. педаго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. руководители, соц. педагог, школьный Совет по профилактике, родител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ц. педагог, психоло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. руководители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ц. педагог,  Совет по профилактик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. руководител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ц. педагог, центр занятости насел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оло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. руководители, соц. педагог, психоло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2" name=""/>
          <p:cNvGraphicFramePr/>
          <p:nvPr/>
        </p:nvGraphicFramePr>
        <p:xfrm>
          <a:off x="357120" y="714240"/>
          <a:ext cx="8001000" cy="4000680"/>
        </p:xfrm>
        <a:graphic>
          <a:graphicData uri="http://schemas.openxmlformats.org/drawingml/2006/table">
            <a:tbl>
              <a:tblPr/>
              <a:tblGrid>
                <a:gridCol w="2667240"/>
                <a:gridCol w="2666880"/>
                <a:gridCol w="2666880"/>
              </a:tblGrid>
              <a:tr h="3240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ероприят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рок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тветственны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76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ещение семей детей группы риска и неблагополучных семей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ие консультаций для родителей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глашение родителей и детей на Совет по профилактике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тивизация деятельности родителей в организации и проведении родительских собраний, мероприятий школы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работка рекомендаций по воспитанию детей и улучшению взаимодействи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и дежурства родителей, сотрудников ОДН  на школьных дискотеках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я встреч на правовые темы с сотрудниками  ОДН, КДН, прокуратуры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ечение года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ечение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ечение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ечение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ечение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ечение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ечение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1644480" indent="-1644480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ные  руководители, соц.педагог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644480" indent="-1644480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кольный инспекто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644480" indent="-1644480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ные руководители,  педаго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644480" indent="-1644480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ц.педагог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644480" indent="-1644480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ные руководител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644480" indent="-1644480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ц.педагог, зам. по УВР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644480" indent="-1644480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ные руководители, психолог, родительский комит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644480" indent="-1644480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644480" indent="-1644480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циальный педагог, педагог-психолог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644480" indent="-1644480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644480" indent="-1644480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644480" indent="-1644480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циальный педагог, инспекто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644480" indent="-1644480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644480" indent="-1644480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644480" indent="-1644480" algn="just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министрация школы, соц.педаго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153" name="Заголовок 3" descr=""/>
          <p:cNvPicPr/>
          <p:nvPr/>
        </p:nvPicPr>
        <p:blipFill>
          <a:blip r:embed="rId1"/>
          <a:stretch/>
        </p:blipFill>
        <p:spPr>
          <a:xfrm>
            <a:off x="493560" y="-219240"/>
            <a:ext cx="824256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Заголовок 1" descr=""/>
          <p:cNvPicPr/>
          <p:nvPr/>
        </p:nvPicPr>
        <p:blipFill>
          <a:blip r:embed="rId1"/>
          <a:stretch/>
        </p:blipFill>
        <p:spPr>
          <a:xfrm>
            <a:off x="450720" y="103320"/>
            <a:ext cx="8242560" cy="1323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5" name=""/>
          <p:cNvGraphicFramePr/>
          <p:nvPr/>
        </p:nvGraphicFramePr>
        <p:xfrm>
          <a:off x="428760" y="1143000"/>
          <a:ext cx="8258040" cy="3965400"/>
        </p:xfrm>
        <a:graphic>
          <a:graphicData uri="http://schemas.openxmlformats.org/drawingml/2006/table">
            <a:tbl>
              <a:tblPr/>
              <a:tblGrid>
                <a:gridCol w="3411360"/>
                <a:gridCol w="4846680"/>
              </a:tblGrid>
              <a:tr h="4042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правление деятель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           </a:t>
                      </a: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иды рабо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977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  Профилактическо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кции. Беседы. Классные часы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оки «Право и ответственность», «Граждановедение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 со школьным инспектором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рс «Профилактика зависимостей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05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  Индивидуально-воспитательная рабо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седы. Совместная работа с  педагогм-психологом и классным руководителем. Обследование жилищно-бытовых условий.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04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 Правовой всеобуч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кции. Изучение правовых документов, Конвенции ООН «О правах ребенка», «Семейное право», «Административное право»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47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 с родителям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ительское собрания. Лекции. Консультации специалистов (психолог, социальный педагог, логопед, дефектолог, медицинский работник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042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 Реализация программ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Каникулы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ость детей группы риска. Трудовая деятельность, организация  пришкольного лагер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986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еклассная работ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атические дни недели: «День отказа от курения», «Правовая неделя». Общешкольные мероприятия: акции, конкурсы, внеклассные мероприятия. Посещение  музеев. Трудовая деятельность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02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ориентационная работа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агностика. Лекции. Подбор учебных заведений. Классные часы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6T17:35:41Z</dcterms:created>
  <dc:creator>Comp</dc:creator>
  <dc:description/>
  <dc:language>en-US</dc:language>
  <cp:lastModifiedBy>XTreme.ws</cp:lastModifiedBy>
  <dcterms:modified xsi:type="dcterms:W3CDTF">2014-01-04T15:49:55Z</dcterms:modified>
  <cp:revision>30</cp:revision>
  <dc:subject/>
  <dc:title>Слайд 1</dc:title>
</cp:coreProperties>
</file>