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1.wmf" ContentType="image/x-wmf"/>
  <Override PartName="/ppt/media/image5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8.png" ContentType="image/pn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056C-AD5D-4535-8B5A-8E352CA5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858E-3D51-4AEB-87D8-9FBB81C6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6AE7-D319-416E-86E7-43B04DB1B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9180-0188-4367-9465-C7562D6B1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0291-EDBA-43E2-97C0-BE4397778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E2EE-A89A-46EE-9F3B-70D07900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18DD-86B7-4139-84DF-4BAF5EED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F0D3-A685-4FB0-A4D5-2E831593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E5E9-409A-4028-8597-75759C85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C877-241D-4CB8-A681-C4DBF621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FB9A-5A12-4EC3-9763-9D131AFF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B130-C092-4945-BA44-48913D87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72B1-099E-44D7-8492-A3DBEB7B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2FD4-6EDC-4C7C-8A4A-CD60C010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B2E4-17C6-4C63-875E-340B05E7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8174-95EC-4ACC-95E7-FC58A02A8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DDEC-6CA4-41A2-B621-3988D53F1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4B211-1463-4D8B-85FD-F46897F7A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4F67D-33E5-49C4-A6A4-6DA70B27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0B0D3-C200-43CE-AA4F-523DBDC9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BDF23-F642-4DBA-A02E-E15B7200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C5A77-8160-4608-9DB1-13DF11B1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8FA6-8CFF-499E-8F39-D0117BB1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254F4-9C69-4B87-939F-4A9F43E7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337F6-5586-4302-9770-4CE800DE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423B6-80CF-4C56-85B8-F1ECB9F5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C28D2-BD34-4191-B474-27B356FF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B8299-13E6-4343-8152-873AC658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C3781-474A-4B26-BA43-58EE704B4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D6614-7531-42F9-A789-DBBD2C76B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6FB3-3BAB-4AEA-B234-B203C51A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5184-6E35-4E59-9553-378DF9D4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9AA4-0329-4871-9257-ECAE4C62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7263-FDB1-4C4F-B8F6-25DF38B4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7578-A174-4193-843D-97445316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551B-A2E8-4F5F-A94B-EAFEC51C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7946-F547-4E75-ACD0-D3911D2735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076F-5C30-4744-8EAE-FBF1910C94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F3F2-86E0-41E8-866D-9414D1C80C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social-teacher.ucoz.ru/index/0-8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774720" y="-115920"/>
            <a:ext cx="4857840" cy="3767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 rot="21083400">
            <a:off x="1393920" y="2808360"/>
            <a:ext cx="4238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циальный педаг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ригубенко Е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Заголовок 1" descr=""/>
          <p:cNvPicPr/>
          <p:nvPr/>
        </p:nvPicPr>
        <p:blipFill>
          <a:blip r:embed="rId1"/>
          <a:stretch/>
        </p:blipFill>
        <p:spPr>
          <a:xfrm>
            <a:off x="450720" y="-201600"/>
            <a:ext cx="8242560" cy="16286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499680" y="1928520"/>
            <a:ext cx="81867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Arial"/>
              </a:rPr>
              <a:t>Созидательные педагогические при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Arial"/>
              </a:rPr>
              <a:t>Приемы, способствующие формированию у воспитанника правильного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Arial"/>
              </a:rPr>
              <a:t>Приемы, построенные на понимании динамики чувств и интересов уче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Заголовок 1" descr=""/>
          <p:cNvPicPr/>
          <p:nvPr/>
        </p:nvPicPr>
        <p:blipFill>
          <a:blip r:embed="rId1"/>
          <a:stretch/>
        </p:blipFill>
        <p:spPr>
          <a:xfrm>
            <a:off x="450720" y="165240"/>
            <a:ext cx="8242560" cy="2608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тить внимание на позитивные стороны личности ребё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чь ему в осознании ответственности за выбор стратегии пове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действовать в определении шагов по выходу из проблемной ситу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ствовать осознанию необходимости обращения к специалистам, способным оказать действенную помощ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baby18"/>
          <p:cNvPicPr/>
          <p:nvPr/>
        </p:nvPicPr>
        <p:blipFill>
          <a:blip r:embed="rId2"/>
          <a:stretch/>
        </p:blipFill>
        <p:spPr>
          <a:xfrm>
            <a:off x="7215120" y="4572000"/>
            <a:ext cx="13716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Заголовок 1" descr=""/>
          <p:cNvPicPr/>
          <p:nvPr/>
        </p:nvPicPr>
        <p:blipFill>
          <a:blip r:embed="rId1"/>
          <a:stretch/>
        </p:blipFill>
        <p:spPr>
          <a:xfrm>
            <a:off x="444600" y="158760"/>
            <a:ext cx="8254800" cy="1273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Arial"/>
              </a:rPr>
              <a:t>с семьё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77933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Определение проблем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Изучение и оценка всех возможных вариантов решения проблем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Оценка возможностей семьи в самостоятельном обращении за помощью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Помощь в установлении контакта с учреждением 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Arial"/>
              </a:rPr>
              <a:t>с учреждением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Обращение социального педагога в учреждение, установление договоренности со специалистом, который в дальнейшем будет работать с семьё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Установление договоренности о возможности получения информации о работе с семьёй после обращения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social-teacher.ucoz.ru/index/0-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рдахаев Л. В. Социальная педагогика: учебник. – М.: Гардарики, 2006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китина Н. И., Глухова М. Ф. Методика и технология работы социального педагога. – М.: Владос, 2007.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Методические рекомендации для педагогов и специалистов образовательных учреждений по организации работы с детьми группы риска» МУ «Центр образования», 2009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ылова. Т.А. Социально-педагогические технологии в работе с детьми группы риска. Москва,Школьные технологии, 2010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MPj04394090000[1]"/>
          <p:cNvPicPr/>
          <p:nvPr/>
        </p:nvPicPr>
        <p:blipFill>
          <a:blip r:embed="rId3"/>
          <a:stretch/>
        </p:blipFill>
        <p:spPr>
          <a:xfrm>
            <a:off x="6143760" y="4048200"/>
            <a:ext cx="2388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MCj04379900000[1]"/>
          <p:cNvPicPr/>
          <p:nvPr/>
        </p:nvPicPr>
        <p:blipFill>
          <a:blip r:embed="rId2"/>
          <a:stretch/>
        </p:blipFill>
        <p:spPr>
          <a:xfrm>
            <a:off x="2916360" y="2852640"/>
            <a:ext cx="3271680" cy="31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Georgia"/>
              </a:rPr>
              <a:t>АДАПТАЦИЯ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способление организма к изменяющимся внешним условиям. Обычно возникает в связи с кардинальной сменой деятельности человека и его социального окруж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KIDS01"/>
          <p:cNvPicPr/>
          <p:nvPr/>
        </p:nvPicPr>
        <p:blipFill>
          <a:blip r:embed="rId1"/>
          <a:stretch/>
        </p:blipFill>
        <p:spPr>
          <a:xfrm>
            <a:off x="5867280" y="4302000"/>
            <a:ext cx="267660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1" descr=""/>
          <p:cNvPicPr/>
          <p:nvPr/>
        </p:nvPicPr>
        <p:blipFill>
          <a:blip r:embed="rId1"/>
          <a:stretch/>
        </p:blipFill>
        <p:spPr>
          <a:xfrm>
            <a:off x="438120" y="231840"/>
            <a:ext cx="8345520" cy="1195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Образовательный компонент</a:t>
            </a:r>
            <a:r>
              <a:rPr b="0" i="1" lang="ru-RU" sz="2400" spc="-1" strike="noStrike">
                <a:solidFill>
                  <a:srgbClr val="00b050"/>
                </a:solidFill>
                <a:latin typeface="Arial"/>
              </a:rPr>
              <a:t>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циально-педагогическая  помощь семье  в обучении и воспит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Посреднический компонент-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то организация и поддержание связей между детьми и взрослыми, между семьёй и государственными службами, организациями и учреждениями, способными оказать семье необходимую помощь и поддерж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Rectangle 53" descr=""/>
          <p:cNvPicPr/>
          <p:nvPr/>
        </p:nvPicPr>
        <p:blipFill>
          <a:blip r:embed="rId1"/>
          <a:stretch/>
        </p:blipFill>
        <p:spPr>
          <a:xfrm>
            <a:off x="378000" y="92160"/>
            <a:ext cx="8315280" cy="1334880"/>
          </a:xfrm>
          <a:prstGeom prst="rect">
            <a:avLst/>
          </a:prstGeom>
          <a:ln w="0">
            <a:noFill/>
          </a:ln>
        </p:spPr>
      </p:pic>
      <p:grpSp>
        <p:nvGrpSpPr>
          <p:cNvPr id="130" name="Diagram 38"/>
          <p:cNvGrpSpPr/>
          <p:nvPr/>
        </p:nvGrpSpPr>
        <p:grpSpPr>
          <a:xfrm>
            <a:off x="1084320" y="1989000"/>
            <a:ext cx="6998400" cy="4526280"/>
            <a:chOff x="1084320" y="1989000"/>
            <a:chExt cx="6998400" cy="4526280"/>
          </a:xfrm>
        </p:grpSpPr>
        <p:sp>
          <p:nvSpPr>
            <p:cNvPr id="131" name="_s1028"/>
            <p:cNvSpPr/>
            <p:nvPr/>
          </p:nvSpPr>
          <p:spPr>
            <a:xfrm flipH="1" flipV="1">
              <a:off x="2899080" y="3686040"/>
              <a:ext cx="842040" cy="283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029"/>
            <p:cNvSpPr/>
            <p:nvPr/>
          </p:nvSpPr>
          <p:spPr>
            <a:xfrm>
              <a:off x="1084320" y="2837520"/>
              <a:ext cx="1944720" cy="1131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eorgia"/>
                </a:rPr>
                <a:t>Классный руководите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30"/>
            <p:cNvSpPr/>
            <p:nvPr/>
          </p:nvSpPr>
          <p:spPr>
            <a:xfrm flipH="1">
              <a:off x="2899080" y="4534560"/>
              <a:ext cx="843480" cy="282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31"/>
            <p:cNvSpPr/>
            <p:nvPr/>
          </p:nvSpPr>
          <p:spPr>
            <a:xfrm>
              <a:off x="1084320" y="4535280"/>
              <a:ext cx="1944720" cy="1131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Georgia"/>
                </a:rPr>
                <a:t>Соцпедагог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032"/>
            <p:cNvSpPr/>
            <p:nvPr/>
          </p:nvSpPr>
          <p:spPr>
            <a:xfrm>
              <a:off x="4583160" y="4816440"/>
              <a:ext cx="720" cy="566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033"/>
            <p:cNvSpPr/>
            <p:nvPr/>
          </p:nvSpPr>
          <p:spPr>
            <a:xfrm>
              <a:off x="3611160" y="5383800"/>
              <a:ext cx="1944720" cy="1131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orgia"/>
                </a:rPr>
                <a:t>Родители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034"/>
            <p:cNvSpPr/>
            <p:nvPr/>
          </p:nvSpPr>
          <p:spPr>
            <a:xfrm>
              <a:off x="5424120" y="4533840"/>
              <a:ext cx="843120" cy="283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35"/>
            <p:cNvSpPr/>
            <p:nvPr/>
          </p:nvSpPr>
          <p:spPr>
            <a:xfrm>
              <a:off x="6138000" y="4535280"/>
              <a:ext cx="1944720" cy="1131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eorgia"/>
                </a:rPr>
                <a:t>Психолог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036"/>
            <p:cNvSpPr/>
            <p:nvPr/>
          </p:nvSpPr>
          <p:spPr>
            <a:xfrm flipV="1">
              <a:off x="5424120" y="3686040"/>
              <a:ext cx="843120" cy="282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037"/>
            <p:cNvSpPr/>
            <p:nvPr/>
          </p:nvSpPr>
          <p:spPr>
            <a:xfrm>
              <a:off x="6138000" y="2837520"/>
              <a:ext cx="1944720" cy="1131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eorgia"/>
                </a:rPr>
                <a:t>Учитель-предметн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8"/>
            <p:cNvSpPr/>
            <p:nvPr/>
          </p:nvSpPr>
          <p:spPr>
            <a:xfrm flipV="1">
              <a:off x="4583160" y="3119760"/>
              <a:ext cx="0" cy="566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039"/>
            <p:cNvSpPr/>
            <p:nvPr/>
          </p:nvSpPr>
          <p:spPr>
            <a:xfrm>
              <a:off x="3611160" y="1989000"/>
              <a:ext cx="1944720" cy="1131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Georgia"/>
                </a:rPr>
                <a:t>А</a:t>
              </a:r>
              <a:r>
                <a:rPr b="1" lang="ru-RU" sz="1800" spc="-1" strike="noStrike">
                  <a:solidFill>
                    <a:srgbClr val="000000"/>
                  </a:solidFill>
                  <a:latin typeface="Georgia"/>
                </a:rPr>
                <a:t>дминистра-ци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40"/>
            <p:cNvSpPr/>
            <p:nvPr/>
          </p:nvSpPr>
          <p:spPr>
            <a:xfrm>
              <a:off x="3611160" y="3686400"/>
              <a:ext cx="1944720" cy="11314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Georgia"/>
                </a:rPr>
                <a:t>Пятиклас-сн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Picture 55" descr="Новый рисунок (1)"/>
          <p:cNvPicPr/>
          <p:nvPr/>
        </p:nvPicPr>
        <p:blipFill>
          <a:blip r:embed="rId9"/>
          <a:stretch/>
        </p:blipFill>
        <p:spPr>
          <a:xfrm>
            <a:off x="6962760" y="476280"/>
            <a:ext cx="18954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аренные д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ообучаемые (дети с проблемами в обучении и развит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ные дети (дети с ограниченными возможностями здоровья, психофизически и соматически ослабленны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из проблемных и неблагополучных сем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 запущенные дети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Заголовок 1" descr=""/>
          <p:cNvPicPr/>
          <p:nvPr/>
        </p:nvPicPr>
        <p:blipFill>
          <a:blip r:embed="rId1"/>
          <a:stretch/>
        </p:blipFill>
        <p:spPr>
          <a:xfrm>
            <a:off x="450720" y="12600"/>
            <a:ext cx="8242560" cy="141444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4"/>
          <p:cNvSpPr/>
          <p:nvPr/>
        </p:nvSpPr>
        <p:spPr>
          <a:xfrm>
            <a:off x="500040" y="2000160"/>
            <a:ext cx="846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докуме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нирование совместной работы с детьми и родителями «группы рис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ализация плана совместных меропри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Заголовок 1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34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357120" y="1000080"/>
          <a:ext cx="8229600" cy="4029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273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стве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15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посещаемости занят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текущей успеваем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педагогической помощи в ликвидации пробелов в знаниях, умениях и навыках проблемных дет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влечение учащихся в  объединения дополнительного образования в  школе и  вне школы, общественно-полезную деятельност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профилактических бесед, разбор конфликтных ситуац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е уроков с целью наблюдения за учащим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 на консультацию к психологу или мед. специалист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йствие в трудоустройств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ь в выборе учебного заведения для дальнейшего образов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 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.  руководитель,  зам. дир. по УВ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. руководитель, зам.дир. по УВ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. руководители, учителя-предмет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. руководители, руководители  объединений ДО, соц. педаг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. руководители, соц. педагог, школьный Совет по профилактике, роди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. педагог, психо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. руководители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. педагог,  Совет по профилакти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. руководи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. педагог, центр занятости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. руководители, соц. педагог, психо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357120" y="714240"/>
          <a:ext cx="8001000" cy="400068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24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ственн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76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е семей детей группы риска и неблагополучных сем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консультаций для родител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глашение родителей и детей на Совет по профилактик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изация деятельности родителей в организации и проведении родительских собраний, мероприятий школ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рекомендаций по воспитанию детей и улучшению взаимодейств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и дежурства родителей, сотрудников ОДН  на школьных дискотек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встреч на правовые темы с сотрудниками  ОДН, КДН, прокуратур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644480" indent="-164448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ные  руководители, соц.педагог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44480" indent="-164448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ьный инспекто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44480" indent="-164448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ные руководители,  педаг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44480" indent="-164448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.педагог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44480" indent="-164448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ные руководи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44480" indent="-164448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.педагог, зам. по УВР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44480" indent="-164448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ные руководители, психолог, родительский комит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44480" indent="-164448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44480" indent="-164448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ый педагог, педагог-психоло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44480" indent="-164448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44480" indent="-164448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44480" indent="-164448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ый педагог, инспек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44480" indent="-164448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44480" indent="-164448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44480" indent="-1644480" algn="just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 школы, соц.педаг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53" name="Заголовок 3" descr=""/>
          <p:cNvPicPr/>
          <p:nvPr/>
        </p:nvPicPr>
        <p:blipFill>
          <a:blip r:embed="rId1"/>
          <a:stretch/>
        </p:blipFill>
        <p:spPr>
          <a:xfrm>
            <a:off x="493560" y="-219240"/>
            <a:ext cx="82425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Заголовок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32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428760" y="1143000"/>
          <a:ext cx="8258040" cy="3965400"/>
        </p:xfrm>
        <a:graphic>
          <a:graphicData uri="http://schemas.openxmlformats.org/drawingml/2006/table">
            <a:tbl>
              <a:tblPr/>
              <a:tblGrid>
                <a:gridCol w="3411360"/>
                <a:gridCol w="4846680"/>
              </a:tblGrid>
              <a:tr h="404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правление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ы раб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97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  Профилактиче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ции. Беседы. Классные час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ки «Право и ответственность», «Граждановедение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о школьным инспектор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с «Профилактика зависимостей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  Индивидуально-воспитательная раб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ы. Совместная работа с  педагогм-психологом и классным руководителем. Обследование жилищно-бытовых условий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4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 Правовой всеобуч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ции. Изучение правовых документов, Конвенции ООН «О правах ребенка», «Семейное право», «Административное право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родителям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ьское собрания. Лекции. Консультации специалистов (психолог, социальный педагог, логопед, дефектолог, медицинский работник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4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 Реализация программ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аникулы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ость детей группы риска. Трудовая деятельность, организация  пришкольного лагер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8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классная работ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тические дни недели: «День отказа от курения», «Правовая неделя». Общешкольные мероприятия: акции, конкурсы, внеклассные мероприятия. Посещение  музеев. Трудовая деятельност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ориентационная работ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. Лекции. Подбор учебных заведений. Классные час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6T17:35:41Z</dcterms:created>
  <dc:creator>Comp</dc:creator>
  <dc:description/>
  <dc:language>en-US</dc:language>
  <cp:lastModifiedBy>XTreme.ws</cp:lastModifiedBy>
  <dcterms:modified xsi:type="dcterms:W3CDTF">2014-01-04T15:49:55Z</dcterms:modified>
  <cp:revision>30</cp:revision>
  <dc:subject/>
  <dc:title>Слайд 1</dc:title>
</cp:coreProperties>
</file>