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6563A-76E3-400A-A4DF-FB72AC8CC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B8869-F1E9-48F4-B03B-AAB9697C4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85108-054E-4357-ACBF-551BC73C2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9477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242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2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9477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242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E00D2-2402-4384-890E-EE2BF7EB9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0A929-F982-44D9-B855-FB58DA6E4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DD423-0F7E-481F-A777-345F0B631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1B001-BD78-4D31-A4A0-075198A31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FB73B-9024-4706-8463-7B5EF8968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CE22F-0038-4375-9949-2F9D1D9CE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371240" y="533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75378-CE52-4312-82F4-7B38DADBC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B1EFD-6AAC-430B-ADA5-E7D415EE9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04506-3011-4305-BE6B-2D4FC00CB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501F2-95EE-461C-B835-662DDE232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00066-4B70-4F15-8540-E1EC2C308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55BF1-F577-44F5-AD83-405DB9D2B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9FF50-C107-4D8A-AD2D-75B2754B5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9477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5242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3712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9477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5242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5C245-BC46-4791-B934-37E6A75BD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F5479-7DFE-486E-858C-3F378F0EB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A4EF6-DCE4-4EDC-90DA-09703FABF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8BAA0-2236-472F-89D9-516279938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371240" y="533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5F2DE-B0EE-4592-AA26-E74910C39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9EF8C-7933-438D-BA70-DF3A7CC26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A2B98-60C6-4426-93D1-87E4001E9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F3DB0-0320-48DA-9011-C3AE09A3A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3712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342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E89E4-4F5A-4082-83F1-68090634C55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6" descr="C:\WINNT\Profiles\rebeccal\Personal\pics\strtegic1.jpg"/>
          <p:cNvPicPr/>
          <p:nvPr/>
        </p:nvPicPr>
        <p:blipFill>
          <a:blip r:embed="rId2"/>
          <a:stretch/>
        </p:blipFill>
        <p:spPr>
          <a:xfrm>
            <a:off x="0" y="0"/>
            <a:ext cx="1219320" cy="68580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D29AC-7310-4B12-98BB-91EC6D06963D}" type="slidenum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file:///Prezentacija.ppt" TargetMode="Externa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86950"/>
                </a:solidFill>
                <a:latin typeface="Times New Roman"/>
              </a:rPr>
              <a:t>Как создать сборник стихов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5181120" y="4038120"/>
            <a:ext cx="396108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86950"/>
                </a:solidFill>
                <a:latin typeface="Times New Roman"/>
              </a:rPr>
              <a:t>Инструкц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6600"/>
                </a:solidFill>
                <a:latin typeface="Times New Roman"/>
              </a:rPr>
              <a:t>Составление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оберите весь материа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оставьте комментари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асположите стихотворения в нужной последовательност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6600"/>
                </a:solidFill>
                <a:latin typeface="Times New Roman"/>
              </a:rPr>
              <a:t>Обсуждение результатов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се ли участники проекта приняли участие в работе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ожно ли еще что-то изменить или добавить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ак вы сами оцениваете свою работу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6600"/>
                </a:solidFill>
                <a:latin typeface="Times New Roman"/>
              </a:rPr>
              <a:t>Критерии оценки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 оценивании вашего сборника будут учитываться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9966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дборка стихотворе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9966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ачество иллюстраций и соответствие их содержанию стихотворе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9966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формление сборни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94920" y="274284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3300"/>
                </a:solidFill>
                <a:uFillTx/>
                <a:latin typeface="Times New Roman"/>
                <a:hlinkClick r:id="rId1"/>
              </a:rPr>
              <a:t>Посмотреть пример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6600"/>
                </a:solidFill>
                <a:latin typeface="Times New Roman"/>
              </a:rPr>
              <a:t>Цель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расочный сборник стихотворений «Времена года в творчестве А.С. Пушкина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6600"/>
                </a:solidFill>
                <a:latin typeface="Times New Roman"/>
              </a:rPr>
              <a:t>План работы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оздать группу из 5-6 человек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одумать конечный вариант сборника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аспределить функции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пределить сроки выполнения каждого вида работы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бсудить результат, внести изменения, если это необходимо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71240" y="1295280"/>
            <a:ext cx="7543800" cy="373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6600"/>
                </a:solidFill>
                <a:latin typeface="Times New Roman"/>
              </a:rPr>
              <a:t>Варианты оформления сборника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езентац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Брошюр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еб-страниц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8960" y="1828800"/>
            <a:ext cx="754380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6600"/>
                </a:solidFill>
                <a:latin typeface="Times New Roman"/>
              </a:rPr>
              <a:t>Этапы создания сборника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6600"/>
                </a:solidFill>
                <a:latin typeface="Times New Roman"/>
              </a:rPr>
              <a:t>Внимание!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аждый участник проекта выбирает себе определенный вид работы, но выполняет его максимально хорошо, потому что сборник будет оцениваться в целом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Picture 5" descr="C:\Program Files\Common Files\Microsoft Shared\Clipart\cagcat50\BD07153_.WMF"/>
          <p:cNvPicPr/>
          <p:nvPr/>
        </p:nvPicPr>
        <p:blipFill>
          <a:blip r:embed="rId1"/>
          <a:stretch/>
        </p:blipFill>
        <p:spPr>
          <a:xfrm>
            <a:off x="6172200" y="2666880"/>
            <a:ext cx="2332080" cy="23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6600"/>
                </a:solidFill>
                <a:latin typeface="Times New Roman"/>
              </a:rPr>
              <a:t>Подборка стихотворений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льзуясь сборниками А.С. Пушкина подберите стихотворения, описывающие времена год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ередайте этот материал оформителя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6600"/>
                </a:solidFill>
                <a:latin typeface="Times New Roman"/>
              </a:rPr>
              <a:t>Оформление сборника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оиллюстрируйте каждое стихотворение или подберите уже готовые иллюстраци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мните, что оформление должно полностью соответствовать содержанию стихотворению. Не рисуйте просто весну или зим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1T11:25:28Z</dcterms:created>
  <dc:creator>Гаврилина Ольга</dc:creator>
  <dc:description/>
  <dc:language>en-US</dc:language>
  <cp:lastModifiedBy>Коля</cp:lastModifiedBy>
  <dcterms:modified xsi:type="dcterms:W3CDTF">2013-04-24T04:38:25Z</dcterms:modified>
  <cp:revision>6</cp:revision>
  <dc:subject/>
  <dc:title>Как создать сборник стихов</dc:title>
</cp:coreProperties>
</file>