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30BA-3AC2-4ED7-9BCB-7F56FD8D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7036-D0D7-4F79-BB0E-6CDD0BF3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B01B-FB1F-4368-8FF1-BB46E690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25EF-5EAD-40E6-B3FD-76DF31DA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FE19-BA2C-4011-B99B-8F4B8B48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534D-1B2D-4BD5-ADEE-CEABBF16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F730-39F2-45F6-9E5D-0E693851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D2AC-4B03-4A6E-BB22-E1C07312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542C-202E-424F-B4C3-30902795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D2E8-36CF-4D82-B911-BBF69BFA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3AF3-7C66-4C55-A4D3-6515DDCE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A270-C717-4697-8E81-C1E5562A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BD89-E208-4060-AD3C-D4486BAC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5B18-778F-46F7-A306-7E033951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3F21-7E4B-4460-9E90-D8D9680E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BDF0-433F-470E-A252-315FE553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97F0-580B-45C8-BD45-504320F4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1B05-977D-43AA-9E13-52FAFB42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022E-0041-40AE-B37B-434AA6FA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04E7-B2EC-4BC9-B532-52457E85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829F-A07D-4645-8DBA-E36B1450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254D-48AD-43DA-8F24-1266E373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22DA-F2DF-4370-ABAD-7474A62E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31DE-E0B1-4890-BD1B-07A3DAFC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1C1E-6AF7-4FF9-A322-DCFA86E422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C:\WINNT\Profiles\rebeccal\Personal\pics\strtegic1.jpg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4A0E-5734-4E33-A616-1063BC3383D7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Prezentacija.ppt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86950"/>
                </a:solidFill>
                <a:latin typeface="Times New Roman"/>
              </a:rPr>
              <a:t>Как создать сборник стихов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86950"/>
                </a:solidFill>
                <a:latin typeface="Times New Roman"/>
              </a:rPr>
              <a:t>Инстру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Составление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ерите весь материа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авьте комментар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оложите стихотворения в нужной последователь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Обсуждение результатов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 ли участники проекта приняли участие в работ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но ли еще что-то изменить или добави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ы сами оцениваете свою работ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Критерии оценки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оценивании вашего сборника будут учитывать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борка стихотвор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чество иллюстраций и соответствие их содержанию стихотвор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формление сбор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2742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3300"/>
                </a:solidFill>
                <a:uFillTx/>
                <a:latin typeface="Times New Roman"/>
                <a:hlinkClick r:id="rId1"/>
              </a:rPr>
              <a:t>Посмотреть пример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Цель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асочный сборник стихотворений «Времена года в творчестве А.С. Пушкин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План работ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ть группу из 5-6 человек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думать конечный вариант сборн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ить функц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ить сроки выполнения каждого вида работ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судить результат, внести изменения, если это необходим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12952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Варианты оформления сборника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з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рошю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б-страни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182880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Этапы создания сборника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Внимание!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ждый участник проекта выбирает себе определенный вид работы, но выполняет его максимально хорошо, потому что сборник будет оцениваться в целом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C:\Program Files\Common Files\Microsoft Shared\Clipart\cagcat50\BD07153_.WMF"/>
          <p:cNvPicPr/>
          <p:nvPr/>
        </p:nvPicPr>
        <p:blipFill>
          <a:blip r:embed="rId1"/>
          <a:stretch/>
        </p:blipFill>
        <p:spPr>
          <a:xfrm>
            <a:off x="6172200" y="2666880"/>
            <a:ext cx="233208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Подборка стихотворений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ьзуясь сборниками А.С. Пушкина подберите стихотворения, описывающие времена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дайте этот материал оформителя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Оформление сборника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иллюстрируйте каждое стихотворение или подберите уже готовые иллюстр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ните, что оформление должно полностью соответствовать содержанию стихотворению. Не рисуйте просто весну или зи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11:25:28Z</dcterms:created>
  <dc:creator>Гаврилина Ольга</dc:creator>
  <dc:description/>
  <dc:language>en-US</dc:language>
  <cp:lastModifiedBy>Коля</cp:lastModifiedBy>
  <dcterms:modified xsi:type="dcterms:W3CDTF">2013-04-24T04:38:25Z</dcterms:modified>
  <cp:revision>6</cp:revision>
  <dc:subject/>
  <dc:title>Как создать сборник стихов</dc:title>
</cp:coreProperties>
</file>