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8F5-7499-4503-9CFD-4262814E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9EB-1B3B-46C2-9B11-EAE82E35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3A8-7D89-461F-9DB7-4925048C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625-3EE1-4B49-8C06-55962215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990B-2F3C-4059-9C26-65DFAD67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38F7-90D7-472B-8B69-1DE28DC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DF5C-162B-4524-A222-15022F03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CAEC-C330-417E-9273-F65259C9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C4D2-3BFA-4E07-8B97-CBDD9F37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99F3-1209-4A73-A96A-1BE514FB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DD49-B2B3-4179-B3D1-A39352B5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EF4-4C01-4313-A4EA-4CE62985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6F96-42DE-4227-B77A-5E3EEEAD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E175-F94B-427F-9A43-3F6A3DB0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C4F2-8B16-4321-A93B-A806CFC3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BB30-7ADF-4A24-A9AE-4A19D977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F963-DAB1-4B38-B8C4-91DD2631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DF9-8C98-4F3A-B50D-F672B80B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2AB-242E-4742-826D-EF9D4E02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DC4-3488-48EE-90DA-C7CC0B98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B3A-9141-4643-8DA3-90A19BF2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46C-C101-40B1-A4D2-E6B4D6D4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B9E-AA98-41A7-966B-411434C5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18C-AA1E-4CBE-8322-BF255E8C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ABE2-D1BB-4798-9B64-3DC10FE638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FF3D-B531-4BA5-819E-EB244B437ED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Prezentacija.pp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86950"/>
                </a:solidFill>
                <a:latin typeface="Times New Roman"/>
              </a:rPr>
              <a:t>Как создать сборник стихов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86950"/>
                </a:solidFill>
                <a:latin typeface="Times New Roman"/>
              </a:rPr>
              <a:t>И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Составлени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ерите весь мате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коммента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оложите стихотворения в нужн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Обсуждение результатов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ли участники проекта приняли участие в рабо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но ли еще что-то изменить или до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 сами оцениваете свою рабо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Критерии оценки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оценивании вашего сборника будут учитывать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борка стихотвор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о иллюстраций и соответствие их содержанию стихотвор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формление сбор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2742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Посмотреть пример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Цель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очный сборник стихотворений «Времена года в творчестве А.С. Пушкин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группу из 5-6 челове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умать конечный вариант сборн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ить функц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роки выполнения каждого вида рабо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судить результат, внести изменения, если это необходим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12952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Варианты оформления сбор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ошю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б-стран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Этапы создания сбор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Внимание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ый участник проекта выбирает себе определенный вид работы, но выполняет его максимально хорошо, потому что сборник будет оцениваться в целом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C:\Program Files\Common Files\Microsoft Shared\Clipart\cagcat50\BD07153_.WMF"/>
          <p:cNvPicPr/>
          <p:nvPr/>
        </p:nvPicPr>
        <p:blipFill>
          <a:blip r:embed="rId1"/>
          <a:stretch/>
        </p:blipFill>
        <p:spPr>
          <a:xfrm>
            <a:off x="6172200" y="2666880"/>
            <a:ext cx="23320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одборка стихотворений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ьзуясь сборниками А.С. Пушкина подберите стихотворения, описывающие времена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айте этот материал оформител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Оформление сбор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ллюстрируйте каждое стихотворение или подберите уже готовые иллюст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ите, что оформление должно полностью соответствовать содержанию стихотворению. Не рисуйте просто весну или зи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1:25:28Z</dcterms:created>
  <dc:creator>Гаврилина Ольга</dc:creator>
  <dc:description/>
  <dc:language>en-US</dc:language>
  <cp:lastModifiedBy>Коля</cp:lastModifiedBy>
  <dcterms:modified xsi:type="dcterms:W3CDTF">2013-04-24T04:38:25Z</dcterms:modified>
  <cp:revision>6</cp:revision>
  <dc:subject/>
  <dc:title>Как создать сборник стихов</dc:title>
</cp:coreProperties>
</file>