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C07-78D6-476D-A97F-428280A6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318-A7E5-4156-BCC4-E781E764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4D4-9DB5-48B3-A788-1ED8DF75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BC4-D5A6-4498-8D8D-4A279B0B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1D1-BAEA-41EF-BF6E-FF284EDC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E87-76E2-465E-90C3-E2EE500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A17-F8B7-41AD-A5EC-43238FB4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A5E-8A9C-4427-85B2-07994DCF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D19-9F02-42A9-A53A-A0DC70A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3B6-AACA-494E-A0AB-9280C55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2D5-36BE-4E6A-B42D-30CA262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88C-EFD2-4C05-BE25-4BA13E5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C421-8B47-4940-AF24-0902ADA66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solnet.ee/sol/021/k_316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Возле печки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900000" y="98100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826920" y="476280"/>
            <a:ext cx="4435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6000"/>
                    </a:srgbClr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узы к а  м о е г о </a:t>
            </a:r>
            <a:endParaRPr b="1" lang="en-US" sz="1800" spc="1" strike="noStrike">
              <a:ln w="12600">
                <a:solidFill>
                  <a:srgbClr val="990033">
                    <a:alpha val="96000"/>
                  </a:srgbClr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6000"/>
                    </a:srgbClr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ода</a:t>
            </a:r>
            <a:endParaRPr b="1" lang="en-US" sz="1800" spc="1" strike="noStrike">
              <a:ln w="12600">
                <a:solidFill>
                  <a:srgbClr val="990033">
                    <a:alpha val="96000"/>
                  </a:srgbClr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9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971640" y="907920"/>
            <a:ext cx="1724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РМО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11" descr="балалайка"/>
          <p:cNvPicPr/>
          <p:nvPr/>
        </p:nvPicPr>
        <p:blipFill>
          <a:blip r:embed="rId1"/>
          <a:stretch/>
        </p:blipFill>
        <p:spPr>
          <a:xfrm>
            <a:off x="2916360" y="3933720"/>
            <a:ext cx="2539800" cy="262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10"/>
          <p:cNvSpPr txBox="1"/>
          <p:nvPr/>
        </p:nvSpPr>
        <p:spPr>
          <a:xfrm>
            <a:off x="4572000" y="3716280"/>
            <a:ext cx="219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ЛАЛАЙ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12" descr="мальчик с гармошкой"/>
          <p:cNvPicPr/>
          <p:nvPr/>
        </p:nvPicPr>
        <p:blipFill>
          <a:blip r:embed="rId2"/>
          <a:stretch/>
        </p:blipFill>
        <p:spPr>
          <a:xfrm>
            <a:off x="2987640" y="69228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3"/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1979640" y="191628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99">
                      <a:alpha val="91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частушка</a:t>
            </a:r>
            <a:endParaRPr b="1" lang="en-US" sz="1800" spc="1" strike="noStrike">
              <a:ln w="12600">
                <a:solidFill>
                  <a:srgbClr val="003399">
                    <a:alpha val="91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2340000" y="3933720"/>
            <a:ext cx="5229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одное творчество - фолькло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755640" y="33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песня</a:t>
            </a:r>
            <a:endParaRPr b="1" lang="en-US" sz="1800" spc="1" strike="noStrike">
              <a:ln w="12600">
                <a:solidFill>
                  <a:srgbClr val="990033">
                    <a:alpha val="9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755640" y="33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песня</a:t>
            </a:r>
            <a:endParaRPr b="1" lang="en-US" sz="1800" spc="1" strike="noStrike">
              <a:ln w="12600">
                <a:solidFill>
                  <a:srgbClr val="990033">
                    <a:alpha val="9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52560" y="2214720"/>
            <a:ext cx="4562280" cy="3385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 народе создавалась музык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ногие народные песни слагались ещё в то далёкое от нас время. Когда музыке ни кого не учили, когда не было музыкальных инструментов, музыкальных школ. В те времена песни сочиняли самоучки, любители и мастера петь и играть на инструментах, которые придумывали сами. Эти песни сочинял народ, отсюда и пошло название «НАРОДНЫЕ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651640" y="4581360"/>
            <a:ext cx="31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есня, русская песн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к же ты хорош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есня, русская песня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Жизни нашей душ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476360" y="5877000"/>
            <a:ext cx="64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>
                    <a:alpha val="96000"/>
                  </a:srgbClr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есня-душа народа</a:t>
            </a:r>
            <a:endParaRPr b="1" lang="en-US" sz="1800" spc="1" strike="noStrike">
              <a:ln w="0">
                <a:noFill/>
              </a:ln>
              <a:solidFill>
                <a:srgbClr val="0000cc">
                  <a:alpha val="96000"/>
                </a:srgbClr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9">
            <a:hlinkClick r:id="" action="ppaction://hlinkshowjump?jump=nextslide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zavol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535608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 rot="17703000">
            <a:off x="239400" y="56880"/>
            <a:ext cx="227628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13140000"/>
                </a:gradFill>
                <a:latin typeface="Arial"/>
              </a:rPr>
              <a:t>Музы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1314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13140000"/>
                </a:gradFill>
                <a:latin typeface="Arial"/>
              </a:rPr>
              <a:t>моего на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13140000"/>
              </a:gradFill>
              <a:latin typeface="Arial"/>
              <a:ea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>
            <a:hlinkClick r:id="rId2" action="ppaction://hlinksldjump"/>
          </p:cNvPr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468360" y="3500280"/>
            <a:ext cx="8209080" cy="246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асту́шка — короткая русская народная песня, обычно, юмористического содержания, передаваемая обычно устно. Таким образом, частушка является элементом фольклора. Особенное развитие изустное творчество получает в областях, запрещенных цензурой. В предсоветскую эпоху, к таким темам относилась религия. В эпоху СССР, большинство частушек имело острую политическую или сексуальную направленность; многие содержали ненормативную лекс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Текст частушки — обычно четверостишие, написанное хореем, в котором рифмуются 2-я и 4-я строки (иногда перекрестно рифмуются все строки). Характерной чертой языка частушки является его выразительность и богатство языковых средств, часто выходящее за рамки литературного языка. Частушка часто исполняется под аккомпанемент </a:t>
            </a:r>
            <a:r>
              <a:rPr b="1" lang="ru-RU" sz="1200" spc="-1" strike="noStrike" u="sng">
                <a:solidFill>
                  <a:srgbClr val="9933ff"/>
                </a:solidFill>
                <a:uFillTx/>
                <a:latin typeface="Arial"/>
                <a:hlinkClick r:id="rId1" action="ppaction://hlinksldjump"/>
              </a:rPr>
              <a:t>гармони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9933ff"/>
                </a:solidFill>
                <a:uFillTx/>
                <a:latin typeface="Arial"/>
                <a:hlinkClick r:id="rId2" action="ppaction://hlinksldjump"/>
              </a:rPr>
              <a:t>балалайки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 Гармоника первоначально была для русских людей диковинным инструментом, как русская балалайка для иностранцев. Все удивлялись этому чуду. Но тульские мастера изучили устройство гармошки и стали изготавливать этот инструмент самостоятельно. Постепенно гармоника широко распространилась в России. Она-то и стала сопровождать исполнение частуше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24000" y="404640"/>
            <a:ext cx="3166920" cy="319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ff"/>
                </a:solidFill>
                <a:uFillTx/>
                <a:latin typeface="Monotype Corsiva"/>
                <a:hlinkClick r:id="rId3" action="ppaction://hlinksldjump"/>
              </a:rPr>
              <a:t>Печку</a:t>
            </a:r>
            <a:r>
              <a:rPr b="1" lang="ru-RU" sz="2000" spc="-1" strike="noStrike" u="sng">
                <a:solidFill>
                  <a:srgbClr val="9933ff"/>
                </a:solidFill>
                <a:uFillTx/>
                <a:latin typeface="Monotype Corsiva"/>
                <a:hlinkClick r:id="rId4" action="ppaction://hlinksldjump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письмами топил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Не подкладывала дро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Всё смотрела, как горе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Моя первая любовь!</a:t>
            </a:r>
            <a:r>
              <a:rPr b="1" lang="ru-RU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5" action="ppaction://hlinksldjump"/>
          </p:cNvPr>
          <p:cNvSpPr/>
          <p:nvPr/>
        </p:nvSpPr>
        <p:spPr>
          <a:xfrm>
            <a:off x="4716360" y="476280"/>
            <a:ext cx="2735280" cy="19234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Мы частушки вам споем И об этом, и о том, Вы послушайте, ребята, Как мы весело живем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1908000" y="177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99">
                      <a:alpha val="91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частушка</a:t>
            </a:r>
            <a:endParaRPr b="1" lang="en-US" sz="1800" spc="1" strike="noStrike">
              <a:ln w="12600">
                <a:solidFill>
                  <a:srgbClr val="003399">
                    <a:alpha val="91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>
            <a:hlinkClick r:id="rId6" action="ppaction://hlinksldjump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2195640" y="333360"/>
            <a:ext cx="52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одное творчество - фолькло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14" descr="фольклор"/>
          <p:cNvPicPr/>
          <p:nvPr/>
        </p:nvPicPr>
        <p:blipFill>
          <a:blip r:embed="rId1"/>
          <a:stretch/>
        </p:blipFill>
        <p:spPr>
          <a:xfrm>
            <a:off x="4284720" y="3284640"/>
            <a:ext cx="4510080" cy="3381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39640" y="2276640"/>
            <a:ext cx="691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Английское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folk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– народ,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lore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–учение. Вместе эти слова-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folklore –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переводятся как «народная мудрость». Именно так , уважительно и даже возвышено, принято во всём мире называть устное музыкальное и литературное народное . В произведениях устного народного творчества воплотились народный опыт, традиции, мировоззрение, то есть действительно переданная народная мудрос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гармонь"/>
          <p:cNvPicPr/>
          <p:nvPr/>
        </p:nvPicPr>
        <p:blipFill>
          <a:blip r:embed="rId2"/>
          <a:stretch/>
        </p:blipFill>
        <p:spPr>
          <a:xfrm>
            <a:off x="324000" y="33336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0" y="201312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0" y="383688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0" y="566100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0" y="18900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8244000" y="638172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388360" y="6473880"/>
            <a:ext cx="52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бабушка"/>
          <p:cNvPicPr/>
          <p:nvPr/>
        </p:nvPicPr>
        <p:blipFill>
          <a:blip r:embed="rId1"/>
          <a:stretch/>
        </p:blipFill>
        <p:spPr>
          <a:xfrm>
            <a:off x="6443640" y="3714840"/>
            <a:ext cx="2524320" cy="3143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2340000" y="765000"/>
            <a:ext cx="5184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«Деревенская музыка»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праведливо ли такое определение для гармон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059280" y="4797360"/>
            <a:ext cx="375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Бабушке на именины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инесли бидон малины,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 потом мы все в избушке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олоко налили в круж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Дмитрий Иль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1258920" y="2060640"/>
            <a:ext cx="669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 Все верно. У города музыка совсем иная, нежели песни и частушки под гармошку. Туда европейская культура проникала гораздо раньше и глубже, чем в деревню. Фортепиано, скрипка, оркестр, опера - куда уж было с ними тягаться глубинке. Ей оставались более простые инструменты, среди которых главными были гармонь и балалайка. В большинстве своем деревенские гармонисты не имеют специального музыкального образования. Да и сам инструмент был упрощенным: он как бы подстраивался под лад народной песни. Песню "Ой мороз, мороз" знаете? Она и ей подобные не содержат сложных хроматических ходов, которые встречаются в романсах, исполнявшихся под аккомпанемент роял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>
            <a:hlinkClick r:id="" action="ppaction://hlinkshowjump?jump=nextslide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>
            <a:hlinkClick r:id="rId1" action="ppaction://hlinksldjump"/>
          </p:cNvPr>
          <p:cNvSpPr/>
          <p:nvPr/>
        </p:nvSpPr>
        <p:spPr>
          <a:xfrm>
            <a:off x="611280" y="476280"/>
            <a:ext cx="5975280" cy="2014200"/>
          </a:xfrm>
          <a:prstGeom prst="rect">
            <a:avLst/>
          </a:prstGeom>
          <a:solidFill>
            <a:srgbClr val="cc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армо́нь (гармоника, гармошка) — язычковый клавишно-пневматический музыкальный инструмент с мехами и двумя кнопочными клавиатурами. Левая клавиатура предназначена для аккомпанемента: при нажатии одной кнопки звучит бас или целый аккорд. На правой клавиатуре играется мело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GARM">
            <a:hlinkClick r:id="" action="ppaction://hlinkshowjump?jump=previousslide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348000" y="299736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/>
          <p:cNvSpPr/>
          <p:nvPr/>
        </p:nvSpPr>
        <p:spPr>
          <a:xfrm>
            <a:off x="539640" y="2997360"/>
            <a:ext cx="25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>
            <a:hlinkClick r:id="rId3" action="ppaction://hlinksldjump"/>
          </p:cNvPr>
          <p:cNvSpPr/>
          <p:nvPr/>
        </p:nvSpPr>
        <p:spPr>
          <a:xfrm rot="895200">
            <a:off x="4643280" y="4076280"/>
            <a:ext cx="792360" cy="1657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11280" y="5589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армо́нь (гармоника, гармош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>
            <a:hlinkClick r:id="rId4" action="ppaction://hlinksldjump"/>
          </p:cNvPr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7524720" y="6021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971640" y="549360"/>
            <a:ext cx="6867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Детский музыкальный фолькл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258920" y="2637000"/>
            <a:ext cx="612144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льклор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общает детей к неписанным законам народной этики через пословицы, поговор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накомство с народным творчеством начинается у человека с пелёнок, с колыбельных песен, пестушек, потеше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детской песни имеется весь набор эмоциональных средств, необходимых для формирования человека, граждани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родные песни способствуют всестороннему развитию личности. Песня и музыка помогают преодолевать языковой и культурный барьер, возникающий между дедами и вну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0:10:10Z</dcterms:created>
  <dc:creator>cursant</dc:creator>
  <dc:description/>
  <dc:language>en-US</dc:language>
  <cp:lastModifiedBy>Коля</cp:lastModifiedBy>
  <dcterms:modified xsi:type="dcterms:W3CDTF">2013-09-13T11:46:24Z</dcterms:modified>
  <cp:revision>24</cp:revision>
  <dc:subject/>
  <dc:title>Слайд 1</dc:title>
</cp:coreProperties>
</file>