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720-FEAB-48AA-A1A7-79197FC0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E46-195A-48FF-8955-D9B10D36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C67C6-972E-43C0-AE5B-54D626DB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29FB4-D9CF-42BB-B6AE-D90E646A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597E0-6742-4C48-B3F4-99218144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A2788-02A0-4923-B2B9-EA59949D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86027-A988-49F8-8B8B-9BDA71E1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31657-C4E7-42B4-9966-7811DC8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F04D7-A706-407F-8DDA-15B52A6D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49FF9-B0EB-4DB4-9C83-18F2015B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804A6-4DE2-4933-AF05-9ECC49F7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01E-6B71-481E-838B-A27912A6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0D7-B56C-40CD-953A-A3F249BC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35E2-454A-4A3B-81B5-069B423C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FE3A-8116-446E-9662-051E479D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3B79-A781-4C76-A5A6-DCEEA055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96CA-F6D4-4ADE-8BEB-D6B9C1A8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6B36-59B2-443C-A3F2-A1702113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12F2-B86D-4D12-9EDC-0D100DE5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B3B8-5666-4F2E-8AD9-1F047E19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6DD-994C-4939-AE42-0042A472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19C8-2FEE-435D-A139-21635152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7D65-15ED-46FD-9446-D097B4A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CCED-5883-4AB9-83E7-4E14D096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5136-8EAF-4240-8581-8DDDABFB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E6F8-BB83-4424-8159-1FE2FD89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82FC-197E-4B04-95F1-8F77ED1A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898B-A584-4DB1-80E7-A0E6C651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B58F-6619-4E26-82D6-385578A3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71B7-5FF5-41FF-8214-2F8D4987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E72F-F170-4964-8EB6-F136F8BB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4DD-3E4B-4633-9532-A1781B53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CB68-6210-4447-8EF5-E8780A76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AAD5-D1F0-4233-83EE-E1987540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7DA9-8858-4271-B279-B1015481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E10A-C99E-4789-BAB0-DB08E9E6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B864-7DCC-40AB-B448-60C571E2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794B-A1D9-4A78-B004-3DAD9FA3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B8E6-38E6-45A5-8730-3032EE39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27DE-016E-41AC-9DE0-96BBE0C5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0EBB-4CD6-4C22-9EE3-3C08A62F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EC71-A430-41EC-9EDF-7AD25F9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02E-FFA5-4BD1-A7CD-D934E12A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B957-CB94-4325-9AAB-7D1E976E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0537-8B43-4AA1-B3D6-41522103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7508-8C46-4131-87DF-A1A8B166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B5613-C3F1-40E2-9A75-2B6E24C4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7A473-EF58-45D9-A82F-9A61BD03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C2F9-2AC2-4E18-8ADF-CF640E87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0F796-1066-42CD-8B8B-3C7DCB15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7E38-7DCE-4321-A00F-A0B40350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1A1F8-8A20-4F73-9E40-C918B76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A2279-E7D7-4D14-9D92-ECB7F078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D26-5FF4-40BA-8734-B844186A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95F6D-F820-4E0F-8099-F7449B70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18C49-FF3A-4A0B-91AE-578B9162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C8BA-ECEB-473A-85D4-E0E56745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DB4A5-BF84-4280-B79D-A17BED84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EA217-8807-4A04-8B89-D5751CFB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1217E-D996-42A6-8E6B-3FAF91C5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A725-9B16-4394-8B9D-B94C91F0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84C3D-B53F-4D62-ADB2-E1A3C3BA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E982-3C40-46C1-B5F6-D72012B3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95C1-1F55-4C56-AED3-3427F38F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B37-D6A8-4B87-B2EC-A9E34DB1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728FF-D75F-4BF9-A536-66BD78C7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2D8E-45B6-49C7-B52A-A3204F28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45C97-610A-49B8-9A50-375A8A03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516CB-7F34-4FB7-8418-EA5EF987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06E5-8028-4DCB-BE47-440F04F1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D800E-3256-4825-A94E-687EA1A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20CE-4FE2-47CB-B759-20A32011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CEBF2-5001-4309-8AFE-868D640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A5F88-DA84-41BE-814F-FB78707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409A6-2B80-4DEB-AEBE-18D41614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275-D19A-401C-BDBE-E15648C5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C817A-7361-4C26-A7F4-1795014B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3F7D9-B6D8-4815-AFF2-F983CFA6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0548E-BB83-439A-A7B1-87CE0EFE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BE850-918A-4822-A00C-70BA9AB6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3E96C-2BB8-4870-BD43-882E0E77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60047-34A9-461A-9F61-85ACF9EE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88388-112B-4744-90B7-9C1D3A7E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9F25-0D9D-43ED-90B4-66393880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1780F-C7E0-411D-A175-FB8ED4CA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FB4C-D443-4485-9C9C-88C2E19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2BD-2AEC-42BC-BD8A-9E6235D3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D02F7-7454-4024-A39A-0B50E6E8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533AA-9C13-4AD6-B7D8-39C3D25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0A644-37C6-47E0-9603-D9652A8E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86A45-B38F-4A08-A449-ED0A675E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5EBBF-26F6-4734-A099-00EC12C4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7131E-A3A9-4884-892D-F24C5C09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8BEE-760D-441A-B333-C721EE1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74119-B2E0-451B-A367-906C7F67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CB6E5-6FFE-4963-A826-E4B20FB8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B313F-5F6E-463B-BC32-EE4C8496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76E-FDA3-43BB-8872-E209CB7D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51F16-783D-4A1B-9538-3CD7B7F3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19D8B-08EB-4F12-AF44-225B74C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59B78-5F62-4EAD-82D5-7E38F92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CACF0-1915-436C-BAA1-CE724CF0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3BFF-A1A2-4FC6-8C97-DBD21630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9EFF1-7A32-43CC-9616-708DAD47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E019C-9BA0-4E76-B17E-385C18EB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CAE4A-7BFF-4318-8310-FEDDFBCA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1CF0E-7CAA-4F60-855E-D2D6914D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942DB-C40D-43A7-B30A-D661B439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C0DB-F232-41D6-BA8C-F3B93628FE6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0597-8D45-43AF-BAF3-6E4419B6DF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77B8-29C5-4E2F-B78B-BE098B4F9E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73FE-0126-4075-82B1-C996FFAD1D9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22A3-8713-4835-8F1E-7C63E79200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DFF9-21BD-4BB4-8000-4ACB649A5B9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66E5-5340-4D47-AE53-07699196BA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0C0B-66AA-4021-BEED-B52C6C2A7B8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1CAF-1D70-4DF0-8090-D3B76970DC6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98440" y="1279440"/>
            <a:ext cx="849168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378000" y="1957320"/>
            <a:ext cx="84675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3" descr=""/>
          <p:cNvPicPr/>
          <p:nvPr/>
        </p:nvPicPr>
        <p:blipFill>
          <a:blip r:embed="rId1"/>
          <a:stretch/>
        </p:blipFill>
        <p:spPr>
          <a:xfrm>
            <a:off x="317520" y="706320"/>
            <a:ext cx="858852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5042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пк\Desktop\2,5.gif"/>
          <p:cNvPicPr/>
          <p:nvPr/>
        </p:nvPicPr>
        <p:blipFill>
          <a:blip r:embed="rId1"/>
          <a:stretch/>
        </p:blipFill>
        <p:spPr>
          <a:xfrm>
            <a:off x="928800" y="64296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317520" y="993600"/>
            <a:ext cx="83757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85840" y="781200"/>
            <a:ext cx="840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1:33:01Z</dcterms:created>
  <dc:creator>Ольга</dc:creator>
  <dc:description/>
  <dc:language>en-US</dc:language>
  <cp:lastModifiedBy>Ольга</cp:lastModifiedBy>
  <dcterms:modified xsi:type="dcterms:W3CDTF">2012-03-01T15:49:39Z</dcterms:modified>
  <cp:revision>15</cp:revision>
  <dc:subject/>
  <dc:title>Проецирование точки на три плоскости</dc:title>
</cp:coreProperties>
</file>