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99E-C5CA-4A58-BEBF-8DCA4974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3E6-03B2-4CBD-88F0-BCCACF98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F83B8-3471-465A-963B-612B3D03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D09C3-01DE-4421-9338-F5E4CEBB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75506-5C29-4B1F-B36F-676F9588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30DCB-4700-42B5-9FB1-485A17C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F55B2-0903-46DE-8BAB-C591DBE6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E978F-97B8-4612-880A-A841B7D4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839C2-F99A-464B-95CE-1C1CFAA0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A2161-73EF-4B4E-903B-D367D19C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F4DB6-3136-4A78-BE06-AB1D3251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727-1D7A-43B9-8F1F-12FB2A6D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DAE-C1AE-4908-BB16-095D12A0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289C-1802-4861-A44E-043142C9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8C57-973B-4C2B-8523-8723857D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086C-04BB-4323-823D-D7E86755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59E0-C398-450B-83EF-915A0EC9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073A-7AB7-4982-A260-B05AB4BC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3A74-D49A-4617-A31B-E8BA958E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0164-886B-4F71-B0B0-FA2FBD7F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C9E-4F2F-43F2-930A-64EE048B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BEBC-AF8C-41E3-A227-E8B138D1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B9CE-8682-42F3-A097-4A587035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1093-5C4D-41A8-A53D-5D48DBED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9295-89AD-4420-B16C-4B454E86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F16B-56FF-4F84-9B32-A463D1D9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7F24-19BD-4B6B-B702-BF7C3816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7889E-D208-4A8E-8C4C-643BBFA9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EAE0-2704-4FEB-A2AB-0D9E54EC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E64A-A0D3-4D62-8DA8-AE0E6C2F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85DA-7057-4525-8CE3-B959B07C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6A5-F76B-4135-AC73-8EE29076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C369-5D28-4C80-A286-3B0E1B79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1A355-B374-4CE3-9EEF-422AC1F9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8C70A-C2D1-47C6-A125-647C42DF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81E6-7381-40F8-B5E0-B814217F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ABEF-6B0C-43E5-9302-4794E862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575D-BCA4-45BB-9B56-4FD666A0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2810-EA1B-42B4-BD59-412E91BD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DE776-8BD0-46EE-9611-823EBF23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EFD66-B2C8-4128-86B7-CE998669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3041E-FB53-4899-9E1F-9B58E214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54E-6506-4175-A53E-0340FF82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D9F91-BD46-4040-A082-2CA746CC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902D-57A3-407D-8E8A-E671579E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434C-703E-4AEB-873C-AE55B791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3E71-83D1-43CB-8ECE-70842318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1726-5445-451A-AA6D-E769A7D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EC0A4-7ED3-455A-87F3-9A73ED71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CD247-6741-451E-A4C0-21BA1F1C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6413D-507A-4E6A-8448-118D0820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82AE-FE28-4492-9BAC-9B7F794E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C101C-1D5B-4EF2-8CA6-254448E6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AC5-11B5-4CAA-A0AA-F74F5F56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27B20-CE47-4EA4-A67B-D6957ECC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36FB-7DC6-47F1-9922-E34D8F8B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3B8E0-7322-487E-813D-0384D6F9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D637-74F8-4882-8238-F5BDCACD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4AB5-314A-4E67-AE1F-7CDF02C6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EFA5F-6C76-47DD-BCCB-4E691440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C92A-16A5-41E3-9656-6846502E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FB884-D95B-42F7-B85C-58AA6781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F351-09E3-4F66-8871-DE2E9E6C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3D121-2460-4B7A-AA9D-E885334D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ACA-A39A-4F80-83D1-3356E990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76029-A351-4946-9771-34FC274F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C1707-421C-4CF3-AB68-BCE76D92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CD6BC-6593-4941-912E-0D1BCB07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5D003-D9BE-4825-B5BD-F3DBDE20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01304-34D8-4B04-A7C3-7D49AF9C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E903-43B0-4056-B0C9-25456068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717A-C639-4D9C-AE47-1EC9BD2E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34DBD-BD93-4E71-8F12-1B89410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92892-0744-4917-B0EF-6632D967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8EAC8-77FE-487F-B0B3-8C8A3B7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2D9-6516-4CBA-9B12-BE945D9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B4577-360A-4A00-AF07-581D823C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D68E5-9C59-4295-845F-E632BC05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6F961-E1F8-4697-974B-6B422349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C0935-CA5A-4D57-9246-5B3F4067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8E6B8-D9F5-4BA9-B8A9-3A77C02A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F2CB-5AB6-4C70-8F97-5C39C3CF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F6920-B953-4F7C-9ED4-E85D5F57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6E6C5-C830-4816-9BBA-87B4ACD4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F190A-F3A6-441D-AB64-1E863C3E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3C791-CEFB-433F-8450-DA025350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390-0800-40F5-BD55-79AD080C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32E4C-60F8-49A8-8751-E25F3144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FB6DF-95D1-4E2F-81DD-7C158DA5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D0E27-BB7F-4F6A-A25E-B2582744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8DAE0-7DA4-4329-97E4-53882421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3B1BC-D69B-43B0-81ED-FE4C1D73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EA49D-52F1-471B-9D30-DF85D672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5E3AE-D2FF-4492-AA56-56B449F0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814D8-5D10-49C0-A67F-E00AE068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DC7D3-08BC-4942-BCBD-D9D292EE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0AAE5-D7EF-4E9C-8AED-EF5C5717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C14-EDC2-4757-BBAE-13F132B2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E2C6D-301D-4B32-8618-57B1D7A3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4F0D-DF24-4386-A1F2-F1F91E3D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5D2CC-DF1F-4389-814F-92977987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5320B-3E68-4648-BF9B-3BC70174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E1569-01A0-434E-916E-DC3E3B33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65575-EB6E-4DDF-A20B-8F4898DA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7B7C2-CDBC-4D2F-8BA2-594AD29C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63188-DCD7-43DC-AD21-FE61A2D4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423D5-210A-47C7-A4FA-274B5540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B096E-2533-498E-A45B-210F595D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9F5F-775C-4005-AA80-15A4147752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CBE2-4130-409A-937B-1458848F6D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667B-53E8-4772-A156-0436FBDD5F8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381E-D545-4667-B007-269A546AAA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A095-519E-4F4D-A437-2419638082A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C782-9E66-4C12-A306-41BF6D9C6CD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A52E-AF2C-4227-BB0C-4758784AF1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29EF-04CF-466C-BB77-B772B061CC0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E7DE-FF09-43E6-BD07-483BBAD4F72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98440" y="1279440"/>
            <a:ext cx="849168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378000" y="1957320"/>
            <a:ext cx="84675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3" descr=""/>
          <p:cNvPicPr/>
          <p:nvPr/>
        </p:nvPicPr>
        <p:blipFill>
          <a:blip r:embed="rId1"/>
          <a:stretch/>
        </p:blipFill>
        <p:spPr>
          <a:xfrm>
            <a:off x="317520" y="706320"/>
            <a:ext cx="858852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04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пк\Desktop\2,5.gif"/>
          <p:cNvPicPr/>
          <p:nvPr/>
        </p:nvPicPr>
        <p:blipFill>
          <a:blip r:embed="rId1"/>
          <a:stretch/>
        </p:blipFill>
        <p:spPr>
          <a:xfrm>
            <a:off x="928800" y="64296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317520" y="993600"/>
            <a:ext cx="83757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40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1:33:01Z</dcterms:created>
  <dc:creator>Ольга</dc:creator>
  <dc:description/>
  <dc:language>en-US</dc:language>
  <cp:lastModifiedBy>Ольга</cp:lastModifiedBy>
  <dcterms:modified xsi:type="dcterms:W3CDTF">2012-03-01T15:49:39Z</dcterms:modified>
  <cp:revision>15</cp:revision>
  <dc:subject/>
  <dc:title>Проецирование точки на три плоскости</dc:title>
</cp:coreProperties>
</file>