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956-BDA4-4F88-936D-02BEE7D9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9A8-1E96-4E68-99D3-8C8B0C3D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37FAE-7BA1-4CE6-B14D-73573C35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EDCED-BC10-48B6-B524-BD5B932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E162E-BB2C-46A4-A5EA-9E900249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D480D-D958-4A46-9A0D-E84352E3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72874-B59B-4EE4-A77B-DA87D83E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B29E9-915A-4B05-BD33-8633A16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42DC4-E74C-47FC-8FA8-EB2DD3B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0D29-2463-4760-876F-2BD7236D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88AD6-F20E-4AA8-8410-E717354F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630-BE6F-4749-B1D8-639BF1F1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4C6-54F0-4157-A65A-5335B1FD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524-BC3E-4F8B-92CA-4DA7C6AD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7A17-F85C-493E-B1A2-D6BF9B3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C032-0C92-427E-B991-9E47AB2A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BCE-F0BA-4B7E-80DD-D381F739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22C-5970-413A-BF37-093E0539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5F03-2A9B-4844-9844-3F3CBB2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531C-DCAF-4738-8674-364D0BB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469-1BE3-4030-B58D-EB9343EF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D937-57F7-4FC2-B627-C0E8C79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E79-A7A7-4A32-AD1F-1A67467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294-FF99-4233-9A4A-810F4CFB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D285-34AE-4F41-91A2-B8D8FA90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1E2-8DF1-426A-B089-3F2B289C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E22E-5BE4-460B-99D8-A5074D23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DB44-FA52-47F1-A262-31B001B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DF5F-8D28-4B4E-8A32-4C712FA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62EB-BD47-4506-8985-63A7BDC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3FD7-AD7D-465A-8EC5-E449FE4D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BF7-2135-46B3-BD77-0AC4C31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9EA7-2DEE-407A-838A-C602C340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7DDF-F606-46D0-97B4-572248B2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01F8-F694-4486-A8FA-B7772E5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A7A5-1949-4E6E-99D3-883E498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2FF8-16B6-4A21-A007-7073ECAD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C7DC-1EDC-46D5-80ED-C2CD2367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6EEB-683E-4292-A991-36A45BF9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A6EC-5BD6-4E09-A95D-1C754841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BC6A-5482-4E88-8051-6617534E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44E3-BFD0-420F-A83E-56CCAA69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C48-1344-4B1D-8CD3-0B3E355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FE580-4B22-4072-9707-9F885BA7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68D2-05E4-41A6-81BC-55ABFA5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684A-933C-4A31-BDA2-1AA2BBE9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6696-30FF-43C3-AA7C-EF8A938D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620A5-DF73-4E68-98BF-80F21F2F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8827-15AF-419B-AAEE-FFF688C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8195-D759-459D-84E4-D457CC80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8D1E-4FE5-4F6C-AC8F-98C6AA18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C463-46F9-4E3C-978B-A7458D32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6173-4CE2-4EA5-8AC8-80429ECE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BBE-673B-4111-BC32-7BE8F20C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B187-A397-4A2C-8B12-47250B96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1E09-B77E-4151-8928-8FD80E54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9FC3B-7918-4E39-A315-E04F9C3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3734-AE94-4020-B0D0-82E7E4B3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86187-4AB7-4558-9946-5FBC6258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F8A30-DD68-4388-9CA8-E0436E23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070C-0EC2-42C5-A53F-E38713F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F28CC-8E4A-479C-811A-7C56394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C162-0F27-4C67-A7F9-9150852B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92F6-358F-43AE-A83E-6661349C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69C-4A7A-4C44-B997-7A260386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813B-0698-4B15-A7BC-F7F4A91C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930F-A42E-4909-BEBF-73C42166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FDD2-85B3-4EAC-B4DC-7869D191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A607-C479-4ED7-BA99-A7DA7FE4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C345-00D0-4294-B384-B9227A5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B867-3524-4089-B8F0-F663D241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65484-E2E9-492B-9E2A-DF6884B1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9735-A85E-485B-9740-AF1B338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5C201-72F9-4D38-B5EA-599D94AC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4C83-6D17-495F-87E4-51FAA4F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865-5E94-4C4E-A98F-AACDC39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4FEB-81B1-4BD3-B26E-61E37202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7A72-D81D-48C6-93F6-902DDF01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0F90-794B-4A4D-8A9F-D2242AFD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33000-53D3-4BBB-A32C-D03F2B0A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9FE1D-BFC3-41EA-ACD7-63AB5C8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F943-C5D9-48C1-A8CB-7BB1DBD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26EB-4C7E-466F-9623-578782A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9375-6914-4026-B987-AEB72B1C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6118-5F41-4C48-AF3D-98CF9193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5152-F5D6-4E07-8AFA-95DF1D8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671-4E1B-4508-AA2E-D532093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6747-9852-4864-8578-F47750E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7239-902D-4E0E-B4DA-10E6A70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5D9A-1AF1-4DDC-B218-4E59E14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7236-79AC-4885-AD6C-1F807500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D5DC-C63F-4B68-A983-1445C8F6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F57D2-98D9-4813-B304-3F36BD35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A31E-B8ED-4DD4-A010-A39C403E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1004-AB9B-410E-B447-2CC02BB5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F4C72-364E-4167-A5E2-37298140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EF4C-9712-44EF-B695-00339060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B32-1CDC-484E-9CC6-95F6C653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29163-0F42-4F41-B466-160D062B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F229-8B47-48A7-B0D6-DF23677E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91049-2A96-422E-A552-13F2BD1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B82D1-88E3-4F78-8C64-EECD4B5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1DEC7-896B-461C-9728-55C4EBB9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38768-FCB0-442D-9183-50F1007F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E54D7-07B8-4769-8A42-4D97AAE1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3DE2E-FA0F-4197-9F27-759CC16F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17FB3-1516-4C4B-819B-D39D2ED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A6FED-A5E5-4C64-9F61-4B335B6D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4D2-8871-49AB-8863-E578017F154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21D-53CF-4AD8-90EB-C350852630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04D8-AA23-440B-9CC1-9C4DB9CF6F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E7F-D2A2-4857-AA9A-B759E66BD3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ACD-5058-434C-9700-C6258B9494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84D-7CDA-4B22-8104-AADA0AA963C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EC1C-FC4B-4F42-86F3-4B3642297D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665C-1234-43B4-88F1-EDA1E1FD7B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B45-4CFD-47CA-B465-DBD9766733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279440"/>
            <a:ext cx="849168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378000" y="1957320"/>
            <a:ext cx="8467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3" descr=""/>
          <p:cNvPicPr/>
          <p:nvPr/>
        </p:nvPicPr>
        <p:blipFill>
          <a:blip r:embed="rId1"/>
          <a:stretch/>
        </p:blipFill>
        <p:spPr>
          <a:xfrm>
            <a:off x="317520" y="706320"/>
            <a:ext cx="85885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04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пк\Desktop\2,5.gif"/>
          <p:cNvPicPr/>
          <p:nvPr/>
        </p:nvPicPr>
        <p:blipFill>
          <a:blip r:embed="rId1"/>
          <a:stretch/>
        </p:blipFill>
        <p:spPr>
          <a:xfrm>
            <a:off x="928800" y="64296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17520" y="993600"/>
            <a:ext cx="83757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40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1:33:01Z</dcterms:created>
  <dc:creator>Ольга</dc:creator>
  <dc:description/>
  <dc:language>en-US</dc:language>
  <cp:lastModifiedBy>Ольга</cp:lastModifiedBy>
  <dcterms:modified xsi:type="dcterms:W3CDTF">2012-03-01T15:49:39Z</dcterms:modified>
  <cp:revision>15</cp:revision>
  <dc:subject/>
  <dc:title>Проецирование точки на три плоскости</dc:title>
</cp:coreProperties>
</file>