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230-0FA4-431C-8A2E-8D2955CE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121-4C8F-4284-B9C0-E715EE66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8E5-F3C6-4A04-911C-70CF1CE5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F00-0A4B-418B-A2F0-3DA1729C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D04-4A5D-4215-A78A-B0F89C2C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1D1-7192-4698-A3B0-4E832536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C84-521D-40AA-9CD3-2258DB3B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C7F-7EBE-425D-9319-FC088284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B87-8788-4A63-B0E8-94BCDD12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D68-DE88-4D9E-AEC9-D614A157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D07-4986-4CA3-A6DB-AD8BDA59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CDE-5E9D-4947-9D0F-E103C29D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B62D-2E11-47B2-8753-6E1F3DB02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Тема: В мире плоскост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603432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9440" y="917640"/>
            <a:ext cx="5519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тветить на проблемный вопро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и как применяются полученны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йств взаимного рас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ых и 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357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00160"/>
            <a:ext cx="9408960" cy="705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914400"/>
            <a:ext cx="8686800" cy="838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Невозможный куб Эшера"/>
          <p:cNvPicPr/>
          <p:nvPr/>
        </p:nvPicPr>
        <p:blipFill>
          <a:blip r:embed="rId1"/>
          <a:stretch/>
        </p:blipFill>
        <p:spPr>
          <a:xfrm>
            <a:off x="2286000" y="1752480"/>
            <a:ext cx="4249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угольник Пенроуз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oger Penros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1954 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Треугольник Пенроуза"/>
          <p:cNvPicPr/>
          <p:nvPr/>
        </p:nvPicPr>
        <p:blipFill>
          <a:blip r:embed="rId1"/>
          <a:stretch/>
        </p:blipFill>
        <p:spPr>
          <a:xfrm>
            <a:off x="2286000" y="1828800"/>
            <a:ext cx="60199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Удивительный узел"/>
          <p:cNvPicPr/>
          <p:nvPr/>
        </p:nvPicPr>
        <p:blipFill>
          <a:blip r:embed="rId1"/>
          <a:stretch/>
        </p:blipFill>
        <p:spPr>
          <a:xfrm>
            <a:off x="1143000" y="1860480"/>
            <a:ext cx="594360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да открыта двер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уда открыта дверь?"/>
          <p:cNvPicPr/>
          <p:nvPr/>
        </p:nvPicPr>
        <p:blipFill>
          <a:blip r:embed="rId1"/>
          <a:stretch/>
        </p:blipFill>
        <p:spPr>
          <a:xfrm>
            <a:off x="1523880" y="1523880"/>
            <a:ext cx="61516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озможная головоло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Невозможная головоломка"/>
          <p:cNvPicPr/>
          <p:nvPr/>
        </p:nvPicPr>
        <p:blipFill>
          <a:blip r:embed="rId1"/>
          <a:stretch/>
        </p:blipFill>
        <p:spPr>
          <a:xfrm>
            <a:off x="2438280" y="1828800"/>
            <a:ext cx="4564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евозможная лестница Пенроуз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Бесконечная лестница, ведущая вверх"/>
          <p:cNvPicPr/>
          <p:nvPr/>
        </p:nvPicPr>
        <p:blipFill>
          <a:blip r:embed="rId1"/>
          <a:stretch/>
        </p:blipFill>
        <p:spPr>
          <a:xfrm>
            <a:off x="1600200" y="1600200"/>
            <a:ext cx="601992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шер «Восхождение и спус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858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508720" y="981000"/>
          <a:ext cx="338436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981000"/>
                    <a:ext cx="338436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26920" y="3789360"/>
          <a:ext cx="3745080" cy="27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89360"/>
                    <a:ext cx="374508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651640" y="3645000"/>
          <a:ext cx="3114360" cy="29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645000"/>
                    <a:ext cx="3114360" cy="2962080"/>
                  </a:xfrm>
                  <a:prstGeom prst="rect">
                    <a:avLst/>
                  </a:prstGeom>
                  <a:ln w="1908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7">
            <a:lum contrast="-12000"/>
          </a:blip>
          <a:srcRect l="0" t="5140" r="38" b="0"/>
          <a:stretch/>
        </p:blipFill>
        <p:spPr>
          <a:xfrm>
            <a:off x="755640" y="981000"/>
            <a:ext cx="3816360" cy="25401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9640" y="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Картины Виктора Вазар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50720" y="10522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CD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драт,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286000" y="1066680"/>
                <a:ext cx="5832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;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B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114800" y="3124080"/>
                <a:ext cx="2521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A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98560" y="4943520"/>
            <a:ext cx="21607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779640" y="4943520"/>
            <a:ext cx="21589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98560" y="4943520"/>
            <a:ext cx="288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5951520"/>
            <a:ext cx="4330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98920" y="5951520"/>
            <a:ext cx="358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451152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31960" y="609588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77000" y="602460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73400" y="45115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3141720"/>
            <a:ext cx="287280" cy="180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7840" y="242100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141720"/>
            <a:ext cx="2448000" cy="30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005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42080" y="3357720"/>
            <a:ext cx="55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898560" y="4076640"/>
            <a:ext cx="433440" cy="866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Изоб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72360" y="2349360"/>
            <a:ext cx="23144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0720" y="10522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98560" y="4943520"/>
            <a:ext cx="21607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779640" y="4943520"/>
            <a:ext cx="215892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98560" y="4943520"/>
            <a:ext cx="288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5951520"/>
            <a:ext cx="4330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98920" y="5951520"/>
            <a:ext cx="358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51152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31960" y="609588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77000" y="602460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73400" y="45115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3141720"/>
            <a:ext cx="287280" cy="180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7840" y="242100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141720"/>
            <a:ext cx="2448000" cy="30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4005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42080" y="3357720"/>
            <a:ext cx="55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59280" y="6167520"/>
            <a:ext cx="287964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898560" y="4076640"/>
            <a:ext cx="433440" cy="866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00360" y="2565360"/>
                <a:ext cx="644364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K</m:t>
                            </m:r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836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Треугольник АВС – равнобедренный,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АВ=АС, точка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– середина ВС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ямая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ED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 перпендикулярна плоскости АВС, докажите, что АЕ перпендикулярна 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724280"/>
            <a:ext cx="9144000" cy="1368720"/>
          </a:xfrm>
          <a:prstGeom prst="parallelogram">
            <a:avLst>
              <a:gd name="adj" fmla="val -115398"/>
            </a:avLst>
          </a:prstGeom>
          <a:gradFill rotWithShape="0">
            <a:gsLst>
              <a:gs pos="0">
                <a:srgbClr val="bbe0e3">
                  <a:alpha val="62352"/>
                </a:srgbClr>
              </a:gs>
              <a:gs pos="100000">
                <a:srgbClr val="566768">
                  <a:alpha val="6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19280" y="4723920"/>
            <a:ext cx="4681440" cy="12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619280" y="5516640"/>
            <a:ext cx="6121440" cy="4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4724280"/>
            <a:ext cx="14400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877080" y="5013360"/>
            <a:ext cx="71280" cy="730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5157720"/>
            <a:ext cx="360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140360" y="5661000"/>
            <a:ext cx="28728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81360"/>
            <a:ext cx="0" cy="23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18920" y="2781360"/>
            <a:ext cx="5329080" cy="3168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619280" y="5084640"/>
            <a:ext cx="5329080" cy="86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2708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2492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573408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00680" y="407664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34440" y="551664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6480" y="45086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36200" y="249228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4724280"/>
            <a:ext cx="1440000" cy="792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587640" y="4437000"/>
            <a:ext cx="36036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88000" y="4437000"/>
            <a:ext cx="0" cy="432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300720" y="4869000"/>
            <a:ext cx="287280" cy="72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00720" y="4941720"/>
            <a:ext cx="35892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5400000">
            <a:off x="2457360" y="2950920"/>
            <a:ext cx="1130400" cy="4968720"/>
          </a:xfrm>
          <a:prstGeom prst="ellipse">
            <a:avLst/>
          </a:prstGeom>
          <a:gradFill rotWithShape="0">
            <a:gsLst>
              <a:gs pos="0">
                <a:srgbClr val="6600cc">
                  <a:alpha val="23137"/>
                </a:srgbClr>
              </a:gs>
              <a:gs pos="100000">
                <a:srgbClr val="2f005e">
                  <a:alpha val="19215"/>
                </a:srgbClr>
              </a:gs>
            </a:gsLst>
            <a:lin ang="0"/>
          </a:gradFill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797360"/>
            <a:ext cx="215640" cy="2160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6560" y="1054080"/>
            <a:ext cx="0" cy="388764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6560" y="4941720"/>
            <a:ext cx="2016000" cy="1008360"/>
          </a:xfrm>
          <a:prstGeom prst="line">
            <a:avLst/>
          </a:prstGeom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0200" y="5302080"/>
            <a:ext cx="216000" cy="21600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851280" y="5086080"/>
            <a:ext cx="1224000" cy="863640"/>
          </a:xfrm>
          <a:prstGeom prst="line">
            <a:avLst/>
          </a:prstGeom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6560" y="1054080"/>
            <a:ext cx="3097080" cy="403236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6560" y="1054080"/>
            <a:ext cx="1944720" cy="482436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4149720"/>
            <a:ext cx="56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9560" y="54936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2480" y="2421000"/>
            <a:ext cx="140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1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00320" y="5950080"/>
            <a:ext cx="5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13360" y="443700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5446800"/>
            <a:ext cx="792000" cy="215640"/>
          </a:xfrm>
          <a:custGeom>
            <a:avLst/>
            <a:gdLst/>
            <a:ahLst/>
            <a:rect l="l" t="t" r="r" b="b"/>
            <a:pathLst>
              <a:path w="499" h="136">
                <a:moveTo>
                  <a:pt x="0" y="136"/>
                </a:moveTo>
                <a:cubicBezTo>
                  <a:pt x="117" y="68"/>
                  <a:pt x="234" y="0"/>
                  <a:pt x="317" y="0"/>
                </a:cubicBezTo>
                <a:cubicBezTo>
                  <a:pt x="400" y="0"/>
                  <a:pt x="469" y="113"/>
                  <a:pt x="499" y="136"/>
                </a:cubicBezTo>
              </a:path>
            </a:pathLst>
          </a:custGeom>
          <a:noFill/>
          <a:ln w="57240">
            <a:solidFill>
              <a:srgbClr val="6600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29760" y="5013360"/>
            <a:ext cx="8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45</a:t>
            </a:r>
            <a:r>
              <a:rPr b="1" lang="en-US" sz="3600" spc="-1" strike="noStrike" baseline="30000">
                <a:solidFill>
                  <a:srgbClr val="6600cc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280" y="5084640"/>
            <a:ext cx="10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ahoma"/>
              </a:rPr>
              <a:t>2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549360"/>
            <a:ext cx="47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ahoma"/>
              </a:rPr>
              <a:t>КА – перпендикуляр к плоскости окружности. Докажите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ahoma"/>
              </a:rPr>
              <a:t>треугольник КС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ahoma"/>
              </a:rPr>
              <a:t>прямоуг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35320" y="285264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ahoma"/>
              </a:rPr>
              <a:t>Найдите: 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4941720"/>
            <a:ext cx="3024000" cy="216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356000" y="5157720"/>
            <a:ext cx="287280" cy="1429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5300640"/>
            <a:ext cx="4320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4437000"/>
            <a:ext cx="432000" cy="71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4508640"/>
            <a:ext cx="0" cy="504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211280" y="4581360"/>
            <a:ext cx="360360" cy="287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4869000"/>
            <a:ext cx="360360" cy="504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40000" y="4292640"/>
                <a:ext cx="936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701880" y="2112840"/>
                <a:ext cx="6606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03280" y="4869000"/>
            <a:ext cx="273708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40360" y="4149720"/>
            <a:ext cx="3095640" cy="172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403280" y="4149720"/>
            <a:ext cx="5832720" cy="719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403280" y="1197000"/>
            <a:ext cx="2448000" cy="36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1280" y="1197000"/>
            <a:ext cx="289080" cy="468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1197000"/>
            <a:ext cx="338472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4869000"/>
            <a:ext cx="2737080" cy="10080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140360" y="4149720"/>
            <a:ext cx="3095640" cy="17272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780000" y="5373720"/>
            <a:ext cx="287280" cy="360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5373720"/>
            <a:ext cx="287280" cy="3603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429264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96280" y="62064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70840" y="585144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21320" y="357336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9280" y="692280"/>
                <a:ext cx="29527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тетраэдр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>
            <a:off x="4140000" y="4508640"/>
            <a:ext cx="360360" cy="1368360"/>
          </a:xfrm>
          <a:prstGeom prst="line">
            <a:avLst/>
          </a:prstGeom>
          <a:ln w="572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203280" y="4508640"/>
            <a:ext cx="73080" cy="288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08360" y="4221000"/>
            <a:ext cx="142920" cy="287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788000" y="4437000"/>
            <a:ext cx="71280" cy="287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500720" y="4724280"/>
            <a:ext cx="28728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83160" y="3429000"/>
            <a:ext cx="67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1197000"/>
            <a:ext cx="649440" cy="3311640"/>
          </a:xfrm>
          <a:prstGeom prst="line">
            <a:avLst/>
          </a:prstGeom>
          <a:ln w="572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4221000"/>
            <a:ext cx="36036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4221000"/>
            <a:ext cx="7128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148360" y="765000"/>
                <a:ext cx="36003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оказать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чт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С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03280" y="4869000"/>
            <a:ext cx="273708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140360" y="4149720"/>
            <a:ext cx="3095640" cy="172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403280" y="4149720"/>
            <a:ext cx="5832720" cy="719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403280" y="1197000"/>
            <a:ext cx="2448000" cy="36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51280" y="1197000"/>
            <a:ext cx="289080" cy="468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280" y="1197000"/>
            <a:ext cx="3384720" cy="29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0360" y="585144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96280" y="62064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1200" y="4149720"/>
            <a:ext cx="69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21320" y="357336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203280" y="4508640"/>
            <a:ext cx="730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508360" y="4221000"/>
            <a:ext cx="14292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78680" y="3500280"/>
            <a:ext cx="60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4437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484000" y="3213000"/>
            <a:ext cx="4751640" cy="936720"/>
          </a:xfrm>
          <a:prstGeom prst="line">
            <a:avLst/>
          </a:prstGeom>
          <a:ln w="572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2000" y="227664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00360" y="2924280"/>
            <a:ext cx="431640" cy="730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916000" y="2997360"/>
            <a:ext cx="215640" cy="287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979640" y="4005360"/>
            <a:ext cx="2448000" cy="503280"/>
          </a:xfrm>
          <a:prstGeom prst="line">
            <a:avLst/>
          </a:prstGeom>
          <a:ln w="572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88520" y="2997360"/>
            <a:ext cx="8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4000" y="3789360"/>
            <a:ext cx="360360" cy="7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339640" y="3860640"/>
            <a:ext cx="14436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3213000"/>
            <a:ext cx="1656000" cy="2664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3429000"/>
            <a:ext cx="216000" cy="287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556000" y="3573000"/>
            <a:ext cx="144360" cy="1429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979640" y="3933720"/>
            <a:ext cx="792000" cy="1440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8000" y="4149720"/>
            <a:ext cx="142920" cy="216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050920" y="4221000"/>
            <a:ext cx="73080" cy="144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38040" y="5229360"/>
            <a:ext cx="68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ahoma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771640" y="4508640"/>
            <a:ext cx="1656000" cy="792000"/>
          </a:xfrm>
          <a:prstGeom prst="line">
            <a:avLst/>
          </a:prstGeom>
          <a:ln w="572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4005360"/>
            <a:ext cx="2448000" cy="1368360"/>
          </a:xfrm>
          <a:custGeom>
            <a:avLst/>
            <a:gdLst/>
            <a:ahLst/>
            <a:rect l="l" t="t" r="r" b="b"/>
            <a:pathLst>
              <a:path w="1542" h="862">
                <a:moveTo>
                  <a:pt x="0" y="0"/>
                </a:moveTo>
                <a:lnTo>
                  <a:pt x="1542" y="317"/>
                </a:lnTo>
                <a:lnTo>
                  <a:pt x="454" y="8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99ff">
                  <a:alpha val="36078"/>
                </a:srgbClr>
              </a:gs>
              <a:gs pos="100000">
                <a:srgbClr val="7ea8fe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10200" y="404640"/>
            <a:ext cx="403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Tahoma"/>
              </a:rPr>
              <a:t>В правильном тетраэдре построить сечение плоскостью, проходящей через точку Е – середину ребра ВС  и перпендикулярной ребру </a:t>
            </a:r>
            <a:r>
              <a:rPr b="1" i="1" lang="en-US" sz="2000" spc="-1" strike="noStrike">
                <a:solidFill>
                  <a:srgbClr val="6600cc"/>
                </a:solidFill>
                <a:latin typeface="Tahoma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Обсуждение проектов : применение на практике теоретических сведений о расположении  прямых и плос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03280" y="1905120"/>
            <a:ext cx="66247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знания обобщ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ового в своих знаниях и практических умениях получ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ую проблему для себя определи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285768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2808360" cy="215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11280" y="3068640"/>
            <a:ext cx="2431800" cy="3278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68360" y="55080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372360" y="2349360"/>
            <a:ext cx="23144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лько тут элемент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400800" cy="1752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64944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Невозможные объекты» и зрительные иллю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сконечная фот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Бесконечная фотография"/>
          <p:cNvPicPr/>
          <p:nvPr/>
        </p:nvPicPr>
        <p:blipFill>
          <a:blip r:embed="rId1"/>
          <a:stretch/>
        </p:blipFill>
        <p:spPr>
          <a:xfrm>
            <a:off x="1981080" y="129528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возможно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Невозможное окно"/>
          <p:cNvPicPr/>
          <p:nvPr/>
        </p:nvPicPr>
        <p:blipFill>
          <a:blip r:embed="rId1"/>
          <a:stretch/>
        </p:blipFill>
        <p:spPr>
          <a:xfrm>
            <a:off x="2916360" y="1268280"/>
            <a:ext cx="36273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лько здесь колон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Сколько здесь колонн?"/>
          <p:cNvPicPr/>
          <p:nvPr/>
        </p:nvPicPr>
        <p:blipFill>
          <a:blip r:embed="rId1"/>
          <a:stretch/>
        </p:blipFill>
        <p:spPr>
          <a:xfrm>
            <a:off x="2843280" y="11970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львира</dc:creator>
  <dc:description/>
  <dc:language>en-US</dc:language>
  <cp:lastModifiedBy>Admin</cp:lastModifiedBy>
  <dcterms:modified xsi:type="dcterms:W3CDTF">2010-12-10T18:53:4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