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CA2-3D20-4B8E-8D0C-0B7F4E97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E15-84FC-48FF-A46C-77D770ED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766-C163-458A-8DF7-823B58C8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991-A42A-44BF-AD81-149D1079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685-154D-413C-BC63-4DF89909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A49-ECF7-48B4-9F51-9255663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373-3B28-49DA-B395-939AD55B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BC1-4561-4A0F-A34D-523643F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CFF-2FB3-466F-8638-295A947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36E-EDDF-4EE5-83AA-41DF8DB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42B-B9B5-41D0-8FA7-255FC79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2E6-7B1F-45F5-B5E9-F63A1280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E371-7734-4E1A-B184-D0888978D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ема: В мире плоскос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603432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9440" y="917640"/>
            <a:ext cx="551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ветить на проблемный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и как применяются полученны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 взаимного рас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ых и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357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00160"/>
            <a:ext cx="9408960" cy="705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914400"/>
            <a:ext cx="8686800" cy="838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Невозможный куб Эшера"/>
          <p:cNvPicPr/>
          <p:nvPr/>
        </p:nvPicPr>
        <p:blipFill>
          <a:blip r:embed="rId1"/>
          <a:stretch/>
        </p:blipFill>
        <p:spPr>
          <a:xfrm>
            <a:off x="2286000" y="1752480"/>
            <a:ext cx="4249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угольник Пенроуз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oger Penros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1954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Треугольник Пенроуза"/>
          <p:cNvPicPr/>
          <p:nvPr/>
        </p:nvPicPr>
        <p:blipFill>
          <a:blip r:embed="rId1"/>
          <a:stretch/>
        </p:blipFill>
        <p:spPr>
          <a:xfrm>
            <a:off x="2286000" y="1828800"/>
            <a:ext cx="6019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Удивительный узел"/>
          <p:cNvPicPr/>
          <p:nvPr/>
        </p:nvPicPr>
        <p:blipFill>
          <a:blip r:embed="rId1"/>
          <a:stretch/>
        </p:blipFill>
        <p:spPr>
          <a:xfrm>
            <a:off x="1143000" y="1860480"/>
            <a:ext cx="5943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да открыта двер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уда открыта дверь?"/>
          <p:cNvPicPr/>
          <p:nvPr/>
        </p:nvPicPr>
        <p:blipFill>
          <a:blip r:embed="rId1"/>
          <a:stretch/>
        </p:blipFill>
        <p:spPr>
          <a:xfrm>
            <a:off x="1523880" y="1523880"/>
            <a:ext cx="61516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озможная голово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Невозможная головоломка"/>
          <p:cNvPicPr/>
          <p:nvPr/>
        </p:nvPicPr>
        <p:blipFill>
          <a:blip r:embed="rId1"/>
          <a:stretch/>
        </p:blipFill>
        <p:spPr>
          <a:xfrm>
            <a:off x="2438280" y="1828800"/>
            <a:ext cx="4564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возможная лестница Пенроу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Бесконечная лестница, ведущая вверх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шер «Восхождение и спус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08720" y="981000"/>
          <a:ext cx="338436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981000"/>
                    <a:ext cx="338436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3789360"/>
          <a:ext cx="3745080" cy="27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37450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51640" y="3645000"/>
          <a:ext cx="3114360" cy="29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645000"/>
                    <a:ext cx="3114360" cy="2962080"/>
                  </a:xfrm>
                  <a:prstGeom prst="rect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7">
            <a:lum contrast="-12000"/>
          </a:blip>
          <a:srcRect l="0" t="5140" r="38" b="0"/>
          <a:stretch/>
        </p:blipFill>
        <p:spPr>
          <a:xfrm>
            <a:off x="755640" y="981000"/>
            <a:ext cx="3816360" cy="2540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964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Картины Виктора Вазар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драт,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0" y="1066680"/>
                <a:ext cx="5832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4800" y="312408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Изоб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0360" y="2565360"/>
                <a:ext cx="64436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K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6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реугольник АВС – равнобедренный,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АВ=АС, точка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середина ВС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ая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перпендикулярна плоскости АВС, докажите, что АЕ перпендикулярна 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1368720"/>
          </a:xfrm>
          <a:prstGeom prst="parallelogram">
            <a:avLst>
              <a:gd name="adj" fmla="val -115398"/>
            </a:avLst>
          </a:prstGeom>
          <a:gradFill rotWithShape="0">
            <a:gsLst>
              <a:gs pos="0">
                <a:srgbClr val="bbe0e3">
                  <a:alpha val="62352"/>
                </a:srgbClr>
              </a:gs>
              <a:gs pos="100000">
                <a:srgbClr val="566768">
                  <a:alpha val="6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19280" y="4723920"/>
            <a:ext cx="4681440" cy="12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619280" y="5516640"/>
            <a:ext cx="612144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77080" y="5013360"/>
            <a:ext cx="71280" cy="730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157720"/>
            <a:ext cx="360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40360" y="5661000"/>
            <a:ext cx="287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81360"/>
            <a:ext cx="0" cy="23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18920" y="2781360"/>
            <a:ext cx="5329080" cy="316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19280" y="5084640"/>
            <a:ext cx="5329080" cy="8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708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492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73408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00680" y="407664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34440" y="551664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4508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36200" y="24922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587640" y="4437000"/>
            <a:ext cx="360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4437000"/>
            <a:ext cx="0" cy="432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00720" y="4869000"/>
            <a:ext cx="287280" cy="72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4941720"/>
            <a:ext cx="358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5400000">
            <a:off x="2457360" y="2950920"/>
            <a:ext cx="1130400" cy="4968720"/>
          </a:xfrm>
          <a:prstGeom prst="ellipse">
            <a:avLst/>
          </a:prstGeom>
          <a:gradFill rotWithShape="0">
            <a:gsLst>
              <a:gs pos="0">
                <a:srgbClr val="6600cc">
                  <a:alpha val="23137"/>
                </a:srgbClr>
              </a:gs>
              <a:gs pos="100000">
                <a:srgbClr val="2f005e">
                  <a:alpha val="19215"/>
                </a:srgbClr>
              </a:gs>
            </a:gsLst>
            <a:lin ang="0"/>
          </a:gra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797360"/>
            <a:ext cx="21564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6560" y="1054080"/>
            <a:ext cx="0" cy="3887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6560" y="4941720"/>
            <a:ext cx="2016000" cy="100836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0200" y="5302080"/>
            <a:ext cx="21600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5086080"/>
            <a:ext cx="1224000" cy="86364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6560" y="1054080"/>
            <a:ext cx="3097080" cy="4032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6560" y="1054080"/>
            <a:ext cx="1944720" cy="4824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1497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9560" y="5493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2480" y="2421000"/>
            <a:ext cx="140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1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0320" y="59500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44370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446800"/>
            <a:ext cx="792000" cy="215640"/>
          </a:xfrm>
          <a:custGeom>
            <a:avLst/>
            <a:gdLst/>
            <a:ahLst/>
            <a:rect l="l" t="t" r="r" b="b"/>
            <a:pathLst>
              <a:path w="499" h="136">
                <a:moveTo>
                  <a:pt x="0" y="136"/>
                </a:moveTo>
                <a:cubicBezTo>
                  <a:pt x="117" y="68"/>
                  <a:pt x="234" y="0"/>
                  <a:pt x="317" y="0"/>
                </a:cubicBezTo>
                <a:cubicBezTo>
                  <a:pt x="400" y="0"/>
                  <a:pt x="469" y="113"/>
                  <a:pt x="499" y="136"/>
                </a:cubicBezTo>
              </a:path>
            </a:pathLst>
          </a:custGeom>
          <a:noFill/>
          <a:ln w="57240">
            <a:solidFill>
              <a:srgbClr val="66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9760" y="5013360"/>
            <a:ext cx="8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45</a:t>
            </a:r>
            <a:r>
              <a:rPr b="1" lang="en-US" sz="3600" spc="-1" strike="noStrike" baseline="30000">
                <a:solidFill>
                  <a:srgbClr val="6600cc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280" y="508464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2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54936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КА – перпендикуляр к плоскости окружности. 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треугольник КС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5320" y="285264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ahoma"/>
              </a:rPr>
              <a:t>Найдите: 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4941720"/>
            <a:ext cx="3024000" cy="216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56000" y="5157720"/>
            <a:ext cx="28728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5300640"/>
            <a:ext cx="432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4437000"/>
            <a:ext cx="432000" cy="7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508640"/>
            <a:ext cx="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11280" y="4581360"/>
            <a:ext cx="36036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4869000"/>
            <a:ext cx="36036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40000" y="4292640"/>
                <a:ext cx="936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701880" y="2112840"/>
                <a:ext cx="6606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8000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2926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0840" y="585144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9280" y="692280"/>
                <a:ext cx="29527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4140000" y="4508640"/>
            <a:ext cx="360360" cy="136836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88000" y="4437000"/>
            <a:ext cx="7128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500720" y="4724280"/>
            <a:ext cx="287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3160" y="3429000"/>
            <a:ext cx="6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1197000"/>
            <a:ext cx="649440" cy="3311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4221000"/>
            <a:ext cx="36036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4221000"/>
            <a:ext cx="7128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48360" y="765000"/>
                <a:ext cx="360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58514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1200" y="4149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78680" y="350028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4000" y="3213000"/>
            <a:ext cx="4751640" cy="93672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2000" y="227664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2924280"/>
            <a:ext cx="431640" cy="730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16000" y="2997360"/>
            <a:ext cx="21564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79640" y="4005360"/>
            <a:ext cx="2448000" cy="50328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88520" y="2997360"/>
            <a:ext cx="8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789360"/>
            <a:ext cx="360360" cy="7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39640" y="3860640"/>
            <a:ext cx="144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3213000"/>
            <a:ext cx="1656000" cy="266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3429000"/>
            <a:ext cx="21600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56000" y="3573000"/>
            <a:ext cx="14436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979640" y="3933720"/>
            <a:ext cx="792000" cy="1440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4149720"/>
            <a:ext cx="142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50920" y="4221000"/>
            <a:ext cx="73080" cy="14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8040" y="5229360"/>
            <a:ext cx="6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71640" y="4508640"/>
            <a:ext cx="1656000" cy="79200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4005360"/>
            <a:ext cx="2448000" cy="1368360"/>
          </a:xfrm>
          <a:custGeom>
            <a:avLst/>
            <a:gdLst/>
            <a:ahLst/>
            <a:rect l="l" t="t" r="r" b="b"/>
            <a:pathLst>
              <a:path w="1542" h="862">
                <a:moveTo>
                  <a:pt x="0" y="0"/>
                </a:moveTo>
                <a:lnTo>
                  <a:pt x="1542" y="317"/>
                </a:lnTo>
                <a:lnTo>
                  <a:pt x="454" y="8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7ea8fe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10200" y="404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ahoma"/>
              </a:rPr>
              <a:t>В правильном тетраэдре построить сечение плоскостью, проходящей через точку Е – середину ребра ВС  и перпендикулярной ребру </a:t>
            </a:r>
            <a:r>
              <a:rPr b="1" i="1" lang="en-US" sz="2000" spc="-1" strike="noStrike">
                <a:solidFill>
                  <a:srgbClr val="6600cc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Обсуждение проектов : применение на практике теоретических сведений о расположении  прямых и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6247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знания обобщ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в своих знаниях и практических умениях пол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проблему для себя определ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285768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2808360" cy="215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2431800" cy="327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68360" y="5508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тут элемент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40080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4944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Невозможные объекты» и зрительные иллю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сконечная фот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Бесконечная фотография"/>
          <p:cNvPicPr/>
          <p:nvPr/>
        </p:nvPicPr>
        <p:blipFill>
          <a:blip r:embed="rId1"/>
          <a:stretch/>
        </p:blipFill>
        <p:spPr>
          <a:xfrm>
            <a:off x="198108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озмож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Невозможное окно"/>
          <p:cNvPicPr/>
          <p:nvPr/>
        </p:nvPicPr>
        <p:blipFill>
          <a:blip r:embed="rId1"/>
          <a:stretch/>
        </p:blipFill>
        <p:spPr>
          <a:xfrm>
            <a:off x="2916360" y="1268280"/>
            <a:ext cx="3627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здесь колон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Сколько здесь колонн?"/>
          <p:cNvPicPr/>
          <p:nvPr/>
        </p:nvPicPr>
        <p:blipFill>
          <a:blip r:embed="rId1"/>
          <a:stretch/>
        </p:blipFill>
        <p:spPr>
          <a:xfrm>
            <a:off x="2843280" y="11970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львира</dc:creator>
  <dc:description/>
  <dc:language>en-US</dc:language>
  <cp:lastModifiedBy>Admin</cp:lastModifiedBy>
  <dcterms:modified xsi:type="dcterms:W3CDTF">2010-12-10T18:53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