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3.jpeg" ContentType="image/jpeg"/>
  <Override PartName="/ppt/media/image20.gif" ContentType="image/gif"/>
  <Override PartName="/ppt/media/image23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3.jpeg" ContentType="image/jpeg"/>
  <Override PartName="/ppt/media/image2.jpeg" ContentType="image/jpeg"/>
  <Override PartName="/ppt/media/image26.jpeg" ContentType="image/jpeg"/>
  <Override PartName="/ppt/media/image25.jpeg" ContentType="image/jpeg"/>
  <Override PartName="/ppt/media/image24.png" ContentType="image/png"/>
  <Override PartName="/ppt/media/image18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10.png" ContentType="image/png"/>
  <Override PartName="/ppt/media/image21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5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5045-DF82-458F-A1C9-909CB024C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A889-AAB0-4FA4-95D8-2A4BECE2F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60DC-3FB0-4001-A559-1D210246C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3EDD-B040-4811-B53F-4EBE8C99A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F6AB-DFE0-4362-8276-F6AEE30C1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7721-CB2E-4B68-8896-413614FB8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7C1D-CE60-411C-97E2-AEE0A6F7A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9001-1002-4AFE-A3B8-CB617308E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53FB-DFDE-4F61-9BB2-0BD93881D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90CF-6BD0-4C48-A45A-F2997664C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8EC8-9761-4E5D-B539-C4DC83760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58AD-C8A6-4253-9CD3-CA6DD12DF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3EB9F-53CA-4127-9631-3815864126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png"/><Relationship Id="rId7" Type="http://schemas.openxmlformats.org/officeDocument/2006/relationships/image" Target="../media/image25.jpe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Тема: В мире плоскосте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666880" y="3200400"/>
            <a:ext cx="6034320" cy="3429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79440" y="917640"/>
            <a:ext cx="55195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Цель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Ответить на проблемный вопрос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де и как применяются полученные 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войств взаимного располож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ямых и плоск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4114800"/>
            <a:ext cx="2357280" cy="24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-200160"/>
            <a:ext cx="9408960" cy="7058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57200" y="914400"/>
            <a:ext cx="8686800" cy="8380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Невозможный куб Эшера"/>
          <p:cNvPicPr/>
          <p:nvPr/>
        </p:nvPicPr>
        <p:blipFill>
          <a:blip r:embed="rId1"/>
          <a:stretch/>
        </p:blipFill>
        <p:spPr>
          <a:xfrm>
            <a:off x="2286000" y="1752480"/>
            <a:ext cx="424980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реугольник Пенроуза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Roger Penrose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, 1954 г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Треугольник Пенроуза"/>
          <p:cNvPicPr/>
          <p:nvPr/>
        </p:nvPicPr>
        <p:blipFill>
          <a:blip r:embed="rId1"/>
          <a:stretch/>
        </p:blipFill>
        <p:spPr>
          <a:xfrm>
            <a:off x="2286000" y="1828800"/>
            <a:ext cx="601992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Удивительный узел"/>
          <p:cNvPicPr/>
          <p:nvPr/>
        </p:nvPicPr>
        <p:blipFill>
          <a:blip r:embed="rId1"/>
          <a:stretch/>
        </p:blipFill>
        <p:spPr>
          <a:xfrm>
            <a:off x="1143000" y="1860480"/>
            <a:ext cx="5943600" cy="37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уда открыта двер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Куда открыта дверь?"/>
          <p:cNvPicPr/>
          <p:nvPr/>
        </p:nvPicPr>
        <p:blipFill>
          <a:blip r:embed="rId1"/>
          <a:stretch/>
        </p:blipFill>
        <p:spPr>
          <a:xfrm>
            <a:off x="1523880" y="1523880"/>
            <a:ext cx="6151680" cy="45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евозможная головолом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Невозможная головоломка"/>
          <p:cNvPicPr/>
          <p:nvPr/>
        </p:nvPicPr>
        <p:blipFill>
          <a:blip r:embed="rId1"/>
          <a:stretch/>
        </p:blipFill>
        <p:spPr>
          <a:xfrm>
            <a:off x="2438280" y="1828800"/>
            <a:ext cx="456408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Невозможная лестница Пенроуз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Бесконечная лестница, ведущая вверх"/>
          <p:cNvPicPr/>
          <p:nvPr/>
        </p:nvPicPr>
        <p:blipFill>
          <a:blip r:embed="rId1"/>
          <a:stretch/>
        </p:blipFill>
        <p:spPr>
          <a:xfrm>
            <a:off x="1600200" y="1600200"/>
            <a:ext cx="6019920" cy="47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шер «Восхождение и спуск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685800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5508720" y="981000"/>
          <a:ext cx="3384360" cy="24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720" y="981000"/>
                    <a:ext cx="3384360" cy="24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826920" y="3789360"/>
          <a:ext cx="3745080" cy="271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6920" y="3789360"/>
                    <a:ext cx="3745080" cy="27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5651640" y="3645000"/>
          <a:ext cx="3114360" cy="296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51640" y="3645000"/>
                    <a:ext cx="3114360" cy="2962080"/>
                  </a:xfrm>
                  <a:prstGeom prst="rect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7">
            <a:lum contrast="-12000"/>
          </a:blip>
          <a:srcRect l="0" t="5140" r="38" b="0"/>
          <a:stretch/>
        </p:blipFill>
        <p:spPr>
          <a:xfrm>
            <a:off x="755640" y="981000"/>
            <a:ext cx="3816360" cy="254016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539640" y="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00"/>
                </a:solidFill>
                <a:latin typeface="Arial"/>
              </a:rPr>
              <a:t>Картины Виктора Вазар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50720" y="105228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ано: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BCD –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вадрат,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оказат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2286000" y="1066680"/>
                <a:ext cx="583236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A</m:t>
                    </m:r>
                    <m:r>
                      <m:t xml:space="preserve">⊥</m:t>
                    </m:r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t xml:space="preserve">;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B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114800" y="3124080"/>
                <a:ext cx="252108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t xml:space="preserve">⊥</m:t>
                    </m:r>
                    <m:r>
                      <m:rPr>
                        <m:lit/>
                        <m:nor/>
                      </m:rPr>
                      <m:t xml:space="preserve">A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898560" y="4943520"/>
            <a:ext cx="2160720" cy="1224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059280" y="6167520"/>
            <a:ext cx="2879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3779640" y="4943520"/>
            <a:ext cx="2158920" cy="1224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898560" y="4943520"/>
            <a:ext cx="2881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9280" y="5951520"/>
            <a:ext cx="433080" cy="2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98920" y="5951520"/>
            <a:ext cx="358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4511520"/>
            <a:ext cx="56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631960" y="6095880"/>
            <a:ext cx="55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877000" y="6024600"/>
            <a:ext cx="53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073400" y="4511520"/>
            <a:ext cx="55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11280" y="3141720"/>
            <a:ext cx="287280" cy="180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67840" y="2421000"/>
            <a:ext cx="49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1280" y="3141720"/>
            <a:ext cx="2448000" cy="302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58920" y="400536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342080" y="3357720"/>
            <a:ext cx="55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59280" y="6167520"/>
            <a:ext cx="2879640" cy="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898560" y="4076640"/>
            <a:ext cx="433440" cy="86688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Изображе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52280" y="1295280"/>
            <a:ext cx="2781360" cy="20862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372360" y="2349360"/>
            <a:ext cx="2314440" cy="27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50720" y="105228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оказательство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98560" y="4943520"/>
            <a:ext cx="2160720" cy="1224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59280" y="6167520"/>
            <a:ext cx="2879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3779640" y="4943520"/>
            <a:ext cx="2158920" cy="1224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898560" y="4943520"/>
            <a:ext cx="2881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59280" y="5951520"/>
            <a:ext cx="433080" cy="2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698920" y="5951520"/>
            <a:ext cx="358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5280" y="4511520"/>
            <a:ext cx="56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631960" y="6095880"/>
            <a:ext cx="55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877000" y="6024600"/>
            <a:ext cx="53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73400" y="4511520"/>
            <a:ext cx="55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1280" y="3141720"/>
            <a:ext cx="287280" cy="180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67840" y="2421000"/>
            <a:ext cx="49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3141720"/>
            <a:ext cx="2448000" cy="302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258920" y="400536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42080" y="3357720"/>
            <a:ext cx="55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59280" y="6167520"/>
            <a:ext cx="2879640" cy="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898560" y="4076640"/>
            <a:ext cx="433440" cy="86688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2700360" y="2565360"/>
                <a:ext cx="6443640" cy="20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  <m:r>
                          <m:t xml:space="preserve">⊥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  <m:r>
                          <m:t xml:space="preserve">⊥</m:t>
                        </m:r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  <m:r>
                          <m:t xml:space="preserve">⇒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  <m:r>
                          <m:t xml:space="preserve">⊥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EK</m:t>
                            </m:r>
                          </m:e>
                        </m:d>
                        <m:r>
                          <m:t xml:space="preserve">⇒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  <m:r>
                          <m:t xml:space="preserve">⊥</m:t>
                        </m:r>
                        <m:r>
                          <m:rPr>
                            <m:lit/>
                            <m:nor/>
                          </m:rPr>
                          <m:t xml:space="preserve">AK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836280"/>
            <a:ext cx="88362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Треугольник АВС – равнобедренный,</a:t>
            </a:r>
            <a:br>
              <a:rPr sz="3200"/>
            </a:b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АВ=АС, точка </a:t>
            </a: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 – середина ВС</a:t>
            </a:r>
            <a:br>
              <a:rPr sz="3200"/>
            </a:b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Прямая </a:t>
            </a: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ED</a:t>
            </a: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 перпендикулярна плоскости АВС, докажите, что АЕ перпендикулярна В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4724280"/>
            <a:ext cx="9144000" cy="1368720"/>
          </a:xfrm>
          <a:prstGeom prst="parallelogram">
            <a:avLst>
              <a:gd name="adj" fmla="val -115398"/>
            </a:avLst>
          </a:prstGeom>
          <a:gradFill rotWithShape="0">
            <a:gsLst>
              <a:gs pos="0">
                <a:srgbClr val="bbe0e3">
                  <a:alpha val="62352"/>
                </a:srgbClr>
              </a:gs>
              <a:gs pos="100000">
                <a:srgbClr val="566768">
                  <a:alpha val="63137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619280" y="4723920"/>
            <a:ext cx="4681440" cy="122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619280" y="5516640"/>
            <a:ext cx="6121440" cy="433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00720" y="4724280"/>
            <a:ext cx="1440000" cy="792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6877080" y="5013360"/>
            <a:ext cx="71280" cy="7308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24360" y="5157720"/>
            <a:ext cx="360360" cy="2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4140360" y="5661000"/>
            <a:ext cx="287280" cy="2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948360" y="2781360"/>
            <a:ext cx="0" cy="2303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1618920" y="2781360"/>
            <a:ext cx="5329080" cy="316872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619280" y="5084640"/>
            <a:ext cx="5329080" cy="865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979640" y="270828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403280" y="249228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16000" y="5734080"/>
            <a:ext cx="56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800680" y="4076640"/>
            <a:ext cx="55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534440" y="5516640"/>
            <a:ext cx="53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026480" y="4508640"/>
            <a:ext cx="59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036200" y="2492280"/>
            <a:ext cx="46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300720" y="4724280"/>
            <a:ext cx="1440000" cy="79236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6587640" y="4437000"/>
            <a:ext cx="360360" cy="21600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588000" y="4437000"/>
            <a:ext cx="0" cy="43200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6300720" y="4869000"/>
            <a:ext cx="287280" cy="7272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300720" y="4941720"/>
            <a:ext cx="358920" cy="21600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 rot="5400000">
            <a:off x="2457360" y="2950920"/>
            <a:ext cx="1130400" cy="4968720"/>
          </a:xfrm>
          <a:prstGeom prst="ellipse">
            <a:avLst/>
          </a:prstGeom>
          <a:gradFill rotWithShape="0">
            <a:gsLst>
              <a:gs pos="0">
                <a:srgbClr val="6600cc">
                  <a:alpha val="23137"/>
                </a:srgbClr>
              </a:gs>
              <a:gs pos="100000">
                <a:srgbClr val="2f005e">
                  <a:alpha val="19215"/>
                </a:srgbClr>
              </a:gs>
            </a:gsLst>
            <a:lin ang="0"/>
          </a:gradFill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835280" y="4797360"/>
            <a:ext cx="215640" cy="21600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906560" y="1054080"/>
            <a:ext cx="0" cy="3887640"/>
          </a:xfrm>
          <a:prstGeom prst="line">
            <a:avLst/>
          </a:prstGeom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06560" y="4941720"/>
            <a:ext cx="2016000" cy="1008360"/>
          </a:xfrm>
          <a:prstGeom prst="line">
            <a:avLst/>
          </a:prstGeom>
          <a:ln w="7632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770200" y="5302080"/>
            <a:ext cx="216000" cy="21600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851280" y="5086080"/>
            <a:ext cx="1224000" cy="863640"/>
          </a:xfrm>
          <a:prstGeom prst="line">
            <a:avLst/>
          </a:prstGeom>
          <a:ln w="7632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6560" y="1054080"/>
            <a:ext cx="3097080" cy="4032360"/>
          </a:xfrm>
          <a:prstGeom prst="line">
            <a:avLst/>
          </a:prstGeom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906560" y="1054080"/>
            <a:ext cx="1944720" cy="4824360"/>
          </a:xfrm>
          <a:prstGeom prst="line">
            <a:avLst/>
          </a:prstGeom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116000" y="4149720"/>
            <a:ext cx="56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Tahoma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9560" y="549360"/>
            <a:ext cx="55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Tahoma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02480" y="2421000"/>
            <a:ext cx="140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Tahoma"/>
              </a:rPr>
              <a:t>1 с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000320" y="5950080"/>
            <a:ext cx="55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Tahoma"/>
              </a:rPr>
              <a:t>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013360" y="4437000"/>
            <a:ext cx="53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Tahoma"/>
              </a:rPr>
              <a:t>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419640" y="5446800"/>
            <a:ext cx="792000" cy="215640"/>
          </a:xfrm>
          <a:custGeom>
            <a:avLst/>
            <a:gdLst/>
            <a:ahLst/>
            <a:rect l="l" t="t" r="r" b="b"/>
            <a:pathLst>
              <a:path w="499" h="136">
                <a:moveTo>
                  <a:pt x="0" y="136"/>
                </a:moveTo>
                <a:cubicBezTo>
                  <a:pt x="117" y="68"/>
                  <a:pt x="234" y="0"/>
                  <a:pt x="317" y="0"/>
                </a:cubicBezTo>
                <a:cubicBezTo>
                  <a:pt x="400" y="0"/>
                  <a:pt x="469" y="113"/>
                  <a:pt x="499" y="136"/>
                </a:cubicBezTo>
              </a:path>
            </a:pathLst>
          </a:custGeom>
          <a:noFill/>
          <a:ln w="57240">
            <a:solidFill>
              <a:srgbClr val="6600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029760" y="5013360"/>
            <a:ext cx="86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Tahoma"/>
              </a:rPr>
              <a:t>45</a:t>
            </a:r>
            <a:r>
              <a:rPr b="1" lang="en-US" sz="3600" spc="-1" strike="noStrike" baseline="30000">
                <a:solidFill>
                  <a:srgbClr val="6600cc"/>
                </a:solidFill>
                <a:latin typeface="Tahoma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547280" y="5084640"/>
            <a:ext cx="106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Tahoma"/>
              </a:rPr>
              <a:t>2с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40360" y="549360"/>
            <a:ext cx="4752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cc"/>
                </a:solidFill>
                <a:latin typeface="Tahoma"/>
              </a:rPr>
              <a:t>КА – перпендикуляр к плоскости окружности. Докажите, ч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cc"/>
                </a:solidFill>
                <a:latin typeface="Tahoma"/>
              </a:rPr>
              <a:t>треугольник КС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cc"/>
                </a:solidFill>
                <a:latin typeface="Tahoma"/>
              </a:rPr>
              <a:t>прямоуголь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35320" y="2852640"/>
            <a:ext cx="307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cc"/>
                </a:solidFill>
                <a:latin typeface="Tahoma"/>
              </a:rPr>
              <a:t>Найдите: К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979640" y="4941720"/>
            <a:ext cx="3024000" cy="216000"/>
          </a:xfrm>
          <a:prstGeom prst="line">
            <a:avLst/>
          </a:prstGeom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4356000" y="5157720"/>
            <a:ext cx="287280" cy="14292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356000" y="5300640"/>
            <a:ext cx="43200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908000" y="4437000"/>
            <a:ext cx="432000" cy="7164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340000" y="4508640"/>
            <a:ext cx="0" cy="50472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211280" y="4581360"/>
            <a:ext cx="360360" cy="28764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211640" y="4869000"/>
            <a:ext cx="360360" cy="50472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2340000" y="4292640"/>
                <a:ext cx="93672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701880" y="2112840"/>
                <a:ext cx="660600" cy="119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403280" y="4869000"/>
            <a:ext cx="2737080" cy="100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140360" y="4149720"/>
            <a:ext cx="3095640" cy="1727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1403280" y="4149720"/>
            <a:ext cx="5832720" cy="71928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1403280" y="1197000"/>
            <a:ext cx="2448000" cy="367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851280" y="1197000"/>
            <a:ext cx="289080" cy="4680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51280" y="1197000"/>
            <a:ext cx="3384720" cy="2952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403280" y="4869000"/>
            <a:ext cx="2737080" cy="1008000"/>
          </a:xfrm>
          <a:prstGeom prst="line">
            <a:avLst/>
          </a:prstGeom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4140360" y="4149720"/>
            <a:ext cx="3095640" cy="1727280"/>
          </a:xfrm>
          <a:prstGeom prst="line">
            <a:avLst/>
          </a:prstGeom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780000" y="5373720"/>
            <a:ext cx="287280" cy="36036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140360" y="5373720"/>
            <a:ext cx="287280" cy="36036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1280" y="4292640"/>
            <a:ext cx="70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cc"/>
                </a:solidFill>
                <a:latin typeface="Tahoma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996280" y="620640"/>
            <a:ext cx="744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cc"/>
                </a:solidFill>
                <a:latin typeface="Tahoma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570840" y="5851440"/>
            <a:ext cx="692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cc"/>
                </a:solidFill>
                <a:latin typeface="Tahoma"/>
              </a:rPr>
              <a:t>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21320" y="3573360"/>
            <a:ext cx="6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cc"/>
                </a:solidFill>
                <a:latin typeface="Tahoma"/>
              </a:rPr>
              <a:t>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9280" y="692280"/>
                <a:ext cx="2952720" cy="26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Дано</m:t>
                        </m:r>
                        <m:r>
                          <m:t xml:space="preserve">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BCD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тетраэдр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e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ABD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rPr>
                            <m:lit/>
                            <m:nor/>
                          </m:rPr>
                          <m:t xml:space="preserve">CBD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 flipH="1">
            <a:off x="4140000" y="4508640"/>
            <a:ext cx="360360" cy="1368360"/>
          </a:xfrm>
          <a:prstGeom prst="line">
            <a:avLst/>
          </a:prstGeom>
          <a:ln w="5724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3203280" y="4508640"/>
            <a:ext cx="73080" cy="28872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5508360" y="4221000"/>
            <a:ext cx="142920" cy="28764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4788000" y="4437000"/>
            <a:ext cx="71280" cy="28728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4500720" y="4724280"/>
            <a:ext cx="28728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83160" y="3429000"/>
            <a:ext cx="67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cc"/>
                </a:solidFill>
                <a:latin typeface="Tahoma"/>
              </a:rPr>
              <a:t>V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51280" y="1197000"/>
            <a:ext cx="649440" cy="3311640"/>
          </a:xfrm>
          <a:prstGeom prst="line">
            <a:avLst/>
          </a:prstGeom>
          <a:ln w="5724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427640" y="4221000"/>
            <a:ext cx="36036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788000" y="4221000"/>
            <a:ext cx="71280" cy="21600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5148360" y="765000"/>
                <a:ext cx="360036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Доказать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что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С</m:t>
                        </m:r>
                        <m:r>
                          <m:t xml:space="preserve">⊥</m:t>
                        </m:r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403280" y="4869000"/>
            <a:ext cx="2737080" cy="100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140360" y="4149720"/>
            <a:ext cx="3095640" cy="1727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1403280" y="4149720"/>
            <a:ext cx="5832720" cy="71928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1403280" y="1197000"/>
            <a:ext cx="2448000" cy="367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851280" y="1197000"/>
            <a:ext cx="289080" cy="4680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851280" y="1197000"/>
            <a:ext cx="3384720" cy="2952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140360" y="5851440"/>
            <a:ext cx="70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cc"/>
                </a:solidFill>
                <a:latin typeface="Tahoma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996280" y="620640"/>
            <a:ext cx="744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cc"/>
                </a:solidFill>
                <a:latin typeface="Tahoma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1200" y="4149720"/>
            <a:ext cx="692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cc"/>
                </a:solidFill>
                <a:latin typeface="Tahoma"/>
              </a:rPr>
              <a:t>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321320" y="3573360"/>
            <a:ext cx="6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cc"/>
                </a:solidFill>
                <a:latin typeface="Tahoma"/>
              </a:rPr>
              <a:t>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203280" y="4508640"/>
            <a:ext cx="7308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5508360" y="4221000"/>
            <a:ext cx="142920" cy="287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378680" y="3500280"/>
            <a:ext cx="607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cc"/>
                </a:solidFill>
                <a:latin typeface="Tahoma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356000" y="4437000"/>
            <a:ext cx="1447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2484000" y="3213000"/>
            <a:ext cx="4751640" cy="936720"/>
          </a:xfrm>
          <a:prstGeom prst="line">
            <a:avLst/>
          </a:prstGeom>
          <a:ln w="57240">
            <a:solidFill>
              <a:srgbClr val="cc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602000" y="2276640"/>
            <a:ext cx="90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cc"/>
                </a:solidFill>
                <a:latin typeface="Tahoma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700360" y="2924280"/>
            <a:ext cx="431640" cy="7308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2916000" y="2997360"/>
            <a:ext cx="215640" cy="28728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 flipV="1">
            <a:off x="1979640" y="4005360"/>
            <a:ext cx="2448000" cy="503280"/>
          </a:xfrm>
          <a:prstGeom prst="line">
            <a:avLst/>
          </a:prstGeom>
          <a:ln w="57240">
            <a:solidFill>
              <a:srgbClr val="cc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388520" y="2997360"/>
            <a:ext cx="801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cc"/>
                </a:solidFill>
                <a:latin typeface="Tahoma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124000" y="3789360"/>
            <a:ext cx="360360" cy="7128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2339640" y="3860640"/>
            <a:ext cx="144360" cy="21600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484360" y="3213000"/>
            <a:ext cx="1656000" cy="266400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340000" y="3429000"/>
            <a:ext cx="216000" cy="28728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2556000" y="3573000"/>
            <a:ext cx="144360" cy="14292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 flipV="1">
            <a:off x="1979640" y="3933720"/>
            <a:ext cx="792000" cy="144000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908000" y="4149720"/>
            <a:ext cx="142920" cy="21600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2050920" y="4221000"/>
            <a:ext cx="73080" cy="14472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138040" y="5229360"/>
            <a:ext cx="68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cc"/>
                </a:solidFill>
                <a:latin typeface="Tahoma"/>
              </a:rPr>
              <a:t>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2771640" y="4508640"/>
            <a:ext cx="1656000" cy="792000"/>
          </a:xfrm>
          <a:prstGeom prst="line">
            <a:avLst/>
          </a:prstGeom>
          <a:ln w="57240">
            <a:solidFill>
              <a:srgbClr val="cc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979640" y="4005360"/>
            <a:ext cx="2448000" cy="1368360"/>
          </a:xfrm>
          <a:custGeom>
            <a:avLst/>
            <a:gdLst/>
            <a:ahLst/>
            <a:rect l="l" t="t" r="r" b="b"/>
            <a:pathLst>
              <a:path w="1542" h="862">
                <a:moveTo>
                  <a:pt x="0" y="0"/>
                </a:moveTo>
                <a:lnTo>
                  <a:pt x="1542" y="317"/>
                </a:lnTo>
                <a:lnTo>
                  <a:pt x="454" y="86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699ff">
                  <a:alpha val="36078"/>
                </a:srgbClr>
              </a:gs>
              <a:gs pos="100000">
                <a:srgbClr val="7ea8fe">
                  <a:alpha val="3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110200" y="404640"/>
            <a:ext cx="4033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cc"/>
                </a:solidFill>
                <a:latin typeface="Tahoma"/>
              </a:rPr>
              <a:t>В правильном тетраэдре построить сечение плоскостью, проходящей через точку Е – середину ребра ВС  и перпендикулярной ребру </a:t>
            </a:r>
            <a:r>
              <a:rPr b="1" i="1" lang="en-US" sz="2000" spc="-1" strike="noStrike">
                <a:solidFill>
                  <a:srgbClr val="6600cc"/>
                </a:solidFill>
                <a:latin typeface="Tahoma"/>
              </a:rPr>
              <a:t>B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Обсуждение проектов : применение на практике теоретических сведений о расположении  прямых и плоскос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403280" y="1905120"/>
            <a:ext cx="6624720" cy="46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ыводы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ие знания обобщи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нового в своих знаниях и практических умениях получи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ую проблему для себя определи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25320" y="266760"/>
            <a:ext cx="78948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34880" y="209520"/>
            <a:ext cx="8275680" cy="64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492360" y="620640"/>
            <a:ext cx="2857680" cy="2457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203640" y="3645000"/>
            <a:ext cx="2808360" cy="2152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11280" y="3068640"/>
            <a:ext cx="2431800" cy="32781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468360" y="550800"/>
            <a:ext cx="3166920" cy="2374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6372360" y="2349360"/>
            <a:ext cx="2314440" cy="27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колько тут элементов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6400800" cy="17524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990720" y="649440"/>
            <a:ext cx="7162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Невозможные объекты» и зрительные иллю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есконечная фотограф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Бесконечная фотография"/>
          <p:cNvPicPr/>
          <p:nvPr/>
        </p:nvPicPr>
        <p:blipFill>
          <a:blip r:embed="rId1"/>
          <a:stretch/>
        </p:blipFill>
        <p:spPr>
          <a:xfrm>
            <a:off x="1981080" y="1295280"/>
            <a:ext cx="5105520" cy="51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возможно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кн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Невозможное окно"/>
          <p:cNvPicPr/>
          <p:nvPr/>
        </p:nvPicPr>
        <p:blipFill>
          <a:blip r:embed="rId1"/>
          <a:stretch/>
        </p:blipFill>
        <p:spPr>
          <a:xfrm>
            <a:off x="2916360" y="1268280"/>
            <a:ext cx="362736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колько здесь колонн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Сколько здесь колонн?"/>
          <p:cNvPicPr/>
          <p:nvPr/>
        </p:nvPicPr>
        <p:blipFill>
          <a:blip r:embed="rId1"/>
          <a:stretch/>
        </p:blipFill>
        <p:spPr>
          <a:xfrm>
            <a:off x="2843280" y="1197000"/>
            <a:ext cx="3657600" cy="4876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эльвира</dc:creator>
  <dc:description/>
  <dc:language>en-US</dc:language>
  <cp:lastModifiedBy>Admin</cp:lastModifiedBy>
  <dcterms:modified xsi:type="dcterms:W3CDTF">2010-12-10T18:53:45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