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7.png" ContentType="image/png"/>
  <Override PartName="/ppt/media/chimes.wav" ContentType="audio/x-wav"/>
  <Override PartName="/ppt/media/image4.gif" ContentType="image/gif"/>
  <Override PartName="/ppt/media/image5.gif" ContentType="image/gif"/>
  <Override PartName="/ppt/media/type.wav" ContentType="audio/x-wav"/>
  <Override PartName="/ppt/media/image9.gif" ContentType="image/gif"/>
  <Override PartName="/ppt/media/image6.png" ContentType="image/png"/>
  <Override PartName="/ppt/media/image8.gif" ContentType="image/gif"/>
  <Override PartName="/ppt/media/image10.png" ContentType="image/pn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A74-9B23-4F7F-9107-67CFAF8F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AF8-4ACD-4243-AD68-307CE702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CDE-6D90-49EB-983C-FAEA31AF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A09E-0E75-4336-A700-DF7F9F80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DED6-9093-4253-801A-43DBA811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58D4-D2E5-467D-B656-9AA444B1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A624-5B6C-4DCD-8910-EE5D731C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6EB6-BBAD-4281-B3CC-CEFD767E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224C-2AB2-4EE9-82E7-93198320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748F-974A-4A27-B568-E26F1D4C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BFDE-6B3F-453E-83AC-14422BB5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A944-F65A-4196-BD96-01771145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E4AB-70D3-4B03-B636-9D4D3574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0E18-7B0E-4C1D-BB2D-5C6D3FED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13DA-9256-447F-BF39-BD270924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DCBB-FF79-480F-86FD-FD0AD245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3626-2103-4594-92B9-9D5DDC4A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B5933-C3A9-44E0-9A63-59472F62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492A2-D4B3-4CB6-A0F3-DE104D11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FAAB5-7246-40BE-A8CF-76E1D085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8B243-0F09-4496-9896-B2AF8D51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3D26-710D-4C4A-96B7-DF18B36B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ADC-F030-42EC-9978-6089FDB3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80D3A-32F3-4A00-B793-2E968460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1A0CF-02EA-42E1-A8C7-5503562A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2445F-062F-4A46-A5D1-91E621B4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2579F-0CCE-47B1-B723-5C049AA8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ABBB6-99A9-4648-88F0-BC979A38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7AFF9-E168-4841-A21A-ACCEA5F0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0ED03-143A-4BAE-96E2-3D330280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D6AD2-9A0B-4B5C-9E1F-E1D32507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CD809-3CD2-49AE-ABCE-5059B8D4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9C440-FC71-4141-8F19-95A4C99A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D44-F3C0-4D04-B816-5ABA8BEF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3EE14-44DF-43CD-B3E5-A89A7041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6E4C9-3EBF-4ED0-90ED-2787A65E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427BF-F47F-4E82-9205-692B0A9D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6EBBF-7BC3-404D-8449-EC420895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6C909-3F2E-4223-ACAD-FBDEA4C4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49BB2-8032-484C-94A0-D77FD6F2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1A4C8-F164-458C-9F21-56671E57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95086-8CB2-49DD-89AF-AA66973D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BD3E5-9DB3-4BAC-992C-3073182B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4F6-F880-41A3-A966-06ABC622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227F-B225-4204-BA62-E8E64543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624-1B41-4DDA-8635-4E2D0D3C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ECF-533B-40B9-86AD-50AEFB37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624-634E-4257-BC12-9763E7E7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0A2FE-C0CD-4BF7-B200-40EB631FB65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226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3A85A63-2E5D-430F-80D5-4C2016C4AB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65A85F5-2656-4E20-865F-AD31F8F1AB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AD271C7-8AB1-42C3-AEED-C2E2DA3584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116000" y="476280"/>
            <a:ext cx="662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ed47e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иметрия.</a:t>
            </a:r>
            <a:endParaRPr b="0" i="1" lang="en-US" sz="1800" spc="1" strike="noStrike">
              <a:ln w="9360">
                <a:solidFill>
                  <a:srgbClr val="b2b2b2"/>
                </a:solidFill>
                <a:miter/>
              </a:ln>
              <a:solidFill>
                <a:srgbClr val="ed47e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b2b2b2"/>
                  </a:solidFill>
                  <a:miter/>
                </a:ln>
                <a:solidFill>
                  <a:srgbClr val="ed47e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</a:t>
            </a:r>
            <a:endParaRPr b="0" i="1" lang="en-US" sz="1800" spc="1" strike="noStrike">
              <a:ln w="9360">
                <a:solidFill>
                  <a:srgbClr val="b2b2b2"/>
                </a:solidFill>
                <a:miter/>
              </a:ln>
              <a:solidFill>
                <a:srgbClr val="ed47e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132000" y="2492280"/>
            <a:ext cx="3456000" cy="11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Учитель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790640" y="3789360"/>
            <a:ext cx="556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Русина Анна Николаевн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095560" y="4941720"/>
            <a:ext cx="4952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МБОУ "Гимназия №23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г.Троиц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319640" y="47628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187280" y="3284280"/>
            <a:ext cx="7465680" cy="2599200"/>
            <a:chOff x="1187280" y="3284280"/>
            <a:chExt cx="7465680" cy="2599200"/>
          </a:xfrm>
        </p:grpSpPr>
        <p:sp>
          <p:nvSpPr>
            <p:cNvPr id="259" name=""/>
            <p:cNvSpPr/>
            <p:nvPr/>
          </p:nvSpPr>
          <p:spPr>
            <a:xfrm flipV="1">
              <a:off x="1315440" y="3284280"/>
              <a:ext cx="3171240" cy="1729800"/>
            </a:xfrm>
            <a:prstGeom prst="line">
              <a:avLst/>
            </a:prstGeom>
            <a:ln w="38160">
              <a:solidFill>
                <a:srgbClr val="83c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87280" y="5015520"/>
              <a:ext cx="123480" cy="4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87280" y="5061600"/>
              <a:ext cx="101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64960" y="3381120"/>
              <a:ext cx="63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45400" y="4253040"/>
              <a:ext cx="540756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000" spc="-1" strike="noStrike">
                  <a:solidFill>
                    <a:srgbClr val="ffff00"/>
                  </a:solidFill>
                  <a:latin typeface="Times New Roman"/>
                </a:rPr>
                <a:t>       </a:t>
              </a:r>
              <a:r>
                <a:rPr b="1" lang="ru-RU" sz="4000" spc="-1" strike="noStrike">
                  <a:solidFill>
                    <a:srgbClr val="ffff00"/>
                  </a:solidFill>
                  <a:latin typeface="Times New Roman"/>
                </a:rPr>
                <a:t>Пишут: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ru-RU" sz="4000" spc="-1" strike="noStrike">
                  <a:solidFill>
                    <a:srgbClr val="ffff00"/>
                  </a:solidFill>
                  <a:latin typeface="Times New Roman"/>
                </a:rPr>
                <a:t>луч ОА </a:t>
              </a:r>
              <a:endParaRPr b="0" lang="en-US" sz="40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000" spc="-1" strike="noStrike">
                  <a:solidFill>
                    <a:srgbClr val="ffff00"/>
                  </a:solidFill>
                  <a:latin typeface="Times New Roman"/>
                </a:rPr>
                <a:t>    </a:t>
              </a:r>
              <a:r>
                <a:rPr b="1" lang="ru-RU" sz="4000" spc="-1" strike="noStrike">
                  <a:solidFill>
                    <a:srgbClr val="ffff00"/>
                  </a:solidFill>
                  <a:latin typeface="Times New Roman"/>
                </a:rPr>
                <a:t>или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 </a:t>
              </a:r>
              <a:r>
                <a:rPr b="1" lang="ru-RU" sz="4000" spc="-1" strike="noStrike">
                  <a:solidFill>
                    <a:srgbClr val="ffff00"/>
                  </a:solidFill>
                  <a:latin typeface="Times New Roman"/>
                </a:rPr>
                <a:t>луч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endParaRPr b="0" lang="en-US" sz="4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0" y="333360"/>
            <a:ext cx="3056040" cy="2805120"/>
            <a:chOff x="0" y="333360"/>
            <a:chExt cx="3056040" cy="280512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0" y="333360"/>
              <a:ext cx="305604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92120" y="2158920"/>
              <a:ext cx="17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Запомни!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67" name=""/>
          <p:cNvSpPr txBox="1"/>
          <p:nvPr/>
        </p:nvSpPr>
        <p:spPr>
          <a:xfrm>
            <a:off x="6516720" y="1676520"/>
            <a:ext cx="21589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луч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627280" y="1413000"/>
            <a:ext cx="3457440" cy="136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 урока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219640" y="2708280"/>
            <a:ext cx="3780000" cy="1441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977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О - начало луч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5727600" y="36036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319640" y="2782800"/>
            <a:ext cx="3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319640" y="360360"/>
            <a:ext cx="11923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Урок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87280" y="5013360"/>
            <a:ext cx="71640" cy="7128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16000" y="162864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187280" y="545760"/>
            <a:ext cx="2592720" cy="108756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00720" y="260280"/>
            <a:ext cx="395892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Определе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203640" y="189000"/>
            <a:ext cx="28872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71640" y="1052640"/>
            <a:ext cx="21564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228760" y="1628640"/>
            <a:ext cx="6015240" cy="165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учом называется ча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ой, ограниченная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одной сторон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9640" y="4437000"/>
            <a:ext cx="381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11280" y="436572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340000" y="3789360"/>
            <a:ext cx="28728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067280" y="3789360"/>
            <a:ext cx="36036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4360" y="3789360"/>
            <a:ext cx="287280" cy="5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148360" y="3500280"/>
            <a:ext cx="367164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1. построили прямую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148360" y="4221000"/>
            <a:ext cx="3995640" cy="115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2. отметили на прямой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точку 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076720" y="5516640"/>
            <a:ext cx="309564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3. получили дв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луча - ОА и 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79280" y="4869000"/>
            <a:ext cx="4032360" cy="172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учи ОА и ОВ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полнительные луч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635280" y="260280"/>
            <a:ext cx="3024360" cy="1263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уго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971640" y="1986120"/>
            <a:ext cx="1695240" cy="303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71640" y="5084640"/>
            <a:ext cx="367668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4941720"/>
            <a:ext cx="216000" cy="147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9640" y="508464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50920" y="1676520"/>
            <a:ext cx="6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323dc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00720" y="54007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323dc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00720" y="1979640"/>
            <a:ext cx="4130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w Cen MT"/>
              </a:rPr>
              <a:t>Определение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Tw Cen MT"/>
              </a:rPr>
              <a:t>Геометрическая фигура, образованная двумя лучами , исходящих из одной точки, называется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w Cen MT"/>
              </a:rPr>
              <a:t>углом.</a:t>
            </a:r>
            <a:r>
              <a:rPr b="0" i="1" lang="ru-RU" sz="2400" spc="-1" strike="noStrike">
                <a:solidFill>
                  <a:srgbClr val="990033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Tw Cen MT"/>
              </a:rPr>
              <a:t>Точка О-вершина угла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Tw Cen MT"/>
              </a:rPr>
              <a:t>Лучи ОА и ОВ –стороны угла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877080" y="228600"/>
            <a:ext cx="2263680" cy="1825560"/>
            <a:chOff x="6877080" y="228600"/>
            <a:chExt cx="2263680" cy="1825560"/>
          </a:xfrm>
        </p:grpSpPr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6877080" y="228600"/>
              <a:ext cx="226368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7240680" y="1417680"/>
              <a:ext cx="13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</a:rPr>
                <a:t>Запомни</a:t>
              </a: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00" name=""/>
          <p:cNvSpPr txBox="1"/>
          <p:nvPr/>
        </p:nvSpPr>
        <p:spPr>
          <a:xfrm>
            <a:off x="179280" y="260280"/>
            <a:ext cx="316872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ема урока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"/>
          <p:cNvSpPr/>
          <p:nvPr/>
        </p:nvSpPr>
        <p:spPr>
          <a:xfrm>
            <a:off x="3959280" y="5940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Symbol"/>
                <a:ea typeface="Symbol"/>
              </a:rPr>
              <a:t></a:t>
            </a:r>
            <a:r>
              <a:rPr b="0" lang="ru-RU" sz="3200" spc="-1" strike="noStrike">
                <a:solidFill>
                  <a:srgbClr val="2300dc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2300dc"/>
                </a:solidFill>
                <a:latin typeface="Times New Roman"/>
              </a:rPr>
              <a:t>В или </a:t>
            </a:r>
            <a:r>
              <a:rPr b="0" lang="ru-RU" sz="3200" spc="-1" strike="noStrike">
                <a:solidFill>
                  <a:srgbClr val="2300dc"/>
                </a:solidFill>
                <a:latin typeface="Symbol"/>
                <a:ea typeface="Symbol"/>
              </a:rPr>
              <a:t></a:t>
            </a:r>
            <a:r>
              <a:rPr b="0" lang="ru-RU" sz="3200" spc="-1" strike="noStrike">
                <a:solidFill>
                  <a:srgbClr val="2300dc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ff3366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2300dc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640" y="5805360"/>
            <a:ext cx="360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4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4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581280" y="22860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24000" y="0"/>
            <a:ext cx="2435040" cy="2054160"/>
            <a:chOff x="324000" y="0"/>
            <a:chExt cx="2435040" cy="2054160"/>
          </a:xfrm>
        </p:grpSpPr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243504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715680" y="1338120"/>
              <a:ext cx="140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Запомни</a:t>
              </a: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981080" y="1219320"/>
            <a:ext cx="69343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Определение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imes New Roman"/>
              </a:rPr>
              <a:t>Две фигуры называются равными, если их можно совместить наложением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295280" y="3733920"/>
            <a:ext cx="2206800" cy="1139760"/>
            <a:chOff x="1295280" y="3733920"/>
            <a:chExt cx="2206800" cy="1139760"/>
          </a:xfrm>
        </p:grpSpPr>
        <p:sp>
          <p:nvSpPr>
            <p:cNvPr id="309" name=""/>
            <p:cNvSpPr/>
            <p:nvPr/>
          </p:nvSpPr>
          <p:spPr>
            <a:xfrm>
              <a:off x="1295280" y="3733920"/>
              <a:ext cx="2206800" cy="1139760"/>
            </a:xfrm>
            <a:prstGeom prst="rect">
              <a:avLst/>
            </a:prstGeom>
            <a:gradFill rotWithShape="0">
              <a:gsLst>
                <a:gs pos="0">
                  <a:srgbClr val="005e47"/>
                </a:gs>
                <a:gs pos="100000">
                  <a:srgbClr val="bbe0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00200" y="4038480"/>
              <a:ext cx="530280" cy="454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14600" y="3962520"/>
              <a:ext cx="835200" cy="682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156840" y="2875680"/>
            <a:ext cx="3693600" cy="3483000"/>
            <a:chOff x="3156840" y="2875680"/>
            <a:chExt cx="3693600" cy="3483000"/>
          </a:xfrm>
        </p:grpSpPr>
        <p:sp>
          <p:nvSpPr>
            <p:cNvPr id="313" name=""/>
            <p:cNvSpPr/>
            <p:nvPr/>
          </p:nvSpPr>
          <p:spPr>
            <a:xfrm rot="19320000">
              <a:off x="3419640" y="3644640"/>
              <a:ext cx="3168000" cy="1944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9320000">
              <a:off x="4304880" y="3889080"/>
              <a:ext cx="1337040" cy="116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8099280" y="503280"/>
            <a:ext cx="865440" cy="9367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840360" y="650880"/>
            <a:ext cx="1312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 u="sng">
                <a:solidFill>
                  <a:srgbClr val="333399"/>
                </a:solidFill>
                <a:uFillTx/>
                <a:latin typeface="Arial"/>
              </a:rPr>
              <a:t>Урок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1258920" y="3716280"/>
            <a:ext cx="3273480" cy="2284560"/>
            <a:chOff x="1258920" y="3716280"/>
            <a:chExt cx="3273480" cy="2284560"/>
          </a:xfrm>
        </p:grpSpPr>
        <p:sp>
          <p:nvSpPr>
            <p:cNvPr id="318" name=""/>
            <p:cNvSpPr/>
            <p:nvPr/>
          </p:nvSpPr>
          <p:spPr>
            <a:xfrm>
              <a:off x="1258920" y="3716280"/>
              <a:ext cx="3273480" cy="2284560"/>
            </a:xfrm>
            <a:prstGeom prst="rect">
              <a:avLst/>
            </a:prstGeom>
            <a:gradFill rotWithShape="0">
              <a:gsLst>
                <a:gs pos="0">
                  <a:srgbClr val="005e47"/>
                </a:gs>
                <a:gs pos="100000">
                  <a:srgbClr val="bbe0e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11440" y="4325760"/>
              <a:ext cx="787320" cy="911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67200" y="4173480"/>
              <a:ext cx="1239840" cy="1368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195640" y="3860640"/>
            <a:ext cx="2877840" cy="2302200"/>
            <a:chOff x="2195640" y="3860640"/>
            <a:chExt cx="2877840" cy="2302200"/>
          </a:xfrm>
        </p:grpSpPr>
        <p:sp>
          <p:nvSpPr>
            <p:cNvPr id="322" name=""/>
            <p:cNvSpPr/>
            <p:nvPr/>
          </p:nvSpPr>
          <p:spPr>
            <a:xfrm>
              <a:off x="2195640" y="3860640"/>
              <a:ext cx="2877840" cy="230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81240" y="4167360"/>
              <a:ext cx="1216080" cy="1379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24" name=""/>
          <p:cNvSpPr txBox="1"/>
          <p:nvPr/>
        </p:nvSpPr>
        <p:spPr>
          <a:xfrm>
            <a:off x="900000" y="549360"/>
            <a:ext cx="7559640" cy="30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83caff"/>
                </a:solidFill>
                <a:latin typeface="Arial"/>
              </a:rPr>
              <a:t>Фигуры равные,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83ca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83caff"/>
                </a:solidFill>
                <a:latin typeface="Arial"/>
              </a:rPr>
              <a:t>так как при наложении 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83ca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83caff"/>
                </a:solidFill>
                <a:latin typeface="Arial"/>
              </a:rPr>
              <a:t>они совместились.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83caff"/>
              </a:solidFill>
              <a:latin typeface="Arial"/>
              <a:ea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651640" y="3716280"/>
            <a:ext cx="3096720" cy="2301840"/>
            <a:chOff x="5651640" y="3716280"/>
            <a:chExt cx="3096720" cy="2301840"/>
          </a:xfrm>
        </p:grpSpPr>
        <p:sp>
          <p:nvSpPr>
            <p:cNvPr id="326" name=""/>
            <p:cNvSpPr/>
            <p:nvPr/>
          </p:nvSpPr>
          <p:spPr>
            <a:xfrm>
              <a:off x="5651640" y="3716280"/>
              <a:ext cx="3096720" cy="230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04560" y="4022640"/>
              <a:ext cx="1308600" cy="1379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>
    <p:checker dir="vert"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20720" y="179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Сравнение углов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1979640"/>
            <a:ext cx="8458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rebuchet MS"/>
              </a:rPr>
              <a:t>Равные углы имеют равные градусные меры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rebuchet MS"/>
              </a:rPr>
              <a:t>********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rebuchet MS"/>
              </a:rPr>
              <a:t>Меньший угол имеет меньшую градусную меру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rebuchet MS"/>
              </a:rPr>
              <a:t>*********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rebuchet MS"/>
              </a:rPr>
              <a:t>Развернутый угол равен 180 градусов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rebuchet MS"/>
              </a:rPr>
              <a:t>*******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rebuchet MS"/>
              </a:rPr>
              <a:t>Неразвернутый угол меньше 180 градусов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276720" y="4572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Verdana"/>
              </a:rPr>
              <a:t>Равные отрезки имеют равные длины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68520" y="161928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Eras Bold ITC"/>
              </a:rPr>
              <a:t>Если точка делит отрезок на два отрезка, то длина данного отрезка, равна сумме длин получившихся отрезков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295280" y="3657600"/>
            <a:ext cx="5803920" cy="962280"/>
            <a:chOff x="1295280" y="3657600"/>
            <a:chExt cx="5803920" cy="962280"/>
          </a:xfrm>
        </p:grpSpPr>
        <p:sp>
          <p:nvSpPr>
            <p:cNvPr id="333" name=""/>
            <p:cNvSpPr/>
            <p:nvPr/>
          </p:nvSpPr>
          <p:spPr>
            <a:xfrm>
              <a:off x="1768320" y="4267080"/>
              <a:ext cx="4797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1692360" y="4190400"/>
              <a:ext cx="73080" cy="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568920" y="4190400"/>
              <a:ext cx="73080" cy="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892760" y="4190400"/>
              <a:ext cx="73080" cy="73080"/>
            </a:xfrm>
            <a:prstGeom prst="ellipse">
              <a:avLst/>
            </a:prstGeom>
            <a:solidFill>
              <a:srgbClr val="9966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95280" y="4038480"/>
              <a:ext cx="24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40120" y="3657600"/>
              <a:ext cx="37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Times New Roman"/>
                </a:rPr>
                <a:t>В</a:t>
              </a:r>
              <a:endParaRPr b="0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21560" y="3962520"/>
              <a:ext cx="37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209680" y="4952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АС=АВ+ВС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4920" y="304920"/>
            <a:ext cx="2892240" cy="2054160"/>
            <a:chOff x="304920" y="304920"/>
            <a:chExt cx="2892240" cy="2054160"/>
          </a:xfrm>
        </p:grpSpPr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304920" y="304920"/>
              <a:ext cx="289224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770040" y="16430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</a:rPr>
                <a:t>Запомни</a:t>
              </a: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 spd="slow">
    <p:push dir="l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8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640" y="1700280"/>
            <a:ext cx="756144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Вы сегодня на уроке повтори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755640" y="3357720"/>
            <a:ext cx="590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остроение прямой;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55640" y="4365720"/>
            <a:ext cx="7416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остроение отрезка и луча;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55640" y="4869000"/>
            <a:ext cx="727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онятие равных фигур.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04000" y="2205000"/>
            <a:ext cx="1795320" cy="18115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0" y="404640"/>
            <a:ext cx="6626160" cy="5712120"/>
            <a:chOff x="0" y="404640"/>
            <a:chExt cx="6626160" cy="5712120"/>
          </a:xfrm>
        </p:grpSpPr>
        <p:sp>
          <p:nvSpPr>
            <p:cNvPr id="170" name=""/>
            <p:cNvSpPr/>
            <p:nvPr/>
          </p:nvSpPr>
          <p:spPr>
            <a:xfrm>
              <a:off x="2579760" y="404640"/>
              <a:ext cx="1482480" cy="12639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19360" y="1671480"/>
              <a:ext cx="3195720" cy="148284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68320" y="3157560"/>
              <a:ext cx="4897440" cy="14810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4633920"/>
              <a:ext cx="6626160" cy="14828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74" name=""/>
          <p:cNvSpPr txBox="1"/>
          <p:nvPr/>
        </p:nvSpPr>
        <p:spPr>
          <a:xfrm>
            <a:off x="755640" y="549360"/>
            <a:ext cx="7777080" cy="583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411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еометри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           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 класс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0"/>
            <a:ext cx="1828800" cy="1828800"/>
          </a:xfr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003640" y="5084640"/>
            <a:ext cx="3962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62120" y="692280"/>
            <a:ext cx="7619760" cy="258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d60093"/>
                  </a:solidFill>
                  <a:miter/>
                </a:ln>
                <a:solidFill>
                  <a:srgbClr val="d6009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чальные геометрические</a:t>
            </a:r>
            <a:endParaRPr b="1" lang="en-US" sz="1800" spc="1" strike="noStrike">
              <a:ln w="12600">
                <a:solidFill>
                  <a:srgbClr val="d60093"/>
                </a:solidFill>
                <a:miter/>
              </a:ln>
              <a:solidFill>
                <a:srgbClr val="d6009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d60093"/>
                  </a:solidFill>
                  <a:miter/>
                </a:ln>
                <a:solidFill>
                  <a:srgbClr val="d6009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d60093"/>
                  </a:solidFill>
                  <a:miter/>
                </a:ln>
                <a:solidFill>
                  <a:srgbClr val="d6009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едения</a:t>
            </a:r>
            <a:endParaRPr b="1" lang="en-US" sz="1800" spc="1" strike="noStrike">
              <a:ln w="12600">
                <a:solidFill>
                  <a:srgbClr val="d60093"/>
                </a:solidFill>
                <a:miter/>
              </a:ln>
              <a:solidFill>
                <a:srgbClr val="d6009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00000" y="3860640"/>
            <a:ext cx="4953240" cy="17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981080" y="152280"/>
            <a:ext cx="533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Arial"/>
              </a:rPr>
              <a:t>Урок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3048120"/>
            <a:ext cx="8534520" cy="3581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Wingdings 2" charset="2"/>
              <a:buChar char="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В переводе с греческого -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«землемерие»;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Wingdings 2" charset="2"/>
              <a:buChar char="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Наука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изучающая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свойства геометрических фигур;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Wingdings 2" charset="2"/>
              <a:buChar char="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Делится на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ланиметрию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- часть геометрии, изучающую свойства фигур на плоскости, и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стереометрию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- часть геометрии , изучающую свойства фигур в пространстве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895480" y="1143000"/>
            <a:ext cx="518184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ГЕОМЕ 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1819440" cy="2057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580000" y="260280"/>
            <a:ext cx="571680" cy="714600"/>
          </a:xfrm>
          <a:prstGeom prst="rect">
            <a:avLst/>
          </a:prstGeom>
          <a:ln w="0">
            <a:noFill/>
          </a:ln>
        </p:spPr>
      </p:pic>
    </p:spTree>
  </p:cSld>
  <p:transition>
    <p:push dir="r"/>
    <p:sndAc>
      <p:stSnd>
        <p:snd r:embed="rId4" name="type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372960"/>
            <a:ext cx="7772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a40ac"/>
                </a:solidFill>
                <a:latin typeface="Arial"/>
              </a:rPr>
              <a:t>Основные неопределяемые понятия геометрии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26668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3429000"/>
            <a:ext cx="266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4724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3048120"/>
            <a:ext cx="2514600" cy="1447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3300"/>
                </a:solidFill>
                <a:latin typeface="Vivaldi"/>
              </a:rPr>
              <a:t>точка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1752480"/>
            <a:ext cx="2666880" cy="1981440"/>
          </a:xfrm>
          <a:prstGeom prst="ellipse">
            <a:avLst/>
          </a:prstGeom>
          <a:gradFill rotWithShape="0">
            <a:gsLst>
              <a:gs pos="0">
                <a:srgbClr val="c08000"/>
              </a:gs>
              <a:gs pos="100000">
                <a:srgbClr val="fca8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Vivaldi"/>
              </a:rPr>
              <a:t>пряма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2971800"/>
            <a:ext cx="2590920" cy="175248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996600"/>
                </a:solidFill>
                <a:latin typeface="Vivaldi"/>
              </a:rPr>
              <a:t>плоскость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4267080"/>
            <a:ext cx="3276720" cy="21337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cc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3333cc"/>
                </a:solidFill>
                <a:latin typeface="Vivaldi"/>
              </a:rPr>
              <a:t>пространство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21120" cy="3168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867280" y="981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26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А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71640" y="2276640"/>
            <a:ext cx="6193080" cy="35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Точки обозначают заглавными буквами латинского алфавита:В,С,М…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4437000"/>
            <a:ext cx="3457440" cy="100836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Запомни!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427640" y="1341360"/>
            <a:ext cx="367344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чка  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diamond/>
    <p:sndAc>
      <p:stSnd>
        <p:snd r:embed="rId3" name="chimes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 flipV="1">
            <a:off x="1476360" y="2781000"/>
            <a:ext cx="431964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4292640"/>
            <a:ext cx="217440" cy="21744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47640" y="465300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3357720"/>
            <a:ext cx="215640" cy="21564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356000" y="3500280"/>
            <a:ext cx="6476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2708280"/>
            <a:ext cx="215640" cy="21600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56000" y="2276640"/>
            <a:ext cx="57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788000" y="4581360"/>
            <a:ext cx="2736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шут: А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1640" y="4254840"/>
            <a:ext cx="6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076720" y="2421000"/>
            <a:ext cx="503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244000" y="4653000"/>
            <a:ext cx="36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093080" y="5229360"/>
            <a:ext cx="1655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  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67640" y="5012280"/>
            <a:ext cx="6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093080" y="5950080"/>
            <a:ext cx="1646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  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67640" y="581220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8360" y="189000"/>
            <a:ext cx="7704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"/>
              </a:rPr>
              <a:t>Запись принадлеж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"/>
              </a:rPr>
              <a:t>точки прямой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038480" y="654120"/>
            <a:ext cx="4800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 u="sng">
                <a:solidFill>
                  <a:srgbClr val="ffff00"/>
                </a:solidFill>
                <a:uFillTx/>
                <a:latin typeface="Arial"/>
              </a:rPr>
              <a:t>Отрезок</a:t>
            </a:r>
            <a:br>
              <a:rPr sz="3400"/>
            </a:b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457200"/>
            <a:ext cx="3806640" cy="3392640"/>
            <a:chOff x="304920" y="457200"/>
            <a:chExt cx="3806640" cy="339264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304920" y="457200"/>
              <a:ext cx="3806640" cy="33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914400" y="2666880"/>
              <a:ext cx="220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600" spc="-1" strike="noStrike">
                  <a:solidFill>
                    <a:srgbClr val="3333cc"/>
                  </a:solidFill>
                  <a:latin typeface="Times New Roman"/>
                </a:rPr>
                <a:t>Запомни!</a:t>
              </a:r>
              <a:endParaRPr b="0" lang="en-US" sz="36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09480" y="4859280"/>
            <a:ext cx="74678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Определение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370320" y="1619280"/>
            <a:ext cx="4187880" cy="2059920"/>
            <a:chOff x="3370320" y="1619280"/>
            <a:chExt cx="4187880" cy="2059920"/>
          </a:xfrm>
        </p:grpSpPr>
        <p:sp>
          <p:nvSpPr>
            <p:cNvPr id="220" name=""/>
            <p:cNvSpPr/>
            <p:nvPr/>
          </p:nvSpPr>
          <p:spPr>
            <a:xfrm>
              <a:off x="3370320" y="3219480"/>
              <a:ext cx="37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751200" y="1619280"/>
              <a:ext cx="3807000" cy="1518840"/>
              <a:chOff x="3751200" y="1619280"/>
              <a:chExt cx="3807000" cy="1518840"/>
            </a:xfrm>
          </p:grpSpPr>
          <p:sp>
            <p:nvSpPr>
              <p:cNvPr id="222" name=""/>
              <p:cNvSpPr/>
              <p:nvPr/>
            </p:nvSpPr>
            <p:spPr>
              <a:xfrm flipV="1">
                <a:off x="3827520" y="1693440"/>
                <a:ext cx="3273480" cy="1371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51200" y="3065400"/>
                <a:ext cx="73080" cy="72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7104240" y="1619280"/>
                <a:ext cx="72720" cy="727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180200" y="1848600"/>
                <a:ext cx="3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ffff00"/>
                    </a:solidFill>
                    <a:latin typeface="Times New Roman"/>
                  </a:rPr>
                  <a:t>В</a:t>
                </a:r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"/>
          <p:cNvSpPr/>
          <p:nvPr/>
        </p:nvSpPr>
        <p:spPr>
          <a:xfrm>
            <a:off x="4648320" y="31240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ишут: Отрезок АВ или отрезок ВА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077320" y="60958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3794"/>
                </a:moveTo>
                <a:lnTo>
                  <a:pt x="26426" y="10800"/>
                </a:lnTo>
                <a:lnTo>
                  <a:pt x="12413" y="17806"/>
                </a:lnTo>
                <a:close/>
              </a:path>
            </a:pathLst>
          </a:custGeom>
          <a:solidFill>
            <a:srgbClr val="ca4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5360" y="5451480"/>
            <a:ext cx="859464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imes New Roman"/>
              </a:rPr>
              <a:t>Часть прямой, ограниченная двумя точками, называется отрезком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657600" y="455760"/>
            <a:ext cx="48006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388620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Две прямые либо имеют только одну общую точку, либо вообще не имеют общих точек.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62120" y="4800240"/>
            <a:ext cx="2877840" cy="1784880"/>
            <a:chOff x="762120" y="4800240"/>
            <a:chExt cx="2877840" cy="1784880"/>
          </a:xfrm>
        </p:grpSpPr>
        <p:sp>
          <p:nvSpPr>
            <p:cNvPr id="232" name=""/>
            <p:cNvSpPr/>
            <p:nvPr/>
          </p:nvSpPr>
          <p:spPr>
            <a:xfrm flipV="1">
              <a:off x="914400" y="4800240"/>
              <a:ext cx="2066760" cy="81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1266840" y="5098320"/>
              <a:ext cx="2117880" cy="84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120" y="5490360"/>
              <a:ext cx="24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16000" y="5791680"/>
              <a:ext cx="24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43040" y="5759640"/>
              <a:ext cx="199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Не имеют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общих точек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929200" y="4648320"/>
            <a:ext cx="2925720" cy="2048400"/>
            <a:chOff x="5929200" y="4648320"/>
            <a:chExt cx="2925720" cy="2048400"/>
          </a:xfrm>
        </p:grpSpPr>
        <p:sp>
          <p:nvSpPr>
            <p:cNvPr id="238" name=""/>
            <p:cNvSpPr/>
            <p:nvPr/>
          </p:nvSpPr>
          <p:spPr>
            <a:xfrm>
              <a:off x="6095880" y="5416560"/>
              <a:ext cx="1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5929200" y="4648320"/>
              <a:ext cx="2925720" cy="2048400"/>
              <a:chOff x="5929200" y="4648320"/>
              <a:chExt cx="2925720" cy="2048400"/>
            </a:xfrm>
          </p:grpSpPr>
          <p:sp>
            <p:nvSpPr>
              <p:cNvPr id="240" name=""/>
              <p:cNvSpPr/>
              <p:nvPr/>
            </p:nvSpPr>
            <p:spPr>
              <a:xfrm flipV="1">
                <a:off x="6286680" y="4648320"/>
                <a:ext cx="1834920" cy="12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07280" y="5073120"/>
                <a:ext cx="1895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451560" y="4717800"/>
                <a:ext cx="18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929280" y="4789440"/>
                <a:ext cx="31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ffff00"/>
                    </a:solidFill>
                    <a:latin typeface="Times New Roman"/>
                  </a:rPr>
                  <a:t>О</a:t>
                </a:r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29200" y="5871240"/>
                <a:ext cx="2925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ffff00"/>
                    </a:solidFill>
                    <a:latin typeface="Times New Roman"/>
                  </a:rPr>
                  <a:t>имеют общую точку, т.е. пересекаются</a:t>
                </a:r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304920" y="457200"/>
            <a:ext cx="3197160" cy="2816280"/>
            <a:chOff x="304920" y="457200"/>
            <a:chExt cx="3197160" cy="281628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304920" y="457200"/>
              <a:ext cx="3197160" cy="28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19000" y="2290680"/>
              <a:ext cx="184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Times New Roman"/>
                </a:rPr>
                <a:t>Запомни!</a:t>
              </a:r>
              <a:endParaRPr b="0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962520" y="1371600"/>
            <a:ext cx="41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Через любые две точки можно провести прямую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343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35280" y="2421000"/>
            <a:ext cx="4191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43200" y="28954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Обозначают АВ или малыми буквами латинского алфавита: а,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b, c, m, n, l, k…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067280" y="2421000"/>
            <a:ext cx="730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80360" y="242100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164360" y="5229360"/>
            <a:ext cx="7164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831960"/>
            <a:ext cx="21384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 u="sng">
                <a:solidFill>
                  <a:srgbClr val="ff3300"/>
                </a:solidFill>
                <a:uFillTx/>
                <a:latin typeface="Arial"/>
              </a:rPr>
              <a:t>Прямая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12:07:14Z</dcterms:created>
  <dc:creator>Русина</dc:creator>
  <dc:description/>
  <dc:language>en-US</dc:language>
  <cp:lastModifiedBy>Русина</cp:lastModifiedBy>
  <dcterms:modified xsi:type="dcterms:W3CDTF">2011-11-30T11:19:22Z</dcterms:modified>
  <cp:revision>6</cp:revision>
  <dc:subject/>
  <dc:title>Слайд 1</dc:title>
</cp:coreProperties>
</file>