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gif" ContentType="image/gif"/>
  <Override PartName="/ppt/media/image7.png" ContentType="image/png"/>
  <Override PartName="/ppt/media/chimes.wav" ContentType="audio/x-wav"/>
  <Override PartName="/ppt/media/image4.gif" ContentType="image/gif"/>
  <Override PartName="/ppt/media/image5.gif" ContentType="image/gif"/>
  <Override PartName="/ppt/media/type.wav" ContentType="audio/x-wav"/>
  <Override PartName="/ppt/media/image9.gif" ContentType="image/gif"/>
  <Override PartName="/ppt/media/image6.png" ContentType="image/png"/>
  <Override PartName="/ppt/media/image8.gif" ContentType="image/gif"/>
  <Override PartName="/ppt/media/image10.png" ContentType="image/pn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9F0B-9FCA-4BB3-B009-98F2C476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9616-6718-4C74-8E2E-9D79B3EE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EA4F-42B6-48E6-B77A-4AFE2CE4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81DD-B0B2-4686-884A-907D6DA1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573B-37AD-45F4-9374-4F4FFBE1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BF75-D610-4616-B21F-2BFCE6B6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2405-FEB2-4AA7-A745-73B3D02B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C64F-016C-4B47-8257-2C2073F0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3AE8-39E1-4124-A27A-471D029F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5160" y="-36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83E6-083F-43E7-889E-12F2564A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5BE7-59FA-43CF-BA25-C35A1321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C429-1051-468C-8938-67BDEF97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E22C-592E-402B-9115-9B31C54C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A245-3AA8-4266-BBCF-5C12C1A0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7139-270A-4DED-BADF-4708173D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A673-0E41-46B0-94A3-B898C090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AB7E-3FFC-426B-951B-16DEA244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FD9A4-8C99-4988-B339-AF7DF411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28989-CBEF-40CF-8E02-D58749D2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DBD69-0144-460C-A684-391C689F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FB07E-EAFD-4C9B-A6B6-44E5B512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0979A-137C-445E-B93F-AE2F6F60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3391-AA8C-44DE-A363-3DD4A32C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25160" y="-36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BC814-1196-49E1-9C6C-086C9292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19ED8-5B11-4C79-90BE-CD047AD5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C2E10-7611-40ED-B71C-29A08FE3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8A186-5F31-4F09-8F12-853A226B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2519C-21AE-4E0E-8875-EBF21EF9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A689B-6DA9-4A67-905E-5A484379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75015-A0D0-4B46-9218-D7F61BC9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6D5B1-2D81-45F3-85DD-63B9FA26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256E4-0F16-41BC-8028-7E23D39B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2D477-0AE3-4DBF-8FE1-BE787BDB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4CC5-FDEA-4CE3-90FF-0382B666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654EE-7D98-436F-8E4C-E9C89232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2E2A0-60B1-4145-91E1-D36C0CE3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25160" y="-36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60F7B-A90D-4DBF-BFB6-84EF8AC1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6103A-4C53-439F-8DD3-77D6D0D6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25FBB-F02B-4ED0-A0AA-92DAD9D3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BC506-BD57-40B6-A7DD-B446A0CA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4B790-9403-4B23-8092-279AC858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1CE79-A397-413A-A6AF-AF1BA188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040BD-57C5-474B-BA37-429D3D89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4DDA-2547-42D5-954D-75EA82A5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-36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D9B-0839-41CB-8FA8-65C45860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6842-9976-4BBB-8832-F79FEF60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E3A-EF45-4F8B-A1AF-88E8CA10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8905-1196-4953-AE86-1896170C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1CE99-811E-48B8-9502-ECB0BABEAEB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BC34E19-E4DF-44DE-AA2D-0F4CE2A4A0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0C30DAC-E3D0-4FA3-B71A-3435295248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7F1F780-7B41-4622-B070-8A4CA0E2A0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116000" y="476280"/>
            <a:ext cx="6624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ed47e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ниметрия.</a:t>
            </a:r>
            <a:endParaRPr b="0" i="1" lang="en-US" sz="1800" spc="1" strike="noStrike">
              <a:ln w="9360">
                <a:solidFill>
                  <a:srgbClr val="b2b2b2"/>
                </a:solidFill>
                <a:miter/>
              </a:ln>
              <a:solidFill>
                <a:srgbClr val="ed47e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ed47e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</a:t>
            </a:r>
            <a:endParaRPr b="0" i="1" lang="en-US" sz="1800" spc="1" strike="noStrike">
              <a:ln w="9360">
                <a:solidFill>
                  <a:srgbClr val="b2b2b2"/>
                </a:solidFill>
                <a:miter/>
              </a:ln>
              <a:solidFill>
                <a:srgbClr val="ed47e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132000" y="2492280"/>
            <a:ext cx="3456000" cy="119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Учитель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790640" y="3789360"/>
            <a:ext cx="556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Русина Анна Николаевн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095560" y="4941720"/>
            <a:ext cx="4952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МБОУ "Гимназия №23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г.Троиц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319640" y="47628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187280" y="3284280"/>
            <a:ext cx="7465680" cy="2599200"/>
            <a:chOff x="1187280" y="3284280"/>
            <a:chExt cx="7465680" cy="2599200"/>
          </a:xfrm>
        </p:grpSpPr>
        <p:sp>
          <p:nvSpPr>
            <p:cNvPr id="259" name=""/>
            <p:cNvSpPr/>
            <p:nvPr/>
          </p:nvSpPr>
          <p:spPr>
            <a:xfrm flipV="1">
              <a:off x="1315440" y="3284280"/>
              <a:ext cx="3171240" cy="1729800"/>
            </a:xfrm>
            <a:prstGeom prst="line">
              <a:avLst/>
            </a:prstGeom>
            <a:ln w="38160">
              <a:solidFill>
                <a:srgbClr val="83c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87280" y="5015520"/>
              <a:ext cx="123480" cy="42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87280" y="5061600"/>
              <a:ext cx="101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64960" y="3381120"/>
              <a:ext cx="63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45400" y="4253040"/>
              <a:ext cx="540756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4000" spc="-1" strike="noStrike">
                  <a:solidFill>
                    <a:srgbClr val="ffff00"/>
                  </a:solidFill>
                  <a:latin typeface="Times New Roman"/>
                </a:rPr>
                <a:t>       </a:t>
              </a:r>
              <a:r>
                <a:rPr b="1" lang="ru-RU" sz="4000" spc="-1" strike="noStrike">
                  <a:solidFill>
                    <a:srgbClr val="ffff00"/>
                  </a:solidFill>
                  <a:latin typeface="Times New Roman"/>
                </a:rPr>
                <a:t>Пишут: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ru-RU" sz="4000" spc="-1" strike="noStrike">
                  <a:solidFill>
                    <a:srgbClr val="ffff00"/>
                  </a:solidFill>
                  <a:latin typeface="Times New Roman"/>
                </a:rPr>
                <a:t>луч ОА </a:t>
              </a:r>
              <a:endParaRPr b="0" lang="en-US" sz="4000" spc="-1" strike="noStrike">
                <a:solidFill>
                  <a:srgbClr val="ffff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4000" spc="-1" strike="noStrike">
                  <a:solidFill>
                    <a:srgbClr val="ffff00"/>
                  </a:solidFill>
                  <a:latin typeface="Times New Roman"/>
                </a:rPr>
                <a:t>    </a:t>
              </a:r>
              <a:r>
                <a:rPr b="1" lang="ru-RU" sz="4000" spc="-1" strike="noStrike">
                  <a:solidFill>
                    <a:srgbClr val="ffff00"/>
                  </a:solidFill>
                  <a:latin typeface="Times New Roman"/>
                </a:rPr>
                <a:t>или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1" lang="ru-RU" sz="4000" spc="-1" strike="noStrike">
                  <a:solidFill>
                    <a:srgbClr val="ffff00"/>
                  </a:solidFill>
                  <a:latin typeface="Times New Roman"/>
                </a:rPr>
                <a:t>луч 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endParaRPr b="0" lang="en-US" sz="4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0" y="333360"/>
            <a:ext cx="3056040" cy="2805120"/>
            <a:chOff x="0" y="333360"/>
            <a:chExt cx="3056040" cy="2805120"/>
          </a:xfrm>
        </p:grpSpPr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0" y="333360"/>
              <a:ext cx="3056040" cy="28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492120" y="2158920"/>
              <a:ext cx="17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Запомни!</a:t>
              </a: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67" name=""/>
          <p:cNvSpPr txBox="1"/>
          <p:nvPr/>
        </p:nvSpPr>
        <p:spPr>
          <a:xfrm>
            <a:off x="6516720" y="1676520"/>
            <a:ext cx="21589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луч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627280" y="1413000"/>
            <a:ext cx="3457440" cy="1368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 урока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219640" y="2708280"/>
            <a:ext cx="3780000" cy="1441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77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О - начало луч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5727600" y="36036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319640" y="2782800"/>
            <a:ext cx="3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319640" y="360360"/>
            <a:ext cx="11923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Урок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87280" y="5013360"/>
            <a:ext cx="71640" cy="7128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16000" y="162864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187280" y="545760"/>
            <a:ext cx="2592720" cy="108756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00720" y="260280"/>
            <a:ext cx="395892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Определен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203640" y="189000"/>
            <a:ext cx="28872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971640" y="1052640"/>
            <a:ext cx="21564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228760" y="1628640"/>
            <a:ext cx="6015240" cy="165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учом называется час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ямой, ограниченная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одной стороны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9640" y="4437000"/>
            <a:ext cx="381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11280" y="436572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340000" y="3789360"/>
            <a:ext cx="287280" cy="5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067280" y="3789360"/>
            <a:ext cx="360360" cy="5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4360" y="3789360"/>
            <a:ext cx="287280" cy="5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148360" y="3500280"/>
            <a:ext cx="367164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1. построили прямую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148360" y="4221000"/>
            <a:ext cx="3995640" cy="1152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2. отметили на прямой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точку 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076720" y="5516640"/>
            <a:ext cx="3095640" cy="79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3. получили дв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луча - ОА и 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79280" y="4869000"/>
            <a:ext cx="4032360" cy="172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учи ОА и ОВ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ополнительные луч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635280" y="260280"/>
            <a:ext cx="3024360" cy="1263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уго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971640" y="1986120"/>
            <a:ext cx="1695240" cy="303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71640" y="5084640"/>
            <a:ext cx="367668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00000" y="4941720"/>
            <a:ext cx="216000" cy="147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9640" y="508464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050920" y="1676520"/>
            <a:ext cx="6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323dc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00720" y="540072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323dc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00720" y="1979640"/>
            <a:ext cx="4130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w Cen MT"/>
              </a:rPr>
              <a:t>Определение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Tw Cen MT"/>
              </a:rPr>
              <a:t>Геометрическая фигура, образованная двумя лучами , исходящих из одной точки, называется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w Cen MT"/>
              </a:rPr>
              <a:t>углом.</a:t>
            </a:r>
            <a:r>
              <a:rPr b="0" i="1" lang="ru-RU" sz="2400" spc="-1" strike="noStrike">
                <a:solidFill>
                  <a:srgbClr val="990033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Tw Cen MT"/>
              </a:rPr>
              <a:t>Точка О-вершина угла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Tw Cen MT"/>
              </a:rPr>
              <a:t>Лучи ОА и ОВ –стороны угла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877080" y="228600"/>
            <a:ext cx="2263680" cy="1825560"/>
            <a:chOff x="6877080" y="228600"/>
            <a:chExt cx="2263680" cy="1825560"/>
          </a:xfrm>
        </p:grpSpPr>
        <p:pic>
          <p:nvPicPr>
            <p:cNvPr id="298" name="" descr=""/>
            <p:cNvPicPr/>
            <p:nvPr/>
          </p:nvPicPr>
          <p:blipFill>
            <a:blip r:embed="rId2"/>
            <a:stretch/>
          </p:blipFill>
          <p:spPr>
            <a:xfrm>
              <a:off x="6877080" y="228600"/>
              <a:ext cx="226368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7240680" y="1417680"/>
              <a:ext cx="13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3333cc"/>
                  </a:solidFill>
                  <a:latin typeface="Times New Roman"/>
                </a:rPr>
                <a:t>Запомни</a:t>
              </a: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00" name=""/>
          <p:cNvSpPr txBox="1"/>
          <p:nvPr/>
        </p:nvSpPr>
        <p:spPr>
          <a:xfrm>
            <a:off x="179280" y="260280"/>
            <a:ext cx="316872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ема урока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"/>
          <p:cNvSpPr/>
          <p:nvPr/>
        </p:nvSpPr>
        <p:spPr>
          <a:xfrm>
            <a:off x="3959280" y="5940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00dc"/>
                </a:solidFill>
                <a:latin typeface="Symbol"/>
                <a:ea typeface="Symbol"/>
              </a:rPr>
              <a:t></a:t>
            </a:r>
            <a:r>
              <a:rPr b="0" lang="ru-RU" sz="3200" spc="-1" strike="noStrike">
                <a:solidFill>
                  <a:srgbClr val="2300dc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2300dc"/>
                </a:solidFill>
                <a:latin typeface="Times New Roman"/>
              </a:rPr>
              <a:t>В или </a:t>
            </a:r>
            <a:r>
              <a:rPr b="0" lang="ru-RU" sz="3200" spc="-1" strike="noStrike">
                <a:solidFill>
                  <a:srgbClr val="2300dc"/>
                </a:solidFill>
                <a:latin typeface="Symbol"/>
                <a:ea typeface="Symbol"/>
              </a:rPr>
              <a:t></a:t>
            </a:r>
            <a:r>
              <a:rPr b="0" lang="ru-RU" sz="3200" spc="-1" strike="noStrike">
                <a:solidFill>
                  <a:srgbClr val="2300dc"/>
                </a:solidFill>
                <a:latin typeface="Times New Roman"/>
              </a:rPr>
              <a:t>В</a:t>
            </a:r>
            <a:r>
              <a:rPr b="0" lang="ru-RU" sz="3200" spc="-1" strike="noStrike">
                <a:solidFill>
                  <a:srgbClr val="ff3366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2300dc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9640" y="5805360"/>
            <a:ext cx="360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4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4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581280" y="22860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24000" y="0"/>
            <a:ext cx="2435040" cy="2054160"/>
            <a:chOff x="324000" y="0"/>
            <a:chExt cx="2435040" cy="2054160"/>
          </a:xfrm>
        </p:grpSpPr>
        <p:pic>
          <p:nvPicPr>
            <p:cNvPr id="305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243504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715680" y="1338120"/>
              <a:ext cx="140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Запомни</a:t>
              </a: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981080" y="1219320"/>
            <a:ext cx="693432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Определение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Times New Roman"/>
              </a:rPr>
              <a:t>Две фигуры называются равными, если их можно совместить наложением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295280" y="3733920"/>
            <a:ext cx="2206800" cy="1139760"/>
            <a:chOff x="1295280" y="3733920"/>
            <a:chExt cx="2206800" cy="1139760"/>
          </a:xfrm>
        </p:grpSpPr>
        <p:sp>
          <p:nvSpPr>
            <p:cNvPr id="309" name=""/>
            <p:cNvSpPr/>
            <p:nvPr/>
          </p:nvSpPr>
          <p:spPr>
            <a:xfrm>
              <a:off x="1295280" y="3733920"/>
              <a:ext cx="2206800" cy="1139760"/>
            </a:xfrm>
            <a:prstGeom prst="rect">
              <a:avLst/>
            </a:prstGeom>
            <a:gradFill rotWithShape="0">
              <a:gsLst>
                <a:gs pos="0">
                  <a:srgbClr val="005e47"/>
                </a:gs>
                <a:gs pos="100000">
                  <a:srgbClr val="bbe0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00200" y="4038480"/>
              <a:ext cx="530280" cy="454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14600" y="3962520"/>
              <a:ext cx="835200" cy="682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156840" y="2875680"/>
            <a:ext cx="3693600" cy="3483000"/>
            <a:chOff x="3156840" y="2875680"/>
            <a:chExt cx="3693600" cy="3483000"/>
          </a:xfrm>
        </p:grpSpPr>
        <p:sp>
          <p:nvSpPr>
            <p:cNvPr id="313" name=""/>
            <p:cNvSpPr/>
            <p:nvPr/>
          </p:nvSpPr>
          <p:spPr>
            <a:xfrm rot="19320000">
              <a:off x="3419640" y="3644640"/>
              <a:ext cx="3168000" cy="1944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9320000">
              <a:off x="4304880" y="3889080"/>
              <a:ext cx="1337040" cy="1165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8099280" y="503280"/>
            <a:ext cx="865440" cy="9367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6840360" y="650880"/>
            <a:ext cx="1312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 u="sng">
                <a:solidFill>
                  <a:srgbClr val="333399"/>
                </a:solidFill>
                <a:uFillTx/>
                <a:latin typeface="Arial"/>
              </a:rPr>
              <a:t>Урок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1258920" y="3716280"/>
            <a:ext cx="3273480" cy="2284560"/>
            <a:chOff x="1258920" y="3716280"/>
            <a:chExt cx="3273480" cy="2284560"/>
          </a:xfrm>
        </p:grpSpPr>
        <p:sp>
          <p:nvSpPr>
            <p:cNvPr id="318" name=""/>
            <p:cNvSpPr/>
            <p:nvPr/>
          </p:nvSpPr>
          <p:spPr>
            <a:xfrm>
              <a:off x="1258920" y="3716280"/>
              <a:ext cx="3273480" cy="2284560"/>
            </a:xfrm>
            <a:prstGeom prst="rect">
              <a:avLst/>
            </a:prstGeom>
            <a:gradFill rotWithShape="0">
              <a:gsLst>
                <a:gs pos="0">
                  <a:srgbClr val="005e47"/>
                </a:gs>
                <a:gs pos="100000">
                  <a:srgbClr val="bbe0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11440" y="4325760"/>
              <a:ext cx="787320" cy="911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67200" y="4173480"/>
              <a:ext cx="1239840" cy="1368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195640" y="3860640"/>
            <a:ext cx="2877840" cy="2302200"/>
            <a:chOff x="2195640" y="3860640"/>
            <a:chExt cx="2877840" cy="2302200"/>
          </a:xfrm>
        </p:grpSpPr>
        <p:sp>
          <p:nvSpPr>
            <p:cNvPr id="322" name=""/>
            <p:cNvSpPr/>
            <p:nvPr/>
          </p:nvSpPr>
          <p:spPr>
            <a:xfrm>
              <a:off x="2195640" y="3860640"/>
              <a:ext cx="2877840" cy="230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81240" y="4167360"/>
              <a:ext cx="1216080" cy="1379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24" name=""/>
          <p:cNvSpPr txBox="1"/>
          <p:nvPr/>
        </p:nvSpPr>
        <p:spPr>
          <a:xfrm>
            <a:off x="900000" y="549360"/>
            <a:ext cx="7559640" cy="30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83caff"/>
                </a:solidFill>
                <a:latin typeface="Arial"/>
              </a:rPr>
              <a:t>Фигуры равные,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83ca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83caff"/>
                </a:solidFill>
                <a:latin typeface="Arial"/>
              </a:rPr>
              <a:t>так как при наложении 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83ca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83caff"/>
                </a:solidFill>
                <a:latin typeface="Arial"/>
              </a:rPr>
              <a:t>они совместились.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83caff"/>
              </a:solidFill>
              <a:latin typeface="Arial"/>
              <a:ea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651640" y="3716280"/>
            <a:ext cx="3096720" cy="2301840"/>
            <a:chOff x="5651640" y="3716280"/>
            <a:chExt cx="3096720" cy="2301840"/>
          </a:xfrm>
        </p:grpSpPr>
        <p:sp>
          <p:nvSpPr>
            <p:cNvPr id="326" name=""/>
            <p:cNvSpPr/>
            <p:nvPr/>
          </p:nvSpPr>
          <p:spPr>
            <a:xfrm>
              <a:off x="5651640" y="3716280"/>
              <a:ext cx="3096720" cy="230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04560" y="4022640"/>
              <a:ext cx="1308600" cy="1379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p:transition>
    <p:checker dir="vert"/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20720" y="179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Сравнение углов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" y="1979640"/>
            <a:ext cx="8458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rebuchet MS"/>
              </a:rPr>
              <a:t>Равные углы имеют равные градусные меры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rebuchet MS"/>
              </a:rPr>
              <a:t>********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rebuchet MS"/>
              </a:rPr>
              <a:t>Меньший угол имеет меньшую градусную меру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rebuchet MS"/>
              </a:rPr>
              <a:t>*********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rebuchet MS"/>
              </a:rPr>
              <a:t>Развернутый угол равен 180 градусов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rebuchet MS"/>
              </a:rPr>
              <a:t>*******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rebuchet MS"/>
              </a:rPr>
              <a:t>Неразвернутый угол меньше 180 градусов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276720" y="4572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Verdana"/>
              </a:rPr>
              <a:t>Равные отрезки имеют равные длины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468520" y="161928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Eras Bold ITC"/>
              </a:rPr>
              <a:t>Если точка делит отрезок на два отрезка, то длина данного отрезка, равна сумме длин получившихся отрезков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295280" y="3657600"/>
            <a:ext cx="5803920" cy="962280"/>
            <a:chOff x="1295280" y="3657600"/>
            <a:chExt cx="5803920" cy="962280"/>
          </a:xfrm>
        </p:grpSpPr>
        <p:sp>
          <p:nvSpPr>
            <p:cNvPr id="333" name=""/>
            <p:cNvSpPr/>
            <p:nvPr/>
          </p:nvSpPr>
          <p:spPr>
            <a:xfrm>
              <a:off x="1768320" y="4267080"/>
              <a:ext cx="47977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1692360" y="4190400"/>
              <a:ext cx="73080" cy="73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568920" y="4190400"/>
              <a:ext cx="73080" cy="73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4892760" y="4190400"/>
              <a:ext cx="73080" cy="73080"/>
            </a:xfrm>
            <a:prstGeom prst="ellipse">
              <a:avLst/>
            </a:prstGeom>
            <a:solidFill>
              <a:srgbClr val="9966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95280" y="4038480"/>
              <a:ext cx="24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40120" y="3657600"/>
              <a:ext cx="37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21560" y="3962520"/>
              <a:ext cx="37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209680" y="4952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АС=АВ+ВС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4920" y="304920"/>
            <a:ext cx="2892240" cy="2054160"/>
            <a:chOff x="304920" y="304920"/>
            <a:chExt cx="2892240" cy="2054160"/>
          </a:xfrm>
        </p:grpSpPr>
        <p:pic>
          <p:nvPicPr>
            <p:cNvPr id="342" name="" descr=""/>
            <p:cNvPicPr/>
            <p:nvPr/>
          </p:nvPicPr>
          <p:blipFill>
            <a:blip r:embed="rId2"/>
            <a:stretch/>
          </p:blipFill>
          <p:spPr>
            <a:xfrm>
              <a:off x="304920" y="304920"/>
              <a:ext cx="289224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770040" y="16430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3333cc"/>
                  </a:solidFill>
                  <a:latin typeface="Times New Roman"/>
                </a:rPr>
                <a:t>Запомни</a:t>
              </a: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p:transition spd="slow">
    <p:push dir="l"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8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755640" y="1700280"/>
            <a:ext cx="756144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Вы сегодня на уроке повтори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755640" y="3357720"/>
            <a:ext cx="590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построение прямой;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755640" y="4365720"/>
            <a:ext cx="7416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построение отрезка и луча;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55640" y="4869000"/>
            <a:ext cx="727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понятие равных фигур.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04000" y="2205000"/>
            <a:ext cx="1795320" cy="181152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0" y="404640"/>
            <a:ext cx="6626160" cy="5712120"/>
            <a:chOff x="0" y="404640"/>
            <a:chExt cx="6626160" cy="5712120"/>
          </a:xfrm>
        </p:grpSpPr>
        <p:sp>
          <p:nvSpPr>
            <p:cNvPr id="170" name=""/>
            <p:cNvSpPr/>
            <p:nvPr/>
          </p:nvSpPr>
          <p:spPr>
            <a:xfrm>
              <a:off x="2579760" y="404640"/>
              <a:ext cx="1482480" cy="126396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19360" y="1671480"/>
              <a:ext cx="3195720" cy="148284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68320" y="3157560"/>
              <a:ext cx="4897440" cy="148104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4633920"/>
              <a:ext cx="6626160" cy="14828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74" name=""/>
          <p:cNvSpPr txBox="1"/>
          <p:nvPr/>
        </p:nvSpPr>
        <p:spPr>
          <a:xfrm>
            <a:off x="755640" y="549360"/>
            <a:ext cx="7777080" cy="583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2411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еометрия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          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7 класс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0"/>
            <a:ext cx="1828800" cy="1828800"/>
          </a:xfr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003640" y="5084640"/>
            <a:ext cx="3962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62120" y="692280"/>
            <a:ext cx="7619760" cy="258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d60093"/>
                  </a:solidFill>
                  <a:miter/>
                </a:ln>
                <a:solidFill>
                  <a:srgbClr val="d6009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чальные геометрические</a:t>
            </a:r>
            <a:endParaRPr b="1" lang="en-US" sz="1800" spc="1" strike="noStrike">
              <a:ln w="12600">
                <a:solidFill>
                  <a:srgbClr val="d60093"/>
                </a:solidFill>
                <a:miter/>
              </a:ln>
              <a:solidFill>
                <a:srgbClr val="d6009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d60093"/>
                  </a:solidFill>
                  <a:miter/>
                </a:ln>
                <a:solidFill>
                  <a:srgbClr val="d6009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d60093"/>
                  </a:solidFill>
                  <a:miter/>
                </a:ln>
                <a:solidFill>
                  <a:srgbClr val="d6009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ведения</a:t>
            </a:r>
            <a:endParaRPr b="1" lang="en-US" sz="1800" spc="1" strike="noStrike">
              <a:ln w="12600">
                <a:solidFill>
                  <a:srgbClr val="d60093"/>
                </a:solidFill>
                <a:miter/>
              </a:ln>
              <a:solidFill>
                <a:srgbClr val="d6009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00000" y="3860640"/>
            <a:ext cx="4953240" cy="17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981080" y="152280"/>
            <a:ext cx="5334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Arial"/>
              </a:rPr>
              <a:t>Урок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3048120"/>
            <a:ext cx="8534520" cy="3581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Wingdings 2" charset="2"/>
              <a:buChar char="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В переводе с греческого -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«землемерие»;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Wingdings 2" charset="2"/>
              <a:buChar char="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Наука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изучающая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свойства геометрических фигур;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Wingdings 2" charset="2"/>
              <a:buChar char="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Делится на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ланиметрию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- часть геометрии, изучающую свойства фигур на плоскости, и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стереометрию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- часть геометрии , изучающую свойства фигур в пространстве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895480" y="1143000"/>
            <a:ext cx="5181840" cy="1219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ГЕОМЕ 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1819440" cy="2057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580000" y="260280"/>
            <a:ext cx="571680" cy="714600"/>
          </a:xfrm>
          <a:prstGeom prst="rect">
            <a:avLst/>
          </a:prstGeom>
          <a:ln w="0">
            <a:noFill/>
          </a:ln>
        </p:spPr>
      </p:pic>
    </p:spTree>
  </p:cSld>
  <p:transition>
    <p:push dir="r"/>
    <p:sndAc>
      <p:stSnd>
        <p:snd r:embed="rId4" name="type.wav"/>
      </p:stSnd>
    </p:sndAc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372960"/>
            <a:ext cx="77724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a40ac"/>
                </a:solidFill>
                <a:latin typeface="Arial"/>
              </a:rPr>
              <a:t>Основные неопределяемые понятия геометрии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29000" y="26668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3429000"/>
            <a:ext cx="2666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472428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3048120"/>
            <a:ext cx="2514600" cy="14475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3300"/>
                </a:solidFill>
                <a:latin typeface="Vivaldi"/>
              </a:rPr>
              <a:t>точка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1752480"/>
            <a:ext cx="2666880" cy="1981440"/>
          </a:xfrm>
          <a:prstGeom prst="ellipse">
            <a:avLst/>
          </a:prstGeom>
          <a:gradFill rotWithShape="0">
            <a:gsLst>
              <a:gs pos="0">
                <a:srgbClr val="c08000"/>
              </a:gs>
              <a:gs pos="100000">
                <a:srgbClr val="fca8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Vivaldi"/>
              </a:rPr>
              <a:t>прямая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2971800"/>
            <a:ext cx="2590920" cy="175248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996600"/>
                </a:solidFill>
                <a:latin typeface="Vivaldi"/>
              </a:rPr>
              <a:t>плоскость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4267080"/>
            <a:ext cx="3276720" cy="21337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cc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3333cc"/>
                </a:solidFill>
                <a:latin typeface="Vivaldi"/>
              </a:rPr>
              <a:t>пространство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021120" cy="3168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867280" y="981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26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А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71640" y="2276640"/>
            <a:ext cx="6193080" cy="35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Точки обозначают заглавными буквами латинского алфавита:В,С,М…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4437000"/>
            <a:ext cx="3457440" cy="100836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Запомни!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427640" y="1341360"/>
            <a:ext cx="367344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чка  А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diamond/>
    <p:sndAc>
      <p:stSnd>
        <p:snd r:embed="rId3" name="chimes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 flipV="1">
            <a:off x="1476360" y="2781000"/>
            <a:ext cx="431964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0920" y="4292640"/>
            <a:ext cx="217440" cy="21744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47640" y="4653000"/>
            <a:ext cx="72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67280" y="3357720"/>
            <a:ext cx="215640" cy="21564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356000" y="3500280"/>
            <a:ext cx="6476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95640" y="2708280"/>
            <a:ext cx="215640" cy="21600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56000" y="2276640"/>
            <a:ext cx="57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788000" y="4581360"/>
            <a:ext cx="2736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шут: А</a:t>
            </a:r>
            <a:endParaRPr b="0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1640" y="4254840"/>
            <a:ext cx="6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076720" y="2421000"/>
            <a:ext cx="503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244000" y="4653000"/>
            <a:ext cx="36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093080" y="5229360"/>
            <a:ext cx="1655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  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67640" y="5012280"/>
            <a:ext cx="6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093080" y="5950080"/>
            <a:ext cx="1646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  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67640" y="581220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8360" y="189000"/>
            <a:ext cx="7704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Arial"/>
              </a:rPr>
              <a:t>Запись принадлеж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Arial"/>
              </a:rPr>
              <a:t>точки прямой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038480" y="654120"/>
            <a:ext cx="4800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 u="sng">
                <a:solidFill>
                  <a:srgbClr val="ffff00"/>
                </a:solidFill>
                <a:uFillTx/>
                <a:latin typeface="Arial"/>
              </a:rPr>
              <a:t>Отрезок</a:t>
            </a:r>
            <a:br>
              <a:rPr sz="3400"/>
            </a:b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04920" y="457200"/>
            <a:ext cx="3806640" cy="3392640"/>
            <a:chOff x="304920" y="457200"/>
            <a:chExt cx="3806640" cy="339264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304920" y="457200"/>
              <a:ext cx="3806640" cy="33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914400" y="2666880"/>
              <a:ext cx="220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Times New Roman"/>
                </a:rPr>
                <a:t>Запомни!</a:t>
              </a:r>
              <a:endParaRPr b="0" lang="en-US" sz="36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609480" y="4859280"/>
            <a:ext cx="746784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Определение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370320" y="1619280"/>
            <a:ext cx="4187880" cy="2059920"/>
            <a:chOff x="3370320" y="1619280"/>
            <a:chExt cx="4187880" cy="2059920"/>
          </a:xfrm>
        </p:grpSpPr>
        <p:sp>
          <p:nvSpPr>
            <p:cNvPr id="220" name=""/>
            <p:cNvSpPr/>
            <p:nvPr/>
          </p:nvSpPr>
          <p:spPr>
            <a:xfrm>
              <a:off x="3370320" y="3219480"/>
              <a:ext cx="37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3751200" y="1619280"/>
              <a:ext cx="3807000" cy="1518840"/>
              <a:chOff x="3751200" y="1619280"/>
              <a:chExt cx="3807000" cy="1518840"/>
            </a:xfrm>
          </p:grpSpPr>
          <p:sp>
            <p:nvSpPr>
              <p:cNvPr id="222" name=""/>
              <p:cNvSpPr/>
              <p:nvPr/>
            </p:nvSpPr>
            <p:spPr>
              <a:xfrm flipV="1">
                <a:off x="3827520" y="1693440"/>
                <a:ext cx="3273480" cy="1371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751200" y="3065400"/>
                <a:ext cx="73080" cy="72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7104240" y="1619280"/>
                <a:ext cx="72720" cy="72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180200" y="1848600"/>
                <a:ext cx="3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ffff00"/>
                    </a:solidFill>
                    <a:latin typeface="Times New Roman"/>
                  </a:rPr>
                  <a:t>В</a:t>
                </a:r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226" name=""/>
          <p:cNvSpPr/>
          <p:nvPr/>
        </p:nvSpPr>
        <p:spPr>
          <a:xfrm>
            <a:off x="4648320" y="31240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ишут: Отрезок АВ или отрезок ВА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077320" y="60958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3794"/>
                </a:moveTo>
                <a:lnTo>
                  <a:pt x="26426" y="10800"/>
                </a:lnTo>
                <a:lnTo>
                  <a:pt x="12413" y="17806"/>
                </a:lnTo>
                <a:close/>
              </a:path>
            </a:pathLst>
          </a:custGeom>
          <a:solidFill>
            <a:srgbClr val="ca4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5360" y="5451480"/>
            <a:ext cx="859464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Times New Roman"/>
              </a:rPr>
              <a:t>Часть прямой, ограниченная двумя точками, называется отрезком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657600" y="455760"/>
            <a:ext cx="480060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3886200"/>
            <a:ext cx="502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Две прямые либо имеют только одну общую точку, либо вообще не имеют общих точек.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62120" y="4800240"/>
            <a:ext cx="2877840" cy="1784880"/>
            <a:chOff x="762120" y="4800240"/>
            <a:chExt cx="2877840" cy="1784880"/>
          </a:xfrm>
        </p:grpSpPr>
        <p:sp>
          <p:nvSpPr>
            <p:cNvPr id="232" name=""/>
            <p:cNvSpPr/>
            <p:nvPr/>
          </p:nvSpPr>
          <p:spPr>
            <a:xfrm flipV="1">
              <a:off x="914400" y="4800240"/>
              <a:ext cx="2066760" cy="81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1266840" y="5098320"/>
              <a:ext cx="2117880" cy="84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120" y="5490360"/>
              <a:ext cx="24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16000" y="5791680"/>
              <a:ext cx="24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43040" y="5759640"/>
              <a:ext cx="1996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Не имеют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общих точек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929200" y="4648320"/>
            <a:ext cx="2925720" cy="2048400"/>
            <a:chOff x="5929200" y="4648320"/>
            <a:chExt cx="2925720" cy="2048400"/>
          </a:xfrm>
        </p:grpSpPr>
        <p:sp>
          <p:nvSpPr>
            <p:cNvPr id="238" name=""/>
            <p:cNvSpPr/>
            <p:nvPr/>
          </p:nvSpPr>
          <p:spPr>
            <a:xfrm>
              <a:off x="6095880" y="5416560"/>
              <a:ext cx="18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5929200" y="4648320"/>
              <a:ext cx="2925720" cy="2048400"/>
              <a:chOff x="5929200" y="4648320"/>
              <a:chExt cx="2925720" cy="2048400"/>
            </a:xfrm>
          </p:grpSpPr>
          <p:sp>
            <p:nvSpPr>
              <p:cNvPr id="240" name=""/>
              <p:cNvSpPr/>
              <p:nvPr/>
            </p:nvSpPr>
            <p:spPr>
              <a:xfrm flipV="1">
                <a:off x="6286680" y="4648320"/>
                <a:ext cx="1834920" cy="121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07280" y="5073120"/>
                <a:ext cx="189540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451560" y="4717800"/>
                <a:ext cx="18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929280" y="4789440"/>
                <a:ext cx="31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ffff00"/>
                    </a:solidFill>
                    <a:latin typeface="Times New Roman"/>
                  </a:rPr>
                  <a:t>О</a:t>
                </a:r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929200" y="5871240"/>
                <a:ext cx="2925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ffff00"/>
                    </a:solidFill>
                    <a:latin typeface="Times New Roman"/>
                  </a:rPr>
                  <a:t>имеют общую точку, т.е. пересекаются</a:t>
                </a:r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304920" y="457200"/>
            <a:ext cx="3197160" cy="2816280"/>
            <a:chOff x="304920" y="457200"/>
            <a:chExt cx="3197160" cy="2816280"/>
          </a:xfrm>
        </p:grpSpPr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304920" y="457200"/>
              <a:ext cx="3197160" cy="28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819000" y="2290680"/>
              <a:ext cx="184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Запомни!</a:t>
              </a: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3962520" y="1371600"/>
            <a:ext cx="419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Через любые две точки можно провести прямую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14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343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35280" y="2421000"/>
            <a:ext cx="4191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43200" y="28954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Обозначают АВ или малыми буквами латинского алфавита: а,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b, c, m, n, l, k…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067280" y="2421000"/>
            <a:ext cx="730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80360" y="242100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164360" y="5229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831960"/>
            <a:ext cx="21384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 u="sng">
                <a:solidFill>
                  <a:srgbClr val="ff3300"/>
                </a:solidFill>
                <a:uFillTx/>
                <a:latin typeface="Arial"/>
              </a:rPr>
              <a:t>Прямая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12:07:14Z</dcterms:created>
  <dc:creator>Русина</dc:creator>
  <dc:description/>
  <dc:language>en-US</dc:language>
  <cp:lastModifiedBy>Русина</cp:lastModifiedBy>
  <dcterms:modified xsi:type="dcterms:W3CDTF">2011-11-30T11:19:22Z</dcterms:modified>
  <cp:revision>6</cp:revision>
  <dc:subject/>
  <dc:title>Слайд 1</dc:title>
</cp:coreProperties>
</file>