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chimes.wav" ContentType="audio/x-wav"/>
  <Override PartName="/ppt/media/image4.gif" ContentType="image/gif"/>
  <Override PartName="/ppt/media/image5.gif" ContentType="image/gif"/>
  <Override PartName="/ppt/media/type.wav" ContentType="audio/x-wav"/>
  <Override PartName="/ppt/media/image9.gif" ContentType="image/gif"/>
  <Override PartName="/ppt/media/image6.png" ContentType="image/png"/>
  <Override PartName="/ppt/media/image8.gif" ContentType="image/gif"/>
  <Override PartName="/ppt/media/image10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34C-E198-4BBF-93AA-025011F2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986-F30F-40AE-9E3F-7BD86B4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67E-5AFB-47C3-B7E6-FF6C6BB9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61C-A31F-4054-AF27-C505939D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E76E-4CE8-4895-96FA-FEDF27A5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02A8-651E-4443-9A45-D37339B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965-D0C4-4D53-BA19-F023673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E7DA-EFEA-4001-8FCC-DBAC2029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66CE-7FD5-4077-9EBE-BC70397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E0F-3013-4A6E-9DBC-E9EFED5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B3D-C21E-4707-A04C-DD3DD39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EE0-5903-4707-8DA0-079F9BAC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AC60-C792-4962-A7FC-2C71853C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14D7-F1A1-40F1-81F9-B8F56CF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2C2A-E4E9-46CB-A9DA-BB5D265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FA7-232D-43BF-AAA1-B9CABA12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053B-7E44-4095-AE35-4EF673FB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BFB6-4D1B-4256-8955-00453B1C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BAEE-D356-4CDB-B027-0602C1A0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41BA6-19EB-4752-867F-80EF82A3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069B-E733-4049-95AB-431C2FF5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1871-22C3-4207-89F7-2EF1BA73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B7A-80E3-4D35-A2A3-A0F83E9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4B81-D971-4709-88C9-0021218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F771-3590-4CF1-8CDD-4230CCD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7549-C43D-4C59-B91A-C8BC454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25A9-56CD-4709-95BE-D5F4B52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E2CE-D5C0-4505-82B3-475AA69E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8CDC-6001-468F-AD85-D0ECB874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4E4E-3659-4DBC-BE82-9AB6B554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9241-07B4-4466-92BF-5395696A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2D8D-2390-40AF-ABC5-9FFEE95D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DADD-386A-416D-B6E3-5E6D7634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7A3-DCED-4E36-A1D2-3FEB06E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B523-80B5-43F1-BFAF-122370D0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13A3-5F63-4E36-BF8C-5900BBBE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525F-A3C1-4471-96E4-A20420AC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009B-8217-4B92-A72B-BE83E203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7453-CEB0-42F9-8995-2292379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2546-6C60-4AE9-913D-697E1F7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2AD6-37E2-40CF-93DD-780FB58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11C3-501B-4A05-90F0-4510E51E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30E3-C0C5-4F3D-9FEB-7149CDDC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D69-4AC8-4FCD-9844-50AD83E3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D00-90C6-4C39-8A4D-A46FD79E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560-436E-4FE6-AF3C-8052FCAB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B24-F2CF-4384-82C4-B64133A9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CD5-7D15-4D8B-8E31-7C8E305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ADA07-BC72-419E-9A81-47BBA5A9D6B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3DE720-D6C2-43EE-9215-3DCD2E0DF4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39570B-1389-47B1-81F4-C00633C214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3D33B6-1BF4-4477-9791-788DB2A5BB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16000" y="47628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метрия.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2492280"/>
            <a:ext cx="3456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читель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90640" y="3789360"/>
            <a:ext cx="556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ина Анна Николаев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095560" y="4941720"/>
            <a:ext cx="4952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БОУ "Гимназия №23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.Троиц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19640" y="476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87280" y="3284280"/>
            <a:ext cx="7465680" cy="2599200"/>
            <a:chOff x="1187280" y="3284280"/>
            <a:chExt cx="7465680" cy="2599200"/>
          </a:xfrm>
        </p:grpSpPr>
        <p:sp>
          <p:nvSpPr>
            <p:cNvPr id="259" name=""/>
            <p:cNvSpPr/>
            <p:nvPr/>
          </p:nvSpPr>
          <p:spPr>
            <a:xfrm flipV="1">
              <a:off x="1315440" y="3284280"/>
              <a:ext cx="3171240" cy="1729800"/>
            </a:xfrm>
            <a:prstGeom prst="line">
              <a:avLst/>
            </a:prstGeom>
            <a:ln w="38160">
              <a:solidFill>
                <a:srgbClr val="8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5015520"/>
              <a:ext cx="123480" cy="4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7280" y="5061600"/>
              <a:ext cx="10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64960" y="3381120"/>
              <a:ext cx="6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5400" y="4253040"/>
              <a:ext cx="5407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Пишут: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ОА 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или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0" y="333360"/>
            <a:ext cx="3056040" cy="2805120"/>
            <a:chOff x="0" y="333360"/>
            <a:chExt cx="3056040" cy="280512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30560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92120" y="2158920"/>
              <a:ext cx="17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6516720" y="1676520"/>
            <a:ext cx="21589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лу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627280" y="1413000"/>
            <a:ext cx="345744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219640" y="2708280"/>
            <a:ext cx="3780000" cy="144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 - начало луч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727600" y="36036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319640" y="2782800"/>
            <a:ext cx="3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60360"/>
            <a:ext cx="1192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рок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5013360"/>
            <a:ext cx="71640" cy="7128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628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187280" y="545760"/>
            <a:ext cx="2592720" cy="10875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00720" y="260280"/>
            <a:ext cx="39589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03640" y="189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71640" y="1052640"/>
            <a:ext cx="2156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228760" y="1628640"/>
            <a:ext cx="601524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ом называется ча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й, ограниченна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одной сторо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437000"/>
            <a:ext cx="381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43657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4000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7280" y="3789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36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8360" y="3500280"/>
            <a:ext cx="3671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1. построили пряму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8360" y="4221000"/>
            <a:ext cx="399564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2. отметили на прямо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точку 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76720" y="5516640"/>
            <a:ext cx="309564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3. получили д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луча - ОА и 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486900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чи ОА и ОВ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полнительные лу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635280" y="260280"/>
            <a:ext cx="3024360" cy="126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уго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971640" y="1986120"/>
            <a:ext cx="1695240" cy="30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5084640"/>
            <a:ext cx="367668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941720"/>
            <a:ext cx="21600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508464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167652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5400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1979640"/>
            <a:ext cx="4130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Геометрическая фигура, образованная двумя лучами , исходящих из одной точки, называетс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углом.</a:t>
            </a: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Точка О-вершина угл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Лучи ОА и ОВ –стороны угл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77080" y="228600"/>
            <a:ext cx="2263680" cy="1825560"/>
            <a:chOff x="6877080" y="228600"/>
            <a:chExt cx="2263680" cy="182556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6877080" y="228600"/>
              <a:ext cx="226368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240680" y="1417680"/>
              <a:ext cx="13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179280" y="26028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3959280" y="5940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 или </a:t>
            </a: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3366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5805360"/>
            <a:ext cx="360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81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24000" y="0"/>
            <a:ext cx="2435040" cy="2054160"/>
            <a:chOff x="324000" y="0"/>
            <a:chExt cx="2435040" cy="205416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4350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15680" y="1338120"/>
              <a:ext cx="140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981080" y="1219320"/>
            <a:ext cx="69343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Две фигуры называются равными, если их можно совместить наложение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95280" y="3733920"/>
            <a:ext cx="2206800" cy="1139760"/>
            <a:chOff x="1295280" y="3733920"/>
            <a:chExt cx="2206800" cy="1139760"/>
          </a:xfrm>
        </p:grpSpPr>
        <p:sp>
          <p:nvSpPr>
            <p:cNvPr id="309" name=""/>
            <p:cNvSpPr/>
            <p:nvPr/>
          </p:nvSpPr>
          <p:spPr>
            <a:xfrm>
              <a:off x="1295280" y="3733920"/>
              <a:ext cx="2206800" cy="11397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4038480"/>
              <a:ext cx="530280" cy="454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3962520"/>
              <a:ext cx="835200" cy="682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156840" y="2875680"/>
            <a:ext cx="3693600" cy="3483000"/>
            <a:chOff x="3156840" y="2875680"/>
            <a:chExt cx="3693600" cy="3483000"/>
          </a:xfrm>
        </p:grpSpPr>
        <p:sp>
          <p:nvSpPr>
            <p:cNvPr id="313" name=""/>
            <p:cNvSpPr/>
            <p:nvPr/>
          </p:nvSpPr>
          <p:spPr>
            <a:xfrm rot="19320000">
              <a:off x="3419640" y="3644640"/>
              <a:ext cx="316800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320000">
              <a:off x="4304880" y="3889080"/>
              <a:ext cx="1337040" cy="116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099280" y="503280"/>
            <a:ext cx="865440" cy="936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40360" y="650880"/>
            <a:ext cx="131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258920" y="3716280"/>
            <a:ext cx="3273480" cy="2284560"/>
            <a:chOff x="1258920" y="3716280"/>
            <a:chExt cx="3273480" cy="2284560"/>
          </a:xfrm>
        </p:grpSpPr>
        <p:sp>
          <p:nvSpPr>
            <p:cNvPr id="318" name=""/>
            <p:cNvSpPr/>
            <p:nvPr/>
          </p:nvSpPr>
          <p:spPr>
            <a:xfrm>
              <a:off x="1258920" y="3716280"/>
              <a:ext cx="3273480" cy="22845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11440" y="4325760"/>
              <a:ext cx="787320" cy="911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7200" y="4173480"/>
              <a:ext cx="1239840" cy="136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95640" y="3860640"/>
            <a:ext cx="2877840" cy="2302200"/>
            <a:chOff x="2195640" y="3860640"/>
            <a:chExt cx="2877840" cy="2302200"/>
          </a:xfrm>
        </p:grpSpPr>
        <p:sp>
          <p:nvSpPr>
            <p:cNvPr id="322" name=""/>
            <p:cNvSpPr/>
            <p:nvPr/>
          </p:nvSpPr>
          <p:spPr>
            <a:xfrm>
              <a:off x="2195640" y="3860640"/>
              <a:ext cx="2877840" cy="230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81240" y="4167360"/>
              <a:ext cx="1216080" cy="137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900000" y="549360"/>
            <a:ext cx="7559640" cy="30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Фигуры равные,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так как при наложении 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они совместились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51640" y="3716280"/>
            <a:ext cx="3096720" cy="2301840"/>
            <a:chOff x="5651640" y="3716280"/>
            <a:chExt cx="3096720" cy="2301840"/>
          </a:xfrm>
        </p:grpSpPr>
        <p:sp>
          <p:nvSpPr>
            <p:cNvPr id="326" name=""/>
            <p:cNvSpPr/>
            <p:nvPr/>
          </p:nvSpPr>
          <p:spPr>
            <a:xfrm>
              <a:off x="5651640" y="3716280"/>
              <a:ext cx="3096720" cy="230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04560" y="4022640"/>
              <a:ext cx="1308600" cy="137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2072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равнение углов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97964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вные углы имеют равные градусные меры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Меньший угол имеет меньшую градусную меру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звернутый угол равен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Неразвернутый угол меньше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767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Равные отрезки имеют равные длин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68520" y="1619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Eras Bold ITC"/>
              </a:rPr>
              <a:t>Если точка делит отрезок на два отрезка, то длина данного отрезка, равна сумме длин получившихся отрезк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95280" y="3657600"/>
            <a:ext cx="5803920" cy="962280"/>
            <a:chOff x="1295280" y="3657600"/>
            <a:chExt cx="5803920" cy="962280"/>
          </a:xfrm>
        </p:grpSpPr>
        <p:sp>
          <p:nvSpPr>
            <p:cNvPr id="333" name=""/>
            <p:cNvSpPr/>
            <p:nvPr/>
          </p:nvSpPr>
          <p:spPr>
            <a:xfrm>
              <a:off x="1768320" y="4267080"/>
              <a:ext cx="4797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9236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56892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892760" y="4190400"/>
              <a:ext cx="73080" cy="730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95280" y="4038480"/>
              <a:ext cx="24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0120" y="3657600"/>
              <a:ext cx="3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21560" y="3962520"/>
              <a:ext cx="37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20968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С=АВ+ВС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304920"/>
            <a:ext cx="2892240" cy="2054160"/>
            <a:chOff x="304920" y="304920"/>
            <a:chExt cx="2892240" cy="205416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28922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70040" y="16430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640" y="1700280"/>
            <a:ext cx="7561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ы сегодня на уроке повтори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55640" y="335772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прямой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5640" y="436572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отрезка и луча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486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нятие равных фигур.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1795320" cy="18115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404640"/>
            <a:ext cx="6626160" cy="5712120"/>
            <a:chOff x="0" y="404640"/>
            <a:chExt cx="6626160" cy="5712120"/>
          </a:xfrm>
        </p:grpSpPr>
        <p:sp>
          <p:nvSpPr>
            <p:cNvPr id="170" name=""/>
            <p:cNvSpPr/>
            <p:nvPr/>
          </p:nvSpPr>
          <p:spPr>
            <a:xfrm>
              <a:off x="2579760" y="404640"/>
              <a:ext cx="1482480" cy="12639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9360" y="1671480"/>
              <a:ext cx="3195720" cy="1482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320" y="3157560"/>
              <a:ext cx="4897440" cy="14810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633920"/>
              <a:ext cx="6626160" cy="14828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755640" y="549360"/>
            <a:ext cx="7777080" cy="583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с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0"/>
            <a:ext cx="1828800" cy="1828800"/>
          </a:xfr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3640" y="5084640"/>
            <a:ext cx="3962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692280"/>
            <a:ext cx="7619760" cy="258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альные геометрические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495324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5228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048120"/>
            <a:ext cx="8534520" cy="358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 переводе с греческого -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«землемерие»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ука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зучающая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свойства геометрических фигур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елится н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ланиметрию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- часть геометрии, изучающую свойства фигур на плоскости,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тереометрию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- часть геометрии , изучающую свойства фигур в пространстве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95480" y="114300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ГЕОМЕ 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571680" cy="7146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4" name="type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7296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a40ac"/>
                </a:solidFill>
                <a:latin typeface="Arial"/>
              </a:rPr>
              <a:t>Основные неопределяемые понятия геометрии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6668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4290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724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048120"/>
            <a:ext cx="251460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Vivaldi"/>
              </a:rPr>
              <a:t>точк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752480"/>
            <a:ext cx="2666880" cy="1981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fca8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Vivaldi"/>
              </a:rPr>
              <a:t>пряма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971800"/>
            <a:ext cx="2590920" cy="1752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996600"/>
                </a:solidFill>
                <a:latin typeface="Vivaldi"/>
              </a:rPr>
              <a:t>плоскость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267080"/>
            <a:ext cx="3276720" cy="21337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cc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Vivaldi"/>
              </a:rPr>
              <a:t>пространств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1120" cy="316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67280" y="981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26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2276640"/>
            <a:ext cx="61930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Точки обозначают заглавными буквами латинского алфавита:В,С,М…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3457440" cy="1008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Запомни!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27640" y="1341360"/>
            <a:ext cx="3673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  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V="1">
            <a:off x="1476360" y="2781000"/>
            <a:ext cx="4319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292640"/>
            <a:ext cx="217440" cy="2174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47640" y="4653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357720"/>
            <a:ext cx="215640" cy="2156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6000" y="3500280"/>
            <a:ext cx="64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708280"/>
            <a:ext cx="215640" cy="21600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56000" y="2276640"/>
            <a:ext cx="57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88000" y="458136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т: А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425484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76720" y="242100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244000" y="465300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93080" y="5229360"/>
            <a:ext cx="165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501228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093080" y="5950080"/>
            <a:ext cx="1646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7640" y="58122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89000"/>
            <a:ext cx="770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Запись принадле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точки прямо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38480" y="654120"/>
            <a:ext cx="4800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ff00"/>
                </a:solidFill>
                <a:uFillTx/>
                <a:latin typeface="Arial"/>
              </a:rPr>
              <a:t>Отрезок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457200"/>
            <a:ext cx="3806640" cy="3392640"/>
            <a:chOff x="304920" y="457200"/>
            <a:chExt cx="3806640" cy="33926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806640" cy="33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14400" y="2666880"/>
              <a:ext cx="22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9480" y="4859280"/>
            <a:ext cx="74678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пределение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70320" y="1619280"/>
            <a:ext cx="4187880" cy="2059920"/>
            <a:chOff x="3370320" y="1619280"/>
            <a:chExt cx="4187880" cy="2059920"/>
          </a:xfrm>
        </p:grpSpPr>
        <p:sp>
          <p:nvSpPr>
            <p:cNvPr id="220" name=""/>
            <p:cNvSpPr/>
            <p:nvPr/>
          </p:nvSpPr>
          <p:spPr>
            <a:xfrm>
              <a:off x="3370320" y="321948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51200" y="1619280"/>
              <a:ext cx="3807000" cy="1518840"/>
              <a:chOff x="3751200" y="1619280"/>
              <a:chExt cx="3807000" cy="151884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827520" y="1693440"/>
                <a:ext cx="3273480" cy="1371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51200" y="3065400"/>
                <a:ext cx="7308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7104240" y="1619280"/>
                <a:ext cx="7272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80200" y="1848600"/>
                <a:ext cx="3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648320" y="3124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шут: Отрезок АВ или отрезок В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ca4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5360" y="5451480"/>
            <a:ext cx="85946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Часть прямой, ограниченная двумя точками, называется отрезко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57600" y="455760"/>
            <a:ext cx="4800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8862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Две прямые либо имеют только одну общую точку, либо вообще не имеют общих точек.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2120" y="4800240"/>
            <a:ext cx="2877840" cy="1784880"/>
            <a:chOff x="762120" y="4800240"/>
            <a:chExt cx="2877840" cy="1784880"/>
          </a:xfrm>
        </p:grpSpPr>
        <p:sp>
          <p:nvSpPr>
            <p:cNvPr id="232" name=""/>
            <p:cNvSpPr/>
            <p:nvPr/>
          </p:nvSpPr>
          <p:spPr>
            <a:xfrm flipV="1">
              <a:off x="914400" y="4800240"/>
              <a:ext cx="2066760" cy="81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266840" y="5098320"/>
              <a:ext cx="211788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549036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6000" y="579168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43040" y="5759640"/>
              <a:ext cx="199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Не имеют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бщих точек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929200" y="4648320"/>
            <a:ext cx="2925720" cy="2048400"/>
            <a:chOff x="5929200" y="4648320"/>
            <a:chExt cx="2925720" cy="2048400"/>
          </a:xfrm>
        </p:grpSpPr>
        <p:sp>
          <p:nvSpPr>
            <p:cNvPr id="238" name=""/>
            <p:cNvSpPr/>
            <p:nvPr/>
          </p:nvSpPr>
          <p:spPr>
            <a:xfrm>
              <a:off x="6095880" y="5416560"/>
              <a:ext cx="1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929200" y="4648320"/>
              <a:ext cx="2925720" cy="2048400"/>
              <a:chOff x="5929200" y="4648320"/>
              <a:chExt cx="2925720" cy="204840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6286680" y="4648320"/>
                <a:ext cx="1834920" cy="12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07280" y="5073120"/>
                <a:ext cx="1895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51560" y="4717800"/>
                <a:ext cx="1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29280" y="478944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200" y="5871240"/>
                <a:ext cx="292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имеют общую точку, т.е. пересекаются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304920" y="457200"/>
            <a:ext cx="3197160" cy="2816280"/>
            <a:chOff x="304920" y="457200"/>
            <a:chExt cx="3197160" cy="28162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19716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19000" y="229068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962520" y="137160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Через любые две точки можно провести прямую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242100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28954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Обозначают АВ или малыми буквами латинского алфавита: а,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b, c, m, n, l, k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421000"/>
            <a:ext cx="730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0360" y="242100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5229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831960"/>
            <a:ext cx="2138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3300"/>
                </a:solidFill>
                <a:uFillTx/>
                <a:latin typeface="Arial"/>
              </a:rPr>
              <a:t>Прямая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07:14Z</dcterms:created>
  <dc:creator>Русина</dc:creator>
  <dc:description/>
  <dc:language>en-US</dc:language>
  <cp:lastModifiedBy>Русина</cp:lastModifiedBy>
  <dcterms:modified xsi:type="dcterms:W3CDTF">2011-11-30T11:19:22Z</dcterms:modified>
  <cp:revision>6</cp:revision>
  <dc:subject/>
  <dc:title>Слайд 1</dc:title>
</cp:coreProperties>
</file>