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7.jpeg" ContentType="image/jpeg"/>
  <Override PartName="/ppt/media/image8.gif" ContentType="image/gi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4836-EB31-4C18-8895-49426083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6953-10F6-4472-9196-DED6AF75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AFCE-9F4E-494C-A18B-89606612E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CA18-A4A4-465C-B333-6FE645AAD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A00B-2943-4B35-8CF2-A960A5A1D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C40C-40F1-412C-AD89-4A133EA4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7F41-224E-41B9-A95A-0FD60E7F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45C9-8C47-4D28-A9AF-81904522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C03F-B3F3-43B1-BCD3-8BA59138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4A0B-0563-49D7-ACB6-2E14115C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781E-7ACF-4115-810D-FCEA4453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814F-42AA-4194-9B52-28418E9D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983E-8235-45CC-AC60-63DF49B8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6B0C-1705-4219-9619-09D897A9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9EBA-F345-4C02-8828-1DCCD742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B69B-B59C-47AA-8231-AAA5B32E2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F244-7122-472A-9D04-1E90026AC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C0BC-7EE4-46F3-8690-3746E187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7515-C878-459E-8017-9ACCAA4A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BC47-B49E-4480-8C25-3910DB1C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BB45-44C1-4F91-A58D-3B192498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F8EC-E7FB-432F-B520-95E86D3E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DA68-7737-4883-84C2-A23AAC80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2B20-4CE7-48A8-A70A-90C7D48D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28D5-8E72-4CC9-835F-7CA647FB4BF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BDD3-6CC9-4829-8CDF-85CB7B2970D4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hyperlink" Target="http://127.edu.ru/forum/style_emoticons/default/tomato.gif" TargetMode="External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042920" y="2060640"/>
            <a:ext cx="770580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Основы дигибридного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скрещиван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324000" y="260280"/>
            <a:ext cx="1800000" cy="1712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7524720" y="4653000"/>
            <a:ext cx="1393920" cy="194472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260280" y="4528440"/>
            <a:ext cx="553320" cy="1113120"/>
            <a:chOff x="260280" y="4528440"/>
            <a:chExt cx="553320" cy="1113120"/>
          </a:xfrm>
        </p:grpSpPr>
        <p:sp>
          <p:nvSpPr>
            <p:cNvPr id="103" name=""/>
            <p:cNvSpPr/>
            <p:nvPr/>
          </p:nvSpPr>
          <p:spPr>
            <a:xfrm rot="20263200">
              <a:off x="468000" y="4508640"/>
              <a:ext cx="115560" cy="1119960"/>
            </a:xfrm>
            <a:prstGeom prst="flowChartTermina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286400">
              <a:off x="496800" y="4539240"/>
              <a:ext cx="115920" cy="1119960"/>
            </a:xfrm>
            <a:prstGeom prst="flowChartTermina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18840" y="4961520"/>
            <a:ext cx="553320" cy="1113840"/>
            <a:chOff x="618840" y="4961520"/>
            <a:chExt cx="553320" cy="1113840"/>
          </a:xfrm>
        </p:grpSpPr>
        <p:sp>
          <p:nvSpPr>
            <p:cNvPr id="106" name=""/>
            <p:cNvSpPr/>
            <p:nvPr/>
          </p:nvSpPr>
          <p:spPr>
            <a:xfrm rot="20263200">
              <a:off x="826560" y="4941360"/>
              <a:ext cx="115920" cy="1120320"/>
            </a:xfrm>
            <a:prstGeom prst="flowChartTermina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286400">
              <a:off x="855360" y="4972680"/>
              <a:ext cx="115920" cy="1120320"/>
            </a:xfrm>
            <a:prstGeom prst="flowChartTermina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979200" y="5464800"/>
            <a:ext cx="553320" cy="1113120"/>
            <a:chOff x="979200" y="5464800"/>
            <a:chExt cx="553320" cy="1113120"/>
          </a:xfrm>
        </p:grpSpPr>
        <p:sp>
          <p:nvSpPr>
            <p:cNvPr id="109" name=""/>
            <p:cNvSpPr/>
            <p:nvPr/>
          </p:nvSpPr>
          <p:spPr>
            <a:xfrm rot="20263200">
              <a:off x="1186920" y="5444640"/>
              <a:ext cx="115920" cy="1119960"/>
            </a:xfrm>
            <a:prstGeom prst="flowChartTermina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286400">
              <a:off x="1215720" y="5475600"/>
              <a:ext cx="115920" cy="1119960"/>
            </a:xfrm>
            <a:prstGeom prst="flowChartTermina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 txBox="1"/>
          <p:nvPr/>
        </p:nvSpPr>
        <p:spPr>
          <a:xfrm>
            <a:off x="5580000" y="549360"/>
            <a:ext cx="2781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АВ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99"/>
                </a:solidFill>
                <a:latin typeface="Tahoma"/>
              </a:rPr>
              <a:t> </a:t>
            </a: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Решение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: введем обозначения: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А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- черный окрас,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В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- короткая шерсть,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а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- сиамский окрас,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в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- длинная шерсть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57200" y="1844640"/>
          <a:ext cx="8229600" cy="4908600"/>
        </p:xfrm>
        <a:graphic>
          <a:graphicData uri="http://schemas.openxmlformats.org/drawingml/2006/table">
            <a:tbl>
              <a:tblPr/>
              <a:tblGrid>
                <a:gridCol w="2170080"/>
                <a:gridCol w="2952720"/>
                <a:gridCol w="3106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енотипы родителе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енотипы родителе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амет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енотипы потомк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енотип потом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3429000" y="3170160"/>
            <a:ext cx="2286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Image10" descr="Image10.gif (989 bytes)"/>
          <p:cNvPicPr/>
          <p:nvPr/>
        </p:nvPicPr>
        <p:blipFill>
          <a:blip r:embed="rId1"/>
          <a:stretch/>
        </p:blipFill>
        <p:spPr>
          <a:xfrm>
            <a:off x="3564000" y="3645000"/>
            <a:ext cx="1224000" cy="9032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3292560" y="3170160"/>
            <a:ext cx="2560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Image12" descr="Image12.gif (981 bytes)"/>
          <p:cNvPicPr/>
          <p:nvPr/>
        </p:nvPicPr>
        <p:blipFill>
          <a:blip r:embed="rId2"/>
          <a:stretch/>
        </p:blipFill>
        <p:spPr>
          <a:xfrm>
            <a:off x="6516720" y="3645000"/>
            <a:ext cx="1008000" cy="9349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627280" y="19890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ерные дл-ш             сиамские к-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11480" y="3876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627280" y="292428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ААвв             х            ааВ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356000" y="486900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АаВ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71640" y="573408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ерные короткошерстные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ешите задачу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59036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крестили растения томатов с красными грушевидными плодами с растением с желтыми круглыми плодами. В F1 получили 50% красных круглых и 50% желтых круглых. От скрещивания растений с желтыми круглыми плодами из F1 получили 75% желтых круглых и 25% желтых грушевидных. Какой признак, определяющий, форму доминирует? Каковы генотипы родителей, гибридов F1 и F2, если красная окраска плодов доминирует?</a:t>
            </a:r>
            <a:br>
              <a:rPr sz="2000"/>
            </a:br>
            <a:br>
              <a:rPr sz="20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6516720" y="2133720"/>
            <a:ext cx="2373120" cy="33112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5003640" y="836640"/>
            <a:ext cx="1081080" cy="59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    </a:t>
            </a: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Решение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введем обозначения: А - красные плоды, В - круглая форма  а - желтые плоды, в - грушевидная форм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500720" y="1844640"/>
          <a:ext cx="4181400" cy="4464000"/>
        </p:xfrm>
        <a:graphic>
          <a:graphicData uri="http://schemas.openxmlformats.org/drawingml/2006/table">
            <a:tbl>
              <a:tblPr/>
              <a:tblGrid>
                <a:gridCol w="1295280"/>
                <a:gridCol w="1440000"/>
                <a:gridCol w="1446120"/>
              </a:tblGrid>
              <a:tr h="1023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2:    ааВв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ааВ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аВ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1c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аВ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1c1c"/>
                    </a:solidFill>
                  </a:tcPr>
                </a:tc>
              </a:tr>
              <a:tr h="12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аВ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1c1c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ав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1c1c1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395280" y="1844640"/>
          <a:ext cx="3643200" cy="4525920"/>
        </p:xfrm>
        <a:graphic>
          <a:graphicData uri="http://schemas.openxmlformats.org/drawingml/2006/table">
            <a:tbl>
              <a:tblPr/>
              <a:tblGrid>
                <a:gridCol w="1822320"/>
                <a:gridCol w="1820880"/>
              </a:tblGrid>
              <a:tr h="1132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1  Аавв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ааВ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аВ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1c1c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аВ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1c1c1c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 rot="20263200">
            <a:off x="3203640" y="620640"/>
            <a:ext cx="345960" cy="1752840"/>
          </a:xfrm>
          <a:prstGeom prst="flowChartTerminator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4000" y="260280"/>
            <a:ext cx="4824360" cy="309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20263200">
            <a:off x="4284360" y="549000"/>
            <a:ext cx="345960" cy="1822320"/>
          </a:xfrm>
          <a:prstGeom prst="flowChartTerminator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724360" y="443700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20263200">
            <a:off x="3203640" y="620640"/>
            <a:ext cx="345960" cy="1752840"/>
          </a:xfrm>
          <a:prstGeom prst="flowChartTerminator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724360" y="2565360"/>
            <a:ext cx="2808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АВ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06" name="">
            <a:hlinkClick r:id="rId1" action="ppaction://hlinksldjump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12236" y="3837"/>
                </a:moveTo>
                <a:lnTo>
                  <a:pt x="14812" y="6448"/>
                </a:lnTo>
                <a:lnTo>
                  <a:pt x="14812" y="4707"/>
                </a:lnTo>
                <a:lnTo>
                  <a:pt x="16588" y="4707"/>
                </a:lnTo>
                <a:lnTo>
                  <a:pt x="16588" y="8224"/>
                </a:lnTo>
                <a:lnTo>
                  <a:pt x="19199" y="10800"/>
                </a:lnTo>
                <a:lnTo>
                  <a:pt x="17545" y="10800"/>
                </a:lnTo>
                <a:lnTo>
                  <a:pt x="17545" y="17989"/>
                </a:lnTo>
                <a:lnTo>
                  <a:pt x="6926" y="17989"/>
                </a:lnTo>
                <a:lnTo>
                  <a:pt x="6926" y="10800"/>
                </a:lnTo>
                <a:lnTo>
                  <a:pt x="5273" y="10800"/>
                </a:lnTo>
                <a:close/>
              </a:path>
              <a:path fill="darkenLess" w="24471" h="21600">
                <a:moveTo>
                  <a:pt x="14812" y="6448"/>
                </a:moveTo>
                <a:lnTo>
                  <a:pt x="14812" y="4707"/>
                </a:lnTo>
                <a:lnTo>
                  <a:pt x="16588" y="4707"/>
                </a:lnTo>
                <a:lnTo>
                  <a:pt x="16588" y="8224"/>
                </a:lnTo>
                <a:close/>
              </a:path>
              <a:path fill="darkenLess" w="24471" h="21600">
                <a:moveTo>
                  <a:pt x="11313" y="14299"/>
                </a:moveTo>
                <a:lnTo>
                  <a:pt x="13158" y="14299"/>
                </a:lnTo>
                <a:lnTo>
                  <a:pt x="13158" y="17989"/>
                </a:lnTo>
                <a:lnTo>
                  <a:pt x="17545" y="17989"/>
                </a:lnTo>
                <a:lnTo>
                  <a:pt x="17545" y="10800"/>
                </a:lnTo>
                <a:lnTo>
                  <a:pt x="6926" y="10800"/>
                </a:lnTo>
                <a:lnTo>
                  <a:pt x="6926" y="17989"/>
                </a:lnTo>
                <a:lnTo>
                  <a:pt x="11313" y="17989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1286400">
            <a:off x="2268000" y="765000"/>
            <a:ext cx="346320" cy="1752840"/>
          </a:xfrm>
          <a:prstGeom prst="flowChartTerminator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1286400">
            <a:off x="1116000" y="692280"/>
            <a:ext cx="345960" cy="1752480"/>
          </a:xfrm>
          <a:prstGeom prst="flowChartTerminator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4049280" y="600120"/>
            <a:ext cx="987840" cy="1822680"/>
            <a:chOff x="4049280" y="600120"/>
            <a:chExt cx="987840" cy="1822680"/>
          </a:xfrm>
        </p:grpSpPr>
        <p:sp>
          <p:nvSpPr>
            <p:cNvPr id="310" name=""/>
            <p:cNvSpPr/>
            <p:nvPr/>
          </p:nvSpPr>
          <p:spPr>
            <a:xfrm rot="1286400">
              <a:off x="4370040" y="600120"/>
              <a:ext cx="345960" cy="182232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4211640" y="1916280"/>
              <a:ext cx="216000" cy="40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В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980800" y="665640"/>
            <a:ext cx="962640" cy="1757880"/>
            <a:chOff x="2980800" y="665640"/>
            <a:chExt cx="962640" cy="1757880"/>
          </a:xfrm>
        </p:grpSpPr>
        <p:sp>
          <p:nvSpPr>
            <p:cNvPr id="313" name=""/>
            <p:cNvSpPr/>
            <p:nvPr/>
          </p:nvSpPr>
          <p:spPr>
            <a:xfrm rot="1286400">
              <a:off x="3288960" y="668160"/>
              <a:ext cx="345960" cy="175284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3132000" y="1916280"/>
              <a:ext cx="216000" cy="40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В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723600" y="764640"/>
            <a:ext cx="984960" cy="1753200"/>
            <a:chOff x="723600" y="764640"/>
            <a:chExt cx="984960" cy="1753200"/>
          </a:xfrm>
        </p:grpSpPr>
        <p:sp>
          <p:nvSpPr>
            <p:cNvPr id="316" name=""/>
            <p:cNvSpPr/>
            <p:nvPr/>
          </p:nvSpPr>
          <p:spPr>
            <a:xfrm rot="20263200">
              <a:off x="1042920" y="764640"/>
              <a:ext cx="346320" cy="175284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900000" y="765000"/>
              <a:ext cx="228600" cy="47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А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1876320" y="620640"/>
            <a:ext cx="984600" cy="1752840"/>
            <a:chOff x="1876320" y="620640"/>
            <a:chExt cx="984600" cy="1752840"/>
          </a:xfrm>
        </p:grpSpPr>
        <p:sp>
          <p:nvSpPr>
            <p:cNvPr id="319" name=""/>
            <p:cNvSpPr/>
            <p:nvPr/>
          </p:nvSpPr>
          <p:spPr>
            <a:xfrm rot="20263200">
              <a:off x="2195640" y="620640"/>
              <a:ext cx="345960" cy="175284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2050920" y="692280"/>
              <a:ext cx="228600" cy="47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А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723600" y="764640"/>
            <a:ext cx="984960" cy="1753200"/>
            <a:chOff x="723600" y="764640"/>
            <a:chExt cx="984960" cy="1753200"/>
          </a:xfrm>
        </p:grpSpPr>
        <p:sp>
          <p:nvSpPr>
            <p:cNvPr id="322" name=""/>
            <p:cNvSpPr/>
            <p:nvPr/>
          </p:nvSpPr>
          <p:spPr>
            <a:xfrm rot="20263200">
              <a:off x="1042920" y="764640"/>
              <a:ext cx="346320" cy="175284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900000" y="765000"/>
              <a:ext cx="228600" cy="47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А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1876320" y="620640"/>
            <a:ext cx="984600" cy="1752840"/>
            <a:chOff x="1876320" y="620640"/>
            <a:chExt cx="984600" cy="1752840"/>
          </a:xfrm>
        </p:grpSpPr>
        <p:sp>
          <p:nvSpPr>
            <p:cNvPr id="325" name=""/>
            <p:cNvSpPr/>
            <p:nvPr/>
          </p:nvSpPr>
          <p:spPr>
            <a:xfrm rot="20263200">
              <a:off x="2195640" y="620640"/>
              <a:ext cx="345960" cy="175284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2050920" y="692280"/>
              <a:ext cx="228600" cy="47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А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4049280" y="620640"/>
            <a:ext cx="987840" cy="1822680"/>
            <a:chOff x="4049280" y="620640"/>
            <a:chExt cx="987840" cy="1822680"/>
          </a:xfrm>
        </p:grpSpPr>
        <p:sp>
          <p:nvSpPr>
            <p:cNvPr id="328" name=""/>
            <p:cNvSpPr/>
            <p:nvPr/>
          </p:nvSpPr>
          <p:spPr>
            <a:xfrm rot="1286400">
              <a:off x="4370040" y="620640"/>
              <a:ext cx="345960" cy="182232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4211640" y="1936800"/>
              <a:ext cx="216000" cy="40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В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11355 L -0.06614 0.50162 E">
                                      <p:cBhvr>
                                        <p:cTn id="571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12673E-006 L -0.29514 0.51573 E">
                                      <p:cBhvr>
                                        <p:cTn id="575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89362E-006 L 0.00486 0.5437 E">
                                      <p:cBhvr>
                                        <p:cTn id="579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41 0.0037 L -0.22447 0.54232 E">
                                      <p:cBhvr>
                                        <p:cTn id="583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"/>
          <p:cNvGrpSpPr/>
          <p:nvPr/>
        </p:nvGrpSpPr>
        <p:grpSpPr>
          <a:xfrm>
            <a:off x="1791360" y="838800"/>
            <a:ext cx="1011240" cy="1817640"/>
            <a:chOff x="1791360" y="838800"/>
            <a:chExt cx="1011240" cy="1817640"/>
          </a:xfrm>
        </p:grpSpPr>
        <p:sp>
          <p:nvSpPr>
            <p:cNvPr id="331" name=""/>
            <p:cNvSpPr/>
            <p:nvPr/>
          </p:nvSpPr>
          <p:spPr>
            <a:xfrm rot="20263200">
              <a:off x="2123640" y="836280"/>
              <a:ext cx="346320" cy="182232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1979640" y="907920"/>
              <a:ext cx="228600" cy="47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А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 rot="1286400">
            <a:off x="2195280" y="907920"/>
            <a:ext cx="345960" cy="1752840"/>
          </a:xfrm>
          <a:prstGeom prst="flowChartTerminator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20263200">
            <a:off x="4787640" y="691920"/>
            <a:ext cx="345960" cy="1822320"/>
          </a:xfrm>
          <a:prstGeom prst="flowChartTerminator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20263200">
            <a:off x="6156000" y="691920"/>
            <a:ext cx="345960" cy="1822320"/>
          </a:xfrm>
          <a:prstGeom prst="flowChartTerminator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286400">
            <a:off x="3492000" y="907920"/>
            <a:ext cx="346320" cy="1752840"/>
          </a:xfrm>
          <a:prstGeom prst="flowChartTerminator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087000" y="839160"/>
            <a:ext cx="1010880" cy="1817280"/>
            <a:chOff x="3087000" y="839160"/>
            <a:chExt cx="1010880" cy="1817280"/>
          </a:xfrm>
        </p:grpSpPr>
        <p:sp>
          <p:nvSpPr>
            <p:cNvPr id="338" name=""/>
            <p:cNvSpPr/>
            <p:nvPr/>
          </p:nvSpPr>
          <p:spPr>
            <a:xfrm rot="20263200">
              <a:off x="3419280" y="836280"/>
              <a:ext cx="345960" cy="182232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3203640" y="907920"/>
              <a:ext cx="272880" cy="28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a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4550760" y="762480"/>
            <a:ext cx="962640" cy="1757880"/>
            <a:chOff x="4550760" y="762480"/>
            <a:chExt cx="962640" cy="1757880"/>
          </a:xfrm>
        </p:grpSpPr>
        <p:sp>
          <p:nvSpPr>
            <p:cNvPr id="341" name=""/>
            <p:cNvSpPr/>
            <p:nvPr/>
          </p:nvSpPr>
          <p:spPr>
            <a:xfrm rot="1286400">
              <a:off x="4858920" y="765000"/>
              <a:ext cx="345960" cy="175284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 txBox="1"/>
            <p:nvPr/>
          </p:nvSpPr>
          <p:spPr>
            <a:xfrm>
              <a:off x="4716360" y="2060640"/>
              <a:ext cx="216000" cy="40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В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847840" y="762480"/>
            <a:ext cx="962640" cy="1757880"/>
            <a:chOff x="5847840" y="762480"/>
            <a:chExt cx="962640" cy="1757880"/>
          </a:xfrm>
        </p:grpSpPr>
        <p:sp>
          <p:nvSpPr>
            <p:cNvPr id="344" name=""/>
            <p:cNvSpPr/>
            <p:nvPr/>
          </p:nvSpPr>
          <p:spPr>
            <a:xfrm rot="1286400">
              <a:off x="6156000" y="765000"/>
              <a:ext cx="345960" cy="175284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 txBox="1"/>
            <p:nvPr/>
          </p:nvSpPr>
          <p:spPr>
            <a:xfrm>
              <a:off x="6012000" y="2060640"/>
              <a:ext cx="20304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b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900000" y="1413000"/>
            <a:ext cx="1223640" cy="3574800"/>
            <a:chOff x="900000" y="1413000"/>
            <a:chExt cx="1223640" cy="3574800"/>
          </a:xfrm>
        </p:grpSpPr>
        <p:sp>
          <p:nvSpPr>
            <p:cNvPr id="347" name=""/>
            <p:cNvSpPr txBox="1"/>
            <p:nvPr/>
          </p:nvSpPr>
          <p:spPr>
            <a:xfrm>
              <a:off x="900000" y="4508640"/>
              <a:ext cx="228600" cy="47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А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1042560" y="1413000"/>
              <a:ext cx="1081080" cy="30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187280" y="2421000"/>
            <a:ext cx="3528720" cy="2566800"/>
            <a:chOff x="1187280" y="2421000"/>
            <a:chExt cx="3528720" cy="2566800"/>
          </a:xfrm>
        </p:grpSpPr>
        <p:sp>
          <p:nvSpPr>
            <p:cNvPr id="350" name=""/>
            <p:cNvSpPr txBox="1"/>
            <p:nvPr/>
          </p:nvSpPr>
          <p:spPr>
            <a:xfrm>
              <a:off x="1187280" y="4579920"/>
              <a:ext cx="216000" cy="40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В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1331640" y="2421000"/>
              <a:ext cx="3384360" cy="21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2124000" y="1413000"/>
            <a:ext cx="731880" cy="3574800"/>
            <a:chOff x="2124000" y="1413000"/>
            <a:chExt cx="731880" cy="3574800"/>
          </a:xfrm>
        </p:grpSpPr>
        <p:sp>
          <p:nvSpPr>
            <p:cNvPr id="353" name=""/>
            <p:cNvSpPr txBox="1"/>
            <p:nvPr/>
          </p:nvSpPr>
          <p:spPr>
            <a:xfrm>
              <a:off x="2627280" y="4508640"/>
              <a:ext cx="228600" cy="47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А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24000" y="1413000"/>
              <a:ext cx="576360" cy="30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843280" y="2421000"/>
            <a:ext cx="3168360" cy="2592360"/>
            <a:chOff x="2843280" y="2421000"/>
            <a:chExt cx="3168360" cy="2592360"/>
          </a:xfrm>
        </p:grpSpPr>
        <p:sp>
          <p:nvSpPr>
            <p:cNvPr id="356" name=""/>
            <p:cNvSpPr txBox="1"/>
            <p:nvPr/>
          </p:nvSpPr>
          <p:spPr>
            <a:xfrm>
              <a:off x="2843280" y="4579920"/>
              <a:ext cx="20304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b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2916000" y="2421000"/>
              <a:ext cx="3095640" cy="20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3276720" y="1197000"/>
            <a:ext cx="1279440" cy="3741840"/>
            <a:chOff x="3276720" y="1197000"/>
            <a:chExt cx="1279440" cy="3741840"/>
          </a:xfrm>
        </p:grpSpPr>
        <p:sp>
          <p:nvSpPr>
            <p:cNvPr id="359" name=""/>
            <p:cNvSpPr txBox="1"/>
            <p:nvPr/>
          </p:nvSpPr>
          <p:spPr>
            <a:xfrm>
              <a:off x="4282920" y="4651200"/>
              <a:ext cx="273240" cy="28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a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76720" y="1197000"/>
              <a:ext cx="1150920" cy="34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572000" y="2421000"/>
            <a:ext cx="216000" cy="2495520"/>
            <a:chOff x="4572000" y="2421000"/>
            <a:chExt cx="216000" cy="2495520"/>
          </a:xfrm>
        </p:grpSpPr>
        <p:sp>
          <p:nvSpPr>
            <p:cNvPr id="362" name=""/>
            <p:cNvSpPr txBox="1"/>
            <p:nvPr/>
          </p:nvSpPr>
          <p:spPr>
            <a:xfrm>
              <a:off x="4572000" y="4508640"/>
              <a:ext cx="216000" cy="40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В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4643280" y="2421000"/>
              <a:ext cx="144720" cy="20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3348000" y="1197000"/>
            <a:ext cx="3008520" cy="3741840"/>
            <a:chOff x="3348000" y="1197000"/>
            <a:chExt cx="3008520" cy="3741840"/>
          </a:xfrm>
        </p:grpSpPr>
        <p:sp>
          <p:nvSpPr>
            <p:cNvPr id="365" name=""/>
            <p:cNvSpPr txBox="1"/>
            <p:nvPr/>
          </p:nvSpPr>
          <p:spPr>
            <a:xfrm>
              <a:off x="6083280" y="4651200"/>
              <a:ext cx="273240" cy="28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a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348000" y="1197000"/>
              <a:ext cx="2808360" cy="34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084720" y="2421000"/>
            <a:ext cx="562320" cy="2520720"/>
            <a:chOff x="6084720" y="2421000"/>
            <a:chExt cx="562320" cy="2520720"/>
          </a:xfrm>
        </p:grpSpPr>
        <p:sp>
          <p:nvSpPr>
            <p:cNvPr id="368" name=""/>
            <p:cNvSpPr txBox="1"/>
            <p:nvPr/>
          </p:nvSpPr>
          <p:spPr>
            <a:xfrm>
              <a:off x="6443640" y="4508640"/>
              <a:ext cx="20340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b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84720" y="2421000"/>
              <a:ext cx="14292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 txBox="1"/>
          <p:nvPr/>
        </p:nvSpPr>
        <p:spPr>
          <a:xfrm>
            <a:off x="6156360" y="5661000"/>
            <a:ext cx="25495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aB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71" name="">
            <a:hlinkClick r:id="rId1" action="ppaction://hlinksldjump"/>
          </p:cNvPr>
          <p:cNvSpPr/>
          <p:nvPr/>
        </p:nvSpPr>
        <p:spPr>
          <a:xfrm>
            <a:off x="8820000" y="6381720"/>
            <a:ext cx="324000" cy="47628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476280"/>
              <a:gd name="textAreaBottom" fmla="*/ 455400 h 476280"/>
            </a:gdLst>
            <a:ahLst/>
            <a:rect l="textAreaLeft" t="textAreaTop" r="textAreaRight" b="textAreaBottom"/>
            <a:pathLst>
              <a:path w="21600" h="31741">
                <a:moveTo>
                  <a:pt x="0" y="0"/>
                </a:moveTo>
                <a:lnTo>
                  <a:pt x="21600" y="0"/>
                </a:lnTo>
                <a:lnTo>
                  <a:pt x="21600" y="31741"/>
                </a:lnTo>
                <a:lnTo>
                  <a:pt x="0" y="31741"/>
                </a:lnTo>
                <a:close/>
              </a:path>
              <a:path fill="lightenLess" w="21600" h="317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741">
                <a:moveTo>
                  <a:pt x="21600" y="0"/>
                </a:moveTo>
                <a:lnTo>
                  <a:pt x="21600" y="31741"/>
                </a:lnTo>
                <a:lnTo>
                  <a:pt x="20200" y="30341"/>
                </a:lnTo>
                <a:lnTo>
                  <a:pt x="20200" y="1400"/>
                </a:lnTo>
                <a:close/>
              </a:path>
              <a:path fill="darkenLess" w="21600" h="31741">
                <a:moveTo>
                  <a:pt x="21600" y="31741"/>
                </a:moveTo>
                <a:lnTo>
                  <a:pt x="0" y="31741"/>
                </a:lnTo>
                <a:lnTo>
                  <a:pt x="1400" y="30341"/>
                </a:lnTo>
                <a:lnTo>
                  <a:pt x="20200" y="30341"/>
                </a:lnTo>
                <a:close/>
              </a:path>
              <a:path fill="lighten" w="21600" h="31741">
                <a:moveTo>
                  <a:pt x="0" y="317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0341"/>
                </a:lnTo>
                <a:close/>
              </a:path>
              <a:path fill="darken" w="21600" h="31741">
                <a:moveTo>
                  <a:pt x="10800" y="8907"/>
                </a:moveTo>
                <a:lnTo>
                  <a:pt x="13376" y="11519"/>
                </a:lnTo>
                <a:lnTo>
                  <a:pt x="13376" y="9778"/>
                </a:lnTo>
                <a:lnTo>
                  <a:pt x="15152" y="9778"/>
                </a:lnTo>
                <a:lnTo>
                  <a:pt x="15152" y="13294"/>
                </a:lnTo>
                <a:lnTo>
                  <a:pt x="17763" y="15870"/>
                </a:lnTo>
                <a:lnTo>
                  <a:pt x="16109" y="15870"/>
                </a:lnTo>
                <a:lnTo>
                  <a:pt x="16109" y="23060"/>
                </a:lnTo>
                <a:lnTo>
                  <a:pt x="5491" y="23060"/>
                </a:lnTo>
                <a:lnTo>
                  <a:pt x="5491" y="15870"/>
                </a:lnTo>
                <a:lnTo>
                  <a:pt x="3837" y="15870"/>
                </a:lnTo>
                <a:close/>
              </a:path>
              <a:path fill="darkenLess" w="21600" h="31741">
                <a:moveTo>
                  <a:pt x="13376" y="11519"/>
                </a:moveTo>
                <a:lnTo>
                  <a:pt x="13376" y="9778"/>
                </a:lnTo>
                <a:lnTo>
                  <a:pt x="15152" y="9778"/>
                </a:lnTo>
                <a:lnTo>
                  <a:pt x="15152" y="13294"/>
                </a:lnTo>
                <a:close/>
              </a:path>
              <a:path fill="darkenLess" w="21600" h="31741">
                <a:moveTo>
                  <a:pt x="9877" y="19369"/>
                </a:moveTo>
                <a:lnTo>
                  <a:pt x="11723" y="19369"/>
                </a:lnTo>
                <a:lnTo>
                  <a:pt x="11723" y="23060"/>
                </a:lnTo>
                <a:lnTo>
                  <a:pt x="16109" y="23060"/>
                </a:lnTo>
                <a:lnTo>
                  <a:pt x="16109" y="15870"/>
                </a:lnTo>
                <a:lnTo>
                  <a:pt x="5491" y="15870"/>
                </a:lnTo>
                <a:lnTo>
                  <a:pt x="5491" y="23060"/>
                </a:lnTo>
                <a:lnTo>
                  <a:pt x="9877" y="2306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1908000" y="620640"/>
            <a:ext cx="5976360" cy="5976720"/>
            <a:chOff x="1908000" y="620640"/>
            <a:chExt cx="5976360" cy="5976720"/>
          </a:xfrm>
        </p:grpSpPr>
        <p:sp>
          <p:nvSpPr>
            <p:cNvPr id="373" name=""/>
            <p:cNvSpPr/>
            <p:nvPr/>
          </p:nvSpPr>
          <p:spPr>
            <a:xfrm>
              <a:off x="6689520" y="1815480"/>
              <a:ext cx="119484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908000" y="62064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02840" y="620640"/>
              <a:ext cx="119556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98760" y="62064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493960" y="620640"/>
              <a:ext cx="119556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89520" y="62064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93960" y="1815480"/>
              <a:ext cx="119556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02840" y="1815480"/>
              <a:ext cx="119556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102840" y="3011400"/>
              <a:ext cx="119556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02840" y="4206600"/>
              <a:ext cx="119556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102840" y="5401800"/>
              <a:ext cx="119556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98760" y="1815480"/>
              <a:ext cx="119484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298760" y="301140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298760" y="420660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298760" y="5401800"/>
              <a:ext cx="119484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493960" y="5401800"/>
              <a:ext cx="119556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493960" y="4206600"/>
              <a:ext cx="119556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93960" y="3011400"/>
              <a:ext cx="119556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89520" y="5401800"/>
              <a:ext cx="119484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689520" y="420660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89520" y="301140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08000" y="1815480"/>
              <a:ext cx="119484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08000" y="301140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8000" y="420660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08000" y="5401800"/>
              <a:ext cx="119484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 txBox="1"/>
          <p:nvPr/>
        </p:nvSpPr>
        <p:spPr>
          <a:xfrm>
            <a:off x="3564000" y="981000"/>
            <a:ext cx="57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268360" y="5734080"/>
            <a:ext cx="6494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716360" y="981000"/>
            <a:ext cx="57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5867280" y="981000"/>
            <a:ext cx="57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7020000" y="981000"/>
            <a:ext cx="57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2195640" y="2205000"/>
            <a:ext cx="6490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2195640" y="3429000"/>
            <a:ext cx="6490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195640" y="4508640"/>
            <a:ext cx="6490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132000" y="2205000"/>
            <a:ext cx="1008360" cy="503280"/>
            <a:chOff x="3132000" y="2205000"/>
            <a:chExt cx="1008360" cy="503280"/>
          </a:xfrm>
        </p:grpSpPr>
        <p:sp>
          <p:nvSpPr>
            <p:cNvPr id="407" name=""/>
            <p:cNvSpPr txBox="1"/>
            <p:nvPr/>
          </p:nvSpPr>
          <p:spPr>
            <a:xfrm>
              <a:off x="3132000" y="2276640"/>
              <a:ext cx="43200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АВ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408" name=""/>
            <p:cNvSpPr txBox="1"/>
            <p:nvPr/>
          </p:nvSpPr>
          <p:spPr>
            <a:xfrm>
              <a:off x="3635280" y="2205000"/>
              <a:ext cx="5050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a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804000" y="2205000"/>
            <a:ext cx="1007640" cy="503280"/>
            <a:chOff x="6804000" y="2205000"/>
            <a:chExt cx="1007640" cy="503280"/>
          </a:xfrm>
        </p:grpSpPr>
        <p:sp>
          <p:nvSpPr>
            <p:cNvPr id="410" name=""/>
            <p:cNvSpPr txBox="1"/>
            <p:nvPr/>
          </p:nvSpPr>
          <p:spPr>
            <a:xfrm>
              <a:off x="6804000" y="2276640"/>
              <a:ext cx="43164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АВ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411" name=""/>
            <p:cNvSpPr txBox="1"/>
            <p:nvPr/>
          </p:nvSpPr>
          <p:spPr>
            <a:xfrm>
              <a:off x="7306920" y="2205000"/>
              <a:ext cx="504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a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4427640" y="3429000"/>
            <a:ext cx="1007640" cy="503280"/>
            <a:chOff x="4427640" y="3429000"/>
            <a:chExt cx="1007640" cy="503280"/>
          </a:xfrm>
        </p:grpSpPr>
        <p:sp>
          <p:nvSpPr>
            <p:cNvPr id="413" name=""/>
            <p:cNvSpPr txBox="1"/>
            <p:nvPr/>
          </p:nvSpPr>
          <p:spPr>
            <a:xfrm>
              <a:off x="4427640" y="3500640"/>
              <a:ext cx="43164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АВ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414" name=""/>
            <p:cNvSpPr txBox="1"/>
            <p:nvPr/>
          </p:nvSpPr>
          <p:spPr>
            <a:xfrm>
              <a:off x="4930560" y="3429000"/>
              <a:ext cx="504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a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5580000" y="4581360"/>
            <a:ext cx="1007640" cy="503280"/>
            <a:chOff x="5580000" y="4581360"/>
            <a:chExt cx="1007640" cy="503280"/>
          </a:xfrm>
        </p:grpSpPr>
        <p:sp>
          <p:nvSpPr>
            <p:cNvPr id="416" name=""/>
            <p:cNvSpPr txBox="1"/>
            <p:nvPr/>
          </p:nvSpPr>
          <p:spPr>
            <a:xfrm>
              <a:off x="5580000" y="4653000"/>
              <a:ext cx="43164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АВ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>
              <a:off x="6082920" y="4581360"/>
              <a:ext cx="504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a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6804000" y="5805360"/>
            <a:ext cx="1007640" cy="503280"/>
            <a:chOff x="6804000" y="5805360"/>
            <a:chExt cx="1007640" cy="503280"/>
          </a:xfrm>
        </p:grpSpPr>
        <p:sp>
          <p:nvSpPr>
            <p:cNvPr id="419" name=""/>
            <p:cNvSpPr txBox="1"/>
            <p:nvPr/>
          </p:nvSpPr>
          <p:spPr>
            <a:xfrm>
              <a:off x="6804000" y="5877000"/>
              <a:ext cx="43164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АВ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>
              <a:off x="7306920" y="5805360"/>
              <a:ext cx="504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a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3203640" y="5734080"/>
            <a:ext cx="1007640" cy="503280"/>
            <a:chOff x="3203640" y="5734080"/>
            <a:chExt cx="1007640" cy="503280"/>
          </a:xfrm>
        </p:grpSpPr>
        <p:sp>
          <p:nvSpPr>
            <p:cNvPr id="422" name=""/>
            <p:cNvSpPr txBox="1"/>
            <p:nvPr/>
          </p:nvSpPr>
          <p:spPr>
            <a:xfrm>
              <a:off x="3203640" y="5805720"/>
              <a:ext cx="43164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АВ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3706560" y="5734080"/>
              <a:ext cx="504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a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10800" y="5703"/>
                </a:moveTo>
                <a:lnTo>
                  <a:pt x="13376" y="8315"/>
                </a:ln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lnTo>
                  <a:pt x="17763" y="12666"/>
                </a:lnTo>
                <a:lnTo>
                  <a:pt x="16109" y="12666"/>
                </a:lnTo>
                <a:lnTo>
                  <a:pt x="16109" y="19856"/>
                </a:lnTo>
                <a:lnTo>
                  <a:pt x="5491" y="19856"/>
                </a:lnTo>
                <a:lnTo>
                  <a:pt x="5491" y="12666"/>
                </a:lnTo>
                <a:lnTo>
                  <a:pt x="3837" y="12666"/>
                </a:lnTo>
                <a:close/>
              </a:path>
              <a:path fill="darkenLess" w="21600" h="25333">
                <a:moveTo>
                  <a:pt x="13376" y="8315"/>
                </a:move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close/>
              </a:path>
              <a:path fill="darkenLess" w="21600" h="25333">
                <a:moveTo>
                  <a:pt x="9877" y="16165"/>
                </a:moveTo>
                <a:lnTo>
                  <a:pt x="11723" y="16165"/>
                </a:lnTo>
                <a:lnTo>
                  <a:pt x="11723" y="19856"/>
                </a:lnTo>
                <a:lnTo>
                  <a:pt x="16109" y="19856"/>
                </a:lnTo>
                <a:lnTo>
                  <a:pt x="16109" y="12666"/>
                </a:lnTo>
                <a:lnTo>
                  <a:pt x="5491" y="12666"/>
                </a:lnTo>
                <a:lnTo>
                  <a:pt x="5491" y="19856"/>
                </a:lnTo>
                <a:lnTo>
                  <a:pt x="9877" y="1985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2050920" y="765000"/>
            <a:ext cx="6119640" cy="5876280"/>
            <a:chOff x="2050920" y="765000"/>
            <a:chExt cx="6119640" cy="5876280"/>
          </a:xfrm>
        </p:grpSpPr>
        <p:sp>
          <p:nvSpPr>
            <p:cNvPr id="426" name=""/>
            <p:cNvSpPr/>
            <p:nvPr/>
          </p:nvSpPr>
          <p:spPr>
            <a:xfrm>
              <a:off x="6946920" y="1940040"/>
              <a:ext cx="1223640" cy="11754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050920" y="765000"/>
              <a:ext cx="122364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74560" y="765000"/>
              <a:ext cx="122400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98920" y="765000"/>
              <a:ext cx="122364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722560" y="765000"/>
              <a:ext cx="122400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946920" y="765000"/>
              <a:ext cx="122364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722560" y="1940040"/>
              <a:ext cx="1224000" cy="11754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274560" y="1940040"/>
              <a:ext cx="1224000" cy="11754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74560" y="3115800"/>
              <a:ext cx="122400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274560" y="4290840"/>
              <a:ext cx="122400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274560" y="5465880"/>
              <a:ext cx="1224000" cy="11754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498920" y="1940040"/>
              <a:ext cx="1223640" cy="11754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498920" y="3115800"/>
              <a:ext cx="122364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98920" y="4290840"/>
              <a:ext cx="122364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98920" y="5465880"/>
              <a:ext cx="1223640" cy="11754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22560" y="5465880"/>
              <a:ext cx="1224000" cy="11754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722560" y="4290840"/>
              <a:ext cx="122400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22560" y="3115800"/>
              <a:ext cx="122400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946920" y="5465880"/>
              <a:ext cx="1223640" cy="11754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946920" y="4290840"/>
              <a:ext cx="122364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946920" y="3115800"/>
              <a:ext cx="122364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050920" y="1940040"/>
              <a:ext cx="1223640" cy="11754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050920" y="3115800"/>
              <a:ext cx="122364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050920" y="4290840"/>
              <a:ext cx="1223640" cy="1175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050920" y="5465880"/>
              <a:ext cx="1223640" cy="11754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 txBox="1"/>
          <p:nvPr/>
        </p:nvSpPr>
        <p:spPr>
          <a:xfrm>
            <a:off x="3348000" y="189000"/>
            <a:ext cx="3240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Ab,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635280" y="1268280"/>
            <a:ext cx="561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788000" y="1268280"/>
            <a:ext cx="514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5940360" y="1268280"/>
            <a:ext cx="561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7093080" y="1197000"/>
            <a:ext cx="51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2340000" y="2421000"/>
            <a:ext cx="561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2484360" y="3500280"/>
            <a:ext cx="514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2484360" y="4653000"/>
            <a:ext cx="561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2484360" y="573408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348000" y="2421000"/>
            <a:ext cx="1066680" cy="4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276720" y="4653000"/>
            <a:ext cx="1066680" cy="4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00720" y="2349360"/>
            <a:ext cx="1076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00720" y="4653000"/>
            <a:ext cx="1076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5796000" y="2421000"/>
            <a:ext cx="1066680" cy="4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7020000" y="2349360"/>
            <a:ext cx="1076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276720" y="3429000"/>
            <a:ext cx="1076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348000" y="5734080"/>
            <a:ext cx="1076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5867280" y="3429000"/>
            <a:ext cx="1076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7020000" y="4581360"/>
            <a:ext cx="1076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5867280" y="5734080"/>
            <a:ext cx="1076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0" y="3500280"/>
            <a:ext cx="1028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7020000" y="3500280"/>
            <a:ext cx="10285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643280" y="5734080"/>
            <a:ext cx="1028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7093080" y="5734080"/>
            <a:ext cx="102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5796000" y="4724280"/>
            <a:ext cx="1066680" cy="4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532720" y="6021360"/>
            <a:ext cx="611280" cy="836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836640"/>
              <a:gd name="textAreaBottom" fmla="*/ 797040 h 836640"/>
            </a:gdLst>
            <a:ahLst/>
            <a:rect l="textAreaLeft" t="textAreaTop" r="textAreaRight" b="textAreaBottom"/>
            <a:pathLst>
              <a:path w="21600" h="29559">
                <a:moveTo>
                  <a:pt x="0" y="0"/>
                </a:moveTo>
                <a:lnTo>
                  <a:pt x="21600" y="0"/>
                </a:lnTo>
                <a:lnTo>
                  <a:pt x="21600" y="29559"/>
                </a:lnTo>
                <a:lnTo>
                  <a:pt x="0" y="29559"/>
                </a:lnTo>
                <a:close/>
              </a:path>
              <a:path fill="lightenLess" w="21600" h="295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559">
                <a:moveTo>
                  <a:pt x="21600" y="0"/>
                </a:moveTo>
                <a:lnTo>
                  <a:pt x="21600" y="29559"/>
                </a:lnTo>
                <a:lnTo>
                  <a:pt x="20200" y="28159"/>
                </a:lnTo>
                <a:lnTo>
                  <a:pt x="20200" y="1400"/>
                </a:lnTo>
                <a:close/>
              </a:path>
              <a:path fill="darkenLess" w="21600" h="29559">
                <a:moveTo>
                  <a:pt x="21600" y="29559"/>
                </a:moveTo>
                <a:lnTo>
                  <a:pt x="0" y="29559"/>
                </a:lnTo>
                <a:lnTo>
                  <a:pt x="1400" y="28159"/>
                </a:lnTo>
                <a:lnTo>
                  <a:pt x="20200" y="28159"/>
                </a:lnTo>
                <a:close/>
              </a:path>
              <a:path fill="lighten" w="21600" h="29559">
                <a:moveTo>
                  <a:pt x="0" y="295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159"/>
                </a:lnTo>
                <a:close/>
              </a:path>
              <a:path fill="darken" w="21600" h="29559">
                <a:moveTo>
                  <a:pt x="10800" y="7816"/>
                </a:moveTo>
                <a:lnTo>
                  <a:pt x="13376" y="10427"/>
                </a:lnTo>
                <a:lnTo>
                  <a:pt x="13376" y="8687"/>
                </a:lnTo>
                <a:lnTo>
                  <a:pt x="15152" y="8687"/>
                </a:lnTo>
                <a:lnTo>
                  <a:pt x="15152" y="12203"/>
                </a:lnTo>
                <a:lnTo>
                  <a:pt x="17763" y="14779"/>
                </a:lnTo>
                <a:lnTo>
                  <a:pt x="16109" y="14779"/>
                </a:lnTo>
                <a:lnTo>
                  <a:pt x="16109" y="21969"/>
                </a:lnTo>
                <a:lnTo>
                  <a:pt x="5491" y="21969"/>
                </a:lnTo>
                <a:lnTo>
                  <a:pt x="5491" y="14779"/>
                </a:lnTo>
                <a:lnTo>
                  <a:pt x="3837" y="14779"/>
                </a:lnTo>
                <a:close/>
              </a:path>
              <a:path fill="darkenLess" w="21600" h="29559">
                <a:moveTo>
                  <a:pt x="13376" y="10427"/>
                </a:moveTo>
                <a:lnTo>
                  <a:pt x="13376" y="8687"/>
                </a:lnTo>
                <a:lnTo>
                  <a:pt x="15152" y="8687"/>
                </a:lnTo>
                <a:lnTo>
                  <a:pt x="15152" y="12203"/>
                </a:lnTo>
                <a:close/>
              </a:path>
              <a:path fill="darkenLess" w="21600" h="29559">
                <a:moveTo>
                  <a:pt x="9877" y="18278"/>
                </a:moveTo>
                <a:lnTo>
                  <a:pt x="11723" y="18278"/>
                </a:lnTo>
                <a:lnTo>
                  <a:pt x="11723" y="21969"/>
                </a:lnTo>
                <a:lnTo>
                  <a:pt x="16109" y="21969"/>
                </a:lnTo>
                <a:lnTo>
                  <a:pt x="16109" y="14779"/>
                </a:lnTo>
                <a:lnTo>
                  <a:pt x="5491" y="14779"/>
                </a:lnTo>
                <a:lnTo>
                  <a:pt x="5491" y="21969"/>
                </a:lnTo>
                <a:lnTo>
                  <a:pt x="9877" y="21969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6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f01"/>
                                      </p:to>
                                    </p:animClr>
                                    <p:set>
                                      <p:cBhvr>
                                        <p:cTn id="717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9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f01"/>
                                      </p:to>
                                    </p:animClr>
                                    <p:set>
                                      <p:cBhvr>
                                        <p:cTn id="720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2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f01"/>
                                      </p:to>
                                    </p:animClr>
                                    <p:set>
                                      <p:cBhvr>
                                        <p:cTn id="723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5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f01"/>
                                      </p:to>
                                    </p:animClr>
                                    <p:set>
                                      <p:cBhvr>
                                        <p:cTn id="726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0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31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34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37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40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43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5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46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8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49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1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52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6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757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9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760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2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763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5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766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одумайте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31800" y="2556000"/>
            <a:ext cx="2383200" cy="3982320"/>
            <a:chOff x="631800" y="2556000"/>
            <a:chExt cx="2383200" cy="3982320"/>
          </a:xfrm>
        </p:grpSpPr>
        <p:sp>
          <p:nvSpPr>
            <p:cNvPr id="114" name=""/>
            <p:cNvSpPr/>
            <p:nvPr/>
          </p:nvSpPr>
          <p:spPr>
            <a:xfrm rot="20263200">
              <a:off x="1331640" y="2565000"/>
              <a:ext cx="806760" cy="385236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286400">
              <a:off x="1530720" y="2671200"/>
              <a:ext cx="807840" cy="385236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943080" y="2627640"/>
            <a:ext cx="2383560" cy="3981960"/>
            <a:chOff x="3943080" y="2627640"/>
            <a:chExt cx="2383560" cy="3981960"/>
          </a:xfrm>
        </p:grpSpPr>
        <p:sp>
          <p:nvSpPr>
            <p:cNvPr id="117" name=""/>
            <p:cNvSpPr/>
            <p:nvPr/>
          </p:nvSpPr>
          <p:spPr>
            <a:xfrm rot="20263200">
              <a:off x="4642920" y="2636640"/>
              <a:ext cx="807120" cy="385200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286400">
              <a:off x="4842000" y="2743200"/>
              <a:ext cx="808200" cy="385200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 txBox="1"/>
          <p:nvPr/>
        </p:nvSpPr>
        <p:spPr>
          <a:xfrm>
            <a:off x="1042920" y="2852640"/>
            <a:ext cx="314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427640" y="2852640"/>
            <a:ext cx="314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43640" y="1341360"/>
            <a:ext cx="244944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Гомологичные хромосо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Аллельные г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Доминантный при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Гомозиготные осо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Чистые ли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Закон единообра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00720" y="285264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411280" y="4221000"/>
            <a:ext cx="2151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А(Аа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4979880"/>
            <a:ext cx="26272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Закон расщепления призна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Гетерозиготные осо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шить задач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429000" cy="2681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Изображение 348"/>
          <p:cNvPicPr/>
          <p:nvPr/>
        </p:nvPicPr>
        <p:blipFill>
          <a:blip r:embed="rId2"/>
          <a:stretch/>
        </p:blipFill>
        <p:spPr>
          <a:xfrm>
            <a:off x="990720" y="304920"/>
            <a:ext cx="936360" cy="100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419720" y="1676520"/>
            <a:ext cx="4149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В медико-генетическую консультацию обратилась молодая пара, собиравшаяся вступить в брак, но обеспокоенная здоровьем будущих детей. Их тревога объясняется тем, что в их семьях имеются случаи рождения детей с шестью пальцами. У жены – шестипалость, муж - здоров. Полидактилия (шестипалость) у человека определяется доминантными аллелями аутосомных ге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шить задач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" name="Picture 6" descr="Изображение 348"/>
          <p:cNvPicPr/>
          <p:nvPr/>
        </p:nvPicPr>
        <p:blipFill>
          <a:blip r:embed="rId1"/>
          <a:stretch/>
        </p:blipFill>
        <p:spPr>
          <a:xfrm>
            <a:off x="914400" y="304920"/>
            <a:ext cx="936720" cy="100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609480" y="1523880"/>
            <a:ext cx="3105360" cy="3419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419720" y="1905120"/>
            <a:ext cx="4011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Синдактилия – сращение пальцев, наследуется как доминантный, аутосомный признак. Какова вероятность рождения детей со сросшимися пальцами в семье, где один из родителей гетерозиготен по анализируемому признак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пыты Менделя по дигибридному скрещивани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Cloud"/>
          <p:cNvSpPr/>
          <p:nvPr/>
        </p:nvSpPr>
        <p:spPr>
          <a:xfrm>
            <a:off x="5292720" y="1989000"/>
            <a:ext cx="503280" cy="3384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48000" y="1916280"/>
            <a:ext cx="432000" cy="433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27640" y="2060640"/>
            <a:ext cx="2156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427280" y="2060640"/>
            <a:ext cx="2156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156360" y="1916280"/>
            <a:ext cx="10033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а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908000" y="1989000"/>
            <a:ext cx="1079640" cy="3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АВ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3500280"/>
            <a:ext cx="43164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58920" y="1844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58920" y="2565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95640" y="2565360"/>
            <a:ext cx="4651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372360" y="2637000"/>
            <a:ext cx="51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00360" y="2997360"/>
            <a:ext cx="172728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787640" y="3068640"/>
            <a:ext cx="1655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067280" y="2781360"/>
            <a:ext cx="1325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AaB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58920" y="328464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F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4221000"/>
            <a:ext cx="43200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35640" y="4221000"/>
            <a:ext cx="43164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58920" y="4005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58920" y="4797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908000" y="501336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340000" y="4941720"/>
            <a:ext cx="2872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700360" y="5013360"/>
            <a:ext cx="3603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132000" y="5013360"/>
            <a:ext cx="28764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87280" y="5516640"/>
            <a:ext cx="5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F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24360" y="5661000"/>
            <a:ext cx="43200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19640" y="5661000"/>
            <a:ext cx="43200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16360" y="5661000"/>
            <a:ext cx="43200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11640" y="5661000"/>
            <a:ext cx="43164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08360" y="5661000"/>
            <a:ext cx="43200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03640" y="5661000"/>
            <a:ext cx="43164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00360" y="5661000"/>
            <a:ext cx="43164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95640" y="5661000"/>
            <a:ext cx="43164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92360" y="5661000"/>
            <a:ext cx="43164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loud"/>
          <p:cNvSpPr/>
          <p:nvPr/>
        </p:nvSpPr>
        <p:spPr>
          <a:xfrm>
            <a:off x="5219640" y="6237360"/>
            <a:ext cx="503280" cy="33804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loud"/>
          <p:cNvSpPr/>
          <p:nvPr/>
        </p:nvSpPr>
        <p:spPr>
          <a:xfrm>
            <a:off x="2771640" y="6237360"/>
            <a:ext cx="503280" cy="3380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loud"/>
          <p:cNvSpPr/>
          <p:nvPr/>
        </p:nvSpPr>
        <p:spPr>
          <a:xfrm>
            <a:off x="2195640" y="6237360"/>
            <a:ext cx="503280" cy="3380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loud"/>
          <p:cNvSpPr/>
          <p:nvPr/>
        </p:nvSpPr>
        <p:spPr>
          <a:xfrm>
            <a:off x="1619280" y="6165720"/>
            <a:ext cx="503280" cy="338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27640" y="6165720"/>
            <a:ext cx="431640" cy="4334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24360" y="6165720"/>
            <a:ext cx="431640" cy="4334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19640" y="6165720"/>
            <a:ext cx="431640" cy="4334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16720" y="5589720"/>
            <a:ext cx="216000" cy="1079280"/>
          </a:xfrm>
          <a:custGeom>
            <a:avLst/>
            <a:gdLst>
              <a:gd name="textAreaLeft" fmla="*/ 0 w 216000"/>
              <a:gd name="textAreaRight" fmla="*/ 78120 w 21600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948360" y="5589720"/>
            <a:ext cx="21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9:3:3: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64000" y="501336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796000" y="4941720"/>
            <a:ext cx="2872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156360" y="5013360"/>
            <a:ext cx="3603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588000" y="5013360"/>
            <a:ext cx="28764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Цитологические основы дигибридного скрещи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4400" y="2602440"/>
            <a:ext cx="1250280" cy="2449800"/>
            <a:chOff x="14400" y="2602440"/>
            <a:chExt cx="1250280" cy="2449800"/>
          </a:xfrm>
        </p:grpSpPr>
        <p:sp>
          <p:nvSpPr>
            <p:cNvPr id="182" name=""/>
            <p:cNvSpPr/>
            <p:nvPr/>
          </p:nvSpPr>
          <p:spPr>
            <a:xfrm rot="20263200">
              <a:off x="468360" y="2565000"/>
              <a:ext cx="286920" cy="245124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286400">
              <a:off x="538920" y="2633040"/>
              <a:ext cx="287280" cy="245124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394640" y="2671560"/>
            <a:ext cx="1224360" cy="2382840"/>
            <a:chOff x="1394640" y="2671560"/>
            <a:chExt cx="1224360" cy="2382840"/>
          </a:xfrm>
        </p:grpSpPr>
        <p:sp>
          <p:nvSpPr>
            <p:cNvPr id="185" name=""/>
            <p:cNvSpPr/>
            <p:nvPr/>
          </p:nvSpPr>
          <p:spPr>
            <a:xfrm rot="20263200">
              <a:off x="1835280" y="2636640"/>
              <a:ext cx="286920" cy="238176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286400">
              <a:off x="1906200" y="2702160"/>
              <a:ext cx="287280" cy="238176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 txBox="1"/>
          <p:nvPr/>
        </p:nvSpPr>
        <p:spPr>
          <a:xfrm>
            <a:off x="179280" y="2781360"/>
            <a:ext cx="314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476360" y="2708280"/>
            <a:ext cx="314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651640" y="1916280"/>
            <a:ext cx="3492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Гомологичные хромосо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Аллельные гены(2 па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Доминантный при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Гомозиготные осо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Чистые ли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Закон единообра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24360" y="4437000"/>
            <a:ext cx="31687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Закон независимого наследования призна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Гетерозиготные особи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 одной паре призна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547640" y="1989000"/>
            <a:ext cx="2781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АВ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691000" y="2671200"/>
            <a:ext cx="1225440" cy="2385000"/>
            <a:chOff x="2691000" y="2671200"/>
            <a:chExt cx="1225440" cy="2385000"/>
          </a:xfrm>
        </p:grpSpPr>
        <p:sp>
          <p:nvSpPr>
            <p:cNvPr id="193" name=""/>
            <p:cNvSpPr/>
            <p:nvPr/>
          </p:nvSpPr>
          <p:spPr>
            <a:xfrm rot="20263200">
              <a:off x="3132000" y="2636640"/>
              <a:ext cx="287280" cy="238356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286400">
              <a:off x="3202920" y="2702160"/>
              <a:ext cx="287640" cy="238356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 txBox="1"/>
          <p:nvPr/>
        </p:nvSpPr>
        <p:spPr>
          <a:xfrm>
            <a:off x="3492360" y="4437000"/>
            <a:ext cx="287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059720" y="2742840"/>
            <a:ext cx="1225080" cy="2384640"/>
            <a:chOff x="4059720" y="2742840"/>
            <a:chExt cx="1225080" cy="2384640"/>
          </a:xfrm>
        </p:grpSpPr>
        <p:sp>
          <p:nvSpPr>
            <p:cNvPr id="197" name=""/>
            <p:cNvSpPr/>
            <p:nvPr/>
          </p:nvSpPr>
          <p:spPr>
            <a:xfrm rot="20263200">
              <a:off x="4500720" y="2707920"/>
              <a:ext cx="286920" cy="238356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286400">
              <a:off x="4571640" y="2773440"/>
              <a:ext cx="287280" cy="2383560"/>
            </a:xfrm>
            <a:prstGeom prst="flowChartTermina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 txBox="1"/>
          <p:nvPr/>
        </p:nvSpPr>
        <p:spPr>
          <a:xfrm>
            <a:off x="4859280" y="4508640"/>
            <a:ext cx="333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4000" y="4365720"/>
            <a:ext cx="276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788000" y="4508640"/>
            <a:ext cx="276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203640" y="620640"/>
            <a:ext cx="338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aabb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213372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гласно какому закону Менделя в потомстве может появиться определенное число особей с рецессивными признак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700360" y="3284640"/>
            <a:ext cx="3373560" cy="81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AaBb  x   AaBb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422100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колько в % отношении особей будет иметь такой генотип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411280" y="4653000"/>
            <a:ext cx="1513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aabb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859280" y="6021360"/>
            <a:ext cx="325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аbb х  Аа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508464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колько в % отношении особей будет иметь такой генотип 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сли родители имеют геноти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268360" y="5516640"/>
            <a:ext cx="1513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aabb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1908000" y="620640"/>
            <a:ext cx="5976360" cy="5976720"/>
            <a:chOff x="1908000" y="620640"/>
            <a:chExt cx="5976360" cy="5976720"/>
          </a:xfrm>
        </p:grpSpPr>
        <p:sp>
          <p:nvSpPr>
            <p:cNvPr id="211" name=""/>
            <p:cNvSpPr/>
            <p:nvPr/>
          </p:nvSpPr>
          <p:spPr>
            <a:xfrm>
              <a:off x="6689520" y="1815480"/>
              <a:ext cx="119484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08000" y="62064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02840" y="620640"/>
              <a:ext cx="119556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98760" y="62064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93960" y="620640"/>
              <a:ext cx="119556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89520" y="62064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93960" y="1815480"/>
              <a:ext cx="119556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02840" y="1815480"/>
              <a:ext cx="119556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02840" y="3011400"/>
              <a:ext cx="119556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02840" y="4206600"/>
              <a:ext cx="119556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02840" y="5401800"/>
              <a:ext cx="119556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98760" y="1815480"/>
              <a:ext cx="119484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98760" y="301140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98760" y="420660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98760" y="5401800"/>
              <a:ext cx="119484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93960" y="5401800"/>
              <a:ext cx="119556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93960" y="4206600"/>
              <a:ext cx="119556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93960" y="3011400"/>
              <a:ext cx="119556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89520" y="5401800"/>
              <a:ext cx="119484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89520" y="420660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89520" y="301140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08000" y="1815480"/>
              <a:ext cx="119484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08000" y="301140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08000" y="4206600"/>
              <a:ext cx="1194840" cy="1194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08000" y="5401800"/>
              <a:ext cx="1194840" cy="1195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 txBox="1"/>
          <p:nvPr/>
        </p:nvSpPr>
        <p:spPr>
          <a:xfrm>
            <a:off x="3348000" y="1052640"/>
            <a:ext cx="57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948360" y="981000"/>
            <a:ext cx="64944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940360" y="1052640"/>
            <a:ext cx="4478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00720" y="981000"/>
            <a:ext cx="590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124000" y="2133720"/>
            <a:ext cx="57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68360" y="5734080"/>
            <a:ext cx="6494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268360" y="4581360"/>
            <a:ext cx="4478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268360" y="3357720"/>
            <a:ext cx="5907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276720" y="2060640"/>
            <a:ext cx="89676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427640" y="2060640"/>
            <a:ext cx="934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804000" y="2060640"/>
            <a:ext cx="863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508720" y="2060640"/>
            <a:ext cx="100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427640" y="3213000"/>
            <a:ext cx="93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651640" y="3213000"/>
            <a:ext cx="934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877080" y="3213000"/>
            <a:ext cx="86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03640" y="4437000"/>
            <a:ext cx="100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427640" y="4437000"/>
            <a:ext cx="934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580000" y="4437000"/>
            <a:ext cx="100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04000" y="4437000"/>
            <a:ext cx="10047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76720" y="5589720"/>
            <a:ext cx="934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00720" y="5589720"/>
            <a:ext cx="86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580000" y="5589720"/>
            <a:ext cx="10051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04000" y="5589720"/>
            <a:ext cx="9558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564000" y="2276640"/>
            <a:ext cx="431640" cy="433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16360" y="2276640"/>
            <a:ext cx="432000" cy="433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2276640"/>
            <a:ext cx="432000" cy="433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020000" y="2276640"/>
            <a:ext cx="431640" cy="433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940360" y="3429000"/>
            <a:ext cx="43200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64000" y="4581360"/>
            <a:ext cx="43164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716360" y="4724280"/>
            <a:ext cx="43200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64000" y="5805360"/>
            <a:ext cx="43164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4653000"/>
            <a:ext cx="432000" cy="4334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164360" y="4653000"/>
            <a:ext cx="432000" cy="4334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940360" y="5805360"/>
            <a:ext cx="432000" cy="4334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loud"/>
          <p:cNvSpPr/>
          <p:nvPr/>
        </p:nvSpPr>
        <p:spPr>
          <a:xfrm>
            <a:off x="4716360" y="3500280"/>
            <a:ext cx="503280" cy="338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loud"/>
          <p:cNvSpPr/>
          <p:nvPr/>
        </p:nvSpPr>
        <p:spPr>
          <a:xfrm>
            <a:off x="7020000" y="3429000"/>
            <a:ext cx="503280" cy="3380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loud"/>
          <p:cNvSpPr/>
          <p:nvPr/>
        </p:nvSpPr>
        <p:spPr>
          <a:xfrm>
            <a:off x="4572000" y="5877000"/>
            <a:ext cx="503280" cy="3380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Cloud"/>
          <p:cNvSpPr/>
          <p:nvPr/>
        </p:nvSpPr>
        <p:spPr>
          <a:xfrm>
            <a:off x="6948360" y="5877000"/>
            <a:ext cx="503280" cy="33804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276720" y="3213000"/>
            <a:ext cx="89676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AB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92360" y="3500280"/>
            <a:ext cx="43200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388360" y="6237360"/>
            <a:ext cx="755640" cy="620640"/>
          </a:xfrm>
          <a:custGeom>
            <a:avLst/>
            <a:gdLst>
              <a:gd name="textAreaLeft" fmla="*/ 39960 w 755640"/>
              <a:gd name="textAreaRight" fmla="*/ 715680 w 755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13148" y="3837"/>
                </a:moveTo>
                <a:lnTo>
                  <a:pt x="15724" y="6448"/>
                </a:ln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lnTo>
                  <a:pt x="20111" y="10800"/>
                </a:lnTo>
                <a:lnTo>
                  <a:pt x="18457" y="10800"/>
                </a:lnTo>
                <a:lnTo>
                  <a:pt x="18457" y="17989"/>
                </a:lnTo>
                <a:lnTo>
                  <a:pt x="7839" y="17989"/>
                </a:lnTo>
                <a:lnTo>
                  <a:pt x="7839" y="10800"/>
                </a:lnTo>
                <a:lnTo>
                  <a:pt x="6185" y="10800"/>
                </a:lnTo>
                <a:close/>
              </a:path>
              <a:path fill="darkenLess" w="26296" h="21600">
                <a:moveTo>
                  <a:pt x="15724" y="6448"/>
                </a:move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close/>
              </a:path>
              <a:path fill="darkenLess" w="26296" h="21600">
                <a:moveTo>
                  <a:pt x="12225" y="14299"/>
                </a:moveTo>
                <a:lnTo>
                  <a:pt x="14070" y="14299"/>
                </a:lnTo>
                <a:lnTo>
                  <a:pt x="14070" y="17989"/>
                </a:lnTo>
                <a:lnTo>
                  <a:pt x="18457" y="17989"/>
                </a:lnTo>
                <a:lnTo>
                  <a:pt x="18457" y="10800"/>
                </a:lnTo>
                <a:lnTo>
                  <a:pt x="7839" y="10800"/>
                </a:lnTo>
                <a:lnTo>
                  <a:pt x="7839" y="17989"/>
                </a:lnTo>
                <a:lnTo>
                  <a:pt x="12225" y="17989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7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f01"/>
                                      </p:to>
                                    </p:animClr>
                                    <p:set>
                                      <p:cBhvr>
                                        <p:cTn id="43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4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46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5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54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59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4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5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7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8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0099"/>
                                      </p:to>
                                    </p:animClr>
                                    <p:set>
                                      <p:cBhvr>
                                        <p:cTn id="473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0099"/>
                                      </p:to>
                                    </p:animClr>
                                    <p:set>
                                      <p:cBhvr>
                                        <p:cTn id="47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0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  <p:set>
                                      <p:cBhvr>
                                        <p:cTn id="481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486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8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489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ешите задачу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меются черные длинношерстные кошки и сиамские короткошерстные. И те и другие гомозиготны по длине шерсти и окраске. Известно, что черный цвет и короткошерстность - доминантные признаки. Предложите систему скрещиваний для выведения породы длинношерстных кошек с окраской шерсти, характерной для сиамских кошек. Определите вероятность появления кошек с таким фенотипом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580000" y="4653000"/>
            <a:ext cx="2160720" cy="19429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1979640" y="4797360"/>
            <a:ext cx="1800360" cy="17128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48360" y="549360"/>
            <a:ext cx="673200" cy="56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15:09:52Z</dcterms:created>
  <dc:creator>Ольга</dc:creator>
  <dc:description/>
  <dc:language>en-US</dc:language>
  <cp:lastModifiedBy>трофимова</cp:lastModifiedBy>
  <dcterms:modified xsi:type="dcterms:W3CDTF">2012-02-24T06:10:49Z</dcterms:modified>
  <cp:revision>15</cp:revision>
  <dc:subject/>
  <dc:title>Слайд 1</dc:title>
</cp:coreProperties>
</file>