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6C2-E0E1-44E0-8C03-0475632E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A53-CFA6-46A3-8B0D-D2F364BA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3C7-C671-493A-89E6-1CB63964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954-F56C-4197-A734-8C9F6E2D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8593-8E9D-4F29-987B-D8D47CB2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BEE-BE45-40EC-88BF-016A1F7E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CF28-F999-45D8-BDBE-3198700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038A-BC84-4E0D-925F-7A03407F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A9A2-5777-4A9C-9030-A1F60DAE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CC7D-93DB-4109-A25D-CDB512B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D128-3101-49A1-8A6C-BB3036E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5D3-861C-4C5A-AB0D-843973A3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2E19-48DA-472E-A202-1CF0B6B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1A3A-F540-425F-ADC4-203136E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B6C-7507-4B80-90B1-4CDEA0B9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AFF-97CE-404C-9D6F-6A88F49E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6922-EDD0-444E-9D63-87E83FDA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876-5F15-441C-B0B9-63047E97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6AB-180B-4B04-96CB-7B2F978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0AD-FDE1-4499-B0A6-0F318B1B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CDA-5C55-4BBE-A8B6-E88D9424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CB7-FF52-4EE9-BE5E-13A69CB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8EC-90A6-4D2B-BC93-B8E5C54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4A1-6EE8-4E54-A236-AC4D10C4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28C-F1B5-4A04-8EC5-3C277F0D515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076-D360-4543-A1BE-4FE0F36EE68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hyperlink" Target="http://127.edu.ru/forum/style_emoticons/default/tomato.gif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920" y="2060640"/>
            <a:ext cx="7705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Основы дигибридног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скрещива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1800000" cy="1712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524720" y="4653000"/>
            <a:ext cx="13939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60280" y="4528440"/>
            <a:ext cx="553320" cy="1113120"/>
            <a:chOff x="260280" y="4528440"/>
            <a:chExt cx="553320" cy="1113120"/>
          </a:xfrm>
        </p:grpSpPr>
        <p:sp>
          <p:nvSpPr>
            <p:cNvPr id="103" name=""/>
            <p:cNvSpPr/>
            <p:nvPr/>
          </p:nvSpPr>
          <p:spPr>
            <a:xfrm rot="20263200">
              <a:off x="468000" y="4508640"/>
              <a:ext cx="11556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286400">
              <a:off x="496800" y="453924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8840" y="4961520"/>
            <a:ext cx="553320" cy="1113840"/>
            <a:chOff x="618840" y="4961520"/>
            <a:chExt cx="553320" cy="1113840"/>
          </a:xfrm>
        </p:grpSpPr>
        <p:sp>
          <p:nvSpPr>
            <p:cNvPr id="106" name=""/>
            <p:cNvSpPr/>
            <p:nvPr/>
          </p:nvSpPr>
          <p:spPr>
            <a:xfrm rot="20263200">
              <a:off x="826560" y="4941360"/>
              <a:ext cx="115920" cy="112032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286400">
              <a:off x="855360" y="4972680"/>
              <a:ext cx="115920" cy="112032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79200" y="5464800"/>
            <a:ext cx="553320" cy="1113120"/>
            <a:chOff x="979200" y="5464800"/>
            <a:chExt cx="553320" cy="1113120"/>
          </a:xfrm>
        </p:grpSpPr>
        <p:sp>
          <p:nvSpPr>
            <p:cNvPr id="109" name=""/>
            <p:cNvSpPr/>
            <p:nvPr/>
          </p:nvSpPr>
          <p:spPr>
            <a:xfrm rot="20263200">
              <a:off x="1186920" y="544464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286400">
              <a:off x="1215720" y="547560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5580000" y="549360"/>
            <a:ext cx="278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Решение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введем обозначения: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черный окрас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короткая шерсть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сиамский окрас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длинная шер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1844640"/>
          <a:ext cx="8229600" cy="4908600"/>
        </p:xfrm>
        <a:graphic>
          <a:graphicData uri="http://schemas.openxmlformats.org/drawingml/2006/table">
            <a:tbl>
              <a:tblPr/>
              <a:tblGrid>
                <a:gridCol w="2170080"/>
                <a:gridCol w="2952720"/>
                <a:gridCol w="3106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нотипы родител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отипы родител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ме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отипы потом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нотип потом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429000" y="317016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10" descr="Image10.gif (989 bytes)"/>
          <p:cNvPicPr/>
          <p:nvPr/>
        </p:nvPicPr>
        <p:blipFill>
          <a:blip r:embed="rId1"/>
          <a:stretch/>
        </p:blipFill>
        <p:spPr>
          <a:xfrm>
            <a:off x="3564000" y="3645000"/>
            <a:ext cx="1224000" cy="903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292560" y="3170160"/>
            <a:ext cx="256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age12" descr="Image12.gif (981 bytes)"/>
          <p:cNvPicPr/>
          <p:nvPr/>
        </p:nvPicPr>
        <p:blipFill>
          <a:blip r:embed="rId2"/>
          <a:stretch/>
        </p:blipFill>
        <p:spPr>
          <a:xfrm>
            <a:off x="6516720" y="364500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27280" y="19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рные дл-ш             сиамские к-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11480" y="3876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27280" y="2924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Авв             х            ааВ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86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аВ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5734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е короткошерс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590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крестили растения томатов с красными грушевидными плодами с растением с желтыми круглыми плодами. В F1 получили 50% красных круглых и 50% желтых круглых. От скрещивания растений с желтыми круглыми плодами из F1 получили 75% желтых круглых и 25% желтых грушевидных. Какой признак, определяющий, форму доминирует? Каковы генотипы родителей, гибридов F1 и F2, если красная окраска плодов доминирует?</a:t>
            </a:r>
            <a:br>
              <a:rPr sz="2000"/>
            </a:b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516720" y="2133720"/>
            <a:ext cx="2373120" cy="3311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1081080" cy="5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   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Решение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введем обозначения: А - красные плоды, В - круглая форма  а - желтые плоды, в - грушевидная форм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00720" y="1844640"/>
          <a:ext cx="4181400" cy="4464000"/>
        </p:xfrm>
        <a:graphic>
          <a:graphicData uri="http://schemas.openxmlformats.org/drawingml/2006/table">
            <a:tbl>
              <a:tblPr/>
              <a:tblGrid>
                <a:gridCol w="1295280"/>
                <a:gridCol w="1440000"/>
                <a:gridCol w="1446120"/>
              </a:tblGrid>
              <a:tr h="102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2:    ааВв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95280" y="1844640"/>
          <a:ext cx="3643200" cy="45259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113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1  Аавв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rot="20263200">
            <a:off x="3203640" y="62064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260280"/>
            <a:ext cx="4824360" cy="309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263200">
            <a:off x="4284360" y="54900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4437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263200">
            <a:off x="3203640" y="62064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24360" y="2565360"/>
            <a:ext cx="2808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286400">
            <a:off x="2268000" y="765000"/>
            <a:ext cx="34632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286400">
            <a:off x="1116000" y="692280"/>
            <a:ext cx="345960" cy="175248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049280" y="600120"/>
            <a:ext cx="987840" cy="1822680"/>
            <a:chOff x="4049280" y="600120"/>
            <a:chExt cx="987840" cy="1822680"/>
          </a:xfrm>
        </p:grpSpPr>
        <p:sp>
          <p:nvSpPr>
            <p:cNvPr id="310" name=""/>
            <p:cNvSpPr/>
            <p:nvPr/>
          </p:nvSpPr>
          <p:spPr>
            <a:xfrm rot="1286400">
              <a:off x="4370040" y="60012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211640" y="191628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980800" y="665640"/>
            <a:ext cx="962640" cy="1757880"/>
            <a:chOff x="2980800" y="665640"/>
            <a:chExt cx="962640" cy="1757880"/>
          </a:xfrm>
        </p:grpSpPr>
        <p:sp>
          <p:nvSpPr>
            <p:cNvPr id="313" name=""/>
            <p:cNvSpPr/>
            <p:nvPr/>
          </p:nvSpPr>
          <p:spPr>
            <a:xfrm rot="1286400">
              <a:off x="3288960" y="66816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132000" y="191628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23600" y="764640"/>
            <a:ext cx="984960" cy="1753200"/>
            <a:chOff x="723600" y="764640"/>
            <a:chExt cx="984960" cy="1753200"/>
          </a:xfrm>
        </p:grpSpPr>
        <p:sp>
          <p:nvSpPr>
            <p:cNvPr id="316" name=""/>
            <p:cNvSpPr/>
            <p:nvPr/>
          </p:nvSpPr>
          <p:spPr>
            <a:xfrm rot="20263200">
              <a:off x="1042920" y="764640"/>
              <a:ext cx="34632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900000" y="76500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876320" y="620640"/>
            <a:ext cx="984600" cy="1752840"/>
            <a:chOff x="1876320" y="620640"/>
            <a:chExt cx="984600" cy="1752840"/>
          </a:xfrm>
        </p:grpSpPr>
        <p:sp>
          <p:nvSpPr>
            <p:cNvPr id="319" name=""/>
            <p:cNvSpPr/>
            <p:nvPr/>
          </p:nvSpPr>
          <p:spPr>
            <a:xfrm rot="20263200">
              <a:off x="2195640" y="62064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050920" y="69228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23600" y="764640"/>
            <a:ext cx="984960" cy="1753200"/>
            <a:chOff x="723600" y="764640"/>
            <a:chExt cx="984960" cy="1753200"/>
          </a:xfrm>
        </p:grpSpPr>
        <p:sp>
          <p:nvSpPr>
            <p:cNvPr id="322" name=""/>
            <p:cNvSpPr/>
            <p:nvPr/>
          </p:nvSpPr>
          <p:spPr>
            <a:xfrm rot="20263200">
              <a:off x="1042920" y="764640"/>
              <a:ext cx="34632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900000" y="76500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876320" y="620640"/>
            <a:ext cx="984600" cy="1752840"/>
            <a:chOff x="1876320" y="620640"/>
            <a:chExt cx="984600" cy="1752840"/>
          </a:xfrm>
        </p:grpSpPr>
        <p:sp>
          <p:nvSpPr>
            <p:cNvPr id="325" name=""/>
            <p:cNvSpPr/>
            <p:nvPr/>
          </p:nvSpPr>
          <p:spPr>
            <a:xfrm rot="20263200">
              <a:off x="2195640" y="62064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050920" y="69228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049280" y="620640"/>
            <a:ext cx="987840" cy="1822680"/>
            <a:chOff x="4049280" y="620640"/>
            <a:chExt cx="987840" cy="1822680"/>
          </a:xfrm>
        </p:grpSpPr>
        <p:sp>
          <p:nvSpPr>
            <p:cNvPr id="328" name=""/>
            <p:cNvSpPr/>
            <p:nvPr/>
          </p:nvSpPr>
          <p:spPr>
            <a:xfrm rot="1286400">
              <a:off x="4370040" y="62064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211640" y="193680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11355 L -0.06614 0.50162 E">
                                      <p:cBhvr>
                                        <p:cTn id="57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12673E-006 L -0.29514 0.51573 E">
                                      <p:cBhvr>
                                        <p:cTn id="575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9362E-006 L 0.00486 0.5437 E">
                                      <p:cBhvr>
                                        <p:cTn id="579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037 L -0.22447 0.54232 E">
                                      <p:cBhvr>
                                        <p:cTn id="58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791360" y="838800"/>
            <a:ext cx="1011240" cy="1817640"/>
            <a:chOff x="1791360" y="838800"/>
            <a:chExt cx="1011240" cy="1817640"/>
          </a:xfrm>
        </p:grpSpPr>
        <p:sp>
          <p:nvSpPr>
            <p:cNvPr id="331" name=""/>
            <p:cNvSpPr/>
            <p:nvPr/>
          </p:nvSpPr>
          <p:spPr>
            <a:xfrm rot="20263200">
              <a:off x="2123640" y="836280"/>
              <a:ext cx="34632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979640" y="90792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286400">
            <a:off x="2195280" y="90792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263200">
            <a:off x="4787640" y="69192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263200">
            <a:off x="6156000" y="69192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286400">
            <a:off x="3492000" y="907920"/>
            <a:ext cx="34632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87000" y="839160"/>
            <a:ext cx="1010880" cy="1817280"/>
            <a:chOff x="3087000" y="839160"/>
            <a:chExt cx="1010880" cy="1817280"/>
          </a:xfrm>
        </p:grpSpPr>
        <p:sp>
          <p:nvSpPr>
            <p:cNvPr id="338" name=""/>
            <p:cNvSpPr/>
            <p:nvPr/>
          </p:nvSpPr>
          <p:spPr>
            <a:xfrm rot="20263200">
              <a:off x="3419280" y="83628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3203640" y="907920"/>
              <a:ext cx="2728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550760" y="762480"/>
            <a:ext cx="962640" cy="1757880"/>
            <a:chOff x="4550760" y="762480"/>
            <a:chExt cx="962640" cy="1757880"/>
          </a:xfrm>
        </p:grpSpPr>
        <p:sp>
          <p:nvSpPr>
            <p:cNvPr id="341" name=""/>
            <p:cNvSpPr/>
            <p:nvPr/>
          </p:nvSpPr>
          <p:spPr>
            <a:xfrm rot="1286400">
              <a:off x="4858920" y="76500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716360" y="206064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847840" y="762480"/>
            <a:ext cx="962640" cy="1757880"/>
            <a:chOff x="5847840" y="762480"/>
            <a:chExt cx="962640" cy="1757880"/>
          </a:xfrm>
        </p:grpSpPr>
        <p:sp>
          <p:nvSpPr>
            <p:cNvPr id="344" name=""/>
            <p:cNvSpPr/>
            <p:nvPr/>
          </p:nvSpPr>
          <p:spPr>
            <a:xfrm rot="1286400">
              <a:off x="6156000" y="76500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6012000" y="2060640"/>
              <a:ext cx="2030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00000" y="1413000"/>
            <a:ext cx="1223640" cy="3574800"/>
            <a:chOff x="900000" y="1413000"/>
            <a:chExt cx="1223640" cy="3574800"/>
          </a:xfrm>
        </p:grpSpPr>
        <p:sp>
          <p:nvSpPr>
            <p:cNvPr id="347" name=""/>
            <p:cNvSpPr txBox="1"/>
            <p:nvPr/>
          </p:nvSpPr>
          <p:spPr>
            <a:xfrm>
              <a:off x="900000" y="450864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042560" y="1413000"/>
              <a:ext cx="108108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187280" y="2421000"/>
            <a:ext cx="3528720" cy="2566800"/>
            <a:chOff x="1187280" y="2421000"/>
            <a:chExt cx="3528720" cy="2566800"/>
          </a:xfrm>
        </p:grpSpPr>
        <p:sp>
          <p:nvSpPr>
            <p:cNvPr id="350" name=""/>
            <p:cNvSpPr txBox="1"/>
            <p:nvPr/>
          </p:nvSpPr>
          <p:spPr>
            <a:xfrm>
              <a:off x="1187280" y="457992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331640" y="2421000"/>
              <a:ext cx="338436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24000" y="1413000"/>
            <a:ext cx="731880" cy="3574800"/>
            <a:chOff x="2124000" y="1413000"/>
            <a:chExt cx="731880" cy="3574800"/>
          </a:xfrm>
        </p:grpSpPr>
        <p:sp>
          <p:nvSpPr>
            <p:cNvPr id="353" name=""/>
            <p:cNvSpPr txBox="1"/>
            <p:nvPr/>
          </p:nvSpPr>
          <p:spPr>
            <a:xfrm>
              <a:off x="2627280" y="450864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4000" y="1413000"/>
              <a:ext cx="57636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43280" y="2421000"/>
            <a:ext cx="3168360" cy="2592360"/>
            <a:chOff x="2843280" y="2421000"/>
            <a:chExt cx="3168360" cy="2592360"/>
          </a:xfrm>
        </p:grpSpPr>
        <p:sp>
          <p:nvSpPr>
            <p:cNvPr id="356" name=""/>
            <p:cNvSpPr txBox="1"/>
            <p:nvPr/>
          </p:nvSpPr>
          <p:spPr>
            <a:xfrm>
              <a:off x="2843280" y="4579920"/>
              <a:ext cx="2030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916000" y="2421000"/>
              <a:ext cx="3095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76720" y="1197000"/>
            <a:ext cx="1279440" cy="3741840"/>
            <a:chOff x="3276720" y="1197000"/>
            <a:chExt cx="1279440" cy="3741840"/>
          </a:xfrm>
        </p:grpSpPr>
        <p:sp>
          <p:nvSpPr>
            <p:cNvPr id="359" name=""/>
            <p:cNvSpPr txBox="1"/>
            <p:nvPr/>
          </p:nvSpPr>
          <p:spPr>
            <a:xfrm>
              <a:off x="4282920" y="4651200"/>
              <a:ext cx="2732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1197000"/>
              <a:ext cx="115092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72000" y="2421000"/>
            <a:ext cx="216000" cy="2495520"/>
            <a:chOff x="4572000" y="2421000"/>
            <a:chExt cx="216000" cy="2495520"/>
          </a:xfrm>
        </p:grpSpPr>
        <p:sp>
          <p:nvSpPr>
            <p:cNvPr id="362" name=""/>
            <p:cNvSpPr txBox="1"/>
            <p:nvPr/>
          </p:nvSpPr>
          <p:spPr>
            <a:xfrm>
              <a:off x="4572000" y="450864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643280" y="2421000"/>
              <a:ext cx="14472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348000" y="1197000"/>
            <a:ext cx="3008520" cy="3741840"/>
            <a:chOff x="3348000" y="1197000"/>
            <a:chExt cx="3008520" cy="3741840"/>
          </a:xfrm>
        </p:grpSpPr>
        <p:sp>
          <p:nvSpPr>
            <p:cNvPr id="365" name=""/>
            <p:cNvSpPr txBox="1"/>
            <p:nvPr/>
          </p:nvSpPr>
          <p:spPr>
            <a:xfrm>
              <a:off x="6083280" y="4651200"/>
              <a:ext cx="2732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48000" y="1197000"/>
              <a:ext cx="280836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084720" y="2421000"/>
            <a:ext cx="562320" cy="2520720"/>
            <a:chOff x="6084720" y="2421000"/>
            <a:chExt cx="562320" cy="2520720"/>
          </a:xfrm>
        </p:grpSpPr>
        <p:sp>
          <p:nvSpPr>
            <p:cNvPr id="368" name=""/>
            <p:cNvSpPr txBox="1"/>
            <p:nvPr/>
          </p:nvSpPr>
          <p:spPr>
            <a:xfrm>
              <a:off x="6443640" y="4508640"/>
              <a:ext cx="20340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4720" y="2421000"/>
              <a:ext cx="14292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156360" y="5661000"/>
            <a:ext cx="2549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B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10800" y="8907"/>
                </a:moveTo>
                <a:lnTo>
                  <a:pt x="13376" y="11519"/>
                </a:lnTo>
                <a:lnTo>
                  <a:pt x="13376" y="9778"/>
                </a:lnTo>
                <a:lnTo>
                  <a:pt x="15152" y="9778"/>
                </a:lnTo>
                <a:lnTo>
                  <a:pt x="15152" y="13294"/>
                </a:lnTo>
                <a:lnTo>
                  <a:pt x="17763" y="15870"/>
                </a:lnTo>
                <a:lnTo>
                  <a:pt x="16109" y="15870"/>
                </a:lnTo>
                <a:lnTo>
                  <a:pt x="16109" y="23060"/>
                </a:lnTo>
                <a:lnTo>
                  <a:pt x="5491" y="23060"/>
                </a:lnTo>
                <a:lnTo>
                  <a:pt x="5491" y="15870"/>
                </a:lnTo>
                <a:lnTo>
                  <a:pt x="3837" y="15870"/>
                </a:lnTo>
                <a:close/>
              </a:path>
              <a:path fill="darkenLess" w="21600" h="31741">
                <a:moveTo>
                  <a:pt x="13376" y="11519"/>
                </a:moveTo>
                <a:lnTo>
                  <a:pt x="13376" y="9778"/>
                </a:lnTo>
                <a:lnTo>
                  <a:pt x="15152" y="9778"/>
                </a:lnTo>
                <a:lnTo>
                  <a:pt x="15152" y="13294"/>
                </a:lnTo>
                <a:close/>
              </a:path>
              <a:path fill="darkenLess" w="21600" h="31741">
                <a:moveTo>
                  <a:pt x="9877" y="19369"/>
                </a:moveTo>
                <a:lnTo>
                  <a:pt x="11723" y="19369"/>
                </a:lnTo>
                <a:lnTo>
                  <a:pt x="11723" y="23060"/>
                </a:lnTo>
                <a:lnTo>
                  <a:pt x="16109" y="23060"/>
                </a:lnTo>
                <a:lnTo>
                  <a:pt x="16109" y="15870"/>
                </a:lnTo>
                <a:lnTo>
                  <a:pt x="5491" y="15870"/>
                </a:lnTo>
                <a:lnTo>
                  <a:pt x="5491" y="23060"/>
                </a:lnTo>
                <a:lnTo>
                  <a:pt x="9877" y="2306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908000" y="620640"/>
            <a:ext cx="5976360" cy="5976720"/>
            <a:chOff x="1908000" y="620640"/>
            <a:chExt cx="5976360" cy="5976720"/>
          </a:xfrm>
        </p:grpSpPr>
        <p:sp>
          <p:nvSpPr>
            <p:cNvPr id="373" name=""/>
            <p:cNvSpPr/>
            <p:nvPr/>
          </p:nvSpPr>
          <p:spPr>
            <a:xfrm>
              <a:off x="668952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800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284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9876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396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8952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9396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0284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0284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284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0284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876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9876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9876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9876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9396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396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96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952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8952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8952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800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800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800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800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356400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68360" y="5734080"/>
            <a:ext cx="64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71636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86728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02000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195640" y="220500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95640" y="342900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95640" y="450864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132000" y="2205000"/>
            <a:ext cx="1008360" cy="503280"/>
            <a:chOff x="3132000" y="2205000"/>
            <a:chExt cx="1008360" cy="503280"/>
          </a:xfrm>
        </p:grpSpPr>
        <p:sp>
          <p:nvSpPr>
            <p:cNvPr id="407" name=""/>
            <p:cNvSpPr txBox="1"/>
            <p:nvPr/>
          </p:nvSpPr>
          <p:spPr>
            <a:xfrm>
              <a:off x="3132000" y="2276640"/>
              <a:ext cx="432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3635280" y="2205000"/>
              <a:ext cx="505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04000" y="2205000"/>
            <a:ext cx="1007640" cy="503280"/>
            <a:chOff x="6804000" y="2205000"/>
            <a:chExt cx="1007640" cy="503280"/>
          </a:xfrm>
        </p:grpSpPr>
        <p:sp>
          <p:nvSpPr>
            <p:cNvPr id="410" name=""/>
            <p:cNvSpPr txBox="1"/>
            <p:nvPr/>
          </p:nvSpPr>
          <p:spPr>
            <a:xfrm>
              <a:off x="6804000" y="2276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7306920" y="220500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427640" y="3429000"/>
            <a:ext cx="1007640" cy="503280"/>
            <a:chOff x="4427640" y="3429000"/>
            <a:chExt cx="1007640" cy="503280"/>
          </a:xfrm>
        </p:grpSpPr>
        <p:sp>
          <p:nvSpPr>
            <p:cNvPr id="413" name=""/>
            <p:cNvSpPr txBox="1"/>
            <p:nvPr/>
          </p:nvSpPr>
          <p:spPr>
            <a:xfrm>
              <a:off x="4427640" y="3500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4930560" y="342900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580000" y="4581360"/>
            <a:ext cx="1007640" cy="503280"/>
            <a:chOff x="5580000" y="4581360"/>
            <a:chExt cx="1007640" cy="503280"/>
          </a:xfrm>
        </p:grpSpPr>
        <p:sp>
          <p:nvSpPr>
            <p:cNvPr id="416" name=""/>
            <p:cNvSpPr txBox="1"/>
            <p:nvPr/>
          </p:nvSpPr>
          <p:spPr>
            <a:xfrm>
              <a:off x="5580000" y="465300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082920" y="4581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04000" y="5805360"/>
            <a:ext cx="1007640" cy="503280"/>
            <a:chOff x="6804000" y="5805360"/>
            <a:chExt cx="1007640" cy="503280"/>
          </a:xfrm>
        </p:grpSpPr>
        <p:sp>
          <p:nvSpPr>
            <p:cNvPr id="419" name=""/>
            <p:cNvSpPr txBox="1"/>
            <p:nvPr/>
          </p:nvSpPr>
          <p:spPr>
            <a:xfrm>
              <a:off x="6804000" y="587700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7306920" y="5805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203640" y="5734080"/>
            <a:ext cx="1007640" cy="503280"/>
            <a:chOff x="3203640" y="5734080"/>
            <a:chExt cx="1007640" cy="503280"/>
          </a:xfrm>
        </p:grpSpPr>
        <p:sp>
          <p:nvSpPr>
            <p:cNvPr id="422" name=""/>
            <p:cNvSpPr txBox="1"/>
            <p:nvPr/>
          </p:nvSpPr>
          <p:spPr>
            <a:xfrm>
              <a:off x="3203640" y="580572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706560" y="573408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050920" y="765000"/>
            <a:ext cx="6119640" cy="5876280"/>
            <a:chOff x="2050920" y="765000"/>
            <a:chExt cx="6119640" cy="5876280"/>
          </a:xfrm>
        </p:grpSpPr>
        <p:sp>
          <p:nvSpPr>
            <p:cNvPr id="426" name=""/>
            <p:cNvSpPr/>
            <p:nvPr/>
          </p:nvSpPr>
          <p:spPr>
            <a:xfrm>
              <a:off x="6946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50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74560" y="7650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8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22560" y="7650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6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22560" y="194004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4560" y="194004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4560" y="31158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4560" y="429084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74560" y="546588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8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8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98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8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2560" y="546588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2560" y="429084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22560" y="31158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46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46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46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0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0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0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50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3348000" y="18900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Ab,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635280" y="1268280"/>
            <a:ext cx="5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788000" y="1268280"/>
            <a:ext cx="51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940360" y="1268280"/>
            <a:ext cx="5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093080" y="119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340000" y="2421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484360" y="350028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84360" y="4653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484360" y="57340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348000" y="2421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76720" y="4653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00720" y="2349360"/>
            <a:ext cx="1076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00720" y="4653000"/>
            <a:ext cx="107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796000" y="2421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020000" y="234936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276720" y="3429000"/>
            <a:ext cx="107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348000" y="573408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867280" y="342900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020000" y="458136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5867280" y="573408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0" y="3500280"/>
            <a:ext cx="102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020000" y="3500280"/>
            <a:ext cx="102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3280" y="573408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093080" y="573408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796000" y="472428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6021360"/>
            <a:ext cx="611280" cy="836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836640"/>
              <a:gd name="textAreaBottom" fmla="*/ 797040 h 836640"/>
            </a:gdLst>
            <a:ahLst/>
            <a:rect l="textAreaLeft" t="textAreaTop" r="textAreaRight" b="textAreaBottom"/>
            <a:pathLst>
              <a:path w="21600" h="29559">
                <a:moveTo>
                  <a:pt x="0" y="0"/>
                </a:moveTo>
                <a:lnTo>
                  <a:pt x="21600" y="0"/>
                </a:lnTo>
                <a:lnTo>
                  <a:pt x="21600" y="29559"/>
                </a:lnTo>
                <a:lnTo>
                  <a:pt x="0" y="29559"/>
                </a:lnTo>
                <a:close/>
              </a:path>
              <a:path fill="lightenLess" w="21600" h="29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9">
                <a:moveTo>
                  <a:pt x="21600" y="0"/>
                </a:moveTo>
                <a:lnTo>
                  <a:pt x="21600" y="29559"/>
                </a:lnTo>
                <a:lnTo>
                  <a:pt x="20200" y="28159"/>
                </a:lnTo>
                <a:lnTo>
                  <a:pt x="20200" y="1400"/>
                </a:lnTo>
                <a:close/>
              </a:path>
              <a:path fill="darkenLess" w="21600" h="29559">
                <a:moveTo>
                  <a:pt x="21600" y="29559"/>
                </a:moveTo>
                <a:lnTo>
                  <a:pt x="0" y="29559"/>
                </a:lnTo>
                <a:lnTo>
                  <a:pt x="1400" y="28159"/>
                </a:lnTo>
                <a:lnTo>
                  <a:pt x="20200" y="28159"/>
                </a:lnTo>
                <a:close/>
              </a:path>
              <a:path fill="lighten" w="21600" h="29559">
                <a:moveTo>
                  <a:pt x="0" y="29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9"/>
                </a:lnTo>
                <a:close/>
              </a:path>
              <a:path fill="darken" w="21600" h="29559">
                <a:moveTo>
                  <a:pt x="10800" y="7816"/>
                </a:moveTo>
                <a:lnTo>
                  <a:pt x="13376" y="10427"/>
                </a:lnTo>
                <a:lnTo>
                  <a:pt x="13376" y="8687"/>
                </a:lnTo>
                <a:lnTo>
                  <a:pt x="15152" y="8687"/>
                </a:lnTo>
                <a:lnTo>
                  <a:pt x="15152" y="12203"/>
                </a:lnTo>
                <a:lnTo>
                  <a:pt x="17763" y="14779"/>
                </a:lnTo>
                <a:lnTo>
                  <a:pt x="16109" y="14779"/>
                </a:lnTo>
                <a:lnTo>
                  <a:pt x="16109" y="21969"/>
                </a:lnTo>
                <a:lnTo>
                  <a:pt x="5491" y="21969"/>
                </a:lnTo>
                <a:lnTo>
                  <a:pt x="5491" y="14779"/>
                </a:lnTo>
                <a:lnTo>
                  <a:pt x="3837" y="14779"/>
                </a:lnTo>
                <a:close/>
              </a:path>
              <a:path fill="darkenLess" w="21600" h="29559">
                <a:moveTo>
                  <a:pt x="13376" y="10427"/>
                </a:moveTo>
                <a:lnTo>
                  <a:pt x="13376" y="8687"/>
                </a:lnTo>
                <a:lnTo>
                  <a:pt x="15152" y="8687"/>
                </a:lnTo>
                <a:lnTo>
                  <a:pt x="15152" y="12203"/>
                </a:lnTo>
                <a:close/>
              </a:path>
              <a:path fill="darkenLess" w="21600" h="29559">
                <a:moveTo>
                  <a:pt x="9877" y="18278"/>
                </a:moveTo>
                <a:lnTo>
                  <a:pt x="11723" y="18278"/>
                </a:lnTo>
                <a:lnTo>
                  <a:pt x="11723" y="21969"/>
                </a:lnTo>
                <a:lnTo>
                  <a:pt x="16109" y="21969"/>
                </a:lnTo>
                <a:lnTo>
                  <a:pt x="16109" y="14779"/>
                </a:lnTo>
                <a:lnTo>
                  <a:pt x="5491" y="14779"/>
                </a:lnTo>
                <a:lnTo>
                  <a:pt x="5491" y="21969"/>
                </a:lnTo>
                <a:lnTo>
                  <a:pt x="9877" y="2196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5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думайт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31800" y="2556000"/>
            <a:ext cx="2383200" cy="3982320"/>
            <a:chOff x="631800" y="2556000"/>
            <a:chExt cx="2383200" cy="3982320"/>
          </a:xfrm>
        </p:grpSpPr>
        <p:sp>
          <p:nvSpPr>
            <p:cNvPr id="114" name=""/>
            <p:cNvSpPr/>
            <p:nvPr/>
          </p:nvSpPr>
          <p:spPr>
            <a:xfrm rot="20263200">
              <a:off x="1331640" y="2565000"/>
              <a:ext cx="806760" cy="38523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286400">
              <a:off x="1530720" y="2671200"/>
              <a:ext cx="807840" cy="38523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43080" y="2627640"/>
            <a:ext cx="2383560" cy="3981960"/>
            <a:chOff x="3943080" y="2627640"/>
            <a:chExt cx="2383560" cy="3981960"/>
          </a:xfrm>
        </p:grpSpPr>
        <p:sp>
          <p:nvSpPr>
            <p:cNvPr id="117" name=""/>
            <p:cNvSpPr/>
            <p:nvPr/>
          </p:nvSpPr>
          <p:spPr>
            <a:xfrm rot="20263200">
              <a:off x="4642920" y="2636640"/>
              <a:ext cx="807120" cy="385200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286400">
              <a:off x="4842000" y="2743200"/>
              <a:ext cx="808200" cy="385200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1042920" y="285264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27640" y="285264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1341360"/>
            <a:ext cx="24494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логичные хром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лельные 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минантный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ист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еди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285264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11280" y="4221000"/>
            <a:ext cx="2151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(Аа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979880"/>
            <a:ext cx="26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расщепления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етер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ить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29000" cy="268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Изображение 348"/>
          <p:cNvPicPr/>
          <p:nvPr/>
        </p:nvPicPr>
        <p:blipFill>
          <a:blip r:embed="rId2"/>
          <a:stretch/>
        </p:blipFill>
        <p:spPr>
          <a:xfrm>
            <a:off x="990720" y="304920"/>
            <a:ext cx="93636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19720" y="1676520"/>
            <a:ext cx="414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В медико-генетическую консультацию обратилась молодая пара, собиравшаяся вступить в брак, но обеспокоенная здоровьем будущих детей. Их тревога объясняется тем, что в их семьях имеются случаи рождения детей с шестью пальцами. У жены – шестипалость, муж - здоров. Полидактилия (шестипалость) у человека определяется доминантными аллелями аутосомных г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ить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6" descr="Изображение 348"/>
          <p:cNvPicPr/>
          <p:nvPr/>
        </p:nvPicPr>
        <p:blipFill>
          <a:blip r:embed="rId1"/>
          <a:stretch/>
        </p:blipFill>
        <p:spPr>
          <a:xfrm>
            <a:off x="914400" y="30492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105360" cy="341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1905120"/>
            <a:ext cx="401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Синдактилия – сращение пальцев, наследуется как доминантный, аутосомный признак. Какова вероятность рождения детей со сросшимися пальцами в семье, где один из родителей гетерозиготен по анализируемому призна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ыты Менделя по дигибридному скрещиван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Cloud"/>
          <p:cNvSpPr/>
          <p:nvPr/>
        </p:nvSpPr>
        <p:spPr>
          <a:xfrm>
            <a:off x="5292720" y="1989000"/>
            <a:ext cx="503280" cy="338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191628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060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27280" y="2060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56360" y="1916280"/>
            <a:ext cx="1003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8000" y="1989000"/>
            <a:ext cx="10796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50028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184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256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95640" y="2565360"/>
            <a:ext cx="465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72360" y="263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997360"/>
            <a:ext cx="17272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87640" y="3068640"/>
            <a:ext cx="165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067280" y="2781360"/>
            <a:ext cx="132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AaB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3284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422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422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8000" y="501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40000" y="4941720"/>
            <a:ext cx="2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00360" y="5013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132000" y="5013360"/>
            <a:ext cx="287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51664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5219640" y="6237360"/>
            <a:ext cx="503280" cy="338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loud"/>
          <p:cNvSpPr/>
          <p:nvPr/>
        </p:nvSpPr>
        <p:spPr>
          <a:xfrm>
            <a:off x="2771640" y="623736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loud"/>
          <p:cNvSpPr/>
          <p:nvPr/>
        </p:nvSpPr>
        <p:spPr>
          <a:xfrm>
            <a:off x="2195640" y="623736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"/>
          <p:cNvSpPr/>
          <p:nvPr/>
        </p:nvSpPr>
        <p:spPr>
          <a:xfrm>
            <a:off x="1619280" y="6165720"/>
            <a:ext cx="503280" cy="338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5589720"/>
            <a:ext cx="216000" cy="10792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558972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9:3:3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64000" y="501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96000" y="4941720"/>
            <a:ext cx="2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56360" y="5013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88000" y="5013360"/>
            <a:ext cx="287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итологические основы дигибридного скрещ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00" y="2602440"/>
            <a:ext cx="1250280" cy="2449800"/>
            <a:chOff x="14400" y="2602440"/>
            <a:chExt cx="1250280" cy="2449800"/>
          </a:xfrm>
        </p:grpSpPr>
        <p:sp>
          <p:nvSpPr>
            <p:cNvPr id="182" name=""/>
            <p:cNvSpPr/>
            <p:nvPr/>
          </p:nvSpPr>
          <p:spPr>
            <a:xfrm rot="20263200">
              <a:off x="468360" y="2565000"/>
              <a:ext cx="286920" cy="24512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286400">
              <a:off x="538920" y="2633040"/>
              <a:ext cx="287280" cy="24512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394640" y="2671560"/>
            <a:ext cx="1224360" cy="2382840"/>
            <a:chOff x="1394640" y="2671560"/>
            <a:chExt cx="1224360" cy="2382840"/>
          </a:xfrm>
        </p:grpSpPr>
        <p:sp>
          <p:nvSpPr>
            <p:cNvPr id="185" name=""/>
            <p:cNvSpPr/>
            <p:nvPr/>
          </p:nvSpPr>
          <p:spPr>
            <a:xfrm rot="20263200">
              <a:off x="1835280" y="2636640"/>
              <a:ext cx="286920" cy="23817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286400">
              <a:off x="1906200" y="2702160"/>
              <a:ext cx="287280" cy="23817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>
            <a:off x="179280" y="278136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76360" y="270828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1916280"/>
            <a:ext cx="349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логичные хром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лельные гены(2 п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минантный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ист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еди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4437000"/>
            <a:ext cx="316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кон независимого наследования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етерозиготные особ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одной паре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47640" y="1989000"/>
            <a:ext cx="278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91000" y="2671200"/>
            <a:ext cx="1225440" cy="2385000"/>
            <a:chOff x="2691000" y="2671200"/>
            <a:chExt cx="1225440" cy="2385000"/>
          </a:xfrm>
        </p:grpSpPr>
        <p:sp>
          <p:nvSpPr>
            <p:cNvPr id="193" name=""/>
            <p:cNvSpPr/>
            <p:nvPr/>
          </p:nvSpPr>
          <p:spPr>
            <a:xfrm rot="20263200">
              <a:off x="3132000" y="2636640"/>
              <a:ext cx="28728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286400">
              <a:off x="3202920" y="2702160"/>
              <a:ext cx="28764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492360" y="4437000"/>
            <a:ext cx="28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59720" y="2742840"/>
            <a:ext cx="1225080" cy="2384640"/>
            <a:chOff x="4059720" y="2742840"/>
            <a:chExt cx="1225080" cy="2384640"/>
          </a:xfrm>
        </p:grpSpPr>
        <p:sp>
          <p:nvSpPr>
            <p:cNvPr id="197" name=""/>
            <p:cNvSpPr/>
            <p:nvPr/>
          </p:nvSpPr>
          <p:spPr>
            <a:xfrm rot="20263200">
              <a:off x="4500720" y="2707920"/>
              <a:ext cx="28692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286400">
              <a:off x="4571640" y="2773440"/>
              <a:ext cx="28728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 txBox="1"/>
          <p:nvPr/>
        </p:nvSpPr>
        <p:spPr>
          <a:xfrm>
            <a:off x="4859280" y="450864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4000" y="436572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8000" y="450864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03640" y="620640"/>
            <a:ext cx="338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13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гласно какому закону Менделя в потомстве может появиться определенное число особей с рецессивными призна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00360" y="3284640"/>
            <a:ext cx="337356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  x   AaB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221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колько в % отношении особей будет иметь такой генотип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11280" y="465300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9280" y="6021360"/>
            <a:ext cx="32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bb х  Аа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084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в % отношении особей будет иметь такой генотип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родители имеют ген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68360" y="551664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908000" y="620640"/>
            <a:ext cx="5976360" cy="5976720"/>
            <a:chOff x="1908000" y="620640"/>
            <a:chExt cx="5976360" cy="5976720"/>
          </a:xfrm>
        </p:grpSpPr>
        <p:sp>
          <p:nvSpPr>
            <p:cNvPr id="211" name=""/>
            <p:cNvSpPr/>
            <p:nvPr/>
          </p:nvSpPr>
          <p:spPr>
            <a:xfrm>
              <a:off x="668952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800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0284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9876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396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952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9396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0284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0284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0284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284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876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9876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9876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9876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396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9396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396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52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952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952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800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800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3348000" y="105264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48360" y="981000"/>
            <a:ext cx="649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0360" y="1052640"/>
            <a:ext cx="447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0720" y="981000"/>
            <a:ext cx="59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24000" y="213372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68360" y="5734080"/>
            <a:ext cx="64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68360" y="4581360"/>
            <a:ext cx="447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68360" y="3357720"/>
            <a:ext cx="590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76720" y="2060640"/>
            <a:ext cx="896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27640" y="206064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04000" y="2060640"/>
            <a:ext cx="8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508720" y="206064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427640" y="3213000"/>
            <a:ext cx="93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51640" y="321300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77080" y="321300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03640" y="443700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427640" y="443700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580000" y="443700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04000" y="4437000"/>
            <a:ext cx="1004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76720" y="558972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00720" y="5589720"/>
            <a:ext cx="86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580000" y="5589720"/>
            <a:ext cx="100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04000" y="5589720"/>
            <a:ext cx="955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2276640"/>
            <a:ext cx="4316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27664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27664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20000" y="2276640"/>
            <a:ext cx="4316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3429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458136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580536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65300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465300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80536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4716360" y="3500280"/>
            <a:ext cx="503280" cy="338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020000" y="342900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4572000" y="587700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6948360" y="5877000"/>
            <a:ext cx="503280" cy="338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76720" y="3213000"/>
            <a:ext cx="896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350028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43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4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ются черные длинношерстные кошки и сиамские короткошерстные. И те и другие гомозиготны по длине шерсти и окраске. Известно, что черный цвет и короткошерстность - доминантные признаки. Предложите систему скрещиваний для выведения породы длинношерстных кошек с окраской шерсти, характерной для сиамских кошек. Определите вероятность появления кошек с таким фенотип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580000" y="4653000"/>
            <a:ext cx="2160720" cy="1942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1800360" cy="1712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549360"/>
            <a:ext cx="673200" cy="56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09:52Z</dcterms:created>
  <dc:creator>Ольга</dc:creator>
  <dc:description/>
  <dc:language>en-US</dc:language>
  <cp:lastModifiedBy>трофимова</cp:lastModifiedBy>
  <dcterms:modified xsi:type="dcterms:W3CDTF">2012-02-24T06:10:49Z</dcterms:modified>
  <cp:revision>15</cp:revision>
  <dc:subject/>
  <dc:title>Слайд 1</dc:title>
</cp:coreProperties>
</file>