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0CA0-8B2C-494B-B8D2-35F64951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40CC-D0B3-45D9-AF46-6DE3053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1887-5065-4715-9148-9823D52E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98DD-0EE3-469E-9061-A152C033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2D9-BA69-4766-8109-4D8CD14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F8A5-EA8E-4E4D-8DF6-0B0350A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5FF2-13CE-4744-91CE-79A6D9D3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9122-0CE0-46FD-B82D-91CDB06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3BCC-AB05-4758-A094-3CF5139B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CDF3-CE10-4B9C-ADA1-A31397D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3657-50A3-4E9F-9EA4-2B84462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BE9E-1922-4B93-BA00-C463A90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BE5-2EF8-4AE7-BB17-E05633F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628-270F-4C30-8761-32D1685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DD92-6355-4AE1-A994-4CEBE3B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0DD-DC45-4937-A4C9-2C892903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1259-CA24-4ED3-B5E4-185B485A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5281-3207-4B94-A933-ED09997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52B2-BB56-4596-8F0D-00F34B6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7126-3BD1-4394-9924-E6A2DB57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D420-8BA0-4EC9-9C20-8B5783A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C3E6-87F6-430F-9287-0546B6B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F32A-3120-4B02-B946-AFBEC201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E0EF-C09F-4AFB-B5FF-4295F423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05BF-4D81-495B-AEAC-D51745A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E6C1-7FF8-4E9B-A98C-AA60184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98CD-BCFC-4500-9F83-DAFD8C7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0BF6-A57E-4A3B-8A90-9728F12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4855-A79B-4EE8-910E-306C0D7F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6426-1D64-4BE5-9695-C4D40E77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9A7F-3FE2-44AB-9CBD-C6939FB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8C9A-84CD-4EEC-9A2C-A38F5A0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6D5D-B647-41D5-8ED4-AE52203D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B04E-0C89-4FF3-91D0-0B49CCD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5E90-3E7D-41D9-BA6D-37D1837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D6EE-7F60-47B7-88A0-8900782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EFEC-B4D1-4279-B1E3-63CE2A5961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62E-4D40-4352-9F96-825FDB3D3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A47D-C7EE-459D-984E-BB37A79A18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остэмбриональное развитие</a:t>
            </a:r>
            <a:endParaRPr b="0" lang="en-US" sz="7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666880" y="6283440"/>
            <a:ext cx="3810240" cy="369720"/>
          </a:xfrm>
          <a:prstGeom prst="rect">
            <a:avLst/>
          </a:prstGeom>
          <a:solidFill>
            <a:srgbClr val="000099"/>
          </a:solidFill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Карликовый крокодил"/>
          <p:cNvPicPr/>
          <p:nvPr/>
        </p:nvPicPr>
        <p:blipFill>
          <a:blip r:embed="rId1"/>
          <a:stretch/>
        </p:blipFill>
        <p:spPr>
          <a:xfrm>
            <a:off x="304920" y="3962520"/>
            <a:ext cx="2743200" cy="1741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0" name="Picture 6" descr="25_89"/>
          <p:cNvPicPr/>
          <p:nvPr/>
        </p:nvPicPr>
        <p:blipFill>
          <a:blip r:embed="rId2"/>
          <a:stretch/>
        </p:blipFill>
        <p:spPr>
          <a:xfrm>
            <a:off x="6095880" y="3962520"/>
            <a:ext cx="274320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1" name="Picture 7" descr="Лягушка-бык"/>
          <p:cNvPicPr/>
          <p:nvPr/>
        </p:nvPicPr>
        <p:blipFill>
          <a:blip r:embed="rId3"/>
          <a:stretch/>
        </p:blipFill>
        <p:spPr>
          <a:xfrm>
            <a:off x="3505320" y="3276720"/>
            <a:ext cx="2124000" cy="23619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Личинка майского жука"/>
          <p:cNvPicPr/>
          <p:nvPr/>
        </p:nvPicPr>
        <p:blipFill>
          <a:blip r:embed="rId1"/>
          <a:stretch/>
        </p:blipFill>
        <p:spPr>
          <a:xfrm>
            <a:off x="1752480" y="914400"/>
            <a:ext cx="2038320" cy="2111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238400" y="310824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чинка майского жу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791320" y="4556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йский жу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3" descr="Майский жук"/>
          <p:cNvPicPr/>
          <p:nvPr/>
        </p:nvPicPr>
        <p:blipFill>
          <a:blip r:embed="rId2"/>
          <a:stretch/>
        </p:blipFill>
        <p:spPr>
          <a:xfrm>
            <a:off x="5257800" y="228600"/>
            <a:ext cx="285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капустная белянка гусеница"/>
          <p:cNvPicPr/>
          <p:nvPr/>
        </p:nvPicPr>
        <p:blipFill>
          <a:blip r:embed="rId1"/>
          <a:stretch/>
        </p:blipFill>
        <p:spPr>
          <a:xfrm>
            <a:off x="838080" y="685800"/>
            <a:ext cx="2328840" cy="2532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609480" y="32004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бабочки капустной беля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86728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пустная беля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12" descr="Капустная белянка самец"/>
          <p:cNvPicPr/>
          <p:nvPr/>
        </p:nvPicPr>
        <p:blipFill>
          <a:blip r:embed="rId2"/>
          <a:stretch/>
        </p:blipFill>
        <p:spPr>
          <a:xfrm>
            <a:off x="5105520" y="838080"/>
            <a:ext cx="3724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600200" y="3429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чинки ры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8" descr="{850BDE59-F4ED-49B9-B752-34B97A0C7356}"/>
          <p:cNvPicPr/>
          <p:nvPr/>
        </p:nvPicPr>
        <p:blipFill>
          <a:blip r:embed="rId1"/>
          <a:stretch/>
        </p:blipFill>
        <p:spPr>
          <a:xfrm>
            <a:off x="914400" y="121932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{32BE2BA7-8A6E-4538-AE65-0DA212DB0C79}"/>
          <p:cNvPicPr/>
          <p:nvPr/>
        </p:nvPicPr>
        <p:blipFill>
          <a:blip r:embed="rId2"/>
          <a:stretch/>
        </p:blipFill>
        <p:spPr>
          <a:xfrm>
            <a:off x="4505400" y="1295280"/>
            <a:ext cx="463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ч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Рисунок1"/>
          <p:cNvPicPr/>
          <p:nvPr/>
        </p:nvPicPr>
        <p:blipFill>
          <a:blip r:embed="rId1"/>
          <a:stretch/>
        </p:blipFill>
        <p:spPr>
          <a:xfrm>
            <a:off x="838080" y="914400"/>
            <a:ext cx="3581640" cy="268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1371600" y="3809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астики лягу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3" descr="Лягушка-бык"/>
          <p:cNvPicPr/>
          <p:nvPr/>
        </p:nvPicPr>
        <p:blipFill>
          <a:blip r:embed="rId2"/>
          <a:stretch/>
        </p:blipFill>
        <p:spPr>
          <a:xfrm>
            <a:off x="5334120" y="838080"/>
            <a:ext cx="3151080" cy="3505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6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звитие капустной белянки                                               (с метаморфоз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Яйца"/>
          <p:cNvPicPr/>
          <p:nvPr/>
        </p:nvPicPr>
        <p:blipFill>
          <a:blip r:embed="rId1"/>
          <a:stretch/>
        </p:blipFill>
        <p:spPr>
          <a:xfrm>
            <a:off x="539640" y="1562040"/>
            <a:ext cx="790560" cy="1374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395280" y="3032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Яйц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47636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411280" y="31748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ница (личинк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4211640" y="24256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7020000" y="285768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516720" y="206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укол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895480" y="472428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рослое насекомое (има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1" descr="капустная белянка гусеница"/>
          <p:cNvPicPr/>
          <p:nvPr/>
        </p:nvPicPr>
        <p:blipFill>
          <a:blip r:embed="rId2"/>
          <a:stretch/>
        </p:blipFill>
        <p:spPr>
          <a:xfrm>
            <a:off x="2484360" y="1562040"/>
            <a:ext cx="1479600" cy="160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Капустная белянка куколка"/>
          <p:cNvPicPr/>
          <p:nvPr/>
        </p:nvPicPr>
        <p:blipFill>
          <a:blip r:embed="rId3"/>
          <a:stretch/>
        </p:blipFill>
        <p:spPr>
          <a:xfrm>
            <a:off x="5364000" y="1417680"/>
            <a:ext cx="986040" cy="1984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пустная белянка самец"/>
          <p:cNvPicPr/>
          <p:nvPr/>
        </p:nvPicPr>
        <p:blipFill>
          <a:blip r:embed="rId4"/>
          <a:stretch/>
        </p:blipFill>
        <p:spPr>
          <a:xfrm>
            <a:off x="5724360" y="4295880"/>
            <a:ext cx="26575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25_88"/>
          <p:cNvPicPr/>
          <p:nvPr/>
        </p:nvPicPr>
        <p:blipFill>
          <a:blip r:embed="rId1"/>
          <a:stretch/>
        </p:blipFill>
        <p:spPr>
          <a:xfrm>
            <a:off x="609480" y="800280"/>
            <a:ext cx="3276720" cy="491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24_80"/>
          <p:cNvPicPr/>
          <p:nvPr/>
        </p:nvPicPr>
        <p:blipFill>
          <a:blip r:embed="rId2"/>
          <a:stretch/>
        </p:blipFill>
        <p:spPr>
          <a:xfrm>
            <a:off x="5410080" y="914400"/>
            <a:ext cx="274644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762120" y="5867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ляг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638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ры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с метаморф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8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реимущества непрямого развития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часто живут в разных условиях (нет конкуренции за мест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и взрослые особи питаются разной пищей (нет конкуренции за пищ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инки некоторых видов способствуют расселению (у паразитических червей, двустворчатых моллюсков, коралл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8f6f8"/>
                </a:solidFill>
                <a:latin typeface="Tahoma"/>
              </a:rPr>
              <a:t>Постэмбриональное развитие – это </a:t>
            </a:r>
            <a:endParaRPr b="0" lang="en-US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, которое начинается с момента выхода из яйцевых оболочек (личинки или организм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у млекопитающих – с момента ро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остэмбриональное развитие: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мое (без метаморфоза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прямое (с метаморфозо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Прямое развитие               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без метаморфоза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витие, при котором рождающийся организм сходен со взрослы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Копия (3) Scan0002"/>
          <p:cNvPicPr/>
          <p:nvPr/>
        </p:nvPicPr>
        <p:blipFill>
          <a:blip r:embed="rId1"/>
          <a:stretch/>
        </p:blipFill>
        <p:spPr>
          <a:xfrm>
            <a:off x="1295280" y="312408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{00B12B0F-F0C8-4C18-947E-78B178959358}"/>
          <p:cNvPicPr/>
          <p:nvPr/>
        </p:nvPicPr>
        <p:blipFill>
          <a:blip r:embed="rId2"/>
          <a:stretch/>
        </p:blipFill>
        <p:spPr>
          <a:xfrm>
            <a:off x="5715000" y="3276720"/>
            <a:ext cx="2743200" cy="23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5" descr="Карликовый крокодил"/>
          <p:cNvPicPr/>
          <p:nvPr/>
        </p:nvPicPr>
        <p:blipFill>
          <a:blip r:embed="rId3"/>
          <a:stretch/>
        </p:blipFill>
        <p:spPr>
          <a:xfrm>
            <a:off x="533520" y="228600"/>
            <a:ext cx="3152520" cy="20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6"/>
          <p:cNvSpPr/>
          <p:nvPr/>
        </p:nvSpPr>
        <p:spPr>
          <a:xfrm>
            <a:off x="52578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йцекладущие млекопит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25_89"/>
          <p:cNvPicPr/>
          <p:nvPr/>
        </p:nvPicPr>
        <p:blipFill>
          <a:blip r:embed="rId4"/>
          <a:stretch/>
        </p:blipFill>
        <p:spPr>
          <a:xfrm>
            <a:off x="5257800" y="228600"/>
            <a:ext cx="3390840" cy="2260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533412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80880" y="2209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мык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{2C6D9FF3-E0B3-45E1-B959-60B636F4C944}"/>
          <p:cNvPicPr/>
          <p:nvPr/>
        </p:nvPicPr>
        <p:blipFill>
          <a:blip r:embed="rId1"/>
          <a:stretch/>
        </p:blipFill>
        <p:spPr>
          <a:xfrm>
            <a:off x="1066680" y="304920"/>
            <a:ext cx="2921040" cy="39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{07A85EC8-0874-4BC5-AAAA-DEB873922D35}"/>
          <p:cNvPicPr/>
          <p:nvPr/>
        </p:nvPicPr>
        <p:blipFill>
          <a:blip r:embed="rId2"/>
          <a:stretch/>
        </p:blipFill>
        <p:spPr>
          <a:xfrm>
            <a:off x="5105520" y="685800"/>
            <a:ext cx="3047760" cy="3038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8" name="Text Box 4"/>
          <p:cNvSpPr/>
          <p:nvPr/>
        </p:nvSpPr>
        <p:spPr>
          <a:xfrm>
            <a:off x="2133720" y="4343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лацентарные млекопитающ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8f6f8"/>
                </a:solidFill>
                <a:latin typeface="Monotype Corsiva"/>
              </a:rPr>
              <a:t>Непрямое развитие   </a:t>
            </a:r>
            <a:r>
              <a:rPr b="0" lang="ru-RU" sz="6000" spc="-1" strike="noStrike">
                <a:solidFill>
                  <a:srgbClr val="d8f6f8"/>
                </a:solidFill>
                <a:latin typeface="Monotype Corsiva"/>
              </a:rPr>
              <a:t>(с метаморфозом)</a:t>
            </a:r>
            <a:endParaRPr b="0" lang="en-US" sz="60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8f6f8"/>
                </a:solidFill>
                <a:latin typeface="Tahoma"/>
              </a:rPr>
              <a:t>Непрямое развитие – это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витие, при котором имеется стадия личин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ичинка отличается от взрослого организма по многим внешним и внутренним признак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буется глубокая перестройка внешнего  внутреннего строения (метаморфоз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01T10:3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