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E7AE-C565-4E82-8856-544B0883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FFA9-6FA1-40E0-8D8F-129F225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EAA3-3883-4CD7-9ADB-7A848DEA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FED6-5EF3-41AC-9D1E-15F7D1AE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6520-41A0-4B6B-A38A-FA84EE1F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42C-5D97-4E19-B9B1-3B24E235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07CD-E63A-4583-ABA6-326DB77E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ED9E-17E0-4D73-9BC7-2CF55DB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DD79-E46A-40B7-84DB-2EA57E5C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A43-83D4-4152-AE57-612EF546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BC73-8885-4191-8288-6F57BC0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CAE3-41A8-49F7-A85A-ADE086F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2080-FA72-4CF2-A9CB-9CD1067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CBC9-04A6-4CD8-902E-2E90DC2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715-1CF1-4C1D-801F-611AB98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195F-EBAD-4E85-8FB6-4635E0C2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DD5-7158-4A46-B392-428B7867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405D-38C3-4C87-9266-AEB65ADA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67E8-59D5-4E07-B428-9CAC6617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C186-475B-4417-A08D-D938132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B04A-BBE7-45F9-8DFB-C1911B7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319E-BE4A-4650-A2BA-2FC51534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F810-41CB-4C53-8A89-E8317AF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49F9-AC59-457F-A477-68E6D63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FEA2-B31F-4011-9A7C-630BDBF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FC9E-5AF9-48EC-B751-26413AE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9CB84-5D1E-407C-B772-9DA2F34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C4C0-18F8-4FBF-94CB-31FE8CD6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CFFB-058E-4C69-917A-FB16C629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777C-04A4-4D9A-B8B0-7D104E1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F4C0-27DA-4901-BB17-F4DA3D9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52A1-E286-4DD0-A9D8-A738DBC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1A8B-069D-4A45-A633-15FBFEF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47D3-3E60-4818-ABD0-4E5500CC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1C00-3D9D-4F50-8F5E-070EC0F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01B6-2C28-4F9F-AD50-07FF0F2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6C0-01A3-41DB-9250-3B3C407C6D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8CE4-F377-407E-AA94-58D9EB5DC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CAF6-A096-4590-9A2A-B3232071F0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Постэмбриональное развитие</a:t>
            </a:r>
            <a:endParaRPr b="0" lang="en-US" sz="7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666880" y="6283440"/>
            <a:ext cx="3810240" cy="369720"/>
          </a:xfrm>
          <a:prstGeom prst="rect">
            <a:avLst/>
          </a:prstGeom>
          <a:solidFill>
            <a:srgbClr val="000099"/>
          </a:solidFill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Карликовый крокодил"/>
          <p:cNvPicPr/>
          <p:nvPr/>
        </p:nvPicPr>
        <p:blipFill>
          <a:blip r:embed="rId1"/>
          <a:stretch/>
        </p:blipFill>
        <p:spPr>
          <a:xfrm>
            <a:off x="304920" y="3962520"/>
            <a:ext cx="2743200" cy="1741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0" name="Picture 6" descr="25_89"/>
          <p:cNvPicPr/>
          <p:nvPr/>
        </p:nvPicPr>
        <p:blipFill>
          <a:blip r:embed="rId2"/>
          <a:stretch/>
        </p:blipFill>
        <p:spPr>
          <a:xfrm>
            <a:off x="6095880" y="3962520"/>
            <a:ext cx="274320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1" name="Picture 7" descr="Лягушка-бык"/>
          <p:cNvPicPr/>
          <p:nvPr/>
        </p:nvPicPr>
        <p:blipFill>
          <a:blip r:embed="rId3"/>
          <a:stretch/>
        </p:blipFill>
        <p:spPr>
          <a:xfrm>
            <a:off x="3505320" y="3276720"/>
            <a:ext cx="2124000" cy="23619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Личинка майского жука"/>
          <p:cNvPicPr/>
          <p:nvPr/>
        </p:nvPicPr>
        <p:blipFill>
          <a:blip r:embed="rId1"/>
          <a:stretch/>
        </p:blipFill>
        <p:spPr>
          <a:xfrm>
            <a:off x="1752480" y="914400"/>
            <a:ext cx="2038320" cy="21114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238400" y="310824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чинка майского жу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791320" y="45561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йский жу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13" descr="Майский жук"/>
          <p:cNvPicPr/>
          <p:nvPr/>
        </p:nvPicPr>
        <p:blipFill>
          <a:blip r:embed="rId2"/>
          <a:stretch/>
        </p:blipFill>
        <p:spPr>
          <a:xfrm>
            <a:off x="5257800" y="228600"/>
            <a:ext cx="285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капустная белянка гусеница"/>
          <p:cNvPicPr/>
          <p:nvPr/>
        </p:nvPicPr>
        <p:blipFill>
          <a:blip r:embed="rId1"/>
          <a:stretch/>
        </p:blipFill>
        <p:spPr>
          <a:xfrm>
            <a:off x="838080" y="685800"/>
            <a:ext cx="2328840" cy="2532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609480" y="32004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ница бабочки капустной беля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86728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пустная беля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12" descr="Капустная белянка самец"/>
          <p:cNvPicPr/>
          <p:nvPr/>
        </p:nvPicPr>
        <p:blipFill>
          <a:blip r:embed="rId2"/>
          <a:stretch/>
        </p:blipFill>
        <p:spPr>
          <a:xfrm>
            <a:off x="5105520" y="838080"/>
            <a:ext cx="3724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600200" y="3429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инки ры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8" descr="{850BDE59-F4ED-49B9-B752-34B97A0C7356}"/>
          <p:cNvPicPr/>
          <p:nvPr/>
        </p:nvPicPr>
        <p:blipFill>
          <a:blip r:embed="rId1"/>
          <a:stretch/>
        </p:blipFill>
        <p:spPr>
          <a:xfrm>
            <a:off x="914400" y="12193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{32BE2BA7-8A6E-4538-AE65-0DA212DB0C79}"/>
          <p:cNvPicPr/>
          <p:nvPr/>
        </p:nvPicPr>
        <p:blipFill>
          <a:blip r:embed="rId2"/>
          <a:stretch/>
        </p:blipFill>
        <p:spPr>
          <a:xfrm>
            <a:off x="4505400" y="1295280"/>
            <a:ext cx="463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Рисунок1"/>
          <p:cNvPicPr/>
          <p:nvPr/>
        </p:nvPicPr>
        <p:blipFill>
          <a:blip r:embed="rId1"/>
          <a:stretch/>
        </p:blipFill>
        <p:spPr>
          <a:xfrm>
            <a:off x="838080" y="914400"/>
            <a:ext cx="3581640" cy="2687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"/>
          <p:cNvSpPr/>
          <p:nvPr/>
        </p:nvSpPr>
        <p:spPr>
          <a:xfrm>
            <a:off x="1371600" y="3809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овастики лягу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3" descr="Лягушка-бык"/>
          <p:cNvPicPr/>
          <p:nvPr/>
        </p:nvPicPr>
        <p:blipFill>
          <a:blip r:embed="rId2"/>
          <a:stretch/>
        </p:blipFill>
        <p:spPr>
          <a:xfrm>
            <a:off x="5334120" y="838080"/>
            <a:ext cx="3151080" cy="3505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6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звитие капустной белянки                                               (с метаморфоз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Яйца"/>
          <p:cNvPicPr/>
          <p:nvPr/>
        </p:nvPicPr>
        <p:blipFill>
          <a:blip r:embed="rId1"/>
          <a:stretch/>
        </p:blipFill>
        <p:spPr>
          <a:xfrm>
            <a:off x="539640" y="1562040"/>
            <a:ext cx="790560" cy="1374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395280" y="303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йц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476360" y="24256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411280" y="31748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ница (личинк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4211640" y="24256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7020000" y="285768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516720" y="206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укол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895480" y="472428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рослое насекомое (има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1" descr="капустная белянка гусеница"/>
          <p:cNvPicPr/>
          <p:nvPr/>
        </p:nvPicPr>
        <p:blipFill>
          <a:blip r:embed="rId2"/>
          <a:stretch/>
        </p:blipFill>
        <p:spPr>
          <a:xfrm>
            <a:off x="2484360" y="1562040"/>
            <a:ext cx="1479600" cy="160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Капустная белянка куколка"/>
          <p:cNvPicPr/>
          <p:nvPr/>
        </p:nvPicPr>
        <p:blipFill>
          <a:blip r:embed="rId3"/>
          <a:stretch/>
        </p:blipFill>
        <p:spPr>
          <a:xfrm>
            <a:off x="5364000" y="1417680"/>
            <a:ext cx="986040" cy="1984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пустная белянка самец"/>
          <p:cNvPicPr/>
          <p:nvPr/>
        </p:nvPicPr>
        <p:blipFill>
          <a:blip r:embed="rId4"/>
          <a:stretch/>
        </p:blipFill>
        <p:spPr>
          <a:xfrm>
            <a:off x="5724360" y="4295880"/>
            <a:ext cx="26575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25_88"/>
          <p:cNvPicPr/>
          <p:nvPr/>
        </p:nvPicPr>
        <p:blipFill>
          <a:blip r:embed="rId1"/>
          <a:stretch/>
        </p:blipFill>
        <p:spPr>
          <a:xfrm>
            <a:off x="609480" y="800280"/>
            <a:ext cx="3276720" cy="491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24_80"/>
          <p:cNvPicPr/>
          <p:nvPr/>
        </p:nvPicPr>
        <p:blipFill>
          <a:blip r:embed="rId2"/>
          <a:stretch/>
        </p:blipFill>
        <p:spPr>
          <a:xfrm>
            <a:off x="5410080" y="914400"/>
            <a:ext cx="2746440" cy="4876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762120" y="5867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ляг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638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ры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с метаморф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8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8f6f8"/>
                </a:solidFill>
                <a:latin typeface="Tahoma"/>
              </a:rPr>
              <a:t>Преимущества непрямого развития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и взрослые особи часто живут в разных условиях (нет конкуренции за мест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и взрослые особи питаются разной пищей (нет конкуренции за пищ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некоторых видов способствуют расселению (у паразитических червей, двустворчатых моллюсков, коралл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8f6f8"/>
                </a:solidFill>
                <a:latin typeface="Tahoma"/>
              </a:rPr>
              <a:t>Постэмбриональное развитие – это 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, которое начинается с момента выхода из яйцевых оболочек (личинки или организм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у млекопитающих – с момента ро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Постэмбриональное развитие: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ямое (без метаморфоза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прямое (с метаморфозом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Прямое развитие                  </a:t>
            </a:r>
            <a:r>
              <a:rPr b="0" lang="ru-RU" sz="6000" spc="-1" strike="noStrike">
                <a:solidFill>
                  <a:srgbClr val="d8f6f8"/>
                </a:solidFill>
                <a:latin typeface="Monotype Corsiva"/>
              </a:rPr>
              <a:t>(без метаморфоза)</a:t>
            </a:r>
            <a:endParaRPr b="0" lang="en-US" sz="60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Прямое развитие – это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витие, при котором рождающийся организм сходен со взрослы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Копия (3) Scan0002"/>
          <p:cNvPicPr/>
          <p:nvPr/>
        </p:nvPicPr>
        <p:blipFill>
          <a:blip r:embed="rId1"/>
          <a:stretch/>
        </p:blipFill>
        <p:spPr>
          <a:xfrm>
            <a:off x="1295280" y="3124080"/>
            <a:ext cx="178596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{00B12B0F-F0C8-4C18-947E-78B178959358}"/>
          <p:cNvPicPr/>
          <p:nvPr/>
        </p:nvPicPr>
        <p:blipFill>
          <a:blip r:embed="rId2"/>
          <a:stretch/>
        </p:blipFill>
        <p:spPr>
          <a:xfrm>
            <a:off x="5715000" y="3276720"/>
            <a:ext cx="2743200" cy="23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5" descr="Карликовый крокодил"/>
          <p:cNvPicPr/>
          <p:nvPr/>
        </p:nvPicPr>
        <p:blipFill>
          <a:blip r:embed="rId3"/>
          <a:stretch/>
        </p:blipFill>
        <p:spPr>
          <a:xfrm>
            <a:off x="533520" y="228600"/>
            <a:ext cx="3152520" cy="20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Text Box 6"/>
          <p:cNvSpPr/>
          <p:nvPr/>
        </p:nvSpPr>
        <p:spPr>
          <a:xfrm>
            <a:off x="52578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йцекладущие млекопит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25_89"/>
          <p:cNvPicPr/>
          <p:nvPr/>
        </p:nvPicPr>
        <p:blipFill>
          <a:blip r:embed="rId4"/>
          <a:stretch/>
        </p:blipFill>
        <p:spPr>
          <a:xfrm>
            <a:off x="5257800" y="228600"/>
            <a:ext cx="3390840" cy="2260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533412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80880" y="2209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мык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{2C6D9FF3-E0B3-45E1-B959-60B636F4C944}"/>
          <p:cNvPicPr/>
          <p:nvPr/>
        </p:nvPicPr>
        <p:blipFill>
          <a:blip r:embed="rId1"/>
          <a:stretch/>
        </p:blipFill>
        <p:spPr>
          <a:xfrm>
            <a:off x="1066680" y="304920"/>
            <a:ext cx="2921040" cy="39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{07A85EC8-0874-4BC5-AAAA-DEB873922D35}"/>
          <p:cNvPicPr/>
          <p:nvPr/>
        </p:nvPicPr>
        <p:blipFill>
          <a:blip r:embed="rId2"/>
          <a:stretch/>
        </p:blipFill>
        <p:spPr>
          <a:xfrm>
            <a:off x="5105520" y="685800"/>
            <a:ext cx="3047760" cy="3038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8" name="Text Box 4"/>
          <p:cNvSpPr/>
          <p:nvPr/>
        </p:nvSpPr>
        <p:spPr>
          <a:xfrm>
            <a:off x="2133720" y="4343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лацентарные млекопит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Непрямое развитие   </a:t>
            </a:r>
            <a:r>
              <a:rPr b="0" lang="ru-RU" sz="6000" spc="-1" strike="noStrike">
                <a:solidFill>
                  <a:srgbClr val="d8f6f8"/>
                </a:solidFill>
                <a:latin typeface="Monotype Corsiva"/>
              </a:rPr>
              <a:t>(с метаморфозом)</a:t>
            </a:r>
            <a:endParaRPr b="0" lang="en-US" sz="60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Непрямое развитие – это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витие, при котором имеется стадия личин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ичинка отличается от взрослого организма по многим внешним и внутренним признак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буется глубокая перестройка внешнего  внутреннего строения (метаморфоз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01T10:39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