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C29C-1E7D-458B-A132-3B1774AD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8098-7B57-42CB-812C-43E233C1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2573-6049-49F2-9C52-11B7F415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1FEC-4695-482C-B1F6-9E9A3F1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BD1C-C8CF-44C6-B0F4-50E27FE7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FEE-4B5C-4FD5-810D-1804AE7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2CB8-6AE0-4C51-8DCB-002DF124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525B-0B49-41EA-A8A5-213F43C6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3002-DD74-4911-8EF9-3C320B3C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7B5B-913D-4A82-9D57-E8E1F97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1A9B-5B7E-4E4C-A540-6AEFFA8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BF09-28D8-4CD0-ABC2-06BCE4F0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9033-916C-492F-BF58-18FB721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F713-DF48-4B9A-A075-56F37E2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0305-1EDC-4068-82A2-65A4D75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1BA2-E4C0-44A8-A3D4-1F247AB0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C1EC-324A-4F97-8FB5-6BFC5E17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AB3C-BC36-4D26-8252-8C0AAA3C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BAC0-6A4A-4024-9C9E-5DD2982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E171-765D-4FC8-876A-9A590961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D410-C67A-4943-9A9F-62AE5499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65B3-F754-4737-9115-BC1C375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536B-5291-4CE3-B41E-C1ED4A23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32DD-5656-49BA-8BD6-F4C14F4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CEAA-643E-4593-9F8A-B64A6F8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FE81-081B-475E-A052-8CFDB36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FA75-5FED-4CDE-84A8-52B56AD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B66C-6C99-4BF5-84E1-CF809C21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F252-FBB1-4AEA-882B-11D3628F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F4EF-8733-435D-9E61-FC04E991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6873-8CAF-4FD5-A371-5558104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58D5-30F7-42B5-A9B2-8DD0D915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823D-EB2A-4BA3-845A-48D7376E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AF09-A0B9-4CB4-8E31-4E335F7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BFDE-1902-402E-8889-BF554F2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6CCD-393B-4CCD-AC3F-7F71482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8877-C3E2-431E-955F-770454EAB2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FB78-CB17-476B-B894-482D43D75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3D9-71C3-4E9F-B5EB-A659C0FCB4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Постэмбриональное развитие</a:t>
            </a:r>
            <a:endParaRPr b="0" lang="en-US" sz="7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666880" y="6283440"/>
            <a:ext cx="3810240" cy="369720"/>
          </a:xfrm>
          <a:prstGeom prst="rect">
            <a:avLst/>
          </a:prstGeom>
          <a:solidFill>
            <a:srgbClr val="000099"/>
          </a:solidFill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Карликовый крокодил"/>
          <p:cNvPicPr/>
          <p:nvPr/>
        </p:nvPicPr>
        <p:blipFill>
          <a:blip r:embed="rId1"/>
          <a:stretch/>
        </p:blipFill>
        <p:spPr>
          <a:xfrm>
            <a:off x="304920" y="3962520"/>
            <a:ext cx="2743200" cy="1741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0" name="Picture 6" descr="25_89"/>
          <p:cNvPicPr/>
          <p:nvPr/>
        </p:nvPicPr>
        <p:blipFill>
          <a:blip r:embed="rId2"/>
          <a:stretch/>
        </p:blipFill>
        <p:spPr>
          <a:xfrm>
            <a:off x="6095880" y="3962520"/>
            <a:ext cx="274320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1" name="Picture 7" descr="Лягушка-бык"/>
          <p:cNvPicPr/>
          <p:nvPr/>
        </p:nvPicPr>
        <p:blipFill>
          <a:blip r:embed="rId3"/>
          <a:stretch/>
        </p:blipFill>
        <p:spPr>
          <a:xfrm>
            <a:off x="3505320" y="3276720"/>
            <a:ext cx="2124000" cy="23619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Личинка майского жука"/>
          <p:cNvPicPr/>
          <p:nvPr/>
        </p:nvPicPr>
        <p:blipFill>
          <a:blip r:embed="rId1"/>
          <a:stretch/>
        </p:blipFill>
        <p:spPr>
          <a:xfrm>
            <a:off x="1752480" y="914400"/>
            <a:ext cx="2038320" cy="21114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238400" y="310824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чинка майского жу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791320" y="45561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йский жу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13" descr="Майский жук"/>
          <p:cNvPicPr/>
          <p:nvPr/>
        </p:nvPicPr>
        <p:blipFill>
          <a:blip r:embed="rId2"/>
          <a:stretch/>
        </p:blipFill>
        <p:spPr>
          <a:xfrm>
            <a:off x="5257800" y="228600"/>
            <a:ext cx="285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капустная белянка гусеница"/>
          <p:cNvPicPr/>
          <p:nvPr/>
        </p:nvPicPr>
        <p:blipFill>
          <a:blip r:embed="rId1"/>
          <a:stretch/>
        </p:blipFill>
        <p:spPr>
          <a:xfrm>
            <a:off x="838080" y="685800"/>
            <a:ext cx="2328840" cy="2532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609480" y="32004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ница бабочки капустной беля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86728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пустная беля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12" descr="Капустная белянка самец"/>
          <p:cNvPicPr/>
          <p:nvPr/>
        </p:nvPicPr>
        <p:blipFill>
          <a:blip r:embed="rId2"/>
          <a:stretch/>
        </p:blipFill>
        <p:spPr>
          <a:xfrm>
            <a:off x="5105520" y="838080"/>
            <a:ext cx="3724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600200" y="3429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инки ры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8" descr="{850BDE59-F4ED-49B9-B752-34B97A0C7356}"/>
          <p:cNvPicPr/>
          <p:nvPr/>
        </p:nvPicPr>
        <p:blipFill>
          <a:blip r:embed="rId1"/>
          <a:stretch/>
        </p:blipFill>
        <p:spPr>
          <a:xfrm>
            <a:off x="914400" y="12193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{32BE2BA7-8A6E-4538-AE65-0DA212DB0C79}"/>
          <p:cNvPicPr/>
          <p:nvPr/>
        </p:nvPicPr>
        <p:blipFill>
          <a:blip r:embed="rId2"/>
          <a:stretch/>
        </p:blipFill>
        <p:spPr>
          <a:xfrm>
            <a:off x="4505400" y="1295280"/>
            <a:ext cx="463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Рисунок1"/>
          <p:cNvPicPr/>
          <p:nvPr/>
        </p:nvPicPr>
        <p:blipFill>
          <a:blip r:embed="rId1"/>
          <a:stretch/>
        </p:blipFill>
        <p:spPr>
          <a:xfrm>
            <a:off x="838080" y="914400"/>
            <a:ext cx="3581640" cy="2687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"/>
          <p:cNvSpPr/>
          <p:nvPr/>
        </p:nvSpPr>
        <p:spPr>
          <a:xfrm>
            <a:off x="1371600" y="3809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овастики лягу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3" descr="Лягушка-бык"/>
          <p:cNvPicPr/>
          <p:nvPr/>
        </p:nvPicPr>
        <p:blipFill>
          <a:blip r:embed="rId2"/>
          <a:stretch/>
        </p:blipFill>
        <p:spPr>
          <a:xfrm>
            <a:off x="5334120" y="838080"/>
            <a:ext cx="3151080" cy="3505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6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звитие капустной белянки                                               (с метаморфоз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Яйца"/>
          <p:cNvPicPr/>
          <p:nvPr/>
        </p:nvPicPr>
        <p:blipFill>
          <a:blip r:embed="rId1"/>
          <a:stretch/>
        </p:blipFill>
        <p:spPr>
          <a:xfrm>
            <a:off x="539640" y="1562040"/>
            <a:ext cx="790560" cy="1374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395280" y="303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йц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476360" y="24256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411280" y="31748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ница (личинк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4211640" y="24256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7020000" y="285768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516720" y="206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укол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895480" y="472428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рослое насекомое (има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1" descr="капустная белянка гусеница"/>
          <p:cNvPicPr/>
          <p:nvPr/>
        </p:nvPicPr>
        <p:blipFill>
          <a:blip r:embed="rId2"/>
          <a:stretch/>
        </p:blipFill>
        <p:spPr>
          <a:xfrm>
            <a:off x="2484360" y="1562040"/>
            <a:ext cx="1479600" cy="160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Капустная белянка куколка"/>
          <p:cNvPicPr/>
          <p:nvPr/>
        </p:nvPicPr>
        <p:blipFill>
          <a:blip r:embed="rId3"/>
          <a:stretch/>
        </p:blipFill>
        <p:spPr>
          <a:xfrm>
            <a:off x="5364000" y="1417680"/>
            <a:ext cx="986040" cy="1984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пустная белянка самец"/>
          <p:cNvPicPr/>
          <p:nvPr/>
        </p:nvPicPr>
        <p:blipFill>
          <a:blip r:embed="rId4"/>
          <a:stretch/>
        </p:blipFill>
        <p:spPr>
          <a:xfrm>
            <a:off x="5724360" y="4295880"/>
            <a:ext cx="26575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25_88"/>
          <p:cNvPicPr/>
          <p:nvPr/>
        </p:nvPicPr>
        <p:blipFill>
          <a:blip r:embed="rId1"/>
          <a:stretch/>
        </p:blipFill>
        <p:spPr>
          <a:xfrm>
            <a:off x="609480" y="800280"/>
            <a:ext cx="3276720" cy="491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24_80"/>
          <p:cNvPicPr/>
          <p:nvPr/>
        </p:nvPicPr>
        <p:blipFill>
          <a:blip r:embed="rId2"/>
          <a:stretch/>
        </p:blipFill>
        <p:spPr>
          <a:xfrm>
            <a:off x="5410080" y="914400"/>
            <a:ext cx="2746440" cy="4876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762120" y="5867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ляг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638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ры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с метаморф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8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8f6f8"/>
                </a:solidFill>
                <a:latin typeface="Tahoma"/>
              </a:rPr>
              <a:t>Преимущества непрямого развития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и взрослые особи часто живут в разных условиях (нет конкуренции за мест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и взрослые особи питаются разной пищей (нет конкуренции за пищ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некоторых видов способствуют расселению (у паразитических червей, двустворчатых моллюсков, коралл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8f6f8"/>
                </a:solidFill>
                <a:latin typeface="Tahoma"/>
              </a:rPr>
              <a:t>Постэмбриональное развитие – это 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, которое начинается с момента выхода из яйцевых оболочек (личинки или организм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у млекопитающих – с момента ро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Постэмбриональное развитие: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ямое (без метаморфоза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прямое (с метаморфозом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Прямое развитие                  </a:t>
            </a:r>
            <a:r>
              <a:rPr b="0" lang="ru-RU" sz="6000" spc="-1" strike="noStrike">
                <a:solidFill>
                  <a:srgbClr val="d8f6f8"/>
                </a:solidFill>
                <a:latin typeface="Monotype Corsiva"/>
              </a:rPr>
              <a:t>(без метаморфоза)</a:t>
            </a:r>
            <a:endParaRPr b="0" lang="en-US" sz="60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Прямое развитие – это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витие, при котором рождающийся организм сходен со взрослы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Копия (3) Scan0002"/>
          <p:cNvPicPr/>
          <p:nvPr/>
        </p:nvPicPr>
        <p:blipFill>
          <a:blip r:embed="rId1"/>
          <a:stretch/>
        </p:blipFill>
        <p:spPr>
          <a:xfrm>
            <a:off x="1295280" y="3124080"/>
            <a:ext cx="178596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{00B12B0F-F0C8-4C18-947E-78B178959358}"/>
          <p:cNvPicPr/>
          <p:nvPr/>
        </p:nvPicPr>
        <p:blipFill>
          <a:blip r:embed="rId2"/>
          <a:stretch/>
        </p:blipFill>
        <p:spPr>
          <a:xfrm>
            <a:off x="5715000" y="3276720"/>
            <a:ext cx="2743200" cy="23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5" descr="Карликовый крокодил"/>
          <p:cNvPicPr/>
          <p:nvPr/>
        </p:nvPicPr>
        <p:blipFill>
          <a:blip r:embed="rId3"/>
          <a:stretch/>
        </p:blipFill>
        <p:spPr>
          <a:xfrm>
            <a:off x="533520" y="228600"/>
            <a:ext cx="3152520" cy="20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Text Box 6"/>
          <p:cNvSpPr/>
          <p:nvPr/>
        </p:nvSpPr>
        <p:spPr>
          <a:xfrm>
            <a:off x="52578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йцекладущие млекопит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25_89"/>
          <p:cNvPicPr/>
          <p:nvPr/>
        </p:nvPicPr>
        <p:blipFill>
          <a:blip r:embed="rId4"/>
          <a:stretch/>
        </p:blipFill>
        <p:spPr>
          <a:xfrm>
            <a:off x="5257800" y="228600"/>
            <a:ext cx="3390840" cy="2260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533412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80880" y="2209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мык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{2C6D9FF3-E0B3-45E1-B959-60B636F4C944}"/>
          <p:cNvPicPr/>
          <p:nvPr/>
        </p:nvPicPr>
        <p:blipFill>
          <a:blip r:embed="rId1"/>
          <a:stretch/>
        </p:blipFill>
        <p:spPr>
          <a:xfrm>
            <a:off x="1066680" y="304920"/>
            <a:ext cx="2921040" cy="39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{07A85EC8-0874-4BC5-AAAA-DEB873922D35}"/>
          <p:cNvPicPr/>
          <p:nvPr/>
        </p:nvPicPr>
        <p:blipFill>
          <a:blip r:embed="rId2"/>
          <a:stretch/>
        </p:blipFill>
        <p:spPr>
          <a:xfrm>
            <a:off x="5105520" y="685800"/>
            <a:ext cx="3047760" cy="3038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8" name="Text Box 4"/>
          <p:cNvSpPr/>
          <p:nvPr/>
        </p:nvSpPr>
        <p:spPr>
          <a:xfrm>
            <a:off x="2133720" y="4343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лацентарные млекопит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Непрямое развитие   </a:t>
            </a:r>
            <a:r>
              <a:rPr b="0" lang="ru-RU" sz="6000" spc="-1" strike="noStrike">
                <a:solidFill>
                  <a:srgbClr val="d8f6f8"/>
                </a:solidFill>
                <a:latin typeface="Monotype Corsiva"/>
              </a:rPr>
              <a:t>(с метаморфозом)</a:t>
            </a:r>
            <a:endParaRPr b="0" lang="en-US" sz="60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Непрямое развитие – это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витие, при котором имеется стадия личин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ичинка отличается от взрослого организма по многим внешним и внутренним признак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буется глубокая перестройка внешнего  внутреннего строения (метаморфоз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01T10:39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