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6B5-7FA5-4ABE-85BC-AEE53DB7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510-BC25-4DE3-BFBF-ABCFC2EA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0FE-8083-4984-B868-1BB7BC81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997-2E86-404B-AFBD-DC05867D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EEE-AF46-4075-8154-D03D1677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12B-96DE-4CC4-9647-B3CB3C01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0E3-6418-498D-B3DD-3D884CBB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B00-A881-407B-84CD-97FD2EC5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323-759A-4519-A79D-CBB8A773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97B-07EF-476B-8EE7-52B437A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88E-5B9D-4943-B609-843DDDD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D9C-8A3A-4E4F-B972-9A418E7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4FA3-15FD-454D-962D-845DE3F79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Mam12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6"/>
          <p:cNvSpPr txBox="1"/>
          <p:nvPr/>
        </p:nvSpPr>
        <p:spPr>
          <a:xfrm>
            <a:off x="0" y="0"/>
            <a:ext cx="9144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ФОРМЫ РАЗМНОЖЕНИЯ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гетативно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02_3_2"/>
          <p:cNvPicPr/>
          <p:nvPr/>
        </p:nvPicPr>
        <p:blipFill>
          <a:blip r:embed="rId1"/>
          <a:stretch/>
        </p:blipFill>
        <p:spPr>
          <a:xfrm>
            <a:off x="0" y="1413000"/>
            <a:ext cx="3887640" cy="3528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2916360" y="22701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03_6_2_little"/>
          <p:cNvPicPr/>
          <p:nvPr/>
        </p:nvPicPr>
        <p:blipFill>
          <a:blip r:embed="rId2"/>
          <a:stretch/>
        </p:blipFill>
        <p:spPr>
          <a:xfrm>
            <a:off x="4211640" y="1052640"/>
            <a:ext cx="4643280" cy="270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06_2_2"/>
          <p:cNvPicPr/>
          <p:nvPr/>
        </p:nvPicPr>
        <p:blipFill>
          <a:blip r:embed="rId3"/>
          <a:stretch/>
        </p:blipFill>
        <p:spPr>
          <a:xfrm>
            <a:off x="3851280" y="4149720"/>
            <a:ext cx="4643280" cy="2708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 flipV="1" rot="10800000">
            <a:off x="2268000" y="53661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500720" y="126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50000">
                <a:srgbClr val="ccff99"/>
              </a:gs>
              <a:gs pos="100000">
                <a:srgbClr val="5e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68360" y="260280"/>
            <a:ext cx="4391280" cy="576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вое размно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1125360"/>
            <a:ext cx="4038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ловом размножении животные производят половые клетки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ме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ая гамета содержит вдвое меньшее количество хромосом, чем оста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Intr165"/>
          <p:cNvPicPr/>
          <p:nvPr/>
        </p:nvPicPr>
        <p:blipFill>
          <a:blip r:embed="rId1"/>
          <a:stretch/>
        </p:blipFill>
        <p:spPr>
          <a:xfrm>
            <a:off x="6084720" y="836640"/>
            <a:ext cx="2880000" cy="388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Intr164"/>
          <p:cNvPicPr/>
          <p:nvPr/>
        </p:nvPicPr>
        <p:blipFill>
          <a:blip r:embed="rId2"/>
          <a:stretch/>
        </p:blipFill>
        <p:spPr>
          <a:xfrm>
            <a:off x="3276720" y="4913280"/>
            <a:ext cx="450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ntr161"/>
          <p:cNvPicPr/>
          <p:nvPr/>
        </p:nvPicPr>
        <p:blipFill>
          <a:blip r:embed="rId1"/>
          <a:stretch/>
        </p:blipFill>
        <p:spPr>
          <a:xfrm>
            <a:off x="179280" y="765000"/>
            <a:ext cx="84250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-531720"/>
            <a:ext cx="9325080" cy="738972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57200" y="-3160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ермафродитиз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Worms01_20_little"/>
          <p:cNvPicPr/>
          <p:nvPr/>
        </p:nvPicPr>
        <p:blipFill>
          <a:blip r:embed="rId1"/>
          <a:stretch/>
        </p:blipFill>
        <p:spPr>
          <a:xfrm>
            <a:off x="324000" y="1197000"/>
            <a:ext cx="3206520" cy="5300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ntr162"/>
          <p:cNvPicPr/>
          <p:nvPr/>
        </p:nvPicPr>
        <p:blipFill>
          <a:blip r:embed="rId2"/>
          <a:stretch/>
        </p:blipFill>
        <p:spPr>
          <a:xfrm>
            <a:off x="5105520" y="1197000"/>
            <a:ext cx="4038480" cy="204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Moll26_01"/>
          <p:cNvPicPr/>
          <p:nvPr/>
        </p:nvPicPr>
        <p:blipFill>
          <a:blip r:embed="rId3"/>
          <a:stretch/>
        </p:blipFill>
        <p:spPr>
          <a:xfrm>
            <a:off x="5219640" y="3645000"/>
            <a:ext cx="3816360" cy="3213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2340000" y="3429000"/>
            <a:ext cx="489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ы гермафродитиз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ие черви – белая планар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очные черви – бычий цепе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люски – большой прудов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24000" y="467640"/>
            <a:ext cx="105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фродит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явление, при котором одна и та же особь способ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ь и мужские и женские клетк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-243000"/>
            <a:ext cx="9144000" cy="7101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дыш развивается без оплодотворения яйцекл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ntr163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артеногене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84360" y="1484280"/>
            <a:ext cx="741672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родыш развивается из неоплодотворенной кл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0" y="-531720"/>
            <a:ext cx="9144000" cy="738972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Ins16_02"/>
          <p:cNvPicPr/>
          <p:nvPr/>
        </p:nvPicPr>
        <p:blipFill>
          <a:blip r:embed="rId1"/>
          <a:stretch/>
        </p:blipFill>
        <p:spPr>
          <a:xfrm>
            <a:off x="0" y="1341360"/>
            <a:ext cx="4781520" cy="319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Ins26_13"/>
          <p:cNvPicPr/>
          <p:nvPr/>
        </p:nvPicPr>
        <p:blipFill>
          <a:blip r:embed="rId2"/>
          <a:stretch/>
        </p:blipFill>
        <p:spPr>
          <a:xfrm>
            <a:off x="5148360" y="1628640"/>
            <a:ext cx="3671640" cy="4700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45720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артеногене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-603360"/>
            <a:ext cx="9144000" cy="7461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р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 правильное утверж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 бесполом размножении участвует один или несколько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оловые клетки называются сперматозоидами и яйцеклет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и бесполом размножении образуется один новый орган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оловым способом размножаются все многоклеточные орган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Партеногенез – это развитие из неоплодотворенной яйцекле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 Гермафродиты – это организмы, у которых одна и та же  особь способ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ь    мужские и женские гам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 Почкованием могут делиться как одноклеточные, так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клеточные орган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) Спорами  размножаются грибы, мхи, водоросли, лишайн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) Специальными видоизмененными органами размножения яв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овицы,   корневища, клуб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) Половые клетки животных образуются в половых орган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дачи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разовательна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знакомить учащихся с явлением размножения, разнообразием  способов размн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вивающа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вать умения работать с рисунками, таблицами, схемами, сравнивая анализиру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спитательна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ользуя уже известные, а так же полученные сведения, предупредить неправильные толкования вопроса о размн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Формы размн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Arial Narrow"/>
              </a:rPr>
              <a:t>Беспо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елени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чк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егетатив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поро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Arial Narrow"/>
              </a:rPr>
              <a:t>Пол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ермафродит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артеноген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H="1">
            <a:off x="2555640" y="1125360"/>
            <a:ext cx="165564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4067280" y="1125360"/>
            <a:ext cx="136836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полового и бесполог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но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6640"/>
          <a:ext cx="9144000" cy="6021360"/>
        </p:xfrm>
        <a:graphic>
          <a:graphicData uri="http://schemas.openxmlformats.org/drawingml/2006/table">
            <a:tbl>
              <a:tblPr/>
              <a:tblGrid>
                <a:gridCol w="4087800"/>
                <a:gridCol w="505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олое размн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вое размн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ет участие только одна особ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ют участие две особ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черние организмы являются точными копиями материнского органи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черний организм получает комбинацию генов, принадлежащих обоим родителям, и не является их точной  копи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6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меты не образуютс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ются гаметы с одинарным (гаплоидным) набором хромосом, ядра которых сливаются (оплодотворение) образуется зигота, которая несет хромосомы обоих родител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ется у микроорганизмов, грибов, растений и некоторых беспозвоночных животных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о для большинства растений и животны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одит к быстрому увеличению числа особ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50000">
                          <a:srgbClr val="ccff99"/>
                        </a:gs>
                        <a:gs pos="100000">
                          <a:srgbClr val="5e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дит медленнее, но особи лучше приспосабливаются к изменению условий сред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ы бесполого раз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Organization Chart 7"/>
          <p:cNvGrpSpPr/>
          <p:nvPr/>
        </p:nvGrpSpPr>
        <p:grpSpPr>
          <a:xfrm>
            <a:off x="0" y="1125360"/>
            <a:ext cx="9143640" cy="5730480"/>
            <a:chOff x="0" y="1125360"/>
            <a:chExt cx="9143640" cy="5730480"/>
          </a:xfrm>
        </p:grpSpPr>
        <p:cxnSp>
          <p:nvCxnSpPr>
            <p:cNvPr id="54" name="_s1028"/>
            <p:cNvCxnSpPr>
              <a:stCxn id="55" idx="0"/>
              <a:endCxn id="56" idx="2"/>
            </p:cNvCxnSpPr>
            <p:nvPr/>
          </p:nvCxnSpPr>
          <p:spPr>
            <a:xfrm flipV="1" rot="16200000">
              <a:off x="5949360" y="2037960"/>
              <a:ext cx="1146600" cy="3903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V="1" rot="16200000">
              <a:off x="5170320" y="2817000"/>
              <a:ext cx="1146600" cy="2345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56" idx="2"/>
            </p:cNvCxnSpPr>
            <p:nvPr/>
          </p:nvCxnSpPr>
          <p:spPr>
            <a:xfrm flipV="1" rot="16200000">
              <a:off x="4389480" y="3597840"/>
              <a:ext cx="1146600" cy="7840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1"/>
            <p:cNvCxnSpPr>
              <a:stCxn id="62" idx="0"/>
              <a:endCxn id="56" idx="2"/>
            </p:cNvCxnSpPr>
            <p:nvPr/>
          </p:nvCxnSpPr>
          <p:spPr>
            <a:xfrm flipH="1" flipV="1" rot="5400000">
              <a:off x="3609360" y="3601080"/>
              <a:ext cx="1146600" cy="77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2"/>
            <p:cNvCxnSpPr>
              <a:stCxn id="64" idx="0"/>
              <a:endCxn id="56" idx="2"/>
            </p:cNvCxnSpPr>
            <p:nvPr/>
          </p:nvCxnSpPr>
          <p:spPr>
            <a:xfrm flipH="1" flipV="1" rot="5400000">
              <a:off x="2828160" y="2820240"/>
              <a:ext cx="1146600" cy="2339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3"/>
            <p:cNvCxnSpPr>
              <a:stCxn id="66" idx="0"/>
              <a:endCxn id="56" idx="2"/>
            </p:cNvCxnSpPr>
            <p:nvPr/>
          </p:nvCxnSpPr>
          <p:spPr>
            <a:xfrm flipH="1" flipV="1" rot="5400000">
              <a:off x="2047680" y="2039760"/>
              <a:ext cx="1146600" cy="3900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034"/>
            <p:cNvSpPr/>
            <p:nvPr/>
          </p:nvSpPr>
          <p:spPr>
            <a:xfrm>
              <a:off x="3902040" y="112536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Бесполо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азмнож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5"/>
            <p:cNvSpPr/>
            <p:nvPr/>
          </p:nvSpPr>
          <p:spPr>
            <a:xfrm>
              <a:off x="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ел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ле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6"/>
            <p:cNvSpPr/>
            <p:nvPr/>
          </p:nvSpPr>
          <p:spPr>
            <a:xfrm>
              <a:off x="156132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Шизогония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12264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очкование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8"/>
            <p:cNvSpPr/>
            <p:nvPr/>
          </p:nvSpPr>
          <p:spPr>
            <a:xfrm>
              <a:off x="468396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порооб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азование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9"/>
            <p:cNvSpPr/>
            <p:nvPr/>
          </p:nvSpPr>
          <p:spPr>
            <a:xfrm>
              <a:off x="624564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егетативно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азмнож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40"/>
            <p:cNvSpPr/>
            <p:nvPr/>
          </p:nvSpPr>
          <p:spPr>
            <a:xfrm>
              <a:off x="7806960" y="4563720"/>
              <a:ext cx="1336680" cy="2292120"/>
            </a:xfrm>
            <a:custGeom>
              <a:avLst/>
              <a:gdLst>
                <a:gd name="textAreaLeft" fmla="*/ 65160 w 1336680"/>
                <a:gd name="textAreaRight" fmla="*/ 1271520 w 133668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7035">
                  <a:moveTo>
                    <a:pt x="3600" y="0"/>
                  </a:moveTo>
                  <a:arcTo wR="3600" hR="3600" stAng="16200000" swAng="-5400000"/>
                  <a:lnTo>
                    <a:pt x="0" y="33435"/>
                  </a:lnTo>
                  <a:arcTo wR="3600" hR="3600" stAng="10800000" swAng="-5400000"/>
                  <a:lnTo>
                    <a:pt x="18000" y="370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азмнож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астк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тел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roto273"/>
          <p:cNvPicPr/>
          <p:nvPr/>
        </p:nvPicPr>
        <p:blipFill>
          <a:blip r:embed="rId1"/>
          <a:stretch/>
        </p:blipFill>
        <p:spPr>
          <a:xfrm>
            <a:off x="0" y="3789360"/>
            <a:ext cx="4932360" cy="306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ntr169"/>
          <p:cNvPicPr/>
          <p:nvPr/>
        </p:nvPicPr>
        <p:blipFill>
          <a:blip r:embed="rId2"/>
          <a:stretch/>
        </p:blipFill>
        <p:spPr>
          <a:xfrm>
            <a:off x="5435640" y="3843360"/>
            <a:ext cx="3708360" cy="3014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5533920" y="328464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еление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летки жгутиконос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рипаносо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Proto192"/>
          <p:cNvPicPr/>
          <p:nvPr/>
        </p:nvPicPr>
        <p:blipFill>
          <a:blip r:embed="rId3"/>
          <a:stretch/>
        </p:blipFill>
        <p:spPr>
          <a:xfrm>
            <a:off x="0" y="1125360"/>
            <a:ext cx="4495680" cy="2065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1116000" y="3395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еление простей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2987640" y="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ени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Proto222"/>
          <p:cNvPicPr/>
          <p:nvPr/>
        </p:nvPicPr>
        <p:blipFill>
          <a:blip r:embed="rId4"/>
          <a:stretch/>
        </p:blipFill>
        <p:spPr>
          <a:xfrm>
            <a:off x="5219640" y="907920"/>
            <a:ext cx="3924360" cy="223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4"/>
          <p:cNvSpPr/>
          <p:nvPr/>
        </p:nvSpPr>
        <p:spPr>
          <a:xfrm>
            <a:off x="6012000" y="62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ние аме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-216000" y="0"/>
            <a:ext cx="968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oel343"/>
          <p:cNvPicPr/>
          <p:nvPr/>
        </p:nvPicPr>
        <p:blipFill>
          <a:blip r:embed="rId1"/>
          <a:stretch/>
        </p:blipFill>
        <p:spPr>
          <a:xfrm>
            <a:off x="-324000" y="765000"/>
            <a:ext cx="4535640" cy="452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{443BC692-6B07-4AF7-80B5-D2177B56493C}"/>
          <p:cNvPicPr/>
          <p:nvPr/>
        </p:nvPicPr>
        <p:blipFill>
          <a:blip r:embed="rId2"/>
          <a:stretch/>
        </p:blipFill>
        <p:spPr>
          <a:xfrm>
            <a:off x="4500720" y="3429000"/>
            <a:ext cx="4643280" cy="3311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5292720" y="692280"/>
            <a:ext cx="36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ачале на материнской клетке образ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ольшой бугорок – почка. Она раст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личивается в размерах. Я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нской клетки делится. Зат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 из образовавшихся дочер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ер перемещается в почку. Образ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ая клетка. Она может продолжать 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е с материнской или отдел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419640" y="1634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к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06520" y="4473720"/>
            <a:ext cx="337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м на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а гидры обра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пления деля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ок – почки, постеп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увеличиваются, у 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ляются щупальц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товое отверс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6836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о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это особый вид клетки с очень плотными оболочками. Споры могут длительное время находиться в состоянии покоя. В таком виде они способны пережидать холод, жару, высыхание, избыток влаги. Когда же наступают благоприятные условия, они прорастают, делятся, и из них образуются новые особ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51_4c"/>
          <p:cNvPicPr/>
          <p:nvPr/>
        </p:nvPicPr>
        <p:blipFill>
          <a:blip r:embed="rId1"/>
          <a:stretch/>
        </p:blipFill>
        <p:spPr>
          <a:xfrm>
            <a:off x="4284720" y="549360"/>
            <a:ext cx="4859280" cy="2805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54"/>
          <p:cNvPicPr/>
          <p:nvPr/>
        </p:nvPicPr>
        <p:blipFill>
          <a:blip r:embed="rId2"/>
          <a:stretch/>
        </p:blipFill>
        <p:spPr>
          <a:xfrm>
            <a:off x="4643280" y="3645000"/>
            <a:ext cx="450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-171360"/>
            <a:ext cx="9325080" cy="702936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Вегетативное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размн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76560" y="2050920"/>
            <a:ext cx="15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95640" y="1773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б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288200" y="2060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419640" y="2565360"/>
            <a:ext cx="229392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рнев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луб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494520" y="5661000"/>
            <a:ext cx="5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{828F5EAA-4C15-4207-8C49-660F2D7CA51D}"/>
          <p:cNvPicPr/>
          <p:nvPr/>
        </p:nvPicPr>
        <p:blipFill>
          <a:blip r:embed="rId1"/>
          <a:stretch/>
        </p:blipFill>
        <p:spPr>
          <a:xfrm>
            <a:off x="1079640" y="4653000"/>
            <a:ext cx="1581120" cy="17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04_1a_2"/>
          <p:cNvPicPr/>
          <p:nvPr/>
        </p:nvPicPr>
        <p:blipFill>
          <a:blip r:embed="rId2"/>
          <a:stretch/>
        </p:blipFill>
        <p:spPr>
          <a:xfrm>
            <a:off x="7020000" y="4005360"/>
            <a:ext cx="1225440" cy="227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07_3a_qu"/>
          <p:cNvPicPr/>
          <p:nvPr/>
        </p:nvPicPr>
        <p:blipFill>
          <a:blip r:embed="rId3"/>
          <a:stretch/>
        </p:blipFill>
        <p:spPr>
          <a:xfrm>
            <a:off x="5651640" y="2924280"/>
            <a:ext cx="1081080" cy="86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4"/>
          <a:stretch/>
        </p:blipFill>
        <p:spPr>
          <a:xfrm>
            <a:off x="395280" y="2997360"/>
            <a:ext cx="2952720" cy="574560"/>
          </a:xfrm>
          <a:prstGeom prst="rect">
            <a:avLst/>
          </a:prstGeom>
          <a:ln w="0">
            <a:noFill/>
          </a:ln>
        </p:spPr>
      </p:pic>
      <p:sp>
        <p:nvSpPr>
          <p:cNvPr id="97" name="Line 15"/>
          <p:cNvSpPr/>
          <p:nvPr/>
        </p:nvSpPr>
        <p:spPr>
          <a:xfrm flipH="1">
            <a:off x="971280" y="1125360"/>
            <a:ext cx="93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4427640" y="1125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6516720" y="112536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4:47:36Z</dcterms:created>
  <dc:creator>Konakova</dc:creator>
  <dc:description/>
  <dc:language>en-US</dc:language>
  <cp:lastModifiedBy>Коля</cp:lastModifiedBy>
  <dcterms:modified xsi:type="dcterms:W3CDTF">2013-05-17T21:33:31Z</dcterms:modified>
  <cp:revision>23</cp:revision>
  <dc:subject/>
  <dc:title>Слайд 1</dc:title>
</cp:coreProperties>
</file>