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34B-72C2-4E8F-8EA2-5566607A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6B3-45CF-4608-9A6A-BAB39667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FF6-F356-40B2-99C3-67C0140F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23F-9FC4-42F0-81C4-FA6C4EDA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0D9-9118-4CD7-B09C-B56F9A20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3C8D-C924-4A48-97A3-D3329CBC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0ED-2F24-42C4-9718-9CB8D8D1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959-E37B-434B-A0B9-CB4D8EB2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54F-5EF1-4D84-9DDF-49B14757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05A-5284-4F05-B927-6C11DD8F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4CD3-2344-49BC-9223-E6442448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BB8-CBDD-4306-B009-5486B4C1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3EAD-C17A-415F-AA35-21E56E5EE4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Mam12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6"/>
          <p:cNvSpPr txBox="1"/>
          <p:nvPr/>
        </p:nvSpPr>
        <p:spPr>
          <a:xfrm>
            <a:off x="0" y="0"/>
            <a:ext cx="9144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ФОРМЫ РАЗМНОЖЕНИЯ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гетативно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02_3_2"/>
          <p:cNvPicPr/>
          <p:nvPr/>
        </p:nvPicPr>
        <p:blipFill>
          <a:blip r:embed="rId1"/>
          <a:stretch/>
        </p:blipFill>
        <p:spPr>
          <a:xfrm>
            <a:off x="0" y="1413000"/>
            <a:ext cx="3887640" cy="3528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2916360" y="22701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03_6_2_little"/>
          <p:cNvPicPr/>
          <p:nvPr/>
        </p:nvPicPr>
        <p:blipFill>
          <a:blip r:embed="rId2"/>
          <a:stretch/>
        </p:blipFill>
        <p:spPr>
          <a:xfrm>
            <a:off x="4211640" y="1052640"/>
            <a:ext cx="4643280" cy="2708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06_2_2"/>
          <p:cNvPicPr/>
          <p:nvPr/>
        </p:nvPicPr>
        <p:blipFill>
          <a:blip r:embed="rId3"/>
          <a:stretch/>
        </p:blipFill>
        <p:spPr>
          <a:xfrm>
            <a:off x="3851280" y="4149720"/>
            <a:ext cx="4643280" cy="2708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 flipV="1" rot="10800000">
            <a:off x="2268000" y="53661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4500720" y="1268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50000">
                <a:srgbClr val="ccff99"/>
              </a:gs>
              <a:gs pos="100000">
                <a:srgbClr val="5e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268360" y="260280"/>
            <a:ext cx="4391280" cy="576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вое размно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1125360"/>
            <a:ext cx="40384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ловом размножении животные производят половые клетки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ме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аждая гамета содержит вдвое меньшее количество хромосом, чем оста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Intr165"/>
          <p:cNvPicPr/>
          <p:nvPr/>
        </p:nvPicPr>
        <p:blipFill>
          <a:blip r:embed="rId1"/>
          <a:stretch/>
        </p:blipFill>
        <p:spPr>
          <a:xfrm>
            <a:off x="6084720" y="836640"/>
            <a:ext cx="2880000" cy="388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Intr164"/>
          <p:cNvPicPr/>
          <p:nvPr/>
        </p:nvPicPr>
        <p:blipFill>
          <a:blip r:embed="rId2"/>
          <a:stretch/>
        </p:blipFill>
        <p:spPr>
          <a:xfrm>
            <a:off x="3276720" y="4913280"/>
            <a:ext cx="4500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Intr161"/>
          <p:cNvPicPr/>
          <p:nvPr/>
        </p:nvPicPr>
        <p:blipFill>
          <a:blip r:embed="rId1"/>
          <a:stretch/>
        </p:blipFill>
        <p:spPr>
          <a:xfrm>
            <a:off x="179280" y="765000"/>
            <a:ext cx="84250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-531720"/>
            <a:ext cx="9325080" cy="738972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57200" y="-3160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ермафродитиз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Worms01_20_little"/>
          <p:cNvPicPr/>
          <p:nvPr/>
        </p:nvPicPr>
        <p:blipFill>
          <a:blip r:embed="rId1"/>
          <a:stretch/>
        </p:blipFill>
        <p:spPr>
          <a:xfrm>
            <a:off x="324000" y="1197000"/>
            <a:ext cx="3206520" cy="5300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Intr162"/>
          <p:cNvPicPr/>
          <p:nvPr/>
        </p:nvPicPr>
        <p:blipFill>
          <a:blip r:embed="rId2"/>
          <a:stretch/>
        </p:blipFill>
        <p:spPr>
          <a:xfrm>
            <a:off x="5105520" y="1197000"/>
            <a:ext cx="4038480" cy="204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Moll26_01"/>
          <p:cNvPicPr/>
          <p:nvPr/>
        </p:nvPicPr>
        <p:blipFill>
          <a:blip r:embed="rId3"/>
          <a:stretch/>
        </p:blipFill>
        <p:spPr>
          <a:xfrm>
            <a:off x="5219640" y="3645000"/>
            <a:ext cx="3816360" cy="3213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2340000" y="3429000"/>
            <a:ext cx="489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ы гермафродитиз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ие черви – белая планар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точные черви – бычий цепе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люски – большой прудов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24000" y="467640"/>
            <a:ext cx="105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фродит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явление, при котором одна и та же особь способ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ить и мужские и женские клетк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0" y="-243000"/>
            <a:ext cx="9144000" cy="7101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дыш развивается без оплодотворения яйцекл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ntr163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артеногене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684360" y="1484280"/>
            <a:ext cx="7416720" cy="43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родыш развивается из неоплодотворенной кл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0" y="-531720"/>
            <a:ext cx="9144000" cy="738972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Ins16_02"/>
          <p:cNvPicPr/>
          <p:nvPr/>
        </p:nvPicPr>
        <p:blipFill>
          <a:blip r:embed="rId1"/>
          <a:stretch/>
        </p:blipFill>
        <p:spPr>
          <a:xfrm>
            <a:off x="0" y="1341360"/>
            <a:ext cx="4781520" cy="3191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Ins26_13"/>
          <p:cNvPicPr/>
          <p:nvPr/>
        </p:nvPicPr>
        <p:blipFill>
          <a:blip r:embed="rId2"/>
          <a:stretch/>
        </p:blipFill>
        <p:spPr>
          <a:xfrm>
            <a:off x="5148360" y="1628640"/>
            <a:ext cx="3671640" cy="47008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457200" y="-243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артеногене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-603360"/>
            <a:ext cx="9144000" cy="7461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реп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ери правильное утвержд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и бесполом размножении участвует один или несколько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оловые клетки называются сперматозоидами и яйцеклет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ри бесполом размножении образуется один новый орган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оловым способом размножаются все многоклеточные орган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Партеногенез – это развитие из неоплодотворенной яйцекле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  Гермафродиты – это организмы, у которых одна и та же  особь способ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ить    мужские и женские гам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) Почкованием могут делиться как одноклеточные, так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клеточные орган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) Спорами  размножаются грибы, мхи, водоросли, лишайн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) Специальными видоизмененными органами размножения явл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ковицы,   корневища, клуб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) Половые клетки животных образуются в половых орган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адачи уро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разовательна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знакомить учащихся с явлением размножения, разнообразием  способов размн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вивающа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вать умения работать с рисунками, таблицами, схемами, сравнивая анализиру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спитательна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пользуя уже известные, а так же полученные сведения, предупредить неправильные толкования вопроса о размн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Формы размн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Arial Narrow"/>
              </a:rPr>
              <a:t>Беспол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еление к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чк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егетатив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порообраз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5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Arial Narrow"/>
              </a:rPr>
              <a:t>Пол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Гермафродит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артеноген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H="1">
            <a:off x="2555640" y="1125360"/>
            <a:ext cx="1655640" cy="7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4067280" y="1125360"/>
            <a:ext cx="1368360" cy="7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полового и бесполог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но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836640"/>
          <a:ext cx="9144000" cy="6021360"/>
        </p:xfrm>
        <a:graphic>
          <a:graphicData uri="http://schemas.openxmlformats.org/drawingml/2006/table">
            <a:tbl>
              <a:tblPr/>
              <a:tblGrid>
                <a:gridCol w="4087800"/>
                <a:gridCol w="505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олое размн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вое размн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имает участие только одна особ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имают участие две особ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черние организмы являются точными копиями материнского организ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черний организм получает комбинацию генов, принадлежащих обоим родителям, и не является их точной  копи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6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меты не образуютс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уются гаметы с одинарным (гаплоидным) набором хромосом, ядра которых сливаются (оплодотворение) образуется зигота, которая несет хромосомы обоих родител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речается у микроорганизмов, грибов, растений и некоторых беспозвоночных животных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о для большинства растений и животны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одит к быстрому увеличению числа особ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50000">
                          <a:srgbClr val="ccff99"/>
                        </a:gs>
                        <a:gs pos="100000">
                          <a:srgbClr val="5e76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дит медленнее, но особи лучше приспосабливаются к изменению условий сред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ы бесполого раз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Organization Chart 7"/>
          <p:cNvGrpSpPr/>
          <p:nvPr/>
        </p:nvGrpSpPr>
        <p:grpSpPr>
          <a:xfrm>
            <a:off x="0" y="1125360"/>
            <a:ext cx="9143640" cy="5730480"/>
            <a:chOff x="0" y="1125360"/>
            <a:chExt cx="9143640" cy="5730480"/>
          </a:xfrm>
        </p:grpSpPr>
        <p:cxnSp>
          <p:nvCxnSpPr>
            <p:cNvPr id="54" name="_s1028"/>
            <p:cNvCxnSpPr>
              <a:stCxn id="55" idx="0"/>
              <a:endCxn id="56" idx="2"/>
            </p:cNvCxnSpPr>
            <p:nvPr/>
          </p:nvCxnSpPr>
          <p:spPr>
            <a:xfrm flipV="1" rot="16200000">
              <a:off x="5949360" y="2037960"/>
              <a:ext cx="1146600" cy="3903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29"/>
            <p:cNvCxnSpPr>
              <a:stCxn id="58" idx="0"/>
              <a:endCxn id="56" idx="2"/>
            </p:cNvCxnSpPr>
            <p:nvPr/>
          </p:nvCxnSpPr>
          <p:spPr>
            <a:xfrm flipV="1" rot="16200000">
              <a:off x="5170320" y="2817000"/>
              <a:ext cx="1146600" cy="2345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030"/>
            <p:cNvCxnSpPr>
              <a:stCxn id="60" idx="0"/>
              <a:endCxn id="56" idx="2"/>
            </p:cNvCxnSpPr>
            <p:nvPr/>
          </p:nvCxnSpPr>
          <p:spPr>
            <a:xfrm flipV="1" rot="16200000">
              <a:off x="4389480" y="3597840"/>
              <a:ext cx="1146600" cy="7840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31"/>
            <p:cNvCxnSpPr>
              <a:stCxn id="62" idx="0"/>
              <a:endCxn id="56" idx="2"/>
            </p:cNvCxnSpPr>
            <p:nvPr/>
          </p:nvCxnSpPr>
          <p:spPr>
            <a:xfrm flipH="1" flipV="1" rot="5400000">
              <a:off x="3609360" y="3601080"/>
              <a:ext cx="1146600" cy="7783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2"/>
            <p:cNvCxnSpPr>
              <a:stCxn id="64" idx="0"/>
              <a:endCxn id="56" idx="2"/>
            </p:cNvCxnSpPr>
            <p:nvPr/>
          </p:nvCxnSpPr>
          <p:spPr>
            <a:xfrm flipH="1" flipV="1" rot="5400000">
              <a:off x="2828160" y="2820240"/>
              <a:ext cx="1146600" cy="23396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3"/>
            <p:cNvCxnSpPr>
              <a:stCxn id="66" idx="0"/>
              <a:endCxn id="56" idx="2"/>
            </p:cNvCxnSpPr>
            <p:nvPr/>
          </p:nvCxnSpPr>
          <p:spPr>
            <a:xfrm flipH="1" flipV="1" rot="5400000">
              <a:off x="2047680" y="2039760"/>
              <a:ext cx="1146600" cy="39006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1034"/>
            <p:cNvSpPr/>
            <p:nvPr/>
          </p:nvSpPr>
          <p:spPr>
            <a:xfrm>
              <a:off x="3902040" y="112536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Бесполо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размнож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5"/>
            <p:cNvSpPr/>
            <p:nvPr/>
          </p:nvSpPr>
          <p:spPr>
            <a:xfrm>
              <a:off x="0" y="456372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ел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лет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6"/>
            <p:cNvSpPr/>
            <p:nvPr/>
          </p:nvSpPr>
          <p:spPr>
            <a:xfrm>
              <a:off x="1561320" y="456372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Шизогония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7"/>
            <p:cNvSpPr/>
            <p:nvPr/>
          </p:nvSpPr>
          <p:spPr>
            <a:xfrm>
              <a:off x="3122640" y="456372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очкование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8"/>
            <p:cNvSpPr/>
            <p:nvPr/>
          </p:nvSpPr>
          <p:spPr>
            <a:xfrm>
              <a:off x="4683960" y="456372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порооб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разование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9"/>
            <p:cNvSpPr/>
            <p:nvPr/>
          </p:nvSpPr>
          <p:spPr>
            <a:xfrm>
              <a:off x="6245640" y="456372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егетативно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размнож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40"/>
            <p:cNvSpPr/>
            <p:nvPr/>
          </p:nvSpPr>
          <p:spPr>
            <a:xfrm>
              <a:off x="7806960" y="4563720"/>
              <a:ext cx="1336680" cy="2292120"/>
            </a:xfrm>
            <a:custGeom>
              <a:avLst/>
              <a:gdLst>
                <a:gd name="textAreaLeft" fmla="*/ 65160 w 1336680"/>
                <a:gd name="textAreaRight" fmla="*/ 1271520 w 133668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7035">
                  <a:moveTo>
                    <a:pt x="3600" y="0"/>
                  </a:moveTo>
                  <a:arcTo wR="3600" hR="3600" stAng="16200000" swAng="-5400000"/>
                  <a:lnTo>
                    <a:pt x="0" y="33435"/>
                  </a:lnTo>
                  <a:arcTo wR="3600" hR="3600" stAng="10800000" swAng="-5400000"/>
                  <a:lnTo>
                    <a:pt x="18000" y="370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Размнож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Участк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тел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Proto273"/>
          <p:cNvPicPr/>
          <p:nvPr/>
        </p:nvPicPr>
        <p:blipFill>
          <a:blip r:embed="rId1"/>
          <a:stretch/>
        </p:blipFill>
        <p:spPr>
          <a:xfrm>
            <a:off x="0" y="3789360"/>
            <a:ext cx="4932360" cy="3068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Intr169"/>
          <p:cNvPicPr/>
          <p:nvPr/>
        </p:nvPicPr>
        <p:blipFill>
          <a:blip r:embed="rId2"/>
          <a:stretch/>
        </p:blipFill>
        <p:spPr>
          <a:xfrm>
            <a:off x="5435640" y="3843360"/>
            <a:ext cx="3708360" cy="3014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5533920" y="328464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еление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летки жгутиконос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рипаносо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Proto192"/>
          <p:cNvPicPr/>
          <p:nvPr/>
        </p:nvPicPr>
        <p:blipFill>
          <a:blip r:embed="rId3"/>
          <a:stretch/>
        </p:blipFill>
        <p:spPr>
          <a:xfrm>
            <a:off x="0" y="1125360"/>
            <a:ext cx="4495680" cy="2065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1"/>
          <p:cNvSpPr/>
          <p:nvPr/>
        </p:nvSpPr>
        <p:spPr>
          <a:xfrm>
            <a:off x="1116000" y="33955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еление простей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2987640" y="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ени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Proto222"/>
          <p:cNvPicPr/>
          <p:nvPr/>
        </p:nvPicPr>
        <p:blipFill>
          <a:blip r:embed="rId4"/>
          <a:stretch/>
        </p:blipFill>
        <p:spPr>
          <a:xfrm>
            <a:off x="5219640" y="907920"/>
            <a:ext cx="3924360" cy="223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4"/>
          <p:cNvSpPr/>
          <p:nvPr/>
        </p:nvSpPr>
        <p:spPr>
          <a:xfrm>
            <a:off x="6012000" y="620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ение аме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-216000" y="0"/>
            <a:ext cx="9684000" cy="6858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oel343"/>
          <p:cNvPicPr/>
          <p:nvPr/>
        </p:nvPicPr>
        <p:blipFill>
          <a:blip r:embed="rId1"/>
          <a:stretch/>
        </p:blipFill>
        <p:spPr>
          <a:xfrm>
            <a:off x="-324000" y="765000"/>
            <a:ext cx="4535640" cy="452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{443BC692-6B07-4AF7-80B5-D2177B56493C}"/>
          <p:cNvPicPr/>
          <p:nvPr/>
        </p:nvPicPr>
        <p:blipFill>
          <a:blip r:embed="rId2"/>
          <a:stretch/>
        </p:blipFill>
        <p:spPr>
          <a:xfrm>
            <a:off x="4500720" y="3429000"/>
            <a:ext cx="4643280" cy="3311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5292720" y="692280"/>
            <a:ext cx="360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ачале на материнской клетке образу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ольшой бугорок – почка. Она раст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еличивается в размерах. Я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нской клетки делится. Зат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 из образовавшихся дочер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дер перемещается в почку. Образу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ая клетка. Она может продолжать ж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месте с материнской или отдел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3419640" y="1634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к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06520" y="4473720"/>
            <a:ext cx="337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м на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а гидры образу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пления деля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еток – почки, постеп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увеличиваются, у 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являются щупальц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товое отверс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68360" y="907920"/>
            <a:ext cx="403848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ор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это особый вид клетки с очень плотными оболочками. Споры могут длительное время находиться в состоянии покоя. В таком виде они способны пережидать холод, жару, высыхание, избыток влаги. Когда же наступают благоприятные условия, они прорастают, делятся, и из них образуются новые особ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51_4c"/>
          <p:cNvPicPr/>
          <p:nvPr/>
        </p:nvPicPr>
        <p:blipFill>
          <a:blip r:embed="rId1"/>
          <a:stretch/>
        </p:blipFill>
        <p:spPr>
          <a:xfrm>
            <a:off x="4284720" y="549360"/>
            <a:ext cx="4859280" cy="2805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54"/>
          <p:cNvPicPr/>
          <p:nvPr/>
        </p:nvPicPr>
        <p:blipFill>
          <a:blip r:embed="rId2"/>
          <a:stretch/>
        </p:blipFill>
        <p:spPr>
          <a:xfrm>
            <a:off x="4643280" y="3645000"/>
            <a:ext cx="450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-171360"/>
            <a:ext cx="9325080" cy="702936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Вегетативное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размнож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76560" y="2050920"/>
            <a:ext cx="15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995640" y="1773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б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288200" y="20606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419640" y="2565360"/>
            <a:ext cx="229392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р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в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рневищ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луб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494520" y="5661000"/>
            <a:ext cx="53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{828F5EAA-4C15-4207-8C49-660F2D7CA51D}"/>
          <p:cNvPicPr/>
          <p:nvPr/>
        </p:nvPicPr>
        <p:blipFill>
          <a:blip r:embed="rId1"/>
          <a:stretch/>
        </p:blipFill>
        <p:spPr>
          <a:xfrm>
            <a:off x="1079640" y="4653000"/>
            <a:ext cx="1581120" cy="176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04_1a_2"/>
          <p:cNvPicPr/>
          <p:nvPr/>
        </p:nvPicPr>
        <p:blipFill>
          <a:blip r:embed="rId2"/>
          <a:stretch/>
        </p:blipFill>
        <p:spPr>
          <a:xfrm>
            <a:off x="7020000" y="4005360"/>
            <a:ext cx="1225440" cy="2276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07_3a_qu"/>
          <p:cNvPicPr/>
          <p:nvPr/>
        </p:nvPicPr>
        <p:blipFill>
          <a:blip r:embed="rId3"/>
          <a:stretch/>
        </p:blipFill>
        <p:spPr>
          <a:xfrm>
            <a:off x="5651640" y="2924280"/>
            <a:ext cx="1081080" cy="86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4"/>
          <a:stretch/>
        </p:blipFill>
        <p:spPr>
          <a:xfrm>
            <a:off x="395280" y="2997360"/>
            <a:ext cx="2952720" cy="574560"/>
          </a:xfrm>
          <a:prstGeom prst="rect">
            <a:avLst/>
          </a:prstGeom>
          <a:ln w="0">
            <a:noFill/>
          </a:ln>
        </p:spPr>
      </p:pic>
      <p:sp>
        <p:nvSpPr>
          <p:cNvPr id="97" name="Line 15"/>
          <p:cNvSpPr/>
          <p:nvPr/>
        </p:nvSpPr>
        <p:spPr>
          <a:xfrm flipH="1">
            <a:off x="971280" y="1125360"/>
            <a:ext cx="93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4427640" y="1125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"/>
          <p:cNvSpPr/>
          <p:nvPr/>
        </p:nvSpPr>
        <p:spPr>
          <a:xfrm>
            <a:off x="6516720" y="1125360"/>
            <a:ext cx="100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4:47:36Z</dcterms:created>
  <dc:creator>Konakova</dc:creator>
  <dc:description/>
  <dc:language>en-US</dc:language>
  <cp:lastModifiedBy>Коля</cp:lastModifiedBy>
  <dcterms:modified xsi:type="dcterms:W3CDTF">2013-05-17T21:33:31Z</dcterms:modified>
  <cp:revision>23</cp:revision>
  <dc:subject/>
  <dc:title>Слайд 1</dc:title>
</cp:coreProperties>
</file>