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DEB-02CF-43C9-95F5-E947283B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978-E90E-4194-928F-E65B3329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95D-9F59-4052-AB5F-7B351ADA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37A-C452-4130-A31C-EEB5804F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34E4-8D3C-4A2E-9D40-5D7A3B77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9053-BC61-4BB6-92BA-8BC3ACAA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B013-5DA6-4804-8FE1-DA71377D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AC7D-D970-4BC8-9D60-ABE69DC4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496F-5D8B-4D0F-835C-93D8969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6972-1382-47EB-9222-7988B2A3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D014-803A-474C-8FE7-2A8B07E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D0E-F82C-46E1-8728-1E5D128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DD92-714F-4C0C-B67B-199D6C9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45F1-10D5-4052-8D68-9E1816A4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F8E9-57D1-4C8A-A8DF-E65E90CD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01BE-E783-44DA-9DA0-C45F3D09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D5EE-C329-41BE-8D2F-69F45F7A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479-70F3-4B1B-B840-83120C8B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B2F-EBB4-4918-AF55-BBA5A3F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A92-1507-42E5-8D5F-F00C4324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0C1-D091-4ED0-830A-EB92FE05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FFA-0586-42F5-8D23-42FA951B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255-1D7F-472E-B4FC-BEEC1A26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C60-2A5F-4DBD-A22C-D5E9221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18EA-D0C9-4816-9599-C72AEFE49A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A108-6517-4B53-9773-9D27296A59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286000" y="990720"/>
            <a:ext cx="5362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приёмы раб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09680" y="2209680"/>
            <a:ext cx="51818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текстом при подготовк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371600" y="3352680"/>
            <a:ext cx="635328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исания сжатого изложения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38080" y="4343400"/>
            <a:ext cx="7534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гвостилистический анализ текста В.Песков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 Ивченко И.Н.,учитель русского языка и литератур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Исклю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повтор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фрагмента предложе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лючение одного или нескольких синоним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Слия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ияние нескольких предложений в од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Какова позиция автора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рирода сложна. Надо воспринимать её красоту по-настояще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Кто должен научить их (ребят) беречь и любить природу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Какие речевые средства выразительности использует В.Песков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сика, характерная для публицистического стиля: должен, беречь, люб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разы: дятел у него “музыкант”, его произведение на древесной коре - “узор”, вместо привычного “стука дятла” - “костяной молоточек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рсия (“лет семнадцати парень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лицетворения (лес молчит), сравнения (дятел – музыкант), эпитеты (безмолвный    лес),  Песков использует только вначале, при описании природы и дят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Каковы синтаксические особенности текста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аткость предложений, причастные и деепричастные обороты, вводные слова и предложения, бессоюзные сложные предло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ст. Задания части 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Из предложений 7-16 найдите и запишите номера предложений с вводным слов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Сколько грамматических основ в предложении 1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Определите способ словообразования слова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амодельны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Из сложноподчинённого предложения 11 выпишите грамматическую основу главного предло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Из предложений 12-16 выпишите слова, правописание приставки в которых определяется правилом «На конце приставки пишется –С, если после неё следует буква, обозначающая глухой согласны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Из предложения 12 выпишите словосочетания, построенные на основе подчинительной связи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УПРАВЛЕ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тветы на тес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 7,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т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сложение с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единительной гласной и одновременным присоединением суффик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идно был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спрятался, испорченну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прятался за куст, любуясь работо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 из заданий экзамена – это написание сочинения по заданному тексту, дома я попрошу вас написать сочинение, в котором вы выразите свое отношение к проблеме, поднятой В. Песковым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блема, поднятая в рассказе, важна и имеет первостепенное значение для формирования жизненной позиции человека. Я думаю, что у каждого  из вас на этот счет есть свое мн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 природе я отношусь не только как зоолог и биоло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ирода для меня – это познание жизни, её закон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ассказ о природе – не только просвещение человек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о и формирование его мировоззрения, основанног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 знания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. Песко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125960" cy="56311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ыполните задания, которые помогут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роверить глубину и точность сжатия текс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тему тек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формулировать  основную мыс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сти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тип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делить микро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ь способ сокращения тек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дать содержание как каждой микротемы, так и всего текста в цел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Тема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О внутренней пустоте сегодняшней молодёжи, её равнодушии и слепоте к той красоте, которая окружает каждого из на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Основная мысль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Автор призывает беречь и любить родную природу, любить всё прекрасное и живое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609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540640" cy="6099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Стиль текс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ублицистическ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Типы реч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исание (природа, тишина), повествование (сначала удивительная работа дятла, затем его внезапная смерть и виновник этой смерти), рассуждения автора (о воспитании молодёж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Микротем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тишина леса, радость от «музыки» дятл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) внезапный выстре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) встреча с виновником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) безмолвный урок автор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) призыв к молодому поколению беречь, любить всё живое и прекрас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держательны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Разделение информации на главную и второстепенную, исключение второстепенной и несущественной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  Свертывание исходной информации за счёт обобщ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иёмы компрессии тек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зыковы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заме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днородные члены обобщённым наименова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агмента текста синонимичным выраж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ение или его части указательным местоим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П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м предлож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ение или его части определительным или отрицательным местоиме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29T14:44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