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AD6-7EE0-4E73-A28F-3EDF82C7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67C-1B9C-42F8-9DFB-C6B5ABF6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A99-2A6B-4D86-BA1B-FE77C07A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DF7-D60B-4215-A0AA-A38563C1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9B5-C29A-4B31-8BBB-04607EBA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889-739B-4579-8E7F-2000953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9F0-5200-44B0-9144-705AA44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99CC-5497-4E50-8055-D2377C2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DB16-97DA-4648-BD8F-D19C8AD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EBBC-D4C1-4006-BDD1-3C4F5F8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9F8D-9FE8-47A0-A4D7-4177066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019-CDA4-425A-A0F5-5D7EE554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9F6-DF5A-42E8-952F-5DEA8B7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3CA-5A91-4602-B46D-DEA4038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B1C-3C93-4403-9F9E-05B25CC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B09-A37F-40E2-AFC4-455A44E0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CD3-130B-478C-91E8-D00CB946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D0E-3BDC-4361-BC55-BB0BE885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55A-6B43-4890-8CC5-E778D5BB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A16-0C4B-4E1D-9167-5DB3E4AB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553-63E1-43EA-BAED-4D371CE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B48-B3A9-450B-97A5-6355B5B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030-0DA4-48C7-AE5F-C412415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615-96EE-4CC6-B35C-284E2C7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759-E411-4704-A892-9F69A1AA0A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D1F-E3B0-40D1-BB47-FF14761787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86000" y="990720"/>
            <a:ext cx="5362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иёмы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09680" y="2209680"/>
            <a:ext cx="51818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текстом при подготовк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371600" y="3352680"/>
            <a:ext cx="635328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ния сжатого изложени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4343400"/>
            <a:ext cx="7534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остилистический анализ текста В.Песков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Ивченко И.Н.,учитель русского языка и литератур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Исклю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повтор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фрагмента предлож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одного или нескольких синоним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Слия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ияние нескольких предложений в од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Какова позиция автора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ирода сложна. Надо воспринимать её красоту по-настояще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Кто должен научить их (ребят) беречь и любить природу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Какие речевые средства выразительности использует В.Песков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сика, характерная для публицистического стиля: должен, беречь, люб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разы: дятел у него “музыкант”, его произведение на древесной коре - “узор”, вместо привычного “стука дятла” - “костяной молоточек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рсия (“лет семнадцати парень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я (лес молчит), сравнения (дятел – музыкант), эпитеты (безмолвный    лес),  Песков использует только вначале, при описании природы и дят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Каковы синтаксические особенности текста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аткость предложений, причастные и деепричастные обороты, вводные слова и предложения, бессоюзные сложные предло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ст. Задания части 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Из предложений 7-16 найдите и запишите номера предложений с вводным сло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Сколько грамматических основ в предложении 1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Определите способ словообразования слова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амодельны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Из сложноподчинённого предложения 11 выпишите грамматическую основу главного предло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Из предложений 12-16 выпишите слова, правописание приставки в которых определяется правилом «На конце приставки пишется –С, если после неё следует буква, обозначающая глухой согласны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Из предложения 12 выпишите словосочетания, построенные на основе подчинительной связи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ПРАВЛ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тветы на тес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 7,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т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ложение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единительной гласной и одновременным присоединением суффик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идно бы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спрятался, испорченн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прятался за куст, любуясь работо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 из заданий экзамена – это написание сочинения по заданному тексту, дома я попрошу вас написать сочинение, в котором вы выразите свое отношение к проблеме, поднятой В. Песковым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а, поднятая в рассказе, важна и имеет первостепенное значение для формирования жизненной позиции человека. Я думаю, что у каждого  из вас на этот счет есть свое мн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 природе я отношусь не только как зоолог и биол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ирода для меня – это познание жизни, её закон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ссказ о природе – не только просвещение человек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о и формирование его мировоззрения, основанно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 знания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. Песк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125960" cy="56311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ыполните задания, которые помогут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оверить глубину и точность сжатия текс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ему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формулировать  основную мыс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ти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ип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микро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пособ сокращения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дать содержание как каждой микротемы, так и всего текста в це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 внутренней пустоте сегодняшней молодёжи, её равнодушии и слепоте к той красоте, которая окружает каждого из на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новная мысль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Автор призывает беречь и любить родную природу, любить всё прекрасное и живо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540640" cy="6099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тиль текс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ублицистиче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Типы реч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исание (природа, тишина), повествование (сначала удивительная работа дятла, затем его внезапная смерть и виновник этой смерти), рассуждения автора (о воспитании молодёж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икротем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тишина леса, радость от «музыки» дятл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внезапный выстре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) встреча с виновнико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безмолвный урок автор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) призыв к молодому поколению беречь, любить всё живое и прекрас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держательны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Разделение информации на главную и второстепенную, исключение второстепенной и несущественн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  Свертывание исходной информации за счёт обоб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зыковы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зам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днородные члены обобщённым наименова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гмента текста синонимичным выра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указательным местоим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м предло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определительным или отрицательным местоим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9T14:44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