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5D75-8359-4DAE-AE95-3F676C85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59BF-76AA-4369-9410-8177EB83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FB28-718A-4F68-9D0C-2037080E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25CD-28C8-4191-A6F4-2B082E05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90A6-F193-49AE-93CE-6AAC968E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CC60-4A91-4471-9232-F3D6758E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1F5C-21CD-40D7-9F5C-23000D9E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167A-A6AB-4239-94E4-AC599C9F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02F5-6B91-41F8-A9D3-CB1DC405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6842-97B1-4F09-9B94-D9F84D54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415F-3FDD-4DFB-BF8D-67E85CAA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E16F-4C06-46D2-9B59-2A9E492E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66AD-8E9B-4B53-A21C-563CA64D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A816-596C-4F6D-8C81-749BB36F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4210-10A5-4184-969E-CC26F393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0D02-0389-44E1-9E7A-7A25B2B7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2218-CBC8-4CBA-BACF-F58D9DB8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9256-4904-47EB-A3F3-ECB72ADE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32CF-1C52-4DFA-B580-75C8CC78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E25E-9D98-4470-889B-DF0E276E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D247-9ED9-4C6B-BE89-44D5675C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AF62-4A3D-47F8-B4A3-83BD1873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B602-C682-4A68-8DB3-1724C63E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E93F-AF2E-438D-9EB0-0E4A890A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D0A0-2559-49F4-82D8-661F9FDCB8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EB38-8396-49FE-96EC-5EAED53C7A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2286000" y="990720"/>
            <a:ext cx="53625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новные приёмы работ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209680" y="2209680"/>
            <a:ext cx="518184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 текстом при подготовке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371600" y="3352680"/>
            <a:ext cx="6353280" cy="4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писания сжатого изложения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38080" y="4343400"/>
            <a:ext cx="75344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нгвостилистический анализ текста В.Пескова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втор: Ивченко И.Н.,учитель русского языка и литературы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иёмы компрессии текст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 Исключ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ключение повторо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ключение фрагмента предложени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ключение одного или нескольких синоним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) Слия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слияние нескольких предложений в одн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Какова позиция автора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Природа сложна. Надо воспринимать её красоту по-настоящем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Кто должен научить их (ребят) беречь и любить природу?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Какие речевые средства выразительности использует В.Песков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ексика, характерная для публицистического стиля: должен, беречь, люби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ифразы: дятел у него “музыкант”, его произведение на древесной коре - “узор”, вместо привычного “стука дятла” - “костяной молоточек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нверсия (“лет семнадцати парень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лицетворения (лес молчит), сравнения (дятел – музыкант), эпитеты (безмолвный    лес),  Песков использует только вначале, при описании природы и дятл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Каковы синтаксические особенности текста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раткость предложений, причастные и деепричастные обороты, вводные слова и предложения, бессоюзные сложные предлож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Тест. Задания части В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)Из предложений 7-16 найдите и запишите номера предложений с вводным слов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) Сколько грамматических основ в предложении 15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) Определите способ словообразования слова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самодельны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) Из сложноподчинённого предложения 11 выпишите грамматическую основу главного предлож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) Из предложений 12-16 выпишите слова, правописание приставки в которых определяется правилом «На конце приставки пишется –С, если после неё следует буква, обозначающая глухой согласный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) Из предложения 12 выпишите словосочетания, построенные на основе подчинительной связи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УПРАВЛЕНИ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Ответы на тест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)  7, 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) тр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) сложение с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единительной гласной и одновременным присоединением суффик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) видно был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) спрятался, испорченну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) спрятался за куст, любуясь работо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но из заданий экзамена – это написание сочинения по заданному тексту, дома я попрошу вас написать сочинение, в котором вы выразите свое отношение к проблеме, поднятой В. Песковым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блема, поднятая в рассказе, важна и имеет первостепенное значение для формирования жизненной позиции человека. Я думаю, что у каждого  из вас на этот счет есть свое мне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К природе я отношусь не только как зоолог и биоло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рирода для меня – это познание жизни, её закон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Рассказ о природе – не только просвещение человека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о и формирование его мировоззрения, основанного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а знаниях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В. Песко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125960" cy="563112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Выполните задания, которые помогут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проверить глубину и точность сжатия текст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ить тему текс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формулировать  основную мыс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ить сти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ить типы реч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делить микроте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ить способ сокращения текс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едать содержание как каждой микротемы, так и всего текста в цел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Тема текст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О внутренней пустоте сегодняшней молодёжи, её равнодушии и слепоте к той красоте, которая окружает каждого из на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Основная мысль текст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Автор призывает беречь и любить родную природу, любить всё прекрасное и живое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6095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540640" cy="6099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Стиль текст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ублицистическ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Типы реч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исание (природа, тишина), повествование (сначала удивительная работа дятла, затем его внезапная смерть и виновник этой смерти), рассуждения автора (о воспитании молодёж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Микротемы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) тишина леса, радость от «музыки» дятл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) внезапный выстрел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) встреча с виновником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) безмолвный урок автор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) призыв к молодому поколению беречь, любить всё живое и прекрас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иёмы компрессии текст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одержательны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   Разделение информации на главную и второстепенную, исключение второстепенной и несущественной информац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)   Свертывание исходной информации за счёт обобщ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иёмы компрессии текст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зыковые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заме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однородные члены обобщённым наименование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рагмента текста синонимичным выражение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ложение или его части указательным местоимение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П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стым предложение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ложение или его части определительным или отрицательным местоимени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0-29T14:44:0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