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385-00CB-4664-A6A0-F94B2FB3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EDA-4D45-4112-B244-FC44FF12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972-D76B-42C3-8017-AB3D473D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651-41FA-4D69-89A5-593B1465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E548-957A-46C7-846F-DCC4328B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35FCC-EB4F-4C61-92D9-F126444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D8B2-903C-406C-86F1-AEFA1F3C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9ED9F-0121-4E97-BD3A-4DC0812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BF079-62FB-4943-A840-21CD594B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4D60E-28CC-482D-BC79-06F0F4F7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94A87-4596-43D0-8CC6-C18E5BA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0F1-E15D-4071-BC77-E9E02965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C465-0809-44CB-BC26-6E3B7A9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5A4A8-2DF5-439A-A89B-C37E8D8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C791B-24E5-481E-BA3B-2F77C01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C2280-7E11-43B6-A8A1-1E21D072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91B0-79C5-4716-A8F4-0DB96B2A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34AE-4211-48E5-A321-7046B208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C95E-900A-4EDD-B772-7742E8F9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3925-D7CE-4065-8FEC-5C960C48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63D3-BB2A-416E-88CF-41C0C29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4915-53F1-404F-8B77-2CAB68F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2AF-5022-420E-B4D5-0583878F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E96A-19D1-4163-A0A0-239C843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433E-F0C2-429E-B4A6-8A9E7CF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4331-7C16-48E5-BB69-88CF5E6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4244-8DBB-4043-BC9B-D8A4570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65E5-2751-4F40-B4A5-962498E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CFBA-BAFB-465C-A50E-64E1F01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E35A-2D3D-4785-9197-AC2CEA0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C38A5-FF07-41F9-A681-C34EC49E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524F3-DC12-4D35-BC81-BB88E86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AB31A-4835-4B25-B920-492DD28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D84-F0EC-48AF-B604-E96C1AA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107E0-11CD-45E4-9F5B-FE87CD0B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14DEB-7AB0-46F6-BCC9-0317F522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13B6A-BC36-4CC9-87CE-5BD354BB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90367-0202-468C-BCB0-4BF7827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93294-DCE3-4E98-B4F4-0D3CD74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513F2-E696-4EF7-A7FB-36FB14F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A67AC-ED45-443E-B068-8632EE0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09662-C6F6-495A-8DD6-F8127B97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74E00-EC8F-4B46-8909-C0366729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FE1B1-EF68-4E46-BB06-9810EC5D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599-189C-4BCC-8FB3-E3BD272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4A017-41CB-40AB-85E0-73222BE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2BB34-0EBD-4265-A852-2E8772BB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D5513-11F0-43F4-BA27-F77E0B3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7EB3B-CFAD-4F82-8418-2825C1FC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C2425-CB7C-4AAC-BD40-D4E2F54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15D70-5F0C-4E39-A5BC-7D5B2CA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CD28B-F25A-47C0-8864-0F0064F2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94683-C037-4498-ADFF-B118C62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9AC92-7FC2-4AB8-AC6C-126426B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E0CD5-40F3-4BD8-BB52-23C226CA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7F4-0FEF-4D74-B190-F30AD6E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2EF6B-FCE6-4E73-BA43-39F5EC03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1D1A4-A071-4BC6-A3E8-9C6E015E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0DF3F-C4B7-46E8-B4AA-801F477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7CE25-9C5C-4E94-83F9-AC6F61E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7D011-AB35-4C72-925F-5FCAC9D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569D1-7DA0-48AE-A93C-DCA5F4A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59EDE-A472-4EC2-A023-FB6B296D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B9988-957C-4225-A21F-B332037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692B5-0152-4DF4-BEE8-EDF3909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1BB2B-BA15-4DC3-BDCD-25DE0B5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9C1-155D-4A08-A85A-7F71B98E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0BD4B-246F-441A-A32A-E065F83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239F3-D983-4EEB-BD51-007D2A9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A2FE2-A682-448B-999F-17B07011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3FA-43E2-4125-9AE2-7F1A62E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DD0-413C-4B32-A9CB-4EF7BE5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7C3-A77B-47C2-9A8B-61C3F68A5FA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451E-DAD7-494E-A529-B1A253982D0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0B6-9836-4F71-BD70-3EEF7F804D9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3654-86D7-42AD-99FD-423DFF50F6C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49FD-947F-4132-B901-9F0D3C5B1C7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C8F-794E-48A8-863A-A4E722E0C9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360" y="2142720"/>
            <a:ext cx="7939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fac9"/>
                </a:solidFill>
                <a:latin typeface="Constantia"/>
              </a:rPr>
              <a:t>Христофор Колумб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Исполните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ученики 7 к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МОУ ООШ №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Шакиров 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Вяткин 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2010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7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77853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17960" y="928440"/>
            <a:ext cx="3927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Христофор Колумб родился 1451-1506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оряк из города Гену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8" descr="C:\Documents and Settings\Администратор\Рабочий стол\ПЕРВООТКРЫВ\kol.jpg"/>
          <p:cNvPicPr/>
          <p:nvPr/>
        </p:nvPicPr>
        <p:blipFill>
          <a:blip r:embed="rId1"/>
          <a:stretch/>
        </p:blipFill>
        <p:spPr>
          <a:xfrm>
            <a:off x="571680" y="714240"/>
            <a:ext cx="3822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917960" y="500040"/>
            <a:ext cx="3927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лумб утверждал что Китая и Индии можно достичь, плывя из Европы на запад через Атлантику. Король Фернандо и королева Изабелла согласились снарядить экспедицию в Индию, которая должна была пересечь океан, чтобы опередить португальце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Picture 10" descr="Христофор Колумб"/>
          <p:cNvPicPr/>
          <p:nvPr/>
        </p:nvPicPr>
        <p:blipFill>
          <a:blip r:embed="rId1"/>
          <a:stretch/>
        </p:blipFill>
        <p:spPr>
          <a:xfrm>
            <a:off x="571680" y="714240"/>
            <a:ext cx="4143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90360" y="928440"/>
            <a:ext cx="77245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12 октября 1492.г участники экспедиции достигли Багамские острова не далеко от побережья Америки. Колумб, будучи уверен, что он достиг стран Востока и что до Индии совсем недалеко, назвал местных жителей индейцами. Сам континент долго еще именовали Индией или Вест-Индией. Америнго Веспучи  был первым, кто во всеуслышание заявил, что открытые Колумбом земли – не Азия, а Новый Свет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Колумб совершил еще три плавания за океан, входе которых были открыты все Большие и Малые Антильские остро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ПЕРВООТКРЫВ\маршрут колумба.jpg"/>
          <p:cNvPicPr/>
          <p:nvPr/>
        </p:nvPicPr>
        <p:blipFill>
          <a:blip r:embed="rId1"/>
          <a:stretch/>
        </p:blipFill>
        <p:spPr>
          <a:xfrm>
            <a:off x="863640" y="2000160"/>
            <a:ext cx="7709040" cy="41436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ам Колумб скоро попал в немилость при королевском дворе и умер в полной безвестности. Однако история расставляет все по своим местам. И теперь мы с благодарной памятью чтим Колумба как великого мореплавателя-первооткрывател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40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07:31Z</dcterms:created>
  <dc:creator>1</dc:creator>
  <dc:description/>
  <dc:language>en-US</dc:language>
  <cp:lastModifiedBy>Admin</cp:lastModifiedBy>
  <dcterms:modified xsi:type="dcterms:W3CDTF">2010-10-13T13:53:33Z</dcterms:modified>
  <cp:revision>8</cp:revision>
  <dc:subject/>
  <dc:title>ПЕРВООТКРЫВАТЕЛИ</dc:title>
</cp:coreProperties>
</file>