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96B-82E4-469A-A676-1349B04D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0C9-6AA3-4507-8ADD-BD5221D4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EE5-66BA-48B4-9378-A2003E74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86F-70BF-4D4A-A1B0-137946F4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97936-A2D2-4255-A330-0068C316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53774-DAF4-43DA-A82F-94F5D00A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FD4C2-036C-4BF2-9C2E-5096EE8E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A32F2-76F4-4AD6-8F1C-944DA8F3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7D55D-F92E-44CF-B811-BC8DC56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8F804-16FC-4721-8340-9B8FBD38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BA88E-82A5-4A23-A5DC-8533056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F73-EF22-4DB3-AAB7-559F1434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436EB-0869-412B-A89D-E0A9CAC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05755-F99C-450F-BFD1-E8375965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1A956-C10D-45E7-8A2D-209AEBE7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C9696-245A-413E-8F5E-2B3A2091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6318C-B8C9-4545-9843-E528A33D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A1AA-232C-4412-9DDA-DDD67E33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B43C-AE58-4BD0-8915-8568DABF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1E68-D4F9-4FF7-9AE9-2DBAC408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E296B-AA3E-49C2-B687-508C8DC0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53F4-AE5A-4238-9F45-01E7CB38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AF3-CE65-41DF-9207-2C1BB8A5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F195-4EA5-4870-A572-C6194D0F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E74B-945F-44C3-9F38-F9EA69CB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14FC-D76D-4A97-B186-95F7FF92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8D9A-3B22-42AD-AAC2-5705E03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94D2-676C-496C-AD3A-E95ABB3E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8197-B373-4162-B0D4-444BD77C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C05D-CD39-4EEA-B1A0-B669A63B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4D2D4-C7FD-4DD7-B280-0F6D3EFB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19B7D-78EC-4AEB-8F11-1C2C1A62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7A16B-4F0D-4ED1-B6F4-63E14E59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9EC-99C2-40CF-AF92-EC0535F0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7E3DF-41CB-4993-A773-A950586E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2399B-E735-4E1D-AB35-1388FFB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832D7-76F1-46C4-82BD-696AED6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6DAC0-7168-4508-9C7A-D458EC2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00DC3-BF45-4778-91A5-F59E327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0CD56-13FC-455E-8082-C06801BF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EE457-C6B5-404B-8623-A3360ADC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0B9E8-C4B5-4301-911B-B0FA0970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B0352-AAF3-4E27-AD69-2E8A5DE1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0BBA9-21ED-4906-8802-DAF63041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3D6-811E-435D-BC82-275E7705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446DF-8733-437B-9FC1-0F36F4BA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A1B05-16C3-448F-B39D-9F7DECB3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A0FD1-434B-4105-A63D-2C2C459B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B7E88-D72E-4E05-ACF2-75CA0CA2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6E786-6DC4-4F53-8616-15C19D3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50F4D-DFA2-40C0-AB48-E340F01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177C4-5B13-4A05-AF84-F5825019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B0992-7E84-423F-83B5-56FFF79C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7B22E-B76D-4F15-BC14-386FC43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F398E-70DB-458F-BD59-34A97868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090-F093-44F3-B6E3-8AE75665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F50F0-CCC0-43FB-8E71-77CDC8EC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8D49A-9A11-42EC-AC95-07EBD4F1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07DF3-D35A-4F98-A6D6-26E5B47A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E896A-6209-441F-B98D-F28DD61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333E2-6C47-4FB5-ADDA-CB4AAC16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E6579-8209-4AE2-969D-75881643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97010-60C0-4AAA-9389-2D92649E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B9881-A812-47BC-B490-2BC59E4E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B1347-BE88-4052-BAC6-F5CFF88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82111-0831-4988-A38E-D75CC6F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142-549C-47E2-9CB8-8F041D41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FAAA6-6AC3-4B96-8DC3-32C628E2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88B8D-24EE-4757-BE4B-07447B3B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60FCF-1668-4F92-91BD-8AE30E8F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9CD-CF64-4423-863E-5EC907A0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53B-544A-4D88-802F-D35806DC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1DF3-E836-4E2B-96DA-0625CB9B87E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6C90-0FCB-4AC6-9A7A-63508B5FA4D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D51E-7D80-4F10-BCA0-A6516AEE31A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60BB-183E-47CA-B470-3F195F747AB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DC88-3374-4096-B861-5CFE367B526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C8CC-CA6D-4C3B-A7FB-6E0896636FC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360" y="2142720"/>
            <a:ext cx="7939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fac9"/>
                </a:solidFill>
                <a:latin typeface="Constantia"/>
              </a:rPr>
              <a:t>Христофор Колумб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Исполнител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ученики 7 к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МОУ ООШ №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Шакиров 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                         </a:t>
            </a: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Вяткин С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Constantia"/>
              </a:rPr>
              <a:t>2010 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7" descr=""/>
          <p:cNvPicPr/>
          <p:nvPr/>
        </p:nvPicPr>
        <p:blipFill>
          <a:blip r:embed="rId1"/>
          <a:stretch/>
        </p:blipFill>
        <p:spPr>
          <a:xfrm>
            <a:off x="749160" y="615960"/>
            <a:ext cx="77853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917960" y="928440"/>
            <a:ext cx="3927600" cy="51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Христофор Колумб родился 1451-1506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Моряк из города Гену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Picture 8" descr="C:\Documents and Settings\Администратор\Рабочий стол\ПЕРВООТКРЫВ\kol.jpg"/>
          <p:cNvPicPr/>
          <p:nvPr/>
        </p:nvPicPr>
        <p:blipFill>
          <a:blip r:embed="rId1"/>
          <a:stretch/>
        </p:blipFill>
        <p:spPr>
          <a:xfrm>
            <a:off x="571680" y="714240"/>
            <a:ext cx="3822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917960" y="500040"/>
            <a:ext cx="39276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лумб утверждал что Китая и Индии можно достичь, плывя из Европы на запад через Атлантику. Король Фернандо и королева Изабелла согласились снарядить экспедицию в Индию, которая должна была пересечь океан, чтобы опередить португальце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Picture 10" descr="Христофор Колумб"/>
          <p:cNvPicPr/>
          <p:nvPr/>
        </p:nvPicPr>
        <p:blipFill>
          <a:blip r:embed="rId1"/>
          <a:stretch/>
        </p:blipFill>
        <p:spPr>
          <a:xfrm>
            <a:off x="571680" y="714240"/>
            <a:ext cx="4143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90360" y="928440"/>
            <a:ext cx="77245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ac9"/>
                </a:solidFill>
                <a:latin typeface="Constantia"/>
              </a:rPr>
              <a:t>12 октября 1492.г участники экспедиции достигли Багамские острова не далеко от побережья Америки. Колумб, будучи уверен, что он достиг стран Востока и что до Индии совсем недалеко, назвал местных жителей индейцами. Сам континент долго еще именовали Индией или Вест-Индией. Америнго Веспучи  был первым, кто во всеуслышание заявил, что открытые Колумбом земли – не Азия, а Новый Свет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ac9"/>
                </a:solidFill>
                <a:latin typeface="Constantia"/>
              </a:rPr>
              <a:t>Колумб совершил еще три плавания за океан, входе которых были открыты все Большие и Малые Антильские остров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Documents and Settings\Администратор\Рабочий стол\ПЕРВООТКРЫВ\маршрут колумба.jpg"/>
          <p:cNvPicPr/>
          <p:nvPr/>
        </p:nvPicPr>
        <p:blipFill>
          <a:blip r:embed="rId1"/>
          <a:stretch/>
        </p:blipFill>
        <p:spPr>
          <a:xfrm>
            <a:off x="863640" y="2000160"/>
            <a:ext cx="7709040" cy="4143600"/>
          </a:xfrm>
          <a:prstGeom prst="rect">
            <a:avLst/>
          </a:prstGeom>
          <a:ln w="0">
            <a:noFill/>
          </a:ln>
        </p:spPr>
      </p:pic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ам Колумб скоро попал в немилость при королевском дворе и умер в полной безвестности. Однако история расставляет все по своим местам. И теперь мы с благодарной памятью чтим Колумба как великого мореплавателя-первооткрывател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4013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9:07:31Z</dcterms:created>
  <dc:creator>1</dc:creator>
  <dc:description/>
  <dc:language>en-US</dc:language>
  <cp:lastModifiedBy>Admin</cp:lastModifiedBy>
  <dcterms:modified xsi:type="dcterms:W3CDTF">2010-10-13T13:53:33Z</dcterms:modified>
  <cp:revision>8</cp:revision>
  <dc:subject/>
  <dc:title>ПЕРВООТКРЫВАТЕЛИ</dc:title>
</cp:coreProperties>
</file>