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09E0-F6A0-462B-9F32-F70DB6634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A5B1-A50E-4EA1-BA76-2DCB475EB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319E-BAF0-4CA1-B0CE-7319C1A52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AC9B-042F-4B06-9ABC-0B823BC4D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0F5145-4C56-40D0-9F69-549239C3A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BB4608-492F-4389-A4B1-811038070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F81984-9B7D-471D-9BCD-62D1C779C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8B0CD8-38C4-4DEF-8526-E96E72CF6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E6A26C-44DB-40B8-85BC-941606F39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9F278F-E320-43B2-AACF-CC754CCF8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56CD6D-A385-4ACD-B763-EC25A07B8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E069-F6D2-4DFF-AEEF-B496462AF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A22AD5-1F89-432C-8004-249AD9ECF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C5B774-D378-4D43-8A05-9FD578867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DA0A80-7CA4-418C-AB18-85793459E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3D322E-A575-4B6C-A4D3-23925C8B3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196D98-1C62-4B07-82D7-D5B94F2E0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2BC59-07F5-4EA2-819C-170346A6D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38EE4-A5F9-4D0D-A5A5-B633A010A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624DC-9F40-4105-B610-1ED8DA944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DB5B7-5CD9-4D10-8C52-C729EFAEA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744C6-C3D6-4EFA-A173-48D8A9C7D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4DD3-E221-4FB3-B01B-6759BDD23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D8485-5493-402C-A024-D1585FE93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0C5C8-63C2-422F-8B9B-0C232799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AFD6F-6A71-4CA1-89B9-B422B193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7219D-DA79-4869-B1D2-50D50643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E5EBE-0558-462C-A473-EE2CDE169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73532-8699-433A-96C7-28897583E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E49D3-B4B3-4C89-91E4-3222CA451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011C2D-2AAC-4DD0-B7D4-4895C1656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0B0EB2-5EBF-4C34-9631-C07EB3B2D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784B4C-5745-4FDC-92BB-718157876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DBA1-39C5-4958-BBED-3CD508344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952258-ACE9-4772-A1B4-6BD0E6B5F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1885B4-76F4-431F-B18D-8F4634352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CD3ED9-503C-40FC-9F96-F5AD51B94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0765BA-A437-4AB2-9B39-28355CBBA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C8356A-0BFD-4155-9B59-FE2D7459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46535C-AC6B-4D83-B985-EAE2A2DA9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EF46DF-24C7-4A3D-9EE6-914299EB2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9B4F4E-E956-4955-AED5-D5A6D0C41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F17C34-7063-43FE-B5DF-982604E61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8E99C8-7941-47C7-88ED-3E104B975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CC23-C905-47FC-B836-9D0A974B2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9E9AD9-E2E4-4A16-BD6F-F28B08B25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F22F61-6007-4673-9956-61459A236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26B277-CDEF-4F28-A66F-400D4CFFE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7A98D5-997A-4DE8-BC72-F4BCE5EE4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72AC39-609D-4D67-8DF5-FC424A5AF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70C5B2-B211-4B5C-BD1F-42FC02A4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261692-5DBA-49FF-BA30-6BC6D1F1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D6E393-42DE-451E-91A9-379EA3A5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03F0D8-00E4-4E4E-88A9-0D0593340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FC9A3E-D8EE-4929-9E88-6E0315D0E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F866-09D8-4AC3-96F7-EA449FD3E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A843EA-BAF0-4742-90A0-8BB45B95E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54124D-7A42-4F4F-87F1-D6DD0937C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09797F-461C-42AC-AE72-6DDDB1490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EFC4CB-49D6-4492-8023-C0757100F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DBEB31-6A21-48C8-88F6-FCC53D722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F584CA-926E-44EC-A017-550A8FEEA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8EDC59-D55F-433D-B566-FB248F274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C71242-96FC-4168-9B20-B9E59B8A8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457189-AE66-483F-B6CF-BCB16464A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014359-C51D-45A7-9555-3157D616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66F7-2ECE-4D04-A15A-CCEFF194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AC7E55-ECFD-47FD-BB53-1D957B606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2E3463-5E6D-4084-9758-6BAA912DF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DAE202-ADBE-4FF4-8166-B92D87186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66E9-0DA4-4913-9FBB-CE66D1B7D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70F4-CEA3-4C2C-AC12-EC6D33A3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8FA5A-0196-45F0-898D-B30BD84F832D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48130-75ED-464A-A373-0EDEE84B84C3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59632-07D4-45AE-ABBF-ACF25ACD936A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CB732-94E8-46DD-A433-CF93152E5A3E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E5DC9-5054-4011-9EA9-11853F2ED9FB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62B26-3B01-4F47-91EB-AC74EEAA83E1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990360" y="2142720"/>
            <a:ext cx="793908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efac9"/>
                </a:solidFill>
                <a:latin typeface="Constantia"/>
              </a:rPr>
              <a:t>Христофор Колумб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fac9"/>
                </a:solidFill>
                <a:latin typeface="Constantia"/>
              </a:rPr>
              <a:t>                                  </a:t>
            </a:r>
            <a:r>
              <a:rPr b="1" lang="ru-RU" sz="2400" spc="-1" strike="noStrike">
                <a:solidFill>
                  <a:srgbClr val="fefac9"/>
                </a:solidFill>
                <a:latin typeface="Constantia"/>
              </a:rPr>
              <a:t>Исполнители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fac9"/>
                </a:solidFill>
                <a:latin typeface="Constantia"/>
              </a:rPr>
              <a:t>                                </a:t>
            </a:r>
            <a:r>
              <a:rPr b="1" lang="ru-RU" sz="2400" spc="-1" strike="noStrike">
                <a:solidFill>
                  <a:srgbClr val="fefac9"/>
                </a:solidFill>
                <a:latin typeface="Constantia"/>
              </a:rPr>
              <a:t>ученики 7 кл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fac9"/>
                </a:solidFill>
                <a:latin typeface="Constantia"/>
              </a:rPr>
              <a:t>МОУ ООШ №14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fac9"/>
                </a:solidFill>
                <a:latin typeface="Constantia"/>
              </a:rPr>
              <a:t>                             </a:t>
            </a:r>
            <a:r>
              <a:rPr b="1" lang="ru-RU" sz="2400" spc="-1" strike="noStrike">
                <a:solidFill>
                  <a:srgbClr val="fefac9"/>
                </a:solidFill>
                <a:latin typeface="Constantia"/>
              </a:rPr>
              <a:t>Шакиров Х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fac9"/>
                </a:solidFill>
                <a:latin typeface="Constantia"/>
              </a:rPr>
              <a:t>                         </a:t>
            </a:r>
            <a:r>
              <a:rPr b="1" lang="ru-RU" sz="2400" spc="-1" strike="noStrike">
                <a:solidFill>
                  <a:srgbClr val="fefac9"/>
                </a:solidFill>
                <a:latin typeface="Constantia"/>
              </a:rPr>
              <a:t>Вяткин С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fac9"/>
                </a:solidFill>
                <a:latin typeface="Constantia"/>
              </a:rPr>
              <a:t>2010 г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3" name="Rectangle 7" descr=""/>
          <p:cNvPicPr/>
          <p:nvPr/>
        </p:nvPicPr>
        <p:blipFill>
          <a:blip r:embed="rId1"/>
          <a:stretch/>
        </p:blipFill>
        <p:spPr>
          <a:xfrm>
            <a:off x="749160" y="615960"/>
            <a:ext cx="778536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4917960" y="928440"/>
            <a:ext cx="3927600" cy="51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Христофор Колумб родился 1451-1506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Моряк из города Генуя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         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5" name="Picture 8" descr="C:\Documents and Settings\Администратор\Рабочий стол\ПЕРВООТКРЫВ\kol.jpg"/>
          <p:cNvPicPr/>
          <p:nvPr/>
        </p:nvPicPr>
        <p:blipFill>
          <a:blip r:embed="rId1"/>
          <a:stretch/>
        </p:blipFill>
        <p:spPr>
          <a:xfrm>
            <a:off x="571680" y="714240"/>
            <a:ext cx="3822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4917960" y="500040"/>
            <a:ext cx="3927600" cy="62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Колумб утверждал что Китая и Индии можно достичь, плывя из Европы на запад через Атлантику. Король Фернандо и королева Изабелла согласились снарядить экспедицию в Индию, которая должна была пересечь океан, чтобы опередить португальцев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7" name="Picture 10" descr="Христофор Колумб"/>
          <p:cNvPicPr/>
          <p:nvPr/>
        </p:nvPicPr>
        <p:blipFill>
          <a:blip r:embed="rId1"/>
          <a:stretch/>
        </p:blipFill>
        <p:spPr>
          <a:xfrm>
            <a:off x="571680" y="714240"/>
            <a:ext cx="414324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990360" y="928440"/>
            <a:ext cx="772452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fac9"/>
                </a:solidFill>
                <a:latin typeface="Constantia"/>
              </a:rPr>
              <a:t>12 октября 1492.г участники экспедиции достигли Багамские острова не далеко от побережья Америки. Колумб, будучи уверен, что он достиг стран Востока и что до Индии совсем недалеко, назвал местных жителей индейцами. Сам континент долго еще именовали Индией или Вест-Индией. Америнго Веспучи  был первым, кто во всеуслышание заявил, что открытые Колумбом земли – не Азия, а Новый Свет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fac9"/>
                </a:solidFill>
                <a:latin typeface="Constantia"/>
              </a:rPr>
              <a:t>Колумб совершил еще три плавания за океан, входе которых были открыты все Большие и Малые Антильские остров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C:\Documents and Settings\Администратор\Рабочий стол\ПЕРВООТКРЫВ\маршрут колумба.jpg"/>
          <p:cNvPicPr/>
          <p:nvPr/>
        </p:nvPicPr>
        <p:blipFill>
          <a:blip r:embed="rId1"/>
          <a:stretch/>
        </p:blipFill>
        <p:spPr>
          <a:xfrm>
            <a:off x="863640" y="2000160"/>
            <a:ext cx="7709040" cy="4143600"/>
          </a:xfrm>
          <a:prstGeom prst="rect">
            <a:avLst/>
          </a:prstGeom>
          <a:ln w="0">
            <a:noFill/>
          </a:ln>
        </p:spPr>
      </p:pic>
      <p:pic>
        <p:nvPicPr>
          <p:cNvPr id="260" name="Заголовок 1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Сам Колумб скоро попал в немилость при королевском дворе и умер в полной безвестности. Однако история расставляет все по своим местам. И теперь мы с благодарной памятью чтим Колумба как великого мореплавателя-первооткрывателя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Заголовок 3" descr=""/>
          <p:cNvPicPr/>
          <p:nvPr/>
        </p:nvPicPr>
        <p:blipFill>
          <a:blip r:embed="rId1"/>
          <a:stretch/>
        </p:blipFill>
        <p:spPr>
          <a:xfrm>
            <a:off x="450720" y="1920960"/>
            <a:ext cx="8401320" cy="17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09:07:31Z</dcterms:created>
  <dc:creator>1</dc:creator>
  <dc:description/>
  <dc:language>en-US</dc:language>
  <cp:lastModifiedBy>Admin</cp:lastModifiedBy>
  <dcterms:modified xsi:type="dcterms:W3CDTF">2010-10-13T13:53:33Z</dcterms:modified>
  <cp:revision>8</cp:revision>
  <dc:subject/>
  <dc:title>ПЕРВООТКРЫВАТЕЛИ</dc:title>
</cp:coreProperties>
</file>