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applause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3CA-0810-496B-8F24-0C25EB89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15D-EABB-4F29-B603-4B274228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83B-6C77-4D36-8376-16AF155A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9CC-F3A8-4204-B5DD-9618175C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E1F4F-EDB2-4F8C-8606-95CE2626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FE109-3DA8-4D8A-94FC-7BAC3E4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59142-DA7F-485B-95CD-74BFEF5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4E82F-92A7-4BA0-845B-284B159D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3232F-9E2A-4D41-9D14-995F50F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1BC6D-EB66-46AA-9964-FEBB6FF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9EAAA-94DB-45E1-9DC9-4CFFE00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157-CD31-406F-823F-46C3ABB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C27BB-7167-4D48-B00C-B25A1E1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381B0-B206-4308-818C-DE484BF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625F4-7C1A-4EC0-9D24-E66BD65B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CC3FD-CE61-4B5F-96CB-13D9DE25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51429-ECCE-4BDD-861D-E519D745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DB6-10D1-4709-8CB8-CEA13025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642-1557-4776-B5B4-2DA01FA6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BDB-3854-4B8A-B847-1635916D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369-535B-44C0-9A1A-505CB16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687-A153-47F7-8880-83DF1B8F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4CD-7408-41D8-BD30-53E1082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987-A614-4CB5-A8AB-D032CE2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E16-93EC-4454-8B1B-630B5F8BF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D420-B0A0-461D-BE59-15A20922D0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а 8А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СОШ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ановского Владисл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Крюкова В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268360" y="1700280"/>
            <a:ext cx="482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=(a+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=(AB+BC)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403280" y="0"/>
            <a:ext cx="684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имет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4211640" y="4221000"/>
            <a:ext cx="3672000" cy="2016360"/>
          </a:xfrm>
          <a:prstGeom prst="parallelogram">
            <a:avLst>
              <a:gd name="adj" fmla="val 455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80000" y="6093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643280" y="378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885080" y="378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02000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esert Landscap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3"/>
          <p:cNvSpPr txBox="1"/>
          <p:nvPr/>
        </p:nvSpPr>
        <p:spPr>
          <a:xfrm>
            <a:off x="1403280" y="1844640"/>
            <a:ext cx="5832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преде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Эле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в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изна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ери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484360" y="404640"/>
            <a:ext cx="352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484360" y="189000"/>
            <a:ext cx="3673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ёхугольник, у которого противоположные стороны попарно параллель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003640" y="4292640"/>
            <a:ext cx="3456000" cy="2087640"/>
          </a:xfrm>
          <a:prstGeom prst="parallelogram">
            <a:avLst>
              <a:gd name="adj" fmla="val 4138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0872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43280" y="630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96360" y="63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5003280" y="4292640"/>
            <a:ext cx="86364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105520" y="-17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ВС,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ро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/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C//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A + &lt;B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B + &lt;C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C + &lt;D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D + &lt;A = 18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395280" y="0"/>
            <a:ext cx="3240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мен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4360" y="4221000"/>
            <a:ext cx="3671640" cy="2016360"/>
          </a:xfrm>
          <a:prstGeom prst="parallelogram">
            <a:avLst>
              <a:gd name="adj" fmla="val 4552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4000" y="6093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5892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42764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56400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 C 0.07188 0 0.12795 0.07477 0.12795 0.16667 C 0.12795 0.25856 0.07188 0.33333 0.00295 0.33333 C -0.06597 0.33333 -0.12205 0.25856 -0.12205 0.16667 C -0.12205 0.07477 -0.06597 0 0.00295 0 Z">
                                      <p:cBhvr>
                                        <p:cTn id="17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В параллелограм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ротивоположные стороны и противоположные углы рав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B=CD, BC=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&lt;A=&lt;C ,&lt;B=&lt;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24000" y="0"/>
            <a:ext cx="5111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51280" y="62784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88000" y="39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317080" y="400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380360" y="6278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cxnSp>
        <p:nvCxnSpPr>
          <p:cNvPr id="113" name="AutoShape 9"/>
          <p:cNvCxnSpPr/>
          <p:nvPr/>
        </p:nvCxnSpPr>
        <p:spPr>
          <a:xfrm>
            <a:off x="5400360" y="465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4" name="Line 10"/>
          <p:cNvSpPr/>
          <p:nvPr/>
        </p:nvSpPr>
        <p:spPr>
          <a:xfrm flipH="1">
            <a:off x="7236000" y="450864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5" name="Line 11"/>
          <p:cNvSpPr/>
          <p:nvPr/>
        </p:nvSpPr>
        <p:spPr>
          <a:xfrm flipH="1">
            <a:off x="4284720" y="450864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4508640"/>
            <a:ext cx="2951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284720" y="6453360"/>
            <a:ext cx="2951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ransition spd="slow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9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онали параллелограмма точкой пересечения делятся попол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=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=O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195640" y="0"/>
            <a:ext cx="511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851280" y="4581360"/>
            <a:ext cx="3600360" cy="1727280"/>
          </a:xfrm>
          <a:prstGeom prst="parallelogram">
            <a:avLst>
              <a:gd name="adj" fmla="val 52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348000" y="609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284720" y="40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451640" y="4149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59640" y="6278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788000" y="4581360"/>
            <a:ext cx="172872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3851280" y="4581360"/>
            <a:ext cx="3600360" cy="17272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5219280" y="4869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867280" y="558972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4716360" y="566100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4932000" y="5589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2" name="Line 16"/>
          <p:cNvSpPr/>
          <p:nvPr/>
        </p:nvSpPr>
        <p:spPr>
          <a:xfrm flipH="1">
            <a:off x="6300360" y="4941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516360" y="4869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35640" y="486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ransition spd="slow">
    <p:blinds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е стороны равны и параллельны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=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//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788000" y="4508640"/>
            <a:ext cx="3671640" cy="2016000"/>
          </a:xfrm>
          <a:prstGeom prst="parallelogram">
            <a:avLst>
              <a:gd name="adj" fmla="val 455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92720" y="39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427640" y="62784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8459640" y="4076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740720" y="6278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4787640" y="4508640"/>
            <a:ext cx="93636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7524720" y="4508640"/>
            <a:ext cx="93672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 противоположные стороны попарно равны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=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=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788000" y="4724280"/>
            <a:ext cx="3671640" cy="2016360"/>
          </a:xfrm>
          <a:prstGeom prst="parallelogram">
            <a:avLst>
              <a:gd name="adj" fmla="val 4552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4787640" y="4724280"/>
            <a:ext cx="936360" cy="20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7524720" y="4724280"/>
            <a:ext cx="936720" cy="20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788000" y="6742080"/>
            <a:ext cx="273672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724360" y="4724280"/>
            <a:ext cx="27370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284720" y="6567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21964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8459640" y="43657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7524720" y="6567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2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 диагонали пересекаются и точкой пересечения делятся пополам 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=O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=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148360" y="4797360"/>
            <a:ext cx="3600360" cy="1727280"/>
          </a:xfrm>
          <a:prstGeom prst="parallelogram">
            <a:avLst>
              <a:gd name="adj" fmla="val 52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5148360" y="4797360"/>
            <a:ext cx="3600360" cy="17272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6084720" y="4797360"/>
            <a:ext cx="172908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6084720" y="4797360"/>
            <a:ext cx="172908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6443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6443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7" name="Line 11"/>
          <p:cNvSpPr/>
          <p:nvPr/>
        </p:nvSpPr>
        <p:spPr>
          <a:xfrm flipH="1">
            <a:off x="7235640" y="5877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6300360" y="580536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9" name="Line 13"/>
          <p:cNvSpPr/>
          <p:nvPr/>
        </p:nvSpPr>
        <p:spPr>
          <a:xfrm flipH="1">
            <a:off x="6084720" y="587700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7524360" y="5157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7667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6732720" y="5157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716360" y="6278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580000" y="436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8675640" y="443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885080" y="6278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6500"/>
                            </p:stCondLst>
                            <p:childTnLst>
                              <p:par>
                                <p:cTn id="3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14:28Z</dcterms:created>
  <dc:creator>Влад</dc:creator>
  <dc:description/>
  <dc:language>en-US</dc:language>
  <cp:lastModifiedBy>SamLab.ws</cp:lastModifiedBy>
  <dcterms:modified xsi:type="dcterms:W3CDTF">2009-05-29T20:11:58Z</dcterms:modified>
  <cp:revision>11</cp:revision>
  <dc:subject/>
  <dc:title>Параллелограмм </dc:title>
</cp:coreProperties>
</file>