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applause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627-A0BC-448C-A677-B60D6389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EDC-B545-406C-A345-C52D2F39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1C9-BD90-4F7B-AD4B-1F8EFA2A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574-D534-487E-8895-C3AD5829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65883-ABB3-46E0-B368-582566AA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00424-EB58-4385-A364-19712A57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1AAB2-BBA2-4397-90A7-7C40F9ED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BCB96-3C19-4F02-9256-36B64D1F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7669E-4CD4-4269-93F0-9D286CF6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38239-DB61-4A88-BC8F-3DDAFFC9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849FF-AEE1-4C87-95A1-6669015A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A58-0300-49C0-80B2-AD75A4CF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71405-77F8-493D-A110-230D7EE1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3B856-49A3-48BC-A672-9BBB1F1D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2F696-AF3C-4C3B-9C4B-3EB4278F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AE2EC-C232-43F4-9FD6-6C912386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C2E04-88FD-4890-BEAF-D8FFE40F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301-59A9-469C-9526-50963B1B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8F7-1586-4586-8E40-BA8E978E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6C5-0791-4CD3-AFD2-E3F78814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682-10A1-4EB9-9B9E-27300762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6D8-1C4B-40B2-8790-34C105CA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A78-16E5-452A-8C6C-9B80ABBC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736-13F8-4BA3-AFDF-F9C0E86A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C011-EB67-40D6-AA14-DCF9287BB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7403-9207-408A-B5D1-667A98C258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esert Landscape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ка 8А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У СОШ №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ановского Владисл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Крюкова В.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2268360" y="1700280"/>
            <a:ext cx="482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араллелограм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esert Landscape"/>
          <p:cNvPicPr/>
          <p:nvPr/>
        </p:nvPicPr>
        <p:blipFill>
          <a:blip r:embed="rId1"/>
          <a:stretch/>
        </p:blipFill>
        <p:spPr>
          <a:xfrm>
            <a:off x="-39672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=(a+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=(AB+BC)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403280" y="0"/>
            <a:ext cx="6840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имет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4211640" y="4221000"/>
            <a:ext cx="3672000" cy="2016360"/>
          </a:xfrm>
          <a:prstGeom prst="parallelogram">
            <a:avLst>
              <a:gd name="adj" fmla="val 4552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780000" y="6093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643280" y="378936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7885080" y="378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020000" y="609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esert Landscap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3"/>
          <p:cNvSpPr txBox="1"/>
          <p:nvPr/>
        </p:nvSpPr>
        <p:spPr>
          <a:xfrm>
            <a:off x="1403280" y="1844640"/>
            <a:ext cx="5832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esert Landscape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преде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Элем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вой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Призна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Периме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484360" y="404640"/>
            <a:ext cx="3527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esert Landscape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2484360" y="189000"/>
            <a:ext cx="3673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предел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ырёхугольник, у которого противоположные стороны попарно параллель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003640" y="4292640"/>
            <a:ext cx="3456000" cy="2087640"/>
          </a:xfrm>
          <a:prstGeom prst="parallelogram">
            <a:avLst>
              <a:gd name="adj" fmla="val 4138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50872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43280" y="6308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38836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596360" y="630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7" name="Line 10"/>
          <p:cNvSpPr/>
          <p:nvPr/>
        </p:nvSpPr>
        <p:spPr>
          <a:xfrm flipH="1">
            <a:off x="5003280" y="4292640"/>
            <a:ext cx="86364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esert Landscape"/>
          <p:cNvPicPr/>
          <p:nvPr/>
        </p:nvPicPr>
        <p:blipFill>
          <a:blip r:embed="rId1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105520" y="-171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ВС,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ро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/C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C//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A + &lt;B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B + &lt;C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C + &lt;D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D + &lt;A = 18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395280" y="0"/>
            <a:ext cx="32400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лемен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4360" y="4221000"/>
            <a:ext cx="3671640" cy="2016360"/>
          </a:xfrm>
          <a:prstGeom prst="parallelogram">
            <a:avLst>
              <a:gd name="adj" fmla="val 4552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24000" y="6093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5892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42764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56400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 C 0.07188 0 0.12795 0.07477 0.12795 0.16667 C 0.12795 0.25856 0.07188 0.33333 0.00295 0.33333 C -0.06597 0.33333 -0.12205 0.25856 -0.12205 0.16667 C -0.12205 0.07477 -0.06597 0 0.00295 0 Z">
                                      <p:cBhvr>
                                        <p:cTn id="17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esert Landscape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В параллелограм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противоположные стороны и противоположные углы рав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B=CD, BC=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&lt;A=&lt;C ,&lt;B=&lt;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324000" y="0"/>
            <a:ext cx="51116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ой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51280" y="62784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788000" y="393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8317080" y="4005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380360" y="62784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cxnSp>
        <p:nvCxnSpPr>
          <p:cNvPr id="113" name="AutoShape 9"/>
          <p:cNvCxnSpPr/>
          <p:nvPr/>
        </p:nvCxnSpPr>
        <p:spPr>
          <a:xfrm>
            <a:off x="5400360" y="465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4" name="Line 10"/>
          <p:cNvSpPr/>
          <p:nvPr/>
        </p:nvSpPr>
        <p:spPr>
          <a:xfrm flipH="1">
            <a:off x="7236000" y="4508640"/>
            <a:ext cx="100800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5" name="Line 11"/>
          <p:cNvSpPr/>
          <p:nvPr/>
        </p:nvSpPr>
        <p:spPr>
          <a:xfrm flipH="1">
            <a:off x="4284720" y="4508640"/>
            <a:ext cx="100800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5292720" y="4508640"/>
            <a:ext cx="2951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284720" y="6453360"/>
            <a:ext cx="2951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ransition spd="slow">
    <p:wheel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9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esert Landscape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гонали параллелограмма точкой пересечения делятся попол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=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O=O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2195640" y="0"/>
            <a:ext cx="511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ой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851280" y="4581360"/>
            <a:ext cx="3600360" cy="1727280"/>
          </a:xfrm>
          <a:prstGeom prst="parallelogram">
            <a:avLst>
              <a:gd name="adj" fmla="val 5211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348000" y="609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284720" y="407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451640" y="4149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659640" y="6278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4788000" y="4581360"/>
            <a:ext cx="1728720" cy="1727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3851280" y="4581360"/>
            <a:ext cx="3600360" cy="172728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8" name="Line 12"/>
          <p:cNvSpPr/>
          <p:nvPr/>
        </p:nvSpPr>
        <p:spPr>
          <a:xfrm flipH="1">
            <a:off x="5219280" y="486900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867280" y="5589720"/>
            <a:ext cx="14472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4716360" y="5661000"/>
            <a:ext cx="14472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1" name="Line 15"/>
          <p:cNvSpPr/>
          <p:nvPr/>
        </p:nvSpPr>
        <p:spPr>
          <a:xfrm flipH="1">
            <a:off x="4932000" y="558972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2" name="Line 16"/>
          <p:cNvSpPr/>
          <p:nvPr/>
        </p:nvSpPr>
        <p:spPr>
          <a:xfrm flipH="1">
            <a:off x="6300360" y="494172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516360" y="486900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35640" y="486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ransition spd="slow">
    <p:blinds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esert Landscape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 четырёхугольн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е стороны равны и параллельны, то этот четырёхугольник – параллелогра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=C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//C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611280" y="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зна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788000" y="4508640"/>
            <a:ext cx="3671640" cy="2016000"/>
          </a:xfrm>
          <a:prstGeom prst="parallelogram">
            <a:avLst>
              <a:gd name="adj" fmla="val 455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92720" y="393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427640" y="62784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8459640" y="4076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740720" y="62784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4787640" y="4508640"/>
            <a:ext cx="936360" cy="20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4" name="Line 11"/>
          <p:cNvSpPr/>
          <p:nvPr/>
        </p:nvSpPr>
        <p:spPr>
          <a:xfrm flipH="1">
            <a:off x="7524720" y="4508640"/>
            <a:ext cx="936720" cy="20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esert Landscape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 четырёхугольнике противоположные стороны попарно равны, то этот четырёхугольник – параллелогра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=C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=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611280" y="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зна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4788000" y="4724280"/>
            <a:ext cx="3671640" cy="2016360"/>
          </a:xfrm>
          <a:prstGeom prst="parallelogram">
            <a:avLst>
              <a:gd name="adj" fmla="val 4552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9" name="Line 6"/>
          <p:cNvSpPr/>
          <p:nvPr/>
        </p:nvSpPr>
        <p:spPr>
          <a:xfrm flipH="1">
            <a:off x="4787640" y="4724280"/>
            <a:ext cx="936360" cy="201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7524720" y="4724280"/>
            <a:ext cx="936720" cy="201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788000" y="6742080"/>
            <a:ext cx="273672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5724360" y="4724280"/>
            <a:ext cx="27370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284720" y="65674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21964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8459640" y="436572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7524720" y="65674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7" name="WordArt 14"/>
          <p:cNvSpPr txBox="1"/>
          <p:nvPr/>
        </p:nvSpPr>
        <p:spPr>
          <a:xfrm>
            <a:off x="611280" y="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зна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20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esert Landscape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 четырёхугольнике диагонали пересекаются и точкой пересечения делятся пополам , то этот четырёхугольник – параллелогра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O=O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=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611280" y="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зна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148360" y="4797360"/>
            <a:ext cx="3600360" cy="1727280"/>
          </a:xfrm>
          <a:prstGeom prst="parallelogram">
            <a:avLst>
              <a:gd name="adj" fmla="val 5211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5148360" y="4797360"/>
            <a:ext cx="3600360" cy="172728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6084720" y="4797360"/>
            <a:ext cx="1729080" cy="1727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6084720" y="4797360"/>
            <a:ext cx="1729080" cy="1727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6443280" y="508464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6443280" y="508464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7" name="Line 11"/>
          <p:cNvSpPr/>
          <p:nvPr/>
        </p:nvSpPr>
        <p:spPr>
          <a:xfrm flipH="1">
            <a:off x="7235640" y="587700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6300360" y="580536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9" name="Line 13"/>
          <p:cNvSpPr/>
          <p:nvPr/>
        </p:nvSpPr>
        <p:spPr>
          <a:xfrm flipH="1">
            <a:off x="6084720" y="5877000"/>
            <a:ext cx="14472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7524360" y="515772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1" name="Line 15"/>
          <p:cNvSpPr/>
          <p:nvPr/>
        </p:nvSpPr>
        <p:spPr>
          <a:xfrm flipH="1">
            <a:off x="7667280" y="508464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6732720" y="5157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716360" y="62784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5580000" y="4365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8675640" y="443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7885080" y="6278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6500"/>
                            </p:stCondLst>
                            <p:childTnLst>
                              <p:par>
                                <p:cTn id="3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14:28Z</dcterms:created>
  <dc:creator>Влад</dc:creator>
  <dc:description/>
  <dc:language>en-US</dc:language>
  <cp:lastModifiedBy>SamLab.ws</cp:lastModifiedBy>
  <dcterms:modified xsi:type="dcterms:W3CDTF">2009-05-29T20:11:58Z</dcterms:modified>
  <cp:revision>11</cp:revision>
  <dc:subject/>
  <dc:title>Параллелограмм </dc:title>
</cp:coreProperties>
</file>