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applause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C89-F0CB-4DF1-B095-96CAAD34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8B3-269D-4DD7-A394-7E407EE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307-53E5-41DB-88BC-0153AEA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4BF-5922-432E-9C25-6DAF40C9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5754E-5A5B-4CAC-B986-2F314FAB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CC89-7E68-4CDC-9649-F4436C37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9C63B-F294-4108-B5BC-E6F457F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C9457-79A5-4244-815B-E601495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7434F-A51B-4CB3-B568-424401C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F3F84-4F21-4022-A0D9-8394285E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8A5B6-1671-417C-85C6-4703B5B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868-3BD9-4B82-8613-4308A927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CB05-BE66-41BF-B74A-F1084CC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8588F-6633-4814-9F78-8F24E17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E5D1D-8D8A-48B1-A206-01FB09C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B15D-5E68-4295-A2C9-1E2F3E27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AE772-8C52-441E-B936-4239DB35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74E-685F-4AF8-8C7B-D90534F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96B-8715-4B1F-90BF-E424167B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E31-0818-4FC8-982F-9E0B289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9CD-44D3-4C50-BF96-CC60E248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D40-EB10-4BF1-8035-BD55BF0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470-E98B-40E7-9AC7-3DE07E6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174-4E84-4C8B-944A-A7FB153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DC5-86AC-45A9-BE5F-848249C37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77A-9CFC-4A32-881B-BDCA7733E6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а 8А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У СОШ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ановского Владисл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Крюкова В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268360" y="1700280"/>
            <a:ext cx="482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араллелограм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+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=(AB+BC)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403280" y="0"/>
            <a:ext cx="684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имет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4211640" y="4221000"/>
            <a:ext cx="3672000" cy="2016360"/>
          </a:xfrm>
          <a:prstGeom prst="parallelogram">
            <a:avLst>
              <a:gd name="adj" fmla="val 4552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780000" y="6093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64328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885080" y="378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020000" y="609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esert Landscap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1403280" y="1844640"/>
            <a:ext cx="5832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Эле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в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изн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Пери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484360" y="404640"/>
            <a:ext cx="352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484360" y="189000"/>
            <a:ext cx="3673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предел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ёхугольник, у которого противоположные стороны попарно параллель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003640" y="4292640"/>
            <a:ext cx="3456000" cy="2087640"/>
          </a:xfrm>
          <a:prstGeom prst="parallelogram">
            <a:avLst>
              <a:gd name="adj" fmla="val 4138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0872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43280" y="630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38836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596360" y="63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5003280" y="4292640"/>
            <a:ext cx="86364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105520" y="-17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ВС,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C//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A + &lt;B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B + &lt;C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C + &lt;D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D + &lt;A = 18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395280" y="0"/>
            <a:ext cx="324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лемен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4360" y="422100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000" y="6093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5892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427640" y="378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56400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 C 0.07188 0 0.12795 0.07477 0.12795 0.16667 C 0.12795 0.25856 0.07188 0.33333 0.00295 0.33333 C -0.06597 0.33333 -0.12205 0.25856 -0.12205 0.16667 C -0.12205 0.07477 -0.06597 0 0.00295 0 Z">
                                      <p:cBhvr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esert Landscape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В параллелограм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ротивоположные стороны и противоположные углы рав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=CD, BC=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&lt;A=&lt;C ,&lt;B=&lt;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324000" y="0"/>
            <a:ext cx="5111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85128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8800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317080" y="400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8036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cxnSp>
        <p:nvCxnSpPr>
          <p:cNvPr id="113" name="AutoShape 9"/>
          <p:cNvCxnSpPr/>
          <p:nvPr/>
        </p:nvCxnSpPr>
        <p:spPr>
          <a:xfrm>
            <a:off x="5400360" y="465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4" name="Line 10"/>
          <p:cNvSpPr/>
          <p:nvPr/>
        </p:nvSpPr>
        <p:spPr>
          <a:xfrm flipH="1">
            <a:off x="723600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5" name="Line 11"/>
          <p:cNvSpPr/>
          <p:nvPr/>
        </p:nvSpPr>
        <p:spPr>
          <a:xfrm flipH="1">
            <a:off x="4284720" y="450864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292720" y="450864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284720" y="6453360"/>
            <a:ext cx="29512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9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онали параллелограмма точкой пересечения делятся попол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=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195640" y="0"/>
            <a:ext cx="511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851280" y="4581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348000" y="609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28472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451640" y="4149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788000" y="4581360"/>
            <a:ext cx="172872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3851280" y="4581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521928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867280" y="558972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0" name="Line 14"/>
          <p:cNvSpPr/>
          <p:nvPr/>
        </p:nvSpPr>
        <p:spPr>
          <a:xfrm flipH="1">
            <a:off x="4716360" y="5661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4932000" y="5589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2" name="Line 16"/>
          <p:cNvSpPr/>
          <p:nvPr/>
        </p:nvSpPr>
        <p:spPr>
          <a:xfrm flipH="1">
            <a:off x="6300360" y="4941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516360" y="4869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35640" y="486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ransition spd="slow">
    <p:blinds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стороны равны и параллель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//C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788000" y="4508640"/>
            <a:ext cx="3671640" cy="2016000"/>
          </a:xfrm>
          <a:prstGeom prst="parallelogram">
            <a:avLst>
              <a:gd name="adj" fmla="val 455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92720" y="393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427640" y="62784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459640" y="4076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740720" y="62784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4787640" y="4508640"/>
            <a:ext cx="93636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7524720" y="4508640"/>
            <a:ext cx="936720" cy="20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esert Landscape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противоположные стороны попарно равны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=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=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788000" y="4724280"/>
            <a:ext cx="3671640" cy="2016360"/>
          </a:xfrm>
          <a:prstGeom prst="parallelogram">
            <a:avLst>
              <a:gd name="adj" fmla="val 4552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4787640" y="4724280"/>
            <a:ext cx="93636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7524720" y="4724280"/>
            <a:ext cx="93672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788000" y="6742080"/>
            <a:ext cx="273672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724360" y="4724280"/>
            <a:ext cx="273708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284720" y="65674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21964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459640" y="4365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524720" y="65674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57" name="WordArt 1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sert Landscape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четырёхугольнике диагонали пересекаются и точкой пересечения делятся пополам , то этот четырёхугольник – параллел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=O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=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611280" y="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зна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148360" y="4797360"/>
            <a:ext cx="3600360" cy="1727280"/>
          </a:xfrm>
          <a:prstGeom prst="parallelogram">
            <a:avLst>
              <a:gd name="adj" fmla="val 5211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5148360" y="4797360"/>
            <a:ext cx="3600360" cy="172728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6084720" y="4797360"/>
            <a:ext cx="1729080" cy="1727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6443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7" name="Line 11"/>
          <p:cNvSpPr/>
          <p:nvPr/>
        </p:nvSpPr>
        <p:spPr>
          <a:xfrm flipH="1">
            <a:off x="7235640" y="587700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6300360" y="580536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69" name="Line 13"/>
          <p:cNvSpPr/>
          <p:nvPr/>
        </p:nvSpPr>
        <p:spPr>
          <a:xfrm flipH="1">
            <a:off x="6084720" y="5877000"/>
            <a:ext cx="14472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7524360" y="515772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7667280" y="5084640"/>
            <a:ext cx="144360" cy="360360"/>
          </a:xfrm>
          <a:prstGeom prst="line">
            <a:avLst/>
          </a:prstGeom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6732720" y="5157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716360" y="6278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58000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8675640" y="44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egoe Script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885080" y="6278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Segoe Script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6500"/>
                            </p:stCondLst>
                            <p:childTnLst>
                              <p:par>
                                <p:cTn id="3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14:28Z</dcterms:created>
  <dc:creator>Влад</dc:creator>
  <dc:description/>
  <dc:language>en-US</dc:language>
  <cp:lastModifiedBy>SamLab.ws</cp:lastModifiedBy>
  <dcterms:modified xsi:type="dcterms:W3CDTF">2009-05-29T20:11:58Z</dcterms:modified>
  <cp:revision>11</cp:revision>
  <dc:subject/>
  <dc:title>Параллелограмм </dc:title>
</cp:coreProperties>
</file>