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BD20-EC4D-40BC-8F9A-07CFAEF26E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формулировка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формулировка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248B-19CC-4B42-AEC2-2DC83C34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6CC5-49D6-4EC0-80FD-2015E382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2C04-8540-4078-B055-17A14380E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9C79-340F-4A2D-A411-40D25CF3E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974C-A5B3-4E7E-AE56-6EFDF843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DEAB-EFA1-474F-B86B-A85728CE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33A2-0D25-41F6-84FB-34171888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BF83-6B36-4B17-8F13-1D6B783A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E679-06FE-44C8-B7EE-87302F3C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3323-9E39-4785-8D79-2DB7C2AF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C85A-4404-4700-9D8B-98D2270B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BF2B-B4E8-448C-A879-4565C9E2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60C1-A833-451D-BF1D-3B866E1F8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447920" y="3962520"/>
            <a:ext cx="601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пределение.</a:t>
            </a:r>
            <a:r>
              <a:rPr b="0" lang="en-US" sz="3200" spc="-1" strike="noStrike">
                <a:solidFill>
                  <a:srgbClr val="ff7c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Прямая называется параллельной плоскости, ес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495288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она не имеет с ней ни одной общей точ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4017960" cy="21412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ПАРАЛЛЕЛЬНОСТЬ ПРЯМОЙ И ПЛОСК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495680" y="502920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б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CDD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685800"/>
            <a:ext cx="82296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В кубе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укажите плоскости, проходящие через вершины куба, параллельные прямой: а)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A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; б)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; 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в)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C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2971800" cy="2805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3520" y="5029200"/>
            <a:ext cx="40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BCC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CDD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,</a:t>
            </a:r>
            <a:r>
              <a:rPr b="0" i="1" lang="ru-RU" sz="24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BDD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в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 н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Упражнение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3835440" cy="3100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34120" y="533412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в) 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BCC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EFF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685800"/>
            <a:ext cx="81597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В правильной шестиугольной призме назовите плоскости, проходящие через ребра призмы и параллельные прямой: а)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;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б)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C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; 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в)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D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53341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б) 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DFF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5334120"/>
            <a:ext cx="312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а) 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DEE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CFF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Упражнение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3372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а)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3835440" cy="3100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11280" y="685800"/>
            <a:ext cx="83041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Сколько плоскостей проходит через вершины правильной шестиугольной призмы, параллельных прямой: а)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A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; б)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B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б)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Упражнение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14400" y="685800"/>
            <a:ext cx="7238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Сколько имеется пар параллельных прямых и плоскостей, содержащих ребра куба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…D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2971800" cy="2805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66680" y="4495680"/>
            <a:ext cx="71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Решение: 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Для каждого ребра имеется две грани, ей параллельные У куба имеется 12 ребер. Следовательно, искомое число пар параллельных прямых и плоскостей равно 2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Упражнение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90720" y="762120"/>
            <a:ext cx="69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Сколько имеется пар параллельных прямых и плоскостей, содержащих ребра октаэдра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4952880"/>
            <a:ext cx="71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Решение: 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Для каждого ребра имеется две грани, ей параллельные. У октаэдра 12 ребер. Следовательно, искомое число пар параллельных прямых и плоскостей равно 2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2960640" cy="3132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Упражнение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66680" y="6858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Сколько имеется пар параллельных прямых и плоскостей, содержащих ребра икосаэдра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4952880"/>
            <a:ext cx="71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Решение: 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Для каждого ребра имеется две грани, ей параллельные. У икосаэдра 30 ребер. Следовательно, искомое число пар параллельных прямых и плоскостей равно 6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2992680" cy="3321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Упражнение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53352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Сколько имеется пар параллельных прямых и плоскостей, содержащих ребра додекаэдра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4876920"/>
            <a:ext cx="71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Решение: 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Для каждого ребра имеется две грани, ей параллельные. У додекаэдра 30 ребер. Следовательно, искомое число пар параллельных прямых и плоскостей равно 6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3205080" cy="32274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Упражнение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66680" y="533520"/>
            <a:ext cx="723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Даны две скрещивающиеся прямые.  Как через одну из них провести плоскость, параллельную друго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48769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Решение: 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Через точку одной прямой провести прямую, параллельную второй данной прямой. Затем через полученные пересекающиеся прямые провести плоскость. Она будет параллельна второй данной прям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Упражнение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53352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 основании четырехугольной пирамиды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SABC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лежит параллелограмм. Каково взаимное расположение прямой пересечения плоскостей граней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SAB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SCD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и плоскости основания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ABCD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48769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Параллель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Упражнение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4267080"/>
            <a:ext cx="868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Теорема.</a:t>
            </a:r>
            <a:r>
              <a:rPr b="0" lang="en-US" sz="3200" spc="-1" strike="noStrike">
                <a:solidFill>
                  <a:srgbClr val="ff7c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Если прямая, не лежащая в плоскости, параллельна некоторой прямой, лежащей в этой плоскости, то прямая параллельна самой плоск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4017960" cy="21412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РИЗНАК ПАРАЛЛЕЛЬНОСТИ ПРЯМОЙ И ПЛОСК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228600" y="1676520"/>
            <a:ext cx="8763120" cy="3627360"/>
            <a:chOff x="228600" y="1676520"/>
            <a:chExt cx="8763120" cy="3627360"/>
          </a:xfrm>
        </p:grpSpPr>
        <p:sp>
          <p:nvSpPr>
            <p:cNvPr id="56" name=""/>
            <p:cNvSpPr/>
            <p:nvPr/>
          </p:nvSpPr>
          <p:spPr>
            <a:xfrm>
              <a:off x="3048120" y="1676520"/>
              <a:ext cx="3200400" cy="593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Прямая и плоскост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480" y="2971800"/>
              <a:ext cx="3886200" cy="808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Имеют общие точк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00600" y="2971800"/>
              <a:ext cx="3581280" cy="808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Не имеют общих точе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(параллельны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514240" y="2286000"/>
              <a:ext cx="20574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72000" y="2286000"/>
              <a:ext cx="19810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616120" y="3789360"/>
              <a:ext cx="4089600" cy="70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8600" y="4495680"/>
              <a:ext cx="3886200" cy="808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Имеют одну общую точку (пересекаются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67080" y="4495680"/>
              <a:ext cx="4724640" cy="808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Имеют более одной общей точки (прямая лежит в плоскости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90920" y="3809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ВЗАИМНОЕ РАСПОЛОЖЕНИЕ ПРЯМОЙ И ПЛОСКОСТИ В ПРОСТРАНСТВ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6858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ерно ли утверждение о том, что две прямые, параллельные одной и той же плоскости, параллельны между собо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5029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Н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6858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ерно ли утверждение: "Прямая, параллельная плоскости, параллельна любой прямой, лежащей в этой плоскости"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5029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Н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6858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Одна из двух параллельных прямых параллельна плоскости. Верно ли утверждение, что и вторая прямая параллельна этой плоскост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5029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Н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Вопрос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6858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Даны две параллельные прямые. Через каждую из них проведена плоскость. Эти две плоскости пересекаются. Как расположена их линия пересечения относительно данных прямых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5029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Параллель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Вопрос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6858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Даны две пересекающиеся плоскости. Существует ли плоскость, пересекающая две данные плоскости по параллельным прямы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5029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Вопрос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3520" y="6858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Сторона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AF 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правильного шестиугольника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ABCDEF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лежит в плоскости α, не совпадающей с плоскостью шестиугольника. Как расположены остальные стороны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ABCDEF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относительно плоскости α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50292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E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EF 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пересекают плоскость;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CD 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параллельна плоск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04:37:57Z</dcterms:created>
  <dc:creator>*</dc:creator>
  <dc:description/>
  <dc:language>en-US</dc:language>
  <cp:lastModifiedBy>*</cp:lastModifiedBy>
  <dcterms:modified xsi:type="dcterms:W3CDTF">2008-07-23T04:49:47Z</dcterms:modified>
  <cp:revision>18</cp:revision>
  <dc:subject/>
  <dc:title>Презентация PowerPoint</dc:title>
</cp:coreProperties>
</file>