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CCE-7BEB-447E-A2A5-7212F8DC8B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5CC-B08B-4542-80BC-FBE278BC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DAB-4A7A-4535-A0BF-4F4FFBD3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2F2-3805-4596-911B-AF3CD8C1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E52-469E-4743-9A0D-56162890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E53-B09F-4F6C-BF8B-347BB00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16C-40C6-4936-AA73-0E76A9A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837-7EA0-479E-8E0C-AE8E30FA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BD7-1D16-4A5A-9537-9DB6320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C96-AC81-4700-A1E7-289460D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2E4-79CF-4790-B644-8A6BBB8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9D8-4AC3-40E5-B9D7-DF12E22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639-2936-43BC-BA0B-F53C6C1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28E1-3BC6-4538-BF36-800C6F6A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396252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пределение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Прямая называется параллельной плоскости, е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95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она не имеет с ней ни одной обще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АРАЛЛЕЛЬНОСТЬ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95680" y="50292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8580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кубе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укажите плоскости, проходящие через вершины куба,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502920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835440" cy="31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4120" y="53341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E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85800"/>
            <a:ext cx="815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правильной шестиугольной призме назовите плоскости, проходящие через ребра призмы и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3341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EE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а)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835440" cy="310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685800"/>
            <a:ext cx="8304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плоскостей проходит через вершины правильной шестиугольной призмы, параллельных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б)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85800"/>
            <a:ext cx="723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куб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…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44956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 У куба имеется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7621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октаэдр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октаэдра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960640" cy="31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685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икос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икос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2992680" cy="3321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5335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додек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додек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0508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5335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скрещивающиеся прямые.  Как через одну из них провести плоскость, параллельную друг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76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Через точку одной прямой провести прямую, параллельную второй данной прямой. Затем через полученные пересекающиеся прямые провести плоскость. Она будет параллельна второй дан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5335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 основании четырехугольной пирамид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лежит параллелограмм. Каково взаимное расположение прямой пересечения плоскостей граней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плоскости основания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876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42670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Если прямая, не лежащая в плоскости, параллельна некоторой прямой, лежащей в этой плоскости, то прямая параллельна самой плоск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НАК ПАРАЛЛЕЛЬНОСТИ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8600" y="1676520"/>
            <a:ext cx="8763120" cy="3627360"/>
            <a:chOff x="228600" y="1676520"/>
            <a:chExt cx="8763120" cy="3627360"/>
          </a:xfrm>
        </p:grpSpPr>
        <p:sp>
          <p:nvSpPr>
            <p:cNvPr id="56" name=""/>
            <p:cNvSpPr/>
            <p:nvPr/>
          </p:nvSpPr>
          <p:spPr>
            <a:xfrm>
              <a:off x="3048120" y="1676520"/>
              <a:ext cx="320040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Прямая и плоск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297180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бщие точ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971800"/>
              <a:ext cx="358128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Не имеют общих точе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(параллельн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514240" y="228600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2286000"/>
              <a:ext cx="1981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6120" y="3789360"/>
              <a:ext cx="408960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449568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дну общую точку (пересекаютс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7080" y="4495680"/>
              <a:ext cx="472464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более одной общей точки (прямая лежит в плоскост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3809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ЗАИМНОЕ РАСПОЛОЖЕНИЕ ПРЯМОЙ И ПЛОСКОСТИ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 о том, что две прямые, параллельные одной и той же плоскости, параллельны между соб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: "Прямая, параллельная плоскости, параллельна любой прямой, лежащей в этой плоскости"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Одна из двух параллельных прямых параллельна плоскости. Верно ли утверждение, что и вторая прямая параллельна этой плоско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араллельные прямые. Через каждую из них проведена плоскость. Эти две плоскости пересекаются. Как расположена их линия пересечения относительно данных прямы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Параллель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ересекающиеся плоскости. Существует ли плоскость, пересекающая две данные плоскости по параллельным прям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торон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равильного шестиугольник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лежит в плоскости α, не совпадающей с плоскостью шестиугольника. Как расположены остальные сторон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относительно плоскости 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E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ересекают плоскость;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араллельна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4:37:57Z</dcterms:created>
  <dc:creator>*</dc:creator>
  <dc:description/>
  <dc:language>en-US</dc:language>
  <cp:lastModifiedBy>*</cp:lastModifiedBy>
  <dcterms:modified xsi:type="dcterms:W3CDTF">2008-07-23T04:49:47Z</dcterms:modified>
  <cp:revision>18</cp:revision>
  <dc:subject/>
  <dc:title>Презентация PowerPoint</dc:title>
</cp:coreProperties>
</file>