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B05-F8BC-4A8A-937F-FC097AE0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7ED-2902-4A4A-94C0-1E2AF394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12D-08F7-4130-AA31-BBD54C85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4C3-7AFD-489E-BDFF-FC374651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A18-F409-4297-B45A-B8FFD5F1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028-174E-4CEB-A99A-EDF325E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129-B243-47AB-8A03-547004F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010-A88F-4757-A9B9-6F78A15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765-8601-453B-A7BC-AF5BDCD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5C8-8BA2-469D-B68B-BD75E7A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7895-E6F3-4145-9A3A-1D0CB204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DA8-49BA-4705-96D5-CAC1E6C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AF1C-3DF8-43E0-8BB8-EF2006D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BD39-78F3-4405-8477-B57553A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67C-234E-4661-8DAE-FAE9F60A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3FD-7FD7-4635-B0CC-FD83BD37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EE1A-98B7-47E6-9DCC-29051B89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69A-C952-4C5B-A7E0-611D130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CEF-1796-4588-A380-194A922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D15-C896-464D-9CAE-0B6F795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834-050B-40A0-AB92-8496899F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4D9-CEBA-4429-9430-032ACB5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C71-68AC-422D-9A17-25FAB2F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87A-8DAB-43A0-8F7A-F45E7DD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C6B-6622-4C14-B040-330D507CC1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0E7-4DAF-4F3A-8F73-EBA93B27D6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olympus.ourlife.ru/gallery/data/media/44/_A276843_filtered.jpg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img0.liveinternet.ru/images/attach/c/2/65/269/65269825_1pokrava_bozhiey_materi_hram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mmedia.nsu.ru/culture/DATA/obj2344/PICTURE.jpg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0/St_Basils_Cathedral_closeup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0/Orante_%281780s%2C_Saint_Basil%27s_Cathedral%29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a/Basil_Fool_for_Christ%27s_grav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Сочинение-описание памятника архитектур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«Храм Василия Блаженн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Храм Покрова на рв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ИКОНОСТА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Файл:Saint Basil's Cathedral interior by shakko 08.jpg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КОЛОКОЛЬ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Файл:Pyhän Vasilin katedraalin kellotapuli.jpg"/>
          <p:cNvPicPr/>
          <p:nvPr/>
        </p:nvPicPr>
        <p:blipFill>
          <a:blip r:embed="rId1"/>
          <a:stretch/>
        </p:blipFill>
        <p:spPr>
          <a:xfrm>
            <a:off x="28195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рам Василия Блаженного на гравюре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V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Файл:Sobor vasilii blazhenn old.jpg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Храм Василия Блаженного в наш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Картинка 4 из 15616"/>
          <p:cNvPicPr/>
          <p:nvPr/>
        </p:nvPicPr>
        <p:blipFill>
          <a:blip r:embed="rId1"/>
          <a:stretch/>
        </p:blipFill>
        <p:spPr>
          <a:xfrm>
            <a:off x="1523880" y="1600200"/>
            <a:ext cx="563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Храм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04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53 из 142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1676520"/>
            <a:ext cx="3733560" cy="39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54 из 142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8862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6 из 1421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144792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ьтесь с текстом упражнения 111 и ответьте письменно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сть какого события Иван Грозный решил построить в Москве храм-памя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чем можно сравнить это соору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чему храм приобрёл нарядный и сказочный ви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зодчих, которые построили х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2. </a:t>
            </a:r>
            <a:br>
              <a:rPr sz="3800"/>
            </a:br>
            <a:r>
              <a:rPr b="0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Составьте грамматически правильные предложения из слов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р, Василий Блаженный, расположить, Красная площадь, на, Москва,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м, Василий Блаженный, известный, из, один, самый, достопримечательность,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ловар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клет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жний этаж х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олп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шня, коло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дел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большая боковая при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Arial"/>
              </a:rPr>
              <a:t>ФОТОГАЛЕРЕ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Купола хр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Файл:St Basils Cathedral 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4286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Богоматерь «Знамение» в подклет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Файл:Orante (1780s, Saint Basil's Cathedral)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38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Могила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Файл:Basil Fool for Christ's gr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2388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02-01-01T02:11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