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868-6C4A-4370-8626-E1182EF5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819-65AF-46C8-8832-EC8B05F5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6CD-A141-437D-BF77-BA3FACE2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430-4C83-424B-8D79-DFE3B988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3F24-1DD9-45ED-B3CD-D93C1CBE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F542-27F8-47D4-9C68-31C1E09A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6050-0839-4925-9CC1-C04A3866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C8C1-D08E-4413-BB16-341078E0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863E-9BA8-4CAA-8234-C582DC39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A8A1-3F89-4177-9320-49DDE15C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969C-CAEF-4E52-AB03-CEBDF45D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7AE-0C42-451C-8E0E-ACE49A13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08A2-6E1B-4806-A029-F75F5BA7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C440-F7D9-4D74-BDC2-B54611E0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CCF7-D3A1-4FC4-BA69-4D2CB865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B84E-37BB-4723-95E2-F14FA5B0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7629-EC34-44A8-A47F-A076B0DC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BE1-2A40-427E-84F3-4A615888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934-E016-485B-9A15-83112DE6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B9E-F2BF-4503-9DA4-C4F547F7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D58-FFBB-4F85-8D24-22B27A7F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2C2-4183-424B-B5A9-90A7F20B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554-3558-4517-88C4-124DCE0A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DD1-D6CC-4C81-BBC2-30BE60EC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CAAA-9810-40F0-A271-40F67EE158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9352-F81A-4256-96BF-F91C866794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olympus.ourlife.ru/gallery/data/media/44/_A276843_filtered.jpg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img0.liveinternet.ru/images/attach/c/2/65/269/65269825_1pokrava_bozhiey_materi_hram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mmedia.nsu.ru/culture/DATA/obj2344/PICTURE.jpg" TargetMode="Externa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0/St_Basils_Cathedral_closeup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0/Orante_%281780s%2C_Saint_Basil%27s_Cathedral%29_0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a/Basil_Fool_for_Christ%27s_grav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Сочинение-описание памятника архитектур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«Храм Василия Блаженн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Храм Покрова на рв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ИКОНОСТА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Файл:Saint Basil's Cathedral interior by shakko 08.jpg"/>
          <p:cNvPicPr/>
          <p:nvPr/>
        </p:nvPicPr>
        <p:blipFill>
          <a:blip r:embed="rId1"/>
          <a:stretch/>
        </p:blipFill>
        <p:spPr>
          <a:xfrm>
            <a:off x="838080" y="14479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КОЛОКОЛЬ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Файл:Pyhän Vasilin katedraalin kellotapuli.jpg"/>
          <p:cNvPicPr/>
          <p:nvPr/>
        </p:nvPicPr>
        <p:blipFill>
          <a:blip r:embed="rId1"/>
          <a:stretch/>
        </p:blipFill>
        <p:spPr>
          <a:xfrm>
            <a:off x="2819520" y="144792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рам Василия Блаженного на гравюре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VI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ве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Файл:Sobor vasilii blazhenn old.jpg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Times New Roman"/>
              </a:rPr>
              <a:t>Храм Василия Блаженного в наше врем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Картинка 4 из 15616"/>
          <p:cNvPicPr/>
          <p:nvPr/>
        </p:nvPicPr>
        <p:blipFill>
          <a:blip r:embed="rId1"/>
          <a:stretch/>
        </p:blipFill>
        <p:spPr>
          <a:xfrm>
            <a:off x="1523880" y="1600200"/>
            <a:ext cx="5639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Храм Василия Блаженног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040" y="159984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040" y="394128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76560" y="1599840"/>
            <a:ext cx="3809880" cy="453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Картинка 53 из 142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76920" y="1676520"/>
            <a:ext cx="3733560" cy="39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54 из 142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38862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Картинка 16 из 1421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720" y="1447920"/>
            <a:ext cx="2057400" cy="243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Задание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ьтесь с текстом упражнения 111 и ответьте письменно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сть какого события Иван Грозный решил построить в Москве храм-памят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 чем можно сравнить это соору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чему храм приобрёл нарядный и сказочный ви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вали зодчих, которые построили хр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Задание 2. </a:t>
            </a:r>
            <a:br>
              <a:rPr sz="3800"/>
            </a:br>
            <a:r>
              <a:rPr b="0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Составьте грамматически правильные предложения из слов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ор, Василий Блаженный, расположить, Красная площадь, на, Москва,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ам, Василий Блаженный, известный, из, один, самый, достопримечательность, Ро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ловар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клет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ижний этаж х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олп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шня, коло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дел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большая боковая при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ff"/>
                </a:solidFill>
                <a:latin typeface="Arial"/>
              </a:rPr>
              <a:t>ФОТОГАЛЕРЕ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Купола хра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" descr="Файл:St Basils Cathedral close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523880"/>
            <a:ext cx="4286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Богоматерь «Знамение» в подклет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Файл:Orante (1780s, Saint Basil's Cathedral) 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52388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Могила Василия Блаженног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Файл:Basil Fool for Christ's gra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523880"/>
            <a:ext cx="4038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</cp:lastModifiedBy>
  <dcterms:modified xsi:type="dcterms:W3CDTF">2002-01-01T02:11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