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850-1987-4220-8918-97169C9E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A74-D089-426C-8AE4-861639CD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150-A7D5-4C9F-8D42-2DE733E2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C13-5916-4503-A61A-C47C9C03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7010-2122-45DE-9943-29FAE79A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7BBA-F0CB-4704-9DF4-E5CFE097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3AB2-F9E1-4194-B963-16935E7B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4AA2-1689-42AE-831C-D0442EAA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0897-0D32-46B5-B0FD-9E2D6FC3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C32A-3D82-42D4-B974-27DBB98E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91F6-BE25-4EB7-A922-500D4113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452-0C26-4050-8FA6-65583F05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FD00-BF4D-4E08-8176-9A261D46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1A9A-D913-4D10-9DBA-766C56A2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3209-72AC-4E67-889E-BD3F60A1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D4DE-D454-4607-B4D0-00F50996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CB58-6393-4FE9-82C6-0CA57508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D30D-06BF-4E11-9BB5-4F2C2FD8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B41-BAB6-4FCD-AF17-CDE95D95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9E2-9AC9-46CE-9A01-97F453A4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D28-EE1F-4C7C-A38B-36099227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AAA0-D7FF-456F-85EB-E0F30857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7FC-D062-4E34-8467-B816F77D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1AE-6C5B-4803-87FC-0F161CC2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20B6-27E0-404F-AB0D-1FF6EDD79A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DA4E-0015-4DE5-BCEA-2879BB95C0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olympus.ourlife.ru/gallery/data/media/44/_A276843_filtered.jpg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img0.liveinternet.ru/images/attach/c/2/65/269/65269825_1pokrava_bozhiey_materi_hram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mmedia.nsu.ru/culture/DATA/obj2344/PICTURE.jpg" TargetMode="Externa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0/St_Basils_Cathedral_closeup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0/Orante_%281780s%2C_Saint_Basil%27s_Cathedral%29_0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a/Basil_Fool_for_Christ%27s_grav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Сочинение-описание памятника архитектуры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«Храм Василия Блаженн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Храм Покрова на рв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Times New Roman"/>
              </a:rPr>
              <a:t>ИКОНОСТАС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Файл:Saint Basil's Cathedral interior by shakko 08.jpg"/>
          <p:cNvPicPr/>
          <p:nvPr/>
        </p:nvPicPr>
        <p:blipFill>
          <a:blip r:embed="rId1"/>
          <a:stretch/>
        </p:blipFill>
        <p:spPr>
          <a:xfrm>
            <a:off x="838080" y="1447920"/>
            <a:ext cx="7620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Times New Roman"/>
              </a:rPr>
              <a:t>КОЛОКОЛЬН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Файл:Pyhän Vasilin katedraalin kellotapuli.jpg"/>
          <p:cNvPicPr/>
          <p:nvPr/>
        </p:nvPicPr>
        <p:blipFill>
          <a:blip r:embed="rId1"/>
          <a:stretch/>
        </p:blipFill>
        <p:spPr>
          <a:xfrm>
            <a:off x="2819520" y="144792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Храм Василия Блаженного на гравюре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VI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ве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Файл:Sobor vasilii blazhenn old.jpg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Times New Roman"/>
              </a:rPr>
              <a:t>Храм Василия Блаженного в наше врем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Картинка 4 из 15616"/>
          <p:cNvPicPr/>
          <p:nvPr/>
        </p:nvPicPr>
        <p:blipFill>
          <a:blip r:embed="rId1"/>
          <a:stretch/>
        </p:blipFill>
        <p:spPr>
          <a:xfrm>
            <a:off x="1523880" y="1600200"/>
            <a:ext cx="5639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Храм Василия Блаженног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040" y="159984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040" y="394128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76560" y="1599840"/>
            <a:ext cx="3809880" cy="4530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Картинка 53 из 1421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76920" y="1676520"/>
            <a:ext cx="3733560" cy="396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Картинка 54 из 1421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388620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Картинка 16 из 1421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90720" y="1447920"/>
            <a:ext cx="2057400" cy="2438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Задание 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ьтесь с текстом упражнения 111 и ответьте письменно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сть какого события Иван Грозный решил построить в Москве храм-памятн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 чем можно сравнить это соору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я чему храм приобрёл нарядный и сказочный ви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звали зодчих, которые построили хр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Задание 2. </a:t>
            </a:r>
            <a:br>
              <a:rPr sz="3800"/>
            </a:br>
            <a:r>
              <a:rPr b="0" lang="en-US" sz="2400" spc="-1" strike="noStrike" u="sng">
                <a:solidFill>
                  <a:srgbClr val="330033"/>
                </a:solidFill>
                <a:uFillTx/>
                <a:latin typeface="Times New Roman"/>
              </a:rPr>
              <a:t>Составьте грамматически правильные предложения из слов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ор, Василий Блаженный, расположить, Красная площадь, на, Москва,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ам, Василий Блаженный, известный, из, один, самый, достопримечательность, Рос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Словар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клет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ижний этаж х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олп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шня, коло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дел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большая боковая пристро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ff"/>
                </a:solidFill>
                <a:latin typeface="Arial"/>
              </a:rPr>
              <a:t>ФОТОГАЛЕРЕ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Купола хра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" descr="Файл:St Basils Cathedral close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523880"/>
            <a:ext cx="4286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Богоматерь «Знамение» в подклет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Файл:Orante (1780s, Saint Basil's Cathedral) 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52388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Times New Roman"/>
              </a:rPr>
              <a:t>Могила Василия Блаженног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Файл:Basil Fool for Christ's gra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523880"/>
            <a:ext cx="4038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аил</cp:lastModifiedBy>
  <dcterms:modified xsi:type="dcterms:W3CDTF">2002-01-01T02:11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