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284-63C7-4907-81DD-E9A46C8F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97F-2A00-4B69-96E6-E8ADD09D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FB3-C97C-48D0-A1ED-A727E5B5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4A9-64AD-462F-86BD-EC7BC2B0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951-FF4F-4932-9C92-9DE730AF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F578-94A9-47DB-8788-4E49DF04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2BD-B34C-4DAE-9A73-A2FBAAE6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246-27A9-49A4-827A-88887697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82B-8513-4528-BDC5-9456D654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5B8-D261-4ACD-A2AE-E74BDD18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A47-7F9F-44B7-A356-9721C487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4D4-C83A-4389-81FA-E56F3B7B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cd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D035-A066-47CA-8A43-F4FAA5D46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920880" y="2152800"/>
            <a:ext cx="7259400" cy="865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85840" y="4287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МБОУ «Средняя общеобразовательная школа № 48» города Ку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214800" y="32148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6 класс, </a:t>
            </a:r>
            <a:r>
              <a:rPr b="1" lang="en-US" sz="1800" spc="-1" strike="noStrike">
                <a:solidFill>
                  <a:srgbClr val="7030a0"/>
                </a:solidFill>
                <a:latin typeface="Georgia"/>
              </a:rPr>
              <a:t>IV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 четв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214960" y="492912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Georgia"/>
              </a:rPr>
              <a:t>Кравцова Л.В., 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643120" y="614376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Georgia"/>
              </a:rPr>
              <a:t>Курск, 2013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785880" y="21420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Режиссер Карло Карлей, «Ромео и Джульетт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Италия-США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450072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- Хейли Стайнфе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 Дуглас Бут</a:t>
            </a: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RomeoJuliet_Carlei.jpg"/>
          <p:cNvPicPr/>
          <p:nvPr/>
        </p:nvPicPr>
        <p:blipFill>
          <a:blip r:embed="rId1"/>
          <a:stretch/>
        </p:blipFill>
        <p:spPr>
          <a:xfrm>
            <a:off x="4143240" y="3143160"/>
            <a:ext cx="4762800" cy="33339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4416840" y="157176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Музыка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еймса Роя Хор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6" descr="CarleiRomeoJuliet1.jpg"/>
          <p:cNvPicPr/>
          <p:nvPr/>
        </p:nvPicPr>
        <p:blipFill>
          <a:blip r:embed="rId2"/>
          <a:stretch/>
        </p:blipFill>
        <p:spPr>
          <a:xfrm>
            <a:off x="214200" y="928800"/>
            <a:ext cx="3829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3571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Образ Джульетты в фильмах Кьюкора, Кастеллани, Дзеффирелли и Лурм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normajuliet.jpg"/>
          <p:cNvPicPr/>
          <p:nvPr/>
        </p:nvPicPr>
        <p:blipFill>
          <a:blip r:embed="rId1"/>
          <a:stretch/>
        </p:blipFill>
        <p:spPr>
          <a:xfrm>
            <a:off x="142920" y="3286080"/>
            <a:ext cx="1973160" cy="2446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julsusan.jpg"/>
          <p:cNvPicPr/>
          <p:nvPr/>
        </p:nvPicPr>
        <p:blipFill>
          <a:blip r:embed="rId2"/>
          <a:stretch/>
        </p:blipFill>
        <p:spPr>
          <a:xfrm>
            <a:off x="2214720" y="2571840"/>
            <a:ext cx="2278080" cy="2571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julolivia.jpg"/>
          <p:cNvPicPr/>
          <p:nvPr/>
        </p:nvPicPr>
        <p:blipFill>
          <a:blip r:embed="rId3"/>
          <a:stretch/>
        </p:blipFill>
        <p:spPr>
          <a:xfrm>
            <a:off x="4572000" y="1857240"/>
            <a:ext cx="2330280" cy="2643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clairejul.jpg"/>
          <p:cNvPicPr/>
          <p:nvPr/>
        </p:nvPicPr>
        <p:blipFill>
          <a:blip r:embed="rId4"/>
          <a:stretch/>
        </p:blipFill>
        <p:spPr>
          <a:xfrm>
            <a:off x="7000920" y="928800"/>
            <a:ext cx="1969920" cy="2428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8"/>
          <p:cNvSpPr/>
          <p:nvPr/>
        </p:nvSpPr>
        <p:spPr>
          <a:xfrm>
            <a:off x="7112880" y="35719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Клэр Дэй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4714920" y="45720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Оливия Хас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2214720" y="52149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Сьюзен Шен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500040" y="5786280"/>
            <a:ext cx="11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142920" y="58579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Норма Шир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214720" y="2214720"/>
            <a:ext cx="4929120" cy="1831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cc"/>
                </a:solidFill>
                <a:latin typeface="Georgia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MovieCollage.jpg"/>
          <p:cNvPicPr/>
          <p:nvPr/>
        </p:nvPicPr>
        <p:blipFill>
          <a:blip r:embed="rId1"/>
          <a:stretch/>
        </p:blipFill>
        <p:spPr>
          <a:xfrm>
            <a:off x="785880" y="1143000"/>
            <a:ext cx="7769160" cy="52862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2" descr=""/>
          <p:cNvPicPr/>
          <p:nvPr/>
        </p:nvPicPr>
        <p:blipFill>
          <a:blip r:embed="rId2"/>
          <a:stretch/>
        </p:blipFill>
        <p:spPr>
          <a:xfrm>
            <a:off x="566640" y="152280"/>
            <a:ext cx="80838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28760" y="35712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первые Ромео и Джульетта появились на киноэкране в фильме  Жоржа Мельеса (Франция, 1902). Сначала это были безголосые и чёрно-белые л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500040" y="135720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ежиссёр   Джон Нобл «Ромео и Джульетта», США, 191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BushmanBayne01.jpg"/>
          <p:cNvPicPr/>
          <p:nvPr/>
        </p:nvPicPr>
        <p:blipFill>
          <a:blip r:embed="rId1"/>
          <a:stretch/>
        </p:blipFill>
        <p:spPr>
          <a:xfrm>
            <a:off x="5345280" y="3786120"/>
            <a:ext cx="344628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SutherlandAllen.jpg"/>
          <p:cNvPicPr/>
          <p:nvPr/>
        </p:nvPicPr>
        <p:blipFill>
          <a:blip r:embed="rId2"/>
          <a:stretch/>
        </p:blipFill>
        <p:spPr>
          <a:xfrm>
            <a:off x="571680" y="2214720"/>
            <a:ext cx="2043000" cy="36432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357720" y="2286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- Беверли Б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Фрэнсис Буш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ThedaBara.jpg"/>
          <p:cNvPicPr/>
          <p:nvPr/>
        </p:nvPicPr>
        <p:blipFill>
          <a:blip r:embed="rId3"/>
          <a:stretch/>
        </p:blipFill>
        <p:spPr>
          <a:xfrm>
            <a:off x="2928960" y="3786120"/>
            <a:ext cx="20718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71492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Композитор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Герберт Стотх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428760" y="42876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ер Джордж Дьюи Кьюкор,  «Ромео и Джульетт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США, 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42920" y="471492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а чёрно-белая лента по праву считается одной из легендарных  интерпретаций шекспировского сюжета в кинематогра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RJ_Cukor1936.jpg"/>
          <p:cNvPicPr/>
          <p:nvPr/>
        </p:nvPicPr>
        <p:blipFill>
          <a:blip r:embed="rId1"/>
          <a:stretch/>
        </p:blipFill>
        <p:spPr>
          <a:xfrm>
            <a:off x="214200" y="2143080"/>
            <a:ext cx="5464440" cy="23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5857920" y="214308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Норма Шир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Лесли Ха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Howard_Shearer.jpg"/>
          <p:cNvPicPr/>
          <p:nvPr/>
        </p:nvPicPr>
        <p:blipFill>
          <a:blip r:embed="rId2"/>
          <a:stretch/>
        </p:blipFill>
        <p:spPr>
          <a:xfrm>
            <a:off x="6000840" y="378612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85840" y="42876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Режиссер Ренато Кастеллани, «Ромео и Джульетта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Англия-Италия,  19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castellani.jpg"/>
          <p:cNvPicPr/>
          <p:nvPr/>
        </p:nvPicPr>
        <p:blipFill>
          <a:blip r:embed="rId1"/>
          <a:stretch/>
        </p:blipFill>
        <p:spPr>
          <a:xfrm>
            <a:off x="500040" y="1357200"/>
            <a:ext cx="2786040" cy="4472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JulietRomeoCrypt.jpg"/>
          <p:cNvPicPr/>
          <p:nvPr/>
        </p:nvPicPr>
        <p:blipFill>
          <a:blip r:embed="rId2"/>
          <a:stretch/>
        </p:blipFill>
        <p:spPr>
          <a:xfrm>
            <a:off x="3714840" y="2786040"/>
            <a:ext cx="511488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3857760" y="107172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Композитор 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ан Вл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786120" y="1500120"/>
            <a:ext cx="514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Джульетта – Сьюзен Шент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Ромео - Лоуренс Ха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14200" y="357120"/>
            <a:ext cx="89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Режиссёр - Лео Арнштам,  хореограф - Леонид Лавровский   «Ромео и Джульетта»,  Россия, 19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ulanova1.jpg"/>
          <p:cNvPicPr/>
          <p:nvPr/>
        </p:nvPicPr>
        <p:blipFill>
          <a:blip r:embed="rId1"/>
          <a:stretch/>
        </p:blipFill>
        <p:spPr>
          <a:xfrm>
            <a:off x="285840" y="1643040"/>
            <a:ext cx="3066840" cy="3929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ulanova2.jpg"/>
          <p:cNvPicPr/>
          <p:nvPr/>
        </p:nvPicPr>
        <p:blipFill>
          <a:blip r:embed="rId2"/>
          <a:stretch/>
        </p:blipFill>
        <p:spPr>
          <a:xfrm>
            <a:off x="6500880" y="3571920"/>
            <a:ext cx="2232000" cy="2808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3643200" y="2286000"/>
            <a:ext cx="514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Джульетта – Галина У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Ромео - Юрий Жд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571920" y="1500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Композитор  </a:t>
            </a:r>
            <a:r>
              <a:rPr b="1" lang="ru-RU" sz="2400" spc="-1" strike="noStrike">
                <a:solidFill>
                  <a:srgbClr val="cc00cc"/>
                </a:solidFill>
                <a:latin typeface="Georgia"/>
              </a:rPr>
              <a:t>С.Проко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ulanova.jpg"/>
          <p:cNvPicPr/>
          <p:nvPr/>
        </p:nvPicPr>
        <p:blipFill>
          <a:blip r:embed="rId3"/>
          <a:stretch/>
        </p:blipFill>
        <p:spPr>
          <a:xfrm>
            <a:off x="3643200" y="3571920"/>
            <a:ext cx="2498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286080" y="928800"/>
            <a:ext cx="571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«Вестсайдская история»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экранизация знаменитого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мюзикл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Леонарда Бернстайн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впервые поставленного на Бродвее в 1957 году. Сценарий фильма - Эрнест Леман, </a:t>
            </a: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ёры - Роберт Уайз и Джером Роббинс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хореография). Тексты песен Стивена Сондхей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000240" y="142920"/>
            <a:ext cx="614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ер Роберт Уайз «Вестсайдская история»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Georgia"/>
              </a:rPr>
              <a:t>West Side Story ,</a:t>
            </a: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 США, 196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westside.jpg"/>
          <p:cNvPicPr/>
          <p:nvPr/>
        </p:nvPicPr>
        <p:blipFill>
          <a:blip r:embed="rId1"/>
          <a:stretch/>
        </p:blipFill>
        <p:spPr>
          <a:xfrm>
            <a:off x="285840" y="428760"/>
            <a:ext cx="2639880" cy="3419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WestSideStory0.jpg"/>
          <p:cNvPicPr/>
          <p:nvPr/>
        </p:nvPicPr>
        <p:blipFill>
          <a:blip r:embed="rId2"/>
          <a:stretch/>
        </p:blipFill>
        <p:spPr>
          <a:xfrm>
            <a:off x="4714920" y="2928960"/>
            <a:ext cx="4319640" cy="27129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5286240" y="5715000"/>
            <a:ext cx="329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Тони - Ричард Б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Мария - Натали В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42920" y="4000680"/>
            <a:ext cx="43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ильм   отмечен наградами Золотой Глобус и премией Оскар по 10 номинациям: лучший фильм года, режиссура, операторская работа, костюмы, художественное оформление, музыка, хореография, монтаж, второстепенные мужская (Чакирис) и женская (Морено) роли. Награда кинокритики Нью Йорка за 1961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357120" y="14292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Франко  Дзеффирелли, «Ромео и Джульетт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Англия-Италия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572000" y="150012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Джульетта - Оливия Хас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Ромео -  Леонард Уайтин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4572000" y="92880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Музыка </a:t>
            </a: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Нино Р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85840" y="5572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1969 году фильм Дзеффирелли был представлен на премию «Оскар» по четырём номинациям:  лучший фильм года, лучший режиссёр, лучший дизайн костюмов (Danilo Donati) и лучшая операторская работа (Pascualino de Santis),  но получил её только по двум послед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1336282595_12.jpg"/>
          <p:cNvPicPr/>
          <p:nvPr/>
        </p:nvPicPr>
        <p:blipFill>
          <a:blip r:embed="rId1"/>
          <a:stretch/>
        </p:blipFill>
        <p:spPr>
          <a:xfrm>
            <a:off x="571680" y="928800"/>
            <a:ext cx="3500280" cy="44830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8314964599cf23c5.jpg"/>
          <p:cNvPicPr/>
          <p:nvPr/>
        </p:nvPicPr>
        <p:blipFill>
          <a:blip r:embed="rId2"/>
          <a:srcRect l="0" t="0" r="0" b="27761"/>
          <a:stretch/>
        </p:blipFill>
        <p:spPr>
          <a:xfrm>
            <a:off x="5143680" y="2643120"/>
            <a:ext cx="26431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71680" y="428760"/>
            <a:ext cx="81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ер  Бэз  Лурманн, «Ромео и Джульетта»,  США, 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714920" y="221472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- Клэр Дэй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Леонардо Ди Капри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786200" y="128592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Музыка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Кедж Армстро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285840" y="4214880"/>
            <a:ext cx="42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грады Британской киноакадемии: лучший режиссёр, сценарий,  музыка и художественное оформление картины. Леонардо ДиКаприо получил приз за лучшую мужскую роль на Берлинском кинофестивале. Награда MTV Movie досталась актрисе Клэр Дэй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romeo_and_juliet.jpeg"/>
          <p:cNvPicPr/>
          <p:nvPr/>
        </p:nvPicPr>
        <p:blipFill>
          <a:blip r:embed="rId1"/>
          <a:stretch/>
        </p:blipFill>
        <p:spPr>
          <a:xfrm>
            <a:off x="142920" y="1071720"/>
            <a:ext cx="442908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T9SyOIgK4Fp.jpeg"/>
          <p:cNvPicPr/>
          <p:nvPr/>
        </p:nvPicPr>
        <p:blipFill>
          <a:blip r:embed="rId2"/>
          <a:stretch/>
        </p:blipFill>
        <p:spPr>
          <a:xfrm>
            <a:off x="4786200" y="3929040"/>
            <a:ext cx="41943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05:43:18Z</dcterms:created>
  <dc:creator>Admin</dc:creator>
  <dc:description/>
  <dc:language>en-US</dc:language>
  <cp:lastModifiedBy>Admin</cp:lastModifiedBy>
  <dcterms:modified xsi:type="dcterms:W3CDTF">2013-07-01T07:17:06Z</dcterms:modified>
  <cp:revision>20</cp:revision>
  <dc:subject/>
  <dc:title>Слайд 1</dc:title>
</cp:coreProperties>
</file>