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197-9275-4874-B16A-82F5E0E9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670-3FD6-45C5-803A-59082853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CF3-91A7-4B65-9D7D-7EC24B29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3EC-2E6E-4097-87E8-AD5274CC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084-04DB-4F4C-9278-295276F2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769-AED4-495E-9580-93CB0511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58F-2BCC-4BB8-88BD-60F6C325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39C-BAE9-4396-B0BE-26B71E8A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D01C-F0AB-4FF6-8B33-46D175AC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771-3B40-462D-B75A-25354694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1A8-77D8-493B-AC42-447F84F5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441-135B-4A4B-8746-E6CE93C5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cd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F2C8-E493-44BE-B985-2811EFF4B7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920880" y="2152800"/>
            <a:ext cx="7259400" cy="865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85840" y="4287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МБОУ «Средняя общеобразовательная школа № 48» города Ку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214800" y="32148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6 класс, </a:t>
            </a:r>
            <a:r>
              <a:rPr b="1" lang="en-US" sz="1800" spc="-1" strike="noStrike">
                <a:solidFill>
                  <a:srgbClr val="7030a0"/>
                </a:solidFill>
                <a:latin typeface="Georgia"/>
              </a:rPr>
              <a:t>IV</a:t>
            </a: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 четв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214960" y="4929120"/>
            <a:ext cx="371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Georgia"/>
              </a:rPr>
              <a:t>Кравцова Л.В., учитель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643120" y="6143760"/>
            <a:ext cx="36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Georgia"/>
              </a:rPr>
              <a:t>Курск, 2013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785880" y="21420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Режиссер Карло Карлей, «Ромео и Джульетт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Италия-США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0" y="450072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Джульетта - Хейли Стайнфел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омео -  Дуглас Бут</a:t>
            </a: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RomeoJuliet_Carlei.jpg"/>
          <p:cNvPicPr/>
          <p:nvPr/>
        </p:nvPicPr>
        <p:blipFill>
          <a:blip r:embed="rId1"/>
          <a:stretch/>
        </p:blipFill>
        <p:spPr>
          <a:xfrm>
            <a:off x="4143240" y="3143160"/>
            <a:ext cx="4762800" cy="33339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4416840" y="1571760"/>
            <a:ext cx="38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Музыка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Джеймса Роя Хорн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6" descr="CarleiRomeoJuliet1.jpg"/>
          <p:cNvPicPr/>
          <p:nvPr/>
        </p:nvPicPr>
        <p:blipFill>
          <a:blip r:embed="rId2"/>
          <a:stretch/>
        </p:blipFill>
        <p:spPr>
          <a:xfrm>
            <a:off x="214200" y="928800"/>
            <a:ext cx="3829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214200" y="3571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Образ Джульетты в фильмах Кьюкора, Кастеллани, Дзеффирелли и Лурм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normajuliet.jpg"/>
          <p:cNvPicPr/>
          <p:nvPr/>
        </p:nvPicPr>
        <p:blipFill>
          <a:blip r:embed="rId1"/>
          <a:stretch/>
        </p:blipFill>
        <p:spPr>
          <a:xfrm>
            <a:off x="142920" y="3286080"/>
            <a:ext cx="1973160" cy="24465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julsusan.jpg"/>
          <p:cNvPicPr/>
          <p:nvPr/>
        </p:nvPicPr>
        <p:blipFill>
          <a:blip r:embed="rId2"/>
          <a:stretch/>
        </p:blipFill>
        <p:spPr>
          <a:xfrm>
            <a:off x="2214720" y="2571840"/>
            <a:ext cx="2278080" cy="25718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julolivia.jpg"/>
          <p:cNvPicPr/>
          <p:nvPr/>
        </p:nvPicPr>
        <p:blipFill>
          <a:blip r:embed="rId3"/>
          <a:stretch/>
        </p:blipFill>
        <p:spPr>
          <a:xfrm>
            <a:off x="4572000" y="1857240"/>
            <a:ext cx="2330280" cy="2643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clairejul.jpg"/>
          <p:cNvPicPr/>
          <p:nvPr/>
        </p:nvPicPr>
        <p:blipFill>
          <a:blip r:embed="rId4"/>
          <a:stretch/>
        </p:blipFill>
        <p:spPr>
          <a:xfrm>
            <a:off x="7000920" y="928800"/>
            <a:ext cx="1969920" cy="24289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8"/>
          <p:cNvSpPr/>
          <p:nvPr/>
        </p:nvSpPr>
        <p:spPr>
          <a:xfrm>
            <a:off x="7112880" y="35719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Клэр Дэй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4714920" y="45720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Оливия Хас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2214720" y="52149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Сьюзен Шент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500040" y="5786280"/>
            <a:ext cx="11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2"/>
          <p:cNvSpPr/>
          <p:nvPr/>
        </p:nvSpPr>
        <p:spPr>
          <a:xfrm>
            <a:off x="142920" y="585792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Норма Шир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214720" y="2214720"/>
            <a:ext cx="4929120" cy="18313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cc"/>
                </a:solidFill>
                <a:latin typeface="Georgia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MovieCollage.jpg"/>
          <p:cNvPicPr/>
          <p:nvPr/>
        </p:nvPicPr>
        <p:blipFill>
          <a:blip r:embed="rId1"/>
          <a:stretch/>
        </p:blipFill>
        <p:spPr>
          <a:xfrm>
            <a:off x="785880" y="1143000"/>
            <a:ext cx="7769160" cy="52862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2" descr=""/>
          <p:cNvPicPr/>
          <p:nvPr/>
        </p:nvPicPr>
        <p:blipFill>
          <a:blip r:embed="rId2"/>
          <a:stretch/>
        </p:blipFill>
        <p:spPr>
          <a:xfrm>
            <a:off x="566640" y="152280"/>
            <a:ext cx="80838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28760" y="357120"/>
            <a:ext cx="82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первые Ромео и Джульетта появились на киноэкране в фильме  Жоржа Мельеса (Франция, 1902). Сначала это были безголосые и чёрно-белые л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500040" y="135720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ежиссёр   Джон Нобл «Ромео и Джульетта», США, 191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BushmanBayne01.jpg"/>
          <p:cNvPicPr/>
          <p:nvPr/>
        </p:nvPicPr>
        <p:blipFill>
          <a:blip r:embed="rId1"/>
          <a:stretch/>
        </p:blipFill>
        <p:spPr>
          <a:xfrm>
            <a:off x="5345280" y="3786120"/>
            <a:ext cx="3446280" cy="2667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SutherlandAllen.jpg"/>
          <p:cNvPicPr/>
          <p:nvPr/>
        </p:nvPicPr>
        <p:blipFill>
          <a:blip r:embed="rId2"/>
          <a:stretch/>
        </p:blipFill>
        <p:spPr>
          <a:xfrm>
            <a:off x="571680" y="2214720"/>
            <a:ext cx="2043000" cy="36432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3357720" y="2286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Джульетта - Беверли Бей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омео - Фрэнсис Буш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ThedaBara.jpg"/>
          <p:cNvPicPr/>
          <p:nvPr/>
        </p:nvPicPr>
        <p:blipFill>
          <a:blip r:embed="rId3"/>
          <a:stretch/>
        </p:blipFill>
        <p:spPr>
          <a:xfrm>
            <a:off x="2928960" y="3786120"/>
            <a:ext cx="20718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714920" y="1143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Композитор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Герберт Стотх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428760" y="42876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Режиссер Джордж Дьюи Кьюкор,  «Ромео и Джульетта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США, 19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142920" y="4714920"/>
            <a:ext cx="54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та чёрно-белая лента по праву считается одной из легендарных  интерпретаций шекспировского сюжета в кинематогра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RJ_Cukor1936.jpg"/>
          <p:cNvPicPr/>
          <p:nvPr/>
        </p:nvPicPr>
        <p:blipFill>
          <a:blip r:embed="rId1"/>
          <a:stretch/>
        </p:blipFill>
        <p:spPr>
          <a:xfrm>
            <a:off x="214200" y="2143080"/>
            <a:ext cx="5464440" cy="2357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5857920" y="214308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Джульетт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Норма Шир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омео - Лесли Хау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Howard_Shearer.jpg"/>
          <p:cNvPicPr/>
          <p:nvPr/>
        </p:nvPicPr>
        <p:blipFill>
          <a:blip r:embed="rId2"/>
          <a:stretch/>
        </p:blipFill>
        <p:spPr>
          <a:xfrm>
            <a:off x="6000840" y="3786120"/>
            <a:ext cx="2714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85840" y="42876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Режиссер Ренато Кастеллани, «Ромео и Джульетта»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Англия-Италия,  19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castellani.jpg"/>
          <p:cNvPicPr/>
          <p:nvPr/>
        </p:nvPicPr>
        <p:blipFill>
          <a:blip r:embed="rId1"/>
          <a:stretch/>
        </p:blipFill>
        <p:spPr>
          <a:xfrm>
            <a:off x="500040" y="1357200"/>
            <a:ext cx="2786040" cy="4472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JulietRomeoCrypt.jpg"/>
          <p:cNvPicPr/>
          <p:nvPr/>
        </p:nvPicPr>
        <p:blipFill>
          <a:blip r:embed="rId2"/>
          <a:stretch/>
        </p:blipFill>
        <p:spPr>
          <a:xfrm>
            <a:off x="3714840" y="2786040"/>
            <a:ext cx="5114880" cy="38098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3857760" y="1071720"/>
            <a:ext cx="38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Композитор 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оман Вл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3786120" y="1500120"/>
            <a:ext cx="514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Джульетта – Сьюзен Шент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Ромео - Лоуренс Хар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14200" y="357120"/>
            <a:ext cx="89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Режиссёр - Лео Арнштам,  хореограф - Леонид Лавровский   «Ромео и Джульетта»,  Россия, 19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ulanova1.jpg"/>
          <p:cNvPicPr/>
          <p:nvPr/>
        </p:nvPicPr>
        <p:blipFill>
          <a:blip r:embed="rId1"/>
          <a:stretch/>
        </p:blipFill>
        <p:spPr>
          <a:xfrm>
            <a:off x="285840" y="1643040"/>
            <a:ext cx="3066840" cy="3929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ulanova2.jpg"/>
          <p:cNvPicPr/>
          <p:nvPr/>
        </p:nvPicPr>
        <p:blipFill>
          <a:blip r:embed="rId2"/>
          <a:stretch/>
        </p:blipFill>
        <p:spPr>
          <a:xfrm>
            <a:off x="6500880" y="3571920"/>
            <a:ext cx="2232000" cy="2808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3643200" y="2286000"/>
            <a:ext cx="514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Джульетта – Галина Ул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Ромео - Юрий Жд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571920" y="1500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Композитор  </a:t>
            </a:r>
            <a:r>
              <a:rPr b="1" lang="ru-RU" sz="2400" spc="-1" strike="noStrike">
                <a:solidFill>
                  <a:srgbClr val="cc00cc"/>
                </a:solidFill>
                <a:latin typeface="Georgia"/>
              </a:rPr>
              <a:t>С.Прокоф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6" descr="ulanova.jpg"/>
          <p:cNvPicPr/>
          <p:nvPr/>
        </p:nvPicPr>
        <p:blipFill>
          <a:blip r:embed="rId3"/>
          <a:stretch/>
        </p:blipFill>
        <p:spPr>
          <a:xfrm>
            <a:off x="3643200" y="3571920"/>
            <a:ext cx="2498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3286080" y="928800"/>
            <a:ext cx="571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«Вестсайдская история»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 экранизация знаменитого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мюзикл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Леонарда Бернстайн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впервые поставленного на Бродвее в 1957 году. Сценарий фильма - Эрнест Леман, </a:t>
            </a: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режиссёры - Роберт Уайз и Джером Роббинс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хореография). Тексты песен Стивена Сондхей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3000240" y="142920"/>
            <a:ext cx="614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Режиссер Роберт Уайз «Вестсайдская история»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Georgia"/>
              </a:rPr>
              <a:t>West Side Story ,</a:t>
            </a: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 США, 196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westside.jpg"/>
          <p:cNvPicPr/>
          <p:nvPr/>
        </p:nvPicPr>
        <p:blipFill>
          <a:blip r:embed="rId1"/>
          <a:stretch/>
        </p:blipFill>
        <p:spPr>
          <a:xfrm>
            <a:off x="285840" y="428760"/>
            <a:ext cx="2639880" cy="3419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WestSideStory0.jpg"/>
          <p:cNvPicPr/>
          <p:nvPr/>
        </p:nvPicPr>
        <p:blipFill>
          <a:blip r:embed="rId2"/>
          <a:stretch/>
        </p:blipFill>
        <p:spPr>
          <a:xfrm>
            <a:off x="4714920" y="2928960"/>
            <a:ext cx="4319640" cy="27129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5286240" y="5715000"/>
            <a:ext cx="329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Тони - Ричард Б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Мария - Натали В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142920" y="4000680"/>
            <a:ext cx="43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ильм   отмечен наградами Золотой Глобус и премией Оскар по 10 номинациям: лучший фильм года, режиссура, операторская работа, костюмы, художественное оформление, музыка, хореография, монтаж, второстепенные мужская (Чакирис) и женская (Морено) роли. Награда кинокритики Нью Йорка за 1961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357120" y="14292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Франко  Дзеффирелли, «Ромео и Джульетт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Англия-Италия,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4572000" y="1500120"/>
            <a:ext cx="41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Джульетта - Оливия Хасс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Ромео -  Леонард Уайтин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4572000" y="92880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Музыка </a:t>
            </a: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Нино Р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285840" y="55720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1969 году фильм Дзеффирелли был представлен на премию «Оскар» по четырём номинациям:  лучший фильм года, лучший режиссёр, лучший дизайн костюмов (Danilo Donati) и лучшая операторская работа (Pascualino de Santis),  но получил её только по двум послед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1336282595_12.jpg"/>
          <p:cNvPicPr/>
          <p:nvPr/>
        </p:nvPicPr>
        <p:blipFill>
          <a:blip r:embed="rId1"/>
          <a:stretch/>
        </p:blipFill>
        <p:spPr>
          <a:xfrm>
            <a:off x="571680" y="928800"/>
            <a:ext cx="3500280" cy="44830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8314964599cf23c5.jpg"/>
          <p:cNvPicPr/>
          <p:nvPr/>
        </p:nvPicPr>
        <p:blipFill>
          <a:blip r:embed="rId2"/>
          <a:srcRect l="0" t="0" r="0" b="27761"/>
          <a:stretch/>
        </p:blipFill>
        <p:spPr>
          <a:xfrm>
            <a:off x="5143680" y="2643120"/>
            <a:ext cx="264312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571680" y="428760"/>
            <a:ext cx="81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Режиссер  Бэз  Лурманн, «Ромео и Джульетта»,  США, 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4714920" y="221472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Джульетта - Клэр Дэй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омео - Леонардо Ди Капри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786200" y="128592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Музыка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Кедж Армстро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285840" y="4214880"/>
            <a:ext cx="428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грады Британской киноакадемии: лучший режиссёр, сценарий,  музыка и художественное оформление картины. Леонардо ДиКаприо получил приз за лучшую мужскую роль на Берлинском кинофестивале. Награда MTV Movie досталась актрисе Клэр Дэйн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6" descr="romeo_and_juliet.jpeg"/>
          <p:cNvPicPr/>
          <p:nvPr/>
        </p:nvPicPr>
        <p:blipFill>
          <a:blip r:embed="rId1"/>
          <a:stretch/>
        </p:blipFill>
        <p:spPr>
          <a:xfrm>
            <a:off x="142920" y="1071720"/>
            <a:ext cx="4429080" cy="28954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T9SyOIgK4Fp.jpeg"/>
          <p:cNvPicPr/>
          <p:nvPr/>
        </p:nvPicPr>
        <p:blipFill>
          <a:blip r:embed="rId2"/>
          <a:stretch/>
        </p:blipFill>
        <p:spPr>
          <a:xfrm>
            <a:off x="4786200" y="3929040"/>
            <a:ext cx="419436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2T05:43:18Z</dcterms:created>
  <dc:creator>Admin</dc:creator>
  <dc:description/>
  <dc:language>en-US</dc:language>
  <cp:lastModifiedBy>Admin</cp:lastModifiedBy>
  <dcterms:modified xsi:type="dcterms:W3CDTF">2013-07-01T07:17:06Z</dcterms:modified>
  <cp:revision>20</cp:revision>
  <dc:subject/>
  <dc:title>Слайд 1</dc:title>
</cp:coreProperties>
</file>