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807-35D8-43A4-9425-4539CCBA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6D6-1C9D-47B0-951D-C557D730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30E-349F-4F55-B1ED-D2C0F070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D5B-4B1A-433E-84C7-8284E889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DAF-FB08-4AB1-8F01-E4AD6BF7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385-AFDD-4E7C-8D02-7ADE9446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A80-8803-4215-AE0F-AC0BC611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8AB-6FFB-45C5-818E-6555360F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6C0-7854-4363-A104-9FBE6E91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06D-B5E0-4429-9E38-EACECF98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698-5E04-4AD1-A3DB-684DA5A0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ABA-19E0-456C-8264-124DF4E4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6581-FE92-45A8-8EED-F190E731B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b3d3d"/>
                </a:solidFill>
                <a:latin typeface="Arial"/>
              </a:rPr>
              <a:t>«Мои жизненные планы и профессиональная карьер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атовский Государственный университет имени Чернышевског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ий факуль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684360" y="260280"/>
            <a:ext cx="77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ссмотрение вариантов  в случае непоступ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и и задач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основание выбора темы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явление моих интересов, способностей, профессионально важны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основание выбора специ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основание выбора учебного за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ссмотрение вариантов в случае не пост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3059280" y="189000"/>
            <a:ext cx="2808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ть свои жизненные планы и исходя из этих планов определить основные пути развития профессиональной карье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явить свои способности и интере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риентироваться в разнообразном мире професс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3635280" y="260280"/>
            <a:ext cx="187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Цел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у проекта мне предложил классный руководитель. Я согласилась, потому что в этом году заканчиваю школу и стою перед выбором: куда пойти учиться дальше? Выбор профессии – это важный шаг в жизни, так как от него зависит дальнейшее моё будущ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468360" y="0"/>
            <a:ext cx="806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основание выбора  темы  проект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Карье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 проводили тестирование по определению в какой области профессиональной деятельности согласно предмету труда нужно выбрать профессию. По результатам тестирования вышло, что мне нужно выбрать профессию по тип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-челове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То есть эта работа с люд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0" y="189000"/>
            <a:ext cx="914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явление моих интересов, способностей,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ессионально важных качест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выбрала медицинское направление.  С раннего детства я хотела стать врачом, постоянно хотела всех лечить. Но с годами интерес уменьшился. И когда пришло время выбирать профессию, я задумалась. Мне помогли мои родители. Они не ограничивали меня в выборе профессии, но все же предлагали мне свои варианты. Рассматривали профессии, которые более востребованы в жизни, подходят именно мне. нравятся они мне или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900000" y="0"/>
            <a:ext cx="720108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боснование выбора специальнос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 тому же с классным руководителем проводили тестирование, которое показало, что мне нужно выбирать профессии по типу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-челове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То есть работа с людьми. И медицинский работник больше всего подходит мне. Поэтому  я и остановила свой выбор именно в этом направлении. Надеюсь я не пожалею о свое выбо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ирая информацию о вузах, я остановилась на следующи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280" y="2781360"/>
            <a:ext cx="770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атовский Государственный Медицинский инстит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ультеты:1)Лечебное д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естринское де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68360" y="260280"/>
            <a:ext cx="8196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снование выбора учебного заведен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олгоградский Государственный Медицинский 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ультеты:1)Лечебное д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естринское де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6:36:15Z</dcterms:created>
  <dc:creator>Дашулька</dc:creator>
  <dc:description/>
  <dc:language>en-US</dc:language>
  <cp:lastModifiedBy>Larisa</cp:lastModifiedBy>
  <dcterms:modified xsi:type="dcterms:W3CDTF">2012-01-05T07:20:49Z</dcterms:modified>
  <cp:revision>5</cp:revision>
  <dc:subject/>
  <dc:title>«Мои жизненные планы и профессиональная карьера»</dc:title>
</cp:coreProperties>
</file>