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9F8-B9C3-4898-89D1-B20C81EA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DCD-33DD-4859-9C8F-9E54BBEE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B37-EF3D-4163-B6E6-8A43BF63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034-9598-4FBB-B21A-5C7DD2B6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1B3-F415-4649-9C51-6AC3ADC7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D70-D75A-481C-A782-8B45EB6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4E5-581B-4A97-AA11-61B96C1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198-1756-4C22-88CC-9933ED04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BC8-449E-4C07-9185-1ECD503B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DA3-B5E6-417A-B632-12C2DFD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C44-4960-495D-894C-C906387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593-6C9E-4345-9799-C010C25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9454-F202-453A-A909-55BCCA09D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b3d3d"/>
                </a:solidFill>
                <a:latin typeface="Arial"/>
              </a:rPr>
              <a:t>«Мои жизненные планы и профессиональная карьер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университет имени Чернышевског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факуль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260280"/>
            <a:ext cx="77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смотрение вариантов  в случае непоступ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темы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I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явление моих интересов, способностей, профессионально важ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специа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основание выбора учебного за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мотрение вариантов в случае не по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3059280" y="189000"/>
            <a:ext cx="280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ить свои жизненные планы и исходя из этих планов определить основные пути развития профессиональной карье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явить свои способности и интере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риентироваться в разнообразном мире професс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3635280" y="260280"/>
            <a:ext cx="18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у проекта мне предложил классный руководитель. Я согласилась, потому что в этом году заканчиваю школу и стою перед выбором: куда пойти учиться дальше? Выбор профессии – это важный шаг в жизни, так как от него зависит дальнейшее моё будущ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468360" y="0"/>
            <a:ext cx="806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снование выбора  темы  проекта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Карь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 проводили тестирование по определению в какой области профессиональной деятельности согласно предмету труда нужно выбрать профессию. По результатам тестирования вышло, что мне нужно выбрать профессию по тип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То есть эта работа с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0" y="189000"/>
            <a:ext cx="914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явление моих интересов, способностей,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ессионально важных качеств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выбрала медицинское направление.  С раннего детства я хотела стать врачом, постоянно хотела всех лечить. Но с годами интерес уменьшился. И когда пришло время выбирать профессию, я задумалась. Мне помогли мои родители. Они не ограничивали меня в выборе профессии, но все же предлагали мне свои варианты. Рассматривали профессии, которые более востребованы в жизни, подходят именно мне. нравятся они мне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900000" y="0"/>
            <a:ext cx="72010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боснование выбора специаль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тому же с классным руководителем проводили тестирование, которое показало, что мне нужно выбирать профессии по типу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-челове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То есть работа с людьми. И медицинский работник больше всего подходит мне. Поэтому  я и остановила свой выбор именно в этом направлении. Надеюсь я не пожалею о свое вы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бирая информацию о вузах, я остановилась на следующи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280" y="2781360"/>
            <a:ext cx="770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Медицинский инстит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260280"/>
            <a:ext cx="8196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снование выбора учебного заведения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лгоградский Государственный Медицинский 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ультеты:1)Лечебное д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естринское де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6:36:15Z</dcterms:created>
  <dc:creator>Дашулька</dc:creator>
  <dc:description/>
  <dc:language>en-US</dc:language>
  <cp:lastModifiedBy>Larisa</cp:lastModifiedBy>
  <dcterms:modified xsi:type="dcterms:W3CDTF">2012-01-05T07:20:49Z</dcterms:modified>
  <cp:revision>5</cp:revision>
  <dc:subject/>
  <dc:title>«Мои жизненные планы и профессиональная карьера»</dc:title>
</cp:coreProperties>
</file>