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344E2-7ADD-4E73-8B03-955A77225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A31F5-B427-491D-AE97-6710A55CE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FA064-6892-4F5A-9CA1-8BE0D3780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07341-EBFC-4B62-AF06-7B2A8862F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7BF4A-E69D-4F17-AFDB-7408AC953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0A46A-2CAF-4807-BCCC-000A712E6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F36F0-58A6-4933-A168-F2733C535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C8736-8F6E-4752-A537-25A07CA39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88FC3-F3F4-4E81-9919-3A09B4B97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62258-5374-411E-9F8E-9E10B835F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F2C81-3491-49C8-8FFA-5CC8E29F0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C4AF1-2628-42FF-A3D5-5CBC0DD5C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26ADC-E1FD-465F-BA53-C23E93086B4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620640"/>
            <a:ext cx="9144000" cy="417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eb3d3d"/>
                </a:solidFill>
                <a:latin typeface="Arial"/>
              </a:rPr>
              <a:t>«Мои жизненные планы и профессиональная карьера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184464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ллед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аратовский Государственный университет имени Чернышевского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иологический факульт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WordArt 4"/>
          <p:cNvSpPr txBox="1"/>
          <p:nvPr/>
        </p:nvSpPr>
        <p:spPr>
          <a:xfrm>
            <a:off x="684360" y="260280"/>
            <a:ext cx="777708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Рассмотрение вариантов  в случае непоступлен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0" y="1988640"/>
            <a:ext cx="9144000" cy="48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I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Цели и задачи проек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II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Обоснование выбора темы проек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III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Выявление моих интересов, способностей, профессионально важных качест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IV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Обоснование выбора специаль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V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Обоснование выбора учебного завед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VI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Рассмотрение вариантов в случае не поступл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WordArt 4"/>
          <p:cNvSpPr txBox="1"/>
          <p:nvPr/>
        </p:nvSpPr>
        <p:spPr>
          <a:xfrm>
            <a:off x="3059280" y="189000"/>
            <a:ext cx="2808000" cy="14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План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пределить свои жизненные планы и исходя из этих планов определить основные пути развития профессиональной карьер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ыявить свои способности и интерес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ориентироваться в разнообразном мире професси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WordArt 4"/>
          <p:cNvSpPr txBox="1"/>
          <p:nvPr/>
        </p:nvSpPr>
        <p:spPr>
          <a:xfrm>
            <a:off x="3635280" y="260280"/>
            <a:ext cx="18734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Цели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0" y="1700280"/>
            <a:ext cx="91440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Тему проекта мне предложил классный руководитель. Я согласилась, потому что в этом году заканчиваю школу и стою перед выбором: куда пойти учиться дальше? Выбор профессии – это важный шаг в жизни, так как от него зависит дальнейшее моё будущи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WordArt 4"/>
          <p:cNvSpPr txBox="1"/>
          <p:nvPr/>
        </p:nvSpPr>
        <p:spPr>
          <a:xfrm>
            <a:off x="468360" y="0"/>
            <a:ext cx="806436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Обоснование выбора  темы  проекта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0" y="2133360"/>
            <a:ext cx="91440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ень Карьеры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классе проводили тестирование по определению в какой области профессиональной деятельности согласно предмету труда нужно выбрать профессию. По результатам тестирования вышло, что мне нужно выбрать профессию по типу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еловек-человек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То есть эта работа с людь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WordArt 5"/>
          <p:cNvSpPr txBox="1"/>
          <p:nvPr/>
        </p:nvSpPr>
        <p:spPr>
          <a:xfrm>
            <a:off x="0" y="189000"/>
            <a:ext cx="914400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ыявление моих интересов, способностей, 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рофессионально важных качеств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0" y="1125000"/>
            <a:ext cx="896472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Я выбрала медицинское направление.  С раннего детства я хотела стать врачом, постоянно хотела всех лечить. Но с годами интерес уменьшился. И когда пришло время выбирать профессию, я задумалась. Мне помогли мои родители. Они не ограничивали меня в выборе профессии, но все же предлагали мне свои варианты. Рассматривали профессии, которые более востребованы в жизни, подходят именно мне. нравятся они мне или не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WordArt 4"/>
          <p:cNvSpPr txBox="1"/>
          <p:nvPr/>
        </p:nvSpPr>
        <p:spPr>
          <a:xfrm>
            <a:off x="900000" y="0"/>
            <a:ext cx="7201080" cy="982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Обоснование выбора специальности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23640" y="333000"/>
            <a:ext cx="856908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 тому же с классным руководителем проводили тестирование, которое показало, что мне нужно выбирать профессии по типу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Человек-человек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. То есть работа с людьми. И медицинский работник больше всего подходит мне. Поэтому  я и остановила свой выбор именно в этом направлении. Надеюсь я не пожалею о свое выбор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11280" y="1268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обирая информацию о вузах, я остановилась на следующих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39280" y="2781360"/>
            <a:ext cx="770436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аратовский Государственный Медицинский институ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акультеты:1)Лечебное дел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) Сестринское дел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WordArt 4"/>
          <p:cNvSpPr txBox="1"/>
          <p:nvPr/>
        </p:nvSpPr>
        <p:spPr>
          <a:xfrm>
            <a:off x="468360" y="260280"/>
            <a:ext cx="819612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Обоснование выбора учебного заведения.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250920" y="189000"/>
            <a:ext cx="864216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Волгоградский Государственный Медицинский институ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акультеты:1)Лечебное дел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) Сестринское дел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9T16:36:15Z</dcterms:created>
  <dc:creator>Дашулька</dc:creator>
  <dc:description/>
  <dc:language>en-US</dc:language>
  <cp:lastModifiedBy>Larisa</cp:lastModifiedBy>
  <dcterms:modified xsi:type="dcterms:W3CDTF">2012-01-05T07:20:49Z</dcterms:modified>
  <cp:revision>5</cp:revision>
  <dc:subject/>
  <dc:title>«Мои жизненные планы и профессиональная карьера»</dc:title>
</cp:coreProperties>
</file>