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8F66-5DD0-4D95-83F9-CDA74263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DC20-F827-4629-AFF2-62A20A57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A97-BC03-4133-AB80-B818DE54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1EE-6651-4DBA-A5C3-1E5E6AB5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395-F771-4BD0-A7BB-8467F810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2632-A894-4A2E-AF15-BA56A859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774-6C46-4EC8-ABBA-C32EDFE3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184-CE4C-4633-831C-FFE48117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09F2-FB66-4830-BE6D-2A639D9B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97B-097E-4C45-A637-8595D983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4D0-FC4B-4F46-BEBA-B1D4DF44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18BD-0A8A-49CE-8F6B-980FD4B6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A830-3F32-4CDD-991B-73CD3CFC7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2852640"/>
            <a:ext cx="446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urboUNION 1x2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981000"/>
            <a:ext cx="48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МИР ЗАРАБОТКОВ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79640" y="4797360"/>
            <a:ext cx="532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 Н А Ш Е Й  К О М А Н Д О Й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76280" y="765000"/>
            <a:ext cx="8343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ХОД В КОМАНДУ СПОСОБСТВУЕ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76440" y="1849320"/>
            <a:ext cx="4400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АМ ПРИОБРЕСТ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24360" y="2738520"/>
            <a:ext cx="170496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ЕСТО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77920" y="4038480"/>
            <a:ext cx="5508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 3-МЕСТНОЙ МАТРИЦЕ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5089680"/>
            <a:ext cx="2257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ЕКТ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74920" y="5016600"/>
            <a:ext cx="20192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ГО ЗА 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680080" y="4944960"/>
            <a:ext cx="576360" cy="6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659640" y="5089680"/>
            <a:ext cx="198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ллар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014480" y="1125360"/>
            <a:ext cx="7229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ЕЛЬ КОМАНДЫ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16000" y="4076640"/>
            <a:ext cx="759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своит каждому участнику 2 партнера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16000" y="2492280"/>
            <a:ext cx="759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йствовать участникам войти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16000" y="3213000"/>
            <a:ext cx="46083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проект Turbo Union 1x2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16000" y="4941720"/>
            <a:ext cx="46083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проекте Turbo Union 1x2 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249228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11200" y="407844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2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042920" y="191628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ИЗУЕТСЯ ОБЩАЯ ОЧЕРЕД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4221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4221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4221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16360" y="4221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7000" y="4221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79640" y="4221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7640" y="4221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422100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7640" y="422100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580000" y="422100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43640" y="4221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3280" y="422100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380360" y="4365720"/>
            <a:ext cx="8636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и т.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42920" y="2577960"/>
            <a:ext cx="7229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 участники команды оплачивают по 5 долларо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421080" y="3213000"/>
            <a:ext cx="23749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-я уровен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2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42920" y="260280"/>
            <a:ext cx="712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1-м уровне из этой линейной очереди организуетс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228840" y="3214800"/>
            <a:ext cx="648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65560" y="227808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81480" y="393372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92720" y="155736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64000" y="270828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419640" y="3213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381560" y="22780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497480" y="39355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511960" y="1557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583240" y="2708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"/>
          <p:cNvSpPr/>
          <p:nvPr/>
        </p:nvSpPr>
        <p:spPr>
          <a:xfrm rot="8466000">
            <a:off x="3708000" y="2852280"/>
            <a:ext cx="504720" cy="200160"/>
          </a:xfrm>
          <a:prstGeom prst="rightArrow">
            <a:avLst>
              <a:gd name="adj1" fmla="val 50000"/>
              <a:gd name="adj2" fmla="val 6304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8466000">
            <a:off x="4715640" y="2060280"/>
            <a:ext cx="505080" cy="199800"/>
          </a:xfrm>
          <a:prstGeom prst="rightArrow">
            <a:avLst>
              <a:gd name="adj1" fmla="val 50000"/>
              <a:gd name="adj2" fmla="val 6319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2639000">
            <a:off x="3779640" y="3860640"/>
            <a:ext cx="504720" cy="200160"/>
          </a:xfrm>
          <a:prstGeom prst="rightArrow">
            <a:avLst>
              <a:gd name="adj1" fmla="val 50000"/>
              <a:gd name="adj2" fmla="val 6304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2639000">
            <a:off x="4793400" y="2708280"/>
            <a:ext cx="505080" cy="200160"/>
          </a:xfrm>
          <a:prstGeom prst="rightArrow">
            <a:avLst>
              <a:gd name="adj1" fmla="val 50000"/>
              <a:gd name="adj2" fmla="val 6308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324000" y="1989000"/>
            <a:ext cx="504720" cy="200160"/>
          </a:xfrm>
          <a:prstGeom prst="rightArrow">
            <a:avLst>
              <a:gd name="adj1" fmla="val 50000"/>
              <a:gd name="adj2" fmla="val 6304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20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2421000"/>
            <a:ext cx="259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дает 5 долл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33840" y="3357720"/>
            <a:ext cx="648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08720" y="4508640"/>
            <a:ext cx="64764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51640" y="3357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24360" y="450864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 rot="8466000">
            <a:off x="4930560" y="3789000"/>
            <a:ext cx="504720" cy="200160"/>
          </a:xfrm>
          <a:prstGeom prst="rightArrow">
            <a:avLst>
              <a:gd name="adj1" fmla="val 50000"/>
              <a:gd name="adj2" fmla="val 6304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2639000">
            <a:off x="4932360" y="4508280"/>
            <a:ext cx="504720" cy="199800"/>
          </a:xfrm>
          <a:prstGeom prst="rightArrow">
            <a:avLst>
              <a:gd name="adj1" fmla="val 50000"/>
              <a:gd name="adj2" fmla="val 6315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164360" y="3141720"/>
            <a:ext cx="8636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и т.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52720" y="544500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70520" y="544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5080" y="5445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861080" y="544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7080" y="5445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581800" y="544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44720" y="5616720"/>
            <a:ext cx="250488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астни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6165720"/>
            <a:ext cx="7991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еходят 2-й уровень и получают ссылки для регистраци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 rot="8466000">
            <a:off x="5940000" y="1412280"/>
            <a:ext cx="504720" cy="199800"/>
          </a:xfrm>
          <a:prstGeom prst="rightArrow">
            <a:avLst>
              <a:gd name="adj1" fmla="val 50000"/>
              <a:gd name="adj2" fmla="val 6315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981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732720" y="981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58120" y="1989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04000" y="1989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"/>
          <p:cNvSpPr/>
          <p:nvPr/>
        </p:nvSpPr>
        <p:spPr>
          <a:xfrm rot="12639000">
            <a:off x="5987160" y="1989000"/>
            <a:ext cx="505080" cy="200160"/>
          </a:xfrm>
          <a:prstGeom prst="rightArrow">
            <a:avLst>
              <a:gd name="adj1" fmla="val 50000"/>
              <a:gd name="adj2" fmla="val 6308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7800" y="5445000"/>
            <a:ext cx="647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300720" y="544500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42920" y="879480"/>
            <a:ext cx="2590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нарная се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093080" y="5516640"/>
            <a:ext cx="8636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и т.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2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03280" y="1197000"/>
            <a:ext cx="651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ким образом, каждый участни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3280" y="1989000"/>
            <a:ext cx="6515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ходит в команду за 5 долларов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03280" y="2781360"/>
            <a:ext cx="651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10 долларов приобретает место в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403280" y="3789360"/>
            <a:ext cx="352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рице проекта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219640" y="3573360"/>
            <a:ext cx="2448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urbo Union 1x2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32000" y="4508640"/>
            <a:ext cx="64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поочередно получает 2 реферала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2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55640" y="836640"/>
            <a:ext cx="777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глашаем вас в команду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55640" y="836640"/>
            <a:ext cx="777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глашаем вас в команду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08000" y="1989000"/>
            <a:ext cx="5648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пособствуем ВАМ войти в проект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148360" y="5084640"/>
            <a:ext cx="1339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5 д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68360" y="5157720"/>
            <a:ext cx="22323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го за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71840" y="3429000"/>
            <a:ext cx="439092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urbo Union 1x2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556000" y="2598840"/>
            <a:ext cx="3960720" cy="90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urbo Union 1x2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700360" y="981000"/>
            <a:ext cx="3527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ек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03280" y="4579920"/>
            <a:ext cx="676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аш путь к финансовой свободе!!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8T22:53:59Z</dcterms:created>
  <dc:creator>Bunyad</dc:creator>
  <dc:description/>
  <dc:language>en-US</dc:language>
  <cp:lastModifiedBy>Bunyad</cp:lastModifiedBy>
  <dcterms:modified xsi:type="dcterms:W3CDTF">2013-08-29T22:15:19Z</dcterms:modified>
  <cp:revision>26</cp:revision>
  <dc:subject/>
  <dc:title>Слайд 1</dc:title>
</cp:coreProperties>
</file>