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2C4-5543-42EE-BA76-B800574C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6A5-F332-4F61-AEAB-C55EFFE8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D8B-2CE2-4AF4-9487-D40A7F57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0EB-2274-4BFA-8F4E-D2BA4C7C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CAA-BC89-4371-9AB8-5F04E0EA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9AE-A568-45E4-8C0A-79017E80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BDC-D86F-4A34-802E-7668B3BA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A70-AEC3-4182-A702-99725083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1FF-F1AE-4BEB-9D3D-4E00ACD5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4CC-DC5A-42AB-AA94-FAEAEAD9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AFB-8825-476F-B026-3A10DA34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108-CEDE-471F-AD45-7D1299EC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FD31-2808-45DC-B816-B5C8F629C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2852640"/>
            <a:ext cx="446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urboUNION 1x2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98100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МИР ЗАРАБОТКОВ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79640" y="4797360"/>
            <a:ext cx="532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 Н А Ш Е Й  К О М А Н Д О Й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76280" y="765000"/>
            <a:ext cx="8343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ХОД В КОМАНДУ СПОСОБСТВУ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76440" y="1849320"/>
            <a:ext cx="4400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М ПРИОБРЕСТ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24360" y="2738520"/>
            <a:ext cx="170496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ЕСТО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77920" y="4038480"/>
            <a:ext cx="5508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 3-МЕСТНОЙ МАТРИЦЕ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5089680"/>
            <a:ext cx="2257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ЕКТ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74920" y="5016600"/>
            <a:ext cx="20192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ГО ЗА 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680080" y="4944960"/>
            <a:ext cx="576360" cy="6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659640" y="5089680"/>
            <a:ext cx="19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ллар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14480" y="1125360"/>
            <a:ext cx="7229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Ь КОМАНДЫ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16000" y="4076640"/>
            <a:ext cx="759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своит каждому участнику 2 партнера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16000" y="2492280"/>
            <a:ext cx="759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йствовать участникам войти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16000" y="3213000"/>
            <a:ext cx="4608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проект Turbo Union 1x2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16000" y="4941720"/>
            <a:ext cx="4608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проекте Turbo Union 1x2 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249228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11200" y="407844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2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42920" y="191628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ИЗУЕТСЯ ОБЩАЯ ОЧЕРЕД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4221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4221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4221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16360" y="4221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7000" y="4221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79640" y="4221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7640" y="4221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422100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7640" y="422100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580000" y="4221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43640" y="4221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3280" y="4221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380360" y="4365720"/>
            <a:ext cx="8636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и т.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42920" y="2577960"/>
            <a:ext cx="7229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участники команды оплачивают по 5 долларо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421080" y="3213000"/>
            <a:ext cx="2374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-я уровен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2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42920" y="260280"/>
            <a:ext cx="71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1-м уровне из этой линейной очереди организуетс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228840" y="3214800"/>
            <a:ext cx="648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65560" y="227808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81480" y="393372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155736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64000" y="270828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419640" y="321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381560" y="22780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497480" y="39355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511960" y="1557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583240" y="2708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"/>
          <p:cNvSpPr/>
          <p:nvPr/>
        </p:nvSpPr>
        <p:spPr>
          <a:xfrm rot="8466000">
            <a:off x="3708000" y="2852280"/>
            <a:ext cx="504720" cy="200160"/>
          </a:xfrm>
          <a:prstGeom prst="rightArrow">
            <a:avLst>
              <a:gd name="adj1" fmla="val 50000"/>
              <a:gd name="adj2" fmla="val 63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8466000">
            <a:off x="4715640" y="2060280"/>
            <a:ext cx="505080" cy="199800"/>
          </a:xfrm>
          <a:prstGeom prst="rightArrow">
            <a:avLst>
              <a:gd name="adj1" fmla="val 50000"/>
              <a:gd name="adj2" fmla="val 6319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2639000">
            <a:off x="3779640" y="3860640"/>
            <a:ext cx="504720" cy="200160"/>
          </a:xfrm>
          <a:prstGeom prst="rightArrow">
            <a:avLst>
              <a:gd name="adj1" fmla="val 50000"/>
              <a:gd name="adj2" fmla="val 63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2639000">
            <a:off x="4793400" y="2708280"/>
            <a:ext cx="505080" cy="200160"/>
          </a:xfrm>
          <a:prstGeom prst="rightArrow">
            <a:avLst>
              <a:gd name="adj1" fmla="val 50000"/>
              <a:gd name="adj2" fmla="val 6308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324000" y="1989000"/>
            <a:ext cx="504720" cy="200160"/>
          </a:xfrm>
          <a:prstGeom prst="rightArrow">
            <a:avLst>
              <a:gd name="adj1" fmla="val 50000"/>
              <a:gd name="adj2" fmla="val 63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2421000"/>
            <a:ext cx="259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дает 5 долл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33840" y="3357720"/>
            <a:ext cx="648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4508640"/>
            <a:ext cx="647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51640" y="3357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24360" y="450864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 rot="8466000">
            <a:off x="4930560" y="3789000"/>
            <a:ext cx="504720" cy="200160"/>
          </a:xfrm>
          <a:prstGeom prst="rightArrow">
            <a:avLst>
              <a:gd name="adj1" fmla="val 50000"/>
              <a:gd name="adj2" fmla="val 63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2639000">
            <a:off x="4932360" y="4508280"/>
            <a:ext cx="504720" cy="199800"/>
          </a:xfrm>
          <a:prstGeom prst="rightArrow">
            <a:avLst>
              <a:gd name="adj1" fmla="val 50000"/>
              <a:gd name="adj2" fmla="val 6315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164360" y="3141720"/>
            <a:ext cx="8636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и т.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52720" y="544500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70520" y="544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5080" y="5445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861080" y="544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7080" y="5445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581800" y="544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44720" y="5616720"/>
            <a:ext cx="250488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астни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6165720"/>
            <a:ext cx="7991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еходят 2-й уровень и получают ссылки для регистрац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 rot="8466000">
            <a:off x="5940000" y="1412280"/>
            <a:ext cx="504720" cy="199800"/>
          </a:xfrm>
          <a:prstGeom prst="rightArrow">
            <a:avLst>
              <a:gd name="adj1" fmla="val 50000"/>
              <a:gd name="adj2" fmla="val 6315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981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732720" y="981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58120" y="1989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04000" y="1989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"/>
          <p:cNvSpPr/>
          <p:nvPr/>
        </p:nvSpPr>
        <p:spPr>
          <a:xfrm rot="12639000">
            <a:off x="5987160" y="1989000"/>
            <a:ext cx="505080" cy="200160"/>
          </a:xfrm>
          <a:prstGeom prst="rightArrow">
            <a:avLst>
              <a:gd name="adj1" fmla="val 50000"/>
              <a:gd name="adj2" fmla="val 6308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7800" y="5445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300720" y="5445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42920" y="879480"/>
            <a:ext cx="2590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нарная се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093080" y="5516640"/>
            <a:ext cx="8636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и т.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03280" y="1197000"/>
            <a:ext cx="651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ким образом, каждый участни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3280" y="1989000"/>
            <a:ext cx="6515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ходит в команду за 5 долларов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03280" y="2781360"/>
            <a:ext cx="651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10 долларов приобретает место в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403280" y="3789360"/>
            <a:ext cx="352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рице проекта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219640" y="3573360"/>
            <a:ext cx="2448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urbo Union 1x2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32000" y="4508640"/>
            <a:ext cx="64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поочередно получает 2 реферала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2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55640" y="836640"/>
            <a:ext cx="777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глашаем вас в команду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55640" y="836640"/>
            <a:ext cx="777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глашаем вас в команду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08000" y="1989000"/>
            <a:ext cx="5648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пособствуем ВАМ войти в проект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148360" y="5084640"/>
            <a:ext cx="1339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5 д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68360" y="5157720"/>
            <a:ext cx="22323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го за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71840" y="3429000"/>
            <a:ext cx="439092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urbo Union 1x2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56000" y="2598840"/>
            <a:ext cx="396072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urbo Union 1x2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700360" y="981000"/>
            <a:ext cx="3527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ек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03280" y="4579920"/>
            <a:ext cx="67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аш путь к финансовой свободе!!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8T22:53:59Z</dcterms:created>
  <dc:creator>Bunyad</dc:creator>
  <dc:description/>
  <dc:language>en-US</dc:language>
  <cp:lastModifiedBy>Bunyad</cp:lastModifiedBy>
  <dcterms:modified xsi:type="dcterms:W3CDTF">2013-08-29T22:15:19Z</dcterms:modified>
  <cp:revision>26</cp:revision>
  <dc:subject/>
  <dc:title>Слайд 1</dc:title>
</cp:coreProperties>
</file>