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AB1-D65E-43D9-A0F3-235C85AE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D75-D372-4661-AD10-5B4E52C1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2AB-D964-436B-A3D2-8FBEE80D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C2B-A3A7-4829-BD68-361EF541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73D-E685-43EB-85B2-38F1061C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2B9-06A0-48DD-B40F-5496983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E32-7D55-41DB-AC3C-43F4F810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D0C-1ECA-4E90-8D19-C3C8562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AAD-7ADC-44DC-9656-F4CA15E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98F-962F-41D2-8E49-03C8E78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7D8-5CE4-4DA4-9519-410DE1D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833-1F94-47B8-9094-1FFC497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BD81-D0DB-4D98-8277-3AF9F962D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85264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98100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ИР ЗАРАБОТК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797360"/>
            <a:ext cx="53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 Н А Ш Е Й  К О М А Н Д О Й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6280" y="765000"/>
            <a:ext cx="834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 В КОМАНДУ СПОСОБСТВУ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76440" y="1849320"/>
            <a:ext cx="440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М ПРИОБРЕС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24360" y="2738520"/>
            <a:ext cx="170496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СТО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77920" y="4038480"/>
            <a:ext cx="55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3-МЕСТНОЙ МАТРИЦЕ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5089680"/>
            <a:ext cx="225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74920" y="5016600"/>
            <a:ext cx="20192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О ЗА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80080" y="4944960"/>
            <a:ext cx="576360" cy="6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508968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ла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14480" y="11253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КОМАН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16000" y="407664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своит каждому участнику 2 партнера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249228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йствовать участникам войт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6000" y="321300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494172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е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249228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1200" y="407844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2920" y="191628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УЕТСЯ ОБЩАЯ ОЧЕРЕД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1636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700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000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43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328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80360" y="4365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25779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участники команды оплачивают по 5 долла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1080" y="3213000"/>
            <a:ext cx="23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я уровен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2920" y="26028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1-м уровне из этой линейной очереди организуе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228840" y="321480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65560" y="227808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1480" y="393372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155736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70828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964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81560" y="2278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497480" y="39355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11960" y="1557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324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 rot="8466000">
            <a:off x="3708000" y="285228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8466000">
            <a:off x="4715640" y="2060280"/>
            <a:ext cx="505080" cy="199800"/>
          </a:xfrm>
          <a:prstGeom prst="rightArrow">
            <a:avLst>
              <a:gd name="adj1" fmla="val 50000"/>
              <a:gd name="adj2" fmla="val 631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2639000">
            <a:off x="3779640" y="386064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639000">
            <a:off x="4793400" y="270828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24000" y="19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42100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дает 5 долл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3840" y="335772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50864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3357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24360" y="45086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 rot="8466000">
            <a:off x="4930560" y="37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639000">
            <a:off x="4932360" y="4508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64360" y="3141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2720" y="5445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7052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6108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7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818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4720" y="5616720"/>
            <a:ext cx="25048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н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6165720"/>
            <a:ext cx="799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ходят 2-й уровень и получают ссылки для регистрац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 rot="8466000">
            <a:off x="5940000" y="1412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98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32720" y="98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8120" y="1989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04000" y="1989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 rot="12639000">
            <a:off x="5987160" y="198900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780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300720" y="544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879480"/>
            <a:ext cx="2590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нарная се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093080" y="551664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03280" y="119700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им образом, каждый участн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3280" y="1989000"/>
            <a:ext cx="651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ит в команду за 5 долларо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03280" y="278136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10 долларов приобретает место 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03280" y="3789360"/>
            <a:ext cx="352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рице проект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19640" y="3573360"/>
            <a:ext cx="24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2000" y="4508640"/>
            <a:ext cx="64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оочередно получает 2 реферал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8000" y="1989000"/>
            <a:ext cx="564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пособствуем ВАМ войти в проект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48360" y="5084640"/>
            <a:ext cx="133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5 д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68360" y="5157720"/>
            <a:ext cx="2232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го з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71840" y="3429000"/>
            <a:ext cx="439092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56000" y="2598840"/>
            <a:ext cx="396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00360" y="981000"/>
            <a:ext cx="352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4579920"/>
            <a:ext cx="67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ш путь к финансовой свободе!!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22:53:59Z</dcterms:created>
  <dc:creator>Bunyad</dc:creator>
  <dc:description/>
  <dc:language>en-US</dc:language>
  <cp:lastModifiedBy>Bunyad</cp:lastModifiedBy>
  <dcterms:modified xsi:type="dcterms:W3CDTF">2013-08-29T22:15:19Z</dcterms:modified>
  <cp:revision>26</cp:revision>
  <dc:subject/>
  <dc:title>Слайд 1</dc:title>
</cp:coreProperties>
</file>