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58E-7E14-4895-979E-9D1218D3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F4D-52CB-42F8-A686-4139BB5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F7F39-229E-4769-A499-F6C964DF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5C3F0-C08F-4304-B3B5-03B2933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B90EC-B27D-4D64-9CBA-C47DD966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B46C5-41DB-4BAA-9EBC-69C7CFC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E253E-92C0-4FED-99E0-C3BE5F1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79C62-6287-4831-B34A-5C91A91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FD0F1-D92B-46B0-A62A-EEABE24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64730-DDAE-4318-960E-627AEECE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A7069-0594-42F0-AE7D-926250E3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11287-0F14-42EB-BAFF-4C668DC7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6D4-4CD4-4C04-BCA9-F02889E4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F27C0-0F3C-4D53-9397-1D7F9E7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B9B11-3442-4EFC-9E2C-F42A783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0D602-6AD0-43C0-AB3A-0E91076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0CA3F-C844-4D9C-8C8C-C7C5E0CF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A060-CF55-427E-9D52-5B76E71A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21199-8577-4119-8EC8-68655235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ED573-C1F6-4D97-B044-E51703B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295B-2A0F-46F4-98E1-89761E9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FABD0-EB28-4850-9ECD-7A89631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8136-17A7-485D-BE63-FE602724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FBF-E06F-4807-87AA-F54757B3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EC42-2D66-48D0-9ACB-EFB2A766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44829-0ED2-4359-A2FC-92C64706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26AB-AC10-45A4-9D70-8561714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A740C-6547-4C24-834B-86455C73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12B3-2233-428A-A668-8D4FF9EA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7DCF-F7DE-44FF-A608-9947DF9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0E35-2344-486B-8D18-6006515E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93E0D-684B-4C94-ADDA-16699DA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41B01-5780-4761-A523-0DFE6DB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79808-6034-462F-839E-6FE324E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22AF-8226-4D89-B908-58748734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97AF-A512-4EFB-8EDE-0D5943F2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1EC1E-BA38-428B-A4C1-A22BFA52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EC426-50B5-4E39-90A5-BF79EF6D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FC266-E711-45FF-98C7-2341E76F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0812B-7897-4A3B-88E5-88DF450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DF101-22E7-4B57-978B-EE8A028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24950-BAC4-44FF-B105-D4B869A8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82CAA-ABF7-475C-BDFE-B4DDF0EC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141AF-C80A-4412-A117-91DA1218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7684B-09D7-41A0-A86E-F5CDD1D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63CD-8F1D-4032-BF9D-CE3439D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F7DE-9992-4A5B-A985-6B45D0F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34F5-8CEE-43D0-A369-861B7A3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06DF3-E438-4692-8ECF-9556AB51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955B9-145F-4809-916E-3DFCB5E5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141E7-6EFC-474E-A485-B0268A65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EAF1C-CA7A-4849-AEF4-847DED56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417A7-9E7A-43C1-89B9-BAA851B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917C3-322F-468C-A8C4-24D035EA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BA894-DFCB-439B-AFBE-1E1ADA0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7E031-6E3E-410F-A0A2-43DBA2E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99AC-C786-41D0-87BC-50665C4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8C9A9-616A-4818-A9F5-D12156F9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3899D-18BE-427F-970E-E8FE905E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A5A5B-E9AA-47C8-B763-C182E40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4894A-D3B3-4073-8F0D-5235A6CD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D7706-2D50-48BA-95A1-A1B960FB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BC99C-0607-4803-9821-0FFB2CC0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AEEC5-7884-4BE2-A931-5D48827F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D18F-7DC2-417D-8774-8DA5412E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6B1B-95BF-4273-A81D-E6D8F04E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C1EF-F01A-464B-9418-8627C7E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DDF3-E7FE-4D77-8FB8-7D36FDB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28F-2047-4AE4-9A1D-72DF72EB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842-C9D2-42B0-9F90-0E1EDD6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13B4-CA8F-461F-9BC9-F59C664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72C-984B-4204-B468-BA213A47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3BA7-312F-4233-8C47-EDBE0238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17A-3912-4116-A806-D5028FF5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53AE-C363-45A0-97B4-7C1F0B2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1C42-4BC5-474A-844D-5E9022E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62AFB-D82D-4787-9BEA-C94B9706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AC86-87D8-48CA-8716-8AE8CE7A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068A-FCD9-411A-B8C6-245CF26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BBF-E221-4E29-A371-264DA05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8F33-C193-45CF-B52F-B044D536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F33D4-9EDF-4009-A974-395F0430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C50D-5942-43F6-A08D-D40A61E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25E5-7FB4-4385-8E61-2B6F2247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6C50-A563-4BB4-9E7F-2FBAF5F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9693-AE7F-4635-B543-D0614EA9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C7C4-F921-4CE2-8C31-133B6836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9EF1-E147-44F2-8ED5-B401E58D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7F79-F206-4A4C-898E-CF6C681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8F4A-1D45-47BE-A9AD-CEB5C985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13A-5533-4D57-A6FD-D157B805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B9F1-F3AA-4ABA-A89D-3B06D4B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00C80-9312-442E-86CE-655B8B5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EC80-6CEC-4984-8A7E-70D8573F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AACE-F029-4074-BE60-D3713A2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7D97-EA34-43E0-A760-8DD36081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91A8-F8FC-46E0-848E-EB86E1D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5D67-D576-4C63-A03F-891FB3B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8C634-9EC9-40D4-ACE9-AA85FBF5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3EFB-9EC6-48CA-892E-3C0E8D48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645A-A8FE-4771-AA7D-DAE3F384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CD7-B744-4087-A5CA-DE4A27B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A2BF-BC8E-485E-A12F-A706F3A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A535C-5696-4E80-BBC2-ECF06AF1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79FC-28F5-4CD1-8C0E-1C86DD7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D474F-2176-4A83-8279-15F2144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67F8-DF0C-40C1-829C-2F34F741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903D-AC4C-4CCA-96E4-AF954CD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A9A41-E661-4308-B8CF-858BEAF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BC753-692C-44D9-8C4F-A572BF0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3B21B-AC1D-42C2-9357-EBCB3A7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1539-2180-4731-8C90-10A1533F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1B0-635C-40D5-885A-14505489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21B4-3C80-4FA3-88AD-9F882B40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17DF-F32A-4C7B-8BC1-50803B80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FBCC9-0433-4545-A6E0-053A583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3BA8-4A41-4C73-8DCB-65F19A44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1D86-8D93-42DB-9E53-0B07E094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482B-CE95-4511-BBB3-721770E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516CA-C79E-43F8-A3C5-7C2118B9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E3E5-819D-4D84-812C-5640162C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4D55-7BE8-4518-BB75-D0C9878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82022-7B63-4C8A-ABB0-B189EC7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6D9-F853-4E78-8364-BAB8525D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B1159-8030-4DEE-903C-5614126E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D1B9-69DB-41A1-9307-6F2C8BEF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3547-0E14-49B2-B6AE-DD516DAC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796B-FA4C-49D9-8DB7-E4636366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04DB-4D0F-4988-9221-FBDB383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729E-9D67-4C0A-B6AF-C5EAB7A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B44F-4A24-49DA-9016-71EAD700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AEA7A-424A-4527-93BB-770FFB7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6CFCC-5AB7-45C1-8568-24D448B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9F88E-E2BD-4CC1-87A6-BE32CDD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A3F-A24B-491A-8851-5149D76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88E92-2B26-4170-ACAE-02E9F29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72FD-8443-404D-8509-5AF4C738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0EC5A-818F-4E7D-9E5A-1989C84A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7DB6-14DE-4C78-AE40-EA7E47D5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A897-0547-424D-9B05-599CE6FF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362A-B7F8-4B95-AEC9-D71104A1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DEAE9-CAD2-4477-9764-3C578B6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94C5B-1641-4A86-8ADB-E36D7192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A8CB-825C-4418-AF97-6A41BD0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4417-5E3A-4369-9617-53428FC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520-F0FF-4201-99DC-7FBD4D12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41F58-AA3C-4CBF-94D6-D602FA9C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03CD9-6347-443C-A9D9-06AC810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32420-5B3F-4554-B88D-A865405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277E-A9EB-4ADC-9CAA-F52FF908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73F1-D557-45CC-9CAB-B8CD281A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5D77-2170-44D0-AC46-B80173E7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B183-BE99-48E7-92FA-E35900C5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8C328-AEFD-4776-B17A-CCA20D3F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354E3-19E6-4843-96CF-EEA2F05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666D0-8CDD-4803-931B-1A95DA5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0A7E-DA63-45E7-978B-A22BD04E86B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1930-1C96-459E-B197-9B330B40E3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5C31-F217-400D-A24A-887452888F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E5D-B9B9-43A8-A75F-CC243F739C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827-A31E-42A1-A9A9-80678E135A4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E6E-6818-4752-89FD-D18F9738100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8B2C-88E3-4923-8028-79B425A999A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DB0-7333-4C5E-8DB7-A4583B442BD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410E-95E3-4D06-BBBA-099BE29E6D1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F3C6-AC73-41FE-A7EF-00DD2C5B911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C64-8535-4C23-9127-1D48760CE36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3509-A770-424E-85B8-5D433AF745A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B849-24BD-4602-B928-26B15D68183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5;&#1077;&#1088;&#1090;&#1077;&#1078;%201.gsp" TargetMode="External"/><Relationship Id="rId2" Type="http://schemas.openxmlformats.org/officeDocument/2006/relationships/hyperlink" Target="file:///&#1063;&#1077;&#1088;&#1090;&#1077;&#1078;%202.gsp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63;&#1077;&#1088;&#1090;&#1077;&#1078;3.gsp" TargetMode="External"/><Relationship Id="rId2" Type="http://schemas.openxmlformats.org/officeDocument/2006/relationships/hyperlink" Target="file:///&#1063;&#1077;&#1088;&#1090;&#1077;&#1078;%20%204.gsp" TargetMode="Externa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img043"/>
          <p:cNvPicPr/>
          <p:nvPr/>
        </p:nvPicPr>
        <p:blipFill>
          <a:blip r:embed="rId1"/>
          <a:stretch/>
        </p:blipFill>
        <p:spPr>
          <a:xfrm>
            <a:off x="1071720" y="0"/>
            <a:ext cx="7057800" cy="6767640"/>
          </a:xfrm>
          <a:prstGeom prst="rect">
            <a:avLst/>
          </a:prstGeom>
          <a:ln w="0">
            <a:noFill/>
          </a:ln>
        </p:spPr>
      </p:pic>
      <p:sp>
        <p:nvSpPr>
          <p:cNvPr id="628" name="Прямоугольник 2"/>
          <p:cNvSpPr/>
          <p:nvPr/>
        </p:nvSpPr>
        <p:spPr>
          <a:xfrm>
            <a:off x="1500120" y="4929120"/>
            <a:ext cx="6215040" cy="1785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рок геометри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</a:rPr>
              <a:t>Учитель Мухина Людмила Петро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Oval 9"/>
          <p:cNvSpPr/>
          <p:nvPr/>
        </p:nvSpPr>
        <p:spPr>
          <a:xfrm>
            <a:off x="1116000" y="476280"/>
            <a:ext cx="7201080" cy="2521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755640" y="76500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Monotype Corsiva"/>
              </a:rPr>
              <a:t>ГЕОМЕТРИЯ</a:t>
            </a:r>
            <a:r>
              <a:rPr b="1" lang="ru-RU" sz="4000" spc="-1" strike="noStrike">
                <a:solidFill>
                  <a:srgbClr val="cc0066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-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наука, занимающаяся изучением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8" name="Picture 11" descr="img367"/>
          <p:cNvPicPr/>
          <p:nvPr/>
        </p:nvPicPr>
        <p:blipFill>
          <a:blip r:embed="rId1"/>
          <a:stretch/>
        </p:blipFill>
        <p:spPr>
          <a:xfrm>
            <a:off x="826920" y="3789360"/>
            <a:ext cx="4054680" cy="24955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2" descr="img518"/>
          <p:cNvPicPr/>
          <p:nvPr/>
        </p:nvPicPr>
        <p:blipFill>
          <a:blip r:embed="rId2"/>
          <a:stretch/>
        </p:blipFill>
        <p:spPr>
          <a:xfrm>
            <a:off x="6006960" y="3068640"/>
            <a:ext cx="230364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AutoShape 11"/>
          <p:cNvSpPr/>
          <p:nvPr/>
        </p:nvSpPr>
        <p:spPr>
          <a:xfrm rot="10800000">
            <a:off x="4932360" y="5733720"/>
            <a:ext cx="3743280" cy="576360"/>
          </a:xfrm>
          <a:prstGeom prst="wedgeRectCallout">
            <a:avLst>
              <a:gd name="adj1" fmla="val -1148"/>
              <a:gd name="adj2" fmla="val 241458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В ПРОСТРАНСТВ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AutoShape 10"/>
          <p:cNvSpPr/>
          <p:nvPr/>
        </p:nvSpPr>
        <p:spPr>
          <a:xfrm rot="10800000">
            <a:off x="539640" y="5733720"/>
            <a:ext cx="3743280" cy="576360"/>
          </a:xfrm>
          <a:prstGeom prst="wedgeRectCallout">
            <a:avLst>
              <a:gd name="adj1" fmla="val 2879"/>
              <a:gd name="adj2" fmla="val 248342"/>
            </a:avLst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81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 ПЛОСК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324000" y="333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геометрические фигуры вам известны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ре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ям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ого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858920" y="1267920"/>
            <a:ext cx="3809880" cy="3313080"/>
          </a:xfrm>
          <a:prstGeom prst="rect">
            <a:avLst/>
          </a:prstGeom>
          <a:gradFill rotWithShape="0">
            <a:gsLst>
              <a:gs pos="0">
                <a:srgbClr val="daa6cc"/>
              </a:gs>
              <a:gs pos="50000">
                <a:srgbClr val="ffffff"/>
              </a:gs>
              <a:gs pos="100000">
                <a:srgbClr val="daa6cc"/>
              </a:gs>
            </a:gsLst>
            <a:lin ang="18900000"/>
          </a:gradFill>
          <a:ln w="57240">
            <a:solidFill>
              <a:srgbClr val="cc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у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рами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раллелепипе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250920" y="4797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По какому принципу эти фигуры записаны в двух группах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10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100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10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10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100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100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100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6"/>
          <p:cNvSpPr/>
          <p:nvPr/>
        </p:nvSpPr>
        <p:spPr>
          <a:xfrm>
            <a:off x="2411280" y="404640"/>
            <a:ext cx="4392720" cy="52056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Rockwell Extra Bold"/>
              </a:rPr>
              <a:t>Г Е О М Е Т Р И 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AutoShape 9"/>
          <p:cNvSpPr/>
          <p:nvPr/>
        </p:nvSpPr>
        <p:spPr>
          <a:xfrm rot="1407000">
            <a:off x="5219640" y="1196640"/>
            <a:ext cx="1222560" cy="216000"/>
          </a:xfrm>
          <a:prstGeom prst="rightArrow">
            <a:avLst>
              <a:gd name="adj1" fmla="val 50000"/>
              <a:gd name="adj2" fmla="val 1415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AutoShape 10"/>
          <p:cNvSpPr/>
          <p:nvPr/>
        </p:nvSpPr>
        <p:spPr>
          <a:xfrm rot="9594000">
            <a:off x="2626560" y="1197000"/>
            <a:ext cx="1297080" cy="216000"/>
          </a:xfrm>
          <a:prstGeom prst="rightArrow">
            <a:avLst>
              <a:gd name="adj1" fmla="val 50000"/>
              <a:gd name="adj2" fmla="val 15012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2400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ЛАНИ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2031840" y="1433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4932360" y="1628640"/>
            <a:ext cx="3887640" cy="43531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5400000"/>
          </a:gra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ЕРЕОМЕ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Rectangle 15"/>
          <p:cNvSpPr/>
          <p:nvPr/>
        </p:nvSpPr>
        <p:spPr>
          <a:xfrm>
            <a:off x="611280" y="2349360"/>
            <a:ext cx="1296720" cy="86364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AutoShape 16"/>
          <p:cNvSpPr/>
          <p:nvPr/>
        </p:nvSpPr>
        <p:spPr>
          <a:xfrm>
            <a:off x="2340000" y="2349360"/>
            <a:ext cx="1297080" cy="13669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AutoShape 17"/>
          <p:cNvSpPr/>
          <p:nvPr/>
        </p:nvSpPr>
        <p:spPr>
          <a:xfrm>
            <a:off x="684360" y="3789360"/>
            <a:ext cx="1368360" cy="13683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Line 19"/>
          <p:cNvSpPr/>
          <p:nvPr/>
        </p:nvSpPr>
        <p:spPr>
          <a:xfrm flipH="1">
            <a:off x="2411280" y="4149720"/>
            <a:ext cx="1440000" cy="13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AutoShape 20"/>
          <p:cNvSpPr/>
          <p:nvPr/>
        </p:nvSpPr>
        <p:spPr>
          <a:xfrm>
            <a:off x="5292720" y="2421000"/>
            <a:ext cx="934920" cy="1008000"/>
          </a:xfrm>
          <a:prstGeom prst="cube">
            <a:avLst>
              <a:gd name="adj" fmla="val 25000"/>
            </a:avLst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AutoShape 21"/>
          <p:cNvSpPr/>
          <p:nvPr/>
        </p:nvSpPr>
        <p:spPr>
          <a:xfrm>
            <a:off x="7093080" y="2349360"/>
            <a:ext cx="936360" cy="1441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391d7"/>
              </a:gs>
              <a:gs pos="50000">
                <a:srgbClr val="ffffff"/>
              </a:gs>
              <a:gs pos="100000">
                <a:srgbClr val="e391d7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5508720" y="4005360"/>
            <a:ext cx="105732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e4a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7236000" y="5157720"/>
            <a:ext cx="1150920" cy="5032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AutoShape 24"/>
          <p:cNvSpPr/>
          <p:nvPr/>
        </p:nvSpPr>
        <p:spPr>
          <a:xfrm>
            <a:off x="7236000" y="4149720"/>
            <a:ext cx="1152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9"/>
          <p:cNvSpPr/>
          <p:nvPr/>
        </p:nvSpPr>
        <p:spPr>
          <a:xfrm>
            <a:off x="468360" y="5734080"/>
            <a:ext cx="403380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250920" y="698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ую. Обозначьте её буквой а и отметьте точки А и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5"/>
          <p:cNvSpPr/>
          <p:nvPr/>
        </p:nvSpPr>
        <p:spPr>
          <a:xfrm flipV="1">
            <a:off x="2048040" y="2044440"/>
            <a:ext cx="489744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1908000" y="249228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omic Sans MS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3132000" y="2997360"/>
            <a:ext cx="69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5956200" y="2289240"/>
            <a:ext cx="6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236520" y="3860640"/>
            <a:ext cx="86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2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Отметьте т. С и т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не лежащие на этой прямой, и т. К, Е лежащие на не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468360" y="5877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В;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     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2"/>
              <p:cNvSpPr txBox="1"/>
              <p:nvPr/>
            </p:nvSpPr>
            <p:spPr>
              <a:xfrm>
                <a:off x="1042920" y="5734080"/>
                <a:ext cx="714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18"/>
              <p:cNvSpPr txBox="1"/>
              <p:nvPr/>
            </p:nvSpPr>
            <p:spPr>
              <a:xfrm>
                <a:off x="3348000" y="5734080"/>
                <a:ext cx="71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Rectangle 22"/>
          <p:cNvSpPr/>
          <p:nvPr/>
        </p:nvSpPr>
        <p:spPr>
          <a:xfrm>
            <a:off x="4757760" y="5742000"/>
            <a:ext cx="3959280" cy="8636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50000">
                <a:srgbClr val="ffffff"/>
              </a:gs>
              <a:gs pos="100000">
                <a:srgbClr val="ffcf01"/>
              </a:gs>
            </a:gsLst>
            <a:lin ang="5400000"/>
          </a:gra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В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;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Е</a:t>
            </a:r>
            <a:r>
              <a:rPr b="0" lang="ru-RU" sz="2800" spc="-1" strike="noStrike">
                <a:solidFill>
                  <a:srgbClr val="003300"/>
                </a:solidFill>
                <a:latin typeface="Arial Black"/>
              </a:rPr>
              <a:t>      </a:t>
            </a:r>
            <a:r>
              <a:rPr b="0" lang="ru-RU" sz="3200" spc="-1" strike="noStrike">
                <a:solidFill>
                  <a:srgbClr val="003300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23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25"/>
              <p:cNvSpPr txBox="1"/>
              <p:nvPr/>
            </p:nvSpPr>
            <p:spPr>
              <a:xfrm>
                <a:off x="0" y="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27"/>
              <p:cNvSpPr txBox="1"/>
              <p:nvPr/>
            </p:nvSpPr>
            <p:spPr>
              <a:xfrm>
                <a:off x="5419800" y="5775480"/>
                <a:ext cx="718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Object 29"/>
              <p:cNvSpPr txBox="1"/>
              <p:nvPr/>
            </p:nvSpPr>
            <p:spPr>
              <a:xfrm>
                <a:off x="7439040" y="5759280"/>
                <a:ext cx="719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Oval 30"/>
          <p:cNvSpPr/>
          <p:nvPr/>
        </p:nvSpPr>
        <p:spPr>
          <a:xfrm>
            <a:off x="3098880" y="3036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Oval 31"/>
          <p:cNvSpPr/>
          <p:nvPr/>
        </p:nvSpPr>
        <p:spPr>
          <a:xfrm>
            <a:off x="5867280" y="2276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80"/>
                            </p:stCondLst>
                            <p:childTnLst>
                              <p:par>
                                <p:cTn id="4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11"/>
          <p:cNvSpPr/>
          <p:nvPr/>
        </p:nvSpPr>
        <p:spPr>
          <a:xfrm>
            <a:off x="468360" y="476280"/>
            <a:ext cx="828036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3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заданную точку 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79280" y="2852640"/>
            <a:ext cx="86425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4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прямых можно провести через две точк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5" name="Group 7"/>
          <p:cNvGrpSpPr/>
          <p:nvPr/>
        </p:nvGrpSpPr>
        <p:grpSpPr>
          <a:xfrm>
            <a:off x="250920" y="4869000"/>
            <a:ext cx="8569080" cy="1993680"/>
            <a:chOff x="250920" y="4869000"/>
            <a:chExt cx="8569080" cy="1993680"/>
          </a:xfrm>
        </p:grpSpPr>
        <p:sp>
          <p:nvSpPr>
            <p:cNvPr id="726" name="Rectangle 28"/>
            <p:cNvSpPr/>
            <p:nvPr/>
          </p:nvSpPr>
          <p:spPr>
            <a:xfrm>
              <a:off x="250920" y="4869000"/>
              <a:ext cx="8569080" cy="1439640"/>
            </a:xfrm>
            <a:prstGeom prst="rect">
              <a:avLst/>
            </a:prstGeom>
            <a:noFill/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27"/>
            <p:cNvSpPr/>
            <p:nvPr/>
          </p:nvSpPr>
          <p:spPr>
            <a:xfrm>
              <a:off x="250920" y="4940280"/>
              <a:ext cx="856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c0066"/>
                  </a:solidFill>
                  <a:latin typeface="Monotype Corsiva"/>
                </a:rPr>
                <a:t>Через любые две точки можно провести прямую и притом только одну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5"/>
          <p:cNvSpPr/>
          <p:nvPr/>
        </p:nvSpPr>
        <p:spPr>
          <a:xfrm>
            <a:off x="900000" y="47628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дание 5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чертите прямые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N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Р , пересекающиеся в т.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2340000" y="3068640"/>
            <a:ext cx="504036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Line 7"/>
          <p:cNvSpPr/>
          <p:nvPr/>
        </p:nvSpPr>
        <p:spPr>
          <a:xfrm flipH="1">
            <a:off x="2123640" y="2781360"/>
            <a:ext cx="50403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1547640" y="2349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752472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1403280" y="364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7380360" y="2205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4427640" y="2421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Comic Sans MS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14"/>
              <p:cNvSpPr txBox="1"/>
              <p:nvPr/>
            </p:nvSpPr>
            <p:spPr>
              <a:xfrm>
                <a:off x="3030480" y="3967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37" name="Group 34"/>
          <p:cNvGrpSpPr/>
          <p:nvPr/>
        </p:nvGrpSpPr>
        <p:grpSpPr>
          <a:xfrm>
            <a:off x="2916360" y="4869000"/>
            <a:ext cx="3555360" cy="654840"/>
            <a:chOff x="2916360" y="4869000"/>
            <a:chExt cx="3555360" cy="654840"/>
          </a:xfrm>
        </p:grpSpPr>
        <p:sp>
          <p:nvSpPr>
            <p:cNvPr id="738" name="Rectangle 19"/>
            <p:cNvSpPr/>
            <p:nvPr/>
          </p:nvSpPr>
          <p:spPr>
            <a:xfrm>
              <a:off x="2943000" y="4869000"/>
              <a:ext cx="3528720" cy="647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9" name="Group 33"/>
            <p:cNvGrpSpPr/>
            <p:nvPr/>
          </p:nvGrpSpPr>
          <p:grpSpPr>
            <a:xfrm>
              <a:off x="2916360" y="4881240"/>
              <a:ext cx="3526920" cy="642600"/>
              <a:chOff x="2916360" y="4881240"/>
              <a:chExt cx="3526920" cy="642600"/>
            </a:xfrm>
          </p:grpSpPr>
          <p:sp>
            <p:nvSpPr>
              <p:cNvPr id="740" name="Text Box 13"/>
              <p:cNvSpPr/>
              <p:nvPr/>
            </p:nvSpPr>
            <p:spPr>
              <a:xfrm>
                <a:off x="2916360" y="4881240"/>
                <a:ext cx="35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М</a:t>
                </a:r>
                <a:r>
                  <a:rPr b="1" lang="en-US" sz="3600" spc="-1" strike="noStrike">
                    <a:solidFill>
                      <a:srgbClr val="336600"/>
                    </a:solidFill>
                    <a:latin typeface="Comic Sans MS"/>
                  </a:rPr>
                  <a:t>N    </a:t>
                </a:r>
                <a:r>
                  <a:rPr b="1" lang="ru-RU" sz="3600" spc="-1" strike="noStrike">
                    <a:solidFill>
                      <a:srgbClr val="336600"/>
                    </a:solidFill>
                    <a:latin typeface="Comic Sans MS"/>
                  </a:rPr>
                  <a:t>КР = О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1" name="Object 16"/>
                  <p:cNvSpPr txBox="1"/>
                  <p:nvPr/>
                </p:nvSpPr>
                <p:spPr>
                  <a:xfrm>
                    <a:off x="3997080" y="4881240"/>
                    <a:ext cx="720360" cy="55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</p:grpSp>
      </p:grp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4"/>
          <p:cNvSpPr/>
          <p:nvPr/>
        </p:nvSpPr>
        <p:spPr>
          <a:xfrm>
            <a:off x="250920" y="981000"/>
            <a:ext cx="864216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На плоскости даны три точки. Сколько прямых можно провести через эти точки так, чтобы на каждой прямой лежали хотя бы две из данных точек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Чертёж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Чертёж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3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4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Comic Sans MS"/>
              </a:rPr>
              <a:t>Задание 7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Сколько точек пересечения могут иметь три прямы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Line 5"/>
          <p:cNvSpPr/>
          <p:nvPr/>
        </p:nvSpPr>
        <p:spPr>
          <a:xfrm>
            <a:off x="250920" y="2708280"/>
            <a:ext cx="381636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Line 6"/>
          <p:cNvSpPr/>
          <p:nvPr/>
        </p:nvSpPr>
        <p:spPr>
          <a:xfrm flipH="1">
            <a:off x="323640" y="1484280"/>
            <a:ext cx="244764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7"/>
          <p:cNvSpPr/>
          <p:nvPr/>
        </p:nvSpPr>
        <p:spPr>
          <a:xfrm>
            <a:off x="1547640" y="1413000"/>
            <a:ext cx="1944720" cy="1655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5292720" y="2349360"/>
            <a:ext cx="287964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9"/>
          <p:cNvSpPr/>
          <p:nvPr/>
        </p:nvSpPr>
        <p:spPr>
          <a:xfrm flipH="1">
            <a:off x="5796000" y="1413000"/>
            <a:ext cx="1944720" cy="180000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Line 10"/>
          <p:cNvSpPr/>
          <p:nvPr/>
        </p:nvSpPr>
        <p:spPr>
          <a:xfrm>
            <a:off x="5940360" y="1341360"/>
            <a:ext cx="1656000" cy="208764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Line 11"/>
          <p:cNvSpPr/>
          <p:nvPr/>
        </p:nvSpPr>
        <p:spPr>
          <a:xfrm>
            <a:off x="611280" y="4508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Line 12"/>
          <p:cNvSpPr/>
          <p:nvPr/>
        </p:nvSpPr>
        <p:spPr>
          <a:xfrm>
            <a:off x="611280" y="5516640"/>
            <a:ext cx="3240000" cy="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Line 13"/>
          <p:cNvSpPr/>
          <p:nvPr/>
        </p:nvSpPr>
        <p:spPr>
          <a:xfrm>
            <a:off x="1258920" y="3860640"/>
            <a:ext cx="1944720" cy="2305080"/>
          </a:xfrm>
          <a:prstGeom prst="line">
            <a:avLst/>
          </a:prstGeom>
          <a:ln w="572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4"/>
          <p:cNvSpPr/>
          <p:nvPr/>
        </p:nvSpPr>
        <p:spPr>
          <a:xfrm>
            <a:off x="5292720" y="450864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Line 15"/>
          <p:cNvSpPr/>
          <p:nvPr/>
        </p:nvSpPr>
        <p:spPr>
          <a:xfrm>
            <a:off x="5292720" y="501336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16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4"/>
          <p:cNvSpPr/>
          <p:nvPr/>
        </p:nvSpPr>
        <p:spPr>
          <a:xfrm>
            <a:off x="250920" y="256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3. Сколько прямых можно провести через две точ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90000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900000" y="3357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3059280" y="4365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5364000" y="4365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1403280" y="4221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10"/>
          <p:cNvSpPr/>
          <p:nvPr/>
        </p:nvSpPr>
        <p:spPr>
          <a:xfrm>
            <a:off x="3492360" y="42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5796000" y="422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250920" y="3716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4. Сколько общих точек могут иметь две прямые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Oval 13"/>
          <p:cNvSpPr/>
          <p:nvPr/>
        </p:nvSpPr>
        <p:spPr>
          <a:xfrm>
            <a:off x="5364000" y="335772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Oval 14"/>
          <p:cNvSpPr/>
          <p:nvPr/>
        </p:nvSpPr>
        <p:spPr>
          <a:xfrm>
            <a:off x="3059280" y="3284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Rectangle 15"/>
          <p:cNvSpPr/>
          <p:nvPr/>
        </p:nvSpPr>
        <p:spPr>
          <a:xfrm>
            <a:off x="1324080" y="3213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Rectangle 16"/>
          <p:cNvSpPr/>
          <p:nvPr/>
        </p:nvSpPr>
        <p:spPr>
          <a:xfrm>
            <a:off x="3483000" y="3141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5785920" y="32130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324000" y="333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1. Что означает слово «геометрия»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305928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26920" y="981000"/>
            <a:ext cx="28764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22"/>
          <p:cNvSpPr/>
          <p:nvPr/>
        </p:nvSpPr>
        <p:spPr>
          <a:xfrm>
            <a:off x="75564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3419640" y="836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емле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Oval 26"/>
          <p:cNvSpPr/>
          <p:nvPr/>
        </p:nvSpPr>
        <p:spPr>
          <a:xfrm>
            <a:off x="5796000" y="98100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615636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омер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28"/>
          <p:cNvSpPr/>
          <p:nvPr/>
        </p:nvSpPr>
        <p:spPr>
          <a:xfrm>
            <a:off x="324000" y="486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5. Какое наибольшее число прямых можно провести через различные пары из трёх точек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Oval 29"/>
          <p:cNvSpPr/>
          <p:nvPr/>
        </p:nvSpPr>
        <p:spPr>
          <a:xfrm>
            <a:off x="5364000" y="5877000"/>
            <a:ext cx="28764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Oval 30"/>
          <p:cNvSpPr/>
          <p:nvPr/>
        </p:nvSpPr>
        <p:spPr>
          <a:xfrm>
            <a:off x="3059280" y="587700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Oval 31"/>
          <p:cNvSpPr/>
          <p:nvPr/>
        </p:nvSpPr>
        <p:spPr>
          <a:xfrm>
            <a:off x="900000" y="5805360"/>
            <a:ext cx="287280" cy="265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32"/>
          <p:cNvSpPr/>
          <p:nvPr/>
        </p:nvSpPr>
        <p:spPr>
          <a:xfrm>
            <a:off x="1332000" y="5734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3"/>
          <p:cNvSpPr/>
          <p:nvPr/>
        </p:nvSpPr>
        <p:spPr>
          <a:xfrm>
            <a:off x="349236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34"/>
          <p:cNvSpPr/>
          <p:nvPr/>
        </p:nvSpPr>
        <p:spPr>
          <a:xfrm>
            <a:off x="5785920" y="5734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5"/>
          <p:cNvSpPr/>
          <p:nvPr/>
        </p:nvSpPr>
        <p:spPr>
          <a:xfrm>
            <a:off x="250920" y="1413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omic Sans MS"/>
              </a:rPr>
              <a:t>2. Сколько прямых можно провести через одну точ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Oval 36"/>
          <p:cNvSpPr/>
          <p:nvPr/>
        </p:nvSpPr>
        <p:spPr>
          <a:xfrm>
            <a:off x="543564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Oval 37"/>
          <p:cNvSpPr/>
          <p:nvPr/>
        </p:nvSpPr>
        <p:spPr>
          <a:xfrm>
            <a:off x="3059280" y="206064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38"/>
          <p:cNvSpPr/>
          <p:nvPr/>
        </p:nvSpPr>
        <p:spPr>
          <a:xfrm>
            <a:off x="900000" y="2133720"/>
            <a:ext cx="287280" cy="2649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42"/>
          <p:cNvSpPr/>
          <p:nvPr/>
        </p:nvSpPr>
        <p:spPr>
          <a:xfrm>
            <a:off x="1339920" y="1959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Text Box 43"/>
          <p:cNvSpPr/>
          <p:nvPr/>
        </p:nvSpPr>
        <p:spPr>
          <a:xfrm>
            <a:off x="350208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в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44"/>
          <p:cNvSpPr/>
          <p:nvPr/>
        </p:nvSpPr>
        <p:spPr>
          <a:xfrm>
            <a:off x="5873400" y="192708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45"/>
          <p:cNvSpPr/>
          <p:nvPr/>
        </p:nvSpPr>
        <p:spPr>
          <a:xfrm>
            <a:off x="3348000" y="1268280"/>
            <a:ext cx="2089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6"/>
          <p:cNvSpPr/>
          <p:nvPr/>
        </p:nvSpPr>
        <p:spPr>
          <a:xfrm>
            <a:off x="5867280" y="2349360"/>
            <a:ext cx="1081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7"/>
          <p:cNvSpPr/>
          <p:nvPr/>
        </p:nvSpPr>
        <p:spPr>
          <a:xfrm flipV="1">
            <a:off x="1258920" y="3715920"/>
            <a:ext cx="923760" cy="32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8"/>
          <p:cNvSpPr/>
          <p:nvPr/>
        </p:nvSpPr>
        <p:spPr>
          <a:xfrm>
            <a:off x="1403280" y="4724280"/>
            <a:ext cx="8650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9"/>
          <p:cNvSpPr/>
          <p:nvPr/>
        </p:nvSpPr>
        <p:spPr>
          <a:xfrm>
            <a:off x="1332000" y="6165720"/>
            <a:ext cx="64764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1763640" y="620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1692360" y="2133720"/>
            <a:ext cx="5040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§</a:t>
            </a: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1, 2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чи 1, 3, 4,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WordArt 4"/>
          <p:cNvSpPr txBox="1"/>
          <p:nvPr/>
        </p:nvSpPr>
        <p:spPr>
          <a:xfrm>
            <a:off x="900000" y="549360"/>
            <a:ext cx="69850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изуча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метр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0" name="AutoShape 7"/>
          <p:cNvSpPr/>
          <p:nvPr/>
        </p:nvSpPr>
        <p:spPr>
          <a:xfrm>
            <a:off x="2195640" y="4508640"/>
            <a:ext cx="1655640" cy="1800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a9a12"/>
              </a:gs>
              <a:gs pos="100000">
                <a:srgbClr val="4747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AutoShape 8"/>
          <p:cNvSpPr/>
          <p:nvPr/>
        </p:nvSpPr>
        <p:spPr>
          <a:xfrm>
            <a:off x="6516720" y="2924280"/>
            <a:ext cx="1871640" cy="1728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2c6a"/>
              </a:gs>
              <a:gs pos="50000">
                <a:srgbClr val="ffccff"/>
              </a:gs>
              <a:gs pos="100000">
                <a:srgbClr val="982c6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2484360" y="3645000"/>
            <a:ext cx="1081080" cy="1081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85185E-006 C 0.01059 -0.00903 0.04844 -0.01805 0.06164 -0.01805 C 0.14532 -0.01805 0.23143 0.12361 0.23143 0.26551 C 0.23143 0.19375 0.27448 0.12361 0.31511 0.12361 C 0.35816 0.12361 0.39879 0.19491 0.39879 0.26551 C 0.39879 0.23009 0.42032 0.19375 0.44184 0.19375 C 0.46337 0.19375 0.4849 0.22917 0.4849 0.26551 C 0.4849 0.24722 0.49566 0.23009 0.50643 0.23009 C 0.51719 0.23009 0.52796 0.24815 0.52796 0.26551 C 0.52796 0.25625 0.53351 0.24722 0.53872 0.24722 C 0.54132 0.24722 0.54931 0.25625 0.54931 0.26551 C 0.54931 0.26065 0.55226 0.25625 0.55504 0.25625 C 0.55504 0.25741 0.56059 0.26065 0.56059 0.26551 C 0.56059 0.26296 0.56059 0.26065 0.56337 0.26065 C 0.56337 0.26204 0.56632 0.2632 0.56632 0.26551 C 0.56632 0.26412 0.56632 0.26296 0.56632 0.26204 C 0.5691 0.26204 0.5691 0.2632 0.5691 0.26435 C 0.57188 0.26435 0.57188 0.2632 0.57188 0.26204 C 0.57483 0.26204 0.57483 0.2632 0.57483 0.26435 E">
                                      <p:cBhvr>
                                        <p:cTn id="30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5"/>
          <p:cNvSpPr txBox="1"/>
          <p:nvPr/>
        </p:nvSpPr>
        <p:spPr>
          <a:xfrm>
            <a:off x="1403280" y="69228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уда пошла геометр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6"/>
          <p:cNvSpPr txBox="1"/>
          <p:nvPr/>
        </p:nvSpPr>
        <p:spPr>
          <a:xfrm>
            <a:off x="539640" y="1916280"/>
            <a:ext cx="25750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граф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5" name="WordArt 7"/>
          <p:cNvSpPr txBox="1"/>
          <p:nvPr/>
        </p:nvSpPr>
        <p:spPr>
          <a:xfrm>
            <a:off x="3492360" y="2205000"/>
            <a:ext cx="273708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лог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6" name="WordArt 8"/>
          <p:cNvSpPr txBox="1"/>
          <p:nvPr/>
        </p:nvSpPr>
        <p:spPr>
          <a:xfrm>
            <a:off x="5796000" y="3284640"/>
            <a:ext cx="2935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eae51b"/>
                    </a:gs>
                  </a:gsLst>
                  <a:lin ang="5400000"/>
                </a:gradFill>
                <a:latin typeface="Arial"/>
              </a:rPr>
              <a:t>Геоде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eae51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7" name="WordArt 9"/>
          <p:cNvSpPr txBox="1"/>
          <p:nvPr/>
        </p:nvSpPr>
        <p:spPr>
          <a:xfrm>
            <a:off x="826920" y="4076640"/>
            <a:ext cx="302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ботаника</a:t>
            </a:r>
            <a:endParaRPr b="0" lang="en-US" sz="2400" spc="1" strike="noStrike">
              <a:ln w="9360">
                <a:solidFill>
                  <a:srgbClr val="ff7c80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8" name="WordArt 10"/>
          <p:cNvSpPr txBox="1"/>
          <p:nvPr/>
        </p:nvSpPr>
        <p:spPr>
          <a:xfrm>
            <a:off x="4572000" y="5229360"/>
            <a:ext cx="374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еоакуст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6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6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6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85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385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385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85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385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8"/>
          <p:cNvSpPr/>
          <p:nvPr/>
        </p:nvSpPr>
        <p:spPr>
          <a:xfrm>
            <a:off x="395280" y="620640"/>
            <a:ext cx="8424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Геоло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наука о составе, строении  и  исто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емли и земной коры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250920" y="2060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дез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 об  определении  формы  и  размеров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324000" y="342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Геоботан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тительном покрове Зем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1"/>
          <p:cNvSpPr/>
          <p:nvPr/>
        </p:nvSpPr>
        <p:spPr>
          <a:xfrm>
            <a:off x="324000" y="4941720"/>
            <a:ext cx="8642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Геоакусти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ука о распространении упруги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лн в земной кор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468360" y="11970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741240" y="258120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Line 14"/>
          <p:cNvSpPr/>
          <p:nvPr/>
        </p:nvSpPr>
        <p:spPr>
          <a:xfrm>
            <a:off x="885960" y="397656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712800" y="548640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950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4" descr="Копия Z_011i"/>
          <p:cNvPicPr/>
          <p:nvPr/>
        </p:nvPicPr>
        <p:blipFill>
          <a:blip r:embed="rId1"/>
          <a:stretch/>
        </p:blipFill>
        <p:spPr>
          <a:xfrm>
            <a:off x="395280" y="333360"/>
            <a:ext cx="3929040" cy="43196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4643280" y="1052640"/>
            <a:ext cx="42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ГЕО - Земл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716360" y="2492280"/>
            <a:ext cx="41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МЕТРЕО –</a:t>
            </a: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измеря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1042920" y="4869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ИЗМЕРЕНИЕ   ЗЕМЛИ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ru-RU" sz="3200" spc="-1" strike="noStrike">
                <a:solidFill>
                  <a:srgbClr val="663300"/>
                </a:solidFill>
                <a:latin typeface="Century Gothic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r>
              <a:rPr b="1" lang="ru-RU" sz="4000" spc="-1" strike="noStrike">
                <a:solidFill>
                  <a:srgbClr val="663300"/>
                </a:solidFill>
                <a:latin typeface="Century Gothic"/>
              </a:rPr>
              <a:t>ЗЕМЛЕМЕР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468360" y="4046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ГЕОМЕТР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древняя математическая                нау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042920" y="184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сто рожден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Древни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Егип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3" name="Picture 6" descr="isi27ai"/>
          <p:cNvPicPr/>
          <p:nvPr/>
        </p:nvPicPr>
        <p:blipFill>
          <a:blip r:embed="rId1"/>
          <a:stretch/>
        </p:blipFill>
        <p:spPr>
          <a:xfrm>
            <a:off x="4284720" y="2421000"/>
            <a:ext cx="2951280" cy="2203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7" descr="e_501i"/>
          <p:cNvPicPr/>
          <p:nvPr/>
        </p:nvPicPr>
        <p:blipFill>
          <a:blip r:embed="rId2"/>
          <a:stretch/>
        </p:blipFill>
        <p:spPr>
          <a:xfrm>
            <a:off x="5796000" y="4508640"/>
            <a:ext cx="2725560" cy="2035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eg03604i"/>
          <p:cNvPicPr/>
          <p:nvPr/>
        </p:nvPicPr>
        <p:blipFill>
          <a:blip r:embed="rId3"/>
          <a:stretch/>
        </p:blipFill>
        <p:spPr>
          <a:xfrm>
            <a:off x="684360" y="2492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9" descr="isi35ai"/>
          <p:cNvPicPr/>
          <p:nvPr/>
        </p:nvPicPr>
        <p:blipFill>
          <a:blip r:embed="rId4"/>
          <a:stretch/>
        </p:blipFill>
        <p:spPr>
          <a:xfrm>
            <a:off x="2195640" y="4508640"/>
            <a:ext cx="19652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1332000" y="62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Древняя Грец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-V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.до н.э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11280" y="198900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евнегреческий философ </a:t>
            </a: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Плато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539640" y="38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omic Sans MS"/>
              </a:rPr>
              <a:t>Евкл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0" name="Picture 7" descr="pe_016"/>
          <p:cNvPicPr/>
          <p:nvPr/>
        </p:nvPicPr>
        <p:blipFill>
          <a:blip r:embed="rId1"/>
          <a:stretch/>
        </p:blipFill>
        <p:spPr>
          <a:xfrm>
            <a:off x="2627280" y="378936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8" descr="pp_054"/>
          <p:cNvPicPr/>
          <p:nvPr/>
        </p:nvPicPr>
        <p:blipFill>
          <a:blip r:embed="rId2"/>
          <a:stretch/>
        </p:blipFill>
        <p:spPr>
          <a:xfrm>
            <a:off x="5580000" y="1844640"/>
            <a:ext cx="2265480" cy="25210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9"/>
          <p:cNvSpPr/>
          <p:nvPr/>
        </p:nvSpPr>
        <p:spPr>
          <a:xfrm>
            <a:off x="6300720" y="5229360"/>
            <a:ext cx="2158920" cy="1152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"/>
          <p:cNvSpPr/>
          <p:nvPr/>
        </p:nvSpPr>
        <p:spPr>
          <a:xfrm>
            <a:off x="5292720" y="4508640"/>
            <a:ext cx="1511280" cy="1584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11"/>
          <p:cNvSpPr/>
          <p:nvPr/>
        </p:nvSpPr>
        <p:spPr>
          <a:xfrm>
            <a:off x="7164360" y="4724280"/>
            <a:ext cx="1008000" cy="10083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250920" y="486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«НАЧАЛ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179280" y="299736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Александрия </a:t>
            </a: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(около 300 г. до н.э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AutoShape 17">
            <a:hlinkClick r:id="" action="ppaction://hlinkshowjump?jump=nextslide"/>
          </p:cNvPr>
          <p:cNvSpPr/>
          <p:nvPr/>
        </p:nvSpPr>
        <p:spPr>
          <a:xfrm>
            <a:off x="7740720" y="4005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AutoShape 18">
            <a:hlinkClick r:id="rId3" action="ppaction://hlinksldjump"/>
          </p:cNvPr>
          <p:cNvSpPr/>
          <p:nvPr/>
        </p:nvSpPr>
        <p:spPr>
          <a:xfrm>
            <a:off x="2411280" y="587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" w="21600" h="24646">
                <a:moveTo>
                  <a:pt x="10800" y="1632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4646">
                <a:moveTo>
                  <a:pt x="11905" y="15805"/>
                </a:moveTo>
                <a:lnTo>
                  <a:pt x="11905" y="13846"/>
                </a:lnTo>
                <a:cubicBezTo>
                  <a:pt x="11905" y="13019"/>
                  <a:pt x="12236" y="12323"/>
                  <a:pt x="12837" y="12323"/>
                </a:cubicBezTo>
                <a:cubicBezTo>
                  <a:pt x="13968" y="12323"/>
                  <a:pt x="14865" y="10957"/>
                  <a:pt x="14865" y="9373"/>
                </a:cubicBezTo>
                <a:cubicBezTo>
                  <a:pt x="14865" y="7057"/>
                  <a:pt x="13011" y="5317"/>
                  <a:pt x="10800" y="5317"/>
                </a:cubicBezTo>
                <a:cubicBezTo>
                  <a:pt x="8589" y="5317"/>
                  <a:pt x="6918" y="7057"/>
                  <a:pt x="6918" y="9373"/>
                </a:cubicBezTo>
                <a:lnTo>
                  <a:pt x="8772" y="9373"/>
                </a:lnTo>
                <a:cubicBezTo>
                  <a:pt x="8772" y="8232"/>
                  <a:pt x="9695" y="7345"/>
                  <a:pt x="10800" y="7345"/>
                </a:cubicBezTo>
                <a:cubicBezTo>
                  <a:pt x="11905" y="7345"/>
                  <a:pt x="12837" y="8232"/>
                  <a:pt x="12837" y="9373"/>
                </a:cubicBezTo>
                <a:cubicBezTo>
                  <a:pt x="12837" y="10112"/>
                  <a:pt x="12367" y="10843"/>
                  <a:pt x="11905" y="10843"/>
                </a:cubicBezTo>
                <a:cubicBezTo>
                  <a:pt x="10800" y="10843"/>
                  <a:pt x="9695" y="12323"/>
                  <a:pt x="9695" y="13846"/>
                </a:cubicBezTo>
                <a:lnTo>
                  <a:pt x="9695" y="15805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8" descr="pp_054"/>
          <p:cNvPicPr/>
          <p:nvPr/>
        </p:nvPicPr>
        <p:blipFill>
          <a:blip r:embed="rId1"/>
          <a:stretch/>
        </p:blipFill>
        <p:spPr>
          <a:xfrm>
            <a:off x="611280" y="620640"/>
            <a:ext cx="1487520" cy="1656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5"/>
          <p:cNvSpPr/>
          <p:nvPr/>
        </p:nvSpPr>
        <p:spPr>
          <a:xfrm>
            <a:off x="468360" y="2715120"/>
            <a:ext cx="8472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ил традиционное для аристократического юноши хорошее воспитание (физическое и мусическое). В юности слушал софиста гераклитовской ориентации Кратила, в 20 лет познакомился с Сократом, начал регулярно посещать его беседы и отказался от реальной политической карьеры. Отличался крайней застенчивостью и замкнутость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смерти Сократа (399) Платон уезжает в Мегары. Принимает участие в Коринфской войне, в походах в Танагру (395) и Коринф (394). В 387 посещает Южную Италию, Локры Эпизефирские — родину древнейших записанных законов Залевка (из Локр происходит пифагореец Тимей, именем которого назван знаменитый диалог Платона, путешествие вообще задумывалось прежде всего ради знакомства с пифагорейцами). В Сицилии (Сиракуза), он знакомится с Дионом, приближенным правителя Сиракуз Дионисия I Старшего. По возвращении из Сицилии (387) основал в Афинах свою философскую школу — в гимнасии Академия. Знакомство с Дионом, попавшим под обаяние личности Платона и его образа мыслей, способствовало тому, что в 367-366 и 361 Платон совершил еще две поездки в Сицил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2484360" y="333360"/>
            <a:ext cx="64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 или 427 до н. э. — 348 или 347)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Ученик Сократа, ок. 387 основал в Афинах школу.  Происходил из аристократической семьи, принимавшей активное участие в политической жизни Афин (род его отца Аристона, по преданию, восходил к мифическому царю Кодру; среди предков матери, Периктионы, — законодатель Солон; после победы спартанцев в Пелопоннесской войне дядя Платона, Хармид, — один из Десяти ставленников Лисандра в Пирее в 404-403, Критий — один из Тридцати тиранов в Афинах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9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4"/>
          <p:cNvSpPr/>
          <p:nvPr/>
        </p:nvSpPr>
        <p:spPr>
          <a:xfrm>
            <a:off x="324000" y="2213640"/>
            <a:ext cx="8569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времени и месте его рождения до нас не дошли, однако известно, что Евклид жил в Александрии и расцвет его деятельности приходится на время царствования в Египте Птолемея I Сотера. Известно также, что Евклид был моложе учеников Платона (427—347 до н. э.), но старше Архимеда (ок. 287—212 до н. э.), так как, с одной стороны, был платоником и хорошо знал философию Платона (именно поэтому он закончил «Начала» изложением т. н. платоновых тел, т. е. пяти правильных многогранников), а с другой стороны — его имя упоминается в первом из двух писем Архимеда к Досифею «О шаре и цилиндре». С именем Евклида связывают становление александрийской математики (геометрической алгебры) как нау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дошедших до нас сочинений Евклида наиболее знамениты «Начала», состоящие из 15 книг. В 1-й книге формулируются исходные положения геометрии, а также содержатся основополагающие теоремы планиметрии, среди которых теорема о сумме углов треугольника и теорема Пифагора. Во 2-й книге излагаются основы геометрической алгебры. 3-я книга посвящена свойствам круга, его касательных и хорд. В 4-й книге рассматриваются правильные многоугольники, причем построение правильного пятнадцатиугольника принадлежит, видимо, самому Евклиду. Книга 5-я и 6-я посвящены теории отношений и ее применению к решению алгебраических задач. Книга 7-я, 8-я и 9-я посвящены теории целых и рациональных чисел, разработанной пифагорейцами не позднее 5 в. до н. э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2087640" y="476280"/>
            <a:ext cx="705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ВКЛИД (умер между 275 и 270 до н. э.), древнегреческий математик. Работал в Александрии в 3 в. до н. э. Главный труд «Начала» (15 книг), содержащий основы античной математики, элементарной геометрии, теории чисел, общей теории отношений и метода определения площадей и объемов, включавшего элементы теории пределов, оказал огромное влияние на развитие математики. Работы по астрономии, оптике, теории музык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5" name="Picture 7" descr="pe_016"/>
          <p:cNvPicPr/>
          <p:nvPr/>
        </p:nvPicPr>
        <p:blipFill>
          <a:blip r:embed="rId1"/>
          <a:stretch/>
        </p:blipFill>
        <p:spPr>
          <a:xfrm>
            <a:off x="324000" y="260280"/>
            <a:ext cx="161748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8:11Z</dcterms:created>
  <dc:creator>111</dc:creator>
  <dc:description/>
  <dc:language>en-US</dc:language>
  <cp:lastModifiedBy>User</cp:lastModifiedBy>
  <dcterms:modified xsi:type="dcterms:W3CDTF">2011-08-08T01:21:40Z</dcterms:modified>
  <cp:revision>30</cp:revision>
  <dc:subject/>
  <dc:title>Слайд 1</dc:title>
</cp:coreProperties>
</file>