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13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A668-7B91-4637-B620-F94DB2B5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D6F4-C9B8-4CC3-80BF-1781EFC4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5C8C-5DA1-4BD6-A646-4B36E565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BDF4-9ACF-4E3E-BC3D-B0B3B4C9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AF7C-8077-4FCD-93B2-59B7F82D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1091-929C-4B18-8E49-FF37C5B0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A9B8-394D-43E2-9ABF-3F60C3F2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2874-1E33-4C59-A2AB-03CB4920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6798-6FC9-49FD-8272-AC8B41CC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53F8-E018-451C-8FF7-DF9F78EC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F34B-91F1-435E-86C8-A5F47E4B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CA87-11AB-4158-838A-3F3613DE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FD3F-0865-43AD-B24D-67F4F166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E24B-90E0-46CA-B631-79B08D18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20E6-1504-4776-8752-C6F8AE89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F4B4-89EB-4381-800C-4F7E48F5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97C9-80E6-44E8-B5F9-3CA17682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55A2-B93C-4DC6-8A0C-2593982D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E364-6310-4CB8-A9AA-011B9EC9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25F7-AE2C-4C84-B297-C1C60361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5227-F9A6-4832-8891-D1DF2911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9D44-F3F8-4B83-91C8-47134F0E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80B7-BB2B-4225-865F-CC998877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6DAD-F246-4483-B347-02D87400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6405b"/>
                </a:gs>
                <a:gs pos="100000">
                  <a:srgbClr val="538dc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D9F7-566C-456A-A279-192F2297BF8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1F97-5404-4F8A-876A-2B0FA5E3E1D4}" type="slidenum">
              <a:rPr b="0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280" y="1773000"/>
            <a:ext cx="7846920" cy="2447640"/>
          </a:xfrm>
          <a:prstGeom prst="rect">
            <a:avLst/>
          </a:prstGeom>
          <a:solidFill>
            <a:srgbClr val="538dc7">
              <a:alpha val="50000"/>
            </a:srgbClr>
          </a:solidFill>
          <a:ln w="76320">
            <a:solidFill>
              <a:srgbClr val="f8f8f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8f8f8"/>
                </a:solidFill>
                <a:latin typeface="Arial"/>
              </a:rPr>
              <a:t>Экономическая биология человека как наука</a:t>
            </a:r>
            <a:r>
              <a:rPr b="0" lang="ru-RU" sz="4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ринципы экономической биолог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максимального результата»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минимальных затрат»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«разделения труда и специализации»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08" name="Picture 4" descr="j0285410"/>
          <p:cNvPicPr/>
          <p:nvPr/>
        </p:nvPicPr>
        <p:blipFill>
          <a:blip r:embed="rId1"/>
          <a:stretch/>
        </p:blipFill>
        <p:spPr>
          <a:xfrm>
            <a:off x="4643280" y="4797360"/>
            <a:ext cx="1727280" cy="1643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j0195812"/>
          <p:cNvPicPr/>
          <p:nvPr/>
        </p:nvPicPr>
        <p:blipFill>
          <a:blip r:embed="rId2"/>
          <a:stretch/>
        </p:blipFill>
        <p:spPr>
          <a:xfrm>
            <a:off x="6732720" y="4005360"/>
            <a:ext cx="1633320" cy="1679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j0199549"/>
          <p:cNvPicPr/>
          <p:nvPr/>
        </p:nvPicPr>
        <p:blipFill>
          <a:blip r:embed="rId3"/>
          <a:stretch/>
        </p:blipFill>
        <p:spPr>
          <a:xfrm>
            <a:off x="2556000" y="4149720"/>
            <a:ext cx="1671480" cy="17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339640" y="260280"/>
            <a:ext cx="649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0">
              <a:spcBef>
                <a:spcPts val="7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Эволюционно примитивные организмы имеют клетки с широким набором функций и не имеют дыхательной, кровеносной и нервной систем, тогда как у эволюционно продвинутых организмов имеются специализированные ткани и органы, дыхательная, кровеносная и нервная системы.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ринципы экономической биолог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максимального результата»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минимальных затрат»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разделения труда и специализации»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«взаимозависимости </a:t>
            </a:r>
            <a:br>
              <a:rPr sz="2800"/>
            </a:b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и сотрудничества»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4" name="Picture 4" descr="j0233018"/>
          <p:cNvPicPr/>
          <p:nvPr/>
        </p:nvPicPr>
        <p:blipFill>
          <a:blip r:embed="rId1"/>
          <a:stretch/>
        </p:blipFill>
        <p:spPr>
          <a:xfrm>
            <a:off x="6516720" y="4221000"/>
            <a:ext cx="2362320" cy="23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627280" y="331560"/>
            <a:ext cx="640872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Кости выполняют пассивную функцию рычагов, а мышцы, сокращаясь, совершают работу и являются активной частью опорно-двигательного аппарата. Их функционирование и развитие тесно связано друг с другом  и невозможно без активного участия нервной и сердечно-сосудистой систем.</a:t>
            </a:r>
            <a:r>
              <a:rPr b="0" lang="ru-RU" sz="3600" spc="-1" strike="noStrike">
                <a:solidFill>
                  <a:srgbClr val="f8f8f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ринципы экономической биолог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максимального результата»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минимальных затрат»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разделения труда и специализации»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взаимозависимости и сотрудничества»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«спроса и предложения»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18" name="Group 8"/>
          <p:cNvGrpSpPr/>
          <p:nvPr/>
        </p:nvGrpSpPr>
        <p:grpSpPr>
          <a:xfrm>
            <a:off x="2556000" y="4828320"/>
            <a:ext cx="6266520" cy="1917360"/>
            <a:chOff x="2556000" y="4828320"/>
            <a:chExt cx="6266520" cy="1917360"/>
          </a:xfrm>
        </p:grpSpPr>
        <p:pic>
          <p:nvPicPr>
            <p:cNvPr id="119" name="Picture 4" descr="j0221903"/>
            <p:cNvPicPr/>
            <p:nvPr/>
          </p:nvPicPr>
          <p:blipFill>
            <a:blip r:embed="rId1"/>
            <a:srcRect l="0" t="0" r="0" b="41474"/>
            <a:stretch/>
          </p:blipFill>
          <p:spPr>
            <a:xfrm>
              <a:off x="2556000" y="5084640"/>
              <a:ext cx="1944720" cy="12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j0183168"/>
            <p:cNvPicPr/>
            <p:nvPr/>
          </p:nvPicPr>
          <p:blipFill>
            <a:blip r:embed="rId2"/>
            <a:stretch/>
          </p:blipFill>
          <p:spPr>
            <a:xfrm>
              <a:off x="5724720" y="5156280"/>
              <a:ext cx="79236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6" descr="j0251871"/>
            <p:cNvPicPr/>
            <p:nvPr/>
          </p:nvPicPr>
          <p:blipFill>
            <a:blip r:embed="rId3"/>
            <a:stretch/>
          </p:blipFill>
          <p:spPr>
            <a:xfrm rot="20697600">
              <a:off x="6516720" y="5084280"/>
              <a:ext cx="2160360" cy="14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7" descr="j0221903"/>
            <p:cNvPicPr/>
            <p:nvPr/>
          </p:nvPicPr>
          <p:blipFill>
            <a:blip r:embed="rId4"/>
            <a:srcRect l="59093" t="62201" r="0" b="0"/>
            <a:stretch/>
          </p:blipFill>
          <p:spPr>
            <a:xfrm>
              <a:off x="4716720" y="5877000"/>
              <a:ext cx="674640" cy="593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843280" y="331560"/>
            <a:ext cx="619272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Физическая активность скелетных мышц вызывает дефицит кислорода (спрос), а в ответ на это активизируется сердечная мышца и легкие, обеспечивающие поставку кислорода к тканям (предложение).</a:t>
            </a:r>
            <a:r>
              <a:rPr b="0" lang="ru-RU" sz="3600" spc="-1" strike="noStrike">
                <a:solidFill>
                  <a:srgbClr val="f8f8f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ринципы экономической биолог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максимального результата»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минимальных затрат»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разделения труда и специализации»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взаимозависимости и сотрудничества»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спроса и предложения»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«экономической эффективности»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6" name="Picture 4" descr="j0195384"/>
          <p:cNvPicPr/>
          <p:nvPr/>
        </p:nvPicPr>
        <p:blipFill>
          <a:blip r:embed="rId1"/>
          <a:stretch/>
        </p:blipFill>
        <p:spPr>
          <a:xfrm>
            <a:off x="7093080" y="2565360"/>
            <a:ext cx="1796760" cy="18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627280" y="331560"/>
            <a:ext cx="640872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В организме сначала с ростом и развитием органов и систем повышается его эффективность, максимум которой совпадает с периодом молодости. Когда рост и обновление организма становятся невозможны, исчезает гибкость регуляции и его эффективность падает. </a:t>
            </a:r>
            <a:r>
              <a:rPr b="0" lang="ru-RU" sz="3600" spc="-1" strike="noStrike">
                <a:solidFill>
                  <a:srgbClr val="f8f8f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84360" y="0"/>
            <a:ext cx="64087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Представителей данного направления также волнуют следующие вопросы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95280" y="1699920"/>
            <a:ext cx="4941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8f8f8"/>
                </a:solidFill>
                <a:latin typeface="Arial"/>
              </a:rPr>
              <a:t>как экономика влияет на физическое развитие человека, его рост, вес, заболеваемость? 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8f8f8"/>
                </a:solidFill>
                <a:latin typeface="Arial"/>
              </a:rPr>
              <a:t>как по антропометрическим данным (прежде всего по росту) можно оценить биологический статус, благосостояние и социальное неравенство в обществе?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0" name="Picture 4" descr="j0240719"/>
          <p:cNvPicPr/>
          <p:nvPr/>
        </p:nvPicPr>
        <p:blipFill>
          <a:blip r:embed="rId1"/>
          <a:stretch/>
        </p:blipFill>
        <p:spPr>
          <a:xfrm>
            <a:off x="7093080" y="2276640"/>
            <a:ext cx="18381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68000" y="0"/>
            <a:ext cx="6543720" cy="14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Вопросы для закрепления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1. Что изучает экономическая биология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2. Какой год можно считать годом возникновения науки экономическая биология и почему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3. Какова цель экономической биологии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4. Какие принципы экономической биологии вы можете назвать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ecff"/>
                </a:solidFill>
                <a:uFillTx/>
                <a:latin typeface="Arial"/>
              </a:rPr>
              <a:t>Цель урока: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сформировать представление о экономической биологии как комплексной науке, ее предмете, задачах и принципах.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ecff"/>
                </a:solidFill>
                <a:uFillTx/>
                <a:latin typeface="Arial"/>
              </a:rPr>
              <a:t>Задачи урока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Arial"/>
              </a:rPr>
              <a:t>обучающие</a:t>
            </a: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 –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изучить цель, задачи и принципы экономической биологии;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Arial"/>
              </a:rPr>
              <a:t>воспитательные</a:t>
            </a: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оценить</a:t>
            </a: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значимость данных экономической биологии</a:t>
            </a: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в решении социальных и медицинских проблем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Arial"/>
              </a:rPr>
              <a:t>развивающие</a:t>
            </a: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продолжить развитие интереса к изучаемому предмету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27280" y="115560"/>
            <a:ext cx="6337440" cy="32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«Э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кономическая биология человека» 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─ новое направление в науке, возникшее на границе экономики, биологии человека, медицины и физической антропологии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92" name="Picture 4" descr="j0222015"/>
          <p:cNvPicPr/>
          <p:nvPr/>
        </p:nvPicPr>
        <p:blipFill>
          <a:blip r:embed="rId1"/>
          <a:stretch/>
        </p:blipFill>
        <p:spPr>
          <a:xfrm>
            <a:off x="2771640" y="3429000"/>
            <a:ext cx="1781280" cy="1785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j0235241"/>
          <p:cNvPicPr/>
          <p:nvPr/>
        </p:nvPicPr>
        <p:blipFill>
          <a:blip r:embed="rId2"/>
          <a:stretch/>
        </p:blipFill>
        <p:spPr>
          <a:xfrm>
            <a:off x="5940360" y="3716280"/>
            <a:ext cx="2808360" cy="144144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6"/>
          <p:cNvSpPr/>
          <p:nvPr/>
        </p:nvSpPr>
        <p:spPr>
          <a:xfrm>
            <a:off x="4859280" y="4005360"/>
            <a:ext cx="720720" cy="698400"/>
          </a:xfrm>
          <a:prstGeom prst="plus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Предмет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экономической биологии человека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система взаимосвязей между особенностями строения и функциями человеческого организма, с одной стороны, и социально-экономическими условиями жизнедеятельности и организации труда, с другой стороны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Задачи экономической биологии ─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84360" y="1196640"/>
            <a:ext cx="6400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изучение: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индивидуального развития организма с использованием законов экономики;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изменений, которые происходят с человеком при переходе от нормального состояния к патологическому;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влияния экономических условий на здоровье и антропометрию человека;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условий изменений организма в период активного роста и развития, остановки роста и «инволюции»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«Инволюция»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(от лат.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nvolutio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– свертывание, упрощение)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процессы обратного развития, характеризующие процесс старения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rcRect l="0" t="0" r="0" b="7530"/>
          <a:stretch/>
        </p:blipFill>
        <p:spPr>
          <a:xfrm>
            <a:off x="5292720" y="3141720"/>
            <a:ext cx="250200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ринципы экономической биолог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«максимального результата»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«минимальных затрат»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04" name="Picture 4" descr="j0149481"/>
          <p:cNvPicPr/>
          <p:nvPr/>
        </p:nvPicPr>
        <p:blipFill>
          <a:blip r:embed="rId1"/>
          <a:stretch/>
        </p:blipFill>
        <p:spPr>
          <a:xfrm>
            <a:off x="3492360" y="2924280"/>
            <a:ext cx="3330720" cy="33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411280" y="476280"/>
            <a:ext cx="6400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У животных, подвергнутых «низкокалорийной диете» с качественным набором питательных веществ (принцип «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максимального результата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»), но с количественными ограничениями (принцип «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минимальных затрат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»), значительно увеличилась продолжительность жизни.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06:04Z</dcterms:created>
  <dc:creator>1</dc:creator>
  <dc:description/>
  <dc:language>en-US</dc:language>
  <cp:lastModifiedBy>Коля</cp:lastModifiedBy>
  <dcterms:modified xsi:type="dcterms:W3CDTF">2013-05-14T14:05:16Z</dcterms:modified>
  <cp:revision>8</cp:revision>
  <dc:subject/>
  <dc:title>Экономическая биология человека как наука</dc:title>
</cp:coreProperties>
</file>