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3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4AF-EE2A-4FF6-BC7B-EF4E1A42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FD0-6963-439F-A036-1DC9CED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A46-DF1C-44C1-8E04-586C2778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DC7-6D4C-48AC-8854-CD9C5CCC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CEC0-EF55-4C41-8C70-3C00C79B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1A1D-F905-4BBB-9366-A63A2D5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5FCE-1462-45F5-A69E-0A7D06C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A851-313F-46A3-A976-A7EFD3C9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777B-C1C7-4527-B45A-4A482C61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52A0-8B56-4EE9-BCFC-4C18307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99B3-0B45-4603-920C-52441F5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9B1-B837-4707-87C5-38D6182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694E-9B75-4D38-AE68-75E440C3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626E-EB80-4AB6-9A42-419304A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9F85-BF74-4638-8C31-E142E0E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9609-A453-4152-810E-A89878C2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90A7-4BFD-4BCE-84EB-4EE456F6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D0C-5C26-4BB2-A8BF-DAC0B82B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9B1-2732-4A65-86CF-83FE0C0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D41-65A6-4BC8-8E85-0EEC5C4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3B6-0A4B-420D-88EA-C7E89FD3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B99-FD9B-4DF1-A087-231A26E8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25B-08D6-4CF5-90CF-C05DA8E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DD6-9E61-4E74-91FF-D2692FC4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6405b"/>
                </a:gs>
                <a:gs pos="100000">
                  <a:srgbClr val="538dc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D9E-DEEE-4587-9CA0-D213684580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168-3254-45FE-A884-C916EEACD3B4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846920" cy="244764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f8f8"/>
                </a:solidFill>
                <a:latin typeface="Arial"/>
              </a:rPr>
              <a:t>Экономическая биология человека как наука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разделения труда и специализаци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8" name="Picture 4" descr="j0285410"/>
          <p:cNvPicPr/>
          <p:nvPr/>
        </p:nvPicPr>
        <p:blipFill>
          <a:blip r:embed="rId1"/>
          <a:stretch/>
        </p:blipFill>
        <p:spPr>
          <a:xfrm>
            <a:off x="4643280" y="479736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195812"/>
          <p:cNvPicPr/>
          <p:nvPr/>
        </p:nvPicPr>
        <p:blipFill>
          <a:blip r:embed="rId2"/>
          <a:stretch/>
        </p:blipFill>
        <p:spPr>
          <a:xfrm>
            <a:off x="6732720" y="4005360"/>
            <a:ext cx="1633320" cy="167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199549"/>
          <p:cNvPicPr/>
          <p:nvPr/>
        </p:nvPicPr>
        <p:blipFill>
          <a:blip r:embed="rId3"/>
          <a:stretch/>
        </p:blipFill>
        <p:spPr>
          <a:xfrm>
            <a:off x="2556000" y="4149720"/>
            <a:ext cx="1671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339640" y="260280"/>
            <a:ext cx="649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Эволюционно примитивные организмы имеют клетки с широким набором функций и не имеют дыхательной, кровеносной и нервной систем, тогда как у эволюционно продвинутых организмов имеются специализированные ткани и органы, дыхательная, кровеносная и нервная системы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взаимозависимости </a:t>
            </a:r>
            <a:br>
              <a:rPr sz="2800"/>
            </a:b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и сотрудничества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4" descr="j0233018"/>
          <p:cNvPicPr/>
          <p:nvPr/>
        </p:nvPicPr>
        <p:blipFill>
          <a:blip r:embed="rId1"/>
          <a:stretch/>
        </p:blipFill>
        <p:spPr>
          <a:xfrm>
            <a:off x="6516720" y="4221000"/>
            <a:ext cx="2362320" cy="23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627280" y="331560"/>
            <a:ext cx="6408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ости выполняют пассивную функцию рычагов, а мышцы, сокращаясь, совершают работу и являются активной частью опорно-двигательного аппарата. Их функционирование и развитие тесно связано друг с другом  и невозможно без активного участия нервной и сердечно-сосудистой систем.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взаимозависимости и сотрудничества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спроса и предложения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2556000" y="4828320"/>
            <a:ext cx="6266520" cy="1917360"/>
            <a:chOff x="2556000" y="4828320"/>
            <a:chExt cx="6266520" cy="1917360"/>
          </a:xfrm>
        </p:grpSpPr>
        <p:pic>
          <p:nvPicPr>
            <p:cNvPr id="119" name="Picture 4" descr="j0221903"/>
            <p:cNvPicPr/>
            <p:nvPr/>
          </p:nvPicPr>
          <p:blipFill>
            <a:blip r:embed="rId1"/>
            <a:srcRect l="0" t="0" r="0" b="41474"/>
            <a:stretch/>
          </p:blipFill>
          <p:spPr>
            <a:xfrm>
              <a:off x="2556000" y="5084640"/>
              <a:ext cx="19447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j0183168"/>
            <p:cNvPicPr/>
            <p:nvPr/>
          </p:nvPicPr>
          <p:blipFill>
            <a:blip r:embed="rId2"/>
            <a:stretch/>
          </p:blipFill>
          <p:spPr>
            <a:xfrm>
              <a:off x="5724720" y="5156280"/>
              <a:ext cx="79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j0251871"/>
            <p:cNvPicPr/>
            <p:nvPr/>
          </p:nvPicPr>
          <p:blipFill>
            <a:blip r:embed="rId3"/>
            <a:stretch/>
          </p:blipFill>
          <p:spPr>
            <a:xfrm rot="20697600">
              <a:off x="6516720" y="5084280"/>
              <a:ext cx="21603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j0221903"/>
            <p:cNvPicPr/>
            <p:nvPr/>
          </p:nvPicPr>
          <p:blipFill>
            <a:blip r:embed="rId4"/>
            <a:srcRect l="59093" t="62201" r="0" b="0"/>
            <a:stretch/>
          </p:blipFill>
          <p:spPr>
            <a:xfrm>
              <a:off x="4716720" y="5877000"/>
              <a:ext cx="674640" cy="5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43280" y="331560"/>
            <a:ext cx="6192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Физическая активность скелетных мышц вызывает дефицит кислорода (спрос), а в ответ на это активизируется сердечная мышца и легкие, обеспечивающие поставку кислорода к тканям (предложение).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аксимального результата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разделения труда и специализации»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взаимозависимости и сотрудничества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спроса и предложения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экономической эффективности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Picture 4" descr="j0195384"/>
          <p:cNvPicPr/>
          <p:nvPr/>
        </p:nvPicPr>
        <p:blipFill>
          <a:blip r:embed="rId1"/>
          <a:stretch/>
        </p:blipFill>
        <p:spPr>
          <a:xfrm>
            <a:off x="7093080" y="2565360"/>
            <a:ext cx="179676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627280" y="331560"/>
            <a:ext cx="6408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В организме сначала с ростом и развитием органов и систем повышается его эффективность, максимум которой совпадает с периодом молодости. Когда рост и обновление организма становятся невозможны, исчезает гибкость регуляции и его эффективность падает.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6408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дставителей данного направления также волнуют следующие вопросы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95280" y="1699920"/>
            <a:ext cx="4941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как экономика влияет на физическое развитие человека, его рост, вес, заболеваемость? 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f8f8"/>
                </a:solidFill>
                <a:latin typeface="Arial"/>
              </a:rPr>
              <a:t>как по антропометрическим данным (прежде всего по росту) можно оценить биологический статус, благосостояние и социальное неравенство в обществе?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4" descr="j0240719"/>
          <p:cNvPicPr/>
          <p:nvPr/>
        </p:nvPicPr>
        <p:blipFill>
          <a:blip r:embed="rId1"/>
          <a:stretch/>
        </p:blipFill>
        <p:spPr>
          <a:xfrm>
            <a:off x="7093080" y="2276640"/>
            <a:ext cx="18381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543720" cy="14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просы для закреплени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Что изучает экономическая биология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Какой год можно считать годом возникновения науки экономическая биология и почему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Какова цель экономической биологии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4. Какие принципы экономической биологии вы можете назвать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Цель урока: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формировать представление о экономической биологии как комплексной науке, ее предмете, задачах и принципах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Задачи уро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обучающи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изучить цель, задачи и принципы экономической биологии;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воспитательны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ценить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значимость данных экономической биологии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 решении социальных и медицинских проблем;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развивающие</a:t>
            </a: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одолжить развитие интереса к изучаемому предмету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633744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«Э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ономическая биология человека»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─ новое направление в науке, возникшее на границе экономики, биологии человека, медицины и физической антропологии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Picture 4" descr="j0222015"/>
          <p:cNvPicPr/>
          <p:nvPr/>
        </p:nvPicPr>
        <p:blipFill>
          <a:blip r:embed="rId1"/>
          <a:stretch/>
        </p:blipFill>
        <p:spPr>
          <a:xfrm>
            <a:off x="2771640" y="342900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35241"/>
          <p:cNvPicPr/>
          <p:nvPr/>
        </p:nvPicPr>
        <p:blipFill>
          <a:blip r:embed="rId2"/>
          <a:stretch/>
        </p:blipFill>
        <p:spPr>
          <a:xfrm>
            <a:off x="5940360" y="3716280"/>
            <a:ext cx="2808360" cy="14414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4859280" y="4005360"/>
            <a:ext cx="720720" cy="698400"/>
          </a:xfrm>
          <a:prstGeom prst="plus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едмет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экономической биологии человека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истема взаимосвязей между особенностями строения и функциями человеческого организма, с одной стороны, и социально-экономическими условиями жизнедеятельности и организации труда, с другой сторон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Задачи экономической биологии ─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196640"/>
            <a:ext cx="640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зучение: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ндивидуального развития организма с использованием законов экономики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зменений, которые происходят с человеком при переходе от нормального состояния к патологическому;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лияния экономических условий на здоровье и антропометрию человека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словий изменений организма в период активного роста и развития, остановки роста и «инволюции»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Инволюция»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(от лат.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volutio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– свертывание, упрощение)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процессы обратного развития, характеризующие процесс старени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7530"/>
          <a:stretch/>
        </p:blipFill>
        <p:spPr>
          <a:xfrm>
            <a:off x="5292720" y="3141720"/>
            <a:ext cx="25020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нципы экономической би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максимального результата»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«минимальных затрат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4" descr="j0149481"/>
          <p:cNvPicPr/>
          <p:nvPr/>
        </p:nvPicPr>
        <p:blipFill>
          <a:blip r:embed="rId1"/>
          <a:stretch/>
        </p:blipFill>
        <p:spPr>
          <a:xfrm>
            <a:off x="3492360" y="2924280"/>
            <a:ext cx="333072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11280" y="476280"/>
            <a:ext cx="6400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 животных, подвергнутых «низкокалорийной диете» с качественным набором питательных веществ (принцип «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аксимального результата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»), но с количественными ограничениями (принцип «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инимальных затрат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»), значительно увеличилась продолжительность жизни.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06:04Z</dcterms:created>
  <dc:creator>1</dc:creator>
  <dc:description/>
  <dc:language>en-US</dc:language>
  <cp:lastModifiedBy>Коля</cp:lastModifiedBy>
  <dcterms:modified xsi:type="dcterms:W3CDTF">2013-05-14T14:05:16Z</dcterms:modified>
  <cp:revision>8</cp:revision>
  <dc:subject/>
  <dc:title>Экономическая биология человека как наука</dc:title>
</cp:coreProperties>
</file>