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3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4D5-89EF-4DEE-A3B2-3E571860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908-55DF-46BD-9503-BC214DDE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DBE-AA72-4FC8-8ECC-7D68C830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7DE-4C60-4E76-94AC-31F42F69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AE91-3A6C-42F9-809D-FEDB0E14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A539-BFC4-47B1-AEB0-AC9267E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0329-6BD8-41BE-97A8-67762F39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FA5D-8794-4C97-A6B4-E50A8878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3835-1A76-4DD8-8C9E-12D618A3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CA7-C022-41F6-9781-FE1E6E60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40E5-FC6A-45E4-BD86-065383F6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E41-3F31-4C7F-A495-DC70C871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E454-F408-4920-A8AF-FFD3F9E5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E3C1-272F-48BF-BFC3-5758E20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9A34-DFE2-46CB-AC66-AC7E639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BCE-07F7-4F90-9129-68AF0BB0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1A90-FA14-4EC1-B3EA-7975C1AF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429-8D85-4BCF-8EB9-6C32131B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09D-5DF4-4F65-9C5A-CC34E87E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81B-0DF1-4A04-AD0A-8E5ECC69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F80-9924-4556-B628-A83F55C6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48F-A287-4603-8BCE-3DDDFFC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FCB-93E3-4DEF-A3C0-2519A542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955-E3F5-4D10-8EB5-7AA2954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6405b"/>
                </a:gs>
                <a:gs pos="100000">
                  <a:srgbClr val="538dc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0431-74CA-461C-BB1C-2467A8D53C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8B50-2ADE-4FE2-8B78-761D899EDBCB}" type="slidenum"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7846920" cy="244764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8f8f8"/>
                </a:solidFill>
                <a:latin typeface="Arial"/>
              </a:rPr>
              <a:t>Экономическая биология человека как наука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разделения труда и специализаци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8" name="Picture 4" descr="j0285410"/>
          <p:cNvPicPr/>
          <p:nvPr/>
        </p:nvPicPr>
        <p:blipFill>
          <a:blip r:embed="rId1"/>
          <a:stretch/>
        </p:blipFill>
        <p:spPr>
          <a:xfrm>
            <a:off x="4643280" y="479736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195812"/>
          <p:cNvPicPr/>
          <p:nvPr/>
        </p:nvPicPr>
        <p:blipFill>
          <a:blip r:embed="rId2"/>
          <a:stretch/>
        </p:blipFill>
        <p:spPr>
          <a:xfrm>
            <a:off x="6732720" y="4005360"/>
            <a:ext cx="1633320" cy="167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199549"/>
          <p:cNvPicPr/>
          <p:nvPr/>
        </p:nvPicPr>
        <p:blipFill>
          <a:blip r:embed="rId3"/>
          <a:stretch/>
        </p:blipFill>
        <p:spPr>
          <a:xfrm>
            <a:off x="2556000" y="4149720"/>
            <a:ext cx="16714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339640" y="260280"/>
            <a:ext cx="649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Эволюционно примитивные организмы имеют клетки с широким набором функций и не имеют дыхательной, кровеносной и нервной систем, тогда как у эволюционно продвинутых организмов имеются специализированные ткани и органы, дыхательная, кровеносная и нервная системы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взаимозависимости </a:t>
            </a:r>
            <a:br>
              <a:rPr sz="2800"/>
            </a:b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и сотрудничества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Picture 4" descr="j0233018"/>
          <p:cNvPicPr/>
          <p:nvPr/>
        </p:nvPicPr>
        <p:blipFill>
          <a:blip r:embed="rId1"/>
          <a:stretch/>
        </p:blipFill>
        <p:spPr>
          <a:xfrm>
            <a:off x="6516720" y="4221000"/>
            <a:ext cx="2362320" cy="23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627280" y="331560"/>
            <a:ext cx="6408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Кости выполняют пассивную функцию рычагов, а мышцы, сокращаясь, совершают работу и являются активной частью опорно-двигательного аппарата. Их функционирование и развитие тесно связано друг с другом  и невозможно без активного участия нервной и сердечно-сосудистой систем.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взаимозависимости и сотрудничества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спроса и предложения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2556000" y="4828320"/>
            <a:ext cx="6266520" cy="1917360"/>
            <a:chOff x="2556000" y="4828320"/>
            <a:chExt cx="6266520" cy="1917360"/>
          </a:xfrm>
        </p:grpSpPr>
        <p:pic>
          <p:nvPicPr>
            <p:cNvPr id="119" name="Picture 4" descr="j0221903"/>
            <p:cNvPicPr/>
            <p:nvPr/>
          </p:nvPicPr>
          <p:blipFill>
            <a:blip r:embed="rId1"/>
            <a:srcRect l="0" t="0" r="0" b="41474"/>
            <a:stretch/>
          </p:blipFill>
          <p:spPr>
            <a:xfrm>
              <a:off x="2556000" y="5084640"/>
              <a:ext cx="19447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j0183168"/>
            <p:cNvPicPr/>
            <p:nvPr/>
          </p:nvPicPr>
          <p:blipFill>
            <a:blip r:embed="rId2"/>
            <a:stretch/>
          </p:blipFill>
          <p:spPr>
            <a:xfrm>
              <a:off x="5724720" y="5156280"/>
              <a:ext cx="79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j0251871"/>
            <p:cNvPicPr/>
            <p:nvPr/>
          </p:nvPicPr>
          <p:blipFill>
            <a:blip r:embed="rId3"/>
            <a:stretch/>
          </p:blipFill>
          <p:spPr>
            <a:xfrm rot="20697600">
              <a:off x="6516720" y="5084280"/>
              <a:ext cx="21603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j0221903"/>
            <p:cNvPicPr/>
            <p:nvPr/>
          </p:nvPicPr>
          <p:blipFill>
            <a:blip r:embed="rId4"/>
            <a:srcRect l="59093" t="62201" r="0" b="0"/>
            <a:stretch/>
          </p:blipFill>
          <p:spPr>
            <a:xfrm>
              <a:off x="4716720" y="5877000"/>
              <a:ext cx="674640" cy="5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43280" y="331560"/>
            <a:ext cx="6192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Физическая активность скелетных мышц вызывает дефицит кислорода (спрос), а в ответ на это активизируется сердечная мышца и легкие, обеспечивающие поставку кислорода к тканям (предложение).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взаимозависимости и сотрудничества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спроса и предложения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экономической эффективност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Picture 4" descr="j0195384"/>
          <p:cNvPicPr/>
          <p:nvPr/>
        </p:nvPicPr>
        <p:blipFill>
          <a:blip r:embed="rId1"/>
          <a:stretch/>
        </p:blipFill>
        <p:spPr>
          <a:xfrm>
            <a:off x="7093080" y="2565360"/>
            <a:ext cx="179676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627280" y="331560"/>
            <a:ext cx="6408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В организме сначала с ростом и развитием органов и систем повышается его эффективность, максимум которой совпадает с периодом молодости. Когда рост и обновление организма становятся невозможны, исчезает гибкость регуляции и его эффективность падает.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6408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едставителей данного направления также волнуют следующие вопросы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95280" y="1699920"/>
            <a:ext cx="4941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как экономика влияет на физическое развитие человека, его рост, вес, заболеваемость?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как по антропометрическим данным (прежде всего по росту) можно оценить биологический статус, благосостояние и социальное неравенство в обществе?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0" name="Picture 4" descr="j0240719"/>
          <p:cNvPicPr/>
          <p:nvPr/>
        </p:nvPicPr>
        <p:blipFill>
          <a:blip r:embed="rId1"/>
          <a:stretch/>
        </p:blipFill>
        <p:spPr>
          <a:xfrm>
            <a:off x="7093080" y="2276640"/>
            <a:ext cx="18381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543720" cy="14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опросы для закрепления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1. Что изучает экономическая биология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. Какой год можно считать годом возникновения науки экономическая биология и почему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3. Какова цель экономической биологии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4. Какие принципы экономической биологии вы можете назвать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Цель урока: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формировать представление о экономической биологии как комплексной науке, ее предмете, задачах и принципах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 урок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обучающи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изучить цель, задачи и принципы экономической биологии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воспитательны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ценить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значимость данных экономической биологии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 решении социальных и медицинских проблем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развивающи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одолжить развитие интереса к изучаемому предмету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633744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«Э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ономическая биология человека»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─ новое направление в науке, возникшее на границе экономики, биологии человека, медицины и физической антропологии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" name="Picture 4" descr="j0222015"/>
          <p:cNvPicPr/>
          <p:nvPr/>
        </p:nvPicPr>
        <p:blipFill>
          <a:blip r:embed="rId1"/>
          <a:stretch/>
        </p:blipFill>
        <p:spPr>
          <a:xfrm>
            <a:off x="2771640" y="3429000"/>
            <a:ext cx="1781280" cy="1785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35241"/>
          <p:cNvPicPr/>
          <p:nvPr/>
        </p:nvPicPr>
        <p:blipFill>
          <a:blip r:embed="rId2"/>
          <a:stretch/>
        </p:blipFill>
        <p:spPr>
          <a:xfrm>
            <a:off x="5940360" y="3716280"/>
            <a:ext cx="2808360" cy="14414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4859280" y="4005360"/>
            <a:ext cx="720720" cy="698400"/>
          </a:xfrm>
          <a:prstGeom prst="plus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едмет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экономической биологии человека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истема взаимосвязей между особенностями строения и функциями человеческого организма, с одной стороны, и социально-экономическими условиями жизнедеятельности и организации труда, с другой стороны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Задачи экономической биологии ─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196640"/>
            <a:ext cx="6400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зучение: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ндивидуального развития организма с использованием законов экономики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зменений, которые происходят с человеком при переходе от нормального состояния к патологическому;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лияния экономических условий на здоровье и антропометрию человека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условий изменений организма в период активного роста и развития, остановки роста и «инволюции»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Инволюция»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(от лат.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volutio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– свертывание, упрощение)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процессы обратного развития, характеризующие процесс старени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7530"/>
          <a:stretch/>
        </p:blipFill>
        <p:spPr>
          <a:xfrm>
            <a:off x="5292720" y="3141720"/>
            <a:ext cx="25020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максимального результата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4" name="Picture 4" descr="j0149481"/>
          <p:cNvPicPr/>
          <p:nvPr/>
        </p:nvPicPr>
        <p:blipFill>
          <a:blip r:embed="rId1"/>
          <a:stretch/>
        </p:blipFill>
        <p:spPr>
          <a:xfrm>
            <a:off x="3492360" y="2924280"/>
            <a:ext cx="333072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11280" y="476280"/>
            <a:ext cx="6400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У животных, подвергнутых «низкокалорийной диете» с качественным набором питательных веществ (принцип «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аксимального результата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»), но с количественными ограничениями (принцип «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инимальных затрат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»), значительно увеличилась продолжительность жизни.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06:04Z</dcterms:created>
  <dc:creator>1</dc:creator>
  <dc:description/>
  <dc:language>en-US</dc:language>
  <cp:lastModifiedBy>Коля</cp:lastModifiedBy>
  <dcterms:modified xsi:type="dcterms:W3CDTF">2013-05-14T14:05:16Z</dcterms:modified>
  <cp:revision>8</cp:revision>
  <dc:subject/>
  <dc:title>Экономическая биология человека как наука</dc:title>
</cp:coreProperties>
</file>