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AAA-16A2-4C62-B042-8B1CAB3E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A7F-A53B-4964-BA9E-1A2D6D37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2B7-DDEF-4A6E-A11C-54817442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D47-11A6-4FDE-923E-F29EDF2D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01AB-CEFA-45BD-99C2-0A420E6E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285E-F8C1-4069-B475-70E855C2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666C-6D7B-4165-A0B7-5BB83EE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4D00-4ED6-44B1-9DEE-BEE4E40A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B6E2-4EFC-4398-92CC-E8FB2866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C0FD-A7E5-4803-96E6-F871FFB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6CAF-C4F6-4483-B37E-B307A1C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5AA-2271-476B-85D1-D90DEF15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705-F554-4016-8729-0095252C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647-2A51-4A10-8CE1-C510F2F0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81F-EB01-4B6D-BAC5-8993920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A910-333C-441F-8472-ECECB747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D7B-2DD0-4165-B3D9-BDB9F98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D9B-7DCC-4D5A-89C1-FE761B3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A77-2214-40B2-953C-2BBFB4A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794-4A70-4A72-9413-6415ED6E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950-B001-4293-9718-187876E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FCC-4B04-4B33-8225-0667D19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9C4-43AB-4713-93F6-3B71523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64C-E24B-489E-93C7-AF64376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EF12-6E44-4F1F-8680-06A1DC247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D0F6-EA20-4125-8190-136AD7F19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_2443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971640" y="2852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ские обра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1f497d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музы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1f497d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7" descr="i"/>
          <p:cNvPicPr/>
          <p:nvPr/>
        </p:nvPicPr>
        <p:blipFill>
          <a:blip r:embed="rId2"/>
          <a:stretch/>
        </p:blipFill>
        <p:spPr>
          <a:xfrm>
            <a:off x="6732720" y="260280"/>
            <a:ext cx="2087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Васнецов Добрыня и змей.jpg"/>
          <p:cNvPicPr/>
          <p:nvPr/>
        </p:nvPicPr>
        <p:blipFill>
          <a:blip r:embed="rId1"/>
          <a:stretch/>
        </p:blipFill>
        <p:spPr>
          <a:xfrm>
            <a:off x="3143160" y="571680"/>
            <a:ext cx="250848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Богатырь на коне.jpg"/>
          <p:cNvPicPr/>
          <p:nvPr/>
        </p:nvPicPr>
        <p:blipFill>
          <a:blip r:embed="rId2"/>
          <a:stretch/>
        </p:blipFill>
        <p:spPr>
          <a:xfrm>
            <a:off x="0" y="857160"/>
            <a:ext cx="34257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Богатырь5.jpg"/>
          <p:cNvPicPr/>
          <p:nvPr/>
        </p:nvPicPr>
        <p:blipFill>
          <a:blip r:embed="rId3"/>
          <a:stretch/>
        </p:blipFill>
        <p:spPr>
          <a:xfrm>
            <a:off x="5572080" y="857160"/>
            <a:ext cx="3571920" cy="2782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Богатыри4.jpg"/>
          <p:cNvPicPr/>
          <p:nvPr/>
        </p:nvPicPr>
        <p:blipFill>
          <a:blip r:embed="rId4"/>
          <a:stretch/>
        </p:blipFill>
        <p:spPr>
          <a:xfrm>
            <a:off x="4929120" y="3822840"/>
            <a:ext cx="4214880" cy="3035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Богатыри2.jpg"/>
          <p:cNvPicPr/>
          <p:nvPr/>
        </p:nvPicPr>
        <p:blipFill>
          <a:blip r:embed="rId5"/>
          <a:stretch/>
        </p:blipFill>
        <p:spPr>
          <a:xfrm>
            <a:off x="0" y="3763800"/>
            <a:ext cx="2357280" cy="3094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Богатыри.jpg"/>
          <p:cNvPicPr/>
          <p:nvPr/>
        </p:nvPicPr>
        <p:blipFill>
          <a:blip r:embed="rId6"/>
          <a:stretch/>
        </p:blipFill>
        <p:spPr>
          <a:xfrm>
            <a:off x="2428920" y="378612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28760" y="14288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f81bd"/>
                </a:solidFill>
                <a:uFillTx/>
                <a:latin typeface="Calibri"/>
              </a:rPr>
              <a:t>Богатыр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рой русских былин, совершающий воинские подви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 очень большой силы, стойкости, отваг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f81bd"/>
                </a:solidFill>
                <a:uFillTx/>
                <a:latin typeface="Calibri"/>
              </a:rPr>
              <a:t>Витяз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Древней Руси, отважный, доблестный во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16440" y="785880"/>
            <a:ext cx="75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олковый словарь Ожег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16 из 2527"/>
          <p:cNvPicPr/>
          <p:nvPr/>
        </p:nvPicPr>
        <p:blipFill>
          <a:blip r:embed="rId1"/>
          <a:stretch/>
        </p:blipFill>
        <p:spPr>
          <a:xfrm>
            <a:off x="142920" y="857160"/>
            <a:ext cx="3638520" cy="5705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000680" y="17146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ександр Прокофьевич Бород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33-1887гг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Васнецов 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42960" y="2000160"/>
            <a:ext cx="785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имфония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большое музыкальное произведение для симфонического оркест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а 8 из 139051"/>
          <p:cNvPicPr/>
          <p:nvPr/>
        </p:nvPicPr>
        <p:blipFill>
          <a:blip r:embed="rId1"/>
          <a:stretch/>
        </p:blipFill>
        <p:spPr>
          <a:xfrm>
            <a:off x="0" y="714240"/>
            <a:ext cx="55245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5500800" y="1000080"/>
            <a:ext cx="36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Богатырская» симф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Картинка 15 из 139051"/>
          <p:cNvPicPr/>
          <p:nvPr/>
        </p:nvPicPr>
        <p:blipFill>
          <a:blip r:embed="rId2"/>
          <a:srcRect l="0" t="0" r="0" b="25486"/>
          <a:stretch/>
        </p:blipFill>
        <p:spPr>
          <a:xfrm>
            <a:off x="5143680" y="292896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ртинка 12 из 975"/>
          <p:cNvPicPr/>
          <p:nvPr/>
        </p:nvPicPr>
        <p:blipFill>
          <a:blip r:embed="rId1"/>
          <a:stretch/>
        </p:blipFill>
        <p:spPr>
          <a:xfrm>
            <a:off x="0" y="54000"/>
            <a:ext cx="5000760" cy="6804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5000760" y="1714680"/>
            <a:ext cx="414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Песня о маленьком трубач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А невский центральная часть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Картинка 19 из 74482"/>
          <p:cNvPicPr/>
          <p:nvPr/>
        </p:nvPicPr>
        <p:blipFill>
          <a:blip r:embed="rId2"/>
          <a:srcRect l="0" t="0" r="0" b="12874"/>
          <a:stretch/>
        </p:blipFill>
        <p:spPr>
          <a:xfrm>
            <a:off x="4572000" y="0"/>
            <a:ext cx="371484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3929040" y="4572000"/>
            <a:ext cx="52149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ргей Прокоф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Александр Невск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а 3 из 25746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85 из 26597"/>
          <p:cNvPicPr/>
          <p:nvPr/>
        </p:nvPicPr>
        <p:blipFill>
          <a:blip r:embed="rId2"/>
          <a:stretch/>
        </p:blipFill>
        <p:spPr>
          <a:xfrm>
            <a:off x="0" y="-142920"/>
            <a:ext cx="3286080" cy="367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Картинка 274 из 26728"/>
          <p:cNvPicPr/>
          <p:nvPr/>
        </p:nvPicPr>
        <p:blipFill>
          <a:blip r:embed="rId3"/>
          <a:stretch/>
        </p:blipFill>
        <p:spPr>
          <a:xfrm>
            <a:off x="0" y="3429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429000" y="9288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Баллада о солдат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51:04Z</dcterms:created>
  <dc:creator>Admin</dc:creator>
  <dc:description/>
  <dc:language>en-US</dc:language>
  <cp:lastModifiedBy>Admin</cp:lastModifiedBy>
  <dcterms:modified xsi:type="dcterms:W3CDTF">2012-03-25T08:39:07Z</dcterms:modified>
  <cp:revision>13</cp:revision>
  <dc:subject/>
  <dc:title>Слайд 1</dc:title>
</cp:coreProperties>
</file>