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72D-F0D5-411E-AC5A-2C47C2C1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B3D-C547-45B2-8120-1C1B67A5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F01-4FDA-4339-AFA0-780DAF45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6C7-D1C3-419A-BF17-6120C8AA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353F-C0B5-4550-BC15-121B8309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8248-A564-445E-834F-913D41D8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BF7A-21A2-4AA1-B6A2-9A788756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39F3-2519-4019-AB1D-598F322A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2406-0F5C-4C4A-99C2-4C36344D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3C42-B63F-4A5C-8AB1-4014CF7B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E07E-D299-4CAB-BA99-5B5934C9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13E-50F7-4F44-99EC-7850DDD0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4C5B-589D-46F8-AC13-A3BEFE02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32E2-88CC-48B2-B14E-2F059BC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A1EA-0058-4504-B796-AC751C3F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8965-4DFC-4338-9870-10944328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DB66-7AE1-4DC7-B9D2-61256969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1AE-2CCE-42FD-9FE9-CBCE57AB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1AE-D964-409A-A443-A8A9025D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5D2-729A-480F-8A7C-A21482C5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E6C-649F-4A43-A975-3DF0374D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069-7F0C-4B15-915C-CB659A5B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8A1-D1E5-49D5-9FA0-EF8082DD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ED8-895D-4FDC-9EA0-099E0C9F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32D2-B713-4F71-ADA2-1AD0BE93EA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4F84-7526-40C0-B198-697ABAF8D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_24431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971640" y="285264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1f497d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атырские обра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1f497d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1f497d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1f497d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музык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1f497d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7" descr="i"/>
          <p:cNvPicPr/>
          <p:nvPr/>
        </p:nvPicPr>
        <p:blipFill>
          <a:blip r:embed="rId2"/>
          <a:stretch/>
        </p:blipFill>
        <p:spPr>
          <a:xfrm>
            <a:off x="6732720" y="260280"/>
            <a:ext cx="208728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Васнецов Добрыня и змей.jpg"/>
          <p:cNvPicPr/>
          <p:nvPr/>
        </p:nvPicPr>
        <p:blipFill>
          <a:blip r:embed="rId1"/>
          <a:stretch/>
        </p:blipFill>
        <p:spPr>
          <a:xfrm>
            <a:off x="3143160" y="571680"/>
            <a:ext cx="2508480" cy="3429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" descr="Богатырь на коне.jpg"/>
          <p:cNvPicPr/>
          <p:nvPr/>
        </p:nvPicPr>
        <p:blipFill>
          <a:blip r:embed="rId2"/>
          <a:stretch/>
        </p:blipFill>
        <p:spPr>
          <a:xfrm>
            <a:off x="0" y="857160"/>
            <a:ext cx="3425760" cy="2924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Богатырь5.jpg"/>
          <p:cNvPicPr/>
          <p:nvPr/>
        </p:nvPicPr>
        <p:blipFill>
          <a:blip r:embed="rId3"/>
          <a:stretch/>
        </p:blipFill>
        <p:spPr>
          <a:xfrm>
            <a:off x="5572080" y="857160"/>
            <a:ext cx="3571920" cy="27828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Богатыри4.jpg"/>
          <p:cNvPicPr/>
          <p:nvPr/>
        </p:nvPicPr>
        <p:blipFill>
          <a:blip r:embed="rId4"/>
          <a:stretch/>
        </p:blipFill>
        <p:spPr>
          <a:xfrm>
            <a:off x="4929120" y="3822840"/>
            <a:ext cx="4214880" cy="3035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Богатыри2.jpg"/>
          <p:cNvPicPr/>
          <p:nvPr/>
        </p:nvPicPr>
        <p:blipFill>
          <a:blip r:embed="rId5"/>
          <a:stretch/>
        </p:blipFill>
        <p:spPr>
          <a:xfrm>
            <a:off x="0" y="3763800"/>
            <a:ext cx="2357280" cy="30942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Богатыри.jpg"/>
          <p:cNvPicPr/>
          <p:nvPr/>
        </p:nvPicPr>
        <p:blipFill>
          <a:blip r:embed="rId6"/>
          <a:stretch/>
        </p:blipFill>
        <p:spPr>
          <a:xfrm>
            <a:off x="2428920" y="3786120"/>
            <a:ext cx="2428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428760" y="142884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f81bd"/>
                </a:solidFill>
                <a:uFillTx/>
                <a:latin typeface="Calibri"/>
              </a:rPr>
              <a:t>Богатыр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ерой русских былин, совершающий воинские подви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еловек очень большой силы, стойкости, отваг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f81bd"/>
                </a:solidFill>
                <a:uFillTx/>
                <a:latin typeface="Calibri"/>
              </a:rPr>
              <a:t>Витяз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Древней Руси, отважный, доблестный во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16440" y="785880"/>
            <a:ext cx="75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Толковый словарь Ожег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а 16 из 2527"/>
          <p:cNvPicPr/>
          <p:nvPr/>
        </p:nvPicPr>
        <p:blipFill>
          <a:blip r:embed="rId1"/>
          <a:stretch/>
        </p:blipFill>
        <p:spPr>
          <a:xfrm>
            <a:off x="142920" y="857160"/>
            <a:ext cx="3638520" cy="5705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4000680" y="17146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ександр Прокофьевич Бороди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1833-1887гг.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Васнецов 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642960" y="2000160"/>
            <a:ext cx="7858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имфония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большое музыкальное произведение для симфонического оркест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Картинка 8 из 139051"/>
          <p:cNvPicPr/>
          <p:nvPr/>
        </p:nvPicPr>
        <p:blipFill>
          <a:blip r:embed="rId1"/>
          <a:stretch/>
        </p:blipFill>
        <p:spPr>
          <a:xfrm>
            <a:off x="0" y="714240"/>
            <a:ext cx="55245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5500800" y="1000080"/>
            <a:ext cx="36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Богатырская» симфо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Картинка 15 из 139051"/>
          <p:cNvPicPr/>
          <p:nvPr/>
        </p:nvPicPr>
        <p:blipFill>
          <a:blip r:embed="rId2"/>
          <a:srcRect l="0" t="0" r="0" b="25486"/>
          <a:stretch/>
        </p:blipFill>
        <p:spPr>
          <a:xfrm>
            <a:off x="5143680" y="2928960"/>
            <a:ext cx="4000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Картинка 12 из 975"/>
          <p:cNvPicPr/>
          <p:nvPr/>
        </p:nvPicPr>
        <p:blipFill>
          <a:blip r:embed="rId1"/>
          <a:stretch/>
        </p:blipFill>
        <p:spPr>
          <a:xfrm>
            <a:off x="0" y="54000"/>
            <a:ext cx="5000760" cy="6804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5000760" y="1714680"/>
            <a:ext cx="414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«Песня о маленьком трубач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А невский центральная часть"/>
          <p:cNvPicPr/>
          <p:nvPr/>
        </p:nvPicPr>
        <p:blipFill>
          <a:blip r:embed="rId1"/>
          <a:stretch/>
        </p:blipFill>
        <p:spPr>
          <a:xfrm>
            <a:off x="0" y="0"/>
            <a:ext cx="39592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Картинка 19 из 74482"/>
          <p:cNvPicPr/>
          <p:nvPr/>
        </p:nvPicPr>
        <p:blipFill>
          <a:blip r:embed="rId2"/>
          <a:srcRect l="0" t="0" r="0" b="12874"/>
          <a:stretch/>
        </p:blipFill>
        <p:spPr>
          <a:xfrm>
            <a:off x="4572000" y="0"/>
            <a:ext cx="3714840" cy="435132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3929040" y="4572000"/>
            <a:ext cx="52149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ргей Прокофь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Александр Невски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Картинка 3 из 25746"/>
          <p:cNvPicPr/>
          <p:nvPr/>
        </p:nvPicPr>
        <p:blipFill>
          <a:blip r:embed="rId1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Картинка 85 из 26597"/>
          <p:cNvPicPr/>
          <p:nvPr/>
        </p:nvPicPr>
        <p:blipFill>
          <a:blip r:embed="rId2"/>
          <a:stretch/>
        </p:blipFill>
        <p:spPr>
          <a:xfrm>
            <a:off x="0" y="-142920"/>
            <a:ext cx="3286080" cy="367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Картинка 274 из 26728"/>
          <p:cNvPicPr/>
          <p:nvPr/>
        </p:nvPicPr>
        <p:blipFill>
          <a:blip r:embed="rId3"/>
          <a:stretch/>
        </p:blipFill>
        <p:spPr>
          <a:xfrm>
            <a:off x="0" y="34290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3429000" y="92880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Баллада о солдат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8:51:04Z</dcterms:created>
  <dc:creator>Admin</dc:creator>
  <dc:description/>
  <dc:language>en-US</dc:language>
  <cp:lastModifiedBy>Admin</cp:lastModifiedBy>
  <dcterms:modified xsi:type="dcterms:W3CDTF">2012-03-25T08:39:07Z</dcterms:modified>
  <cp:revision>13</cp:revision>
  <dc:subject/>
  <dc:title>Слайд 1</dc:title>
</cp:coreProperties>
</file>