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6674-DCF1-49A7-A544-7FE4D804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872D-071C-42EB-96B7-56C8AF77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A23-53C6-4C28-87A9-1C083A42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E226-B484-471D-AC1A-75F73AF4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A55F-F1B2-4E3D-8087-48E17FA6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9BB4-1AB5-44F7-8440-CAB7CCBB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A8E1-F73F-48D7-A931-87FA1A83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86ED-C19A-451C-A7EF-6D3E3974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AD2E-324E-4049-B467-0E1D033C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FB05-F7BC-4617-81E0-F97447B3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3860-E23B-40E5-AFD6-9EB3036F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95D-F623-4892-B1B7-AD243F08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62AD-B232-431C-8304-66B19932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3AB1-AD74-4CD3-838F-C971E21B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C088-077F-4089-AED4-A6E938CA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201E-7EFE-40D1-AC97-DCE88912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5B4C-F27A-4C55-8ED5-936CCE38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2B42-FB6A-478B-9018-05BAF426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E84B-31A1-4661-9F54-FF92AE27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097F-8F54-4D8A-809D-AA8E5DCC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DE98-B32C-4F88-9F0A-256D8EED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A0E-696A-4A86-86DA-16FA71AF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7FEB-5521-4A40-9613-7560AF45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AD4-F61A-4D13-BFB4-D138A860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9F01-425C-4FA2-9D3E-B7BED4A8AD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6CD8-B172-41C3-A11C-04C2D876DD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p_24431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>
            <a:off x="971640" y="2852640"/>
            <a:ext cx="7272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1f497d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гатырские образ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1f497d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1f497d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1f497d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музык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1f497d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7" descr="i"/>
          <p:cNvPicPr/>
          <p:nvPr/>
        </p:nvPicPr>
        <p:blipFill>
          <a:blip r:embed="rId2"/>
          <a:stretch/>
        </p:blipFill>
        <p:spPr>
          <a:xfrm>
            <a:off x="6732720" y="260280"/>
            <a:ext cx="208728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4" descr="Васнецов Добрыня и змей.jpg"/>
          <p:cNvPicPr/>
          <p:nvPr/>
        </p:nvPicPr>
        <p:blipFill>
          <a:blip r:embed="rId1"/>
          <a:stretch/>
        </p:blipFill>
        <p:spPr>
          <a:xfrm>
            <a:off x="3143160" y="571680"/>
            <a:ext cx="2508480" cy="3429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" descr="Богатырь на коне.jpg"/>
          <p:cNvPicPr/>
          <p:nvPr/>
        </p:nvPicPr>
        <p:blipFill>
          <a:blip r:embed="rId2"/>
          <a:stretch/>
        </p:blipFill>
        <p:spPr>
          <a:xfrm>
            <a:off x="0" y="857160"/>
            <a:ext cx="3425760" cy="29242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" descr="Богатырь5.jpg"/>
          <p:cNvPicPr/>
          <p:nvPr/>
        </p:nvPicPr>
        <p:blipFill>
          <a:blip r:embed="rId3"/>
          <a:stretch/>
        </p:blipFill>
        <p:spPr>
          <a:xfrm>
            <a:off x="5572080" y="857160"/>
            <a:ext cx="3571920" cy="27828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Богатыри4.jpg"/>
          <p:cNvPicPr/>
          <p:nvPr/>
        </p:nvPicPr>
        <p:blipFill>
          <a:blip r:embed="rId4"/>
          <a:stretch/>
        </p:blipFill>
        <p:spPr>
          <a:xfrm>
            <a:off x="4929120" y="3822840"/>
            <a:ext cx="4214880" cy="30351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" descr="Богатыри2.jpg"/>
          <p:cNvPicPr/>
          <p:nvPr/>
        </p:nvPicPr>
        <p:blipFill>
          <a:blip r:embed="rId5"/>
          <a:stretch/>
        </p:blipFill>
        <p:spPr>
          <a:xfrm>
            <a:off x="0" y="3763800"/>
            <a:ext cx="2357280" cy="30942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6" descr="Богатыри.jpg"/>
          <p:cNvPicPr/>
          <p:nvPr/>
        </p:nvPicPr>
        <p:blipFill>
          <a:blip r:embed="rId6"/>
          <a:stretch/>
        </p:blipFill>
        <p:spPr>
          <a:xfrm>
            <a:off x="2428920" y="3786120"/>
            <a:ext cx="2428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428760" y="142884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4f81bd"/>
                </a:solidFill>
                <a:uFillTx/>
                <a:latin typeface="Calibri"/>
              </a:rPr>
              <a:t>Богатыр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ерой русских былин, совершающий воинские подвиг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еловек очень большой силы, стойкости, отваг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4f81bd"/>
                </a:solidFill>
                <a:uFillTx/>
                <a:latin typeface="Calibri"/>
              </a:rPr>
              <a:t>Витяз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Древней Руси, отважный, доблестный во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16440" y="785880"/>
            <a:ext cx="75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Толковый словарь Ожег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Картинка 16 из 2527"/>
          <p:cNvPicPr/>
          <p:nvPr/>
        </p:nvPicPr>
        <p:blipFill>
          <a:blip r:embed="rId1"/>
          <a:stretch/>
        </p:blipFill>
        <p:spPr>
          <a:xfrm>
            <a:off x="142920" y="857160"/>
            <a:ext cx="3638520" cy="5705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4000680" y="1714680"/>
            <a:ext cx="457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лександр Прокофьевич Бороди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1833-1887гг.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Васнецов 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642960" y="2000160"/>
            <a:ext cx="7858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имфония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- большое музыкальное произведение для симфонического оркест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Картинка 8 из 139051"/>
          <p:cNvPicPr/>
          <p:nvPr/>
        </p:nvPicPr>
        <p:blipFill>
          <a:blip r:embed="rId1"/>
          <a:stretch/>
        </p:blipFill>
        <p:spPr>
          <a:xfrm>
            <a:off x="0" y="714240"/>
            <a:ext cx="552456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5500800" y="1000080"/>
            <a:ext cx="36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Богатырская» симфо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Картинка 15 из 139051"/>
          <p:cNvPicPr/>
          <p:nvPr/>
        </p:nvPicPr>
        <p:blipFill>
          <a:blip r:embed="rId2"/>
          <a:srcRect l="0" t="0" r="0" b="25486"/>
          <a:stretch/>
        </p:blipFill>
        <p:spPr>
          <a:xfrm>
            <a:off x="5143680" y="2928960"/>
            <a:ext cx="40003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Картинка 12 из 975"/>
          <p:cNvPicPr/>
          <p:nvPr/>
        </p:nvPicPr>
        <p:blipFill>
          <a:blip r:embed="rId1"/>
          <a:stretch/>
        </p:blipFill>
        <p:spPr>
          <a:xfrm>
            <a:off x="0" y="54000"/>
            <a:ext cx="5000760" cy="6804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5000760" y="1714680"/>
            <a:ext cx="414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«Песня о маленьком трубаче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А невский центральная часть"/>
          <p:cNvPicPr/>
          <p:nvPr/>
        </p:nvPicPr>
        <p:blipFill>
          <a:blip r:embed="rId1"/>
          <a:stretch/>
        </p:blipFill>
        <p:spPr>
          <a:xfrm>
            <a:off x="0" y="0"/>
            <a:ext cx="395928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Картинка 19 из 74482"/>
          <p:cNvPicPr/>
          <p:nvPr/>
        </p:nvPicPr>
        <p:blipFill>
          <a:blip r:embed="rId2"/>
          <a:srcRect l="0" t="0" r="0" b="12874"/>
          <a:stretch/>
        </p:blipFill>
        <p:spPr>
          <a:xfrm>
            <a:off x="4572000" y="0"/>
            <a:ext cx="3714840" cy="435132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3929040" y="4572000"/>
            <a:ext cx="521496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ргей Прокофь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Александр Невски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Картинка 3 из 25746"/>
          <p:cNvPicPr/>
          <p:nvPr/>
        </p:nvPicPr>
        <p:blipFill>
          <a:blip r:embed="rId1"/>
          <a:stretch/>
        </p:blipFill>
        <p:spPr>
          <a:xfrm>
            <a:off x="304812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Картинка 85 из 26597"/>
          <p:cNvPicPr/>
          <p:nvPr/>
        </p:nvPicPr>
        <p:blipFill>
          <a:blip r:embed="rId2"/>
          <a:stretch/>
        </p:blipFill>
        <p:spPr>
          <a:xfrm>
            <a:off x="0" y="-142920"/>
            <a:ext cx="3286080" cy="3675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Картинка 274 из 26728"/>
          <p:cNvPicPr/>
          <p:nvPr/>
        </p:nvPicPr>
        <p:blipFill>
          <a:blip r:embed="rId3"/>
          <a:stretch/>
        </p:blipFill>
        <p:spPr>
          <a:xfrm>
            <a:off x="0" y="3429000"/>
            <a:ext cx="3286080" cy="3429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3429000" y="928800"/>
            <a:ext cx="55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Баллада о солдат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8:51:04Z</dcterms:created>
  <dc:creator>Admin</dc:creator>
  <dc:description/>
  <dc:language>en-US</dc:language>
  <cp:lastModifiedBy>Admin</cp:lastModifiedBy>
  <dcterms:modified xsi:type="dcterms:W3CDTF">2012-03-25T08:39:07Z</dcterms:modified>
  <cp:revision>13</cp:revision>
  <dc:subject/>
  <dc:title>Слайд 1</dc:title>
</cp:coreProperties>
</file>