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6C9-09FD-4E62-B097-101F467A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4BC-D014-41A4-8FD9-F70ADEEB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B36-EABB-45EC-BAF0-F4AE11E3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B1E-B45F-4275-A22A-31D96E07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7419-3A33-4A1E-9AFB-DE3D6A39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0232-6013-4D7B-90C8-8320DF14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A745-64A8-4AE9-9E2F-E6298CDB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5544-3472-4E7A-94A6-4E580DF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1EBB-23DB-49AA-A81A-4B65A4C1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7921-62C4-40D5-9E29-30C8F111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9357-7970-4DE1-9547-4AB8667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863-EBFE-4374-9292-75B5066C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FCC3-784D-4B96-A62B-2B0A1E5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E7C9-544F-420F-847B-D36A225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43C7-4AF9-4311-8AED-EA7145B0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7875-2B2B-43DD-8ED6-85DAAC60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F516-A9B3-4D3E-B13E-D4AF3180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607-1AAE-44C6-A774-E523387C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D77-A9B0-4226-80A5-74C3B87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39B-D2B8-4ED0-B074-595BBC9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3D9-333B-479E-8E09-56D0161B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53B-DB4A-41D8-A453-18575F5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FE0-3EFF-4956-BC8E-34ED7F95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F4E-1D70-4FF7-B59D-9C67DC79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B1DA-2197-40BD-8711-1F5478ECDA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7E3D-8647-4C1D-AF35-7A02BD003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иссектриса уг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58687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класс           Лариса Анатольевна Байдулет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ОУ СОШ № 14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100000">
              <a:srgbClr val="ff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191120" y="228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УЧЕБ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14300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3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         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           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533520" y="1676520"/>
            <a:ext cx="2895480" cy="1295280"/>
            <a:chOff x="533520" y="1676520"/>
            <a:chExt cx="2895480" cy="1295280"/>
          </a:xfrm>
        </p:grpSpPr>
        <p:sp>
          <p:nvSpPr>
            <p:cNvPr id="157" name="Line 17"/>
            <p:cNvSpPr/>
            <p:nvPr/>
          </p:nvSpPr>
          <p:spPr>
            <a:xfrm>
              <a:off x="533520" y="2362320"/>
              <a:ext cx="28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1066680" y="1676520"/>
              <a:ext cx="19051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5335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18288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266688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053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Group 28"/>
          <p:cNvGrpSpPr/>
          <p:nvPr/>
        </p:nvGrpSpPr>
        <p:grpSpPr>
          <a:xfrm>
            <a:off x="4572000" y="1294920"/>
            <a:ext cx="2895480" cy="1752840"/>
            <a:chOff x="4572000" y="1294920"/>
            <a:chExt cx="2895480" cy="1752840"/>
          </a:xfrm>
        </p:grpSpPr>
        <p:sp>
          <p:nvSpPr>
            <p:cNvPr id="165" name="Line 26"/>
            <p:cNvSpPr/>
            <p:nvPr/>
          </p:nvSpPr>
          <p:spPr>
            <a:xfrm>
              <a:off x="4572000" y="2209680"/>
              <a:ext cx="28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7"/>
            <p:cNvSpPr/>
            <p:nvPr/>
          </p:nvSpPr>
          <p:spPr>
            <a:xfrm flipV="1">
              <a:off x="5638680" y="1294920"/>
              <a:ext cx="76212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7" name="Text Box 29"/>
          <p:cNvSpPr/>
          <p:nvPr/>
        </p:nvSpPr>
        <p:spPr>
          <a:xfrm>
            <a:off x="61722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548640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52578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601992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6324480" y="1752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34340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1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- 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= 10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10552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80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943600" y="236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85800" y="426708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40"/>
          <p:cNvSpPr/>
          <p:nvPr/>
        </p:nvSpPr>
        <p:spPr>
          <a:xfrm flipH="1" flipV="1">
            <a:off x="1142640" y="3733560"/>
            <a:ext cx="198108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3808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2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2209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18288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297180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44956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Ответ:15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, 2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, 15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10666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100000">
              <a:srgbClr val="ff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а  №53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64960" y="838080"/>
            <a:ext cx="7504200" cy="30387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 rot="19078800">
            <a:off x="655200" y="165528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биссектриса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4"/>
          <p:cNvSpPr/>
          <p:nvPr/>
        </p:nvSpPr>
        <p:spPr>
          <a:xfrm rot="19988400">
            <a:off x="3538080" y="1887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биссектриса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b8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Биссектриса угл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луч с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чалом в вершине угла, делящий угол на два равных уг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2743200" y="6172200"/>
                <a:ext cx="558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5"/>
          <p:cNvSpPr/>
          <p:nvPr/>
        </p:nvSpPr>
        <p:spPr>
          <a:xfrm flipH="1">
            <a:off x="2438280" y="3733920"/>
            <a:ext cx="2997360" cy="23241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2438280" y="5846400"/>
            <a:ext cx="3946680" cy="2113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2438280" y="4366800"/>
            <a:ext cx="4419720" cy="169092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8"/>
          <p:cNvSpPr/>
          <p:nvPr/>
        </p:nvSpPr>
        <p:spPr>
          <a:xfrm rot="20265600">
            <a:off x="4196160" y="4341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иссектри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495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05740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4771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17220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20040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ОВ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1"/>
              <p:cNvSpPr txBox="1"/>
              <p:nvPr/>
            </p:nvSpPr>
            <p:spPr>
              <a:xfrm>
                <a:off x="4038480" y="6172200"/>
                <a:ext cx="60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23"/>
          <p:cNvSpPr/>
          <p:nvPr/>
        </p:nvSpPr>
        <p:spPr>
          <a:xfrm>
            <a:off x="4556160" y="62136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Freeform 25"/>
          <p:cNvSpPr/>
          <p:nvPr/>
        </p:nvSpPr>
        <p:spPr>
          <a:xfrm>
            <a:off x="3505320" y="5257800"/>
            <a:ext cx="304560" cy="304920"/>
          </a:xfrm>
          <a:custGeom>
            <a:avLst/>
            <a:gdLst/>
            <a:ahLst/>
            <a:rect l="l" t="t" r="r" b="b"/>
            <a:pathLst>
              <a:path w="168" h="192">
                <a:moveTo>
                  <a:pt x="0" y="0"/>
                </a:moveTo>
                <a:cubicBezTo>
                  <a:pt x="60" y="8"/>
                  <a:pt x="120" y="16"/>
                  <a:pt x="144" y="48"/>
                </a:cubicBezTo>
                <a:cubicBezTo>
                  <a:pt x="168" y="80"/>
                  <a:pt x="156" y="136"/>
                  <a:pt x="144" y="19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Freeform 26"/>
          <p:cNvSpPr/>
          <p:nvPr/>
        </p:nvSpPr>
        <p:spPr>
          <a:xfrm>
            <a:off x="3809880" y="5562720"/>
            <a:ext cx="165240" cy="38088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0" y="0"/>
                </a:moveTo>
                <a:cubicBezTo>
                  <a:pt x="44" y="28"/>
                  <a:pt x="88" y="56"/>
                  <a:pt x="96" y="96"/>
                </a:cubicBezTo>
                <a:cubicBezTo>
                  <a:pt x="104" y="136"/>
                  <a:pt x="76" y="188"/>
                  <a:pt x="48" y="24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Задачи из сбор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1828800"/>
          <a:ext cx="7467480" cy="461484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46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Group 17"/>
          <p:cNvGrpSpPr/>
          <p:nvPr/>
        </p:nvGrpSpPr>
        <p:grpSpPr>
          <a:xfrm>
            <a:off x="838080" y="2590920"/>
            <a:ext cx="2971800" cy="2514600"/>
            <a:chOff x="838080" y="2590920"/>
            <a:chExt cx="2971800" cy="2514600"/>
          </a:xfrm>
        </p:grpSpPr>
        <p:sp>
          <p:nvSpPr>
            <p:cNvPr id="206" name="Line 14"/>
            <p:cNvSpPr/>
            <p:nvPr/>
          </p:nvSpPr>
          <p:spPr>
            <a:xfrm>
              <a:off x="838080" y="2590920"/>
              <a:ext cx="0" cy="2514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838080" y="5105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838080" y="3504960"/>
              <a:ext cx="2590920" cy="160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Text Box 18"/>
          <p:cNvSpPr/>
          <p:nvPr/>
        </p:nvSpPr>
        <p:spPr>
          <a:xfrm>
            <a:off x="990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5812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7339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762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362320" y="4572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0666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Х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5"/>
              <p:cNvSpPr txBox="1"/>
              <p:nvPr/>
            </p:nvSpPr>
            <p:spPr>
              <a:xfrm>
                <a:off x="4419720" y="5334120"/>
                <a:ext cx="5810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 Box 29"/>
          <p:cNvSpPr/>
          <p:nvPr/>
        </p:nvSpPr>
        <p:spPr>
          <a:xfrm>
            <a:off x="502920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С=4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1"/>
              <p:cNvSpPr txBox="1"/>
              <p:nvPr/>
            </p:nvSpPr>
            <p:spPr>
              <a:xfrm>
                <a:off x="4343400" y="5867280"/>
                <a:ext cx="91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Text Box 34"/>
          <p:cNvSpPr/>
          <p:nvPr/>
        </p:nvSpPr>
        <p:spPr>
          <a:xfrm>
            <a:off x="487692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ОМ = 4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 5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609480" y="1295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9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70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пробуй решить са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0880" y="1066680"/>
          <a:ext cx="7772400" cy="4343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1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7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8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9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0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"/>
          <p:cNvSpPr/>
          <p:nvPr/>
        </p:nvSpPr>
        <p:spPr>
          <a:xfrm>
            <a:off x="8380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83808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21"/>
          <p:cNvSpPr/>
          <p:nvPr/>
        </p:nvSpPr>
        <p:spPr>
          <a:xfrm flipV="1">
            <a:off x="838080" y="1676520"/>
            <a:ext cx="10670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9144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1523880" y="2438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457200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457200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457200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4724280" y="2133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5562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9"/>
          <p:cNvSpPr/>
          <p:nvPr/>
        </p:nvSpPr>
        <p:spPr>
          <a:xfrm>
            <a:off x="609480" y="5029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30"/>
          <p:cNvSpPr/>
          <p:nvPr/>
        </p:nvSpPr>
        <p:spPr>
          <a:xfrm flipV="1">
            <a:off x="2057400" y="388584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25146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1066680" y="4648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+3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33"/>
          <p:cNvSpPr/>
          <p:nvPr/>
        </p:nvSpPr>
        <p:spPr>
          <a:xfrm>
            <a:off x="4495680" y="49528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5029200" y="38098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49528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601992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2133720" y="571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уй мои подсказки смотри образец оформления на предыдущем слайде. УДАЧИ !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/>
        </a:graphic>
      </p:graphicFrame>
      <p:sp>
        <p:nvSpPr>
          <p:cNvPr id="243" name="Прямоугольник 3"/>
          <p:cNvSpPr/>
          <p:nvPr/>
        </p:nvSpPr>
        <p:spPr>
          <a:xfrm>
            <a:off x="2286000" y="2247840"/>
            <a:ext cx="45720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х+10 = 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+10=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=90-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=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80: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9-17T11:08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