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D09-C1DF-4413-B213-78130100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691-6D8A-4AE1-A219-546798A6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865-6104-4C6B-BAD9-14BF020B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C13-0662-4D3E-A37A-323E24DD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EAD7-06B5-4E7F-BB69-15B8B369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DD68-2C80-4A44-A3AE-5210B7D1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C865-8941-4E0F-8E75-94A6CAFA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CD45-9093-42CF-89A4-77A56D7F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ECB7-365F-4AB3-A15B-E9173E45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7581-170A-4B6E-85FE-366C09AA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9372-AE55-4DCB-9DF2-781B7CE9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AD4-AC25-4972-9F30-78BCFBBA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346F-DDB7-4EFF-B189-63C65CFA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DC5F-2B95-415F-8434-695477B4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F2F-89FB-4C2F-A598-7D8E1112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C127-E9CB-4DF2-B319-D4D4E5EF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BD0B-BF96-4B69-9260-0530C12E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D4A5-C025-4FFD-B89E-A0BF693C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A04-6183-4226-BADD-DDCF586C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45A-9C0C-4E4D-B917-A7D860A2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1FA-CAF7-4F68-B101-02760BD4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F4C-E8CA-4EBC-A459-7DF8C917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2D6-F0EE-439A-B20A-4EDE23A4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438-AE45-424A-BA39-BE2452BD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9C1F-AB66-4E65-A22E-B72E9E42E7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25CD-6EB5-4A43-9F6A-EEE88FDC32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Биссектриса уг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58687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класс           Лариса Анатольевна Байдулет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ОУ СОШ № 14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47"/>
            </a:gs>
            <a:gs pos="100000">
              <a:srgbClr val="ff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191120" y="228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УЧЕБНИ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114300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3 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         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            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533520" y="1676520"/>
            <a:ext cx="2895480" cy="1295280"/>
            <a:chOff x="533520" y="1676520"/>
            <a:chExt cx="2895480" cy="1295280"/>
          </a:xfrm>
        </p:grpSpPr>
        <p:sp>
          <p:nvSpPr>
            <p:cNvPr id="157" name="Line 17"/>
            <p:cNvSpPr/>
            <p:nvPr/>
          </p:nvSpPr>
          <p:spPr>
            <a:xfrm>
              <a:off x="533520" y="2362320"/>
              <a:ext cx="289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1066680" y="1676520"/>
              <a:ext cx="19051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533520" y="2057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18288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266688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053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295280" y="2819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Group 28"/>
          <p:cNvGrpSpPr/>
          <p:nvPr/>
        </p:nvGrpSpPr>
        <p:grpSpPr>
          <a:xfrm>
            <a:off x="4572000" y="1294920"/>
            <a:ext cx="2895480" cy="1752840"/>
            <a:chOff x="4572000" y="1294920"/>
            <a:chExt cx="2895480" cy="1752840"/>
          </a:xfrm>
        </p:grpSpPr>
        <p:sp>
          <p:nvSpPr>
            <p:cNvPr id="165" name="Line 26"/>
            <p:cNvSpPr/>
            <p:nvPr/>
          </p:nvSpPr>
          <p:spPr>
            <a:xfrm>
              <a:off x="4572000" y="2209680"/>
              <a:ext cx="289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7"/>
            <p:cNvSpPr/>
            <p:nvPr/>
          </p:nvSpPr>
          <p:spPr>
            <a:xfrm flipV="1">
              <a:off x="5638680" y="1294920"/>
              <a:ext cx="762120" cy="17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7" name="Text Box 29"/>
          <p:cNvSpPr/>
          <p:nvPr/>
        </p:nvSpPr>
        <p:spPr>
          <a:xfrm>
            <a:off x="617220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8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30"/>
          <p:cNvSpPr/>
          <p:nvPr/>
        </p:nvSpPr>
        <p:spPr>
          <a:xfrm>
            <a:off x="548640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52578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601992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6324480" y="1752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434340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18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- 8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= 10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5105520" y="2362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80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5943600" y="236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685800" y="4267080"/>
            <a:ext cx="2895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40"/>
          <p:cNvSpPr/>
          <p:nvPr/>
        </p:nvSpPr>
        <p:spPr>
          <a:xfrm flipH="1" flipV="1">
            <a:off x="1142640" y="3733560"/>
            <a:ext cx="198108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1"/>
          <p:cNvSpPr/>
          <p:nvPr/>
        </p:nvSpPr>
        <p:spPr>
          <a:xfrm>
            <a:off x="83808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2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2"/>
          <p:cNvSpPr/>
          <p:nvPr/>
        </p:nvSpPr>
        <p:spPr>
          <a:xfrm>
            <a:off x="2209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3"/>
          <p:cNvSpPr/>
          <p:nvPr/>
        </p:nvSpPr>
        <p:spPr>
          <a:xfrm>
            <a:off x="182880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2971800" y="4343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4495680" y="3962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Ответ:15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, 2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r>
              <a:rPr b="1" lang="ru-RU" sz="1800" spc="-1" strike="noStrike">
                <a:solidFill>
                  <a:srgbClr val="ffef66"/>
                </a:solidFill>
                <a:latin typeface="Comic Sans MS"/>
              </a:rPr>
              <a:t>, 155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1066680" y="3886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ef66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2f47"/>
            </a:gs>
            <a:gs pos="100000">
              <a:srgbClr val="ff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дача  №53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64960" y="838080"/>
            <a:ext cx="7504200" cy="30387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 rot="19078800">
            <a:off x="655200" y="165528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биссектриса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4"/>
          <p:cNvSpPr/>
          <p:nvPr/>
        </p:nvSpPr>
        <p:spPr>
          <a:xfrm rot="19988400">
            <a:off x="3538080" y="1887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биссектриса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b8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Биссектриса угл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луч с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чалом в вершине угла, делящий угол на два равных угл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4"/>
              <p:cNvSpPr txBox="1"/>
              <p:nvPr/>
            </p:nvSpPr>
            <p:spPr>
              <a:xfrm>
                <a:off x="2743200" y="6172200"/>
                <a:ext cx="558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Line 5"/>
          <p:cNvSpPr/>
          <p:nvPr/>
        </p:nvSpPr>
        <p:spPr>
          <a:xfrm flipH="1">
            <a:off x="2438280" y="3733920"/>
            <a:ext cx="2997360" cy="23241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2438280" y="5846400"/>
            <a:ext cx="3946680" cy="2113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2438280" y="4366800"/>
            <a:ext cx="4419720" cy="1690920"/>
          </a:xfrm>
          <a:prstGeom prst="line">
            <a:avLst/>
          </a:prstGeom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8"/>
          <p:cNvSpPr/>
          <p:nvPr/>
        </p:nvSpPr>
        <p:spPr>
          <a:xfrm rot="20265600">
            <a:off x="4196160" y="4341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иссектри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4956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057400" y="5638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4771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17220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200400" y="624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ОВ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1"/>
              <p:cNvSpPr txBox="1"/>
              <p:nvPr/>
            </p:nvSpPr>
            <p:spPr>
              <a:xfrm>
                <a:off x="4038480" y="6172200"/>
                <a:ext cx="609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Text Box 23"/>
          <p:cNvSpPr/>
          <p:nvPr/>
        </p:nvSpPr>
        <p:spPr>
          <a:xfrm>
            <a:off x="4556160" y="62136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Freeform 25"/>
          <p:cNvSpPr/>
          <p:nvPr/>
        </p:nvSpPr>
        <p:spPr>
          <a:xfrm>
            <a:off x="3505320" y="5257800"/>
            <a:ext cx="304560" cy="304920"/>
          </a:xfrm>
          <a:custGeom>
            <a:avLst/>
            <a:gdLst/>
            <a:ahLst/>
            <a:rect l="l" t="t" r="r" b="b"/>
            <a:pathLst>
              <a:path w="168" h="192">
                <a:moveTo>
                  <a:pt x="0" y="0"/>
                </a:moveTo>
                <a:cubicBezTo>
                  <a:pt x="60" y="8"/>
                  <a:pt x="120" y="16"/>
                  <a:pt x="144" y="48"/>
                </a:cubicBezTo>
                <a:cubicBezTo>
                  <a:pt x="168" y="80"/>
                  <a:pt x="156" y="136"/>
                  <a:pt x="144" y="19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Freeform 26"/>
          <p:cNvSpPr/>
          <p:nvPr/>
        </p:nvSpPr>
        <p:spPr>
          <a:xfrm>
            <a:off x="3809880" y="5562720"/>
            <a:ext cx="165240" cy="380880"/>
          </a:xfrm>
          <a:custGeom>
            <a:avLst/>
            <a:gdLst/>
            <a:ahLst/>
            <a:rect l="l" t="t" r="r" b="b"/>
            <a:pathLst>
              <a:path w="104" h="240">
                <a:moveTo>
                  <a:pt x="0" y="0"/>
                </a:moveTo>
                <a:cubicBezTo>
                  <a:pt x="44" y="28"/>
                  <a:pt x="88" y="56"/>
                  <a:pt x="96" y="96"/>
                </a:cubicBezTo>
                <a:cubicBezTo>
                  <a:pt x="104" y="136"/>
                  <a:pt x="76" y="188"/>
                  <a:pt x="48" y="24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ffe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324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omic Sans MS"/>
              </a:rPr>
              <a:t>Задачи из сборн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1828800"/>
          <a:ext cx="7467480" cy="461484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461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Group 17"/>
          <p:cNvGrpSpPr/>
          <p:nvPr/>
        </p:nvGrpSpPr>
        <p:grpSpPr>
          <a:xfrm>
            <a:off x="838080" y="2590920"/>
            <a:ext cx="2971800" cy="2514600"/>
            <a:chOff x="838080" y="2590920"/>
            <a:chExt cx="2971800" cy="2514600"/>
          </a:xfrm>
        </p:grpSpPr>
        <p:sp>
          <p:nvSpPr>
            <p:cNvPr id="206" name="Line 14"/>
            <p:cNvSpPr/>
            <p:nvPr/>
          </p:nvSpPr>
          <p:spPr>
            <a:xfrm>
              <a:off x="838080" y="2590920"/>
              <a:ext cx="0" cy="2514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838080" y="5105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 flipV="1">
              <a:off x="838080" y="3504960"/>
              <a:ext cx="2590920" cy="1600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Text Box 18"/>
          <p:cNvSpPr/>
          <p:nvPr/>
        </p:nvSpPr>
        <p:spPr>
          <a:xfrm>
            <a:off x="9907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5812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3733920" y="5257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762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362320" y="4572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10666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Х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5"/>
              <p:cNvSpPr txBox="1"/>
              <p:nvPr/>
            </p:nvSpPr>
            <p:spPr>
              <a:xfrm>
                <a:off x="4419720" y="5334120"/>
                <a:ext cx="5810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Text Box 29"/>
          <p:cNvSpPr/>
          <p:nvPr/>
        </p:nvSpPr>
        <p:spPr>
          <a:xfrm>
            <a:off x="5029200" y="5410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С=4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1"/>
              <p:cNvSpPr txBox="1"/>
              <p:nvPr/>
            </p:nvSpPr>
            <p:spPr>
              <a:xfrm>
                <a:off x="4343400" y="5867280"/>
                <a:ext cx="91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Text Box 34"/>
          <p:cNvSpPr/>
          <p:nvPr/>
        </p:nvSpPr>
        <p:spPr>
          <a:xfrm>
            <a:off x="487692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ОМ = 4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= 5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609480" y="1295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9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70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пробуй решить са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80880" y="1066680"/>
          <a:ext cx="7772400" cy="4343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1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7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8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99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00 (С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Line 19"/>
          <p:cNvSpPr/>
          <p:nvPr/>
        </p:nvSpPr>
        <p:spPr>
          <a:xfrm>
            <a:off x="838080" y="1600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20"/>
          <p:cNvSpPr/>
          <p:nvPr/>
        </p:nvSpPr>
        <p:spPr>
          <a:xfrm>
            <a:off x="838080" y="3048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21"/>
          <p:cNvSpPr/>
          <p:nvPr/>
        </p:nvSpPr>
        <p:spPr>
          <a:xfrm flipV="1">
            <a:off x="838080" y="1676520"/>
            <a:ext cx="10670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22"/>
          <p:cNvSpPr/>
          <p:nvPr/>
        </p:nvSpPr>
        <p:spPr>
          <a:xfrm>
            <a:off x="9144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1523880" y="2438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+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4572000" y="1600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4572000" y="3124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457200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4724280" y="2133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5562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29"/>
          <p:cNvSpPr/>
          <p:nvPr/>
        </p:nvSpPr>
        <p:spPr>
          <a:xfrm>
            <a:off x="609480" y="5029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30"/>
          <p:cNvSpPr/>
          <p:nvPr/>
        </p:nvSpPr>
        <p:spPr>
          <a:xfrm flipV="1">
            <a:off x="2057400" y="388584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25146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1066680" y="4648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+3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33"/>
          <p:cNvSpPr/>
          <p:nvPr/>
        </p:nvSpPr>
        <p:spPr>
          <a:xfrm>
            <a:off x="4495680" y="49528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34"/>
          <p:cNvSpPr/>
          <p:nvPr/>
        </p:nvSpPr>
        <p:spPr>
          <a:xfrm>
            <a:off x="5029200" y="380988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495288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6"/>
          <p:cNvSpPr/>
          <p:nvPr/>
        </p:nvSpPr>
        <p:spPr>
          <a:xfrm>
            <a:off x="601992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+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2133720" y="571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ользуй мои подсказки смотри образец оформления на предыдущем слайде. УДАЧИ !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/>
        </a:graphic>
      </p:graphicFrame>
      <p:sp>
        <p:nvSpPr>
          <p:cNvPr id="243" name="Прямоугольник 3"/>
          <p:cNvSpPr/>
          <p:nvPr/>
        </p:nvSpPr>
        <p:spPr>
          <a:xfrm>
            <a:off x="2286000" y="2247840"/>
            <a:ext cx="45720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+х+10 = 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+10=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=90-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х=8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80: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9-17T11:08:5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