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C22-7B10-480F-9A73-8D9DF67B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187-AF2F-4C49-926B-1A16164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EB6-59D2-441B-BAF1-AA6725A0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B6B-7737-4DD4-8DA4-41BBAAB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78F9C-0817-417E-90AD-943A9377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E1EE7-9108-4E55-8312-44551DC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482CF-854E-43CA-9456-D971B1C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06309-80BB-43B6-87B9-AC33E72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D106C-DEBB-4D6C-A10C-F56FF62B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75D4E-3D9E-4194-985B-0DE3444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DEC15-2912-4F91-AB4B-A811472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2BA-A745-45BE-8EF3-E7FD0B5B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C395D-092C-4F27-AC1B-4E1B5F61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F30E-C3BA-451A-972E-4B08B36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CC5D-FD20-4BB1-B356-16F60894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B9CF-ED3D-45D3-9E0F-0F590770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894DE-A445-4700-ACA2-15E8A6E1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17B4C-AE4E-4854-B5BF-AD4BD0E7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DBA5-A1AD-416A-835C-6FF768D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5731-5C24-475C-BA77-1AD413B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9682-E348-4001-8952-48D7C9D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5F19-D5B1-49BC-AD42-713AF376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11D-B351-4C8B-A347-D3CF4DA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8FFF-78DF-4D9F-A645-21A3D960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D133-0AC0-46A6-B6BB-0F6BC69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DDBC-F7AB-4B13-AE44-1C27465B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9FA0-A538-47A9-981C-21CEB252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6888-7A3F-4691-AD2D-D90D3426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90EC-BE74-47AB-BDEC-A1F6672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E97D-3A94-4ED7-B666-B068058F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B2C7C-F64B-4A14-8551-0C4B7EEE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3F12-C7C3-4637-A701-A28FFC2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240A-526F-4B42-9EEC-DC25A83C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620-B55D-4E40-B21F-2676729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CD74-D3CF-4D17-AD62-AACC6DC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E7FB-E1C4-453A-BEF5-9A505A2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B87D-FB25-4045-AB0A-1E917B0C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AD2B-2993-4094-B7B1-E63C5F55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A714-D480-4AE2-921F-25C345D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7C1A-C70F-4068-91CC-4B887A8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A3CB-1B86-4502-8649-E79082E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6302-243A-4448-8AB5-84007ED0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77DC-5F1D-4B6C-8C29-365692AA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E9C-EBDE-4663-AD52-D7105B5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2E4-BC12-4FFA-8DA7-53A0C09C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791-3AAF-4033-A01D-7BD14AC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36E-890C-43E5-B90D-82B37940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D6E-7DAF-4F6C-9BD4-64FFB03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632-384C-4053-A895-F0297A7D7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0E96-9C10-4191-9B84-2758C74C49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44B-C09F-4692-BDDA-5BFD3957C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6550-7986-467B-8DED-C529F17B22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00000" y="765000"/>
            <a:ext cx="748836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БАРДОВСКАЯ (АВТОРСКАЯ) ПЕСН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УРОК - КОНЦЕ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i?id=11275133&amp;tov=0"/>
          <p:cNvPicPr/>
          <p:nvPr/>
        </p:nvPicPr>
        <p:blipFill>
          <a:blip r:embed="rId2"/>
          <a:stretch/>
        </p:blipFill>
        <p:spPr>
          <a:xfrm>
            <a:off x="611280" y="2924280"/>
            <a:ext cx="2520720" cy="1873080"/>
          </a:xfrm>
          <a:prstGeom prst="rect">
            <a:avLst/>
          </a:prstGeom>
          <a:ln w="9360">
            <a:solidFill>
              <a:srgbClr val="f2aa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8fd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ждет современную популярную музыку, бардовскую песню в будущ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вариант – через много лет люди совсем забудут о бардовской песне, ее вытеснит современная популярная пес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2 вариант – Возрастет интерес к бардовской песне, ее будут слушать гораздо больше, чем современную популярную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3 вариант – другое м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i?id=36312786&amp;tov=5"/>
          <p:cNvPicPr/>
          <p:nvPr/>
        </p:nvPicPr>
        <p:blipFill>
          <a:blip r:embed="rId2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6372360" y="189000"/>
            <a:ext cx="2592360" cy="648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04000" y="476280"/>
            <a:ext cx="187164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ыл очень талантлив: актер, певец, прозаик, драматург, киносценарис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ал неугоден власти из – за своих остросатирических пес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н критиковал социальные устои общества. Вынужден был эмигрировать в Париж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116000" y="587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. ГАЛ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i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5435640" y="333360"/>
            <a:ext cx="3384360" cy="619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900000" y="59500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. Окудж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940360" y="836640"/>
            <a:ext cx="26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одолжил традиции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ека- дух декабристов, когда честь и достоинство были превыше всего. Главные темы его творчества – Любовь, Вера, Надежда. Его песни вселяют веру в торжество Добра и Справедлив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Vladimir_vysotsky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4716360" y="404640"/>
            <a:ext cx="4032360" cy="626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43480" y="49680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219640" y="50472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Владимир Высоц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и после смерти продолжает своим творчеством оказывать влияние на развитие бардовской пес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Его по праву назыв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сердцем» авторской пес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92200" y="589752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. Высоц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508720" y="260280"/>
            <a:ext cx="338436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i?id=10513283&amp;tov=6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5651640" y="836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Ю.М. Визбор родился в Москве, на Сретенке, учился в МГПИ, где ему было суждено стать основоположником своеобразной школы туристической и студенческой песни. Был одним из тех, кто основал радиостанцию “Юность”, выпустил звуковой журнал “Кругозор”. А такого вида радиожурналистики, как песни-репортажи, до него не существова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5640" y="5084640"/>
            <a:ext cx="3887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рий Виз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i?id=66637391&amp;tov=4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148360" y="260280"/>
            <a:ext cx="374472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508720" y="549360"/>
            <a:ext cx="2950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есни пишет с 1978. Начал выступать в составе дуэта вместе с Петром Старцевым. Песня «Как здорово, что все мы здесь сегодня собрались», с которой Митяев стал лауреатом Ильменского фестиваля (1978), является своеобразным гимном бардовского дви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826920" y="623736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лег Мит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580000" y="260280"/>
            <a:ext cx="3240000" cy="619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8" descr="фото РОЗЕНБАУМ Александр Яковлевич"/>
          <p:cNvPicPr/>
          <p:nvPr/>
        </p:nvPicPr>
        <p:blipFill>
          <a:blip r:embed="rId2"/>
          <a:stretch/>
        </p:blipFill>
        <p:spPr>
          <a:xfrm>
            <a:off x="0" y="0"/>
            <a:ext cx="52768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5867280" y="692280"/>
            <a:ext cx="273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не только поэт и исполнитель авторских песен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композитор. Мощное психологическое воздействие песен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Александр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достигается не только смыслом слов, но и ее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музыкальны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сопровождением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профессиональный артист эстрады и этим все сказа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i?id=40140908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189000"/>
            <a:ext cx="1223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24000" y="5950080"/>
            <a:ext cx="1223640" cy="7189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4000" y="2060640"/>
            <a:ext cx="1223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24000" y="3068640"/>
            <a:ext cx="122364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24000" y="4076640"/>
            <a:ext cx="122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24000" y="5013360"/>
            <a:ext cx="1223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24000" y="1125360"/>
            <a:ext cx="1223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763640" y="189000"/>
            <a:ext cx="691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1692360" y="126828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12400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ематика авторской песни красного цвета – героизм, гражданственность и средство их выра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763640" y="1125360"/>
            <a:ext cx="6912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2124000" y="119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оранжевого цвета в радуге: сила, добро, щедрость и свобода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835280" y="2133720"/>
            <a:ext cx="6840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763640" y="220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мечты, фантазии, стремление к новому, к неизвестному; романтика странствий в «жёлтых» песнях бар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1835280" y="3068640"/>
            <a:ext cx="691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1979640" y="306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еленый цвет в радуге: чувство любви к природе, ее красота. Это песни- картины, песни- раздумья, разговор с природ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763640" y="4076640"/>
            <a:ext cx="698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1979640" y="414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голубого цвета радуги: прозрачности любви, средства её выражения в бардовской пес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763640" y="5013360"/>
            <a:ext cx="6985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1979640" y="50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синего цвета в радуге: воспоминание, чувство тоски об ушедшем, о прошл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1763640" y="5950080"/>
            <a:ext cx="6985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979640" y="59500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еликая Отечественная война: «Никто не забыт, ничто не забыт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08:17Z</dcterms:modified>
  <cp:revision>46</cp:revision>
  <dc:subject/>
  <dc:title>PowerPoint Presentation</dc:title>
</cp:coreProperties>
</file>