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A78-B9C8-4A61-B9AD-7983F10E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EFE-0F76-4A1B-B9CC-32496A1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5B5-D8B1-4DFB-9DD7-64AC2ED0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E00-F4F2-4C93-AF11-5439A44F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8A566-DE40-4B94-89CE-2937FEBB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7379B-5A93-4BD0-A96A-9D4C0AEB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CFF15-2EBC-4515-896F-83A1E1C5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5A7DA-F75F-402F-ABCC-8E208A7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DE9C9-8434-42F5-BF4D-924F54AF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DE7BE-1ADA-4B57-AADA-C5D47EF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E3E2B-27B8-4E31-A314-C71F1DF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8DF-DC2B-4876-846F-243D5FA2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71460-8E07-46D4-BBAC-3D765FF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A10D-48E6-4BC9-895D-12E630F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37270-B388-44FE-A8FC-7E4C1CDA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7CA78-E38E-45A0-B632-A1076EBF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C2A7F-703A-4EFE-9978-70AFFDF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FF2E-4C2D-4878-9F9D-1925BACD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33C2C-656C-4803-A607-D7544CA3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59AE-D6F7-4F02-938F-B8DC435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9F02-C910-4A01-9AF3-EB82F78A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592D-85C2-4EE2-ABEA-862A054D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3E4-ED36-4673-9676-9C6A7214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103D9-7147-4433-B68C-DA98438B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3BF1-D38E-4775-B18A-E1EED77A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6F62-2252-4ED7-BD07-35CDA76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A5CA-3B67-4D68-8275-2F9ECF7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FAE2-5F51-462F-AA83-19F3389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C7EB-67CF-41DD-B7AA-14442E8B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B757-8EF2-48A3-A793-9E2C5548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BFCE-5C7C-451B-B928-59660DE2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27B9-C9EB-4FEF-A49E-3297CEA7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B9FD-6E99-490C-8D7E-2A444AD0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F4B-D993-4B94-95EC-2B2EF058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1E041-77FF-4400-89F9-DE6D8351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6F9D-31B6-4B01-B68C-6F730C33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1B04-570D-4F78-BC9F-D6641D99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37BC-7338-4DF8-B33C-2547D97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271D1-E1F1-4419-BA30-6437671F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5263-D4D9-4612-BA1D-222E9B9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1A168-84C4-4CB4-89ED-FE229682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39DE-CB91-40F9-8595-DD9CC7A8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17F6A-FEEA-4E70-962A-CA752DB9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9EE-8D12-4EC7-8B80-EA4B334A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507-2C46-4222-B6B0-6515BBEB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6F2-91EC-40C2-8B79-2099489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733-CFB1-4FAE-A0E8-6D6B842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A27-0A24-48BF-8682-8C005B8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1318-04D8-4B85-B026-754C281D24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DDA2-5CD7-4DD4-9379-09236ABE0B7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2ABA-6FB8-41AE-B25F-15CB4793A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25BB-4CD9-4BA6-868B-A7FF43F2DC6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00000" y="765000"/>
            <a:ext cx="748836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БАРДОВСКАЯ (АВТОРСКАЯ) ПЕСН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Monotype Corsiva"/>
              </a:rPr>
              <a:t>УРОК - КОНЦЕ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i?id=11275133&amp;tov=0"/>
          <p:cNvPicPr/>
          <p:nvPr/>
        </p:nvPicPr>
        <p:blipFill>
          <a:blip r:embed="rId2"/>
          <a:stretch/>
        </p:blipFill>
        <p:spPr>
          <a:xfrm>
            <a:off x="611280" y="2924280"/>
            <a:ext cx="2520720" cy="1873080"/>
          </a:xfrm>
          <a:prstGeom prst="rect">
            <a:avLst/>
          </a:prstGeom>
          <a:ln w="9360">
            <a:solidFill>
              <a:srgbClr val="f2aa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8fd2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Что ждет современную популярную музыку, бардовскую песню в будущ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1вариант – через много лет люди совсем забудут о бардовской песне, ее вытеснит современная популярная пес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2 вариант – Возрастет интерес к бардовской песне, ее будут слушать гораздо больше, чем современную популярную му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3 вариант – другое м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i?id=36312786&amp;tov=5"/>
          <p:cNvPicPr/>
          <p:nvPr/>
        </p:nvPicPr>
        <p:blipFill>
          <a:blip r:embed="rId2"/>
          <a:stretch/>
        </p:blipFill>
        <p:spPr>
          <a:xfrm>
            <a:off x="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6372360" y="189000"/>
            <a:ext cx="2592360" cy="648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804000" y="476280"/>
            <a:ext cx="187164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Был очень талантлив: актер, певец, прозаик, драматург, киносценарис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ал неугоден власти из – за своих остросатирических пес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н критиковал социальные устои общества. Вынужден был эмигрировать в Париж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116000" y="5877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. ГАЛ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5" descr="i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5435640" y="333360"/>
            <a:ext cx="3384360" cy="619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900000" y="59500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. Окудж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940360" y="836640"/>
            <a:ext cx="26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одолжил традиции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ека- дух декабристов, когда честь и достоинство были превыше всего. Главные темы его творчества – Любовь, Вера, Надежда. Его песни вселяют веру в торжество Добра и Справедлив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Vladimir_vysotsky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4716360" y="404640"/>
            <a:ext cx="4032360" cy="626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43480" y="49680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219640" y="504720"/>
            <a:ext cx="331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Владимир Высоц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и после смерти продолжает своим творчеством оказывать влияние на развитие бардовской пес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Его по праву называ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Black"/>
              </a:rPr>
              <a:t>«сердцем» авторской пес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592200" y="589752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. Высоц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508720" y="260280"/>
            <a:ext cx="3384360" cy="633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i?id=10513283&amp;tov=6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5651640" y="836640"/>
            <a:ext cx="309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Ю.М. Визбор родился в Москве, на Сретенке, учился в МГПИ, где ему было суждено стать основоположником своеобразной школы туристической и студенческой песни. Был одним из тех, кто основал радиостанцию “Юность”, выпустил звуковой журнал “Кругозор”. А такого вида радиожурналистики, как песни-репортажи, до него не существова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755640" y="5084640"/>
            <a:ext cx="3887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Юрий Визб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i?id=66637391&amp;tov=4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5148360" y="260280"/>
            <a:ext cx="3744720" cy="633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5508720" y="549360"/>
            <a:ext cx="2950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есни пишет с 1978. Начал выступать в составе дуэта вместе с Петром Старцевым. Песня «Как здорово, что все мы здесь сегодня собрались», с которой Митяев стал лауреатом Ильменского фестиваля (1978), является своеобразным гимном бардовского дви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826920" y="623736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лег Мит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580000" y="260280"/>
            <a:ext cx="3240000" cy="6193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8" descr="фото РОЗЕНБАУМ Александр Яковлевич"/>
          <p:cNvPicPr/>
          <p:nvPr/>
        </p:nvPicPr>
        <p:blipFill>
          <a:blip r:embed="rId2"/>
          <a:stretch/>
        </p:blipFill>
        <p:spPr>
          <a:xfrm>
            <a:off x="0" y="0"/>
            <a:ext cx="52768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5867280" y="692280"/>
            <a:ext cx="273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не только поэт и исполнитель авторских песен.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композитор. Мощное психологическое воздействие песен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Александр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достигается не только смыслом слов, но и ее </a:t>
            </a:r>
            <a:r>
              <a:rPr b="0" lang="ru-RU" sz="2000" spc="-1" strike="noStrike" u="sng">
                <a:solidFill>
                  <a:srgbClr val="0000cc"/>
                </a:solidFill>
                <a:uFillTx/>
                <a:latin typeface="Times New Roman"/>
              </a:rPr>
              <a:t>музыкальны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сопровождением.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Розенбаум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 - профессиональный артист эстрады и этим все сказано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63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i?id=40140908&amp;tov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189000"/>
            <a:ext cx="1223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24000" y="5950080"/>
            <a:ext cx="1223640" cy="71892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24000" y="2060640"/>
            <a:ext cx="1223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24000" y="3068640"/>
            <a:ext cx="122364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324000" y="4076640"/>
            <a:ext cx="1223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324000" y="5013360"/>
            <a:ext cx="1223640" cy="72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24000" y="1125360"/>
            <a:ext cx="122364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763640" y="189000"/>
            <a:ext cx="691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1692360" y="126828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2124000" y="26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ематика авторской песни красного цвета – героизм, гражданственность и средство их выраж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1763640" y="1125360"/>
            <a:ext cx="6912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2124000" y="1197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оранжевого цвета в радуге: сила, добро, щедрость и свобода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1835280" y="2133720"/>
            <a:ext cx="6840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763640" y="2205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мечты, фантазии, стремление к новому, к неизвестному; романтика странствий в «жёлтых» песнях бар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1835280" y="3068640"/>
            <a:ext cx="6913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1979640" y="3068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Зеленый цвет в радуге: чувство любви к природе, ее красота. Это песни- картины, песни- раздумья, разговор с природ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1763640" y="4076640"/>
            <a:ext cx="698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1979640" y="4149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голубого цвета радуги: прозрачности любви, средства её выражения в бардовской пес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1763640" y="5013360"/>
            <a:ext cx="6985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1979640" y="50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нятие синего цвета в радуге: воспоминание, чувство тоски об ушедшем, о прошл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1763640" y="5950080"/>
            <a:ext cx="6985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1979640" y="59500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еликая Отечественная война: «Никто не забыт, ничто не забыто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08:17Z</dcterms:modified>
  <cp:revision>46</cp:revision>
  <dc:subject/>
  <dc:title>PowerPoint Presentation</dc:title>
</cp:coreProperties>
</file>