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799-E528-4000-ADF6-C5E31C05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C5F-F3F9-43FB-9739-64B3B456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ED6-6830-46C2-965C-0861F5D9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64E-D22D-4171-8940-A01A39D9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A4937-A420-4017-9BEF-B529FBB2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1AA6E-919D-4665-908E-973C2501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D1359-2E9E-48C4-BEAF-0F9B112D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852E8-2573-45E6-9803-C5A9196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EF2D-BAFD-446D-92BB-2766986F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B415-C005-459F-A13E-C577F474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593AF-0E44-45EF-927A-97FF94E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888-179E-4516-A924-95A4F565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7C8E4-D481-45F7-9868-01AD2FC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D5B8-4EF9-44CE-8949-9079E2D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FFA3-322F-4742-BF18-2E8C386B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3BAC-C3B7-4AD4-8A2C-FAE5A33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4A99-68CD-4BF6-BA51-4323668F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3E66-DB3E-4E4F-8039-761620F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8E04-8E9C-4DC8-8AB0-9ABCC3B7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DA76-0994-45F0-99DC-E7F0ACF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941E-8185-44A4-9C17-03255FC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A519-5B0E-4ECC-8E50-420CC79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3A7-8FAB-431A-AD90-7C83A10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A333-CBA5-4977-825E-DCF4008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59EC-DBFC-4696-ADC7-BAA447B3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166B-0850-444B-8677-621213D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2054-C1ED-4F7C-8E33-961925A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8D09-DA67-4456-9212-850E37A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63F5-031A-4961-A1F6-1D871D61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7013-B48E-4EF0-A4D4-33802DD0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8CB5-4296-493D-A67E-A97E5606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38BC-E296-42A1-AD99-29EE199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32FF-7A79-40A7-9D05-1DBF0CC8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B59-C7B7-4AE5-A016-8862AEB6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66D7-D75B-49B8-9CB8-16148A4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2031-59BC-423E-84DA-8E016DE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0A85-5042-4B92-BA5E-D1F425C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809B-FC30-45FB-95F3-A6DBEFD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5920-F4BA-41C8-A43D-2F49C0C8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0B86-5CBB-4ADC-87CF-498E0128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A7CB-FB61-4DA6-B02D-704F193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A63B-E0DC-4938-9AC1-47E21EF9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7BA6-8940-4BE2-B38F-B0ED73A7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DEA-3B8C-4BC5-B715-F61C9266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79F-681D-43E6-B502-76A0EF1B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BA0-2E30-4159-96B9-A9DB91D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7D3-BE9D-4A32-9ADA-C4A9607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B3D-EC82-4103-97E8-3CCBA69A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239A-C37F-4809-8C74-115FAC1C4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0E9-256C-44F2-A4AD-6C663696CCE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06E4-E324-4A1F-8008-DA939EB38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5E2-FDA8-4346-A309-2B34BF7FBBE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00000" y="765000"/>
            <a:ext cx="748836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БАРДОВСКАЯ (АВТОРСКАЯ) ПЕСН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УРОК - КОНЦЕ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i?id=11275133&amp;tov=0"/>
          <p:cNvPicPr/>
          <p:nvPr/>
        </p:nvPicPr>
        <p:blipFill>
          <a:blip r:embed="rId2"/>
          <a:stretch/>
        </p:blipFill>
        <p:spPr>
          <a:xfrm>
            <a:off x="611280" y="2924280"/>
            <a:ext cx="2520720" cy="1873080"/>
          </a:xfrm>
          <a:prstGeom prst="rect">
            <a:avLst/>
          </a:prstGeom>
          <a:ln w="9360">
            <a:solidFill>
              <a:srgbClr val="f2aa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8fd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ждет современную популярную музыку, бардовскую песню в будущ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вариант – через много лет люди совсем забудут о бардовской песне, ее вытеснит современная популярная пес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2 вариант – Возрастет интерес к бардовской песне, ее будут слушать гораздо больше, чем современную популярную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3 вариант – другое м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i?id=36312786&amp;tov=5"/>
          <p:cNvPicPr/>
          <p:nvPr/>
        </p:nvPicPr>
        <p:blipFill>
          <a:blip r:embed="rId2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6372360" y="189000"/>
            <a:ext cx="2592360" cy="648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04000" y="476280"/>
            <a:ext cx="187164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ыл очень талантлив: актер, певец, прозаик, драматург, киносценарис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ал неугоден власти из – за своих остросатирических пес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н критиковал социальные устои общества. Вынужден был эмигрировать в Париж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116000" y="587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. ГАЛ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i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5435640" y="333360"/>
            <a:ext cx="3384360" cy="619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900000" y="59500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. Окудж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940360" y="836640"/>
            <a:ext cx="26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одолжил традиции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ека- дух декабристов, когда честь и достоинство были превыше всего. Главные темы его творчества – Любовь, Вера, Надежда. Его песни вселяют веру в торжество Добра и Справедлив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Vladimir_vysotsky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4716360" y="404640"/>
            <a:ext cx="4032360" cy="626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43480" y="49680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219640" y="50472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Владимир Высоц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и после смерти продолжает своим творчеством оказывать влияние на развитие бардовской пес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Его по праву назыв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сердцем» авторской пес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92200" y="589752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. Высоц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508720" y="260280"/>
            <a:ext cx="338436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i?id=10513283&amp;tov=6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5651640" y="836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Ю.М. Визбор родился в Москве, на Сретенке, учился в МГПИ, где ему было суждено стать основоположником своеобразной школы туристической и студенческой песни. Был одним из тех, кто основал радиостанцию “Юность”, выпустил звуковой журнал “Кругозор”. А такого вида радиожурналистики, как песни-репортажи, до него не существова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5640" y="5084640"/>
            <a:ext cx="3887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рий Виз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i?id=66637391&amp;tov=4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148360" y="260280"/>
            <a:ext cx="374472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508720" y="549360"/>
            <a:ext cx="2950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есни пишет с 1978. Начал выступать в составе дуэта вместе с Петром Старцевым. Песня «Как здорово, что все мы здесь сегодня собрались», с которой Митяев стал лауреатом Ильменского фестиваля (1978), является своеобразным гимном бардовского дви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826920" y="623736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лег Мит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580000" y="260280"/>
            <a:ext cx="3240000" cy="619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8" descr="фото РОЗЕНБАУМ Александр Яковлевич"/>
          <p:cNvPicPr/>
          <p:nvPr/>
        </p:nvPicPr>
        <p:blipFill>
          <a:blip r:embed="rId2"/>
          <a:stretch/>
        </p:blipFill>
        <p:spPr>
          <a:xfrm>
            <a:off x="0" y="0"/>
            <a:ext cx="52768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5867280" y="692280"/>
            <a:ext cx="273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не только поэт и исполнитель авторских песен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композитор. Мощное психологическое воздействие песен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Александр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достигается не только смыслом слов, но и ее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музыкальны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сопровождением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профессиональный артист эстрады и этим все сказа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i?id=40140908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189000"/>
            <a:ext cx="1223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24000" y="5950080"/>
            <a:ext cx="1223640" cy="7189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4000" y="2060640"/>
            <a:ext cx="1223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24000" y="3068640"/>
            <a:ext cx="122364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24000" y="4076640"/>
            <a:ext cx="122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24000" y="5013360"/>
            <a:ext cx="1223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24000" y="1125360"/>
            <a:ext cx="1223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763640" y="189000"/>
            <a:ext cx="691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1692360" y="126828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12400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ематика авторской песни красного цвета – героизм, гражданственность и средство их выра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763640" y="1125360"/>
            <a:ext cx="6912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2124000" y="119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оранжевого цвета в радуге: сила, добро, щедрость и свобода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835280" y="2133720"/>
            <a:ext cx="6840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763640" y="220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мечты, фантазии, стремление к новому, к неизвестному; романтика странствий в «жёлтых» песнях бар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1835280" y="3068640"/>
            <a:ext cx="691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1979640" y="306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еленый цвет в радуге: чувство любви к природе, ее красота. Это песни- картины, песни- раздумья, разговор с природ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763640" y="4076640"/>
            <a:ext cx="698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1979640" y="414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голубого цвета радуги: прозрачности любви, средства её выражения в бардовской пес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763640" y="5013360"/>
            <a:ext cx="6985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1979640" y="50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синего цвета в радуге: воспоминание, чувство тоски об ушедшем, о прошл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1763640" y="5950080"/>
            <a:ext cx="6985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979640" y="59500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еликая Отечественная война: «Никто не забыт, ничто не забыт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08:17Z</dcterms:modified>
  <cp:revision>46</cp:revision>
  <dc:subject/>
  <dc:title>PowerPoint Presentation</dc:title>
</cp:coreProperties>
</file>