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526-B587-4DEE-AF5C-798A06BF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C119-F982-40EA-B5F6-89816FA4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AD3A-556B-4733-AE71-08395620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DDE-3351-42DB-8D6F-48C5AA3B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306E-9B09-48F0-8EFD-E5AB59B9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E93E-45E2-4FA2-B9C9-BFF7093A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8E46-1D51-4F1D-926C-A2F69830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87D9-80CC-41CA-A4FA-D32A4FC0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A322-EC9F-48BD-95D6-00289800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48EC-EE4B-4968-9CEE-FA3B9FC2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62D8-9E4D-4FA3-A237-E5470E4D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9A3-E96F-4CC7-840C-128B93E8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F85F-D3C5-4741-BCCC-F9F4FD03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41DD-6D93-4F0E-8638-665D812A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61E7-5323-4244-9FD4-7E96E98B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384D-B831-4AF8-B773-E5F9B4AB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F92B-46C3-4D54-8D6B-38745B78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96EBC-50CF-4376-A28D-9EA78C98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5F88E-50FE-4DC9-A3D7-ACA5375C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AFED3-FF2B-4266-9CDA-DD3B4BA1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7CDFE-093F-436A-A5F8-B8FF82DF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E8F58-9BC7-4EAC-B648-FE3D2A14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71E2-AF4C-4903-91D9-673067C5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8A8E6-0262-462B-9893-5A24B74F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E9DBD-5C36-4D3D-8E17-F606CBC5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1D431-EEFA-46B6-A394-100E3227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DCB99-8CB0-4B8A-BD95-FD274F8C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353639-957A-44D7-9900-BB86E9CA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A7F73-7EEE-4317-B60C-BBC966AA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A28AE-3A84-49EB-A9D9-7114DB0D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AE30-7F38-4F69-AF91-25E63D89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B111-FFD8-4A5B-8A00-693FE37C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D38-3C97-4ADA-8A88-CF135C33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AED-597C-4D4D-8B07-D7B7CB15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801D-EDAC-435F-A186-F37F649D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F3EF-EA86-4453-AEFF-3AD07DC1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423B-F1F1-4D3D-8E4A-C21901258D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443B-2EAC-4CDF-9663-DF782B8752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78A5-49E8-46FE-93D5-57486C41C42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АТЛАНТИЧЕСКИЙ </a:t>
            </a: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ОКЕ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076720" y="2781360"/>
            <a:ext cx="406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выполн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географ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Кулешовской СОШ №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тенко Галина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059280" y="551664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4"/>
          <p:cNvPicPr/>
          <p:nvPr/>
        </p:nvPicPr>
        <p:blipFill>
          <a:blip r:embed="rId1"/>
          <a:stretch/>
        </p:blipFill>
        <p:spPr>
          <a:xfrm>
            <a:off x="1547640" y="404640"/>
            <a:ext cx="727236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1640" y="190440"/>
            <a:ext cx="6769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Рельеф   д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Рельеф дна Атлантического океана"/>
          <p:cNvPicPr/>
          <p:nvPr/>
        </p:nvPicPr>
        <p:blipFill>
          <a:blip r:embed="rId1"/>
          <a:stretch/>
        </p:blipFill>
        <p:spPr>
          <a:xfrm>
            <a:off x="1547640" y="1052640"/>
            <a:ext cx="7345440" cy="5256000"/>
          </a:xfrm>
          <a:prstGeom prst="rect">
            <a:avLst/>
          </a:prstGeom>
          <a:ln w="0">
            <a:noFill/>
          </a:ln>
        </p:spPr>
      </p:pic>
      <p:pic>
        <p:nvPicPr>
          <p:cNvPr id="148" name="3_AT_REL.wav" descr=""/>
          <p:cNvPicPr/>
          <p:nvPr/>
        </p:nvPicPr>
        <p:blipFill>
          <a:blip r:embed="rId2"/>
          <a:stretch/>
        </p:blipFill>
        <p:spPr>
          <a:xfrm>
            <a:off x="824400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253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Рельеф   д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Рельеф дна океана"/>
          <p:cNvPicPr/>
          <p:nvPr/>
        </p:nvPicPr>
        <p:blipFill>
          <a:blip r:embed="rId1"/>
          <a:stretch/>
        </p:blipFill>
        <p:spPr>
          <a:xfrm>
            <a:off x="971640" y="1268280"/>
            <a:ext cx="727236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стория  исследования  оке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Исследования океана (I период)"/>
          <p:cNvPicPr/>
          <p:nvPr/>
        </p:nvPicPr>
        <p:blipFill>
          <a:blip r:embed="rId1"/>
          <a:stretch/>
        </p:blipFill>
        <p:spPr>
          <a:xfrm>
            <a:off x="1403280" y="1413000"/>
            <a:ext cx="7056360" cy="5111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1476360" y="40705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ери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608472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6131160" y="2635200"/>
            <a:ext cx="223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 тыс до н.э прибреж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репла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 flipV="1">
            <a:off x="4027320" y="3639240"/>
            <a:ext cx="108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3_AT_CEN.wav" descr=""/>
          <p:cNvPicPr/>
          <p:nvPr/>
        </p:nvPicPr>
        <p:blipFill>
          <a:blip r:embed="rId2"/>
          <a:stretch/>
        </p:blipFill>
        <p:spPr>
          <a:xfrm>
            <a:off x="68436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8" name="3_AT_RES.wav" descr=""/>
          <p:cNvPicPr/>
          <p:nvPr/>
        </p:nvPicPr>
        <p:blipFill>
          <a:blip r:embed="rId3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3816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0884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lang="ru-RU" sz="23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ru-RU" sz="2300" spc="-1" strike="noStrike">
                <a:solidFill>
                  <a:srgbClr val="ff3300"/>
                </a:solidFill>
                <a:latin typeface="Arial"/>
              </a:rPr>
              <a:t> период -  связан с изучением физических свойств     вод и глубин океан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Исследования океана (II период)"/>
          <p:cNvPicPr/>
          <p:nvPr/>
        </p:nvPicPr>
        <p:blipFill>
          <a:blip r:embed="rId1"/>
          <a:stretch/>
        </p:blipFill>
        <p:spPr>
          <a:xfrm>
            <a:off x="755640" y="141300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III-</a:t>
            </a:r>
            <a:r>
              <a:rPr b="1" lang="ru-RU" sz="2300" spc="-1" strike="noStrike">
                <a:solidFill>
                  <a:srgbClr val="ff3300"/>
                </a:solidFill>
                <a:latin typeface="Arial"/>
              </a:rPr>
              <a:t> период – отличается  проведением комплексных океанических экспедиц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Исследования океана (III период)"/>
          <p:cNvPicPr/>
          <p:nvPr/>
        </p:nvPicPr>
        <p:blipFill>
          <a:blip r:embed="rId1"/>
          <a:stretch/>
        </p:blipFill>
        <p:spPr>
          <a:xfrm>
            <a:off x="1619280" y="1484280"/>
            <a:ext cx="64962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Климат Атлантического океана"/>
          <p:cNvPicPr/>
          <p:nvPr/>
        </p:nvPicPr>
        <p:blipFill>
          <a:blip r:embed="rId1"/>
          <a:stretch/>
        </p:blipFill>
        <p:spPr>
          <a:xfrm>
            <a:off x="1440000" y="1341360"/>
            <a:ext cx="7019640" cy="5183280"/>
          </a:xfrm>
          <a:prstGeom prst="rect">
            <a:avLst/>
          </a:prstGeom>
          <a:ln w="0">
            <a:noFill/>
          </a:ln>
        </p:spPr>
      </p:pic>
      <p:pic>
        <p:nvPicPr>
          <p:cNvPr id="165" name="3_AT_CLI.wav" descr=""/>
          <p:cNvPicPr/>
          <p:nvPr/>
        </p:nvPicPr>
        <p:blipFill>
          <a:blip r:embed="rId2"/>
          <a:stretch/>
        </p:blipFill>
        <p:spPr>
          <a:xfrm>
            <a:off x="781200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20058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Те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Течения Атлантического океана"/>
          <p:cNvPicPr/>
          <p:nvPr/>
        </p:nvPicPr>
        <p:blipFill>
          <a:blip r:embed="rId1"/>
          <a:stretch/>
        </p:blipFill>
        <p:spPr>
          <a:xfrm>
            <a:off x="1116000" y="1341360"/>
            <a:ext cx="7272360" cy="4680000"/>
          </a:xfrm>
          <a:prstGeom prst="rect">
            <a:avLst/>
          </a:prstGeom>
          <a:ln w="0">
            <a:noFill/>
          </a:ln>
        </p:spPr>
      </p:pic>
      <p:pic>
        <p:nvPicPr>
          <p:cNvPr id="168" name="3_AT_CUR.wav" descr=""/>
          <p:cNvPicPr/>
          <p:nvPr/>
        </p:nvPicPr>
        <p:blipFill>
          <a:blip r:embed="rId2"/>
          <a:stretch/>
        </p:blipFill>
        <p:spPr>
          <a:xfrm>
            <a:off x="7596360" y="3933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1187280" y="602136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чения влияют и на ледовые услов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5468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собенность оке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Айсберг"/>
          <p:cNvPicPr/>
          <p:nvPr/>
        </p:nvPicPr>
        <p:blipFill>
          <a:blip r:embed="rId1"/>
          <a:stretch/>
        </p:blipFill>
        <p:spPr>
          <a:xfrm>
            <a:off x="324000" y="2708280"/>
            <a:ext cx="3816360" cy="3241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рроол"/>
          <p:cNvPicPr/>
          <p:nvPr/>
        </p:nvPicPr>
        <p:blipFill>
          <a:blip r:embed="rId2"/>
          <a:stretch/>
        </p:blipFill>
        <p:spPr>
          <a:xfrm>
            <a:off x="4427640" y="1484280"/>
            <a:ext cx="4105080" cy="3384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9"/>
          <p:cNvSpPr/>
          <p:nvPr/>
        </p:nvSpPr>
        <p:spPr>
          <a:xfrm>
            <a:off x="468360" y="1413000"/>
            <a:ext cx="3887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огочисленные айсберг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лавучий морской ле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4572000" y="530064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ды близ Гренландии опасны для судоход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рганическ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Органич"/>
          <p:cNvPicPr/>
          <p:nvPr/>
        </p:nvPicPr>
        <p:blipFill>
          <a:blip r:embed="rId1"/>
          <a:stretch/>
        </p:blipFill>
        <p:spPr>
          <a:xfrm>
            <a:off x="900000" y="1413000"/>
            <a:ext cx="7559640" cy="5111640"/>
          </a:xfrm>
          <a:prstGeom prst="rect">
            <a:avLst/>
          </a:prstGeom>
          <a:ln w="0">
            <a:noFill/>
          </a:ln>
        </p:spPr>
      </p:pic>
      <p:pic>
        <p:nvPicPr>
          <p:cNvPr id="177" name="3_AT_ORG.wav" descr=""/>
          <p:cNvPicPr/>
          <p:nvPr/>
        </p:nvPicPr>
        <p:blipFill>
          <a:blip r:embed="rId2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8910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2396160" y="84240"/>
            <a:ext cx="3519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Проверочный т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31840" y="692280"/>
            <a:ext cx="882000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 Острова Гавайи, Галапогос, Самоа имеют происхо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материковое      б) вулканическое    г) кораллов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2. Основной промысловый район Тихого океана – его . . .  Ча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С-В    б) Ц    в) С-З   г) 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ихий океан омывает берега всех материков за исключени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Африки    б) Евразии   в) Австралии   г) Антаркти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иболее разнообразным органическим миром в Тихом океа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характеризуется 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экваториальных и тропических ши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б) тропических  и  умеренных ши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) умеренных и арктических  ши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г) арктических и антарктических ши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з природных ресурсов Тихого океана  в настоящее время наиболе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спользую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 энергетические                   в)  вод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б)  минеральные                      г)  биолог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Дельфины"/>
          <p:cNvPicPr/>
          <p:nvPr/>
        </p:nvPicPr>
        <p:blipFill>
          <a:blip r:embed="rId1"/>
          <a:stretch/>
        </p:blipFill>
        <p:spPr>
          <a:xfrm>
            <a:off x="179280" y="189000"/>
            <a:ext cx="3889440" cy="3284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595080" y="24400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льф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6" descr="Рыба-молот"/>
          <p:cNvPicPr/>
          <p:nvPr/>
        </p:nvPicPr>
        <p:blipFill>
          <a:blip r:embed="rId2"/>
          <a:stretch/>
        </p:blipFill>
        <p:spPr>
          <a:xfrm>
            <a:off x="1332000" y="3357720"/>
            <a:ext cx="4390920" cy="3190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Рыба-шар"/>
          <p:cNvPicPr/>
          <p:nvPr/>
        </p:nvPicPr>
        <p:blipFill>
          <a:blip r:embed="rId3"/>
          <a:stretch/>
        </p:blipFill>
        <p:spPr>
          <a:xfrm>
            <a:off x="4211640" y="1125360"/>
            <a:ext cx="4449600" cy="35989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9"/>
          <p:cNvSpPr/>
          <p:nvPr/>
        </p:nvSpPr>
        <p:spPr>
          <a:xfrm>
            <a:off x="1763640" y="35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ыба-мол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4770000" y="42372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ыба-ш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00041155"/>
          <p:cNvPicPr/>
          <p:nvPr/>
        </p:nvPicPr>
        <p:blipFill>
          <a:blip r:embed="rId1"/>
          <a:stretch/>
        </p:blipFill>
        <p:spPr>
          <a:xfrm>
            <a:off x="395280" y="692280"/>
            <a:ext cx="3816360" cy="3168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Рыба-утюг"/>
          <p:cNvPicPr/>
          <p:nvPr/>
        </p:nvPicPr>
        <p:blipFill>
          <a:blip r:embed="rId2"/>
          <a:stretch/>
        </p:blipFill>
        <p:spPr>
          <a:xfrm>
            <a:off x="1908000" y="3357720"/>
            <a:ext cx="3961080" cy="33112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3"/>
          <p:cNvSpPr/>
          <p:nvPr/>
        </p:nvSpPr>
        <p:spPr>
          <a:xfrm>
            <a:off x="6519960" y="537372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ыба-утю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14" descr="Тюлень на солнце"/>
          <p:cNvPicPr/>
          <p:nvPr/>
        </p:nvPicPr>
        <p:blipFill>
          <a:blip r:embed="rId3"/>
          <a:stretch/>
        </p:blipFill>
        <p:spPr>
          <a:xfrm>
            <a:off x="4859280" y="907920"/>
            <a:ext cx="3816360" cy="3382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8"/>
          <p:cNvSpPr/>
          <p:nvPr/>
        </p:nvSpPr>
        <p:spPr>
          <a:xfrm>
            <a:off x="1935360" y="609300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ыба-утю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5076720" y="1700280"/>
            <a:ext cx="114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юл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539640" y="3284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як  трес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Альбатросы"/>
          <p:cNvPicPr/>
          <p:nvPr/>
        </p:nvPicPr>
        <p:blipFill>
          <a:blip r:embed="rId1"/>
          <a:stretch/>
        </p:blipFill>
        <p:spPr>
          <a:xfrm>
            <a:off x="179280" y="333360"/>
            <a:ext cx="4753080" cy="3456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34720" y="42372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ьбатро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6" descr="Императорские пингвины"/>
          <p:cNvPicPr/>
          <p:nvPr/>
        </p:nvPicPr>
        <p:blipFill>
          <a:blip r:embed="rId2"/>
          <a:stretch/>
        </p:blipFill>
        <p:spPr>
          <a:xfrm>
            <a:off x="4619520" y="1844640"/>
            <a:ext cx="4524480" cy="3672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Скат - обитатель глубин"/>
          <p:cNvPicPr/>
          <p:nvPr/>
        </p:nvPicPr>
        <p:blipFill>
          <a:blip r:embed="rId3"/>
          <a:stretch/>
        </p:blipFill>
        <p:spPr>
          <a:xfrm>
            <a:off x="1979640" y="3429000"/>
            <a:ext cx="4176720" cy="30686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1"/>
          <p:cNvSpPr/>
          <p:nvPr/>
        </p:nvSpPr>
        <p:spPr>
          <a:xfrm>
            <a:off x="1962000" y="373680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184800" y="1916280"/>
            <a:ext cx="29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ператорский пингв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190440"/>
            <a:ext cx="86043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Хозяйственная деятельность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Судоходство в Атлантическом океане"/>
          <p:cNvPicPr/>
          <p:nvPr/>
        </p:nvPicPr>
        <p:blipFill>
          <a:blip r:embed="rId1"/>
          <a:stretch/>
        </p:blipFill>
        <p:spPr>
          <a:xfrm>
            <a:off x="2124000" y="1557360"/>
            <a:ext cx="6769080" cy="50133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0" y="2368440"/>
            <a:ext cx="24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доходств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ажные мор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Рыболовство"/>
          <p:cNvPicPr/>
          <p:nvPr/>
        </p:nvPicPr>
        <p:blipFill>
          <a:blip r:embed="rId1"/>
          <a:stretch/>
        </p:blipFill>
        <p:spPr>
          <a:xfrm>
            <a:off x="4427640" y="2852640"/>
            <a:ext cx="4432320" cy="38102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9"/>
          <p:cNvSpPr/>
          <p:nvPr/>
        </p:nvSpPr>
        <p:spPr>
          <a:xfrm>
            <a:off x="5076720" y="321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болов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10" descr="Добыча нефти в океане"/>
          <p:cNvPicPr/>
          <p:nvPr/>
        </p:nvPicPr>
        <p:blipFill>
          <a:blip r:embed="rId2"/>
          <a:stretch/>
        </p:blipFill>
        <p:spPr>
          <a:xfrm>
            <a:off x="179280" y="260280"/>
            <a:ext cx="4537080" cy="468144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3"/>
          <p:cNvSpPr/>
          <p:nvPr/>
        </p:nvSpPr>
        <p:spPr>
          <a:xfrm>
            <a:off x="451080" y="352440"/>
            <a:ext cx="29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ыча нефти в оке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66"/>
                </a:solidFill>
                <a:latin typeface="Arial"/>
              </a:rPr>
              <a:t>Добыча полезных ископаемы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Полезные ископ"/>
          <p:cNvPicPr/>
          <p:nvPr/>
        </p:nvPicPr>
        <p:blipFill>
          <a:blip r:embed="rId1"/>
          <a:stretch/>
        </p:blipFill>
        <p:spPr>
          <a:xfrm>
            <a:off x="684360" y="1413000"/>
            <a:ext cx="7848360" cy="51116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3924360" y="3357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ф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4573800" y="37162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Г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4718160" y="4653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Алма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826920" y="268776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Arial"/>
              </a:rPr>
              <a:t>Фосфори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2556000" y="3860640"/>
            <a:ext cx="18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оло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2607480" y="436392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Arial"/>
              </a:rPr>
              <a:t>золо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8" descr="каспар"/>
          <p:cNvPicPr/>
          <p:nvPr/>
        </p:nvPicPr>
        <p:blipFill>
          <a:blip r:embed="rId1"/>
          <a:stretch/>
        </p:blipFill>
        <p:spPr>
          <a:xfrm>
            <a:off x="395280" y="836640"/>
            <a:ext cx="3922560" cy="3743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00041176"/>
          <p:cNvPicPr/>
          <p:nvPr/>
        </p:nvPicPr>
        <p:blipFill>
          <a:blip r:embed="rId2"/>
          <a:stretch/>
        </p:blipFill>
        <p:spPr>
          <a:xfrm>
            <a:off x="1547640" y="3500280"/>
            <a:ext cx="4104000" cy="3097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9" descr="00044181"/>
          <p:cNvPicPr/>
          <p:nvPr/>
        </p:nvPicPr>
        <p:blipFill>
          <a:blip r:embed="rId3"/>
          <a:stretch/>
        </p:blipFill>
        <p:spPr>
          <a:xfrm>
            <a:off x="4788000" y="1341360"/>
            <a:ext cx="3671640" cy="3888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2"/>
          <p:cNvSpPr/>
          <p:nvPr/>
        </p:nvSpPr>
        <p:spPr>
          <a:xfrm>
            <a:off x="468360" y="333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Экология Атлантического океана нарушае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4373640" y="5465880"/>
            <a:ext cx="31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5940360" y="566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грязнены воды, возду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  <a:ea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зовите в океане природные комплексы, в которых проявляется широтная зональность, и комплексы, образующие под влиянием су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1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ить на вопросы в конц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олнить таблицу ,добавив туда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меть пользоваться атла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Л.Е.Перлов «Дидактические карточки-задания по географии» к учебнику В. А. Коринской,  И.В Душиной,  В.А. Щенева «География –материков и океанов» для7-х классов, М.; Дрофа ,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Учебник для 7-х классов «География –материков и океанов» под редакцией  В. А. Коринской,  И.В Душиной,  В.А. Щенева, М.; Дрофа ,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икитиной Н.А «Поурочные разработки по географии . Материки, океаны, народы и страны, 7 класс.»,; М.: «Вако»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 Электронные наглядные пособия «География» 6-10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  Интернет: http://www.rnm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14120" y="307800"/>
            <a:ext cx="938916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6. Наиболее суровые климатические условия характерны для . . . ч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кеа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С    б) Ю     в)  З   г) 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сновные транспортные пути  проходят в . . .  частях  оке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С и В   б) С и З     в) Ю и В    г) Ю и 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8. В зимнее время  покрывается  льдом . . .   часть Индийского оке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а) С   б) Ц    в) Ю    г)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9. Рыболовство в Индийском океане развит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сильнее, чем в Тихом  и Атлантическом оке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б) сильнее, чем в Тих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о слабее 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чем  в Атлантическ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) Слабее, чем в Тихом, но сильнее, чем в Атлантическ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г) Слабее, чем в Тихом и Атлантическ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0. В Индийском океане находиться самый длинный проли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пролив Дрейка                         в) Магеллан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б) Мозамбикский                          г) Юкатан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равильные 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6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7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8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9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10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5-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правильных ответов 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7-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оценка  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9-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оценка  «5»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ЛОД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Происхождение океана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историческая справ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844640"/>
            <a:ext cx="403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редине мезозоя, примерно около 200 млн. лет назад Атлантического океана не существовало. В те времена Америка, Африка и , возможно, Антарктида составляли единый материк, а на месте Карибского моря была суш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8" descr="сканирование0004"/>
          <p:cNvPicPr/>
          <p:nvPr/>
        </p:nvPicPr>
        <p:blipFill>
          <a:blip r:embed="rId1"/>
          <a:stretch/>
        </p:blipFill>
        <p:spPr>
          <a:xfrm>
            <a:off x="539640" y="1989000"/>
            <a:ext cx="4319640" cy="3745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0"/>
          <p:cNvSpPr/>
          <p:nvPr/>
        </p:nvSpPr>
        <p:spPr>
          <a:xfrm>
            <a:off x="684360" y="6021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оло 200 млн .лет 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43588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юрское время материк раскололся под воздействием внутренних сил земли на отдельные плиты. Они начали движение в обе стороны от осевого раскола. 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3" descr="сканирование0002"/>
          <p:cNvPicPr/>
          <p:nvPr/>
        </p:nvPicPr>
        <p:blipFill>
          <a:blip r:embed="rId1"/>
          <a:stretch/>
        </p:blipFill>
        <p:spPr>
          <a:xfrm>
            <a:off x="395280" y="2276640"/>
            <a:ext cx="3960720" cy="3673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сканирование0001"/>
          <p:cNvPicPr/>
          <p:nvPr/>
        </p:nvPicPr>
        <p:blipFill>
          <a:blip r:embed="rId2"/>
          <a:stretch/>
        </p:blipFill>
        <p:spPr>
          <a:xfrm>
            <a:off x="4643280" y="2276640"/>
            <a:ext cx="4104000" cy="3671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7"/>
          <p:cNvSpPr/>
          <p:nvPr/>
        </p:nvSpPr>
        <p:spPr>
          <a:xfrm>
            <a:off x="4716360" y="602136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настоящее врем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468360" y="6021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5 млн лет 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start"/>
          <p:cNvPicPr/>
          <p:nvPr/>
        </p:nvPicPr>
        <p:blipFill>
          <a:blip r:embed="rId1"/>
          <a:stretch/>
        </p:blipFill>
        <p:spPr>
          <a:xfrm>
            <a:off x="900000" y="260280"/>
            <a:ext cx="7918560" cy="6408720"/>
          </a:xfrm>
          <a:prstGeom prst="rect">
            <a:avLst/>
          </a:prstGeom>
          <a:ln w="0">
            <a:noFill/>
          </a:ln>
        </p:spPr>
      </p:pic>
      <p:pic>
        <p:nvPicPr>
          <p:cNvPr id="142" name="3_AT_GEO.wav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312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2"/>
          <p:cNvPicPr/>
          <p:nvPr/>
        </p:nvPicPr>
        <p:blipFill>
          <a:blip r:embed="rId1"/>
          <a:stretch/>
        </p:blipFill>
        <p:spPr>
          <a:xfrm>
            <a:off x="1476360" y="692280"/>
            <a:ext cx="7343640" cy="59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3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7:03:26Z</dcterms:created>
  <dc:creator>Lera</dc:creator>
  <dc:description/>
  <dc:language>en-US</dc:language>
  <cp:lastModifiedBy>Настенко</cp:lastModifiedBy>
  <dcterms:modified xsi:type="dcterms:W3CDTF">2011-05-13T15:29:49Z</dcterms:modified>
  <cp:revision>19</cp:revision>
  <dc:subject/>
  <dc:title>АТЛАНТИЧЕСКИЙ  ОКЕАН</dc:title>
</cp:coreProperties>
</file>