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CC7-FAB5-4AFE-B8D5-B675FE3C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677-1122-4D72-86BC-240A8E3A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58E-9164-4EEC-82CC-13070D80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99F-7C5A-4609-962C-D8BBE084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606F-A6D7-4E0E-B8DF-87B922D2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55F-BA93-44F5-8CA5-EE83E27F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347-4151-47C6-A4F2-D968336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71F-ACF6-47D8-B80C-A76E4CB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C16-4A42-4BF9-AA72-55F7956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BCDB-F37D-4BED-93F6-291B9C7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A4C3-C137-457A-B698-56C9084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C70-33DD-4C60-9D3B-0271E10B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AF3E-84DE-4470-B58A-BFA234EE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DA13-04F7-47AA-BE9E-21C0ED44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A0B-C1E0-4DCA-A2A1-8ACDB54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F6E7-CCA6-4614-9FFF-5CB6C902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D19C-D879-4B8A-AC1E-5661BCBB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12324-CCFB-43F6-A4AA-98928B52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56A4F-AC29-439B-9F50-0CCC2146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EDD73-2B2B-455D-BBF8-BE1A0217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CEC17-96B7-4899-A492-29CE72F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062BE-17EB-4332-B23E-C847105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870-9697-43B1-96ED-19D30F0B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EDF11-D926-476A-8428-3EE83322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F1C94-A917-47C3-8336-8AFD37E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B370D-6B08-4106-BD2F-CC23D442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14113-76E5-4827-8BA6-1F73BDDC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86BE7-6ABB-4B65-A9C2-7B8183C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AB010-08A8-4991-AAE7-2782F6C1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5B6C1-C3B4-4CB9-B50E-197B3EAE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5F5-9E74-4A62-96FA-90AEE1A8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AF0-1EA7-47AB-A5C2-E0FCA58D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AFD-92D3-414C-81CB-7E254B51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F90-94B0-4034-8E1B-02CF200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429-1D5C-4668-BCEA-1008F18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0C4-3C88-4042-9479-252E01B7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11E6-D022-4244-8D8E-0A3950323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C93-A406-4850-84A7-4AF049455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42FD-E4E1-44BE-884F-1AC76239C2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ТЛАНТИЧЕСКИЙ 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076720" y="2781360"/>
            <a:ext cx="40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Кулешовской СОШ №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енко Гали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59280" y="551664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4"/>
          <p:cNvPicPr/>
          <p:nvPr/>
        </p:nvPicPr>
        <p:blipFill>
          <a:blip r:embed="rId1"/>
          <a:stretch/>
        </p:blipFill>
        <p:spPr>
          <a:xfrm>
            <a:off x="1547640" y="404640"/>
            <a:ext cx="7272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1640" y="190440"/>
            <a:ext cx="6769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льеф   д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Рельеф дна Атлантического океана"/>
          <p:cNvPicPr/>
          <p:nvPr/>
        </p:nvPicPr>
        <p:blipFill>
          <a:blip r:embed="rId1"/>
          <a:stretch/>
        </p:blipFill>
        <p:spPr>
          <a:xfrm>
            <a:off x="1547640" y="1052640"/>
            <a:ext cx="7345440" cy="5256000"/>
          </a:xfrm>
          <a:prstGeom prst="rect">
            <a:avLst/>
          </a:prstGeom>
          <a:ln w="0">
            <a:noFill/>
          </a:ln>
        </p:spPr>
      </p:pic>
      <p:pic>
        <p:nvPicPr>
          <p:cNvPr id="148" name="3_AT_REL.wav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253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льеф   д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Рельеф дна океана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стория  исследования 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Исследования океана (I период)"/>
          <p:cNvPicPr/>
          <p:nvPr/>
        </p:nvPicPr>
        <p:blipFill>
          <a:blip r:embed="rId1"/>
          <a:stretch/>
        </p:blipFill>
        <p:spPr>
          <a:xfrm>
            <a:off x="1403280" y="141300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476360" y="40705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08472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131160" y="263520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тыс до н.э прибреж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репла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 flipV="1">
            <a:off x="4027320" y="3639240"/>
            <a:ext cx="108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3_AT_CEN.wav" descr=""/>
          <p:cNvPicPr/>
          <p:nvPr/>
        </p:nvPicPr>
        <p:blipFill>
          <a:blip r:embed="rId2"/>
          <a:stretch/>
        </p:blipFill>
        <p:spPr>
          <a:xfrm>
            <a:off x="68436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3_AT_RES.wav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3816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88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период -  связан с изучением физических свойств     вод и глубин оке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Исследования океана (II период)"/>
          <p:cNvPicPr/>
          <p:nvPr/>
        </p:nvPicPr>
        <p:blipFill>
          <a:blip r:embed="rId1"/>
          <a:stretch/>
        </p:blipFill>
        <p:spPr>
          <a:xfrm>
            <a:off x="755640" y="141300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III-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период – отличается  проведением комплексных океанических экспедиц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Исследования океана (III период)"/>
          <p:cNvPicPr/>
          <p:nvPr/>
        </p:nvPicPr>
        <p:blipFill>
          <a:blip r:embed="rId1"/>
          <a:stretch/>
        </p:blipFill>
        <p:spPr>
          <a:xfrm>
            <a:off x="1619280" y="1484280"/>
            <a:ext cx="64962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лимат Атлантического океана"/>
          <p:cNvPicPr/>
          <p:nvPr/>
        </p:nvPicPr>
        <p:blipFill>
          <a:blip r:embed="rId1"/>
          <a:stretch/>
        </p:blipFill>
        <p:spPr>
          <a:xfrm>
            <a:off x="1440000" y="1341360"/>
            <a:ext cx="7019640" cy="5183280"/>
          </a:xfrm>
          <a:prstGeom prst="rect">
            <a:avLst/>
          </a:prstGeom>
          <a:ln w="0">
            <a:noFill/>
          </a:ln>
        </p:spPr>
      </p:pic>
      <p:pic>
        <p:nvPicPr>
          <p:cNvPr id="165" name="3_AT_CLI.wav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58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Те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Течения Атлантического океана"/>
          <p:cNvPicPr/>
          <p:nvPr/>
        </p:nvPicPr>
        <p:blipFill>
          <a:blip r:embed="rId1"/>
          <a:stretch/>
        </p:blipFill>
        <p:spPr>
          <a:xfrm>
            <a:off x="1116000" y="1341360"/>
            <a:ext cx="7272360" cy="4680000"/>
          </a:xfrm>
          <a:prstGeom prst="rect">
            <a:avLst/>
          </a:prstGeom>
          <a:ln w="0">
            <a:noFill/>
          </a:ln>
        </p:spPr>
      </p:pic>
      <p:pic>
        <p:nvPicPr>
          <p:cNvPr id="168" name="3_AT_CUR.wav" descr=""/>
          <p:cNvPicPr/>
          <p:nvPr/>
        </p:nvPicPr>
        <p:blipFill>
          <a:blip r:embed="rId2"/>
          <a:stretch/>
        </p:blipFill>
        <p:spPr>
          <a:xfrm>
            <a:off x="7596360" y="393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18728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чения влияют и на ледовые усло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5468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собенность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Айсберг"/>
          <p:cNvPicPr/>
          <p:nvPr/>
        </p:nvPicPr>
        <p:blipFill>
          <a:blip r:embed="rId1"/>
          <a:stretch/>
        </p:blipFill>
        <p:spPr>
          <a:xfrm>
            <a:off x="324000" y="2708280"/>
            <a:ext cx="3816360" cy="324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рроол"/>
          <p:cNvPicPr/>
          <p:nvPr/>
        </p:nvPicPr>
        <p:blipFill>
          <a:blip r:embed="rId2"/>
          <a:stretch/>
        </p:blipFill>
        <p:spPr>
          <a:xfrm>
            <a:off x="4427640" y="148428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9"/>
          <p:cNvSpPr/>
          <p:nvPr/>
        </p:nvSpPr>
        <p:spPr>
          <a:xfrm>
            <a:off x="468360" y="1413000"/>
            <a:ext cx="38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численные айсберг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лавучий морской л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572000" y="53006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ы близ Гренландии опасны для судохо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рганическ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Органич"/>
          <p:cNvPicPr/>
          <p:nvPr/>
        </p:nvPicPr>
        <p:blipFill>
          <a:blip r:embed="rId1"/>
          <a:stretch/>
        </p:blipFill>
        <p:spPr>
          <a:xfrm>
            <a:off x="900000" y="1413000"/>
            <a:ext cx="7559640" cy="5111640"/>
          </a:xfrm>
          <a:prstGeom prst="rect">
            <a:avLst/>
          </a:prstGeom>
          <a:ln w="0">
            <a:noFill/>
          </a:ln>
        </p:spPr>
      </p:pic>
      <p:pic>
        <p:nvPicPr>
          <p:cNvPr id="177" name="3_AT_ORG.wav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891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396160" y="84240"/>
            <a:ext cx="35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Проверочный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31840" y="692280"/>
            <a:ext cx="882000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Острова Гавайи, Галапогос, Самоа имеют происх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материковое      б) вулканическое    г) коралло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. Основной промысловый район Тихого океана – его . . . 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-В    б) Ц    в) С-З   г) 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ихий океан омывает берега всех материков за исключ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Африки    б) Евразии   в) Австралии   г) Антаркт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иболее разнообразным органическим миром в Тихом океа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арактеризуется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экваториальных и тропически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тропических  и  умеренны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) умеренных и арктических 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) арктических и антарктически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 природных ресурсов Тихого океана  в настоящее время наибол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спользу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 энергетические                   в)  в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 минеральные                      г)  би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Дельфины"/>
          <p:cNvPicPr/>
          <p:nvPr/>
        </p:nvPicPr>
        <p:blipFill>
          <a:blip r:embed="rId1"/>
          <a:stretch/>
        </p:blipFill>
        <p:spPr>
          <a:xfrm>
            <a:off x="179280" y="189000"/>
            <a:ext cx="3889440" cy="328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595080" y="244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ьф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Рыба-молот"/>
          <p:cNvPicPr/>
          <p:nvPr/>
        </p:nvPicPr>
        <p:blipFill>
          <a:blip r:embed="rId2"/>
          <a:stretch/>
        </p:blipFill>
        <p:spPr>
          <a:xfrm>
            <a:off x="1332000" y="3357720"/>
            <a:ext cx="4390920" cy="3190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Рыба-шар"/>
          <p:cNvPicPr/>
          <p:nvPr/>
        </p:nvPicPr>
        <p:blipFill>
          <a:blip r:embed="rId3"/>
          <a:stretch/>
        </p:blipFill>
        <p:spPr>
          <a:xfrm>
            <a:off x="4211640" y="1125360"/>
            <a:ext cx="4449600" cy="35989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1763640" y="35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мо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770000" y="42372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а-ш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00041155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Рыба-утюг"/>
          <p:cNvPicPr/>
          <p:nvPr/>
        </p:nvPicPr>
        <p:blipFill>
          <a:blip r:embed="rId2"/>
          <a:stretch/>
        </p:blipFill>
        <p:spPr>
          <a:xfrm>
            <a:off x="1908000" y="3357720"/>
            <a:ext cx="3961080" cy="3311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6519960" y="537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ут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4" descr="Тюлень на солнце"/>
          <p:cNvPicPr/>
          <p:nvPr/>
        </p:nvPicPr>
        <p:blipFill>
          <a:blip r:embed="rId3"/>
          <a:stretch/>
        </p:blipFill>
        <p:spPr>
          <a:xfrm>
            <a:off x="4859280" y="907920"/>
            <a:ext cx="3816360" cy="3382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1935360" y="60930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ут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076720" y="1700280"/>
            <a:ext cx="11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ю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539640" y="32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як  тре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льбатросы"/>
          <p:cNvPicPr/>
          <p:nvPr/>
        </p:nvPicPr>
        <p:blipFill>
          <a:blip r:embed="rId1"/>
          <a:stretch/>
        </p:blipFill>
        <p:spPr>
          <a:xfrm>
            <a:off x="179280" y="333360"/>
            <a:ext cx="4753080" cy="345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34720" y="423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бат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Императорские пингвины"/>
          <p:cNvPicPr/>
          <p:nvPr/>
        </p:nvPicPr>
        <p:blipFill>
          <a:blip r:embed="rId2"/>
          <a:stretch/>
        </p:blipFill>
        <p:spPr>
          <a:xfrm>
            <a:off x="4619520" y="1844640"/>
            <a:ext cx="4524480" cy="367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Скат - обитатель глубин"/>
          <p:cNvPicPr/>
          <p:nvPr/>
        </p:nvPicPr>
        <p:blipFill>
          <a:blip r:embed="rId3"/>
          <a:stretch/>
        </p:blipFill>
        <p:spPr>
          <a:xfrm>
            <a:off x="1979640" y="3429000"/>
            <a:ext cx="4176720" cy="3068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962000" y="37368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184800" y="191628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аторский пинг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190440"/>
            <a:ext cx="8604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зяйственная 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Судоходство в Атлантическом океане"/>
          <p:cNvPicPr/>
          <p:nvPr/>
        </p:nvPicPr>
        <p:blipFill>
          <a:blip r:embed="rId1"/>
          <a:stretch/>
        </p:blipFill>
        <p:spPr>
          <a:xfrm>
            <a:off x="2124000" y="1557360"/>
            <a:ext cx="6769080" cy="50133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0" y="2368440"/>
            <a:ext cx="24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доходст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жные мор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Рыболовство"/>
          <p:cNvPicPr/>
          <p:nvPr/>
        </p:nvPicPr>
        <p:blipFill>
          <a:blip r:embed="rId1"/>
          <a:stretch/>
        </p:blipFill>
        <p:spPr>
          <a:xfrm>
            <a:off x="4427640" y="2852640"/>
            <a:ext cx="4432320" cy="3810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507672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олов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Добыча нефти в океане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4681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451080" y="35244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ыча нефти в оке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66"/>
                </a:solidFill>
                <a:latin typeface="Arial"/>
              </a:rPr>
              <a:t>Добыча полезных ископаем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Полезные ископ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5111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3924360" y="3357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573800" y="3716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718160" y="465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Алм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826920" y="26877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Фосфор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556000" y="3860640"/>
            <a:ext cx="18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607480" y="4363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каспар"/>
          <p:cNvPicPr/>
          <p:nvPr/>
        </p:nvPicPr>
        <p:blipFill>
          <a:blip r:embed="rId1"/>
          <a:stretch/>
        </p:blipFill>
        <p:spPr>
          <a:xfrm>
            <a:off x="395280" y="836640"/>
            <a:ext cx="3922560" cy="374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00041176"/>
          <p:cNvPicPr/>
          <p:nvPr/>
        </p:nvPicPr>
        <p:blipFill>
          <a:blip r:embed="rId2"/>
          <a:stretch/>
        </p:blipFill>
        <p:spPr>
          <a:xfrm>
            <a:off x="1547640" y="3500280"/>
            <a:ext cx="4104000" cy="3097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00044181"/>
          <p:cNvPicPr/>
          <p:nvPr/>
        </p:nvPicPr>
        <p:blipFill>
          <a:blip r:embed="rId3"/>
          <a:stretch/>
        </p:blipFill>
        <p:spPr>
          <a:xfrm>
            <a:off x="478800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2"/>
          <p:cNvSpPr/>
          <p:nvPr/>
        </p:nvSpPr>
        <p:spPr>
          <a:xfrm>
            <a:off x="468360" y="33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кология Атлантического океана наруш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4373640" y="546588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5940360" y="566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грязнены воды,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зовите в океане природные комплексы, в которых проявляется широтная зональность, и комплексы, образующие под влиянием с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ить на вопросы в конц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ь таблицу ,добавив туд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льзоваться атла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Л.Е.Перлов «Дидактические карточки-задания по географии» к учебнику В. А. Коринской,  И.В Душиной,  В.А. Щенева «География –материков и океанов» для7-х классов, М.; Дрофа 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чебник для 7-х классов «География –материков и океанов» под редакцией  В. А. Коринской,  И.В Душиной,  В.А. Щенева, М.; Дрофа 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икитиной Н.А «Поурочные разработки по географии . Материки, океаны, народы и страны, 7 класс.»,; М.: «Вако»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Электронные наглядные пособия «География» 6-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Интернет: http://www.rnm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4120" y="307800"/>
            <a:ext cx="938916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. Наиболее суровые климатические условия характерны для . . .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ке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    б) Ю     в)  З   г)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ные транспортные пути  проходят в . . .  частях  оке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 и В   б) С и З     в) Ю и В    г) Ю и 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8. В зимнее время  покрывается  льдом . . .   часть Индийского оке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а) С   б) Ц    в) Ю    г)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9. Рыболовство в Индийском океане разви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ильнее, чем в Тихом  и Атлантическом оке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сильнее, чем в Тих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о слабее 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ем  в Атлантич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) Слабее, чем в Тихом, но сильнее, чем в Атлантич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) Слабее, чем в Тихом и Атлантиче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0. В Индийском океане находиться самый длинный прол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пролив Дрейка                         в) Магеллан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Мозамбикский                          г) Юката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6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7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8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9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10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5-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правильных ответов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7-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оценка 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9-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ценка  «5»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ЛОД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роисхождение океана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историческая справ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редине мезозоя, примерно около 200 млн. лет назад Атлантического океана не существовало. В те времена Америка, Африка и , возможно, Антарктида составляли единый материк, а на месте Карибского моря была суш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сканирование0004"/>
          <p:cNvPicPr/>
          <p:nvPr/>
        </p:nvPicPr>
        <p:blipFill>
          <a:blip r:embed="rId1"/>
          <a:stretch/>
        </p:blipFill>
        <p:spPr>
          <a:xfrm>
            <a:off x="539640" y="1989000"/>
            <a:ext cx="4319640" cy="3745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68436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оло 200 млн .лет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юрское время материк раскололся под воздействием внутренних сил земли на отдельные плиты. Они начали движение в обе стороны от осевого раскола. 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сканирование0002"/>
          <p:cNvPicPr/>
          <p:nvPr/>
        </p:nvPicPr>
        <p:blipFill>
          <a:blip r:embed="rId1"/>
          <a:stretch/>
        </p:blipFill>
        <p:spPr>
          <a:xfrm>
            <a:off x="395280" y="2276640"/>
            <a:ext cx="3960720" cy="367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сканирование0001"/>
          <p:cNvPicPr/>
          <p:nvPr/>
        </p:nvPicPr>
        <p:blipFill>
          <a:blip r:embed="rId2"/>
          <a:stretch/>
        </p:blipFill>
        <p:spPr>
          <a:xfrm>
            <a:off x="4643280" y="2276640"/>
            <a:ext cx="4104000" cy="3671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7"/>
          <p:cNvSpPr/>
          <p:nvPr/>
        </p:nvSpPr>
        <p:spPr>
          <a:xfrm>
            <a:off x="4716360" y="602136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астоящее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68360" y="602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5 млн лет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start"/>
          <p:cNvPicPr/>
          <p:nvPr/>
        </p:nvPicPr>
        <p:blipFill>
          <a:blip r:embed="rId1"/>
          <a:stretch/>
        </p:blipFill>
        <p:spPr>
          <a:xfrm>
            <a:off x="900000" y="260280"/>
            <a:ext cx="7918560" cy="6408720"/>
          </a:xfrm>
          <a:prstGeom prst="rect">
            <a:avLst/>
          </a:prstGeom>
          <a:ln w="0">
            <a:noFill/>
          </a:ln>
        </p:spPr>
      </p:pic>
      <p:pic>
        <p:nvPicPr>
          <p:cNvPr id="142" name="3_AT_GEO.wav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312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476360" y="692280"/>
            <a:ext cx="734364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3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7:03:26Z</dcterms:created>
  <dc:creator>Lera</dc:creator>
  <dc:description/>
  <dc:language>en-US</dc:language>
  <cp:lastModifiedBy>Настенко</cp:lastModifiedBy>
  <dcterms:modified xsi:type="dcterms:W3CDTF">2011-05-13T15:29:49Z</dcterms:modified>
  <cp:revision>19</cp:revision>
  <dc:subject/>
  <dc:title>АТЛАНТИЧЕСКИЙ  ОКЕАН</dc:title>
</cp:coreProperties>
</file>