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3FB-0C05-4912-A92F-2DC0B612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A31-C7D1-484A-95A5-AB200476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E1E-84C6-4950-B230-978CD92B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824-A5E3-45FA-A0DA-7A8BCF34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32F-FA00-4D8F-9025-3CDD9AB4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B3C2-1183-4CC4-947A-12B40C91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2204-B9F2-4AF9-83F7-05159B72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4A11-389B-48C0-AE5D-96971ADA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FEB2-3D20-4DD7-B5AB-6E80B6C7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A2E3-CA23-442D-996A-DA4A8078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F370-ABB0-4D99-8754-F7DAD039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32D-AA2C-4B1A-8B49-D1C44FE2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6ACB-0AF2-430F-8DC2-FEBB9B4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6C8C-07D2-42AC-87C6-31F8F42E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6EB0-3C90-4425-B864-3A0310E5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5291-7946-48C1-8566-1D4CD34D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744D-E6EE-4956-9D41-7388A58E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432-9F1F-45A1-A46F-D575B07F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0A5-9031-4CF4-9994-06A65419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44A-172F-4BC3-8E99-95E5AE35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F90-9127-4EF6-9259-0842ADDC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30C-0D4D-4E57-979A-EA64F5F0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AE9-C1D6-419C-8ACD-6ECCFA2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F0F-8EB0-464B-BE29-5846BF3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8883-EF26-41DC-9A4B-B62BA181395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70DF-7A30-4786-BCC6-60B6C48F1C0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nrk.cross-ipk.ru/body/pie-5/5/body/arctica/kokhanov.html" TargetMode="External"/><Relationship Id="rId3" Type="http://schemas.openxmlformats.org/officeDocument/2006/relationships/hyperlink" Target="http://www.nrk.cross-ipk.ru/body/pie-5/5/body/arctica/kokhanov.html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рктическая пустын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рктическая пустыня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Picture 7" descr="Антаркти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"/>
          <p:cNvSpPr/>
          <p:nvPr/>
        </p:nvSpPr>
        <p:spPr>
          <a:xfrm>
            <a:off x="1547640" y="90684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рктическая пустын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000160" y="56437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ймушина Люба 8 б клас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откое лето с низкими температурами, многолетняя мерзлота, сильные ветры, неравномерное увлажнение — неважные условия для растений. Растительность здесь бедная, малочисленная и слабо развитая. Не зря эти ландшафты названы пустыней. Поверхность оттаивающих грунтов покрыта тонкой корочкой лишайников и сине-зеленых водорослей. Иногда встречаются кустистые лишайники и мхи, но нет ни сфагновых мхов, ни ягеля. В зоне арктических пустынь известно всего лишь несколько десятков видов растений, часто подушкообразных, высотой всего 5-10 см. Торф в болотах не образует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549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16000" y="54900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3789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716000" y="378900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13" descr="tun_plants.jpg - 7186 Bytes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26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lichen.jpg - 8439 Bytes"/>
          <p:cNvPicPr/>
          <p:nvPr/>
        </p:nvPicPr>
        <p:blipFill>
          <a:blip r:embed="rId2"/>
          <a:stretch/>
        </p:blipFill>
        <p:spPr>
          <a:xfrm>
            <a:off x="4716360" y="549360"/>
            <a:ext cx="3959280" cy="2573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6"/>
          <p:cNvSpPr/>
          <p:nvPr/>
        </p:nvSpPr>
        <p:spPr>
          <a:xfrm>
            <a:off x="1258920" y="314100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ховой покр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5796000" y="31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ишайни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19" descr="saxifraga_oppositifolia.jpg - 4103 Bytes"/>
          <p:cNvPicPr/>
          <p:nvPr/>
        </p:nvPicPr>
        <p:blipFill>
          <a:blip r:embed="rId3"/>
          <a:stretch/>
        </p:blipFill>
        <p:spPr>
          <a:xfrm>
            <a:off x="468360" y="3645000"/>
            <a:ext cx="4032360" cy="2620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potentilla.jpg - 4404 Bytes"/>
          <p:cNvPicPr/>
          <p:nvPr/>
        </p:nvPicPr>
        <p:blipFill>
          <a:blip r:embed="rId4"/>
          <a:stretch/>
        </p:blipFill>
        <p:spPr>
          <a:xfrm>
            <a:off x="4788000" y="3645000"/>
            <a:ext cx="3959280" cy="25732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2"/>
          <p:cNvSpPr/>
          <p:nvPr/>
        </p:nvSpPr>
        <p:spPr>
          <a:xfrm>
            <a:off x="6084720" y="621612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апчат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403280" y="626220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амнелом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вотный мир арктической пустыни тоже весьма скуден и жмется к воде. Земноводных и пресмыкающихся нет совсем, зато есть насекомые, преимущественно двукрылые (комары-дергуны и другие). У кромки океана устраивают лежбища моржи и нерпы, на крутых скалах гнездятся птицы, устраивая летом «птичьи базары», песец заходит в основном на охот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рж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рской зая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320640" y="2498400"/>
            <a:ext cx="2504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7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Морж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0" descr="odobenus_rosmarus.jpg - 4066 Bytes"/>
          <p:cNvPicPr/>
          <p:nvPr/>
        </p:nvPicPr>
        <p:blipFill>
          <a:blip r:embed="rId1"/>
          <a:stretch/>
        </p:blipFill>
        <p:spPr>
          <a:xfrm>
            <a:off x="468360" y="260280"/>
            <a:ext cx="3959280" cy="2575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8"/>
          <p:cNvSpPr/>
          <p:nvPr/>
        </p:nvSpPr>
        <p:spPr>
          <a:xfrm>
            <a:off x="3320640" y="2498400"/>
            <a:ext cx="2504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7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Морской заяц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19" descr="erignathus_barbatus.jpg - 2090 Bytes"/>
          <p:cNvPicPr/>
          <p:nvPr/>
        </p:nvPicPr>
        <p:blipFill>
          <a:blip r:embed="rId2"/>
          <a:stretch/>
        </p:blipFill>
        <p:spPr>
          <a:xfrm>
            <a:off x="4859280" y="260280"/>
            <a:ext cx="3889440" cy="252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pusa_hispida.jpg - 3812 Bytes"/>
          <p:cNvPicPr/>
          <p:nvPr/>
        </p:nvPicPr>
        <p:blipFill>
          <a:blip r:embed="rId3"/>
          <a:stretch/>
        </p:blipFill>
        <p:spPr>
          <a:xfrm>
            <a:off x="395280" y="3573360"/>
            <a:ext cx="4103640" cy="2457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3"/>
          <p:cNvSpPr/>
          <p:nvPr/>
        </p:nvSpPr>
        <p:spPr>
          <a:xfrm>
            <a:off x="1867320" y="285228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р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24"/>
          <p:cNvSpPr/>
          <p:nvPr/>
        </p:nvSpPr>
        <p:spPr>
          <a:xfrm>
            <a:off x="5800680" y="285228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рской зая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26" descr="bazaar.jpg - 2298 Bytes"/>
          <p:cNvPicPr/>
          <p:nvPr/>
        </p:nvPicPr>
        <p:blipFill>
          <a:blip r:embed="rId4"/>
          <a:stretch/>
        </p:blipFill>
        <p:spPr>
          <a:xfrm>
            <a:off x="4859280" y="3573360"/>
            <a:ext cx="3960720" cy="2454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7"/>
          <p:cNvSpPr/>
          <p:nvPr/>
        </p:nvSpPr>
        <p:spPr>
          <a:xfrm>
            <a:off x="5854320" y="621612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тичий база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2020680" y="621612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рп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стоянный житель этой зоны — белый медведь, но и он связан с морем, поскольку основную часть его питания составляют морские животные 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6" descr="9"/>
          <p:cNvPicPr/>
          <p:nvPr/>
        </p:nvPicPr>
        <p:blipFill>
          <a:blip r:embed="rId1"/>
          <a:stretch/>
        </p:blipFill>
        <p:spPr>
          <a:xfrm>
            <a:off x="324000" y="2349360"/>
            <a:ext cx="4103640" cy="309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1"/>
          <p:cNvPicPr/>
          <p:nvPr/>
        </p:nvPicPr>
        <p:blipFill>
          <a:blip r:embed="rId2"/>
          <a:stretch/>
        </p:blipFill>
        <p:spPr>
          <a:xfrm>
            <a:off x="4932360" y="1484280"/>
            <a:ext cx="3311640" cy="2109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3"/>
          <p:cNvPicPr/>
          <p:nvPr/>
        </p:nvPicPr>
        <p:blipFill>
          <a:blip r:embed="rId3"/>
          <a:stretch/>
        </p:blipFill>
        <p:spPr>
          <a:xfrm>
            <a:off x="5003640" y="3860640"/>
            <a:ext cx="3240360" cy="24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ее время территория, на которой располагается арктическая природная зона, все больше интересует самых разных людей. Кроме традиционного промысла морского зверя, здесь начинает активно развиваться добывающая промышленность. На шельфе и северной окраине материка обнаружены запасы нефти и природного газа, угля и цветных металл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10" descr="ship_1.jpg - 4151 Bytes"/>
          <p:cNvPicPr/>
          <p:nvPr/>
        </p:nvPicPr>
        <p:blipFill>
          <a:blip r:embed="rId1"/>
          <a:stretch/>
        </p:blipFill>
        <p:spPr>
          <a:xfrm>
            <a:off x="468360" y="907920"/>
            <a:ext cx="4032360" cy="2171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ship_3.jpg - 2377 Bytes"/>
          <p:cNvPicPr/>
          <p:nvPr/>
        </p:nvPicPr>
        <p:blipFill>
          <a:blip r:embed="rId2"/>
          <a:stretch/>
        </p:blipFill>
        <p:spPr>
          <a:xfrm>
            <a:off x="4788000" y="549360"/>
            <a:ext cx="3456000" cy="2765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ship_2.jpg - 3039 Bytes"/>
          <p:cNvPicPr/>
          <p:nvPr/>
        </p:nvPicPr>
        <p:blipFill>
          <a:blip r:embed="rId3"/>
          <a:stretch/>
        </p:blipFill>
        <p:spPr>
          <a:xfrm>
            <a:off x="2124000" y="3573360"/>
            <a:ext cx="4967280" cy="267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, практически все населенные пункты располагаются южнее, а в этой суровой природной зоне живут и работают метеорологи, геологи, физики-ядерщики и иногда полярные летчики. В последнее время на Северный полюс регулярно приезжают группы турис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7" descr="http://www.rcio.rsu.ru/webp/class4/potok93/web_melenteva/Природно-хозяйственные%20зоны.files/6.gif"/>
          <p:cNvPicPr/>
          <p:nvPr/>
        </p:nvPicPr>
        <p:blipFill>
          <a:blip r:embed="rId1"/>
          <a:stretch/>
        </p:blipFill>
        <p:spPr>
          <a:xfrm>
            <a:off x="4932360" y="476280"/>
            <a:ext cx="3743280" cy="27306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4572000" y="33577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ярная метеостанция остров Айо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08000" y="2205000"/>
          <a:ext cx="8929800" cy="4096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08000" y="2614680"/>
          <a:ext cx="4822920" cy="1874880"/>
        </p:xfrm>
        <a:graphic>
          <a:graphicData uri="http://schemas.openxmlformats.org/drawingml/2006/table">
            <a:tbl>
              <a:tblPr/>
              <a:tblGrid>
                <a:gridCol w="4822920"/>
              </a:tblGrid>
              <a:tr h="187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9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19" descr="man_sm.jpg - 2618 By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3672000" cy="233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ная граница арктических ландшафтов проходит в России примерно у 75 параллели. К ним относится большинство островов Северного Ледовитого океана. Наиболее крупные из них — архипелаги Шпицберген, Земля Франца-Иосифа, Северная Земля, Северный остров Новой Земл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karta-severnogo-polusa"/>
          <p:cNvPicPr/>
          <p:nvPr/>
        </p:nvPicPr>
        <p:blipFill>
          <a:blip r:embed="rId1"/>
          <a:stretch/>
        </p:blipFill>
        <p:spPr>
          <a:xfrm>
            <a:off x="1619280" y="476280"/>
            <a:ext cx="574344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личительные черты арктических ландшафтов связаны с длительной полярной ночью и господством арктических воздушных масс. За долгий полярный день суммарной радиации поступает не намного меньше, чем в зоне тайги, но почти вся она отражается от поверхности снега. Снежный покров держится 280-300 дней в году. На высоте нескольких сот метров над уровнем моря снег не успевает растаять за лето, накапливается и формирует покровные ледник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1" descr="2010629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05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 Земле Франца-Иосифа подо льдом находится более 85% площади. Крупнейший ледниковый щит покрывает Северный остров Новой Земли. Его площадь 19000км2. Растительный мир на поверхности ледников — это некоторые виды водорослей, которые подкрашивают снег в розовые оттенки. Там, где ледники не покрывают круглый год землю, располагаются арктические пустыни. Здесь везде многолетняя мерзлота глубиной в сотни метров, а оттаивает за лето всего 3-4 десятка сантиметр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рктические почвы очень слабо развиты и не образуют сплошной покр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6" descr="arc_soil.jpg - 13975 Bytes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-за мерзлоты грунт разрывается, и образуются морозобойные трещины. При повторном замерзании оттаивающего слоя грунт вспучивается (лед имеет больший объем, чем вода) и выталкивает крупные камни в стороны. Образуются полигональные грунты с каменными многоугольни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images"/>
          <p:cNvPicPr/>
          <p:nvPr/>
        </p:nvPicPr>
        <p:blipFill>
          <a:blip r:embed="rId1"/>
          <a:stretch/>
        </p:blipFill>
        <p:spPr>
          <a:xfrm>
            <a:off x="539640" y="836640"/>
            <a:ext cx="3961080" cy="2630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iceberg_3.jpg - 8846 Bytes"/>
          <p:cNvPicPr/>
          <p:nvPr/>
        </p:nvPicPr>
        <p:blipFill>
          <a:blip r:embed="rId2"/>
          <a:stretch/>
        </p:blipFill>
        <p:spPr>
          <a:xfrm>
            <a:off x="3924360" y="299736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16:14Z</dcterms:created>
  <dc:creator>СЕМЬЯ</dc:creator>
  <dc:description/>
  <dc:language>en-US</dc:language>
  <cp:lastModifiedBy>Коля</cp:lastModifiedBy>
  <dcterms:modified xsi:type="dcterms:W3CDTF">2013-06-22T16:16:30Z</dcterms:modified>
  <cp:revision>7</cp:revision>
  <dc:subject/>
  <dc:title>Арктическая пустыня.</dc:title>
</cp:coreProperties>
</file>