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20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9E63-2B57-4669-8621-29F16C6F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A69-8F34-4AB9-9DAA-69F4DF2E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19C-196B-4281-BE83-73FD23D1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CA7-8E24-4411-8FAE-4D504258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AB28-1981-480A-970E-2F97F7B8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C315-4BD3-415F-AEAF-279E289A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F808-5DD6-4A2C-978A-71968A3B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F51D-EC01-4F5F-91C9-891CD7B1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EE82-9061-454E-9FEA-1486CA7B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4A19-B7F7-4564-BF9C-F0A11C38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69D8-9F30-4A84-81CA-350A033C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2771-7D90-4160-9534-920C9373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B9D7-E3EA-4D53-8F47-1502C644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2CE2-D41D-4EEC-A165-59D5B38A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CCE8-704E-4291-8A23-D6EE4B00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9855-FE15-4EB6-A53D-77F23B0B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1F33-B89C-4C4D-8888-B259413F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E9A7A-98EA-42A0-B467-9BF88EEB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259CA-DC27-441E-BBFA-5B357349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2DF4C2-FE92-42CF-B668-A491D0F0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61DF9-A345-4CF3-8874-2D66CA08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A7933-39CA-4E7D-ADA1-06E59EB6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48A1-D0C2-4407-BF4A-344F7F49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4A040-913A-489A-95E5-72E4AA7A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C0C59-ED1C-467E-A777-6BF77477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19EFD-4759-4A40-ADC4-51B53E70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E6696-9381-49DB-8272-BD4079F9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2A42A-5D3F-435D-83BA-01ABC450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3A153-19A0-4DC0-90D3-A55D5A78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8888C-56C0-44DC-A55E-CB5A8E8F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F52A9-4920-4C6F-B620-3862A73B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23542-1908-411F-A181-24523B0D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0A489-5335-41B2-91A7-80AAF796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5204-F8BD-4FBF-958E-6C2C445E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F16C4-6F13-4CAC-BBB4-5F283ED4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211BA-46F4-478A-9202-40CD9FAA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B0658-82C4-4859-98BC-FC091A74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D7F77-4995-4233-9487-C5C59A6B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FA89F-F337-4BA0-AE83-A99E5839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D9AE2-3C61-4B95-9C84-CE1AD1BA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EDC97-F46E-4040-8C9A-4D889671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1B6BF-7A99-46BC-96F0-7AD0FF4B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498AF-BF26-46BA-B83A-9263EC93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22A8B3-B43D-4527-8438-1EDDDC75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9795-1E2C-4547-BC75-940A1926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EE463-BACF-4E32-A855-1246675F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EA3CB5-C67A-4173-9170-EEDF8F67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EE2866-D3E6-447B-9A94-C7B474A3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D468D-BF31-4BB0-AA54-B5DCBE21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A6D38-B1D5-4801-AE97-222F4DEB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DFF84-EB43-4618-8989-2EA0B604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0AD52-0E9A-4C80-9246-3ADF3477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0E9DD-6A76-499F-97F2-6829CF31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DF8665-1250-472C-A9F9-2BB88C9E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B7037C-2BB0-4FF6-B357-4D2FADC8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A59A-2927-4AFA-A889-21BE5030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B00E8-050A-4D15-A610-274A1B94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481BD4-A57D-4E1C-977D-773482E1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B8BE80-AD15-43B1-AFC5-FBE2A13A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DBE263-D96B-4C19-A17D-9E54860E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797148-35D8-4732-A751-B1F34048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21AE4A-46D4-4837-A969-9BF6F87D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35FC79-D9A5-4B5A-B9B7-331A6EF3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8F7C70-E7E7-48B9-8182-D5906470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B747A4-9840-4E30-8416-730AED8F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1BE509-B215-4016-AA4C-F97A7012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2545-20B1-4AA2-9B16-EE810084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3397BE-E531-487F-9CB1-C6303B5C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EF49AA-734F-4DF9-9234-87029411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957C4-8AA4-4D3B-BA35-06D9A961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189CC5-35DC-4F58-8F3F-0C7A7B25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DBDDE9-7914-4FDB-8C11-F9D09DBC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C9922A-22D5-4FA5-9E6C-74256391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FB1F98-7BD7-4425-A370-1511C729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6207D6-2DC5-46BC-B151-C7A8F405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341107-D8CF-47A5-B900-9105C884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6E3BA1-86F5-4865-B37F-FF0C80DD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0E2E-51AF-4298-9458-109E9C65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E61080-C64C-45B0-89B4-25D86480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3FF86E-7103-44C0-9464-FDF5B43F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0A5A36-335C-4CE6-A040-FA348CCB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EB88E8-4D92-4045-8B97-4F222C0C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8B17CE-3CC4-4CEB-9E64-8F422779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734-7913-42A3-8DB5-D7535321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220E-7C26-4E82-8EA0-C24FCF7BB71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ADB6-EE61-4601-8D5C-7DB91E7BEA6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AC30-7859-4989-8529-BE2A4E8D390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707E-0405-4045-8E23-3D82DB5C310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1B10-7D32-4DB4-A1E8-89A3101C5A3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93FC-8E88-4F0B-A21A-6A7A65A6498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d2d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d2d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AAB2-7DC2-4D5D-AF5F-D0311C10038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71440" y="157176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dbdbd"/>
                </a:solidFill>
                <a:latin typeface="Wooden Ship Decorated"/>
              </a:rPr>
              <a:t>ЧТО В МОЕЙ ЖИЗНИ</a:t>
            </a:r>
            <a:br>
              <a:rPr sz="4400"/>
            </a:br>
            <a:r>
              <a:rPr b="1" lang="ru-RU" sz="4400" spc="-1" strike="noStrike">
                <a:solidFill>
                  <a:srgbClr val="bdbdbd"/>
                </a:solidFill>
                <a:latin typeface="Wooden Ship Decorated"/>
              </a:rPr>
              <a:t>      ГИТАРА?    </a:t>
            </a:r>
            <a:endParaRPr b="0" lang="en-US" sz="44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d2d2d2"/>
              </a:solidFill>
              <a:latin typeface="Century Schoolbook"/>
            </a:endParaRPr>
          </a:p>
        </p:txBody>
      </p:sp>
      <p:pic>
        <p:nvPicPr>
          <p:cNvPr id="353" name="__ Artel' Prod-n [club23157911] - Besplatnyj minus 35 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Рисунок 1" descr="P1030847.JPG"/>
          <p:cNvPicPr/>
          <p:nvPr/>
        </p:nvPicPr>
        <p:blipFill>
          <a:blip r:embed="rId1"/>
          <a:stretch/>
        </p:blipFill>
        <p:spPr>
          <a:xfrm>
            <a:off x="428760" y="428760"/>
            <a:ext cx="4608360" cy="259236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2" descr="P1030850.JPG"/>
          <p:cNvPicPr/>
          <p:nvPr/>
        </p:nvPicPr>
        <p:blipFill>
          <a:blip r:embed="rId2"/>
          <a:stretch/>
        </p:blipFill>
        <p:spPr>
          <a:xfrm>
            <a:off x="357120" y="3714840"/>
            <a:ext cx="4572000" cy="25718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3" descr="P1030848.JPG"/>
          <p:cNvPicPr/>
          <p:nvPr/>
        </p:nvPicPr>
        <p:blipFill>
          <a:blip r:embed="rId3"/>
          <a:stretch/>
        </p:blipFill>
        <p:spPr>
          <a:xfrm>
            <a:off x="5143680" y="285840"/>
            <a:ext cx="3471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Заголовок 1"/>
          <p:cNvGrpSpPr/>
          <p:nvPr/>
        </p:nvGrpSpPr>
        <p:grpSpPr>
          <a:xfrm>
            <a:off x="304920" y="1170000"/>
            <a:ext cx="7686720" cy="3633840"/>
            <a:chOff x="304920" y="1170000"/>
            <a:chExt cx="7686720" cy="3633840"/>
          </a:xfrm>
        </p:grpSpPr>
        <p:pic>
          <p:nvPicPr>
            <p:cNvPr id="39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04920" y="1170000"/>
              <a:ext cx="7686720" cy="36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57200" y="1214280"/>
              <a:ext cx="7467480" cy="35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53535"/>
                  </a:solidFill>
                  <a:latin typeface="Century Schoolbook"/>
                </a:rPr>
                <a:t>ГИТАРА ЭТО МОЯ МУЗА. ЭТО МОЙ МАЛЕНЬКИЙ ЛУЧИК В СЛОЖНЫЙ, ВЗРОСЛЫЙ МИР . ОНА МНЕ ПОМОГЛА ПОВЕРИТЬ В СЕБЯ ДОСТИГНУТЬ ЦЕЛИ. Я СЧИТАЮ ТО ЧТО Я ХОТЕЛА ТО Я И ДОСТИГЛА. А ТАК ЖЕ Я БЛАГОДАРНА СВОЕЙ УЧИТЕЛЬНИЦЕ ПО ГИТАРЕ КОЗИЦКОЙ ЕЛЕНЕ МИХАЙЛОВНЕ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Заголовок 1"/>
          <p:cNvGrpSpPr/>
          <p:nvPr/>
        </p:nvGrpSpPr>
        <p:grpSpPr>
          <a:xfrm>
            <a:off x="665280" y="384120"/>
            <a:ext cx="7802280" cy="6004080"/>
            <a:chOff x="665280" y="384120"/>
            <a:chExt cx="7802280" cy="6004080"/>
          </a:xfrm>
        </p:grpSpPr>
        <p:pic>
          <p:nvPicPr>
            <p:cNvPr id="35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65280" y="384120"/>
              <a:ext cx="7802280" cy="600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85880" y="428760"/>
              <a:ext cx="7615080" cy="58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53535"/>
                  </a:solidFill>
                  <a:latin typeface="Century Schoolbook"/>
                </a:rPr>
                <a:t>КОГДА МНЕ БЫЛО ЛЕТ 12  Я СМОТРЕЛА ПО ТЕЛЕВИЗОРУ «ФАБРИКУ ЗВЕЗД» . МНЕ ТАК НРАВИЛОСЬ КАК ОНИ ЗАНИМАЮТСЯ ВОКАЛОМ, РАЗУЧИВАЮТ НОВЫЕ ПЕСНИ.  ПОСЛЕ ЭТОГО Я ПОСТАВИЛА СЕБЕ ЦЕЛЬ -СТАТЬ ПЕВИЦЕЙ. НО БЕЗ ПРОФЕССИОНАЛЬНОЙ ПОДГОТОВКИ ЭТО ПРАКТИЧЕСКИ НЕВОЗМОЖНО. ТОГДА МОЯ ТЕТЯ ПОЗНАКОМИЛА МЕНЯ С УЧИТЕЛЕМ  В МУЗЫКАЛЬНОЙ ШКОЛЕ ПО ВОКАЛУ. ОНА МНЕ ПРЕДЛОЖИЛА ПОСТУПИТЬ ОФИЦИАЛЬНО В МУЗЫКАЛЬНУЮ ШКОЛУ ПО КЛАССУ ГИТАРЫ. Я ПОДУМАЛА, ПОСОВЕТОВАЛАСЬ С РОДИТЕЛЯМИ И СОГЛАСИЛАСЬ. ТЕПЕРЬ УЖЕ Я УЧУСЬ В НЕЙ ПОСЛЕДНИЙ ГОД.,И НЕ КАПЕЛЬКИ НЕ ЖАЛЕЮ ЧТО ПОСТУПИЛА ТУДА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Заголовок 1"/>
          <p:cNvGrpSpPr/>
          <p:nvPr/>
        </p:nvGrpSpPr>
        <p:grpSpPr>
          <a:xfrm>
            <a:off x="390600" y="231840"/>
            <a:ext cx="7601040" cy="1279440"/>
            <a:chOff x="390600" y="231840"/>
            <a:chExt cx="7601040" cy="1279440"/>
          </a:xfrm>
        </p:grpSpPr>
        <p:pic>
          <p:nvPicPr>
            <p:cNvPr id="35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0600" y="231840"/>
              <a:ext cx="76010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353535"/>
                  </a:solidFill>
                  <a:latin typeface="Century Schoolbook"/>
                </a:rPr>
                <a:t>        </a:t>
              </a:r>
              <a:r>
                <a:rPr b="1" lang="ru-RU" sz="5400" spc="-1" strike="noStrike">
                  <a:solidFill>
                    <a:srgbClr val="353535"/>
                  </a:solidFill>
                  <a:latin typeface="Century Schoolbook"/>
                </a:rPr>
                <a:t>А ВОТ И МЫ.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0" name="Рисунок 2" descr="P1020842.JPG"/>
          <p:cNvPicPr/>
          <p:nvPr/>
        </p:nvPicPr>
        <p:blipFill>
          <a:blip r:embed="rId2"/>
          <a:stretch/>
        </p:blipFill>
        <p:spPr>
          <a:xfrm rot="855000">
            <a:off x="4560840" y="2150640"/>
            <a:ext cx="2857680" cy="374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61" name="Содержимое 8" descr="2761156_f520.jpg"/>
          <p:cNvPicPr/>
          <p:nvPr/>
        </p:nvPicPr>
        <p:blipFill>
          <a:blip r:embed="rId3"/>
          <a:stretch/>
        </p:blipFill>
        <p:spPr>
          <a:xfrm rot="20394000">
            <a:off x="1623960" y="2060280"/>
            <a:ext cx="1452600" cy="3886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Заголовок 1"/>
          <p:cNvGrpSpPr/>
          <p:nvPr/>
        </p:nvGrpSpPr>
        <p:grpSpPr>
          <a:xfrm>
            <a:off x="304920" y="231840"/>
            <a:ext cx="7686720" cy="1279440"/>
            <a:chOff x="304920" y="231840"/>
            <a:chExt cx="7686720" cy="1279440"/>
          </a:xfrm>
        </p:grpSpPr>
        <p:pic>
          <p:nvPicPr>
            <p:cNvPr id="36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04920" y="231840"/>
              <a:ext cx="76867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53535"/>
                  </a:solidFill>
                  <a:latin typeface="Century Schoolbook"/>
                </a:rPr>
                <a:t>НО КАКИЕ ЖЕ ПЛЮСЫ ОТ ТОГО ЧТО Я ПОШЛА УЧИТЬСЯ ИГРАТЬ НА ГИТАРЕ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 txBox="1"/>
          <p:nvPr/>
        </p:nvSpPr>
        <p:spPr>
          <a:xfrm>
            <a:off x="357120" y="1714680"/>
            <a:ext cx="7467840" cy="68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Я стала певицей? (да нет не совсем)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Я стала знаменитой? (да тоже не совсем)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Так что все труды напрасно?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Нет Нет Нет и еще раз Нет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Мне уже 17 лет……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Я выросла !!!!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366" name="Рисунок 3" descr="P1030866.JPG"/>
          <p:cNvPicPr/>
          <p:nvPr/>
        </p:nvPicPr>
        <p:blipFill>
          <a:blip r:embed="rId2"/>
          <a:stretch/>
        </p:blipFill>
        <p:spPr>
          <a:xfrm>
            <a:off x="5786280" y="3143160"/>
            <a:ext cx="2357640" cy="3357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Заголовок 1"/>
          <p:cNvGrpSpPr/>
          <p:nvPr/>
        </p:nvGrpSpPr>
        <p:grpSpPr>
          <a:xfrm>
            <a:off x="304920" y="231840"/>
            <a:ext cx="7686720" cy="1279440"/>
            <a:chOff x="304920" y="231840"/>
            <a:chExt cx="7686720" cy="1279440"/>
          </a:xfrm>
        </p:grpSpPr>
        <p:pic>
          <p:nvPicPr>
            <p:cNvPr id="36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04920" y="231840"/>
              <a:ext cx="76867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53535"/>
                  </a:solidFill>
                  <a:latin typeface="Century Schoolbook"/>
                </a:rPr>
                <a:t>НО ЦЕЛЬ У МЕНЯ ОСТАЛАСЬ ТОЙ ЖЕ</a:t>
              </a:r>
              <a:br>
                <a:rPr sz="2400"/>
              </a:br>
              <a:r>
                <a:rPr b="0" lang="ru-RU" sz="2400" spc="-1" strike="noStrike">
                  <a:solidFill>
                    <a:srgbClr val="353535"/>
                  </a:solidFill>
                  <a:latin typeface="Century Schoolbook"/>
                </a:rPr>
                <a:t>                  СТАТЬ ПЕВИЦЕ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0" name="Содержимое 4" descr="imperiaflex100eh1.jpg"/>
          <p:cNvPicPr/>
          <p:nvPr/>
        </p:nvPicPr>
        <p:blipFill>
          <a:blip r:embed="rId2"/>
          <a:stretch/>
        </p:blipFill>
        <p:spPr>
          <a:xfrm>
            <a:off x="1357200" y="2000160"/>
            <a:ext cx="2876760" cy="38102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571680" y="585792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372" name="Содержимое 5" descr="P1020212.JPG"/>
          <p:cNvPicPr/>
          <p:nvPr/>
        </p:nvPicPr>
        <p:blipFill>
          <a:blip r:embed="rId3"/>
          <a:stretch/>
        </p:blipFill>
        <p:spPr>
          <a:xfrm>
            <a:off x="4857840" y="1714680"/>
            <a:ext cx="277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Заголовок 1"/>
          <p:cNvGrpSpPr/>
          <p:nvPr/>
        </p:nvGrpSpPr>
        <p:grpSpPr>
          <a:xfrm>
            <a:off x="390600" y="669960"/>
            <a:ext cx="7881840" cy="5638680"/>
            <a:chOff x="390600" y="669960"/>
            <a:chExt cx="7881840" cy="5638680"/>
          </a:xfrm>
        </p:grpSpPr>
        <p:pic>
          <p:nvPicPr>
            <p:cNvPr id="37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0600" y="669960"/>
              <a:ext cx="7881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457200" y="714240"/>
              <a:ext cx="7686720" cy="550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53535"/>
                  </a:solidFill>
                  <a:latin typeface="Century Schoolbook"/>
                </a:rPr>
                <a:t>НА ДАННЫЙ МОМЕНТ Я ЗАПИСЫВАЮ ТРЕТИЙ ТРЕК. ПОД НАЗВАНИЕМ «ВЕДЬ ЛУЧШЕ НИХ НЕТ НИКОГО» ТРЕК ПРО МОИХ РОДИТЕЛЕЙ.</a:t>
              </a:r>
              <a:br>
                <a:rPr sz="2200"/>
              </a:br>
              <a:r>
                <a:rPr b="0" lang="ru-RU" sz="2200" spc="-1" strike="noStrike">
                  <a:solidFill>
                    <a:srgbClr val="353535"/>
                  </a:solidFill>
                  <a:latin typeface="Century Schoolbook"/>
                </a:rPr>
                <a:t>КАК ВЫ УЖЕ ПОНЯЛИ В КАКОЙ ТО СТЕПЕНИ Я ДОСТИГЛА СВОЕЙ ЦЕЛИ. У МЕНЯ УЖЕ 2 ТРЕКА. Я ИХ ЗАПИСЫВАЮ И ВЫКЛАДЫВАЮ В ИНТЕРНЕТ, ЛЮДИ СЛУШАЮТ ОЦЕНИВАЮТ. ГОВОРЯТ ПЛЮСЫ И МИНУСЫ. ДА, БЫВАЕТ ПОРОЙ НЕ ПРИЯТНО ТО, ЧТО ГОВОРЯТ ПЛОХОЕ ПРО МОЕ ПЕНИЕ, НУ ЧТО Ж Я ТОЛЬКО НАЧИНАЮЩИЙ В ЭТОМ ДЕЛЕ. МНЕ ЕЩЕ УЧИТЬСЯ И УЧИТЬСЯ. А КТО ТО ХВАЛИТ ЖДЕТ  ПОСЛЕДУЮЩИХ ТРЕКОВ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Заголовок 1"/>
          <p:cNvGrpSpPr/>
          <p:nvPr/>
        </p:nvGrpSpPr>
        <p:grpSpPr>
          <a:xfrm>
            <a:off x="304920" y="231840"/>
            <a:ext cx="7997760" cy="1279440"/>
            <a:chOff x="304920" y="231840"/>
            <a:chExt cx="7997760" cy="1279440"/>
          </a:xfrm>
        </p:grpSpPr>
        <p:pic>
          <p:nvPicPr>
            <p:cNvPr id="37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04920" y="231840"/>
              <a:ext cx="79977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457200" y="274680"/>
              <a:ext cx="7467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53535"/>
                  </a:solidFill>
                  <a:latin typeface="Century Schoolbook"/>
                </a:rPr>
                <a:t>ТАК В ЧЕМ ЖЕ ЗАСЛУГИ ГИТАРЫ? В ЧЕМ Я     ЕЙ  БЛАГОДАРНА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9" name="Содержимое 3" descr="eb20a406c907.jpg"/>
          <p:cNvPicPr/>
          <p:nvPr/>
        </p:nvPicPr>
        <p:blipFill>
          <a:blip r:embed="rId2"/>
          <a:stretch/>
        </p:blipFill>
        <p:spPr>
          <a:xfrm>
            <a:off x="1143000" y="175104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Заголовок 1"/>
          <p:cNvGrpSpPr/>
          <p:nvPr/>
        </p:nvGrpSpPr>
        <p:grpSpPr>
          <a:xfrm>
            <a:off x="420840" y="743040"/>
            <a:ext cx="7839000" cy="3348000"/>
            <a:chOff x="420840" y="743040"/>
            <a:chExt cx="7839000" cy="3348000"/>
          </a:xfrm>
        </p:grpSpPr>
        <p:pic>
          <p:nvPicPr>
            <p:cNvPr id="38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20840" y="743040"/>
              <a:ext cx="7839000" cy="33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71680" y="785880"/>
              <a:ext cx="746748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53535"/>
                  </a:solidFill>
                  <a:latin typeface="Century Schoolbook"/>
                </a:rPr>
                <a:t>РАНЬШЕ, ДЛЯ ТОГО, ЧТО БЫ ЗАПИСАТЬ ПЕСНЮ, Я СКАЧИВАЛА БЕСПЛАТНЫЕ МИНУСА В ИНТЕРНЕТЕ. НО ЧЕТВЕРТЫЙ МИНУС Я БУДУ ПИСАТЬ САМА. ПОДОБРАЛА АККОРДЫ НА ГИТАРЕ И ВРОДЕ  ВЫШЛО ПРИКОЛЬНО. ЗАТЕМ В ПРОГРАММЕ СДЕЛАЮ БИТ….ЗАПИШУ ГИТАРУ И ВОТ МОЙ МИНУС ГОТОВ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Заголовок 1"/>
          <p:cNvGrpSpPr/>
          <p:nvPr/>
        </p:nvGrpSpPr>
        <p:grpSpPr>
          <a:xfrm>
            <a:off x="420840" y="457200"/>
            <a:ext cx="7686360" cy="2279520"/>
            <a:chOff x="420840" y="457200"/>
            <a:chExt cx="7686360" cy="2279520"/>
          </a:xfrm>
        </p:grpSpPr>
        <p:pic>
          <p:nvPicPr>
            <p:cNvPr id="38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20840" y="457200"/>
              <a:ext cx="768636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71680" y="500040"/>
              <a:ext cx="746748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53535"/>
                  </a:solidFill>
                  <a:latin typeface="Century Schoolbook"/>
                </a:rPr>
                <a:t>А ТАК ЖЕ Я ПОСТОЯННО ИГРАЮ НА ГИТАРЕ ДОМА ДЛЯ РОДИТЕЛЕЙ, В ШКОЛЕ ДЛЯ ДРУЗЕЙ, МЕНЯ ПРИГЛАШАЮТ НА МНОГИЕ КОНКУРСЫ. ЛЮДЯМ НРАВИТСЯ КАК Я ИГРАЮ И ПОЮ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6" name="Рисунок 5" descr="P1030642.JPG"/>
          <p:cNvPicPr/>
          <p:nvPr/>
        </p:nvPicPr>
        <p:blipFill>
          <a:blip r:embed="rId2"/>
          <a:stretch/>
        </p:blipFill>
        <p:spPr>
          <a:xfrm>
            <a:off x="428760" y="2928960"/>
            <a:ext cx="77864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9:42:45Z</dcterms:created>
  <dc:creator>Анастасия</dc:creator>
  <dc:description/>
  <dc:language>en-US</dc:language>
  <cp:lastModifiedBy>XTreme</cp:lastModifiedBy>
  <dcterms:modified xsi:type="dcterms:W3CDTF">2012-05-03T19:15:44Z</dcterms:modified>
  <cp:revision>24</cp:revision>
  <dc:subject/>
  <dc:title>Слайд 1</dc:title>
</cp:coreProperties>
</file>