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EF7-8153-4B21-AE58-94BC27C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272-21BB-4AD9-80A8-9CB065D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02C-ADB8-4C92-8BE1-8C7912FC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E375-D37D-4F44-8F1E-DFAE386F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91B7-EDC4-4DBC-A5C7-9AE89966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28DA-85ED-4426-8A78-120C59B9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EFEC-5C0A-4918-AEB0-64D343C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C94-A638-49C5-BCC3-D7416E99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D32A-0430-47E2-8A0D-B54BBD0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0553-B1EB-4EB8-992F-FB64788C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4BC7-267D-485B-AB48-D6818F3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439-A1D5-4A35-9F6E-A6D57CBD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28D-C6F1-47AC-8470-C9A0E22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F60-13B9-4965-95CB-FA5E510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E2E-185F-4FD3-B18A-6FD731D6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B1B-90F7-4E47-8F91-95459B04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4B20-8D8E-4592-B881-244E7E0B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C77A4-B064-4A29-B64C-73A0EBB7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485DE-5069-452B-BFF6-BE637448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4733C-A2F5-4AD9-9D46-2CF28685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18784-8E73-4223-9ED6-87A4FCB9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FAA59-6594-4B6D-A490-401A74ED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BE9-B43E-4501-B6DD-BBD324A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6EE62-2196-4A07-86BB-3D1CEA8C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A2630-4C7D-4E6E-8C66-30C381CA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BD92C-8B99-46F6-945B-5048B42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3D4C6-07A8-49C0-9981-F82CB4E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382C8-9A81-40B2-8E2E-B76E1F58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753AA-894B-4DBC-B337-369007CD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41FAA-0116-4A70-8AA1-F61E5DA3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08DA-A817-4EE2-8419-6460B604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9128-A164-4A7F-9CB3-49954BB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BD88-9E30-4F3E-BB34-6C060C8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52B-0D89-4A3B-97A4-E6F6C453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16CC-3B2B-4451-ADCF-E0471BAC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E25E-CF6E-49C9-B04B-078B675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0578-9F86-4350-8183-0687650A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669F-9484-41A2-AC2D-63DCB821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31BF-B895-4272-BC2C-9DEB261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0C9D-DF30-494A-B577-C1CFA4F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CA90-1351-49D4-BAEC-00A63BDC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B944-2AE2-444C-A7EF-D8CE9405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E99C-8E26-4721-8367-6E725073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5B092-5399-4D17-8D0F-144A715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590-2242-4E23-9937-E457788E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10257-8C50-4AB1-A082-568213E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4F9ED-9EEB-47AC-9AA3-29C38AD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2056D-3CB9-46AB-BD9B-3671792F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CED22-5F1E-4FA1-ADE2-F2FD3B2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1A6C2-A9A3-4E1C-A058-054CE512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2D227-01FA-4E08-BBBB-BAE316E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359B9-1ACE-4FFE-9771-4CA4826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00D28-62BC-41EC-AF71-69EB6D1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6B85D-D072-4A84-BE1B-101278F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71E77-86AC-4CD2-84F4-BD056C03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0E3-2E58-4159-A277-CF5F534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2D6F2-3419-4F73-A796-9F22F145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8F761-C617-4731-8F2B-356E34B0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4EF25-FFE7-4D5D-B86B-A58B6292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7BF22-82C9-4A68-9D70-93D4D2F0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1B366-059A-49E8-83FB-373F445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563BF-3DC8-40B3-9D63-E66724AB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B48E7-C75A-4EC1-BB3B-F593B0C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6F24D-5CC4-4143-97BF-1FCDE7E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4BB43-6D09-4915-BCCD-D0F10D2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AB41B-69E1-4C6C-9F18-0E76D57B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50C-DD3F-406A-8F3A-57B1F999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3061E-CE73-4EDE-8F3D-4B057D2E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6B05E-31AA-454D-A6B9-0CA2D10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47F9C-0DFD-428E-8DE1-B5E6CABE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1B7C1-E443-410A-8EB0-7059F332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0D53D-6FA7-4FB6-AC41-E277F4D9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AFD40-2980-418F-A756-BE57115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BC409-F7DB-470B-B79E-AD7C852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8B9D8-0931-4E03-BB27-BA436F4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A5B24C-D89B-4752-8A6E-87A3C20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C1E2C-70D9-459B-A43A-C7B0BCA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86D-855F-4858-9C11-ED84AE5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211C3-D832-4443-A3C4-96F892D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F8263-0AE9-4263-ACD0-D966175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00206-2A63-45C1-9373-6F9135B5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514E3-5407-427F-BF62-83079813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B62CA-B4D9-4862-B4BB-FA75845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30D-7920-45FF-885B-BD92723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32E3-828A-4843-8355-5331843DD0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A20-45C1-4C1D-BB98-0E80828048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798B-2C3E-4E49-949C-D7B4849014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46F7-9D33-4CDE-8010-7E56EE5E44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222A-4653-46A6-9157-32FDE7CDE9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657-AD2F-4CE7-BF9C-A76C101E3B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65A0-C639-45C8-834E-30C1B86CD8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571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dbdbd"/>
                </a:solidFill>
                <a:latin typeface="Wooden Ship Decorated"/>
              </a:rPr>
              <a:t>ЧТО В МОЕЙ ЖИЗНИ</a:t>
            </a:r>
            <a:br>
              <a:rPr sz="4400"/>
            </a:br>
            <a:r>
              <a:rPr b="1" lang="ru-RU" sz="4400" spc="-1" strike="noStrike">
                <a:solidFill>
                  <a:srgbClr val="bdbdbd"/>
                </a:solidFill>
                <a:latin typeface="Wooden Ship Decorated"/>
              </a:rPr>
              <a:t>      ГИТАРА?    </a:t>
            </a:r>
            <a:endParaRPr b="0" lang="en-US" sz="44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d2d2d2"/>
              </a:solidFill>
              <a:latin typeface="Century Schoolbook"/>
            </a:endParaRPr>
          </a:p>
        </p:txBody>
      </p:sp>
      <p:pic>
        <p:nvPicPr>
          <p:cNvPr id="353" name="__ Artel' Prod-n [club23157911] - Besplatnyj minus 35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P1030847.JPG"/>
          <p:cNvPicPr/>
          <p:nvPr/>
        </p:nvPicPr>
        <p:blipFill>
          <a:blip r:embed="rId1"/>
          <a:stretch/>
        </p:blipFill>
        <p:spPr>
          <a:xfrm>
            <a:off x="428760" y="428760"/>
            <a:ext cx="4608360" cy="25923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P1030850.JPG"/>
          <p:cNvPicPr/>
          <p:nvPr/>
        </p:nvPicPr>
        <p:blipFill>
          <a:blip r:embed="rId2"/>
          <a:stretch/>
        </p:blipFill>
        <p:spPr>
          <a:xfrm>
            <a:off x="357120" y="37148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P1030848.JPG"/>
          <p:cNvPicPr/>
          <p:nvPr/>
        </p:nvPicPr>
        <p:blipFill>
          <a:blip r:embed="rId3"/>
          <a:stretch/>
        </p:blipFill>
        <p:spPr>
          <a:xfrm>
            <a:off x="5143680" y="28584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Заголовок 1"/>
          <p:cNvGrpSpPr/>
          <p:nvPr/>
        </p:nvGrpSpPr>
        <p:grpSpPr>
          <a:xfrm>
            <a:off x="304920" y="1170000"/>
            <a:ext cx="7686720" cy="3633840"/>
            <a:chOff x="304920" y="1170000"/>
            <a:chExt cx="7686720" cy="3633840"/>
          </a:xfrm>
        </p:grpSpPr>
        <p:pic>
          <p:nvPicPr>
            <p:cNvPr id="3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1170000"/>
              <a:ext cx="7686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57200" y="1214280"/>
              <a:ext cx="7467480" cy="35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ГИТАРА ЭТО МОЯ МУЗА. ЭТО МОЙ МАЛЕНЬКИЙ ЛУЧИК В СЛОЖНЫЙ, ВЗРОСЛЫЙ МИР . ОНА МНЕ ПОМОГЛА ПОВЕРИТЬ В СЕБЯ ДОСТИГНУТЬ ЦЕЛИ. Я СЧИТАЮ ТО ЧТО Я ХОТЕЛА ТО Я И ДОСТИГЛА. А ТАК ЖЕ Я БЛАГОДАРНА СВОЕЙ УЧИТЕЛЬНИЦЕ ПО ГИТАРЕ КОЗИЦКОЙ ЕЛЕНЕ МИХАЙЛОВН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Заголовок 1"/>
          <p:cNvGrpSpPr/>
          <p:nvPr/>
        </p:nvGrpSpPr>
        <p:grpSpPr>
          <a:xfrm>
            <a:off x="665280" y="384120"/>
            <a:ext cx="7802280" cy="6004080"/>
            <a:chOff x="665280" y="384120"/>
            <a:chExt cx="7802280" cy="6004080"/>
          </a:xfrm>
        </p:grpSpPr>
        <p:pic>
          <p:nvPicPr>
            <p:cNvPr id="3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384120"/>
              <a:ext cx="7802280" cy="60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85880" y="428760"/>
              <a:ext cx="7615080" cy="58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53535"/>
                  </a:solidFill>
                  <a:latin typeface="Century Schoolbook"/>
                </a:rPr>
                <a:t>КОГДА МНЕ БЫЛО ЛЕТ 12  Я СМОТРЕЛА ПО ТЕЛЕВИЗОРУ «ФАБРИКУ ЗВЕЗД» . МНЕ ТАК НРАВИЛОСЬ КАК ОНИ ЗАНИМАЮТСЯ ВОКАЛОМ, РАЗУЧИВАЮТ НОВЫЕ ПЕСНИ.  ПОСЛЕ ЭТОГО Я ПОСТАВИЛА СЕБЕ ЦЕЛЬ -СТАТЬ ПЕВИЦЕЙ. НО БЕЗ ПРОФЕССИОНАЛЬНОЙ ПОДГОТОВКИ ЭТО ПРАКТИЧЕСКИ НЕВОЗМОЖНО. ТОГДА МОЯ ТЕТЯ ПОЗНАКОМИЛА МЕНЯ С УЧИТЕЛЕМ  В МУЗЫКАЛЬНОЙ ШКОЛЕ ПО ВОКАЛУ. ОНА МНЕ ПРЕДЛОЖИЛА ПОСТУПИТЬ ОФИЦИАЛЬНО В МУЗЫКАЛЬНУЮ ШКОЛУ ПО КЛАССУ ГИТАРЫ. Я ПОДУМАЛА, ПОСОВЕТОВАЛАСЬ С РОДИТЕЛЯМИ И СОГЛАСИЛАСЬ. ТЕПЕРЬ УЖЕ Я УЧУСЬ В НЕЙ ПОСЛЕДНИЙ ГОД.,И НЕ КАПЕЛЬКИ НЕ ЖАЛЕЮ ЧТО ПОСТУПИЛА ТУД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Заголовок 1"/>
          <p:cNvGrpSpPr/>
          <p:nvPr/>
        </p:nvGrpSpPr>
        <p:grpSpPr>
          <a:xfrm>
            <a:off x="390600" y="231840"/>
            <a:ext cx="7601040" cy="1279440"/>
            <a:chOff x="390600" y="231840"/>
            <a:chExt cx="7601040" cy="1279440"/>
          </a:xfrm>
        </p:grpSpPr>
        <p:pic>
          <p:nvPicPr>
            <p:cNvPr id="3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31840"/>
              <a:ext cx="760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353535"/>
                  </a:solidFill>
                  <a:latin typeface="Century Schoolbook"/>
                </a:rPr>
                <a:t>        </a:t>
              </a:r>
              <a:r>
                <a:rPr b="1" lang="ru-RU" sz="5400" spc="-1" strike="noStrike">
                  <a:solidFill>
                    <a:srgbClr val="353535"/>
                  </a:solidFill>
                  <a:latin typeface="Century Schoolbook"/>
                </a:rPr>
                <a:t>А ВОТ И МЫ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0" name="Рисунок 2" descr="P1020842.JPG"/>
          <p:cNvPicPr/>
          <p:nvPr/>
        </p:nvPicPr>
        <p:blipFill>
          <a:blip r:embed="rId2"/>
          <a:stretch/>
        </p:blipFill>
        <p:spPr>
          <a:xfrm rot="855000">
            <a:off x="4560840" y="2150640"/>
            <a:ext cx="2857680" cy="374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1" name="Содержимое 8" descr="2761156_f520.jpg"/>
          <p:cNvPicPr/>
          <p:nvPr/>
        </p:nvPicPr>
        <p:blipFill>
          <a:blip r:embed="rId3"/>
          <a:stretch/>
        </p:blipFill>
        <p:spPr>
          <a:xfrm rot="20394000">
            <a:off x="1623960" y="2060280"/>
            <a:ext cx="1452600" cy="388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Заголовок 1"/>
          <p:cNvGrpSpPr/>
          <p:nvPr/>
        </p:nvGrpSpPr>
        <p:grpSpPr>
          <a:xfrm>
            <a:off x="304920" y="231840"/>
            <a:ext cx="7686720" cy="1279440"/>
            <a:chOff x="304920" y="231840"/>
            <a:chExt cx="7686720" cy="1279440"/>
          </a:xfrm>
        </p:grpSpPr>
        <p:pic>
          <p:nvPicPr>
            <p:cNvPr id="3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686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НО КАКИЕ ЖЕ ПЛЮСЫ ОТ ТОГО ЧТО Я ПОШЛА УЧИТЬСЯ ИГРАТЬ НА ГИТАРЕ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 txBox="1"/>
          <p:nvPr/>
        </p:nvSpPr>
        <p:spPr>
          <a:xfrm>
            <a:off x="357120" y="1714680"/>
            <a:ext cx="7467840" cy="68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стала певицей? (да нет не совсем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стала знаменитой? (да тоже не совсем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Так что все труды напрасно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Нет Нет Нет и еще раз Нет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Мне уже 17 лет……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выросла !!!!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66" name="Рисунок 3" descr="P1030866.JPG"/>
          <p:cNvPicPr/>
          <p:nvPr/>
        </p:nvPicPr>
        <p:blipFill>
          <a:blip r:embed="rId2"/>
          <a:stretch/>
        </p:blipFill>
        <p:spPr>
          <a:xfrm>
            <a:off x="5786280" y="3143160"/>
            <a:ext cx="2357640" cy="33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Заголовок 1"/>
          <p:cNvGrpSpPr/>
          <p:nvPr/>
        </p:nvGrpSpPr>
        <p:grpSpPr>
          <a:xfrm>
            <a:off x="304920" y="231840"/>
            <a:ext cx="7686720" cy="1279440"/>
            <a:chOff x="304920" y="231840"/>
            <a:chExt cx="7686720" cy="1279440"/>
          </a:xfrm>
        </p:grpSpPr>
        <p:pic>
          <p:nvPicPr>
            <p:cNvPr id="3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686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НО ЦЕЛЬ У МЕНЯ ОСТАЛАСЬ ТОЙ ЖЕ</a:t>
              </a:r>
              <a:br>
                <a:rPr sz="2400"/>
              </a:b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                  СТАТЬ ПЕВИЦ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Содержимое 4" descr="imperiaflex100eh1.jpg"/>
          <p:cNvPicPr/>
          <p:nvPr/>
        </p:nvPicPr>
        <p:blipFill>
          <a:blip r:embed="rId2"/>
          <a:stretch/>
        </p:blipFill>
        <p:spPr>
          <a:xfrm>
            <a:off x="1357200" y="2000160"/>
            <a:ext cx="2876760" cy="38102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571680" y="58579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72" name="Содержимое 5" descr="P1020212.JPG"/>
          <p:cNvPicPr/>
          <p:nvPr/>
        </p:nvPicPr>
        <p:blipFill>
          <a:blip r:embed="rId3"/>
          <a:stretch/>
        </p:blipFill>
        <p:spPr>
          <a:xfrm>
            <a:off x="4857840" y="171468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Заголовок 1"/>
          <p:cNvGrpSpPr/>
          <p:nvPr/>
        </p:nvGrpSpPr>
        <p:grpSpPr>
          <a:xfrm>
            <a:off x="390600" y="669960"/>
            <a:ext cx="7881840" cy="5638680"/>
            <a:chOff x="390600" y="669960"/>
            <a:chExt cx="7881840" cy="5638680"/>
          </a:xfrm>
        </p:grpSpPr>
        <p:pic>
          <p:nvPicPr>
            <p:cNvPr id="3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669960"/>
              <a:ext cx="7881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714240"/>
              <a:ext cx="768672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53535"/>
                  </a:solidFill>
                  <a:latin typeface="Century Schoolbook"/>
                </a:rPr>
                <a:t>НА ДАННЫЙ МОМЕНТ Я ЗАПИСЫВАЮ ТРЕТИЙ ТРЕК. ПОД НАЗВАНИЕМ «ВЕДЬ ЛУЧШЕ НИХ НЕТ НИКОГО» ТРЕК ПРО МОИХ РОДИТЕЛЕЙ.</a:t>
              </a:r>
              <a:br>
                <a:rPr sz="2200"/>
              </a:br>
              <a:r>
                <a:rPr b="0" lang="ru-RU" sz="2200" spc="-1" strike="noStrike">
                  <a:solidFill>
                    <a:srgbClr val="353535"/>
                  </a:solidFill>
                  <a:latin typeface="Century Schoolbook"/>
                </a:rPr>
                <a:t>КАК ВЫ УЖЕ ПОНЯЛИ В КАКОЙ ТО СТЕПЕНИ Я ДОСТИГЛА СВОЕЙ ЦЕЛИ. У МЕНЯ УЖЕ 2 ТРЕКА. Я ИХ ЗАПИСЫВАЮ И ВЫКЛАДЫВАЮ В ИНТЕРНЕТ, ЛЮДИ СЛУШАЮТ ОЦЕНИВАЮТ. ГОВОРЯТ ПЛЮСЫ И МИНУСЫ. ДА, БЫВАЕТ ПОРОЙ НЕ ПРИЯТНО ТО, ЧТО ГОВОРЯТ ПЛОХОЕ ПРО МОЕ ПЕНИЕ, НУ ЧТО Ж Я ТОЛЬКО НАЧИНАЮЩИЙ В ЭТОМ ДЕЛЕ. МНЕ ЕЩЕ УЧИТЬСЯ И УЧИТЬСЯ. А КТО ТО ХВАЛИТ ЖДЕТ  ПОСЛЕДУЮЩИХ ТРЕКО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Заголовок 1"/>
          <p:cNvGrpSpPr/>
          <p:nvPr/>
        </p:nvGrpSpPr>
        <p:grpSpPr>
          <a:xfrm>
            <a:off x="304920" y="231840"/>
            <a:ext cx="7997760" cy="1279440"/>
            <a:chOff x="304920" y="231840"/>
            <a:chExt cx="7997760" cy="1279440"/>
          </a:xfrm>
        </p:grpSpPr>
        <p:pic>
          <p:nvPicPr>
            <p:cNvPr id="3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9977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ТАК В ЧЕМ ЖЕ ЗАСЛУГИ ГИТАРЫ? В ЧЕМ Я     ЕЙ  БЛАГОДАРНА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9" name="Содержимое 3" descr="eb20a406c907.jpg"/>
          <p:cNvPicPr/>
          <p:nvPr/>
        </p:nvPicPr>
        <p:blipFill>
          <a:blip r:embed="rId2"/>
          <a:stretch/>
        </p:blipFill>
        <p:spPr>
          <a:xfrm>
            <a:off x="1143000" y="17510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Заголовок 1"/>
          <p:cNvGrpSpPr/>
          <p:nvPr/>
        </p:nvGrpSpPr>
        <p:grpSpPr>
          <a:xfrm>
            <a:off x="420840" y="743040"/>
            <a:ext cx="7839000" cy="3348000"/>
            <a:chOff x="420840" y="743040"/>
            <a:chExt cx="7839000" cy="3348000"/>
          </a:xfrm>
        </p:grpSpPr>
        <p:pic>
          <p:nvPicPr>
            <p:cNvPr id="3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743040"/>
              <a:ext cx="783900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71680" y="785880"/>
              <a:ext cx="74674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РАНЬШЕ, ДЛЯ ТОГО, ЧТО БЫ ЗАПИСАТЬ ПЕСНЮ, Я СКАЧИВАЛА БЕСПЛАТНЫЕ МИНУСА В ИНТЕРНЕТЕ. НО ЧЕТВЕРТЫЙ МИНУС Я БУДУ ПИСАТЬ САМА. ПОДОБРАЛА АККОРДЫ НА ГИТАРЕ И ВРОДЕ  ВЫШЛО ПРИКОЛЬНО. ЗАТЕМ В ПРОГРАММЕ СДЕЛАЮ БИТ….ЗАПИШУ ГИТАРУ И ВОТ МОЙ МИНУС ГОТО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Заголовок 1"/>
          <p:cNvGrpSpPr/>
          <p:nvPr/>
        </p:nvGrpSpPr>
        <p:grpSpPr>
          <a:xfrm>
            <a:off x="420840" y="457200"/>
            <a:ext cx="7686360" cy="2279520"/>
            <a:chOff x="420840" y="457200"/>
            <a:chExt cx="7686360" cy="2279520"/>
          </a:xfrm>
        </p:grpSpPr>
        <p:pic>
          <p:nvPicPr>
            <p:cNvPr id="3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457200"/>
              <a:ext cx="768636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71680" y="500040"/>
              <a:ext cx="74674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А ТАК ЖЕ Я ПОСТОЯННО ИГРАЮ НА ГИТАРЕ ДОМА ДЛЯ РОДИТЕЛЕЙ, В ШКОЛЕ ДЛЯ ДРУЗЕЙ, МЕНЯ ПРИГЛАШАЮТ НА МНОГИЕ КОНКУРСЫ. ЛЮДЯМ НРАВИТСЯ КАК Я ИГРАЮ И ПОЮ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Рисунок 5" descr="P1030642.JPG"/>
          <p:cNvPicPr/>
          <p:nvPr/>
        </p:nvPicPr>
        <p:blipFill>
          <a:blip r:embed="rId2"/>
          <a:stretch/>
        </p:blipFill>
        <p:spPr>
          <a:xfrm>
            <a:off x="428760" y="2928960"/>
            <a:ext cx="7786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42:45Z</dcterms:created>
  <dc:creator>Анастасия</dc:creator>
  <dc:description/>
  <dc:language>en-US</dc:language>
  <cp:lastModifiedBy>XTreme</cp:lastModifiedBy>
  <dcterms:modified xsi:type="dcterms:W3CDTF">2012-05-03T19:15:44Z</dcterms:modified>
  <cp:revision>24</cp:revision>
  <dc:subject/>
  <dc:title>Слайд 1</dc:title>
</cp:coreProperties>
</file>