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0E8-C0B6-4296-AB8F-6F7B4F2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F81-D26B-41E2-ACCB-E5FAE18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CF4-FB59-4C05-A42C-B1EE14BE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C79-13E8-459A-BB71-8C7F9803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5D1A-B7C6-42EC-A054-2693A8EB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CEB-C76F-4A9A-A1EF-8D12937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B95C-00F6-447B-93F3-BC02091C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C71E-AACC-4229-B537-8FF0E03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066-EF49-4912-BB48-47CDA66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DD71-C249-4695-A66A-ED9EB4E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429-B7C1-44FC-B83A-A6110CF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58A-FCA6-4FD6-B0FC-3D15F64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F7B-87C7-4E9F-A208-7E609FA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F40A-8F04-4322-AB7B-F8FC4C9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3B82-AD05-4790-8F84-4EF411B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717-EF59-4C4A-AD94-31471C15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79D-3B4F-4D08-838A-216A9537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3A409-754F-48BF-B44A-01002743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8B67C-C5EA-4A8A-A438-88A826E2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2D418-0889-4251-B1ED-522F478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90FD7-21AD-421E-84E4-37BAA94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701CF-B170-4BA0-8209-B3BF205F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BFA-41A0-4496-A63A-B9215E3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4A1CC-F5D8-4723-9ACF-EA50BD0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547EE-1370-495F-9E37-17DD4AD2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14D02-5E1A-4875-A4BE-F069E926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14344-E445-419E-B4AF-97C0C65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ECA53-1B33-4025-8CAB-C5762A6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57BDC-D874-41F2-ACA6-6F246800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B8BD4-F4D8-43D1-A623-F6C3AE28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803C-3CEB-4544-93A0-85440F46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5D0D6-BED9-424E-AD92-088431F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DE04-12D2-4B99-90E9-FC787B2C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1CB-3CB6-4908-9DD1-D63665F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00912-76ED-4608-AC81-969BEFE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465AA-873B-4668-B6D5-D16C659B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32D8-611C-405B-BD4C-55B261C9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B276-051A-4F8C-8892-79B0DD5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40F4-5F42-4B8E-AB73-38FCD0DF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6FF4-2DC6-49F9-9B05-C0DB8365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85C7-74ED-49B3-B00B-D2DB3A8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789D-854D-4A30-ADFD-5ACC448C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9CD6-61F8-4EE0-BC5B-0569C369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592F5-240C-4DA0-B943-7720AACB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865-B0AE-49CD-9DA7-9995DDF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9FA1C-8BB0-4D22-982A-5B38F27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33F48-F6F8-476B-ADD3-60D959D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535D0-17F8-4945-83F7-819094F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FD388-66C8-4117-B42A-04065D18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A061C-D426-4F6D-AEF8-5C67B93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55384-21A3-4E7C-971F-4CB56B9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C7671-7601-4D3F-860C-D3F8E22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CA8A2-6E33-4D67-A70A-485FE13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738AD-8CBD-49C6-9C12-D1FD436F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500A3-02F9-44F1-A8C9-88198982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D2E-4422-4A4C-AC07-01FA506A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485F5-5F59-459F-8677-1A234F46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684E7-A93C-4A66-82B9-8DCCFA9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12D3E-7181-4AED-B3D3-D1E8F5EC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34A61-CBDA-464F-B74B-E3C08A14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9D83E-9BFC-413E-8FB8-556D0F5B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13E31-2F78-49F7-8943-FFFC1B4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7666F-1A67-4ED6-85C7-D12A2F80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EA07C-0AD5-4A33-A8D9-19F51FD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23C41-E5A6-4C78-9735-841489B5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67394-E29E-4686-97FE-642B074F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9E6-1326-4A9D-B9C5-29015EBA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DE89F-E057-4F3D-B535-F2C9D13A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AAE43-8C88-4BD5-8B0C-27509CBF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2D2CB-96F9-4E75-8092-AE370ED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A829B-6A14-4B43-9575-C0A79DBD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62679-E993-4AA1-831F-695E7C5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DBFB5-7717-4DD9-BB41-024BD09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BED93-C1D9-4D51-8B5E-74653960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A4304-C98C-45F9-94F0-18DFE6DA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3D944-DCB3-4E72-923F-48C3FE8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E9A5A-D1BF-47DD-A310-AE39D4D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8AB-1FE0-4F51-AD18-D4D2AF3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E0499-B249-4828-956F-B7C099F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768BE-8575-43E3-9BF7-2FAD14DF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3BA5A-6D17-4925-85E3-16B53727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EA66A-387F-4883-9D92-2270DF47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22644-D24D-4B18-A584-035543E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790-0788-48F9-8AF0-9C60751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711-862F-4799-A68E-B0AB196FD6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9AAC-A22A-4638-8F82-C838C81121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43E7-07F8-4D7B-A58C-EB826BEE41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9AD3-0135-47AC-A74A-793A2CE465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A02-3C30-405F-939F-03E72041CB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44B-C164-4325-AD93-A186535B7B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9557-B77E-4AC4-B431-076E189DD37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571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ЧТО В МОЕЙ ЖИЗНИ</a:t>
            </a:r>
            <a:br>
              <a:rPr sz="4400"/>
            </a:b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      ГИТАРА?    </a:t>
            </a:r>
            <a:endParaRPr b="0" lang="en-US" sz="44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d2d2d2"/>
              </a:solidFill>
              <a:latin typeface="Century Schoolbook"/>
            </a:endParaRPr>
          </a:p>
        </p:txBody>
      </p:sp>
      <p:pic>
        <p:nvPicPr>
          <p:cNvPr id="353" name="__ Artel' Prod-n [club23157911] - Besplatnyj minus 35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P1030847.JPG"/>
          <p:cNvPicPr/>
          <p:nvPr/>
        </p:nvPicPr>
        <p:blipFill>
          <a:blip r:embed="rId1"/>
          <a:stretch/>
        </p:blipFill>
        <p:spPr>
          <a:xfrm>
            <a:off x="428760" y="428760"/>
            <a:ext cx="4608360" cy="25923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P1030850.JPG"/>
          <p:cNvPicPr/>
          <p:nvPr/>
        </p:nvPicPr>
        <p:blipFill>
          <a:blip r:embed="rId2"/>
          <a:stretch/>
        </p:blipFill>
        <p:spPr>
          <a:xfrm>
            <a:off x="357120" y="37148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P1030848.JPG"/>
          <p:cNvPicPr/>
          <p:nvPr/>
        </p:nvPicPr>
        <p:blipFill>
          <a:blip r:embed="rId3"/>
          <a:stretch/>
        </p:blipFill>
        <p:spPr>
          <a:xfrm>
            <a:off x="5143680" y="28584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Заголовок 1"/>
          <p:cNvGrpSpPr/>
          <p:nvPr/>
        </p:nvGrpSpPr>
        <p:grpSpPr>
          <a:xfrm>
            <a:off x="304920" y="1170000"/>
            <a:ext cx="7686720" cy="3633840"/>
            <a:chOff x="304920" y="1170000"/>
            <a:chExt cx="7686720" cy="3633840"/>
          </a:xfrm>
        </p:grpSpPr>
        <p:pic>
          <p:nvPicPr>
            <p:cNvPr id="3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1170000"/>
              <a:ext cx="7686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57200" y="1214280"/>
              <a:ext cx="7467480" cy="35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ГИТАРА ЭТО МОЯ МУЗА. ЭТО МОЙ МАЛЕНЬКИЙ ЛУЧИК В СЛОЖНЫЙ, ВЗРОСЛЫЙ МИР . ОНА МНЕ ПОМОГЛА ПОВЕРИТЬ В СЕБЯ ДОСТИГНУТЬ ЦЕЛИ. Я СЧИТАЮ ТО ЧТО Я ХОТЕЛА ТО Я И ДОСТИГЛА. А ТАК ЖЕ Я БЛАГОДАРНА СВОЕЙ УЧИТЕЛЬНИЦЕ ПО ГИТАРЕ КОЗИЦКОЙ ЕЛЕНЕ МИХАЙЛОВН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Заголовок 1"/>
          <p:cNvGrpSpPr/>
          <p:nvPr/>
        </p:nvGrpSpPr>
        <p:grpSpPr>
          <a:xfrm>
            <a:off x="665280" y="384120"/>
            <a:ext cx="7802280" cy="6004080"/>
            <a:chOff x="665280" y="384120"/>
            <a:chExt cx="7802280" cy="6004080"/>
          </a:xfrm>
        </p:grpSpPr>
        <p:pic>
          <p:nvPicPr>
            <p:cNvPr id="3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384120"/>
              <a:ext cx="7802280" cy="60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85880" y="428760"/>
              <a:ext cx="7615080" cy="58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53535"/>
                  </a:solidFill>
                  <a:latin typeface="Century Schoolbook"/>
                </a:rPr>
                <a:t>КОГДА МНЕ БЫЛО ЛЕТ 12  Я СМОТРЕЛА ПО ТЕЛЕВИЗОРУ «ФАБРИКУ ЗВЕЗД» . МНЕ ТАК НРАВИЛОСЬ КАК ОНИ ЗАНИМАЮТСЯ ВОКАЛОМ, РАЗУЧИВАЮТ НОВЫЕ ПЕСНИ.  ПОСЛЕ ЭТОГО Я ПОСТАВИЛА СЕБЕ ЦЕЛЬ -СТАТЬ ПЕВИЦЕЙ. НО БЕЗ ПРОФЕССИОНАЛЬНОЙ ПОДГОТОВКИ ЭТО ПРАКТИЧЕСКИ НЕВОЗМОЖНО. ТОГДА МОЯ ТЕТЯ ПОЗНАКОМИЛА МЕНЯ С УЧИТЕЛЕМ  В МУЗЫКАЛЬНОЙ ШКОЛЕ ПО ВОКАЛУ. ОНА МНЕ ПРЕДЛОЖИЛА ПОСТУПИТЬ ОФИЦИАЛЬНО В МУЗЫКАЛЬНУЮ ШКОЛУ ПО КЛАССУ ГИТАРЫ. Я ПОДУМАЛА, ПОСОВЕТОВАЛАСЬ С РОДИТЕЛЯМИ И СОГЛАСИЛАСЬ. ТЕПЕРЬ УЖЕ Я УЧУСЬ В НЕЙ ПОСЛЕДНИЙ ГОД.,И НЕ КАПЕЛЬКИ НЕ ЖАЛЕЮ ЧТО ПОСТУПИЛА ТУД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31840"/>
            <a:ext cx="7601040" cy="1279440"/>
            <a:chOff x="390600" y="231840"/>
            <a:chExt cx="760104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31840"/>
              <a:ext cx="760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353535"/>
                  </a:solidFill>
                  <a:latin typeface="Century Schoolbook"/>
                </a:rPr>
                <a:t>        </a:t>
              </a:r>
              <a:r>
                <a:rPr b="1" lang="ru-RU" sz="5400" spc="-1" strike="noStrike">
                  <a:solidFill>
                    <a:srgbClr val="353535"/>
                  </a:solidFill>
                  <a:latin typeface="Century Schoolbook"/>
                </a:rPr>
                <a:t>А ВОТ И МЫ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0" name="Рисунок 2" descr="P1020842.JPG"/>
          <p:cNvPicPr/>
          <p:nvPr/>
        </p:nvPicPr>
        <p:blipFill>
          <a:blip r:embed="rId2"/>
          <a:stretch/>
        </p:blipFill>
        <p:spPr>
          <a:xfrm rot="855000">
            <a:off x="4560840" y="2150640"/>
            <a:ext cx="2857680" cy="37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1" name="Содержимое 8" descr="2761156_f520.jpg"/>
          <p:cNvPicPr/>
          <p:nvPr/>
        </p:nvPicPr>
        <p:blipFill>
          <a:blip r:embed="rId3"/>
          <a:stretch/>
        </p:blipFill>
        <p:spPr>
          <a:xfrm rot="20394000">
            <a:off x="1623960" y="2060280"/>
            <a:ext cx="1452600" cy="388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КАКИЕ ЖЕ ПЛЮСЫ ОТ ТОГО ЧТО Я ПОШЛА УЧИТЬСЯ ИГРАТЬ НА ГИТАРЕ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 txBox="1"/>
          <p:nvPr/>
        </p:nvSpPr>
        <p:spPr>
          <a:xfrm>
            <a:off x="357120" y="1714680"/>
            <a:ext cx="7467840" cy="68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певицей? (да нет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знаменитой? (да тоже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Так что все труды напрасно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ет Нет Нет и еще раз Нет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Мне уже 17 лет……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выросла !!!!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66" name="Рисунок 3" descr="P1030866.JPG"/>
          <p:cNvPicPr/>
          <p:nvPr/>
        </p:nvPicPr>
        <p:blipFill>
          <a:blip r:embed="rId2"/>
          <a:stretch/>
        </p:blipFill>
        <p:spPr>
          <a:xfrm>
            <a:off x="5786280" y="3143160"/>
            <a:ext cx="2357640" cy="33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ЦЕЛЬ У МЕНЯ ОСТАЛАСЬ ТОЙ ЖЕ</a:t>
              </a:r>
              <a:br>
                <a:rPr sz="2400"/>
              </a:b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                  СТАТЬ ПЕВИЦ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Содержимое 4" descr="imperiaflex100eh1.jpg"/>
          <p:cNvPicPr/>
          <p:nvPr/>
        </p:nvPicPr>
        <p:blipFill>
          <a:blip r:embed="rId2"/>
          <a:stretch/>
        </p:blipFill>
        <p:spPr>
          <a:xfrm>
            <a:off x="1357200" y="2000160"/>
            <a:ext cx="2876760" cy="38102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571680" y="58579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72" name="Содержимое 5" descr="P1020212.JPG"/>
          <p:cNvPicPr/>
          <p:nvPr/>
        </p:nvPicPr>
        <p:blipFill>
          <a:blip r:embed="rId3"/>
          <a:stretch/>
        </p:blipFill>
        <p:spPr>
          <a:xfrm>
            <a:off x="4857840" y="171468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1"/>
          <p:cNvGrpSpPr/>
          <p:nvPr/>
        </p:nvGrpSpPr>
        <p:grpSpPr>
          <a:xfrm>
            <a:off x="390600" y="669960"/>
            <a:ext cx="7881840" cy="5638680"/>
            <a:chOff x="390600" y="669960"/>
            <a:chExt cx="7881840" cy="5638680"/>
          </a:xfrm>
        </p:grpSpPr>
        <p:pic>
          <p:nvPicPr>
            <p:cNvPr id="3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669960"/>
              <a:ext cx="7881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714240"/>
              <a:ext cx="768672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НА ДАННЫЙ МОМЕНТ Я ЗАПИСЫВАЮ ТРЕТИЙ ТРЕК. ПОД НАЗВАНИЕМ «ВЕДЬ ЛУЧШЕ НИХ НЕТ НИКОГО» ТРЕК ПРО МОИХ РОДИТЕЛЕЙ.</a:t>
              </a:r>
              <a:br>
                <a:rPr sz="2200"/>
              </a:b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КАК ВЫ УЖЕ ПОНЯЛИ В КАКОЙ ТО СТЕПЕНИ Я ДОСТИГЛА СВОЕЙ ЦЕЛИ. У МЕНЯ УЖЕ 2 ТРЕКА. Я ИХ ЗАПИСЫВАЮ И ВЫКЛАДЫВАЮ В ИНТЕРНЕТ, ЛЮДИ СЛУШАЮТ ОЦЕНИВАЮТ. ГОВОРЯТ ПЛЮСЫ И МИНУСЫ. ДА, БЫВАЕТ ПОРОЙ НЕ ПРИЯТНО ТО, ЧТО ГОВОРЯТ ПЛОХОЕ ПРО МОЕ ПЕНИЕ, НУ ЧТО Ж Я ТОЛЬКО НАЧИНАЮЩИЙ В ЭТОМ ДЕЛЕ. МНЕ ЕЩЕ УЧИТЬСЯ И УЧИТЬСЯ. А КТО ТО ХВАЛИТ ЖДЕТ  ПОСЛЕДУЮЩИХ ТРЕКО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Заголовок 1"/>
          <p:cNvGrpSpPr/>
          <p:nvPr/>
        </p:nvGrpSpPr>
        <p:grpSpPr>
          <a:xfrm>
            <a:off x="304920" y="231840"/>
            <a:ext cx="7997760" cy="1279440"/>
            <a:chOff x="304920" y="231840"/>
            <a:chExt cx="7997760" cy="1279440"/>
          </a:xfrm>
        </p:grpSpPr>
        <p:pic>
          <p:nvPicPr>
            <p:cNvPr id="3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9977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ТАК В ЧЕМ ЖЕ ЗАСЛУГИ ГИТАРЫ? В ЧЕМ Я     ЕЙ  БЛАГОДАРН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9" name="Содержимое 3" descr="eb20a406c907.jpg"/>
          <p:cNvPicPr/>
          <p:nvPr/>
        </p:nvPicPr>
        <p:blipFill>
          <a:blip r:embed="rId2"/>
          <a:stretch/>
        </p:blipFill>
        <p:spPr>
          <a:xfrm>
            <a:off x="1143000" y="17510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Заголовок 1"/>
          <p:cNvGrpSpPr/>
          <p:nvPr/>
        </p:nvGrpSpPr>
        <p:grpSpPr>
          <a:xfrm>
            <a:off x="420840" y="743040"/>
            <a:ext cx="7839000" cy="3348000"/>
            <a:chOff x="420840" y="743040"/>
            <a:chExt cx="7839000" cy="3348000"/>
          </a:xfrm>
        </p:grpSpPr>
        <p:pic>
          <p:nvPicPr>
            <p:cNvPr id="3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743040"/>
              <a:ext cx="783900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71680" y="785880"/>
              <a:ext cx="74674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РАНЬШЕ, ДЛЯ ТОГО, ЧТО БЫ ЗАПИСАТЬ ПЕСНЮ, Я СКАЧИВАЛА БЕСПЛАТНЫЕ МИНУСА В ИНТЕРНЕТЕ. НО ЧЕТВЕРТЫЙ МИНУС Я БУДУ ПИСАТЬ САМА. ПОДОБРАЛА АККОРДЫ НА ГИТАРЕ И ВРОДЕ  ВЫШЛО ПРИКОЛЬНО. ЗАТЕМ В ПРОГРАММЕ СДЕЛАЮ БИТ….ЗАПИШУ ГИТАРУ И ВОТ МОЙ МИНУС ГОТО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420840" y="457200"/>
            <a:ext cx="7686360" cy="2279520"/>
            <a:chOff x="420840" y="457200"/>
            <a:chExt cx="7686360" cy="227952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457200"/>
              <a:ext cx="768636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71680" y="500040"/>
              <a:ext cx="74674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А ТАК ЖЕ Я ПОСТОЯННО ИГРАЮ НА ГИТАРЕ ДОМА ДЛЯ РОДИТЕЛЕЙ, В ШКОЛЕ ДЛЯ ДРУЗЕЙ, МЕНЯ ПРИГЛАШАЮТ НА МНОГИЕ КОНКУРСЫ. ЛЮДЯМ НРАВИТСЯ КАК Я ИГРАЮ И ПОЮ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Рисунок 5" descr="P1030642.JPG"/>
          <p:cNvPicPr/>
          <p:nvPr/>
        </p:nvPicPr>
        <p:blipFill>
          <a:blip r:embed="rId2"/>
          <a:stretch/>
        </p:blipFill>
        <p:spPr>
          <a:xfrm>
            <a:off x="428760" y="2928960"/>
            <a:ext cx="7786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42:45Z</dcterms:created>
  <dc:creator>Анастасия</dc:creator>
  <dc:description/>
  <dc:language>en-US</dc:language>
  <cp:lastModifiedBy>XTreme</cp:lastModifiedBy>
  <dcterms:modified xsi:type="dcterms:W3CDTF">2012-05-03T19:15:44Z</dcterms:modified>
  <cp:revision>24</cp:revision>
  <dc:subject/>
  <dc:title>Слайд 1</dc:title>
</cp:coreProperties>
</file>