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52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52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274320"/>
            <a:ext cx="777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52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44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52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274320"/>
            <a:ext cx="777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02468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Музыка эпохи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Классицизма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23640" y="0"/>
            <a:ext cx="63356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начение творчества Й.Гайдна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755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струнного квартет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рондо-сонаты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50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льфганг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Амаде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оцарт (1756–1791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2560" y="2133720"/>
            <a:ext cx="67294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23572289885cd"/>
          <p:cNvPicPr/>
          <p:nvPr/>
        </p:nvPicPr>
        <p:blipFill>
          <a:blip r:embed="rId1"/>
          <a:stretch/>
        </p:blipFill>
        <p:spPr>
          <a:xfrm>
            <a:off x="7524720" y="4797360"/>
            <a:ext cx="1486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48000" y="115560"/>
            <a:ext cx="468000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симфони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концерту, дивертисменту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квартету, опер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мессе, сонат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три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23572289711a5"/>
          <p:cNvPicPr/>
          <p:nvPr/>
        </p:nvPicPr>
        <p:blipFill>
          <a:blip r:embed="rId1"/>
          <a:stretch/>
        </p:blipFill>
        <p:spPr>
          <a:xfrm>
            <a:off x="250920" y="2708280"/>
            <a:ext cx="32004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705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 вообще в венский период Моцарт создал собственный, исключительно самобытный стиль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8080"/>
                </a:solidFill>
                <a:latin typeface="Arial"/>
              </a:rPr>
              <a:t>Занимательно:</a:t>
            </a:r>
            <a:br>
              <a:rPr sz="32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царт, как известно, был вундеркиндом: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любящий отец отнял у малыша неоконченную нотную запись, он изумленно воскликнул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Но этот концерт так труден, что его никто не сможет сыграть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Какие глупости, папа! - возразил Моцарт,- его может сыграть даже ребенок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пример 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юдвиг Ван Бетховен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(1770–1827)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35722647d751"/>
          <p:cNvPicPr/>
          <p:nvPr/>
        </p:nvPicPr>
        <p:blipFill>
          <a:blip r:embed="rId1"/>
          <a:stretch/>
        </p:blipFill>
        <p:spPr>
          <a:xfrm>
            <a:off x="5651640" y="2708280"/>
            <a:ext cx="3162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-532080"/>
            <a:ext cx="6480000" cy="80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го партитуры требуют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-первых, большего числа исполнителей в каждой партии,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-вторых, невероятного в его эпоху исполнительского мастерства каждого оркестранта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4167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аче говоря, Бетховен творит музыкальное пространство силой ума, собственной волей.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042920" y="765000"/>
            <a:ext cx="73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808080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3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Эпоха Просвещ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99640" y="5013360"/>
            <a:ext cx="201636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Жан-Жак Руссо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61050316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00720" y="3573000"/>
            <a:ext cx="273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ни Дидр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691920"/>
            <a:ext cx="532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042920" y="692280"/>
            <a:ext cx="56898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971640" y="2781360"/>
            <a:ext cx="7416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Figaro"/>
          <p:cNvPicPr/>
          <p:nvPr/>
        </p:nvPicPr>
        <p:blipFill>
          <a:blip r:embed="rId1"/>
          <a:stretch/>
        </p:blipFill>
        <p:spPr>
          <a:xfrm>
            <a:off x="6156360" y="11592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faust2"/>
          <p:cNvPicPr/>
          <p:nvPr/>
        </p:nvPicPr>
        <p:blipFill>
          <a:blip r:embed="rId2"/>
          <a:stretch/>
        </p:blipFill>
        <p:spPr>
          <a:xfrm>
            <a:off x="1763640" y="260280"/>
            <a:ext cx="3818160" cy="254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47640" y="260280"/>
            <a:ext cx="68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1042920" y="1628640"/>
            <a:ext cx="5400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-437400"/>
            <a:ext cx="4608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43280" y="1628640"/>
            <a:ext cx="518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оди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второ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третий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23563498380b8"/>
          <p:cNvPicPr/>
          <p:nvPr/>
        </p:nvPicPr>
        <p:blipFill>
          <a:blip r:embed="rId1"/>
          <a:stretch/>
        </p:blipFill>
        <p:spPr>
          <a:xfrm>
            <a:off x="0" y="1844640"/>
            <a:ext cx="2868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XTreme</cp:lastModifiedBy>
  <dcterms:modified xsi:type="dcterms:W3CDTF">2010-02-18T10:16:10Z</dcterms:modified>
  <cp:revision>4</cp:revision>
  <dc:subject/>
  <dc:title>Музыка эпохи Классиц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40000000000010250600207f5200358026400</vt:lpwstr>
  </property>
</Properties>
</file>