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ACC-D12B-49F9-95DC-75203300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C6F-B84C-4B7D-BD43-9F18F2E8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1C1A-839E-4862-8842-B6C6CFA1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4AF8-BE72-4AFE-A414-628864CC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C69F-5349-49ED-B711-F60B4FA8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3EDC-2CF9-4DA3-8574-2EA5AC29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06A8-7B0C-4E82-9C4C-7FC56337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A453-BE0D-481C-8225-8DF2D9E2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8B1D-DAC5-4DCD-BB5D-28AE5E12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1C22-C185-45D4-BCFC-A5EBCA8A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22E0-8D81-4B09-A8AE-AE7312D1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977-A46D-43B0-895D-B67262CD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A1DB-6578-49A2-9BAE-CF564BAF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73E5-5793-431A-A386-F2374D21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DCD2-46C7-4AA9-BCD8-E521659E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1FBC-8971-4F29-92E1-1494F90C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E1B0-72E8-48A1-B6D3-0F876A9F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C5C-D966-4855-9636-F9DC07BD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B692-1561-4DEA-BD5E-70FE87D7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9E1-0592-48FB-B018-735E71BB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9F8-D36A-4E07-94D6-9DFD9EE0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782-BEC7-4CC2-A124-C25AC761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48F-D669-43BB-8123-EA514922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00F-4DC4-4028-9D53-83CEBDF2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7E9D-BFB7-4000-B965-503E6DBCD79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B130-7257-4CFC-80EC-008A564F204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ipk.admin.tstu.ru/sputnik/index/str/elekron_bibliot.files/Jornal/Vio_30/cd_site/Articles/art_3_5_clip_image027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6400800" cy="812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ШАР. СФЕР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066320" y="27432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ЫПОЛНИЛА: УЧЕНИЦА 11А         КЛАСС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ОУ СОШ П. ПЯЛЬ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ИНИНА УЛЬЯ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читель: Венскович Алла Серге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4479840"/>
            <a:ext cx="281952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05720" cy="60948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ересечение двух сфе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3276360" cy="4648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380880" y="2133720"/>
            <a:ext cx="3353040" cy="1557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Линия пересечения двух сфер есть окру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6705360" cy="2163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2943360" cy="327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3"/>
          <a:srcRect l="64942" t="38888" r="10539" b="41114"/>
          <a:stretch/>
        </p:blipFill>
        <p:spPr>
          <a:xfrm>
            <a:off x="4419720" y="3276720"/>
            <a:ext cx="2206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3962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Шар – это…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ло, которое состоит из всех точек пространства, находящихся на расстоянии, не большем данного, от данной точ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867280" y="3733920"/>
            <a:ext cx="255600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Элементы шар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очка находящаяся на расстоянии, не больше данного, называется </a:t>
            </a: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центром шара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О), а данное расстояние – </a:t>
            </a: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радиус шара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СО,ОД,АО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резок, соединяющий две точки шаровой поверхности и проходящий через центр шара, называется </a:t>
            </a: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диаметром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СД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нцы любого диаметра называются</a:t>
            </a: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 диаметрально противоположным точками ша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Картинка 2 из 8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1523880"/>
            <a:ext cx="3376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4816440" cy="5486400"/>
            <a:chOff x="0" y="0"/>
            <a:chExt cx="4816440" cy="5486400"/>
          </a:xfrm>
        </p:grpSpPr>
        <p:grpSp>
          <p:nvGrpSpPr>
            <p:cNvPr id="161" name=""/>
            <p:cNvGrpSpPr/>
            <p:nvPr/>
          </p:nvGrpSpPr>
          <p:grpSpPr>
            <a:xfrm>
              <a:off x="0" y="0"/>
              <a:ext cx="4816440" cy="5486400"/>
              <a:chOff x="0" y="0"/>
              <a:chExt cx="4816440" cy="5486400"/>
            </a:xfrm>
          </p:grpSpPr>
          <p:pic>
            <p:nvPicPr>
              <p:cNvPr id="1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81644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152280" y="2133720"/>
                <a:ext cx="4419720" cy="1371600"/>
              </a:xfrm>
              <a:prstGeom prst="ellipse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837720" y="2286000"/>
                <a:ext cx="3124440" cy="9907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52280" y="533520"/>
              <a:ext cx="4419720" cy="4419360"/>
            </a:xfrm>
            <a:prstGeom prst="ellipse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629400" y="14479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217967"/>
              <a:gd name="adj4" fmla="val -46753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228600"/>
            <a:ext cx="1066680" cy="609480"/>
          </a:xfrm>
          <a:prstGeom prst="borderCallout1">
            <a:avLst>
              <a:gd name="adj1" fmla="val 18750"/>
              <a:gd name="adj2" fmla="val -8333"/>
              <a:gd name="adj3" fmla="val 390106"/>
              <a:gd name="adj4" fmla="val -326638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диус 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3800" y="25909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9532"/>
              <a:gd name="adj4" fmla="val -333680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фера 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4343400"/>
            <a:ext cx="2286000" cy="380880"/>
          </a:xfrm>
          <a:prstGeom prst="borderCallout1">
            <a:avLst>
              <a:gd name="adj1" fmla="val 18750"/>
              <a:gd name="adj2" fmla="val -8333"/>
              <a:gd name="adj3" fmla="val -461666"/>
              <a:gd name="adj4" fmla="val -159791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иаметр ш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914400" y="2311560"/>
            <a:ext cx="7238880" cy="4518720"/>
            <a:chOff x="914400" y="2311560"/>
            <a:chExt cx="7238880" cy="4518720"/>
          </a:xfrm>
        </p:grpSpPr>
        <p:sp>
          <p:nvSpPr>
            <p:cNvPr id="171" name=""/>
            <p:cNvSpPr/>
            <p:nvPr/>
          </p:nvSpPr>
          <p:spPr>
            <a:xfrm>
              <a:off x="3581280" y="5913360"/>
              <a:ext cx="4572000" cy="91692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Концы любого диаметра – диаметрально расположенные точки шара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3251160"/>
              <a:ext cx="685800" cy="258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4400" y="2311560"/>
              <a:ext cx="3733920" cy="352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228600"/>
            <a:ext cx="2514600" cy="41173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Шар, так же как цилиндр и конус, является телом вращения. Он получается при вращении полукруга вокруг его диаметра как 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666880" y="762120"/>
            <a:ext cx="5257800" cy="5867280"/>
            <a:chOff x="2666880" y="762120"/>
            <a:chExt cx="5257800" cy="586728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2666880" y="762120"/>
              <a:ext cx="522468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666880" y="762120"/>
              <a:ext cx="518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924680" y="762120"/>
              <a:ext cx="0" cy="586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662940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4343400"/>
              <a:ext cx="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ечение шара плоскость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1371600"/>
            <a:ext cx="624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сякое сечение шара плоскостью есть круг. Центр этого круга есть основание перпендикуляра, опущенного из центра шара на секущую плос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38480" y="2819520"/>
            <a:ext cx="3429000" cy="32716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иаметральной плоскостью шара называется плоскость, проходящая через его центр. Сечение шара диаметральной плоскостью называется большим круг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00600" y="304920"/>
            <a:ext cx="3024360" cy="25509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86" name=""/>
          <p:cNvSpPr/>
          <p:nvPr/>
        </p:nvSpPr>
        <p:spPr>
          <a:xfrm flipV="1">
            <a:off x="2057400" y="2743200"/>
            <a:ext cx="2362320" cy="236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38862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ечение сферы – большой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имметрия шара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Любая диаметральная плоскость шара является плоскостью его симметрии. Центр шара является его центром симметр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 flipH="1">
            <a:off x="4800600" y="3429000"/>
            <a:ext cx="327672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асательная плоскость к шару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лоскость, проходящая через точку А шаровой поверхности и перпендикулярная радиусу, проведенному в точку А, называется касательной плоскостью. Точка А – точка кас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3246480" cy="30700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1981080" y="4495680"/>
            <a:ext cx="6400800" cy="21132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асательная с шаром имеет только одну точку касания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ямая, проходящая через эту точку, называется касательной к шару в этой точк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УВР</cp:lastModifiedBy>
  <dcterms:modified xsi:type="dcterms:W3CDTF">2010-01-12T09:44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