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DF7-90CA-4FE3-B1BE-C4FF5360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7B5-DC27-4EBB-A6CD-9D58C8F6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3AD-B7FD-4E7E-B1A4-ED3B883B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515-B462-4CF4-940A-4926A2EC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0563-A8F6-4BD1-8305-ADF28F04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CBA3-4D0B-42F6-A75D-51EE139A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82C6-59DC-49CC-9039-7FCE5D2F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7595-523F-43D1-996A-FF19680E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B456-4D96-49C4-A193-C2E2C4E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B059-F472-4293-9F29-99853DCA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4AB2-1A11-4301-AA3F-185754AD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890-B4C9-44DA-A4FF-CB1CCB7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0C52-8209-4D31-9866-D051F339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28C1-5011-4961-A4BC-AC14D14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0223-01FB-4650-BA24-C95E05AB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C648-3A8C-4D3F-8489-5DDBB6A3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5127-9956-4336-9622-C69F99ED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4D2-940A-4363-AB53-5E144F7F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175-8C74-41F0-8E44-1BF51E4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818-581B-48E2-A465-E65AF89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AA9-AD25-4DA6-BD83-90805A81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7AF-7F57-48F2-BF29-18BE8388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AB2-A248-47BA-B41E-64FBCDFF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C08-E285-4636-A8A0-D8C36E1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14FA-6C3E-4DEF-983E-4406F02C746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9C37-D1FF-4EF5-8974-38FE4E01B5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ipk.admin.tstu.ru/sputnik/index/str/elekron_bibliot.files/Jornal/Vio_30/cd_site/Articles/art_3_5_clip_image027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6400800" cy="812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ШАР. СФЕ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320" y="2743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ЫПОЛНИЛА: УЧЕНИЦА 11А         КЛАСС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ОУ СОШ П. ПЯЛЬ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ИНИНА УЛЬЯ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читель: Венскович Алла Серге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4479840"/>
            <a:ext cx="281952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05720" cy="60948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ересечение двух сфе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3276360" cy="4648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380880" y="2133720"/>
            <a:ext cx="3353040" cy="1557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иния пересечения двух сфер есть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6705360" cy="2163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943360" cy="327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3"/>
          <a:srcRect l="64942" t="38888" r="10539" b="41114"/>
          <a:stretch/>
        </p:blipFill>
        <p:spPr>
          <a:xfrm>
            <a:off x="4419720" y="3276720"/>
            <a:ext cx="2206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3962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Шар – это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ло, которое состоит из всех точек пространства, находящихся на расстоянии, не большем данного, от данной 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67280" y="37339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Элементы ша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очка находящаяся на расстоянии, не больше данного, называется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центром шар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О), а данное расстояние –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радиус шар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СО,ОД,А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резок, соединяющий две точки шаровой поверхности и проходящий через центр шара, называется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диаметром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СД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нцы любого диаметра называются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 диаметрально противоположным точками ша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Картинка 2 из 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1523880"/>
            <a:ext cx="337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4816440" cy="5486400"/>
            <a:chOff x="0" y="0"/>
            <a:chExt cx="4816440" cy="5486400"/>
          </a:xfrm>
        </p:grpSpPr>
        <p:grpSp>
          <p:nvGrpSpPr>
            <p:cNvPr id="161" name=""/>
            <p:cNvGrpSpPr/>
            <p:nvPr/>
          </p:nvGrpSpPr>
          <p:grpSpPr>
            <a:xfrm>
              <a:off x="0" y="0"/>
              <a:ext cx="4816440" cy="5486400"/>
              <a:chOff x="0" y="0"/>
              <a:chExt cx="4816440" cy="5486400"/>
            </a:xfrm>
          </p:grpSpPr>
          <p:pic>
            <p:nvPicPr>
              <p:cNvPr id="1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81644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152280" y="2133720"/>
                <a:ext cx="4419720" cy="137160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837720" y="2286000"/>
                <a:ext cx="3124440" cy="9907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52280" y="533520"/>
              <a:ext cx="4419720" cy="441936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629400" y="14479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17967"/>
              <a:gd name="adj4" fmla="val -46753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228600"/>
            <a:ext cx="1066680" cy="609480"/>
          </a:xfrm>
          <a:prstGeom prst="borderCallout1">
            <a:avLst>
              <a:gd name="adj1" fmla="val 18750"/>
              <a:gd name="adj2" fmla="val -8333"/>
              <a:gd name="adj3" fmla="val 390106"/>
              <a:gd name="adj4" fmla="val -326638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диус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25909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9532"/>
              <a:gd name="adj4" fmla="val -333680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фера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4343400"/>
            <a:ext cx="2286000" cy="380880"/>
          </a:xfrm>
          <a:prstGeom prst="borderCallout1">
            <a:avLst>
              <a:gd name="adj1" fmla="val 18750"/>
              <a:gd name="adj2" fmla="val -8333"/>
              <a:gd name="adj3" fmla="val -461666"/>
              <a:gd name="adj4" fmla="val -159791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иаметр ш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4400" y="2311560"/>
            <a:ext cx="7238880" cy="4518720"/>
            <a:chOff x="914400" y="2311560"/>
            <a:chExt cx="7238880" cy="4518720"/>
          </a:xfrm>
        </p:grpSpPr>
        <p:sp>
          <p:nvSpPr>
            <p:cNvPr id="171" name=""/>
            <p:cNvSpPr/>
            <p:nvPr/>
          </p:nvSpPr>
          <p:spPr>
            <a:xfrm>
              <a:off x="3581280" y="5913360"/>
              <a:ext cx="4572000" cy="91692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Концы любого диаметра – диаметрально расположенные точки шар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3251160"/>
              <a:ext cx="685800" cy="258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311560"/>
              <a:ext cx="3733920" cy="352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228600"/>
            <a:ext cx="2514600" cy="41173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Шар, так же как цилиндр и конус, является телом вращения. Он получается при вращении полукруга вокруг его диаметра как 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762120"/>
            <a:ext cx="5257800" cy="5867280"/>
            <a:chOff x="2666880" y="762120"/>
            <a:chExt cx="5257800" cy="58672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2666880" y="762120"/>
              <a:ext cx="522468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666880" y="762120"/>
              <a:ext cx="51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924680" y="762120"/>
              <a:ext cx="0" cy="586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66294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434340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ечение шара плоскост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1371600"/>
            <a:ext cx="624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сякое сечение шара плоскостью есть круг. Центр этого круга есть основание перпендикуляра, опущенного из центра шара на секущую плос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3429000" cy="32716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иаметральной плоскостью шара называется плоскость, проходящая через его центр. Сечение шара диаметральной плоскостью называется большим круг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3024360" cy="25509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86" name=""/>
          <p:cNvSpPr/>
          <p:nvPr/>
        </p:nvSpPr>
        <p:spPr>
          <a:xfrm flipV="1">
            <a:off x="2057400" y="2743200"/>
            <a:ext cx="236232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886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ечение сферы – большой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имметрия шара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юбая диаметральная плоскость шара является плоскостью его симметрии. Центр шара является его центром симметр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flipH="1">
            <a:off x="4800600" y="3429000"/>
            <a:ext cx="32767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асательная плоскость к шару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лоскость, проходящая через точку А шаровой поверхности и перпендикулярная радиусу, проведенному в точку А, называется касательной плоскостью. Точка А – точка кас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246480" cy="30700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981080" y="4495680"/>
            <a:ext cx="6400800" cy="21132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сательная с шаром имеет только одну точку касани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ямая, проходящая через эту точку, называется касательной к шару в этой точк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ВР</cp:lastModifiedBy>
  <dcterms:modified xsi:type="dcterms:W3CDTF">2010-01-12T09:44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