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66C-D804-41DE-B88B-E83C8DD1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074-0149-4C6D-8608-2619EA0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39A-9A2E-4DA2-8D1F-626A903C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178-E142-4E20-BD36-5463F217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4C6-CB90-4DBF-85D6-93B31BE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2A62-1EF2-49EB-9C5B-A66EB05B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86C0-7EF0-48EC-AA95-819D565E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41BB-A601-4EDA-946B-F6E5249C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79DD-5539-4130-9A3F-E34CF9AC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3A1A-BD03-491B-969A-EB75E21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80CC-C401-44B0-8207-2E025C6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863-DC31-441E-9ED6-2BF6D9B4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A4FE-E15A-458F-B779-5AEB32F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EE02-F656-4CE5-BAFB-B32D7D89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AAC3-753C-49D2-8D4F-FE039442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3B0E-94CB-45D0-9DE6-0C3E696E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C48A-9794-4A6B-AECB-960D7885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3F8-B215-4B08-B985-A96F5853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D41-27D8-4F81-97A6-DCC0DE4E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9E6-D2D2-4B11-9E23-45911B3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6BC-26DC-4E03-9FFB-F8E06B7E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64E-35E5-4136-9342-F4C51B29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A03-7D5A-4E46-88F2-A7431B01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F9C-0B78-4C68-A109-7E712AA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F86A-7202-43FA-841C-DA8FE077633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A9D5-6B59-4180-B794-94D27B1B4F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ipk.admin.tstu.ru/sputnik/index/str/elekron_bibliot.files/Jornal/Vio_30/cd_site/Articles/art_3_5_clip_image027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6400800" cy="812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ШАР. СФЕР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066320" y="2743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ЫПОЛНИЛА: УЧЕНИЦА 11А         КЛАСС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ОУ СОШ П. ПЯЛЬ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ИНИНА УЛЬЯ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читель: Венскович Алла Серге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4479840"/>
            <a:ext cx="281952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705720" cy="60948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ересечение двух сфе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3276360" cy="464832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380880" y="2133720"/>
            <a:ext cx="3353040" cy="15570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иния пересечения двух сфер есть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6705360" cy="2163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943360" cy="327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3"/>
          <a:srcRect l="64942" t="38888" r="10539" b="41114"/>
          <a:stretch/>
        </p:blipFill>
        <p:spPr>
          <a:xfrm>
            <a:off x="4419720" y="3276720"/>
            <a:ext cx="2206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3962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Шар – это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ло, которое состоит из всех точек пространства, находящихся на расстоянии, не большем данного, от данной точ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867280" y="3733920"/>
            <a:ext cx="255600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Элементы ша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очка находящаяся на расстоянии, не больше данного, называется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центром шар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О), а данное расстояние –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радиус шар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СО,ОД,АО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трезок, соединяющий две точки шаровой поверхности и проходящий через центр шара, называется 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диаметром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СД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нцы любого диаметра называются</a:t>
            </a:r>
            <a:r>
              <a:rPr b="1" lang="en-US" sz="2400" spc="-1" strike="noStrike">
                <a:solidFill>
                  <a:srgbClr val="9900ff"/>
                </a:solidFill>
                <a:latin typeface="Comic Sans MS"/>
              </a:rPr>
              <a:t> диаметрально противоположным точками ша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Картинка 2 из 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1523880"/>
            <a:ext cx="3376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4816440" cy="5486400"/>
            <a:chOff x="0" y="0"/>
            <a:chExt cx="4816440" cy="5486400"/>
          </a:xfrm>
        </p:grpSpPr>
        <p:grpSp>
          <p:nvGrpSpPr>
            <p:cNvPr id="161" name=""/>
            <p:cNvGrpSpPr/>
            <p:nvPr/>
          </p:nvGrpSpPr>
          <p:grpSpPr>
            <a:xfrm>
              <a:off x="0" y="0"/>
              <a:ext cx="4816440" cy="5486400"/>
              <a:chOff x="0" y="0"/>
              <a:chExt cx="4816440" cy="5486400"/>
            </a:xfrm>
          </p:grpSpPr>
          <p:pic>
            <p:nvPicPr>
              <p:cNvPr id="1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81644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152280" y="2133720"/>
                <a:ext cx="4419720" cy="137160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flipV="1">
                <a:off x="837720" y="2286000"/>
                <a:ext cx="3124440" cy="9907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52280" y="533520"/>
              <a:ext cx="4419720" cy="441936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629400" y="14479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17967"/>
              <a:gd name="adj4" fmla="val -467537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228600"/>
            <a:ext cx="1066680" cy="609480"/>
          </a:xfrm>
          <a:prstGeom prst="borderCallout1">
            <a:avLst>
              <a:gd name="adj1" fmla="val 18750"/>
              <a:gd name="adj2" fmla="val -8333"/>
              <a:gd name="adj3" fmla="val 390106"/>
              <a:gd name="adj4" fmla="val -326638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диус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3800" y="25909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9532"/>
              <a:gd name="adj4" fmla="val -333680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фера ш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4343400"/>
            <a:ext cx="2286000" cy="380880"/>
          </a:xfrm>
          <a:prstGeom prst="borderCallout1">
            <a:avLst>
              <a:gd name="adj1" fmla="val 18750"/>
              <a:gd name="adj2" fmla="val -8333"/>
              <a:gd name="adj3" fmla="val -461666"/>
              <a:gd name="adj4" fmla="val -159791"/>
            </a:avLst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иаметр ш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4400" y="2311560"/>
            <a:ext cx="7238880" cy="4518720"/>
            <a:chOff x="914400" y="2311560"/>
            <a:chExt cx="7238880" cy="4518720"/>
          </a:xfrm>
        </p:grpSpPr>
        <p:sp>
          <p:nvSpPr>
            <p:cNvPr id="171" name=""/>
            <p:cNvSpPr/>
            <p:nvPr/>
          </p:nvSpPr>
          <p:spPr>
            <a:xfrm>
              <a:off x="3581280" y="5913360"/>
              <a:ext cx="4572000" cy="91692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Концы любого диаметра – диаметрально расположенные точки шар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3251160"/>
              <a:ext cx="685800" cy="258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311560"/>
              <a:ext cx="3733920" cy="352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228600"/>
            <a:ext cx="2514600" cy="41173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Шар, так же как цилиндр и конус, является телом вращения. Он получается при вращении полукруга вокруг его диаметра как 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666880" y="762120"/>
            <a:ext cx="5257800" cy="5867280"/>
            <a:chOff x="2666880" y="762120"/>
            <a:chExt cx="5257800" cy="58672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2666880" y="762120"/>
              <a:ext cx="522468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666880" y="762120"/>
              <a:ext cx="518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924680" y="762120"/>
              <a:ext cx="0" cy="586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6629400"/>
              <a:ext cx="52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434340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ечение шара плоскост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1371600"/>
            <a:ext cx="624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сякое сечение шара плоскостью есть круг. Центр этого круга есть основание перпендикуляра, опущенного из центра шара на секущую плос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38480" y="2819520"/>
            <a:ext cx="3429000" cy="32716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иаметральной плоскостью шара называется плоскость, проходящая через его центр. Сечение шара диаметральной плоскостью называется большим круг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00600" y="304920"/>
            <a:ext cx="3024360" cy="25509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86" name=""/>
          <p:cNvSpPr/>
          <p:nvPr/>
        </p:nvSpPr>
        <p:spPr>
          <a:xfrm flipV="1">
            <a:off x="2057400" y="2743200"/>
            <a:ext cx="236232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3886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ечение сферы – большой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имметрия шара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Любая диаметральная плоскость шара является плоскостью его симметрии. Центр шара является его центром симметр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flipH="1">
            <a:off x="4800600" y="3429000"/>
            <a:ext cx="32767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асательная плоскость к шару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лоскость, проходящая через точку А шаровой поверхности и перпендикулярная радиусу, проведенному в точку А, называется касательной плоскостью. Точка А – точка кас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3246480" cy="307008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981080" y="4495680"/>
            <a:ext cx="6400800" cy="2113200"/>
          </a:xfrm>
          <a:prstGeom prst="rect">
            <a:avLst/>
          </a:prstGeom>
          <a:noFill/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асательная с шаром имеет только одну точку касани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ямая, проходящая через эту точку, называется касательной к шару в этой точк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ВР</cp:lastModifiedBy>
  <dcterms:modified xsi:type="dcterms:W3CDTF">2010-01-12T09:44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