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20.wmf" ContentType="image/x-wmf"/>
  <Override PartName="/ppt/media/image8.wmf" ContentType="image/x-wmf"/>
  <Override PartName="/ppt/media/image9.wmf" ContentType="image/x-wmf"/>
  <Override PartName="/ppt/media/image13.wmf" ContentType="image/x-wmf"/>
  <Override PartName="/ppt/media/image33.wmf" ContentType="image/x-wmf"/>
  <Override PartName="/ppt/media/image29.jpeg" ContentType="image/jpeg"/>
  <Override PartName="/ppt/media/image26.png" ContentType="image/png"/>
  <Override PartName="/ppt/media/image11.wmf" ContentType="image/x-wmf"/>
  <Override PartName="/ppt/media/image3.png" ContentType="image/png"/>
  <Override PartName="/ppt/media/image30.wmf" ContentType="image/x-wmf"/>
  <Override PartName="/ppt/media/image28.wmf" ContentType="image/x-wmf"/>
  <Override PartName="/ppt/media/image31.wmf" ContentType="image/x-wmf"/>
  <Override PartName="/ppt/media/image32.wmf" ContentType="image/x-wmf"/>
  <Override PartName="/ppt/media/image7.wmf" ContentType="image/x-wmf"/>
  <Override PartName="/ppt/media/image12.wmf" ContentType="image/x-wmf"/>
  <Override PartName="/ppt/media/image36.wmf" ContentType="image/x-wmf"/>
  <Override PartName="/ppt/media/image16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png" ContentType="image/png"/>
  <Override PartName="/ppt/media/image15.wmf" ContentType="image/x-wmf"/>
  <Override PartName="/ppt/media/image17.wmf" ContentType="image/x-wmf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6EDF-5586-4203-8A7B-006AA61B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40DE-0ABD-4479-9F2B-91FA1B77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FE59-FA01-468F-9D9F-5D92D6B3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C567-8B6C-407A-931E-CA59C318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ED9A-5405-4EAE-8E8F-85810E78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512D-6AF4-4411-B1AC-36CD6783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8991-FBCD-46ED-BBFF-E393452A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7BF6-03A2-4E2E-9616-97911ED1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6E78-194C-4697-802A-DA8C3111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9E97-9F6E-41A9-A1BE-A0E7BE0E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B41A-ED94-40B0-8702-DA18C3EF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DA4-3208-4627-9747-4434E798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1D9C-B6EA-4874-8BF4-5C3239EB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392B-AC60-4860-A3B9-DA2952C7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6381-453A-4637-8A98-074DB3FF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53F9-7AF2-4D02-A54A-B5CAB6EB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1C18-28D2-4A28-853B-FB4ED73D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197C-E4D0-4088-BD99-EEDF2AAA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49F8-106C-4E0B-BEDB-5F4F977C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9E41-D82B-4ECD-9FDB-BBB1E90E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4C82-03A9-4592-975D-1AC6C3E1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5524-7C4E-4CAD-B248-158FF6B0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0F7C-A2B5-47B7-87C3-A0C81DE8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8EF-AD2E-4567-8493-84759ECE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6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Rectangle 54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" name="Rectangle 50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" name="Freeform 3"/>
            <p:cNvSpPr/>
            <p:nvPr/>
          </p:nvSpPr>
          <p:spPr>
            <a:xfrm>
              <a:off x="0" y="-12600"/>
              <a:ext cx="5778360" cy="227628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4" name="Freeform 4"/>
            <p:cNvSpPr/>
            <p:nvPr/>
          </p:nvSpPr>
          <p:spPr>
            <a:xfrm>
              <a:off x="0" y="-12600"/>
              <a:ext cx="3168720" cy="196848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5" name="Freeform 5"/>
            <p:cNvSpPr/>
            <p:nvPr/>
          </p:nvSpPr>
          <p:spPr>
            <a:xfrm>
              <a:off x="0" y="-12600"/>
              <a:ext cx="2514600" cy="160020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" name="Freeform 6"/>
            <p:cNvSpPr/>
            <p:nvPr/>
          </p:nvSpPr>
          <p:spPr>
            <a:xfrm>
              <a:off x="1359000" y="228600"/>
              <a:ext cx="5956200" cy="288288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" name="Freeform 7"/>
            <p:cNvSpPr/>
            <p:nvPr/>
          </p:nvSpPr>
          <p:spPr>
            <a:xfrm>
              <a:off x="1542960" y="1092240"/>
              <a:ext cx="4095720" cy="180972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" name="Freeform 8"/>
            <p:cNvSpPr/>
            <p:nvPr/>
          </p:nvSpPr>
          <p:spPr>
            <a:xfrm>
              <a:off x="1857240" y="1444680"/>
              <a:ext cx="2791080" cy="1104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9" name="Freeform 9"/>
            <p:cNvSpPr/>
            <p:nvPr/>
          </p:nvSpPr>
          <p:spPr>
            <a:xfrm rot="21300600">
              <a:off x="2057400" y="1968480"/>
              <a:ext cx="1473120" cy="30492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0" name="Freeform 10"/>
            <p:cNvSpPr/>
            <p:nvPr/>
          </p:nvSpPr>
          <p:spPr>
            <a:xfrm>
              <a:off x="0" y="2514600"/>
              <a:ext cx="9134640" cy="36194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1" name="Freeform 11"/>
            <p:cNvSpPr/>
            <p:nvPr/>
          </p:nvSpPr>
          <p:spPr>
            <a:xfrm>
              <a:off x="1676520" y="3187800"/>
              <a:ext cx="2374920" cy="232416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2" name="Freeform 12"/>
            <p:cNvSpPr/>
            <p:nvPr/>
          </p:nvSpPr>
          <p:spPr>
            <a:xfrm rot="1158600">
              <a:off x="2057400" y="3416400"/>
              <a:ext cx="1787400" cy="1158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" name="Freeform 13"/>
            <p:cNvSpPr/>
            <p:nvPr/>
          </p:nvSpPr>
          <p:spPr>
            <a:xfrm>
              <a:off x="4940280" y="-12600"/>
              <a:ext cx="4203720" cy="538776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" name="Freeform 14"/>
            <p:cNvSpPr/>
            <p:nvPr/>
          </p:nvSpPr>
          <p:spPr>
            <a:xfrm>
              <a:off x="5562720" y="-12600"/>
              <a:ext cx="3581280" cy="50162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" name="Freeform 15"/>
            <p:cNvSpPr/>
            <p:nvPr/>
          </p:nvSpPr>
          <p:spPr>
            <a:xfrm>
              <a:off x="6362640" y="1714680"/>
              <a:ext cx="1663920" cy="1104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" name="Freeform 16"/>
            <p:cNvSpPr/>
            <p:nvPr/>
          </p:nvSpPr>
          <p:spPr>
            <a:xfrm>
              <a:off x="8123400" y="-12600"/>
              <a:ext cx="868320" cy="1104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" name="Freeform 17"/>
            <p:cNvSpPr/>
            <p:nvPr/>
          </p:nvSpPr>
          <p:spPr>
            <a:xfrm>
              <a:off x="0" y="3213000"/>
              <a:ext cx="3149640" cy="364500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" name="Freeform 18"/>
            <p:cNvSpPr/>
            <p:nvPr/>
          </p:nvSpPr>
          <p:spPr>
            <a:xfrm>
              <a:off x="0" y="3809880"/>
              <a:ext cx="1295280" cy="303552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" name="Freeform 19"/>
            <p:cNvSpPr/>
            <p:nvPr/>
          </p:nvSpPr>
          <p:spPr>
            <a:xfrm>
              <a:off x="4267080" y="5124600"/>
              <a:ext cx="4889520" cy="172080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0" name="Picture 49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3B53-9B06-4A72-8353-DF13F1AB9D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61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Rectangle 59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-12600"/>
              <a:ext cx="5778360" cy="227628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0" y="-12600"/>
              <a:ext cx="3168720" cy="196848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0" y="-12600"/>
              <a:ext cx="2514600" cy="160020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1359000" y="228600"/>
              <a:ext cx="5956200" cy="288288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1542960" y="1092240"/>
              <a:ext cx="4095720" cy="180972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1857240" y="1444680"/>
              <a:ext cx="2791080" cy="1104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 rot="21300600">
              <a:off x="2057400" y="1968480"/>
              <a:ext cx="1473120" cy="30492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0" y="2514600"/>
              <a:ext cx="9134640" cy="36194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76520" y="3187800"/>
              <a:ext cx="2374920" cy="232416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 rot="1158600">
              <a:off x="2057400" y="3416400"/>
              <a:ext cx="1787400" cy="1158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4940280" y="-12600"/>
              <a:ext cx="4203720" cy="538776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5562720" y="-12600"/>
              <a:ext cx="3581280" cy="50162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6362640" y="1714680"/>
              <a:ext cx="1663920" cy="1104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123400" y="-12600"/>
              <a:ext cx="868320" cy="1104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0" y="3213000"/>
              <a:ext cx="3149640" cy="364500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0" y="3809880"/>
              <a:ext cx="1295280" cy="303552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4267080" y="5124600"/>
              <a:ext cx="4889520" cy="172080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82" name="Picture 50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52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4" name="Line 56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85" name="Group 62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Line 57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7" name="Oval 58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305C-8336-43AE-8243-93BBC5237674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4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3.wmf"/><Relationship Id="rId14" Type="http://schemas.openxmlformats.org/officeDocument/2006/relationships/image" Target="../media/image24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jpeg"/><Relationship Id="rId9" Type="http://schemas.openxmlformats.org/officeDocument/2006/relationships/image" Target="../media/image29.jpeg"/><Relationship Id="rId10" Type="http://schemas.openxmlformats.org/officeDocument/2006/relationships/image" Target="../media/image29.jpeg"/><Relationship Id="rId11" Type="http://schemas.openxmlformats.org/officeDocument/2006/relationships/image" Target="../media/image29.jpeg"/><Relationship Id="rId12" Type="http://schemas.openxmlformats.org/officeDocument/2006/relationships/image" Target="../media/image30.wmf"/><Relationship Id="rId13" Type="http://schemas.openxmlformats.org/officeDocument/2006/relationships/image" Target="../media/image31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6"/>
          <p:cNvSpPr txBox="1"/>
          <p:nvPr/>
        </p:nvSpPr>
        <p:spPr>
          <a:xfrm>
            <a:off x="1600200" y="1828800"/>
            <a:ext cx="6248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ции и 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ежнациональные 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нош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Narrow"/>
              </a:rPr>
              <a:t>Отношения между нациями.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31" name="Group 92"/>
          <p:cNvGrpSpPr/>
          <p:nvPr/>
        </p:nvGrpSpPr>
        <p:grpSpPr>
          <a:xfrm>
            <a:off x="1143000" y="990720"/>
            <a:ext cx="7391520" cy="2324880"/>
            <a:chOff x="1143000" y="990720"/>
            <a:chExt cx="7391520" cy="2324880"/>
          </a:xfrm>
        </p:grpSpPr>
        <p:grpSp>
          <p:nvGrpSpPr>
            <p:cNvPr id="132" name="Group 90"/>
            <p:cNvGrpSpPr/>
            <p:nvPr/>
          </p:nvGrpSpPr>
          <p:grpSpPr>
            <a:xfrm>
              <a:off x="1143000" y="990720"/>
              <a:ext cx="1881360" cy="2324880"/>
              <a:chOff x="1143000" y="990720"/>
              <a:chExt cx="1881360" cy="2324880"/>
            </a:xfrm>
          </p:grpSpPr>
          <p:pic>
            <p:nvPicPr>
              <p:cNvPr id="133" name="Picture 88" descr="D:\Program Files\Microsoft Office\Clipart\standard\stddir1\bd04964_.wmf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990720"/>
                <a:ext cx="1881360" cy="189360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134" name="Text Box 89"/>
              <p:cNvSpPr/>
              <p:nvPr/>
            </p:nvSpPr>
            <p:spPr>
              <a:xfrm>
                <a:off x="1603080" y="2855880"/>
                <a:ext cx="96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 Narrow"/>
                  </a:rPr>
                  <a:t>Нации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135" name="WordArt 91"/>
            <p:cNvSpPr txBox="1"/>
            <p:nvPr/>
          </p:nvSpPr>
          <p:spPr>
            <a:xfrm>
              <a:off x="3733920" y="1371600"/>
              <a:ext cx="480060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большие группы людей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по национальному признаку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36" name="AutoShape 93"/>
          <p:cNvSpPr/>
          <p:nvPr/>
        </p:nvSpPr>
        <p:spPr>
          <a:xfrm>
            <a:off x="914400" y="3429000"/>
            <a:ext cx="8001000" cy="457200"/>
          </a:xfrm>
          <a:prstGeom prst="downArrowCallout">
            <a:avLst>
              <a:gd name="adj1" fmla="val -50472"/>
              <a:gd name="adj2" fmla="val 76725"/>
              <a:gd name="adj3" fmla="val 27083"/>
              <a:gd name="adj4" fmla="val 47222"/>
            </a:avLst>
          </a:prstGeom>
          <a:solidFill>
            <a:srgbClr val="ffcc00"/>
          </a:solidFill>
          <a:ln w="572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37" name="Group 96"/>
          <p:cNvGrpSpPr/>
          <p:nvPr/>
        </p:nvGrpSpPr>
        <p:grpSpPr>
          <a:xfrm>
            <a:off x="838080" y="3809880"/>
            <a:ext cx="2286000" cy="2971800"/>
            <a:chOff x="838080" y="3809880"/>
            <a:chExt cx="2286000" cy="2971800"/>
          </a:xfrm>
        </p:grpSpPr>
        <p:pic>
          <p:nvPicPr>
            <p:cNvPr id="138" name="Picture 94" descr="D:\Program Files\Microsoft Office\Clipart\standard\stddir1\bd05726_.wmf"/>
            <p:cNvPicPr/>
            <p:nvPr/>
          </p:nvPicPr>
          <p:blipFill>
            <a:blip r:embed="rId2"/>
            <a:stretch/>
          </p:blipFill>
          <p:spPr>
            <a:xfrm>
              <a:off x="1322280" y="3809880"/>
              <a:ext cx="1317600" cy="21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WordArt 95"/>
            <p:cNvSpPr txBox="1"/>
            <p:nvPr/>
          </p:nvSpPr>
          <p:spPr>
            <a:xfrm>
              <a:off x="838080" y="5943600"/>
              <a:ext cx="22860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990033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180</a:t>
              </a:r>
              <a:endParaRPr b="1" lang="en-US" sz="2400" spc="1" strike="noStrike">
                <a:ln w="9360">
                  <a:solidFill>
                    <a:srgbClr val="990033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990033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государств</a:t>
              </a:r>
              <a:endParaRPr b="1" lang="en-US" sz="2400" spc="1" strike="noStrike">
                <a:ln w="9360">
                  <a:solidFill>
                    <a:srgbClr val="990033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40" name="Group 99"/>
          <p:cNvGrpSpPr/>
          <p:nvPr/>
        </p:nvGrpSpPr>
        <p:grpSpPr>
          <a:xfrm>
            <a:off x="2514600" y="4648320"/>
            <a:ext cx="2448000" cy="1314360"/>
            <a:chOff x="2514600" y="4648320"/>
            <a:chExt cx="2448000" cy="1314360"/>
          </a:xfrm>
        </p:grpSpPr>
        <p:sp>
          <p:nvSpPr>
            <p:cNvPr id="141" name="Line 97"/>
            <p:cNvSpPr/>
            <p:nvPr/>
          </p:nvSpPr>
          <p:spPr>
            <a:xfrm>
              <a:off x="2514600" y="5334120"/>
              <a:ext cx="10666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2" name="WordArt 98"/>
            <p:cNvSpPr txBox="1"/>
            <p:nvPr/>
          </p:nvSpPr>
          <p:spPr>
            <a:xfrm>
              <a:off x="3657600" y="4648320"/>
              <a:ext cx="1305000" cy="131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2000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наций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43" name="Group 104"/>
          <p:cNvGrpSpPr/>
          <p:nvPr/>
        </p:nvGrpSpPr>
        <p:grpSpPr>
          <a:xfrm>
            <a:off x="5181480" y="3930480"/>
            <a:ext cx="3657600" cy="2774880"/>
            <a:chOff x="5181480" y="3930480"/>
            <a:chExt cx="3657600" cy="2774880"/>
          </a:xfrm>
        </p:grpSpPr>
        <p:sp>
          <p:nvSpPr>
            <p:cNvPr id="144" name="AutoShape 100"/>
            <p:cNvSpPr/>
            <p:nvPr/>
          </p:nvSpPr>
          <p:spPr>
            <a:xfrm>
              <a:off x="5181480" y="4191120"/>
              <a:ext cx="381240" cy="2209680"/>
            </a:xfrm>
            <a:prstGeom prst="rightArrowCallout">
              <a:avLst>
                <a:gd name="adj1" fmla="val 70793"/>
                <a:gd name="adj2" fmla="val 97432"/>
                <a:gd name="adj3" fmla="val 23333"/>
                <a:gd name="adj4" fmla="val 53333"/>
              </a:avLst>
            </a:prstGeom>
            <a:solidFill>
              <a:srgbClr val="ff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grpSp>
          <p:nvGrpSpPr>
            <p:cNvPr id="145" name="Group 103"/>
            <p:cNvGrpSpPr/>
            <p:nvPr/>
          </p:nvGrpSpPr>
          <p:grpSpPr>
            <a:xfrm>
              <a:off x="5943600" y="3930480"/>
              <a:ext cx="2895480" cy="2774880"/>
              <a:chOff x="5943600" y="3930480"/>
              <a:chExt cx="2895480" cy="2774880"/>
            </a:xfrm>
          </p:grpSpPr>
          <p:pic>
            <p:nvPicPr>
              <p:cNvPr id="146" name="Picture 101" descr="D:\Program Files\Common Files\Microsoft Shared\Clipart\cagcat50\BD05545_.WMF"/>
              <p:cNvPicPr/>
              <p:nvPr/>
            </p:nvPicPr>
            <p:blipFill>
              <a:blip r:embed="rId7"/>
              <a:stretch/>
            </p:blipFill>
            <p:spPr>
              <a:xfrm>
                <a:off x="6521400" y="3930480"/>
                <a:ext cx="1738440" cy="170820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147" name="WordArt 102"/>
              <p:cNvSpPr txBox="1"/>
              <p:nvPr/>
            </p:nvSpPr>
            <p:spPr>
              <a:xfrm>
                <a:off x="5943600" y="5867280"/>
                <a:ext cx="2895480" cy="838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oubleWave1">
                  <a:avLst>
                    <a:gd name="adj1" fmla="val 0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000099"/>
                      </a:solidFill>
                      <a:miter/>
                    </a:ln>
                    <a:solidFill>
                      <a:srgbClr val="33ccff"/>
                    </a:solidFill>
                    <a:effectLst>
                      <a:outerShdw dist="125751" dir="18900000" blurRad="0" rotWithShape="0">
                        <a:srgbClr val="000099"/>
                      </a:outerShdw>
                    </a:effectLst>
                    <a:latin typeface="Impact"/>
                  </a:rPr>
                  <a:t>многонациональные</a:t>
                </a:r>
                <a:endPara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  <a:ea typeface="Impact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000099"/>
                      </a:solidFill>
                      <a:miter/>
                    </a:ln>
                    <a:solidFill>
                      <a:srgbClr val="33ccff"/>
                    </a:solidFill>
                    <a:effectLst>
                      <a:outerShdw dist="125751" dir="18900000" blurRad="0" rotWithShape="0">
                        <a:srgbClr val="000099"/>
                      </a:outerShdw>
                    </a:effectLst>
                    <a:latin typeface="Impact"/>
                  </a:rPr>
                  <a:t>государства</a:t>
                </a:r>
                <a:endPara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Narrow"/>
              </a:rPr>
              <a:t>Отношения между нациями.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9" name="WordArt 20"/>
          <p:cNvSpPr txBox="1"/>
          <p:nvPr/>
        </p:nvSpPr>
        <p:spPr>
          <a:xfrm>
            <a:off x="3048120" y="914400"/>
            <a:ext cx="3619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ды общностей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50" name="Group 23"/>
          <p:cNvGrpSpPr/>
          <p:nvPr/>
        </p:nvGrpSpPr>
        <p:grpSpPr>
          <a:xfrm>
            <a:off x="826200" y="2014560"/>
            <a:ext cx="1894680" cy="1996200"/>
            <a:chOff x="826200" y="2014560"/>
            <a:chExt cx="1894680" cy="1996200"/>
          </a:xfrm>
        </p:grpSpPr>
        <p:pic>
          <p:nvPicPr>
            <p:cNvPr id="151" name="Picture 21" descr="D:\Program Files\Microsoft Office\Clipart\standard\stddir2\dd00484_.wmf"/>
            <p:cNvPicPr/>
            <p:nvPr/>
          </p:nvPicPr>
          <p:blipFill>
            <a:blip r:embed="rId1"/>
            <a:stretch/>
          </p:blipFill>
          <p:spPr>
            <a:xfrm>
              <a:off x="914400" y="2014560"/>
              <a:ext cx="1806480" cy="80496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2" name="Text Box 22"/>
            <p:cNvSpPr/>
            <p:nvPr/>
          </p:nvSpPr>
          <p:spPr>
            <a:xfrm>
              <a:off x="826200" y="2819520"/>
              <a:ext cx="1860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Племя-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родственные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связи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53" name="Group 26"/>
          <p:cNvGrpSpPr/>
          <p:nvPr/>
        </p:nvGrpSpPr>
        <p:grpSpPr>
          <a:xfrm>
            <a:off x="3661560" y="1600200"/>
            <a:ext cx="2128320" cy="2523240"/>
            <a:chOff x="3661560" y="1600200"/>
            <a:chExt cx="2128320" cy="2523240"/>
          </a:xfrm>
        </p:grpSpPr>
        <p:pic>
          <p:nvPicPr>
            <p:cNvPr id="154" name="Picture 24" descr="D:\Program Files\Microsoft Office\Clipart\standard\stddir2\ed00315_.wmf"/>
            <p:cNvPicPr/>
            <p:nvPr/>
          </p:nvPicPr>
          <p:blipFill>
            <a:blip r:embed="rId2"/>
            <a:stretch/>
          </p:blipFill>
          <p:spPr>
            <a:xfrm>
              <a:off x="4114800" y="1600200"/>
              <a:ext cx="12319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25"/>
            <p:cNvSpPr/>
            <p:nvPr/>
          </p:nvSpPr>
          <p:spPr>
            <a:xfrm>
              <a:off x="3661560" y="2932200"/>
              <a:ext cx="212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Народность-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Язык,Культура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территория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56" name="Group 29"/>
          <p:cNvGrpSpPr/>
          <p:nvPr/>
        </p:nvGrpSpPr>
        <p:grpSpPr>
          <a:xfrm>
            <a:off x="6099480" y="1600200"/>
            <a:ext cx="2905560" cy="3178440"/>
            <a:chOff x="6099480" y="1600200"/>
            <a:chExt cx="2905560" cy="3178440"/>
          </a:xfrm>
        </p:grpSpPr>
        <p:pic>
          <p:nvPicPr>
            <p:cNvPr id="157" name="Picture 27" descr="D:\Program Files\Microsoft Office\Clipart\standard\stddir1\bd06986_.wmf"/>
            <p:cNvPicPr/>
            <p:nvPr/>
          </p:nvPicPr>
          <p:blipFill>
            <a:blip r:embed="rId3"/>
            <a:stretch/>
          </p:blipFill>
          <p:spPr>
            <a:xfrm>
              <a:off x="6865920" y="1600200"/>
              <a:ext cx="1371600" cy="132408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8" name="Text Box 28"/>
            <p:cNvSpPr/>
            <p:nvPr/>
          </p:nvSpPr>
          <p:spPr>
            <a:xfrm>
              <a:off x="6099480" y="2855880"/>
              <a:ext cx="2905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Нация-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Язык,культура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территория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Экономические связи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59" name="Group 33"/>
          <p:cNvGrpSpPr/>
          <p:nvPr/>
        </p:nvGrpSpPr>
        <p:grpSpPr>
          <a:xfrm>
            <a:off x="1447920" y="4724280"/>
            <a:ext cx="7010280" cy="1635120"/>
            <a:chOff x="1447920" y="4724280"/>
            <a:chExt cx="7010280" cy="1635120"/>
          </a:xfrm>
        </p:grpSpPr>
        <p:pic>
          <p:nvPicPr>
            <p:cNvPr id="160" name="Picture 30" descr="D:\Program Files\Common Files\Microsoft Shared\Clipart\cagcat50\BD06990_.WMF"/>
            <p:cNvPicPr/>
            <p:nvPr/>
          </p:nvPicPr>
          <p:blipFill>
            <a:blip r:embed="rId4">
              <a:lum bright="24000"/>
            </a:blip>
            <a:stretch/>
          </p:blipFill>
          <p:spPr>
            <a:xfrm>
              <a:off x="1447920" y="4759200"/>
              <a:ext cx="1807920" cy="15350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61" name="WordArt 32"/>
            <p:cNvSpPr txBox="1"/>
            <p:nvPr/>
          </p:nvSpPr>
          <p:spPr>
            <a:xfrm>
              <a:off x="4572000" y="4724280"/>
              <a:ext cx="3886200" cy="1635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межнациональные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отношения-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частые конфликт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Narrow"/>
              </a:rPr>
              <a:t>Отношение к истории и традициям народа.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63" name="Group 20"/>
          <p:cNvGrpSpPr/>
          <p:nvPr/>
        </p:nvGrpSpPr>
        <p:grpSpPr>
          <a:xfrm>
            <a:off x="1371600" y="925560"/>
            <a:ext cx="6858000" cy="1893960"/>
            <a:chOff x="1371600" y="925560"/>
            <a:chExt cx="6858000" cy="1893960"/>
          </a:xfrm>
        </p:grpSpPr>
        <p:pic>
          <p:nvPicPr>
            <p:cNvPr id="164" name="Picture 16" descr="D:\Program Files\Microsoft Office\Clipart\standard\stddir1\bd00002_.wmf"/>
            <p:cNvPicPr/>
            <p:nvPr/>
          </p:nvPicPr>
          <p:blipFill>
            <a:blip r:embed="rId1"/>
            <a:stretch/>
          </p:blipFill>
          <p:spPr>
            <a:xfrm>
              <a:off x="1371600" y="1297080"/>
              <a:ext cx="61452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7" descr="D:\Program Files\Microsoft Office\Clipart\standard\stddir1\bd04964_.wmf"/>
            <p:cNvPicPr/>
            <p:nvPr/>
          </p:nvPicPr>
          <p:blipFill>
            <a:blip r:embed="rId2"/>
            <a:stretch/>
          </p:blipFill>
          <p:spPr>
            <a:xfrm>
              <a:off x="6348240" y="925560"/>
              <a:ext cx="1881360" cy="18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AutoShape 18"/>
            <p:cNvSpPr/>
            <p:nvPr/>
          </p:nvSpPr>
          <p:spPr>
            <a:xfrm>
              <a:off x="2438280" y="1295280"/>
              <a:ext cx="3429000" cy="381240"/>
            </a:xfrm>
            <a:prstGeom prst="leftRightArrow">
              <a:avLst>
                <a:gd name="adj1" fmla="val 50000"/>
                <a:gd name="adj2" fmla="val 179054"/>
              </a:avLst>
            </a:prstGeom>
            <a:solidFill>
              <a:srgbClr val="99ccff"/>
            </a:solidFill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7" name="Text Box 19"/>
            <p:cNvSpPr/>
            <p:nvPr/>
          </p:nvSpPr>
          <p:spPr>
            <a:xfrm>
              <a:off x="2306160" y="1789200"/>
              <a:ext cx="363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 Narrow"/>
                </a:rPr>
                <a:t>История человека и народа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 Narrow"/>
                </a:rPr>
                <a:t>неразделимы.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68" name="Group 23"/>
          <p:cNvGrpSpPr/>
          <p:nvPr/>
        </p:nvGrpSpPr>
        <p:grpSpPr>
          <a:xfrm>
            <a:off x="762120" y="3068640"/>
            <a:ext cx="1942920" cy="1999440"/>
            <a:chOff x="762120" y="3068640"/>
            <a:chExt cx="1942920" cy="1999440"/>
          </a:xfrm>
        </p:grpSpPr>
        <p:pic>
          <p:nvPicPr>
            <p:cNvPr id="169" name="Picture 21" descr="D:\Program Files\Microsoft Office\Clipart\standard\stddir4\tr00393_.wmf"/>
            <p:cNvPicPr/>
            <p:nvPr/>
          </p:nvPicPr>
          <p:blipFill>
            <a:blip r:embed="rId3">
              <a:lum bright="12000"/>
            </a:blip>
            <a:stretch/>
          </p:blipFill>
          <p:spPr>
            <a:xfrm>
              <a:off x="762120" y="3068640"/>
              <a:ext cx="1942920" cy="142704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170" name="Text Box 22"/>
            <p:cNvSpPr/>
            <p:nvPr/>
          </p:nvSpPr>
          <p:spPr>
            <a:xfrm>
              <a:off x="1185120" y="460836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 Narrow"/>
                </a:rPr>
                <a:t>1941-45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71" name="Group 28"/>
          <p:cNvGrpSpPr/>
          <p:nvPr/>
        </p:nvGrpSpPr>
        <p:grpSpPr>
          <a:xfrm>
            <a:off x="2895480" y="2971800"/>
            <a:ext cx="6096240" cy="1711440"/>
            <a:chOff x="2895480" y="2971800"/>
            <a:chExt cx="6096240" cy="1711440"/>
          </a:xfrm>
        </p:grpSpPr>
        <p:grpSp>
          <p:nvGrpSpPr>
            <p:cNvPr id="172" name="Group 26"/>
            <p:cNvGrpSpPr/>
            <p:nvPr/>
          </p:nvGrpSpPr>
          <p:grpSpPr>
            <a:xfrm>
              <a:off x="4572000" y="2971800"/>
              <a:ext cx="4419720" cy="1711440"/>
              <a:chOff x="4572000" y="2971800"/>
              <a:chExt cx="4419720" cy="1711440"/>
            </a:xfrm>
          </p:grpSpPr>
          <p:pic>
            <p:nvPicPr>
              <p:cNvPr id="173" name="Picture 24" descr="D:\Program Files\Microsoft Office\Clipart\standard\stddir4\pe02370_.wmf"/>
              <p:cNvPicPr/>
              <p:nvPr/>
            </p:nvPicPr>
            <p:blipFill>
              <a:blip r:embed="rId4"/>
              <a:stretch/>
            </p:blipFill>
            <p:spPr>
              <a:xfrm>
                <a:off x="4572000" y="3068640"/>
                <a:ext cx="1343160" cy="1517760"/>
              </a:xfrm>
              <a:prstGeom prst="rect">
                <a:avLst/>
              </a:prstGeom>
              <a:ln w="76320">
                <a:solidFill>
                  <a:srgbClr val="ff0000"/>
                </a:solidFill>
                <a:miter/>
              </a:ln>
            </p:spPr>
          </p:pic>
          <p:sp>
            <p:nvSpPr>
              <p:cNvPr id="174" name="WordArt 25"/>
              <p:cNvSpPr txBox="1"/>
              <p:nvPr/>
            </p:nvSpPr>
            <p:spPr>
              <a:xfrm>
                <a:off x="6343560" y="2971800"/>
                <a:ext cx="2648160" cy="1711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Up">
                  <a:avLst>
                    <a:gd name="adj" fmla="val 1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e701"/>
                        </a:gs>
                        <a:gs pos="100000">
                          <a:srgbClr val="fe3e02"/>
                        </a:gs>
                      </a:gsLst>
                      <a:lin ang="5400000"/>
                    </a:gradFill>
                    <a:latin typeface="Impact"/>
                  </a:rPr>
                  <a:t>миллионы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e701"/>
                        </a:gs>
                        <a:gs pos="100000">
                          <a:srgbClr val="fe3e02"/>
                        </a:gs>
                      </a:gsLst>
                      <a:lin ang="5400000"/>
                    </a:gradFill>
                    <a:latin typeface="Impact"/>
                  </a:rPr>
                  <a:t>искалеченных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e701"/>
                        </a:gs>
                        <a:gs pos="100000">
                          <a:srgbClr val="fe3e02"/>
                        </a:gs>
                      </a:gsLst>
                      <a:lin ang="5400000"/>
                    </a:gradFill>
                    <a:latin typeface="Impact"/>
                  </a:rPr>
                  <a:t>судеб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>
              <a:off x="2895480" y="3886200"/>
              <a:ext cx="1524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76" name="Group 33"/>
          <p:cNvGrpSpPr/>
          <p:nvPr/>
        </p:nvGrpSpPr>
        <p:grpSpPr>
          <a:xfrm>
            <a:off x="2048040" y="5181480"/>
            <a:ext cx="5647680" cy="1444680"/>
            <a:chOff x="2048040" y="5181480"/>
            <a:chExt cx="5647680" cy="1444680"/>
          </a:xfrm>
        </p:grpSpPr>
        <p:grpSp>
          <p:nvGrpSpPr>
            <p:cNvPr id="177" name="Group 31"/>
            <p:cNvGrpSpPr/>
            <p:nvPr/>
          </p:nvGrpSpPr>
          <p:grpSpPr>
            <a:xfrm>
              <a:off x="2048040" y="5181480"/>
              <a:ext cx="2248920" cy="1444680"/>
              <a:chOff x="2048040" y="5181480"/>
              <a:chExt cx="2248920" cy="1444680"/>
            </a:xfrm>
          </p:grpSpPr>
          <p:pic>
            <p:nvPicPr>
              <p:cNvPr id="178" name="Picture 29" descr="D:\Program Files\Microsoft Office\Clipart\standard\stddir1\bd07114_.wmf"/>
              <p:cNvPicPr/>
              <p:nvPr/>
            </p:nvPicPr>
            <p:blipFill>
              <a:blip r:embed="rId5"/>
              <a:stretch/>
            </p:blipFill>
            <p:spPr>
              <a:xfrm>
                <a:off x="3571920" y="5181480"/>
                <a:ext cx="725040" cy="1444680"/>
              </a:xfrm>
              <a:prstGeom prst="rect">
                <a:avLst/>
              </a:prstGeom>
              <a:ln w="76320">
                <a:solidFill>
                  <a:srgbClr val="ff0000"/>
                </a:solidFill>
                <a:miter/>
              </a:ln>
            </p:spPr>
          </p:pic>
          <p:sp>
            <p:nvSpPr>
              <p:cNvPr id="179" name="WordArt 30"/>
              <p:cNvSpPr txBox="1"/>
              <p:nvPr/>
            </p:nvSpPr>
            <p:spPr>
              <a:xfrm>
                <a:off x="2048040" y="5635440"/>
                <a:ext cx="1371240" cy="524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1" strike="noStrike">
                    <a:ln w="9360">
                      <a:solidFill>
                        <a:srgbClr val="ff0000"/>
                      </a:solidFill>
                      <a:miter/>
                    </a:ln>
                    <a:gradFill rotWithShape="0">
                      <a:gsLst>
                        <a:gs pos="0">
                          <a:srgbClr val="ff0000"/>
                        </a:gs>
                        <a:gs pos="50000">
                          <a:srgbClr val="ffffcc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"/>
                  </a:rPr>
                  <a:t>нация</a:t>
                </a:r>
                <a:endParaRPr b="1" i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50000">
                        <a:srgbClr val="ffffcc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  <a:ea typeface="Arial"/>
                </a:endParaRPr>
              </a:p>
            </p:txBody>
          </p:sp>
        </p:grpSp>
        <p:sp>
          <p:nvSpPr>
            <p:cNvPr id="180" name="WordArt 32"/>
            <p:cNvSpPr txBox="1"/>
            <p:nvPr/>
          </p:nvSpPr>
          <p:spPr>
            <a:xfrm>
              <a:off x="4562280" y="5332320"/>
              <a:ext cx="313344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6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ациональная 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8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гордость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Narrow"/>
              </a:rPr>
              <a:t>Отношение к истории и традициям народа.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2" name="WordArt 20"/>
          <p:cNvSpPr txBox="1"/>
          <p:nvPr/>
        </p:nvSpPr>
        <p:spPr>
          <a:xfrm>
            <a:off x="3200400" y="990720"/>
            <a:ext cx="3133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ациональная 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гордость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83" name="Group 28"/>
          <p:cNvGrpSpPr/>
          <p:nvPr/>
        </p:nvGrpSpPr>
        <p:grpSpPr>
          <a:xfrm>
            <a:off x="385920" y="914400"/>
            <a:ext cx="3271320" cy="2309760"/>
            <a:chOff x="385920" y="914400"/>
            <a:chExt cx="3271320" cy="2309760"/>
          </a:xfrm>
        </p:grpSpPr>
        <p:grpSp>
          <p:nvGrpSpPr>
            <p:cNvPr id="184" name="Group 23"/>
            <p:cNvGrpSpPr/>
            <p:nvPr/>
          </p:nvGrpSpPr>
          <p:grpSpPr>
            <a:xfrm>
              <a:off x="385920" y="914400"/>
              <a:ext cx="2288520" cy="2309760"/>
              <a:chOff x="385920" y="914400"/>
              <a:chExt cx="2288520" cy="2309760"/>
            </a:xfrm>
          </p:grpSpPr>
          <p:pic>
            <p:nvPicPr>
              <p:cNvPr id="185" name="Picture 21" descr="D:\Program Files\Microsoft Office\Clipart\standard\stddir1\bd05524_.wmf"/>
              <p:cNvPicPr/>
              <p:nvPr/>
            </p:nvPicPr>
            <p:blipFill>
              <a:blip r:embed="rId5"/>
              <a:stretch/>
            </p:blipFill>
            <p:spPr>
              <a:xfrm>
                <a:off x="768240" y="914400"/>
                <a:ext cx="1523880" cy="142560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186" name="Text Box 22"/>
              <p:cNvSpPr/>
              <p:nvPr/>
            </p:nvSpPr>
            <p:spPr>
              <a:xfrm>
                <a:off x="385920" y="2398680"/>
                <a:ext cx="2288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eaeaea"/>
                    </a:solidFill>
                    <a:latin typeface="Arial Narrow"/>
                  </a:rPr>
                  <a:t>Уважение к 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eaeaea"/>
                    </a:solidFill>
                    <a:latin typeface="Arial Narrow"/>
                  </a:rPr>
                  <a:t>другим народам 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187" name="Line 24"/>
            <p:cNvSpPr/>
            <p:nvPr/>
          </p:nvSpPr>
          <p:spPr>
            <a:xfrm flipH="1">
              <a:off x="2437920" y="1523880"/>
              <a:ext cx="1219320" cy="60984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88" name="Group 29"/>
          <p:cNvGrpSpPr/>
          <p:nvPr/>
        </p:nvGrpSpPr>
        <p:grpSpPr>
          <a:xfrm>
            <a:off x="5867280" y="1066680"/>
            <a:ext cx="3284640" cy="2197080"/>
            <a:chOff x="5867280" y="1066680"/>
            <a:chExt cx="3284640" cy="2197080"/>
          </a:xfrm>
        </p:grpSpPr>
        <p:sp>
          <p:nvSpPr>
            <p:cNvPr id="189" name="Line 25"/>
            <p:cNvSpPr/>
            <p:nvPr/>
          </p:nvSpPr>
          <p:spPr>
            <a:xfrm>
              <a:off x="5867280" y="1523880"/>
              <a:ext cx="1219320" cy="60984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190" name="Picture 26" descr="D:\Program Files\Microsoft Office\Clipart\corpbas\j0078734.wmf"/>
            <p:cNvPicPr/>
            <p:nvPr/>
          </p:nvPicPr>
          <p:blipFill>
            <a:blip r:embed="rId6"/>
            <a:stretch/>
          </p:blipFill>
          <p:spPr>
            <a:xfrm>
              <a:off x="7232760" y="1066680"/>
              <a:ext cx="1761840" cy="134316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91" name="Text Box 27"/>
            <p:cNvSpPr/>
            <p:nvPr/>
          </p:nvSpPr>
          <p:spPr>
            <a:xfrm>
              <a:off x="7075440" y="2438280"/>
              <a:ext cx="207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«Чужое-плохо»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Шовинизм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92" name="Group 34"/>
          <p:cNvGrpSpPr/>
          <p:nvPr/>
        </p:nvGrpSpPr>
        <p:grpSpPr>
          <a:xfrm>
            <a:off x="3886200" y="2286000"/>
            <a:ext cx="1733400" cy="1181160"/>
            <a:chOff x="3886200" y="2286000"/>
            <a:chExt cx="1733400" cy="1181160"/>
          </a:xfrm>
        </p:grpSpPr>
        <p:sp>
          <p:nvSpPr>
            <p:cNvPr id="193" name="WordArt 32"/>
            <p:cNvSpPr txBox="1"/>
            <p:nvPr/>
          </p:nvSpPr>
          <p:spPr>
            <a:xfrm>
              <a:off x="3886200" y="2895480"/>
              <a:ext cx="173340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история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94" name="Line 33"/>
            <p:cNvSpPr/>
            <p:nvPr/>
          </p:nvSpPr>
          <p:spPr>
            <a:xfrm>
              <a:off x="4724280" y="2286000"/>
              <a:ext cx="0" cy="6094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95" name="Group 39"/>
          <p:cNvGrpSpPr/>
          <p:nvPr/>
        </p:nvGrpSpPr>
        <p:grpSpPr>
          <a:xfrm>
            <a:off x="2666880" y="4114800"/>
            <a:ext cx="2523960" cy="533520"/>
            <a:chOff x="2666880" y="4114800"/>
            <a:chExt cx="2523960" cy="533520"/>
          </a:xfrm>
        </p:grpSpPr>
        <p:sp>
          <p:nvSpPr>
            <p:cNvPr id="196" name="WordArt 37"/>
            <p:cNvSpPr txBox="1"/>
            <p:nvPr/>
          </p:nvSpPr>
          <p:spPr>
            <a:xfrm>
              <a:off x="3124080" y="4114800"/>
              <a:ext cx="206676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гордость</a:t>
              </a:r>
              <a:endPara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  <p:sp>
          <p:nvSpPr>
            <p:cNvPr id="197" name="Line 38"/>
            <p:cNvSpPr/>
            <p:nvPr/>
          </p:nvSpPr>
          <p:spPr>
            <a:xfrm>
              <a:off x="2666880" y="4343400"/>
              <a:ext cx="457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98" name="Group 41"/>
          <p:cNvGrpSpPr/>
          <p:nvPr/>
        </p:nvGrpSpPr>
        <p:grpSpPr>
          <a:xfrm>
            <a:off x="4730760" y="3352680"/>
            <a:ext cx="2893320" cy="1983960"/>
            <a:chOff x="4730760" y="3352680"/>
            <a:chExt cx="2893320" cy="1983960"/>
          </a:xfrm>
        </p:grpSpPr>
        <p:pic>
          <p:nvPicPr>
            <p:cNvPr id="199" name="Picture 31" descr="D:\Program Files\Microsoft Office\Clipart\corpbas\j0078739.wmf"/>
            <p:cNvPicPr/>
            <p:nvPr/>
          </p:nvPicPr>
          <p:blipFill>
            <a:blip r:embed="rId9"/>
            <a:stretch/>
          </p:blipFill>
          <p:spPr>
            <a:xfrm>
              <a:off x="5802120" y="3352680"/>
              <a:ext cx="728640" cy="152424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200" name="Text Box 40"/>
            <p:cNvSpPr/>
            <p:nvPr/>
          </p:nvSpPr>
          <p:spPr>
            <a:xfrm>
              <a:off x="4730760" y="4876920"/>
              <a:ext cx="28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«мрачные страницы»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01" name="Group 43"/>
          <p:cNvGrpSpPr/>
          <p:nvPr/>
        </p:nvGrpSpPr>
        <p:grpSpPr>
          <a:xfrm>
            <a:off x="158760" y="3429000"/>
            <a:ext cx="4565520" cy="1907640"/>
            <a:chOff x="158760" y="3429000"/>
            <a:chExt cx="4565520" cy="1907640"/>
          </a:xfrm>
        </p:grpSpPr>
        <p:grpSp>
          <p:nvGrpSpPr>
            <p:cNvPr id="202" name="Group 36"/>
            <p:cNvGrpSpPr/>
            <p:nvPr/>
          </p:nvGrpSpPr>
          <p:grpSpPr>
            <a:xfrm>
              <a:off x="158760" y="3657600"/>
              <a:ext cx="2863080" cy="1679040"/>
              <a:chOff x="158760" y="3657600"/>
              <a:chExt cx="2863080" cy="1679040"/>
            </a:xfrm>
          </p:grpSpPr>
          <p:pic>
            <p:nvPicPr>
              <p:cNvPr id="203" name="Picture 30" descr="D:\Program Files\Microsoft Office\Clipart\corpbas\j0078757.wmf"/>
              <p:cNvPicPr/>
              <p:nvPr/>
            </p:nvPicPr>
            <p:blipFill>
              <a:blip r:embed="rId10"/>
              <a:stretch/>
            </p:blipFill>
            <p:spPr>
              <a:xfrm>
                <a:off x="609480" y="3657600"/>
                <a:ext cx="1904760" cy="1295280"/>
              </a:xfrm>
              <a:prstGeom prst="rect">
                <a:avLst/>
              </a:prstGeom>
              <a:ln w="76320">
                <a:solidFill>
                  <a:srgbClr val="ff0000"/>
                </a:solidFill>
                <a:miter/>
              </a:ln>
            </p:spPr>
          </p:pic>
          <p:sp>
            <p:nvSpPr>
              <p:cNvPr id="204" name="Text Box 35"/>
              <p:cNvSpPr/>
              <p:nvPr/>
            </p:nvSpPr>
            <p:spPr>
              <a:xfrm>
                <a:off x="158760" y="4876920"/>
                <a:ext cx="286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eaeaea"/>
                    </a:solidFill>
                    <a:latin typeface="Arial Narrow"/>
                  </a:rPr>
                  <a:t>«славные страницы»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205" name="Line 42"/>
            <p:cNvSpPr/>
            <p:nvPr/>
          </p:nvSpPr>
          <p:spPr>
            <a:xfrm flipH="1">
              <a:off x="2590920" y="3429000"/>
              <a:ext cx="213336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06" name="Group 46"/>
          <p:cNvGrpSpPr/>
          <p:nvPr/>
        </p:nvGrpSpPr>
        <p:grpSpPr>
          <a:xfrm>
            <a:off x="6705720" y="3886200"/>
            <a:ext cx="2361960" cy="879480"/>
            <a:chOff x="6705720" y="3886200"/>
            <a:chExt cx="2361960" cy="879480"/>
          </a:xfrm>
        </p:grpSpPr>
        <p:sp>
          <p:nvSpPr>
            <p:cNvPr id="207" name="WordArt 44"/>
            <p:cNvSpPr txBox="1"/>
            <p:nvPr/>
          </p:nvSpPr>
          <p:spPr>
            <a:xfrm>
              <a:off x="7162920" y="3886200"/>
              <a:ext cx="1904760" cy="87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истинная</a:t>
              </a:r>
              <a:endPara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оценка</a:t>
              </a:r>
              <a:endPara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08" name="Line 45"/>
            <p:cNvSpPr/>
            <p:nvPr/>
          </p:nvSpPr>
          <p:spPr>
            <a:xfrm>
              <a:off x="6705720" y="4343400"/>
              <a:ext cx="457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09" name="Line 47"/>
          <p:cNvSpPr/>
          <p:nvPr/>
        </p:nvSpPr>
        <p:spPr>
          <a:xfrm>
            <a:off x="533520" y="5334120"/>
            <a:ext cx="84582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WordArt 48"/>
          <p:cNvSpPr txBox="1"/>
          <p:nvPr/>
        </p:nvSpPr>
        <p:spPr>
          <a:xfrm>
            <a:off x="609480" y="5829480"/>
            <a:ext cx="2067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радиции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11" name="Group 58"/>
          <p:cNvGrpSpPr/>
          <p:nvPr/>
        </p:nvGrpSpPr>
        <p:grpSpPr>
          <a:xfrm>
            <a:off x="2819520" y="5460840"/>
            <a:ext cx="2873160" cy="1323360"/>
            <a:chOff x="2819520" y="5460840"/>
            <a:chExt cx="2873160" cy="1323360"/>
          </a:xfrm>
        </p:grpSpPr>
        <p:grpSp>
          <p:nvGrpSpPr>
            <p:cNvPr id="212" name="Group 56"/>
            <p:cNvGrpSpPr/>
            <p:nvPr/>
          </p:nvGrpSpPr>
          <p:grpSpPr>
            <a:xfrm>
              <a:off x="3494160" y="5460840"/>
              <a:ext cx="2198520" cy="1323360"/>
              <a:chOff x="3494160" y="5460840"/>
              <a:chExt cx="2198520" cy="1323360"/>
            </a:xfrm>
          </p:grpSpPr>
          <p:pic>
            <p:nvPicPr>
              <p:cNvPr id="213" name="Picture 49" descr="D:\Program Files\Microsoft Office\Clipart\standard\stddir4\pe02927_.wmf"/>
              <p:cNvPicPr/>
              <p:nvPr/>
            </p:nvPicPr>
            <p:blipFill>
              <a:blip r:embed="rId13"/>
              <a:stretch/>
            </p:blipFill>
            <p:spPr>
              <a:xfrm>
                <a:off x="4097160" y="5460840"/>
                <a:ext cx="990720" cy="955800"/>
              </a:xfrm>
              <a:prstGeom prst="rect">
                <a:avLst/>
              </a:prstGeom>
              <a:ln w="57240">
                <a:solidFill>
                  <a:srgbClr val="6666ff"/>
                </a:solidFill>
                <a:miter/>
              </a:ln>
            </p:spPr>
          </p:pic>
          <p:sp>
            <p:nvSpPr>
              <p:cNvPr id="214" name="Text Box 55"/>
              <p:cNvSpPr/>
              <p:nvPr/>
            </p:nvSpPr>
            <p:spPr>
              <a:xfrm>
                <a:off x="3494160" y="6324480"/>
                <a:ext cx="21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99ccff"/>
                    </a:solidFill>
                    <a:latin typeface="Arial Narrow"/>
                  </a:rPr>
                  <a:t>гостеприимство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215" name="Line 57"/>
            <p:cNvSpPr/>
            <p:nvPr/>
          </p:nvSpPr>
          <p:spPr>
            <a:xfrm>
              <a:off x="2819520" y="6095880"/>
              <a:ext cx="114300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16" name="Group 60"/>
          <p:cNvGrpSpPr/>
          <p:nvPr/>
        </p:nvGrpSpPr>
        <p:grpSpPr>
          <a:xfrm>
            <a:off x="5257800" y="5457960"/>
            <a:ext cx="2819520" cy="1286640"/>
            <a:chOff x="5257800" y="5457960"/>
            <a:chExt cx="2819520" cy="1286640"/>
          </a:xfrm>
        </p:grpSpPr>
        <p:grpSp>
          <p:nvGrpSpPr>
            <p:cNvPr id="217" name="Group 54"/>
            <p:cNvGrpSpPr/>
            <p:nvPr/>
          </p:nvGrpSpPr>
          <p:grpSpPr>
            <a:xfrm>
              <a:off x="6629400" y="5457960"/>
              <a:ext cx="1447920" cy="1286640"/>
              <a:chOff x="6629400" y="5457960"/>
              <a:chExt cx="1447920" cy="1286640"/>
            </a:xfrm>
          </p:grpSpPr>
          <p:pic>
            <p:nvPicPr>
              <p:cNvPr id="218" name="Picture 50" descr="D:\Program Files\Microsoft Office\Clipart\standard\stddir4\pe02638_.wmf"/>
              <p:cNvPicPr/>
              <p:nvPr/>
            </p:nvPicPr>
            <p:blipFill>
              <a:blip r:embed="rId14"/>
              <a:stretch/>
            </p:blipFill>
            <p:spPr>
              <a:xfrm>
                <a:off x="6629400" y="5457960"/>
                <a:ext cx="1447920" cy="942840"/>
              </a:xfrm>
              <a:prstGeom prst="rect">
                <a:avLst/>
              </a:prstGeom>
              <a:ln w="38160">
                <a:solidFill>
                  <a:srgbClr val="6666ff"/>
                </a:solidFill>
                <a:miter/>
              </a:ln>
            </p:spPr>
          </p:pic>
          <p:sp>
            <p:nvSpPr>
              <p:cNvPr id="219" name="Text Box 51"/>
              <p:cNvSpPr/>
              <p:nvPr/>
            </p:nvSpPr>
            <p:spPr>
              <a:xfrm>
                <a:off x="6760800" y="6284880"/>
                <a:ext cx="118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99ccff"/>
                    </a:solidFill>
                    <a:latin typeface="Arial Narrow"/>
                  </a:rPr>
                  <a:t>помощь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220" name="Line 59"/>
            <p:cNvSpPr/>
            <p:nvPr/>
          </p:nvSpPr>
          <p:spPr>
            <a:xfrm>
              <a:off x="5257800" y="6095880"/>
              <a:ext cx="12193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Narrow"/>
              </a:rPr>
              <a:t>Межнациональные отношения в современном обществе.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222" name="Group 44"/>
          <p:cNvGrpSpPr/>
          <p:nvPr/>
        </p:nvGrpSpPr>
        <p:grpSpPr>
          <a:xfrm>
            <a:off x="762120" y="1295280"/>
            <a:ext cx="1871640" cy="1258200"/>
            <a:chOff x="762120" y="1295280"/>
            <a:chExt cx="1871640" cy="1258200"/>
          </a:xfrm>
        </p:grpSpPr>
        <p:sp>
          <p:nvSpPr>
            <p:cNvPr id="223" name="WordArt 42"/>
            <p:cNvSpPr txBox="1"/>
            <p:nvPr/>
          </p:nvSpPr>
          <p:spPr>
            <a:xfrm>
              <a:off x="762120" y="1295280"/>
              <a:ext cx="1871640" cy="71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СССР</a:t>
              </a:r>
              <a:endParaRPr b="1" i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24" name="Text Box 43"/>
            <p:cNvSpPr/>
            <p:nvPr/>
          </p:nvSpPr>
          <p:spPr>
            <a:xfrm>
              <a:off x="1221840" y="2093760"/>
              <a:ext cx="9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К .80-х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25" name="Group 48"/>
          <p:cNvGrpSpPr/>
          <p:nvPr/>
        </p:nvGrpSpPr>
        <p:grpSpPr>
          <a:xfrm>
            <a:off x="2514600" y="1066680"/>
            <a:ext cx="6553080" cy="1562400"/>
            <a:chOff x="2514600" y="1066680"/>
            <a:chExt cx="6553080" cy="1562400"/>
          </a:xfrm>
        </p:grpSpPr>
        <p:pic>
          <p:nvPicPr>
            <p:cNvPr id="226" name="Picture 45" descr="D:\Program Files\Microsoft Office\Clipart\standard\stddir1\bd05369_.wmf"/>
            <p:cNvPicPr/>
            <p:nvPr/>
          </p:nvPicPr>
          <p:blipFill>
            <a:blip r:embed="rId1"/>
            <a:stretch/>
          </p:blipFill>
          <p:spPr>
            <a:xfrm>
              <a:off x="3429000" y="1066680"/>
              <a:ext cx="1747800" cy="15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WordArt 46"/>
            <p:cNvSpPr txBox="1"/>
            <p:nvPr/>
          </p:nvSpPr>
          <p:spPr>
            <a:xfrm>
              <a:off x="4886280" y="1295280"/>
              <a:ext cx="418140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межнациональные 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конфликты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28" name="Line 47"/>
            <p:cNvSpPr/>
            <p:nvPr/>
          </p:nvSpPr>
          <p:spPr>
            <a:xfrm>
              <a:off x="2514600" y="1905120"/>
              <a:ext cx="9144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29" name="Group 52"/>
          <p:cNvGrpSpPr/>
          <p:nvPr/>
        </p:nvGrpSpPr>
        <p:grpSpPr>
          <a:xfrm>
            <a:off x="914400" y="2857680"/>
            <a:ext cx="3219480" cy="2095200"/>
            <a:chOff x="914400" y="2857680"/>
            <a:chExt cx="3219480" cy="2095200"/>
          </a:xfrm>
        </p:grpSpPr>
        <p:pic>
          <p:nvPicPr>
            <p:cNvPr id="230" name="Picture 50" descr="D:\Program Files\Microsoft Office\Clipart\corpbas\j0078814.wmf"/>
            <p:cNvPicPr/>
            <p:nvPr/>
          </p:nvPicPr>
          <p:blipFill>
            <a:blip r:embed="rId6"/>
            <a:stretch/>
          </p:blipFill>
          <p:spPr>
            <a:xfrm>
              <a:off x="1447920" y="2857680"/>
              <a:ext cx="2209680" cy="14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WordArt 51"/>
            <p:cNvSpPr txBox="1"/>
            <p:nvPr/>
          </p:nvSpPr>
          <p:spPr>
            <a:xfrm>
              <a:off x="914400" y="4419720"/>
              <a:ext cx="32194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нетерпимость</a:t>
              </a:r>
              <a:endPara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</p:grpSp>
      <p:grpSp>
        <p:nvGrpSpPr>
          <p:cNvPr id="232" name="Group 54"/>
          <p:cNvGrpSpPr/>
          <p:nvPr/>
        </p:nvGrpSpPr>
        <p:grpSpPr>
          <a:xfrm>
            <a:off x="6324480" y="2827440"/>
            <a:ext cx="1648080" cy="1973160"/>
            <a:chOff x="6324480" y="2827440"/>
            <a:chExt cx="1648080" cy="1973160"/>
          </a:xfrm>
        </p:grpSpPr>
        <p:pic>
          <p:nvPicPr>
            <p:cNvPr id="233" name="Picture 49" descr="D:\Program Files\Microsoft Office\Clipart\standard\stddir4\pe01852_.wmf"/>
            <p:cNvPicPr/>
            <p:nvPr/>
          </p:nvPicPr>
          <p:blipFill>
            <a:blip r:embed="rId7"/>
            <a:stretch/>
          </p:blipFill>
          <p:spPr>
            <a:xfrm>
              <a:off x="6324480" y="2827440"/>
              <a:ext cx="16480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WordArt 53"/>
            <p:cNvSpPr txBox="1"/>
            <p:nvPr/>
          </p:nvSpPr>
          <p:spPr>
            <a:xfrm>
              <a:off x="6410160" y="4267080"/>
              <a:ext cx="15145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войны</a:t>
              </a:r>
              <a:endPara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35" name="Line 55"/>
          <p:cNvSpPr/>
          <p:nvPr/>
        </p:nvSpPr>
        <p:spPr>
          <a:xfrm>
            <a:off x="609480" y="4952880"/>
            <a:ext cx="8305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6" name="WordArt 56"/>
          <p:cNvSpPr txBox="1"/>
          <p:nvPr/>
        </p:nvSpPr>
        <p:spPr>
          <a:xfrm>
            <a:off x="3533760" y="5181480"/>
            <a:ext cx="2638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разрешение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конфликтов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237" name="Group 65"/>
          <p:cNvGrpSpPr/>
          <p:nvPr/>
        </p:nvGrpSpPr>
        <p:grpSpPr>
          <a:xfrm>
            <a:off x="747000" y="5105520"/>
            <a:ext cx="2682000" cy="1715400"/>
            <a:chOff x="747000" y="5105520"/>
            <a:chExt cx="2682000" cy="1715400"/>
          </a:xfrm>
        </p:grpSpPr>
        <p:grpSp>
          <p:nvGrpSpPr>
            <p:cNvPr id="238" name="Group 59"/>
            <p:cNvGrpSpPr/>
            <p:nvPr/>
          </p:nvGrpSpPr>
          <p:grpSpPr>
            <a:xfrm>
              <a:off x="747000" y="5105520"/>
              <a:ext cx="1942560" cy="1715400"/>
              <a:chOff x="747000" y="5105520"/>
              <a:chExt cx="1942560" cy="1715400"/>
            </a:xfrm>
          </p:grpSpPr>
          <p:pic>
            <p:nvPicPr>
              <p:cNvPr id="239" name="Picture 57" descr="D:\Program Files\Microsoft Office\Clipart\corpbas\j0078742.wmf"/>
              <p:cNvPicPr/>
              <p:nvPr/>
            </p:nvPicPr>
            <p:blipFill>
              <a:blip r:embed="rId12"/>
              <a:stretch/>
            </p:blipFill>
            <p:spPr>
              <a:xfrm>
                <a:off x="1031760" y="5105520"/>
                <a:ext cx="1371600" cy="1249200"/>
              </a:xfrm>
              <a:prstGeom prst="rect">
                <a:avLst/>
              </a:prstGeom>
              <a:ln w="38160">
                <a:solidFill>
                  <a:srgbClr val="ffcc00"/>
                </a:solidFill>
                <a:miter/>
              </a:ln>
            </p:spPr>
          </p:pic>
          <p:sp>
            <p:nvSpPr>
              <p:cNvPr id="240" name="Text Box 58"/>
              <p:cNvSpPr/>
              <p:nvPr/>
            </p:nvSpPr>
            <p:spPr>
              <a:xfrm>
                <a:off x="747000" y="6361200"/>
                <a:ext cx="1942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 Narrow"/>
                  </a:rPr>
                  <a:t>Люди-Братья!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241" name="AutoShape 60"/>
            <p:cNvSpPr/>
            <p:nvPr/>
          </p:nvSpPr>
          <p:spPr>
            <a:xfrm>
              <a:off x="2514600" y="5638680"/>
              <a:ext cx="914400" cy="304920"/>
            </a:xfrm>
            <a:prstGeom prst="leftArrow">
              <a:avLst>
                <a:gd name="adj1" fmla="val 50000"/>
                <a:gd name="adj2" fmla="val 74970"/>
              </a:avLst>
            </a:prstGeom>
            <a:solidFill>
              <a:srgbClr val="ffffff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42" name="Group 64"/>
          <p:cNvGrpSpPr/>
          <p:nvPr/>
        </p:nvGrpSpPr>
        <p:grpSpPr>
          <a:xfrm>
            <a:off x="6342120" y="4876920"/>
            <a:ext cx="2494080" cy="1867680"/>
            <a:chOff x="6342120" y="4876920"/>
            <a:chExt cx="2494080" cy="1867680"/>
          </a:xfrm>
        </p:grpSpPr>
        <p:sp>
          <p:nvSpPr>
            <p:cNvPr id="243" name="AutoShape 61"/>
            <p:cNvSpPr/>
            <p:nvPr/>
          </p:nvSpPr>
          <p:spPr>
            <a:xfrm flipH="1">
              <a:off x="6342120" y="5638680"/>
              <a:ext cx="914400" cy="304920"/>
            </a:xfrm>
            <a:prstGeom prst="leftArrow">
              <a:avLst>
                <a:gd name="adj1" fmla="val 50000"/>
                <a:gd name="adj2" fmla="val 74970"/>
              </a:avLst>
            </a:prstGeom>
            <a:solidFill>
              <a:srgbClr val="ffffff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44" name="Picture 62" descr="D:\Program Files\Microsoft Office\Clipart\standard\stddir4\tr00656_.wmf"/>
            <p:cNvPicPr/>
            <p:nvPr/>
          </p:nvPicPr>
          <p:blipFill>
            <a:blip r:embed="rId13"/>
            <a:stretch/>
          </p:blipFill>
          <p:spPr>
            <a:xfrm>
              <a:off x="7467480" y="4876920"/>
              <a:ext cx="11588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63"/>
            <p:cNvSpPr/>
            <p:nvPr/>
          </p:nvSpPr>
          <p:spPr>
            <a:xfrm>
              <a:off x="7259400" y="6284880"/>
              <a:ext cx="157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Автономия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Narrow"/>
              </a:rPr>
              <a:t>Межнациональные отношения в современном обществе.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WordArt 27"/>
          <p:cNvSpPr txBox="1"/>
          <p:nvPr/>
        </p:nvSpPr>
        <p:spPr>
          <a:xfrm>
            <a:off x="533520" y="990720"/>
            <a:ext cx="1904760" cy="125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РФ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8" name="Text Box 28"/>
          <p:cNvSpPr/>
          <p:nvPr/>
        </p:nvSpPr>
        <p:spPr>
          <a:xfrm>
            <a:off x="2712240" y="1143000"/>
            <a:ext cx="5851440" cy="8254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ff82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Каждый вправе определить национальность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по языку,самосознанию,традициям,культуре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249" name="Group 34"/>
          <p:cNvGrpSpPr/>
          <p:nvPr/>
        </p:nvGrpSpPr>
        <p:grpSpPr>
          <a:xfrm>
            <a:off x="3812400" y="2895480"/>
            <a:ext cx="1948680" cy="2294640"/>
            <a:chOff x="3812400" y="2895480"/>
            <a:chExt cx="1948680" cy="2294640"/>
          </a:xfrm>
        </p:grpSpPr>
        <p:pic>
          <p:nvPicPr>
            <p:cNvPr id="250" name="Picture 30" descr="D:\Program Files\Common Files\Microsoft Shared\Clipart\cagcat50\BD06517_.WMF"/>
            <p:cNvPicPr/>
            <p:nvPr/>
          </p:nvPicPr>
          <p:blipFill>
            <a:blip r:embed="rId1"/>
            <a:stretch/>
          </p:blipFill>
          <p:spPr>
            <a:xfrm>
              <a:off x="3884400" y="2895480"/>
              <a:ext cx="18036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31"/>
            <p:cNvSpPr/>
            <p:nvPr/>
          </p:nvSpPr>
          <p:spPr>
            <a:xfrm>
              <a:off x="3812400" y="3998880"/>
              <a:ext cx="194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Национально-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Культурные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организации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52" name="Group 33"/>
          <p:cNvGrpSpPr/>
          <p:nvPr/>
        </p:nvGrpSpPr>
        <p:grpSpPr>
          <a:xfrm>
            <a:off x="674280" y="2819520"/>
            <a:ext cx="2073600" cy="2385720"/>
            <a:chOff x="674280" y="2819520"/>
            <a:chExt cx="2073600" cy="2385720"/>
          </a:xfrm>
        </p:grpSpPr>
        <p:pic>
          <p:nvPicPr>
            <p:cNvPr id="253" name="Picture 29" descr="D:\Program Files\Microsoft Office\Clipart\standard\stddir1\bd06925_.wmf"/>
            <p:cNvPicPr/>
            <p:nvPr/>
          </p:nvPicPr>
          <p:blipFill>
            <a:blip r:embed="rId2"/>
            <a:stretch/>
          </p:blipFill>
          <p:spPr>
            <a:xfrm>
              <a:off x="762120" y="2819520"/>
              <a:ext cx="189864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32"/>
            <p:cNvSpPr/>
            <p:nvPr/>
          </p:nvSpPr>
          <p:spPr>
            <a:xfrm>
              <a:off x="674280" y="4379760"/>
              <a:ext cx="207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Национальные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школы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55" name="Group 37"/>
          <p:cNvGrpSpPr/>
          <p:nvPr/>
        </p:nvGrpSpPr>
        <p:grpSpPr>
          <a:xfrm>
            <a:off x="7162920" y="2666880"/>
            <a:ext cx="1523880" cy="2499120"/>
            <a:chOff x="7162920" y="2666880"/>
            <a:chExt cx="1523880" cy="2499120"/>
          </a:xfrm>
        </p:grpSpPr>
        <p:pic>
          <p:nvPicPr>
            <p:cNvPr id="256" name="Picture 35" descr="D:\Program Files\Microsoft Office\Clipart\smbusbas\bd09298_.wmf"/>
            <p:cNvPicPr/>
            <p:nvPr/>
          </p:nvPicPr>
          <p:blipFill>
            <a:blip r:embed="rId3"/>
            <a:stretch/>
          </p:blipFill>
          <p:spPr>
            <a:xfrm>
              <a:off x="7162920" y="2666880"/>
              <a:ext cx="152388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36"/>
            <p:cNvSpPr/>
            <p:nvPr/>
          </p:nvSpPr>
          <p:spPr>
            <a:xfrm>
              <a:off x="7323840" y="3974760"/>
              <a:ext cx="1201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СМИ на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родном 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языке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58" name="Group 40"/>
          <p:cNvGrpSpPr/>
          <p:nvPr/>
        </p:nvGrpSpPr>
        <p:grpSpPr>
          <a:xfrm>
            <a:off x="2209680" y="4554360"/>
            <a:ext cx="1809720" cy="2175120"/>
            <a:chOff x="2209680" y="4554360"/>
            <a:chExt cx="1809720" cy="2175120"/>
          </a:xfrm>
        </p:grpSpPr>
        <p:pic>
          <p:nvPicPr>
            <p:cNvPr id="259" name="Picture 38" descr="D:\Program Files\Microsoft Office\Clipart\standard\stddir2\bd07425_.wmf"/>
            <p:cNvPicPr/>
            <p:nvPr/>
          </p:nvPicPr>
          <p:blipFill>
            <a:blip r:embed="rId4"/>
            <a:stretch/>
          </p:blipFill>
          <p:spPr>
            <a:xfrm>
              <a:off x="2209680" y="4554360"/>
              <a:ext cx="180972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39"/>
            <p:cNvSpPr/>
            <p:nvPr/>
          </p:nvSpPr>
          <p:spPr>
            <a:xfrm>
              <a:off x="2536560" y="5904000"/>
              <a:ext cx="127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Свобода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религии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61" name="Group 43"/>
          <p:cNvGrpSpPr/>
          <p:nvPr/>
        </p:nvGrpSpPr>
        <p:grpSpPr>
          <a:xfrm>
            <a:off x="4561200" y="4456080"/>
            <a:ext cx="4007520" cy="2273400"/>
            <a:chOff x="4561200" y="4456080"/>
            <a:chExt cx="4007520" cy="2273400"/>
          </a:xfrm>
        </p:grpSpPr>
        <p:pic>
          <p:nvPicPr>
            <p:cNvPr id="262" name="Picture 41" descr="D:\Program Files\Microsoft Office\Clipart\standard\stddir4\pe02667_.wmf"/>
            <p:cNvPicPr/>
            <p:nvPr/>
          </p:nvPicPr>
          <p:blipFill>
            <a:blip r:embed="rId5"/>
            <a:stretch/>
          </p:blipFill>
          <p:spPr>
            <a:xfrm>
              <a:off x="5715000" y="4456080"/>
              <a:ext cx="148284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42"/>
            <p:cNvSpPr/>
            <p:nvPr/>
          </p:nvSpPr>
          <p:spPr>
            <a:xfrm>
              <a:off x="4561200" y="5904000"/>
              <a:ext cx="4007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Уголовная ответственность за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разжигание розни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3:28:46Z</dcterms:created>
  <dc:creator>Чернов Алксей</dc:creator>
  <dc:description/>
  <dc:language>en-US</dc:language>
  <cp:lastModifiedBy>COMP</cp:lastModifiedBy>
  <dcterms:modified xsi:type="dcterms:W3CDTF">2011-10-11T18:11:00Z</dcterms:modified>
  <cp:revision>219</cp:revision>
  <dc:subject/>
  <dc:title>Презентация PowerPoint</dc:title>
</cp:coreProperties>
</file>