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9DB2-7268-4BFA-B5E7-250AD99E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5E45-D0DA-4BA0-8CA9-383ED2AA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811F-D032-49A5-A680-4F5F3E1D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67BE-317B-49DC-8BB2-B82715FA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D157-EBC9-44FF-A3D6-FBFE5865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77D-B1B0-4215-A601-7CF39E1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ADA-E989-457C-B330-E5B4B7E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AF8E-F0A0-444E-BE7E-6ECE5C5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D4D3-0854-4986-BAB5-87D108FE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2DF8-0C08-4757-A464-85C0F4CD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18A4-C69E-4362-8FA8-B60942F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80BF-90E3-43F3-A890-64C79C0E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D79-0B58-4D45-8A1A-2E49AD0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171F-F893-4A4F-80F5-E45C596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1A1-63DA-4932-A60E-45EFD38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6E5-A238-4199-8700-19E98C11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4F7-9077-452D-B708-6394AEB9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8F37-8AE7-4199-A3CB-950C975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5D04-EB52-4A8F-8E12-2101769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7DCD-E03D-4EFA-9899-32A17C0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E9FF-62A3-4A6E-A534-7F8FD54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F96C-F1F3-4DCD-B0AC-A9A499D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399C-5FD3-4BDC-A8D3-4F3424D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7AC6-3110-40EE-99F2-A2F6A76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6C3B-872D-4956-AF3A-AAD97B93F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6C7-1B92-4BE3-B2F0-FD509F4DA2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Законы теоретической биолог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ы организации и развития живой матер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класс. Естествозн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Жизнь на Земле представлена огромным разнообразием органических форм различной степени слож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Единство органических форм проявляется в соответствующих чертах сходства их организ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Сходство строения и функций разных организмов обусловлено общностью их происхождения 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гомо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, параллелизмом адаптивной эволюции в сходных условиях среды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на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омерный характер распространения среди живых форм признаков, не связанных с адаптациями и с единством происхо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В многообразии органических форм отражается историческая последовательность их возникновения и развит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 Закон глобальности жизни (первый закон Вернадского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Органический мир образует тонкую планетарную оболочку биомассы живых организмов и среды их обитания- би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Биосфера тесно связана с атмосферой, гидросферой и литосферой, обусловливая их эволюцию, обеспечивая  круговорот веществ и поток энергии на план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 Закон органической целесообразности (закон Аристотеля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Целесообразность выражается в тонком взаимном соответствии структур и назначения биологических объектов, в приспособленности живых форм к условиям жизни, в приспособительном характере форм существования и поведения биологических ви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. Закон естественного отбора(закон Дарвин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рганическая целесообразность это следствие естественного отбора. Органическая целесообразность относительна, т.к. популяция неоднородна по степени приспособленности особей и генетических линий к конкретным факторам сре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7:41:0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11-01-25T09:22:41Z</dcterms:modified>
  <cp:revision>3</cp:revision>
  <dc:subject/>
  <dc:title>Общая характеристика природных явлений.</dc:title>
</cp:coreProperties>
</file>