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372D5-432D-421C-920C-8857AAD04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00D3D-0139-463D-B239-839670A3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C0595-0723-4133-9A9C-48C3086F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0450A-6310-4B50-BB1E-9641FD43B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F6CA-6126-4641-BF27-666B12082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9CEE-F218-4D03-9407-C44160BE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9D30-31BD-4F10-9A30-28FE15F0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8816-4648-4499-824F-1C770B58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9309-D95D-40AF-B850-0AFD2975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227C-B3C4-4A93-8585-C8372C2B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762E-B23C-4F50-B0DE-47982A61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914E4-8A5F-4A46-94FC-B0C79CB2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AF04-1EB3-4189-929A-BD90C92B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76E1-FB25-4BDF-B666-FD3B2542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3746-87CC-4F1B-A906-F5B00A09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EE2A-1D63-43B3-9018-427B81C88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BC57-A45D-4F09-9DF1-E501DEECB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0423B-56A4-4A63-820E-EB17ED4A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C8A1E-35CE-4F0C-A570-6A04E30B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6C514-DC79-48D0-B0C0-EA8B6E3F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39A60-DE39-4F6F-A931-AA534618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88980-916D-4C52-8806-A1EAE7C6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78E82-1DA1-4D08-AC5C-61130306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1A743-516C-491E-A476-BEFDD78E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0380-7022-4E9B-9D23-D8816108D3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B524-DC62-41A7-A420-B189D09AC1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Законы теоретической биологии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Законы организации и развития живой матер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0 класс. Естествознан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1. Закон единства и многообразия жизни (закон Сент-Илера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 Жизнь на Земле представлена огромным разнообразием органических форм различной степени сложно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Единство органических форм проявляется в соответствующих чертах сходства их организац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1. Закон единства и многообразия жизни (закон Сент-Илера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Сходство строения и функций разных организмов обусловлено общностью их происхождения (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гомология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), параллелизмом адаптивной эволюции в сходных условиях среды(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аналогия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Закономерный характер распространения среди живых форм признаков, не связанных с адаптациями и с единством происхожд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Закон единства и многообразия жизни (закон Сент-Илера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В многообразии органических форм отражается историческая последовательность их возникновения и развит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2. Закон глобальности жизни (первый закон Вернадского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 Органический мир образует тонкую планетарную оболочку биомассы живых организмов и среды их обитания- биосфер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Биосфера тесно связана с атмосферой, гидросферой и литосферой, обусловливая их эволюцию, обеспечивая  круговорот веществ и поток энергии на планет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3. Закон органической целесообразности (закон Аристотеля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Целесообразность выражается в тонком взаимном соответствии структур и назначения биологических объектов, в приспособленности живых форм к условиям жизни, в приспособительном характере форм существования и поведения биологических вид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4. Закон естественного отбора(закон Дарвина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рганическая целесообразность это следствие естественного отбора. Органическая целесообразность относительна, т.к. популяция неоднородна по степени приспособленности особей и генетических линий к конкретным факторам сред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17:41:04Z</dcterms:created>
  <dc:creator>Хватов Александр Борисович</dc:creator>
  <dc:description/>
  <dc:language>en-US</dc:language>
  <cp:lastModifiedBy>Хватов Александр Борисович</cp:lastModifiedBy>
  <dcterms:modified xsi:type="dcterms:W3CDTF">2011-01-25T09:22:41Z</dcterms:modified>
  <cp:revision>3</cp:revision>
  <dc:subject/>
  <dc:title>Общая характеристика природных явлений.</dc:title>
</cp:coreProperties>
</file>