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3A81-7B99-4C93-AA68-6B2EA188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1D8E-A946-4625-AD5B-A4D81439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CD15-F946-428A-9162-E6644F6E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CED5-FD86-48F5-9FFF-60C307A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E67-A1F4-44A4-A020-4C9F5320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C63-7AF5-440B-B2E8-EFA32FA3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F9EA-A261-4B82-B4BB-7731935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BBB-1584-4A60-9EC3-EF08E64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A7E-8080-4082-8593-81A846C6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743B-7D0B-49C0-A168-2355197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26EF-8162-4B02-A9B9-E1BAF14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FBAC-B5E1-4C3C-8561-8B4D700F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08D8-D414-4DC8-87E5-79C5E1A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972B-643C-4259-96D6-F71CE94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0869-0B1E-45CD-AB9F-2CF1442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72F7-0666-4E67-8BEC-ECB6DCC5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B062-04D9-4943-9CDC-3D2E911C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9E0E-CDC6-43DA-8668-09D456DE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447A-9958-48A7-90B0-B8E229B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6A42-BC73-4011-BDAA-A90BF46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D1B3-E055-44D5-8374-CAF76E2A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DFD1-646E-4A3B-9BF7-7903F43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4D7B-E23D-4119-8ADB-446B435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28A6-3BEB-40B9-8ED6-80AE4C1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D02-5645-4A19-8DC2-0423804D1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73C-4924-49D5-AE26-EC0900CFF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Законы теоретической биолог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ы организации и развития живой матер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класс. Естествозн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Жизнь на Земле представлена огромным разнообразием органических форм различной степени слож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Единство органических форм проявляется в соответствующих чертах сходства их организ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1. 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Сходство строения и функций разных организмов обусловлено общностью их происхождения 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гомо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, параллелизмом адаптивной эволюции в сходных условиях среды(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налог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кономерный характер распространения среди живых форм признаков, не связанных с адаптациями и с единством происхо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кон единства и многообразия жизни (закон Сент-Илер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В многообразии органических форм отражается историческая последовательность их возникновения и развит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 Закон глобальности жизни (первый закон Вернадского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Органический мир образует тонкую планетарную оболочку биомассы живых организмов и среды их обитания- би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Биосфера тесно связана с атмосферой, гидросферой и литосферой, обусловливая их эволюцию, обеспечивая  круговорот веществ и поток энергии на план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 Закон органической целесообразности (закон Аристотеля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Целесообразность выражается в тонком взаимном соответствии структур и назначения биологических объектов, в приспособленности живых форм к условиям жизни, в приспособительном характере форм существования и поведения биологических ви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. Закон естественного отбора(закон Дарвин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рганическая целесообразность это следствие естественного отбора. Органическая целесообразность относительна, т.к. популяция неоднородна по степени приспособленности особей и генетических линий к конкретным факторам сре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7:41:0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11-01-25T09:22:41Z</dcterms:modified>
  <cp:revision>3</cp:revision>
  <dc:subject/>
  <dc:title>Общая характеристика природных явлений.</dc:title>
</cp:coreProperties>
</file>