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DB4-9CF5-450C-BD23-64274CDF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C02-6CE8-4B89-A9A6-4D4035AE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5C6-CF68-4E05-9999-4C69CD27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53A-BCAF-47D9-B41A-3D92437E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EC07-7FCB-457A-AF57-3B87641A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EDE3-58B1-4C5B-BBE5-55D40E47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C7AD-72B5-4BD7-BB9A-7321CA35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6ED4-E66A-45D6-8058-B68DF8A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CA8E-7420-486C-9E14-858FED6C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B197-D774-44D0-9298-AF36759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2107-0F82-43BA-8C18-D44DD4C4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CB7-DEED-45A5-A229-9981D8C1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F74A-0C8E-4C30-ACA8-0E596801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B75D-E115-48C9-B38E-A4D5293B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7F98-272C-42DD-9BA5-B7732609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EDA8-8557-4E70-B29E-3B04581C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0B79-B995-4875-940F-65D5E0EB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790-DFF2-4404-B3A7-EBA5E78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E1E-66FF-4E0D-8D1A-8CBC20DA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428-26A3-4CC3-B641-95013F07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401-F7A8-45C8-80B1-18610095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E05-C0BE-4318-B0A8-3824F63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681-2058-4C8C-9B1D-C0C9208F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853-BDEB-4188-A93A-4D6202B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E2D9-BF57-4306-946C-81F545FB4F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740-9BB4-468F-97C0-61AB4A4ED2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battlefront.ru/nagr1a.gif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3353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2000160" cy="2840040"/>
          </a:xfrm>
          <a:prstGeom prst="rect">
            <a:avLst/>
          </a:prstGeom>
          <a:ln w="0">
            <a:noFill/>
          </a:ln>
        </p:spPr>
      </p:pic>
      <p:pic>
        <p:nvPicPr>
          <p:cNvPr id="90" name="3354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1123920" cy="1514520"/>
          </a:xfrm>
          <a:prstGeom prst="rect">
            <a:avLst/>
          </a:prstGeom>
          <a:ln w="0">
            <a:noFill/>
          </a:ln>
        </p:spPr>
      </p:pic>
      <p:pic>
        <p:nvPicPr>
          <p:cNvPr id="91" name="3197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981000" cy="1504800"/>
          </a:xfrm>
          <a:prstGeom prst="rect">
            <a:avLst/>
          </a:prstGeom>
          <a:ln w="0">
            <a:noFill/>
          </a:ln>
        </p:spPr>
      </p:pic>
      <p:pic>
        <p:nvPicPr>
          <p:cNvPr id="92" name="3170" descr=""/>
          <p:cNvPicPr/>
          <p:nvPr/>
        </p:nvPicPr>
        <p:blipFill>
          <a:blip r:embed="rId4"/>
          <a:stretch/>
        </p:blipFill>
        <p:spPr>
          <a:xfrm>
            <a:off x="6324480" y="304920"/>
            <a:ext cx="1181160" cy="1514520"/>
          </a:xfrm>
          <a:prstGeom prst="rect">
            <a:avLst/>
          </a:prstGeom>
          <a:ln w="0">
            <a:noFill/>
          </a:ln>
        </p:spPr>
      </p:pic>
      <p:pic>
        <p:nvPicPr>
          <p:cNvPr id="93" name="3116" descr=""/>
          <p:cNvPicPr/>
          <p:nvPr/>
        </p:nvPicPr>
        <p:blipFill>
          <a:blip r:embed="rId5"/>
          <a:stretch/>
        </p:blipFill>
        <p:spPr>
          <a:xfrm>
            <a:off x="6400800" y="2286000"/>
            <a:ext cx="1181160" cy="1514520"/>
          </a:xfrm>
          <a:prstGeom prst="rect">
            <a:avLst/>
          </a:prstGeom>
          <a:ln w="0">
            <a:noFill/>
          </a:ln>
        </p:spPr>
      </p:pic>
      <p:pic>
        <p:nvPicPr>
          <p:cNvPr id="94" name="3117" descr=""/>
          <p:cNvPicPr/>
          <p:nvPr/>
        </p:nvPicPr>
        <p:blipFill>
          <a:blip r:embed="rId6"/>
          <a:stretch/>
        </p:blipFill>
        <p:spPr>
          <a:xfrm>
            <a:off x="1523880" y="2362320"/>
            <a:ext cx="981360" cy="151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45716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силевский А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линовский Р.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коссовский К.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18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09720" y="4723920"/>
            <a:ext cx="3505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впак С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лалихин В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знецов Н.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2120" y="304920"/>
            <a:ext cx="42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4723920"/>
            <a:ext cx="320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уков Г.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рёменко А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ирпонос М.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337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3760" y="4723920"/>
            <a:ext cx="3352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ев И.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росов А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рошилов К.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6800" y="457200"/>
            <a:ext cx="4203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487656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грамян И.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ышкин А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очков В.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381560" y="609480"/>
            <a:ext cx="4340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562720" y="4723920"/>
            <a:ext cx="320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лин И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дённый С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воров Л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4560" y="457200"/>
            <a:ext cx="4589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4648320"/>
            <a:ext cx="3352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есьев А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едуб И.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рбышев Д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35480" y="533520"/>
            <a:ext cx="4487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Награды Роди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3760" y="91440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Красного Знам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Лен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«ПОБЕ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4724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а отваг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олотая звез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Медаль «Золотая Звезда» Героя Советского Союза"/>
          <p:cNvPicPr/>
          <p:nvPr/>
        </p:nvPicPr>
        <p:blipFill>
          <a:blip r:embed="rId1"/>
          <a:stretch/>
        </p:blipFill>
        <p:spPr>
          <a:xfrm>
            <a:off x="1447920" y="1066680"/>
            <a:ext cx="1957320" cy="358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Знак ордена «Красное Знамя»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2743200"/>
            <a:ext cx="195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10080" y="45720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Кутузо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Су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Нахим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48006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Сла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Красной Звез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а оборону Москв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Орден Славы I степени"/>
          <p:cNvPicPr/>
          <p:nvPr/>
        </p:nvPicPr>
        <p:blipFill>
          <a:blip r:embed="rId1"/>
          <a:stretch/>
        </p:blipFill>
        <p:spPr>
          <a:xfrm>
            <a:off x="1006560" y="304920"/>
            <a:ext cx="2193840" cy="4343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Ордена Суворова I степени"/>
          <p:cNvPicPr/>
          <p:nvPr/>
        </p:nvPicPr>
        <p:blipFill>
          <a:blip r:embed="rId2"/>
          <a:stretch/>
        </p:blipFill>
        <p:spPr>
          <a:xfrm>
            <a:off x="5257800" y="277164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Схемы важнейших сражений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124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трнаступление под Моск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12.1941г. – 20.04.1942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вобождение Белору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06 – 29.08.1944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енные действ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2.06 – 9.07.1941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5153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Военная техника и оружие Красной Арми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800" y="4723920"/>
            <a:ext cx="5943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ёгкий плавающий танк Т-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едний танк Т-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ёгкий танк БТ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871640"/>
            <a:ext cx="67816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рона Кие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.07 – 19.09.1941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рона Кавк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июль – декабрь 1942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рона Одес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08 - 10.10.1941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-6000"/>
          </a:blip>
          <a:srcRect l="12049" t="22733" r="14976" b="26598"/>
          <a:stretch/>
        </p:blipFill>
        <p:spPr>
          <a:xfrm>
            <a:off x="239760" y="609480"/>
            <a:ext cx="4719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турм Кёнигсберг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9 апреля 1945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рона Ленингра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07 – 12.11.194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рыв блокад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нинграда (январь 1943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bright="-6000"/>
          </a:blip>
          <a:srcRect l="40481" t="6448" r="21377" b="14251"/>
          <a:stretch/>
        </p:blipFill>
        <p:spPr>
          <a:xfrm>
            <a:off x="4343400" y="762120"/>
            <a:ext cx="4605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240" y="4723920"/>
            <a:ext cx="426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У ИСУ-1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яжёлый танк КВ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яжёлый танк ИС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8229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5120" y="4800240"/>
            <a:ext cx="586728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6,2-мм зенитное ору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3-мм гаубица Б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активная установка БМ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553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61960" y="5028840"/>
            <a:ext cx="4647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ребитель ЯК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мбардировщик ИЛ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лёт У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502884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идросамолёт МБР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ребитель ЯК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мбардировщик СБ (АНТ-4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толет – пулемёт Шпагина  (ППШ-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толет – пулемёт Дегтярёва (ППД-3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толет – пулемёт Судаева     (ППС-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psh" descr="Пистолет-пулемет ППШ обр. 1941 г.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0880" y="990720"/>
            <a:ext cx="84582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502884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ковый пулемёт Дегтярёва (ДС-3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ковый пулемёт Максима 1910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ковый пулемёт Горюнова (СТ-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Станковый пулемет Максима на колесном станке Соколова без щита"/>
          <p:cNvPicPr/>
          <p:nvPr/>
        </p:nvPicPr>
        <p:blipFill>
          <a:blip r:embed="rId1"/>
          <a:stretch/>
        </p:blipFill>
        <p:spPr>
          <a:xfrm>
            <a:off x="1752480" y="304920"/>
            <a:ext cx="57913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Великие полководцы и герои войн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57800" y="4724280"/>
            <a:ext cx="3276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уйков В.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анфилов И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ыбалко П.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3240" y="1600200"/>
            <a:ext cx="3684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b12</cp:lastModifiedBy>
  <dcterms:modified xsi:type="dcterms:W3CDTF">2009-11-27T02:35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