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A87-AE92-43CE-824C-CF7828C0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917-5543-43C3-8879-6DBFEC20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F43-8B36-4015-95D5-7ADFA3B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02D-D434-45B3-A825-AA4624D7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5C78-3DB0-49F1-B10B-7E90A9D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2BB-62F2-4B63-8409-4E954F0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CC6-EE9C-474D-B3E7-897DD90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420-0D9B-4048-9358-CD41D9D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2BA-4677-45CF-85E8-69A7CA2A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8F1F-38A1-4B23-AE86-A378492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A30B-1CF6-4025-8D8E-DE5C485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B61-7DAA-4CEF-9E5C-A7701DBC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F566-94D3-42E3-B5DD-48F17C3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39E4-DAF7-4BB2-8057-64B4E0C9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3CB2-0F83-438B-891C-EAF9159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30C-4B5C-4986-A85C-E3DC059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7F65-4934-4115-A048-7A08DA63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0C1-004B-446A-9053-2A18C46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969-DF7F-48EB-B3A7-F3602E7A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545-BB0D-4719-B404-F7940EC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672-226C-4ECF-8719-93A5A1A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9FC-A4B5-46EB-A3FD-AA08CE6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47F-054D-479F-9439-4856E90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B49-623A-4982-AF55-94D8B06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15E4-47B0-4A6B-9F32-3137085F70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4809-46AB-48BC-AE01-40D388791E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battlefront.ru/nagr1a.gif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3353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2000160" cy="2840040"/>
          </a:xfrm>
          <a:prstGeom prst="rect">
            <a:avLst/>
          </a:prstGeom>
          <a:ln w="0">
            <a:noFill/>
          </a:ln>
        </p:spPr>
      </p:pic>
      <p:pic>
        <p:nvPicPr>
          <p:cNvPr id="90" name="3354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123920" cy="1514520"/>
          </a:xfrm>
          <a:prstGeom prst="rect">
            <a:avLst/>
          </a:prstGeom>
          <a:ln w="0">
            <a:noFill/>
          </a:ln>
        </p:spPr>
      </p:pic>
      <p:pic>
        <p:nvPicPr>
          <p:cNvPr id="91" name="3197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981000" cy="1504800"/>
          </a:xfrm>
          <a:prstGeom prst="rect">
            <a:avLst/>
          </a:prstGeom>
          <a:ln w="0">
            <a:noFill/>
          </a:ln>
        </p:spPr>
      </p:pic>
      <p:pic>
        <p:nvPicPr>
          <p:cNvPr id="92" name="3170" descr=""/>
          <p:cNvPicPr/>
          <p:nvPr/>
        </p:nvPicPr>
        <p:blipFill>
          <a:blip r:embed="rId4"/>
          <a:stretch/>
        </p:blipFill>
        <p:spPr>
          <a:xfrm>
            <a:off x="6324480" y="30492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3116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1181160" cy="1514520"/>
          </a:xfrm>
          <a:prstGeom prst="rect">
            <a:avLst/>
          </a:prstGeom>
          <a:ln w="0">
            <a:noFill/>
          </a:ln>
        </p:spPr>
      </p:pic>
      <p:pic>
        <p:nvPicPr>
          <p:cNvPr id="94" name="3117" descr=""/>
          <p:cNvPicPr/>
          <p:nvPr/>
        </p:nvPicPr>
        <p:blipFill>
          <a:blip r:embed="rId6"/>
          <a:stretch/>
        </p:blipFill>
        <p:spPr>
          <a:xfrm>
            <a:off x="1523880" y="2362320"/>
            <a:ext cx="981360" cy="151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45716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силевский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линовский Р.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коссовский К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09720" y="47239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впак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лалихин В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знецов Н.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2120" y="304920"/>
            <a:ext cx="42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уков Г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ёменко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ирпонос М.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337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3760" y="4723920"/>
            <a:ext cx="3352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ев И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росов А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шилов К.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6800" y="457200"/>
            <a:ext cx="4203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грамян И.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ышкин А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очков В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81560" y="609480"/>
            <a:ext cx="434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62720" y="47239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н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ённый С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воров Л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4560" y="457200"/>
            <a:ext cx="4589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4648320"/>
            <a:ext cx="3352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есьев А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едуб И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бышев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35480" y="533520"/>
            <a:ext cx="4487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Награды Роди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9144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го Зна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Ле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«ПОБЕ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724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олотая звез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Медаль «Золотая Звезда» Героя Советского Союза"/>
          <p:cNvPicPr/>
          <p:nvPr/>
        </p:nvPicPr>
        <p:blipFill>
          <a:blip r:embed="rId1"/>
          <a:stretch/>
        </p:blipFill>
        <p:spPr>
          <a:xfrm>
            <a:off x="1447920" y="1066680"/>
            <a:ext cx="1957320" cy="358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Знак ордена «Красное Знамя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2743200"/>
            <a:ext cx="19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10080" y="45720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утузо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у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Нахи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8006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Сла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даль «За оборону Москв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Орден Славы I степени"/>
          <p:cNvPicPr/>
          <p:nvPr/>
        </p:nvPicPr>
        <p:blipFill>
          <a:blip r:embed="rId1"/>
          <a:stretch/>
        </p:blipFill>
        <p:spPr>
          <a:xfrm>
            <a:off x="1006560" y="304920"/>
            <a:ext cx="2193840" cy="434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Ордена Суворова I степени"/>
          <p:cNvPicPr/>
          <p:nvPr/>
        </p:nvPicPr>
        <p:blipFill>
          <a:blip r:embed="rId2"/>
          <a:stretch/>
        </p:blipFill>
        <p:spPr>
          <a:xfrm>
            <a:off x="5257800" y="277164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хемы важнейших сражени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124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трнаступление под Моск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12.1941г. – 20.04.194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вобождение Белору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06 – 29.08.1944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енные действ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2.06 – 9.07.1941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5153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оенная техника и оружие Красной Арм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4723920"/>
            <a:ext cx="5943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плавающий танк Т-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ний танк Т-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ёгкий танк БТ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871640"/>
            <a:ext cx="67816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ие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.07 – 19.09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Кавк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юль – декабрь 1942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рона Одес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08 - 10.10.1941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6000"/>
          </a:blip>
          <a:srcRect l="12049" t="22733" r="14976" b="26598"/>
          <a:stretch/>
        </p:blipFill>
        <p:spPr>
          <a:xfrm>
            <a:off x="239760" y="609480"/>
            <a:ext cx="471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турм Кёнигсберг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9 апреля 1945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она Ленингр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07 – 12.11.194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рыв блокад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нинграда (январь 194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-6000"/>
          </a:blip>
          <a:srcRect l="40481" t="6448" r="21377" b="14251"/>
          <a:stretch/>
        </p:blipFill>
        <p:spPr>
          <a:xfrm>
            <a:off x="4343400" y="762120"/>
            <a:ext cx="4605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47239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У ИСУ-1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КВ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яжёлый танк ИС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338120"/>
            <a:ext cx="8229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4800240"/>
            <a:ext cx="58672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6,2-мм зенитное ору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3-мм гаубица Б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активная установка БМ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55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5028840"/>
            <a:ext cx="4647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ИЛ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лёт У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5028840"/>
            <a:ext cx="579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самолёт МБР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требитель ЯК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мбардировщик СБ (АНТ-4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Шпагина  (ППШ-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Дегтярёва (ППД-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толет – пулемёт Судаева     (ППС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psh" descr="Пистолет-пулемет ППШ обр. 1941 г.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990720"/>
            <a:ext cx="8458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502884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Дегтярёва (ДС-3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Максима 1910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ковый пулемёт Горюнова (СТ-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Станковый пулемет Максима на колесном станке Соколова без щита"/>
          <p:cNvPicPr/>
          <p:nvPr/>
        </p:nvPicPr>
        <p:blipFill>
          <a:blip r:embed="rId1"/>
          <a:stretch/>
        </p:blipFill>
        <p:spPr>
          <a:xfrm>
            <a:off x="1752480" y="304920"/>
            <a:ext cx="57913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Великие полководцы и герои войн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4724280"/>
            <a:ext cx="3276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уйков В.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нфилов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балко П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3240" y="1600200"/>
            <a:ext cx="368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12</cp:lastModifiedBy>
  <dcterms:modified xsi:type="dcterms:W3CDTF">2009-11-27T02:35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