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52D-4EBE-4662-A07A-55A13FF6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712-A3C1-4490-984B-03639658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AEB-1731-42FE-88CF-8431C170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D0F-FD77-410B-8E29-2CB1DC71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7A8C-BD03-4B6E-B252-90AB7722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3838-A188-4D0E-8B26-26518BD7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5BEF-931C-46BE-AEEA-CDE52E5B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66C5-F7DC-4B23-98B7-05AA154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C7BB-6C76-4197-A46B-77747BB3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1DC1-8DAD-4035-AEEC-F08337F2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32C3-0B66-4997-8008-B34873B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E50-A47A-4A3F-8E71-BAC6F4CC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11E9-084B-4EA9-9DD1-C391408F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61D1-2AB6-4BF0-84D2-D88C831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A0C9-2779-4D60-8A95-2A0486A2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8468-B9A2-4637-A0D8-7DAE6427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327E-42FA-4792-B52F-3A3ABAD3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F1C-ABD4-4ACB-BC25-E4C0FBB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E18-89A4-4014-84FC-1C0195A0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83D-E435-4768-8C5E-044DED6C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8D2-A264-4396-A873-A8D6CBD8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377-D6AE-47A0-8C04-B13DA1F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E59-4884-4E8C-A57C-EE2017CC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232-1D92-4DB6-B8D9-8F9C21CF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34C-B325-4596-AAB7-0E32642885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97F8-C049-4CF5-AED5-959D96A2AE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battlefront.ru/nagr1a.gif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3353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2000160" cy="2840040"/>
          </a:xfrm>
          <a:prstGeom prst="rect">
            <a:avLst/>
          </a:prstGeom>
          <a:ln w="0">
            <a:noFill/>
          </a:ln>
        </p:spPr>
      </p:pic>
      <p:pic>
        <p:nvPicPr>
          <p:cNvPr id="90" name="3354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123920" cy="1514520"/>
          </a:xfrm>
          <a:prstGeom prst="rect">
            <a:avLst/>
          </a:prstGeom>
          <a:ln w="0">
            <a:noFill/>
          </a:ln>
        </p:spPr>
      </p:pic>
      <p:pic>
        <p:nvPicPr>
          <p:cNvPr id="91" name="3197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981000" cy="1504800"/>
          </a:xfrm>
          <a:prstGeom prst="rect">
            <a:avLst/>
          </a:prstGeom>
          <a:ln w="0">
            <a:noFill/>
          </a:ln>
        </p:spPr>
      </p:pic>
      <p:pic>
        <p:nvPicPr>
          <p:cNvPr id="92" name="3170" descr=""/>
          <p:cNvPicPr/>
          <p:nvPr/>
        </p:nvPicPr>
        <p:blipFill>
          <a:blip r:embed="rId4"/>
          <a:stretch/>
        </p:blipFill>
        <p:spPr>
          <a:xfrm>
            <a:off x="6324480" y="304920"/>
            <a:ext cx="1181160" cy="1514520"/>
          </a:xfrm>
          <a:prstGeom prst="rect">
            <a:avLst/>
          </a:prstGeom>
          <a:ln w="0">
            <a:noFill/>
          </a:ln>
        </p:spPr>
      </p:pic>
      <p:pic>
        <p:nvPicPr>
          <p:cNvPr id="93" name="3116" descr=""/>
          <p:cNvPicPr/>
          <p:nvPr/>
        </p:nvPicPr>
        <p:blipFill>
          <a:blip r:embed="rId5"/>
          <a:stretch/>
        </p:blipFill>
        <p:spPr>
          <a:xfrm>
            <a:off x="6400800" y="2286000"/>
            <a:ext cx="1181160" cy="1514520"/>
          </a:xfrm>
          <a:prstGeom prst="rect">
            <a:avLst/>
          </a:prstGeom>
          <a:ln w="0">
            <a:noFill/>
          </a:ln>
        </p:spPr>
      </p:pic>
      <p:pic>
        <p:nvPicPr>
          <p:cNvPr id="94" name="3117" descr=""/>
          <p:cNvPicPr/>
          <p:nvPr/>
        </p:nvPicPr>
        <p:blipFill>
          <a:blip r:embed="rId6"/>
          <a:stretch/>
        </p:blipFill>
        <p:spPr>
          <a:xfrm>
            <a:off x="1523880" y="2362320"/>
            <a:ext cx="981360" cy="151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45716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силевский А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линовский Р.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коссовский К.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18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09720" y="4723920"/>
            <a:ext cx="3505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впак С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лалихин В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знецов Н.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2120" y="304920"/>
            <a:ext cx="42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472392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уков Г.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рёменко А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ирпонос М.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337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3760" y="4723920"/>
            <a:ext cx="3352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ев И.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росов А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рошилов К.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6800" y="457200"/>
            <a:ext cx="4203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грамян И.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ышкин А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очков В.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81560" y="609480"/>
            <a:ext cx="4340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62720" y="472392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лин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дённый С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воров Л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4560" y="457200"/>
            <a:ext cx="4589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4648320"/>
            <a:ext cx="3352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есьев А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едуб И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бышев Д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35480" y="533520"/>
            <a:ext cx="4487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Награды Роди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3760" y="91440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расного Зна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Лен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«ПОБЕ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4724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отваг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олотая звез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Медаль «Золотая Звезда» Героя Советского Союза"/>
          <p:cNvPicPr/>
          <p:nvPr/>
        </p:nvPicPr>
        <p:blipFill>
          <a:blip r:embed="rId1"/>
          <a:stretch/>
        </p:blipFill>
        <p:spPr>
          <a:xfrm>
            <a:off x="1447920" y="1066680"/>
            <a:ext cx="1957320" cy="358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Знак ордена «Красное Знамя»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2743200"/>
            <a:ext cx="195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10080" y="45720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утузо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Су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Нахим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48006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Сла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расной Звез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оборону Москв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Орден Славы I степени"/>
          <p:cNvPicPr/>
          <p:nvPr/>
        </p:nvPicPr>
        <p:blipFill>
          <a:blip r:embed="rId1"/>
          <a:stretch/>
        </p:blipFill>
        <p:spPr>
          <a:xfrm>
            <a:off x="1006560" y="304920"/>
            <a:ext cx="2193840" cy="4343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Ордена Суворова I степени"/>
          <p:cNvPicPr/>
          <p:nvPr/>
        </p:nvPicPr>
        <p:blipFill>
          <a:blip r:embed="rId2"/>
          <a:stretch/>
        </p:blipFill>
        <p:spPr>
          <a:xfrm>
            <a:off x="5257800" y="277164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Схемы важнейших сражений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124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трнаступление под Моск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12.1941г. – 20.04.1942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вобождение Белору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06 – 29.08.1944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енные действ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2.06 – 9.07.1941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5153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Военная техника и оружие Красной Арми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800" y="4723920"/>
            <a:ext cx="5943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ёгкий плавающий танк Т-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едний танк Т-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ёгкий танк БТ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871640"/>
            <a:ext cx="67816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Кие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.07 – 19.09.1941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Кавк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июль – декабрь 1942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Одес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08 - 10.10.1941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-6000"/>
          </a:blip>
          <a:srcRect l="12049" t="22733" r="14976" b="26598"/>
          <a:stretch/>
        </p:blipFill>
        <p:spPr>
          <a:xfrm>
            <a:off x="239760" y="609480"/>
            <a:ext cx="471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турм Кёнигсберг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9 апреля 1945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рона Ленингра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07 – 12.11.194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рыв блокад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нинграда (январь 1943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-6000"/>
          </a:blip>
          <a:srcRect l="40481" t="6448" r="21377" b="14251"/>
          <a:stretch/>
        </p:blipFill>
        <p:spPr>
          <a:xfrm>
            <a:off x="4343400" y="762120"/>
            <a:ext cx="4605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4723920"/>
            <a:ext cx="426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У ИСУ-1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яжёлый танк КВ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яжёлый танк ИС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8229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5120" y="4800240"/>
            <a:ext cx="586728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6,2-мм зенитное ору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3-мм гаубица Б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активная установка БМ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553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61960" y="5028840"/>
            <a:ext cx="4647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ребитель ЯК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мбардировщик ИЛ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лёт У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502884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идросамолёт МБР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ребитель ЯК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мбардировщик СБ (АНТ-4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Шпагина  (ППШ-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Дегтярёва (ППД-3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Судаева     (ППС-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psh" descr="Пистолет-пулемет ППШ обр. 1941 г.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0880" y="990720"/>
            <a:ext cx="84582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502884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Дегтярёва (ДС-3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Максима 1910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Горюнова (СТ-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Станковый пулемет Максима на колесном станке Соколова без щита"/>
          <p:cNvPicPr/>
          <p:nvPr/>
        </p:nvPicPr>
        <p:blipFill>
          <a:blip r:embed="rId1"/>
          <a:stretch/>
        </p:blipFill>
        <p:spPr>
          <a:xfrm>
            <a:off x="1752480" y="304920"/>
            <a:ext cx="57913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Великие полководцы и герои войн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57800" y="4724280"/>
            <a:ext cx="3276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уйков В.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анфилов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ыбалко П.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3240" y="1600200"/>
            <a:ext cx="368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b12</cp:lastModifiedBy>
  <dcterms:modified xsi:type="dcterms:W3CDTF">2009-11-27T02:35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