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2DC-E576-44C7-B95B-5CB34C1B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4E0-DE84-4F4E-BE6B-4136BFA2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00C-4844-4B6D-8F0E-5F6DCCE5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973-C72D-4B85-A624-60204D76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273-93E3-4708-A58D-2814C334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55D9-FA5E-4A46-969A-DAAB454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F2CB-55BD-4271-907B-AD02DD6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527-84C5-4A91-AED9-998BE76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C3D-7D0E-4184-9AAC-F41C254E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6B6A-59BC-4B55-BC61-10D46EF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E05-D4BF-4463-AAC5-79A297C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F40-B2B3-48AA-B3CB-F3D1D684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4EF-90CA-46EC-A7D8-2A38F6BD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15A-AAF3-4E6E-B881-E683DE3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AAE-CF52-4FA0-BA5B-D2CD694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A74-10EA-4BF9-BCE4-55B1077C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D79-C90D-471D-8268-144C8E61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761-B2D2-495A-B516-6AE1B3A7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4B6-BCA9-4C6A-8FDE-E72A8BB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EF6-A19F-4017-AF79-BDF9418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5B0-7F83-4C8B-8FE0-6EC83F7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7F3-FFED-4000-96C4-6D58775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0A9-9025-4C33-9E74-36E4C19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C9A-0D49-4F3A-8632-1DC1116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6526-F5FB-49EB-9253-D0A8CF34D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A034-79C3-40FD-A827-99EADB78A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84807"/>
                </a:solidFill>
                <a:latin typeface="Calibri"/>
              </a:rPr>
              <a:t>Тема уро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707920"/>
            <a:ext cx="91440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84807"/>
                </a:solidFill>
                <a:latin typeface="Calibri"/>
              </a:rPr>
              <a:t>В музыкальном театре. Опер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Речитати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— вокальная музыкальная форма, не подчинённая симметрическому ритму, род певучего разговора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брет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итал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Libretto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— литературная основа большого вокального сочинения, светского или духовного, например оперы, оперетты, оратории, кантаты, мюзикл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59280" y="2133720"/>
            <a:ext cx="2808000" cy="230328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ПЕ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04640"/>
            <a:ext cx="3240000" cy="1511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сам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72428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3336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24280"/>
            <a:ext cx="324000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rot="20230800">
            <a:off x="5508720" y="2133360"/>
            <a:ext cx="1657080" cy="431640"/>
          </a:xfrm>
          <a:prstGeom prst="rightArrow">
            <a:avLst>
              <a:gd name="adj1" fmla="val 50000"/>
              <a:gd name="adj2" fmla="val 9597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rot="1558200">
            <a:off x="5651280" y="3860640"/>
            <a:ext cx="1657080" cy="432000"/>
          </a:xfrm>
          <a:prstGeom prst="rightArrow">
            <a:avLst>
              <a:gd name="adj1" fmla="val 50000"/>
              <a:gd name="adj2" fmla="val 9589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rot="12414600">
            <a:off x="1763640" y="2060280"/>
            <a:ext cx="1657440" cy="431640"/>
          </a:xfrm>
          <a:prstGeom prst="rightArrow">
            <a:avLst>
              <a:gd name="adj1" fmla="val 50000"/>
              <a:gd name="adj2" fmla="val 9599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rot="8744400">
            <a:off x="1692000" y="3933720"/>
            <a:ext cx="1657440" cy="432000"/>
          </a:xfrm>
          <a:prstGeom prst="rightArrow">
            <a:avLst>
              <a:gd name="adj1" fmla="val 50000"/>
              <a:gd name="adj2" fmla="val 959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21080" cy="486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ерная драма, возможно самое оригинальное создание современной циви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155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.Рол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ЕР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от итал.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oper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труд, произведение, сочинение) – это музыкальный спектакль, основанный на слиянии слова, музыки и драмы, в котором  действующие лица по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вертюра к опере «Руслан и Людмила» М.И.Гли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543480"/>
            <a:ext cx="2592360" cy="331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64000" y="3584520"/>
            <a:ext cx="2320920" cy="32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97972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84480" cy="252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83080" y="4338720"/>
            <a:ext cx="376092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297400" y="0"/>
            <a:ext cx="384660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79280" y="4340160"/>
            <a:ext cx="377820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83743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узыкальная драматурги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означает особенности драматической содержательности музыки, сквозное развитие в  единстве музыки и сценического действия оперы. В драматургии особую роль играет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ОНФЛИК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3640" cy="6557400"/>
            <a:chOff x="0" y="0"/>
            <a:chExt cx="9143640" cy="6557400"/>
          </a:xfrm>
        </p:grpSpPr>
        <p:cxnSp>
          <p:nvCxnSpPr>
            <p:cNvPr id="99" name="_s3175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697000" y="1500120"/>
              <a:ext cx="1305360" cy="35560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31751"/>
            <p:cNvCxnSpPr>
              <a:stCxn id="103" idx="0"/>
              <a:endCxn id="101" idx="2"/>
            </p:cNvCxnSpPr>
            <p:nvPr/>
          </p:nvCxnSpPr>
          <p:spPr>
            <a:xfrm flipV="1" rot="16200000">
              <a:off x="4511520" y="2685600"/>
              <a:ext cx="1305360" cy="11854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31752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3326400" y="2685240"/>
              <a:ext cx="1305360" cy="11862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31753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2141280" y="1500120"/>
              <a:ext cx="1305360" cy="35568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31754"/>
            <p:cNvSpPr/>
            <p:nvPr/>
          </p:nvSpPr>
          <p:spPr>
            <a:xfrm>
              <a:off x="3556080" y="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ОФЛИК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31755"/>
            <p:cNvSpPr/>
            <p:nvPr/>
          </p:nvSpPr>
          <p:spPr>
            <a:xfrm>
              <a:off x="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31756"/>
            <p:cNvSpPr/>
            <p:nvPr/>
          </p:nvSpPr>
          <p:spPr>
            <a:xfrm>
              <a:off x="23706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онфлик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31757"/>
            <p:cNvSpPr/>
            <p:nvPr/>
          </p:nvSpPr>
          <p:spPr>
            <a:xfrm>
              <a:off x="47412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ульминац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_s31758"/>
            <p:cNvSpPr/>
            <p:nvPr/>
          </p:nvSpPr>
          <p:spPr>
            <a:xfrm>
              <a:off x="71118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аз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" y="274680"/>
            <a:ext cx="8228160" cy="6277320"/>
            <a:chOff x="457200" y="274680"/>
            <a:chExt cx="8228160" cy="6277320"/>
          </a:xfrm>
        </p:grpSpPr>
        <p:cxnSp>
          <p:nvCxnSpPr>
            <p:cNvPr id="109" name="_s33808"/>
            <p:cNvCxnSpPr>
              <a:stCxn id="110" idx="3"/>
              <a:endCxn id="111" idx="2"/>
            </p:cNvCxnSpPr>
            <p:nvPr/>
          </p:nvCxnSpPr>
          <p:spPr>
            <a:xfrm flipV="1">
              <a:off x="5393880" y="1415520"/>
              <a:ext cx="823320" cy="456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33807"/>
            <p:cNvCxnSpPr>
              <a:stCxn id="113" idx="3"/>
              <a:endCxn id="111" idx="2"/>
            </p:cNvCxnSpPr>
            <p:nvPr/>
          </p:nvCxnSpPr>
          <p:spPr>
            <a:xfrm flipV="1">
              <a:off x="5393880" y="1415520"/>
              <a:ext cx="823320" cy="285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33806"/>
            <p:cNvCxnSpPr>
              <a:stCxn id="115" idx="3"/>
              <a:endCxn id="111" idx="2"/>
            </p:cNvCxnSpPr>
            <p:nvPr/>
          </p:nvCxnSpPr>
          <p:spPr>
            <a:xfrm flipV="1">
              <a:off x="5393880" y="1415520"/>
              <a:ext cx="82332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33802"/>
            <p:cNvSpPr/>
            <p:nvPr/>
          </p:nvSpPr>
          <p:spPr>
            <a:xfrm>
              <a:off x="3748320" y="2746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ОПЕРА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33803"/>
            <p:cNvSpPr/>
            <p:nvPr/>
          </p:nvSpPr>
          <p:spPr>
            <a:xfrm>
              <a:off x="457200" y="19864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ейств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33804"/>
            <p:cNvSpPr/>
            <p:nvPr/>
          </p:nvSpPr>
          <p:spPr>
            <a:xfrm>
              <a:off x="457200" y="369864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рти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33805"/>
            <p:cNvSpPr/>
            <p:nvPr/>
          </p:nvSpPr>
          <p:spPr>
            <a:xfrm>
              <a:off x="457200" y="541080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сце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117" name="_s35860"/>
            <p:cNvCxnSpPr>
              <a:stCxn id="118" idx="1"/>
              <a:endCxn id="119" idx="2"/>
            </p:cNvCxnSpPr>
            <p:nvPr/>
          </p:nvCxnSpPr>
          <p:spPr>
            <a:xfrm rot="10800000">
              <a:off x="2742120" y="806040"/>
              <a:ext cx="91476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35858"/>
            <p:cNvCxnSpPr>
              <a:stCxn id="121" idx="1"/>
              <a:endCxn id="119" idx="2"/>
            </p:cNvCxnSpPr>
            <p:nvPr/>
          </p:nvCxnSpPr>
          <p:spPr>
            <a:xfrm rot="10800000">
              <a:off x="2742120" y="806040"/>
              <a:ext cx="91476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35852"/>
            <p:cNvCxnSpPr>
              <a:stCxn id="123" idx="1"/>
              <a:endCxn id="119" idx="2"/>
            </p:cNvCxnSpPr>
            <p:nvPr/>
          </p:nvCxnSpPr>
          <p:spPr>
            <a:xfrm rot="10800000">
              <a:off x="2742120" y="806040"/>
              <a:ext cx="914760" cy="5648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35851"/>
            <p:cNvCxnSpPr>
              <a:stCxn id="125" idx="1"/>
              <a:endCxn id="119" idx="2"/>
            </p:cNvCxnSpPr>
            <p:nvPr/>
          </p:nvCxnSpPr>
          <p:spPr>
            <a:xfrm rot="10800000">
              <a:off x="2742120" y="806040"/>
              <a:ext cx="91476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35850"/>
            <p:cNvCxnSpPr>
              <a:stCxn id="127" idx="1"/>
              <a:endCxn id="119" idx="2"/>
            </p:cNvCxnSpPr>
            <p:nvPr/>
          </p:nvCxnSpPr>
          <p:spPr>
            <a:xfrm rot="10800000">
              <a:off x="2742120" y="806040"/>
              <a:ext cx="91476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35846"/>
            <p:cNvSpPr/>
            <p:nvPr/>
          </p:nvSpPr>
          <p:spPr>
            <a:xfrm>
              <a:off x="0" y="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Arial"/>
                </a:rPr>
                <a:t>Формы драматургии в опере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_s35847"/>
            <p:cNvSpPr/>
            <p:nvPr/>
          </p:nvSpPr>
          <p:spPr>
            <a:xfrm>
              <a:off x="3656880" y="12099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ар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_s35848"/>
            <p:cNvSpPr/>
            <p:nvPr/>
          </p:nvSpPr>
          <p:spPr>
            <a:xfrm>
              <a:off x="3656880" y="48405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уэ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_s35849"/>
            <p:cNvSpPr/>
            <p:nvPr/>
          </p:nvSpPr>
          <p:spPr>
            <a:xfrm>
              <a:off x="3656880" y="60508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трио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_s35857"/>
            <p:cNvSpPr/>
            <p:nvPr/>
          </p:nvSpPr>
          <p:spPr>
            <a:xfrm>
              <a:off x="3656880" y="363024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ватин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35859"/>
            <p:cNvSpPr/>
            <p:nvPr/>
          </p:nvSpPr>
          <p:spPr>
            <a:xfrm>
              <a:off x="3656880" y="24202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8:04Z</dcterms:created>
  <dc:creator>Татьяна</dc:creator>
  <dc:description/>
  <dc:language>en-US</dc:language>
  <cp:lastModifiedBy>Татьяна</cp:lastModifiedBy>
  <dcterms:modified xsi:type="dcterms:W3CDTF">2009-07-02T13:13:03Z</dcterms:modified>
  <cp:revision>18</cp:revision>
  <dc:subject/>
  <dc:title>Слайд 1</dc:title>
</cp:coreProperties>
</file>