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A30-05D3-4A09-BD9E-8B914FEF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55CC-E7F8-46DB-B262-D1283678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CA3-3E73-4FDF-B9CE-BC631E6B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416-F8AD-4DD6-B3ED-73979926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176A-ED4B-4EBD-B50E-AD45109D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4B7C-A7DD-4F7F-88C3-F6770A76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8A2E-70CF-4EAD-9E8D-246D4F50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2B7C-5DD5-401D-BE40-6EE69DB6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33CB-D83A-44DF-B5A5-B385D2E0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F3BD-6A2F-4254-8ED3-CB794EAD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F98E-3E52-458E-BBD1-BBAC8336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93D-D1A3-47FA-A0FE-0D9C5B5C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A558-D275-4EFE-8B26-793188EB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B7BD-154E-4267-AB68-E79CD83B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BC4A-0FE2-4640-99F9-521C4F24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BF52-C41B-4A79-8B00-C217FAD9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DF00-E111-4765-A11C-BF11C63D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707-66AF-47B5-AB2B-4CD1F24D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993-752E-449B-9AA1-D1DE4ECE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3A5-F41C-4801-8EC4-D3796717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A6D-A24A-4F6C-84FA-E1FD678D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BDB-561F-418A-828F-430B9B1B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66A-719D-47CD-B18F-73ED1D67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8D9-3B61-4AF0-8BE5-93409D8D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4ACF-21B7-4AB6-9F1F-67B8FC81C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7BAF-3BB3-476E-9D1B-D53F94CFBD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84807"/>
                </a:solidFill>
                <a:latin typeface="Calibri"/>
              </a:rPr>
              <a:t>Тема урок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2707920"/>
            <a:ext cx="91440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84807"/>
                </a:solidFill>
                <a:latin typeface="Calibri"/>
              </a:rPr>
              <a:t>В музыкальном театре. Опера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Речитатив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— вокальная музыкальная форма, не подчинённая симметрическому ритму, род певучего разговора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       ВИКИПЕД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бретто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итал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Libretto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 — литературная основа большого вокального сочинения, светского или духовного, например оперы, оперетты, оратории, кантаты, мюзикла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 ВИКИПЕД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59280" y="2133720"/>
            <a:ext cx="2808000" cy="2303280"/>
          </a:xfrm>
          <a:prstGeom prst="hexagon">
            <a:avLst>
              <a:gd name="adj" fmla="val 30478"/>
              <a:gd name="vf" fmla="val 11547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ПЕ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404640"/>
            <a:ext cx="3240000" cy="1511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самб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4724280"/>
            <a:ext cx="3240360" cy="1511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ркес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333360"/>
            <a:ext cx="3240360" cy="1511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ли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24280"/>
            <a:ext cx="3240000" cy="1511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 rot="20230800">
            <a:off x="5508720" y="2133360"/>
            <a:ext cx="1657080" cy="431640"/>
          </a:xfrm>
          <a:prstGeom prst="rightArrow">
            <a:avLst>
              <a:gd name="adj1" fmla="val 50000"/>
              <a:gd name="adj2" fmla="val 9597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 rot="1558200">
            <a:off x="5651280" y="3860640"/>
            <a:ext cx="1657080" cy="432000"/>
          </a:xfrm>
          <a:prstGeom prst="rightArrow">
            <a:avLst>
              <a:gd name="adj1" fmla="val 50000"/>
              <a:gd name="adj2" fmla="val 9589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 rot="12414600">
            <a:off x="1763640" y="2060280"/>
            <a:ext cx="1657440" cy="431640"/>
          </a:xfrm>
          <a:prstGeom prst="rightArrow">
            <a:avLst>
              <a:gd name="adj1" fmla="val 50000"/>
              <a:gd name="adj2" fmla="val 9599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 rot="8744400">
            <a:off x="1692000" y="3933720"/>
            <a:ext cx="1657440" cy="432000"/>
          </a:xfrm>
          <a:prstGeom prst="rightArrow">
            <a:avLst>
              <a:gd name="adj1" fmla="val 50000"/>
              <a:gd name="adj2" fmla="val 9591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421080" cy="486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ерная драма, возможно самое оригинальное создание современной цивил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155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.Ролл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8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ЕР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(от итал.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opera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– труд, произведение, сочинение) – это музыкальный спектакль, основанный на слиянии слова, музыки и драмы, в котором  действующие лица пою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Увертюра к опере «Руслан и Людмила» М.И.Гли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3543480"/>
            <a:ext cx="2592360" cy="3314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64000" y="3584520"/>
            <a:ext cx="2320920" cy="327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32000" y="2276640"/>
            <a:ext cx="2979720" cy="25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84480" cy="252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383080" y="4338720"/>
            <a:ext cx="3760920" cy="2519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297400" y="0"/>
            <a:ext cx="3846600" cy="251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79280" y="4340160"/>
            <a:ext cx="377820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349000"/>
            <a:ext cx="83743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Музыкальная драматурги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означает особенности драматической содержательности музыки, сквозное развитие в  единстве музыки и сценического действия оперы. В драматургии особую роль играет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ОНФЛИК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3640" cy="6557400"/>
            <a:chOff x="0" y="0"/>
            <a:chExt cx="9143640" cy="6557400"/>
          </a:xfrm>
        </p:grpSpPr>
        <p:cxnSp>
          <p:nvCxnSpPr>
            <p:cNvPr id="99" name="_s31750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697000" y="1500120"/>
              <a:ext cx="1305360" cy="355608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31751"/>
            <p:cNvCxnSpPr>
              <a:stCxn id="103" idx="0"/>
              <a:endCxn id="101" idx="2"/>
            </p:cNvCxnSpPr>
            <p:nvPr/>
          </p:nvCxnSpPr>
          <p:spPr>
            <a:xfrm flipV="1" rot="16200000">
              <a:off x="4511520" y="2685600"/>
              <a:ext cx="1305360" cy="118548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31752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3326400" y="2685240"/>
              <a:ext cx="1305360" cy="118620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31753"/>
            <p:cNvCxnSpPr>
              <a:stCxn id="107" idx="0"/>
              <a:endCxn id="101" idx="2"/>
            </p:cNvCxnSpPr>
            <p:nvPr/>
          </p:nvCxnSpPr>
          <p:spPr>
            <a:xfrm flipH="1" flipV="1" rot="5400000">
              <a:off x="2141280" y="1500120"/>
              <a:ext cx="1305360" cy="3556800"/>
            </a:xfrm>
            <a:prstGeom prst="bentConnector3">
              <a:avLst>
                <a:gd name="adj1" fmla="val 87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1" name="_s31754"/>
            <p:cNvSpPr/>
            <p:nvPr/>
          </p:nvSpPr>
          <p:spPr>
            <a:xfrm>
              <a:off x="3556080" y="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КОФЛИК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_s31755"/>
            <p:cNvSpPr/>
            <p:nvPr/>
          </p:nvSpPr>
          <p:spPr>
            <a:xfrm>
              <a:off x="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вязк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31756"/>
            <p:cNvSpPr/>
            <p:nvPr/>
          </p:nvSpPr>
          <p:spPr>
            <a:xfrm>
              <a:off x="237060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конфлик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_s31757"/>
            <p:cNvSpPr/>
            <p:nvPr/>
          </p:nvSpPr>
          <p:spPr>
            <a:xfrm>
              <a:off x="474120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кульминац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_s31758"/>
            <p:cNvSpPr/>
            <p:nvPr/>
          </p:nvSpPr>
          <p:spPr>
            <a:xfrm>
              <a:off x="7111800" y="3931200"/>
              <a:ext cx="2031840" cy="262620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626200"/>
                <a:gd name="textAreaBottom" fmla="*/ 2527200 h 2626200"/>
              </a:gdLst>
              <a:ahLst/>
              <a:rect l="textAreaLeft" t="textAreaTop" r="textAreaRight" b="textAreaBottom"/>
              <a:pathLst>
                <a:path w="21600" h="27917">
                  <a:moveTo>
                    <a:pt x="3600" y="0"/>
                  </a:moveTo>
                  <a:arcTo wR="3600" hR="3600" stAng="16200000" swAng="-5400000"/>
                  <a:lnTo>
                    <a:pt x="0" y="24317"/>
                  </a:lnTo>
                  <a:arcTo wR="3600" hR="3600" stAng="10800000" swAng="-5400000"/>
                  <a:lnTo>
                    <a:pt x="18000" y="279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развязк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57200" y="274680"/>
            <a:ext cx="8228160" cy="6277320"/>
            <a:chOff x="457200" y="274680"/>
            <a:chExt cx="8228160" cy="6277320"/>
          </a:xfrm>
        </p:grpSpPr>
        <p:cxnSp>
          <p:nvCxnSpPr>
            <p:cNvPr id="109" name="_s33808"/>
            <p:cNvCxnSpPr>
              <a:stCxn id="110" idx="3"/>
              <a:endCxn id="111" idx="2"/>
            </p:cNvCxnSpPr>
            <p:nvPr/>
          </p:nvCxnSpPr>
          <p:spPr>
            <a:xfrm flipV="1">
              <a:off x="5393880" y="1415520"/>
              <a:ext cx="823320" cy="4566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33807"/>
            <p:cNvCxnSpPr>
              <a:stCxn id="113" idx="3"/>
              <a:endCxn id="111" idx="2"/>
            </p:cNvCxnSpPr>
            <p:nvPr/>
          </p:nvCxnSpPr>
          <p:spPr>
            <a:xfrm flipV="1">
              <a:off x="5393880" y="1415520"/>
              <a:ext cx="823320" cy="2854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33806"/>
            <p:cNvCxnSpPr>
              <a:stCxn id="115" idx="3"/>
              <a:endCxn id="111" idx="2"/>
            </p:cNvCxnSpPr>
            <p:nvPr/>
          </p:nvCxnSpPr>
          <p:spPr>
            <a:xfrm flipV="1">
              <a:off x="5393880" y="1415520"/>
              <a:ext cx="823320" cy="1141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33802"/>
            <p:cNvSpPr/>
            <p:nvPr/>
          </p:nvSpPr>
          <p:spPr>
            <a:xfrm>
              <a:off x="3748320" y="27468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ОПЕРА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_s33803"/>
            <p:cNvSpPr/>
            <p:nvPr/>
          </p:nvSpPr>
          <p:spPr>
            <a:xfrm>
              <a:off x="457200" y="198648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действ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_s33804"/>
            <p:cNvSpPr/>
            <p:nvPr/>
          </p:nvSpPr>
          <p:spPr>
            <a:xfrm>
              <a:off x="457200" y="369864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картин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_s33805"/>
            <p:cNvSpPr/>
            <p:nvPr/>
          </p:nvSpPr>
          <p:spPr>
            <a:xfrm>
              <a:off x="457200" y="5410800"/>
              <a:ext cx="4937040" cy="1141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сцен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117" name="_s35860"/>
            <p:cNvCxnSpPr>
              <a:stCxn id="118" idx="1"/>
              <a:endCxn id="119" idx="2"/>
            </p:cNvCxnSpPr>
            <p:nvPr/>
          </p:nvCxnSpPr>
          <p:spPr>
            <a:xfrm rot="10800000">
              <a:off x="2742120" y="806040"/>
              <a:ext cx="91476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35858"/>
            <p:cNvCxnSpPr>
              <a:stCxn id="121" idx="1"/>
              <a:endCxn id="119" idx="2"/>
            </p:cNvCxnSpPr>
            <p:nvPr/>
          </p:nvCxnSpPr>
          <p:spPr>
            <a:xfrm rot="10800000">
              <a:off x="2742120" y="806040"/>
              <a:ext cx="91476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35852"/>
            <p:cNvCxnSpPr>
              <a:stCxn id="123" idx="1"/>
              <a:endCxn id="119" idx="2"/>
            </p:cNvCxnSpPr>
            <p:nvPr/>
          </p:nvCxnSpPr>
          <p:spPr>
            <a:xfrm rot="10800000">
              <a:off x="2742120" y="806040"/>
              <a:ext cx="914760" cy="5648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35851"/>
            <p:cNvCxnSpPr>
              <a:stCxn id="125" idx="1"/>
              <a:endCxn id="119" idx="2"/>
            </p:cNvCxnSpPr>
            <p:nvPr/>
          </p:nvCxnSpPr>
          <p:spPr>
            <a:xfrm rot="10800000">
              <a:off x="2742120" y="806040"/>
              <a:ext cx="91476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35850"/>
            <p:cNvCxnSpPr>
              <a:stCxn id="127" idx="1"/>
              <a:endCxn id="119" idx="2"/>
            </p:cNvCxnSpPr>
            <p:nvPr/>
          </p:nvCxnSpPr>
          <p:spPr>
            <a:xfrm rot="10800000">
              <a:off x="2742120" y="806040"/>
              <a:ext cx="91476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35846"/>
            <p:cNvSpPr/>
            <p:nvPr/>
          </p:nvSpPr>
          <p:spPr>
            <a:xfrm>
              <a:off x="0" y="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Arial"/>
                </a:rPr>
                <a:t>Формы драматургии в опере</a:t>
              </a: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_s35847"/>
            <p:cNvSpPr/>
            <p:nvPr/>
          </p:nvSpPr>
          <p:spPr>
            <a:xfrm>
              <a:off x="3656880" y="120996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ария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_s35848"/>
            <p:cNvSpPr/>
            <p:nvPr/>
          </p:nvSpPr>
          <p:spPr>
            <a:xfrm>
              <a:off x="3656880" y="484056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дуэт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_s35849"/>
            <p:cNvSpPr/>
            <p:nvPr/>
          </p:nvSpPr>
          <p:spPr>
            <a:xfrm>
              <a:off x="3656880" y="605088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трио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_s35857"/>
            <p:cNvSpPr/>
            <p:nvPr/>
          </p:nvSpPr>
          <p:spPr>
            <a:xfrm>
              <a:off x="3656880" y="363024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каватин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_s35859"/>
            <p:cNvSpPr/>
            <p:nvPr/>
          </p:nvSpPr>
          <p:spPr>
            <a:xfrm>
              <a:off x="3656880" y="2420280"/>
              <a:ext cx="5485680" cy="806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700" spc="-1" strike="noStrike">
                  <a:solidFill>
                    <a:srgbClr val="ffffff"/>
                  </a:solidFill>
                  <a:latin typeface="Arial"/>
                </a:rPr>
                <a:t>песня</a:t>
              </a:r>
              <a:endParaRPr b="0" lang="en-US" sz="4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6:48:04Z</dcterms:created>
  <dc:creator>Татьяна</dc:creator>
  <dc:description/>
  <dc:language>en-US</dc:language>
  <cp:lastModifiedBy>Татьяна</cp:lastModifiedBy>
  <dcterms:modified xsi:type="dcterms:W3CDTF">2009-07-02T13:13:03Z</dcterms:modified>
  <cp:revision>18</cp:revision>
  <dc:subject/>
  <dc:title>Слайд 1</dc:title>
</cp:coreProperties>
</file>