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002-21B7-4D57-B451-0A7B47F7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EFE-B9FA-48E1-B029-3FD58E37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DB0-D9FC-44AF-9687-23305FF5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3CC-F0CE-40B3-B457-71CDABDC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43A5-B795-4AB0-AD55-EFCECD43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47CA-2A62-4B10-AD63-999FC258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A56E-F50B-4021-B719-06B5FE14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F44D-29A4-437D-913D-9698D5D8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BD41-90C6-41FC-84FE-C84AAF8B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2451-F6B3-4ECB-A8DD-878FEAC0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E33C-EBCD-43EF-9CCC-3A1913BC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A13-42E2-49E7-8828-7CA072D7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2C33-1B3F-4A66-8036-94F8D9A1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174C-4EF8-4D4A-9FCF-AEB2638A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6C03-AC1E-4A34-89C1-5F465546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2F5F-2175-431F-8DE8-55441238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3D35-8C34-47BE-8609-8918A600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2F4-0205-4782-89D1-EAE401E4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35E-445A-41EE-BC01-D499900D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E5F-AEA2-4EF7-B8B9-92B16720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C33-6829-4222-A91D-E3DDD0A6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188-D796-4094-8424-82C524D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9B4-2004-4909-AF84-8E710F1A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83B-EBBF-4769-9174-71A2FF54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47F7-65E3-448A-B220-048BB80A1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0997-C40C-447B-8272-08D9B63A6E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84807"/>
                </a:solidFill>
                <a:latin typeface="Calibri"/>
              </a:rPr>
              <a:t>Тема урок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2707920"/>
            <a:ext cx="914400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84807"/>
                </a:solidFill>
                <a:latin typeface="Calibri"/>
              </a:rPr>
              <a:t>В музыкальном театре. Опера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Речитатив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— вокальная музыкальная форма, не подчинённая симметрическому ритму, род певучего разговора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       ВИКИПЕД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бретт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(итал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Libretto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 — литературная основа большого вокального сочинения, светского или духовного, например оперы, оперетты, оратории, кантаты, мюзикла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    ВИКИПЕД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59280" y="2133720"/>
            <a:ext cx="2808000" cy="2303280"/>
          </a:xfrm>
          <a:prstGeom prst="hexagon">
            <a:avLst>
              <a:gd name="adj" fmla="val 30478"/>
              <a:gd name="vf" fmla="val 11547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ПЕ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404640"/>
            <a:ext cx="3240000" cy="1511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нсамб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4724280"/>
            <a:ext cx="3240360" cy="1511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ркес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333360"/>
            <a:ext cx="3240360" cy="1511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ли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24280"/>
            <a:ext cx="3240000" cy="1511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 rot="20230800">
            <a:off x="5508720" y="2133360"/>
            <a:ext cx="1657080" cy="431640"/>
          </a:xfrm>
          <a:prstGeom prst="rightArrow">
            <a:avLst>
              <a:gd name="adj1" fmla="val 50000"/>
              <a:gd name="adj2" fmla="val 9597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 rot="1558200">
            <a:off x="5651280" y="3860640"/>
            <a:ext cx="1657080" cy="432000"/>
          </a:xfrm>
          <a:prstGeom prst="rightArrow">
            <a:avLst>
              <a:gd name="adj1" fmla="val 50000"/>
              <a:gd name="adj2" fmla="val 9589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 rot="12414600">
            <a:off x="1763640" y="2060280"/>
            <a:ext cx="1657440" cy="431640"/>
          </a:xfrm>
          <a:prstGeom prst="rightArrow">
            <a:avLst>
              <a:gd name="adj1" fmla="val 50000"/>
              <a:gd name="adj2" fmla="val 9599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 rot="8744400">
            <a:off x="1692000" y="3933720"/>
            <a:ext cx="1657440" cy="432000"/>
          </a:xfrm>
          <a:prstGeom prst="rightArrow">
            <a:avLst>
              <a:gd name="adj1" fmla="val 50000"/>
              <a:gd name="adj2" fmla="val 9591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3421080" cy="4869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2060640"/>
          </a:xfrm>
          <a:prstGeom prst="wedgeRectCallout">
            <a:avLst>
              <a:gd name="adj1" fmla="val -44393"/>
              <a:gd name="adj2" fmla="val 8428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перная драма, возможно самое оригинальное создание современной цивил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155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.Ролл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8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ЕР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(от итал.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opera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– труд, произведение, сочинение) – это музыкальный спектакль, основанный на слиянии слова, музыки и драмы, в котором  действующие лица пою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Увертюра к опере «Руслан и Людмила» М.И.Глин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3543480"/>
            <a:ext cx="2592360" cy="3314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64000" y="3584520"/>
            <a:ext cx="2320920" cy="327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132000" y="2276640"/>
            <a:ext cx="2979720" cy="25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84480" cy="252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383080" y="4338720"/>
            <a:ext cx="3760920" cy="2519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297400" y="0"/>
            <a:ext cx="3846600" cy="2519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179280" y="4340160"/>
            <a:ext cx="3778200" cy="25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2349000"/>
            <a:ext cx="83743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Музыкальная драматурги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означает особенности драматической содержательности музыки, сквозное развитие в  единстве музыки и сценического действия оперы. В драматургии особую роль играет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КОНФЛИК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3640" cy="6557400"/>
            <a:chOff x="0" y="0"/>
            <a:chExt cx="9143640" cy="6557400"/>
          </a:xfrm>
        </p:grpSpPr>
        <p:cxnSp>
          <p:nvCxnSpPr>
            <p:cNvPr id="99" name="_s31750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697000" y="1500120"/>
              <a:ext cx="1305360" cy="3556080"/>
            </a:xfrm>
            <a:prstGeom prst="bentConnector3">
              <a:avLst>
                <a:gd name="adj1" fmla="val 8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31751"/>
            <p:cNvCxnSpPr>
              <a:stCxn id="103" idx="0"/>
              <a:endCxn id="101" idx="2"/>
            </p:cNvCxnSpPr>
            <p:nvPr/>
          </p:nvCxnSpPr>
          <p:spPr>
            <a:xfrm flipV="1" rot="16200000">
              <a:off x="4511520" y="2685600"/>
              <a:ext cx="1305360" cy="1185480"/>
            </a:xfrm>
            <a:prstGeom prst="bentConnector3">
              <a:avLst>
                <a:gd name="adj1" fmla="val 8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31752"/>
            <p:cNvCxnSpPr>
              <a:stCxn id="105" idx="0"/>
              <a:endCxn id="101" idx="2"/>
            </p:cNvCxnSpPr>
            <p:nvPr/>
          </p:nvCxnSpPr>
          <p:spPr>
            <a:xfrm flipH="1" flipV="1" rot="5400000">
              <a:off x="3326400" y="2685240"/>
              <a:ext cx="1305360" cy="1186200"/>
            </a:xfrm>
            <a:prstGeom prst="bentConnector3">
              <a:avLst>
                <a:gd name="adj1" fmla="val 8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6" name="_s31753"/>
            <p:cNvCxnSpPr>
              <a:stCxn id="107" idx="0"/>
              <a:endCxn id="101" idx="2"/>
            </p:cNvCxnSpPr>
            <p:nvPr/>
          </p:nvCxnSpPr>
          <p:spPr>
            <a:xfrm flipH="1" flipV="1" rot="5400000">
              <a:off x="2141280" y="1500120"/>
              <a:ext cx="1305360" cy="3556800"/>
            </a:xfrm>
            <a:prstGeom prst="bentConnector3">
              <a:avLst>
                <a:gd name="adj1" fmla="val 8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1" name="_s31754"/>
            <p:cNvSpPr/>
            <p:nvPr/>
          </p:nvSpPr>
          <p:spPr>
            <a:xfrm>
              <a:off x="3556080" y="0"/>
              <a:ext cx="2031840" cy="262620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626200"/>
                <a:gd name="textAreaBottom" fmla="*/ 2527200 h 2626200"/>
              </a:gdLst>
              <a:ahLst/>
              <a:rect l="textAreaLeft" t="textAreaTop" r="textAreaRight" b="textAreaBottom"/>
              <a:pathLst>
                <a:path w="21600" h="27917">
                  <a:moveTo>
                    <a:pt x="3600" y="0"/>
                  </a:moveTo>
                  <a:arcTo wR="3600" hR="3600" stAng="16200000" swAng="-5400000"/>
                  <a:lnTo>
                    <a:pt x="0" y="24317"/>
                  </a:lnTo>
                  <a:arcTo wR="3600" hR="3600" stAng="10800000" swAng="-5400000"/>
                  <a:lnTo>
                    <a:pt x="18000" y="279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КОФЛИК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_s31755"/>
            <p:cNvSpPr/>
            <p:nvPr/>
          </p:nvSpPr>
          <p:spPr>
            <a:xfrm>
              <a:off x="0" y="3931200"/>
              <a:ext cx="2031840" cy="262620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626200"/>
                <a:gd name="textAreaBottom" fmla="*/ 2527200 h 2626200"/>
              </a:gdLst>
              <a:ahLst/>
              <a:rect l="textAreaLeft" t="textAreaTop" r="textAreaRight" b="textAreaBottom"/>
              <a:pathLst>
                <a:path w="21600" h="27917">
                  <a:moveTo>
                    <a:pt x="3600" y="0"/>
                  </a:moveTo>
                  <a:arcTo wR="3600" hR="3600" stAng="16200000" swAng="-5400000"/>
                  <a:lnTo>
                    <a:pt x="0" y="24317"/>
                  </a:lnTo>
                  <a:arcTo wR="3600" hR="3600" stAng="10800000" swAng="-5400000"/>
                  <a:lnTo>
                    <a:pt x="18000" y="279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вязк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31756"/>
            <p:cNvSpPr/>
            <p:nvPr/>
          </p:nvSpPr>
          <p:spPr>
            <a:xfrm>
              <a:off x="2370600" y="3931200"/>
              <a:ext cx="2031840" cy="262620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626200"/>
                <a:gd name="textAreaBottom" fmla="*/ 2527200 h 2626200"/>
              </a:gdLst>
              <a:ahLst/>
              <a:rect l="textAreaLeft" t="textAreaTop" r="textAreaRight" b="textAreaBottom"/>
              <a:pathLst>
                <a:path w="21600" h="27917">
                  <a:moveTo>
                    <a:pt x="3600" y="0"/>
                  </a:moveTo>
                  <a:arcTo wR="3600" hR="3600" stAng="16200000" swAng="-5400000"/>
                  <a:lnTo>
                    <a:pt x="0" y="24317"/>
                  </a:lnTo>
                  <a:arcTo wR="3600" hR="3600" stAng="10800000" swAng="-5400000"/>
                  <a:lnTo>
                    <a:pt x="18000" y="279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конфлик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_s31757"/>
            <p:cNvSpPr/>
            <p:nvPr/>
          </p:nvSpPr>
          <p:spPr>
            <a:xfrm>
              <a:off x="4741200" y="3931200"/>
              <a:ext cx="2031840" cy="262620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626200"/>
                <a:gd name="textAreaBottom" fmla="*/ 2527200 h 2626200"/>
              </a:gdLst>
              <a:ahLst/>
              <a:rect l="textAreaLeft" t="textAreaTop" r="textAreaRight" b="textAreaBottom"/>
              <a:pathLst>
                <a:path w="21600" h="27917">
                  <a:moveTo>
                    <a:pt x="3600" y="0"/>
                  </a:moveTo>
                  <a:arcTo wR="3600" hR="3600" stAng="16200000" swAng="-5400000"/>
                  <a:lnTo>
                    <a:pt x="0" y="24317"/>
                  </a:lnTo>
                  <a:arcTo wR="3600" hR="3600" stAng="10800000" swAng="-5400000"/>
                  <a:lnTo>
                    <a:pt x="18000" y="279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кульминац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_s31758"/>
            <p:cNvSpPr/>
            <p:nvPr/>
          </p:nvSpPr>
          <p:spPr>
            <a:xfrm>
              <a:off x="7111800" y="3931200"/>
              <a:ext cx="2031840" cy="262620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626200"/>
                <a:gd name="textAreaBottom" fmla="*/ 2527200 h 2626200"/>
              </a:gdLst>
              <a:ahLst/>
              <a:rect l="textAreaLeft" t="textAreaTop" r="textAreaRight" b="textAreaBottom"/>
              <a:pathLst>
                <a:path w="21600" h="27917">
                  <a:moveTo>
                    <a:pt x="3600" y="0"/>
                  </a:moveTo>
                  <a:arcTo wR="3600" hR="3600" stAng="16200000" swAng="-5400000"/>
                  <a:lnTo>
                    <a:pt x="0" y="24317"/>
                  </a:lnTo>
                  <a:arcTo wR="3600" hR="3600" stAng="10800000" swAng="-5400000"/>
                  <a:lnTo>
                    <a:pt x="18000" y="279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азвязк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57200" y="274680"/>
            <a:ext cx="8228160" cy="6277320"/>
            <a:chOff x="457200" y="274680"/>
            <a:chExt cx="8228160" cy="6277320"/>
          </a:xfrm>
        </p:grpSpPr>
        <p:cxnSp>
          <p:nvCxnSpPr>
            <p:cNvPr id="109" name="_s33808"/>
            <p:cNvCxnSpPr>
              <a:stCxn id="110" idx="3"/>
              <a:endCxn id="111" idx="2"/>
            </p:cNvCxnSpPr>
            <p:nvPr/>
          </p:nvCxnSpPr>
          <p:spPr>
            <a:xfrm flipV="1">
              <a:off x="5393880" y="1415520"/>
              <a:ext cx="823320" cy="4566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33807"/>
            <p:cNvCxnSpPr>
              <a:stCxn id="113" idx="3"/>
              <a:endCxn id="111" idx="2"/>
            </p:cNvCxnSpPr>
            <p:nvPr/>
          </p:nvCxnSpPr>
          <p:spPr>
            <a:xfrm flipV="1">
              <a:off x="5393880" y="1415520"/>
              <a:ext cx="823320" cy="2854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33806"/>
            <p:cNvCxnSpPr>
              <a:stCxn id="115" idx="3"/>
              <a:endCxn id="111" idx="2"/>
            </p:cNvCxnSpPr>
            <p:nvPr/>
          </p:nvCxnSpPr>
          <p:spPr>
            <a:xfrm flipV="1">
              <a:off x="5393880" y="1415520"/>
              <a:ext cx="823320" cy="1141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1" name="_s33802"/>
            <p:cNvSpPr/>
            <p:nvPr/>
          </p:nvSpPr>
          <p:spPr>
            <a:xfrm>
              <a:off x="3748320" y="274680"/>
              <a:ext cx="4937040" cy="1141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Arial"/>
                </a:rPr>
                <a:t>ОПЕРА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_s33803"/>
            <p:cNvSpPr/>
            <p:nvPr/>
          </p:nvSpPr>
          <p:spPr>
            <a:xfrm>
              <a:off x="457200" y="1986480"/>
              <a:ext cx="4937040" cy="1141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действия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_s33804"/>
            <p:cNvSpPr/>
            <p:nvPr/>
          </p:nvSpPr>
          <p:spPr>
            <a:xfrm>
              <a:off x="457200" y="3698640"/>
              <a:ext cx="4937040" cy="1141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картин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_s33805"/>
            <p:cNvSpPr/>
            <p:nvPr/>
          </p:nvSpPr>
          <p:spPr>
            <a:xfrm>
              <a:off x="457200" y="5410800"/>
              <a:ext cx="4937040" cy="1141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сцен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0"/>
            <a:ext cx="9142560" cy="6857640"/>
            <a:chOff x="0" y="0"/>
            <a:chExt cx="9142560" cy="6857640"/>
          </a:xfrm>
        </p:grpSpPr>
        <p:cxnSp>
          <p:nvCxnSpPr>
            <p:cNvPr id="117" name="_s35860"/>
            <p:cNvCxnSpPr>
              <a:stCxn id="118" idx="1"/>
              <a:endCxn id="119" idx="2"/>
            </p:cNvCxnSpPr>
            <p:nvPr/>
          </p:nvCxnSpPr>
          <p:spPr>
            <a:xfrm rot="10800000">
              <a:off x="2742120" y="806040"/>
              <a:ext cx="91476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35858"/>
            <p:cNvCxnSpPr>
              <a:stCxn id="121" idx="1"/>
              <a:endCxn id="119" idx="2"/>
            </p:cNvCxnSpPr>
            <p:nvPr/>
          </p:nvCxnSpPr>
          <p:spPr>
            <a:xfrm rot="10800000">
              <a:off x="2742120" y="806040"/>
              <a:ext cx="914760" cy="3227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35852"/>
            <p:cNvCxnSpPr>
              <a:stCxn id="123" idx="1"/>
              <a:endCxn id="119" idx="2"/>
            </p:cNvCxnSpPr>
            <p:nvPr/>
          </p:nvCxnSpPr>
          <p:spPr>
            <a:xfrm rot="10800000">
              <a:off x="2742120" y="806040"/>
              <a:ext cx="914760" cy="5648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35851"/>
            <p:cNvCxnSpPr>
              <a:stCxn id="125" idx="1"/>
              <a:endCxn id="119" idx="2"/>
            </p:cNvCxnSpPr>
            <p:nvPr/>
          </p:nvCxnSpPr>
          <p:spPr>
            <a:xfrm rot="10800000">
              <a:off x="2742120" y="806040"/>
              <a:ext cx="914760" cy="4437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35850"/>
            <p:cNvCxnSpPr>
              <a:stCxn id="127" idx="1"/>
              <a:endCxn id="119" idx="2"/>
            </p:cNvCxnSpPr>
            <p:nvPr/>
          </p:nvCxnSpPr>
          <p:spPr>
            <a:xfrm rot="10800000">
              <a:off x="2742120" y="806040"/>
              <a:ext cx="91476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9" name="_s35846"/>
            <p:cNvSpPr/>
            <p:nvPr/>
          </p:nvSpPr>
          <p:spPr>
            <a:xfrm>
              <a:off x="0" y="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Arial"/>
                </a:rPr>
                <a:t>Формы драматургии в опере</a:t>
              </a: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_s35847"/>
            <p:cNvSpPr/>
            <p:nvPr/>
          </p:nvSpPr>
          <p:spPr>
            <a:xfrm>
              <a:off x="3656880" y="120996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ария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_s35848"/>
            <p:cNvSpPr/>
            <p:nvPr/>
          </p:nvSpPr>
          <p:spPr>
            <a:xfrm>
              <a:off x="3656880" y="484056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дуэт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_s35849"/>
            <p:cNvSpPr/>
            <p:nvPr/>
          </p:nvSpPr>
          <p:spPr>
            <a:xfrm>
              <a:off x="3656880" y="605088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трио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_s35857"/>
            <p:cNvSpPr/>
            <p:nvPr/>
          </p:nvSpPr>
          <p:spPr>
            <a:xfrm>
              <a:off x="3656880" y="363024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каватин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_s35859"/>
            <p:cNvSpPr/>
            <p:nvPr/>
          </p:nvSpPr>
          <p:spPr>
            <a:xfrm>
              <a:off x="3656880" y="242028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700" spc="-1" strike="noStrike">
                  <a:solidFill>
                    <a:srgbClr val="ffffff"/>
                  </a:solidFill>
                  <a:latin typeface="Arial"/>
                </a:rPr>
                <a:t>песня</a:t>
              </a:r>
              <a:endParaRPr b="0" lang="en-US" sz="4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6:48:04Z</dcterms:created>
  <dc:creator>Татьяна</dc:creator>
  <dc:description/>
  <dc:language>en-US</dc:language>
  <cp:lastModifiedBy>Татьяна</cp:lastModifiedBy>
  <dcterms:modified xsi:type="dcterms:W3CDTF">2009-07-02T13:13:03Z</dcterms:modified>
  <cp:revision>18</cp:revision>
  <dc:subject/>
  <dc:title>Слайд 1</dc:title>
</cp:coreProperties>
</file>