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D20-1F44-4DF3-AA32-855DBE56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F6D-4BE9-45C7-A583-56E55EE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0CF-D079-42CB-BBEF-E6CB4E21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DA2-1EE1-4D04-82E4-2A2B7026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C1B72-CCF9-4E25-A1BF-A32E63A1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BF028-0F76-44A6-BA4E-434C70E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01FC-A189-4B39-A834-5C906E84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DE430-C5FB-47E7-BF06-1EDFBD46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3E1BC-2256-4776-AD92-6D076C0E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A00A-7B9F-4FBD-9C3A-D1DFEFD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25906-795F-48B8-8058-1A07B0C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44E-47BF-4D4D-B18F-ECB917FE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85FD-2731-4355-9249-70E5435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A936E-1C41-44E0-B40A-ED5AE824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43EF1-4E94-434C-A888-CFB5F8D1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71F9-F36D-4BF9-A53E-6D91A749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D6DA8-4037-439E-9396-D79E17F5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6408-1F12-4C8A-AA74-91FC21F0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4183-B8CD-43BD-AAFB-881D34F9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73B5-ACF9-498D-98F8-7CF6E85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4356-BAFE-47CE-AE9B-19BF0769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C186-EE39-44EC-A500-2FF620AA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5EC-EDFE-4984-A8A0-4DCED18A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1977-3D19-4619-9775-65904725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D198-D866-4762-82F5-6C048AB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DA46-97E7-46A9-B2D1-20A4D795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90BA-9286-4374-9B08-8FF2C27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6643-6EAF-483F-B182-85D1A0D1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069D-024E-4C8F-A16A-9A563D06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1026-0B7D-4D4D-9F98-7C9E0E58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83F-3CB2-477E-BE32-0358016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670-8B8F-446B-B37F-6AD58996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7D1-D46B-43D8-9176-0D32CFB0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F92-3AA5-44C9-8A93-DDE2B06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F11-6B6E-473B-82A2-ABF96FD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B8F-4C83-4C46-A84A-0D4D0CF1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6976-FDA6-4D04-9452-D530F2AFA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44C0-C0F5-44D0-92AA-BC4CDBF9203E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2AE5-8611-4610-A57E-78DB031A7549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Геометрия 9 класс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47960" cy="222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Вычислить площадь фигуры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2562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Найти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-1103" t="13464" r="0" b="15623"/>
          <a:stretch/>
        </p:blipFill>
        <p:spPr>
          <a:xfrm>
            <a:off x="1403280" y="1700280"/>
            <a:ext cx="3168720" cy="151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13138" r="8543" b="8164"/>
          <a:stretch/>
        </p:blipFill>
        <p:spPr>
          <a:xfrm>
            <a:off x="1496880" y="3933720"/>
            <a:ext cx="307512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7800" y="1341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6320" y="342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у А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а, СА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 =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0920" y="2908440"/>
                <a:ext cx="21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75120" y="160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7840" y="19731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49480" y="20131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7880" y="161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6060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20289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424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768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9320" y="202896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0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907920"/>
            <a:ext cx="1944720" cy="151308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22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1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241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7800" y="13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3440" y="40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53640" y="229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4160" y="885960"/>
            <a:ext cx="533520" cy="1536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336600">
            <a:off x="6406920" y="2239920"/>
            <a:ext cx="28908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19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122544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4960" y="1297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905040"/>
            <a:ext cx="1413000" cy="1514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8920" y="2058840"/>
            <a:ext cx="28764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50160" y="2155680"/>
            <a:ext cx="214200" cy="2574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240" y="2492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56000" y="2887560"/>
                <a:ext cx="2232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288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3789360"/>
                <a:ext cx="3413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03640" y="3716280"/>
                <a:ext cx="3457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653000"/>
                <a:ext cx="24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653000"/>
                <a:ext cx="2528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47640" y="5084640"/>
                <a:ext cx="18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508464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5950080"/>
                <a:ext cx="2692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835280" y="3645000"/>
            <a:ext cx="504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3573360"/>
            <a:ext cx="50328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3573360"/>
            <a:ext cx="50328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6000" y="3573360"/>
            <a:ext cx="360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89720"/>
            <a:ext cx="719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280" y="5589720"/>
            <a:ext cx="647640" cy="50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076640"/>
            <a:ext cx="0" cy="180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1973160"/>
            <a:ext cx="360360" cy="4320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2089080"/>
            <a:ext cx="50292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440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89760" y="2089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57960" y="2989440"/>
            <a:ext cx="432000" cy="7272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13680" y="30607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123</cp:lastModifiedBy>
  <dcterms:modified xsi:type="dcterms:W3CDTF">2010-02-07T13:39:44Z</dcterms:modified>
  <cp:revision>5</cp:revision>
  <dc:subject/>
  <dc:title>Слайд 1</dc:title>
</cp:coreProperties>
</file>