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5EF3-C2AC-44E6-AAF3-C86A38E13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9D8F-B950-488B-A8A5-7D6A29C8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4239-C7E2-4DFD-8625-1533EBA1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3321-E017-4CF7-8480-BEF2A3055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F6C21-C689-487B-92AD-95D9E5DDE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C30FE-316B-4660-99A6-F5F970BF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C6026-C167-4500-A8DC-23777BBF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2ACAF-E35A-4CC0-9F75-3689302B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786D9-0E35-45C3-B261-531A889D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4A736-0234-4582-98A6-30DBBB5C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5597F-4BD1-4B4F-8912-1695B7F3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AC76-EAD8-496B-840E-4282A42A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8C396-2F24-49F0-BCF5-281DE360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80C40-7C8E-4261-A399-9E1EB1DE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4FFB6-D297-4578-82F5-DF4DDDE3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9E2FF-05D9-445C-A0C4-658626278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72D06-4E41-4C7D-97EF-6A2E6A46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32A77-D3EA-4071-A0C8-CDD79457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7CA91-FCB9-490B-B131-6F601A99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8AC19-C4AF-4E4C-8928-9812AF62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5835D-205F-4A2B-8490-25E9E631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091A4-A926-40C6-AE38-C5E6EB8E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76C2-C730-4D04-821C-D7C7C2E6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F48B3-7C52-4A4A-9A8D-96C24540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4DE46-1D44-4920-B257-85CEB091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C6463-2A2E-4355-96E2-B5D14F6D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D84A6-D890-4250-97F3-B3EC958B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8A46A-293E-4D68-8502-C7A9C682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F6CE0-5BA5-44E7-BA93-8FDDDD21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5F791-D5F3-463D-A81B-556D08641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2EED-BF80-46B5-9124-E684F607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2BE2-EBE8-4442-989D-662FD790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F2E7-FB50-477A-BFE6-4EAD20CF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2F92-C88E-4C83-AAD7-37210B9C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F8D7-D16D-4EB4-9C92-86DD2590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48BC-AA2C-449D-AB6F-BF960251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8CAA-CF51-4B15-AF84-15314913A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E831-F146-441E-B3CE-CFDDDF80389D}" type="slidenum"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48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1c1c34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187D-101B-43C9-B472-100B18859287}" type="slidenum"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04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c1c34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1c1c34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c1c34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c1c34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dddddd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3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c1c3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ddddd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1c1c34"/>
                </a:solidFill>
                <a:latin typeface="Arial"/>
              </a:rPr>
              <a:t>Теорема синусов</a:t>
            </a:r>
            <a:endParaRPr b="0" lang="en-US" sz="45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c1c34"/>
                </a:solidFill>
                <a:latin typeface="Arial"/>
              </a:rPr>
              <a:t>Геометрия 9 класс</a:t>
            </a:r>
            <a:endParaRPr b="1" lang="en-US" sz="26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580000" y="1484280"/>
            <a:ext cx="2847960" cy="22287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Вычислить площадь фигуры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042920" y="1341360"/>
            <a:ext cx="325620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Найти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-1103" t="13464" r="0" b="15623"/>
          <a:stretch/>
        </p:blipFill>
        <p:spPr>
          <a:xfrm>
            <a:off x="1403280" y="1700280"/>
            <a:ext cx="3168720" cy="1512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0" t="13138" r="8543" b="8164"/>
          <a:stretch/>
        </p:blipFill>
        <p:spPr>
          <a:xfrm>
            <a:off x="1496880" y="3933720"/>
            <a:ext cx="3075120" cy="21592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477800" y="1341360"/>
            <a:ext cx="34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соты параллел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36320" y="342900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соту АН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орема сину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Формулировка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тороны треугольника пропорциональны синусам противолежащих уг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56360" y="4149720"/>
            <a:ext cx="1944720" cy="151272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97800" y="54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8980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21800" y="566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886160" y="4581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82160" y="36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082000" y="5537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62880" y="4127400"/>
            <a:ext cx="533520" cy="15368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3336600">
            <a:off x="6335280" y="5481360"/>
            <a:ext cx="288720" cy="73080"/>
          </a:xfrm>
          <a:custGeom>
            <a:avLst/>
            <a:gdLst/>
            <a:ahLst/>
            <a:rect l="l" t="t" r="r" b="b"/>
            <a:pathLst>
              <a:path w="182" h="45">
                <a:moveTo>
                  <a:pt x="0" y="45"/>
                </a:moveTo>
                <a:cubicBezTo>
                  <a:pt x="30" y="22"/>
                  <a:pt x="61" y="0"/>
                  <a:pt x="91" y="0"/>
                </a:cubicBezTo>
                <a:cubicBezTo>
                  <a:pt x="121" y="0"/>
                  <a:pt x="151" y="22"/>
                  <a:pt x="182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6360" y="566100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57960" y="4467240"/>
            <a:ext cx="43200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13680" y="4538520"/>
            <a:ext cx="50328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156360" y="4146120"/>
            <a:ext cx="1413000" cy="151452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67640" y="5300640"/>
            <a:ext cx="287280" cy="35892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778880" y="5397480"/>
            <a:ext cx="214200" cy="25704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66760" y="4336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69480" y="470844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41480" y="47991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49520" y="4352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52240" y="472428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24240" y="4815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46600" y="435276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49320" y="472428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20960" y="4815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81440" y="4508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49800" y="4508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583400" y="5210280"/>
            <a:ext cx="360360" cy="43164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6,41,-7)"/>
                                      </p:to>
                                    </p:se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6,41,-7)"/>
                                      </p:to>
                                    </p:se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6,41,-7)"/>
                                      </p:to>
                                    </p:set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6,41,-7)"/>
                                      </p:to>
                                    </p:set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казатель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40384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 = а, СА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АВ =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казат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50920" y="2908440"/>
                <a:ext cx="21970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2175120" y="1601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77840" y="197316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49480" y="201312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57880" y="161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60600" y="198900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32240" y="20289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54240" y="16178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57680" y="198900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29320" y="2028960"/>
            <a:ext cx="86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88720" y="177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57080" y="177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227640" y="907920"/>
            <a:ext cx="1944720" cy="151308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869080" y="220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61440" y="1195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93080" y="241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957800" y="133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53440" y="403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153640" y="2295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634160" y="885960"/>
            <a:ext cx="533520" cy="15364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3336600">
            <a:off x="6406920" y="2239920"/>
            <a:ext cx="289080" cy="72720"/>
          </a:xfrm>
          <a:custGeom>
            <a:avLst/>
            <a:gdLst/>
            <a:ahLst/>
            <a:rect l="l" t="t" r="r" b="b"/>
            <a:pathLst>
              <a:path w="182" h="45">
                <a:moveTo>
                  <a:pt x="0" y="45"/>
                </a:moveTo>
                <a:cubicBezTo>
                  <a:pt x="30" y="22"/>
                  <a:pt x="61" y="0"/>
                  <a:pt x="91" y="0"/>
                </a:cubicBezTo>
                <a:cubicBezTo>
                  <a:pt x="121" y="0"/>
                  <a:pt x="151" y="22"/>
                  <a:pt x="182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27640" y="241920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29600" y="1225440"/>
            <a:ext cx="43164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84960" y="1297080"/>
            <a:ext cx="50328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227640" y="905040"/>
            <a:ext cx="1413000" cy="15141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738920" y="2058840"/>
            <a:ext cx="287640" cy="35892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50160" y="2155680"/>
            <a:ext cx="214200" cy="25740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71240" y="2492280"/>
            <a:ext cx="26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оказательс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456000" y="2887560"/>
                <a:ext cx="223200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372360" y="2889360"/>
                <a:ext cx="22320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900000" y="3789360"/>
                <a:ext cx="34131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003640" y="3716280"/>
                <a:ext cx="34578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332000" y="4653000"/>
                <a:ext cx="24508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651640" y="4653000"/>
                <a:ext cx="25286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547640" y="5084640"/>
                <a:ext cx="180036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5940360" y="5084640"/>
                <a:ext cx="1727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419640" y="5950080"/>
                <a:ext cx="26920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1835280" y="3645000"/>
            <a:ext cx="504720" cy="288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276720" y="3573360"/>
            <a:ext cx="503280" cy="360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08720" y="3573360"/>
            <a:ext cx="503280" cy="4320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596000" y="3573360"/>
            <a:ext cx="360360" cy="4320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92360" y="5589720"/>
            <a:ext cx="719280" cy="5032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219280" y="5589720"/>
            <a:ext cx="647640" cy="50328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4076640"/>
            <a:ext cx="0" cy="1800360"/>
          </a:xfrm>
          <a:prstGeom prst="line">
            <a:avLst/>
          </a:prstGeom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26240" y="1973160"/>
            <a:ext cx="360360" cy="43200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907560"/>
            <a:ext cx="40384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хождение стор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0" y="907920"/>
            <a:ext cx="40384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хождение уг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1440000"/>
            <a:ext cx="261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 = 8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= 5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= 7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: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457880" y="3176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457880" y="3176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4788000" y="1440000"/>
            <a:ext cx="261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 = 8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АВ = 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= 7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: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03560" y="1700280"/>
            <a:ext cx="1944720" cy="151272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01880" y="3139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71840" y="2766960"/>
            <a:ext cx="6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imes New Roman"/>
              </a:rPr>
              <a:t>58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60560" y="3213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3408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29360" y="1195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29200" y="308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610080" y="1677960"/>
            <a:ext cx="533160" cy="15368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3336600">
            <a:off x="2382480" y="3031920"/>
            <a:ext cx="288720" cy="73080"/>
          </a:xfrm>
          <a:custGeom>
            <a:avLst/>
            <a:gdLst/>
            <a:ahLst/>
            <a:rect l="l" t="t" r="r" b="b"/>
            <a:pathLst>
              <a:path w="182" h="45">
                <a:moveTo>
                  <a:pt x="0" y="45"/>
                </a:moveTo>
                <a:cubicBezTo>
                  <a:pt x="30" y="22"/>
                  <a:pt x="61" y="0"/>
                  <a:pt x="91" y="0"/>
                </a:cubicBezTo>
                <a:cubicBezTo>
                  <a:pt x="121" y="0"/>
                  <a:pt x="151" y="22"/>
                  <a:pt x="182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3560" y="321156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305160" y="2017800"/>
            <a:ext cx="43164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60880" y="2089080"/>
            <a:ext cx="50292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203560" y="1696680"/>
            <a:ext cx="1412640" cy="151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48200" y="2131920"/>
            <a:ext cx="6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75</a:t>
            </a:r>
            <a:r>
              <a:rPr b="0" i="1" lang="en-US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832440" y="1700280"/>
            <a:ext cx="1944720" cy="151272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73880" y="2995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813800" y="2133720"/>
            <a:ext cx="6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9292e"/>
                </a:solidFill>
                <a:latin typeface="Times New Roman"/>
              </a:rPr>
              <a:t>75</a:t>
            </a:r>
            <a:r>
              <a:rPr b="0" i="1" lang="en-US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697880" y="3211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562960" y="2131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058240" y="1195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758440" y="308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38960" y="1677960"/>
            <a:ext cx="533520" cy="15368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3336600">
            <a:off x="7012080" y="3031920"/>
            <a:ext cx="288720" cy="72720"/>
          </a:xfrm>
          <a:custGeom>
            <a:avLst/>
            <a:gdLst/>
            <a:ahLst/>
            <a:rect l="l" t="t" r="r" b="b"/>
            <a:pathLst>
              <a:path w="182" h="45">
                <a:moveTo>
                  <a:pt x="0" y="45"/>
                </a:moveTo>
                <a:cubicBezTo>
                  <a:pt x="30" y="22"/>
                  <a:pt x="61" y="0"/>
                  <a:pt x="91" y="0"/>
                </a:cubicBezTo>
                <a:cubicBezTo>
                  <a:pt x="121" y="0"/>
                  <a:pt x="151" y="22"/>
                  <a:pt x="182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32440" y="321156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934400" y="2017800"/>
            <a:ext cx="43164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889760" y="2089080"/>
            <a:ext cx="50328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832440" y="1696680"/>
            <a:ext cx="1413000" cy="151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310520" y="270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28360" y="342900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510160" y="342900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2720" y="37782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5440" y="414972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6720" y="4189320"/>
            <a:ext cx="863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65880" y="37940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68240" y="416556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39880" y="4205160"/>
            <a:ext cx="863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36320" y="3949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81440" y="55166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5440" y="5516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17440" y="5300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48720" y="5300640"/>
            <a:ext cx="11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58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044720" y="573408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33080" y="5734080"/>
            <a:ext cx="10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75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4520" y="47242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29800" y="4724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478520" y="45086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909440" y="4508640"/>
            <a:ext cx="10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405080" y="494172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93800" y="494172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02160" y="546588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98520" y="5300640"/>
            <a:ext cx="12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8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0,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25800" y="573408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314520" y="573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0,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13440" y="611496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АВ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≈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44200" y="37623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46560" y="413388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218200" y="4173480"/>
            <a:ext cx="863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87000" y="37782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488280" y="4149720"/>
            <a:ext cx="8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561000" y="4189320"/>
            <a:ext cx="863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57440" y="393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932360" y="465300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447240" y="48690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05600" y="4919760"/>
            <a:ext cx="14922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58160" y="4508640"/>
            <a:ext cx="145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АВ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∙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725800" y="4653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702320" y="5389560"/>
            <a:ext cx="8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086520" y="558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45240" y="5640480"/>
            <a:ext cx="14922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797080" y="5229360"/>
            <a:ext cx="15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70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∙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75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93880" y="5389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980120" y="558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639200" y="5640480"/>
            <a:ext cx="14922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691400" y="5229360"/>
            <a:ext cx="12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7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0,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274160" y="53802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716360" y="602136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0.85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1125360"/>
            <a:ext cx="0" cy="573264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77080" y="6021360"/>
            <a:ext cx="17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 ≈ 58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9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9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9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9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9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9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9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9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9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9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9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9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9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9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9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9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9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9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9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9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9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9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9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9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9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9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9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9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9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9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9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156360" y="4149720"/>
            <a:ext cx="1944720" cy="151272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797800" y="54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58980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021800" y="566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886160" y="4581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382160" y="36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082000" y="5537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562880" y="4127400"/>
            <a:ext cx="533520" cy="15368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3336600">
            <a:off x="6335280" y="5481360"/>
            <a:ext cx="288720" cy="73080"/>
          </a:xfrm>
          <a:custGeom>
            <a:avLst/>
            <a:gdLst/>
            <a:ahLst/>
            <a:rect l="l" t="t" r="r" b="b"/>
            <a:pathLst>
              <a:path w="182" h="45">
                <a:moveTo>
                  <a:pt x="0" y="45"/>
                </a:moveTo>
                <a:cubicBezTo>
                  <a:pt x="30" y="22"/>
                  <a:pt x="61" y="0"/>
                  <a:pt x="91" y="0"/>
                </a:cubicBezTo>
                <a:cubicBezTo>
                  <a:pt x="121" y="0"/>
                  <a:pt x="151" y="22"/>
                  <a:pt x="182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56360" y="566100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257960" y="4467240"/>
            <a:ext cx="43200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213680" y="4538520"/>
            <a:ext cx="50328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156360" y="4146120"/>
            <a:ext cx="1413000" cy="151452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667640" y="5300640"/>
            <a:ext cx="287280" cy="35892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778880" y="5397480"/>
            <a:ext cx="214200" cy="25704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583400" y="5210280"/>
            <a:ext cx="360360" cy="43164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меч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ношение стороны треугольника к синусу противолежащего угла равно диаметру описанной окру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77680" y="4481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80760" y="485316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52400" y="494352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60440" y="4497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063520" y="486900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135160" y="4959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557880" y="44974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360240" y="486900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32240" y="4959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692360" y="4653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61080" y="4653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340520" y="4697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727880" y="46972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99040" y="4033800"/>
            <a:ext cx="2232000" cy="2232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6124320" y="5157720"/>
            <a:ext cx="988920" cy="519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054920" y="5132520"/>
            <a:ext cx="71280" cy="71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89800" y="4941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022160" y="47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5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30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3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500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500"/>
                            </p:stCondLst>
                            <p:childTnLst>
                              <p:par>
                                <p:cTn id="6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520" y="1165320"/>
            <a:ext cx="403848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 = 16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= 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39640" y="2944800"/>
                <a:ext cx="18716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6156360" y="2671920"/>
            <a:ext cx="1944720" cy="151272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797800" y="3967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589800" y="295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021800" y="418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886160" y="3103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82160" y="2166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082000" y="4059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562880" y="2649600"/>
            <a:ext cx="533520" cy="153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56360" y="418320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257960" y="2989440"/>
            <a:ext cx="432000" cy="7272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213680" y="3060720"/>
            <a:ext cx="50328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6156360" y="2668320"/>
            <a:ext cx="1413000" cy="151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999040" y="2556000"/>
            <a:ext cx="2232000" cy="2232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6124320" y="3679920"/>
            <a:ext cx="988920" cy="519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054920" y="3654360"/>
            <a:ext cx="71280" cy="7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9800" y="346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395280" y="3933720"/>
                <a:ext cx="360036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95280" y="5084640"/>
                <a:ext cx="285120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9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9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9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0:08:23Z</dcterms:created>
  <dc:creator>123</dc:creator>
  <dc:description/>
  <dc:language>en-US</dc:language>
  <cp:lastModifiedBy>123</cp:lastModifiedBy>
  <dcterms:modified xsi:type="dcterms:W3CDTF">2010-02-07T13:39:44Z</dcterms:modified>
  <cp:revision>5</cp:revision>
  <dc:subject/>
  <dc:title>Слайд 1</dc:title>
</cp:coreProperties>
</file>