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880-8043-4561-BC24-AB72B1AF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FC9-7AD8-42C2-8076-5B9A9218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DD0-48EF-4A4A-9844-053C5E12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F4E-6E62-4DCD-A2C2-A1CB2225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AE32D-F378-4F36-A482-A3B02C43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52E56-1958-43D7-A5FC-CE36805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BADF-9F6E-4CF8-A107-AB7FF026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D321C-D482-4EC0-B108-0DA7297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1F379-0577-471D-9AFA-9EADFCC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5C08C-CDBA-4C8C-968E-8C33AC31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647D4-1AEC-4007-A9F9-52EA049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514-7663-4A80-A228-6F37B4E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2F071-AC21-4162-95FE-7D12DF24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8DCCC-FE8E-4A99-A6A1-B2E5257A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ACC4C-1106-49B4-AA01-44FE561C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D2988-133C-439F-A820-D7A1933A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82995-1D49-46F6-BB65-3A6E990E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6E63-636B-4F82-8C01-9501AE1E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9488-0739-437A-8245-71D670AD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C598-067C-4F6A-A441-5CED7D47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A3F4-F4B1-4878-94BF-0A88DDA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1FFC-B968-4094-BB23-69366E5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726-24A6-4AE9-B5C9-347D5D08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B4A2-9631-4C2B-BDA9-3C10AE2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6A91-F23D-4837-8FB4-69F9EEF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0559-7D44-47EB-8133-C8AE322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B08A-F9BD-4035-8D1D-54C8DE1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38AD-1A59-40D7-84AC-EAF1BC9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909E-5E26-4A4F-B597-99A3BFA3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7FB6-3E82-4FE2-913D-EA78EBC2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CD2-CEB6-4168-99D5-33FAA7A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2C0-4B0E-4F32-BAFE-AE1D1AE1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6FC-F88C-4FE3-BF94-6C5D6E7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630-DB9F-422C-A27B-5E43680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EF2-9519-4C60-8949-48436E3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5C5-15DF-467E-ADD9-A3AD106F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EE2D-9624-43F9-89AC-494FF997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DA18-0DD5-4CC1-8F22-943CCEFD4BA2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F44E-0525-47B9-89B2-8ACBB5F61158}" type="slidenum">
              <a:rPr b="0" lang="en-US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Геометрия 9 класс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847960" cy="2228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Вычислить площадь фигуры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2562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Найти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-1103" t="13464" r="0" b="15623"/>
          <a:stretch/>
        </p:blipFill>
        <p:spPr>
          <a:xfrm>
            <a:off x="1403280" y="1700280"/>
            <a:ext cx="3168720" cy="151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13138" r="8543" b="8164"/>
          <a:stretch/>
        </p:blipFill>
        <p:spPr>
          <a:xfrm>
            <a:off x="1496880" y="3933720"/>
            <a:ext cx="307512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77800" y="134136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ы параллел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6320" y="342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ту А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а, СА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В =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0920" y="2908440"/>
                <a:ext cx="2197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75120" y="160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7840" y="19731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49480" y="20131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7880" y="161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6060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32240" y="20289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424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57680" y="1989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9320" y="2028960"/>
            <a:ext cx="86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872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7080" y="177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907920"/>
            <a:ext cx="1944720" cy="151308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22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1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241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7800" y="13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53440" y="40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53640" y="229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34160" y="885960"/>
            <a:ext cx="533520" cy="1536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3336600">
            <a:off x="6406920" y="2239920"/>
            <a:ext cx="28908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2419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29600" y="122544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84960" y="1297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227640" y="905040"/>
            <a:ext cx="1413000" cy="1514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38920" y="2058840"/>
            <a:ext cx="28764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50160" y="2155680"/>
            <a:ext cx="214200" cy="2574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71240" y="24922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456000" y="2887560"/>
                <a:ext cx="22320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372360" y="2889360"/>
                <a:ext cx="22320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00000" y="3789360"/>
                <a:ext cx="34131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03640" y="3716280"/>
                <a:ext cx="3457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332000" y="4653000"/>
                <a:ext cx="2450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51640" y="4653000"/>
                <a:ext cx="2528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547640" y="5084640"/>
                <a:ext cx="18003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508464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19640" y="5950080"/>
                <a:ext cx="2692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835280" y="3645000"/>
            <a:ext cx="504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3573360"/>
            <a:ext cx="50328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3573360"/>
            <a:ext cx="50328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6000" y="3573360"/>
            <a:ext cx="360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5589720"/>
            <a:ext cx="71928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280" y="5589720"/>
            <a:ext cx="647640" cy="503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4076640"/>
            <a:ext cx="0" cy="1800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6240" y="1973160"/>
            <a:ext cx="360360" cy="43200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0516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60880" y="2089080"/>
            <a:ext cx="50292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4400" y="2017800"/>
            <a:ext cx="43164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89760" y="208908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/>
            <a:ahLst/>
            <a:rect l="l" t="t" r="r" b="b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57960" y="4467240"/>
            <a:ext cx="43200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13680" y="45385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67640" y="5300640"/>
            <a:ext cx="287280" cy="35892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778880" y="5397480"/>
            <a:ext cx="214200" cy="2570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5210280"/>
            <a:ext cx="360360" cy="431640"/>
          </a:xfrm>
          <a:custGeom>
            <a:avLst/>
            <a:gdLst/>
            <a:ahLst/>
            <a:rect l="l" t="t" r="r" b="b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57960" y="2989440"/>
            <a:ext cx="432000" cy="7272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13680" y="3060720"/>
            <a:ext cx="503280" cy="73080"/>
          </a:xfrm>
          <a:custGeom>
            <a:avLst/>
            <a:gdLst/>
            <a:ahLst/>
            <a:rect l="l" t="t" r="r" b="b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123</cp:lastModifiedBy>
  <dcterms:modified xsi:type="dcterms:W3CDTF">2010-02-07T13:39:44Z</dcterms:modified>
  <cp:revision>5</cp:revision>
  <dc:subject/>
  <dc:title>Слайд 1</dc:title>
</cp:coreProperties>
</file>