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suction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255-E21D-4DDC-9B19-1358A144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A31-C835-41E5-8D56-40D0528B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D2E-AF47-4F90-B8F6-920FA59B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25E9-10F4-44EE-96E8-8528B6E8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95D6-BA20-48C4-A499-B2A42DAA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1B72-F31B-413F-8F8A-E0F4E5AA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451E-FD45-4418-A769-C7D88B2C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D020-FB2A-4E8B-955C-64629FDB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0950-1298-456D-BF61-1C1FA3D0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7D5C-E99A-418D-AC1E-E12D7256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B9DC-6E11-43B3-8621-FA4F3EBB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FE1-96A2-4CE8-8B6C-0F3E0FF0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378B-5C49-46A6-A473-3BE75205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4A20-8F1B-4074-AAE6-AECEFDBF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9970-84E8-4A05-86A2-2D2FF8EB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6A07-A163-4D2E-8D0F-06002850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A57A-87C5-416C-8A70-AFEF713C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8B47-1E35-4F0C-8D9B-D195E901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774-B160-4127-92C1-5D5DA532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7489-652D-4B52-A314-7E430B33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C66-D8BB-46F7-BDBF-8563CB2F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3D6-49A7-4DA3-A73E-46087C8E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882-16B3-4A58-BEBF-45EB15CB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6E31-0C5A-4DF8-A5B5-F8004B67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1D4C-5090-44DE-8106-387A388880C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7F04-C10F-4B6D-BECA-C658E41138C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"/>
              </a:rPr>
              <a:t>Развитие силы у юношей </a:t>
            </a:r>
            <a:br>
              <a:rPr sz="4400"/>
            </a:br>
            <a:r>
              <a:rPr b="1" i="1" lang="en-US" sz="4400" spc="-1" strike="noStrike">
                <a:solidFill>
                  <a:srgbClr val="ffffb7"/>
                </a:solidFill>
                <a:latin typeface="Arial"/>
              </a:rPr>
              <a:t>в старших класс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36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2819160" cy="2819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62520" y="3429000"/>
            <a:ext cx="449568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3" name="suct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"/>
              </a:rPr>
              <a:t>Атлетическая гимнасти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581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19720" y="1904760"/>
            <a:ext cx="4425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-Система разносторонних силовых упражнений, направленных на развитие силы и укрепление здоровь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-Режим упражнений в сочетание с рациональным питанием позволяет избавиться от излишних жировых отложений или прибавить в весе когда, это необходим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-Система упражнений тренирует сердечно-сосудистую и другие жизненно важные системы организма, через развитие мускулатуры активно и благотворно воздействует на работу внутренних органов, делает тело мускулистым и красивы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2" name="suction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7"/>
                </a:solidFill>
                <a:latin typeface="Arial"/>
              </a:rPr>
              <a:t>Предлагаемый ниже гантельный комплекс может использоваться начинающими атлетами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Начальный вес гантели должен позволять выполнение 10-12 повторений, а затем выполнение того же упражне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После достижения 15 повторений во всех подходах в упражнениях для крупных мышц к гантелям добавляется 2-3 кг, для мелких групп мышц 1 кг, начинайте работать по 8-10 повторений в сер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Начинать занятие необходимо с хорошей разминки: для этого подойдёт любой комплекс утренний зарядки на 5-10 мин, без отягощ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Частота занятий 3-7 раз в неделю.. Приступать к тренировке надо не позднее чем за 1час до и не ранее чем через 2 часа после е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Начинающие в течение 1-2 недель выполняют по 1 подходу, затем, в зависимости от самочувствия, добавляют 1-2 подхода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" name="suction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92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42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92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42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92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7"/>
                </a:solidFill>
                <a:latin typeface="Arial"/>
              </a:rPr>
              <a:t>Комплекс упражнений с гантелями для определенных групп мышц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ельтовидные мышцы: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. Жимы гантелей от плеч с разными положениями кистей (вперед, параллельно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2. Подъем гантелей вперед (фронтальная часть дельты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3. Разведение рук с гантелями в стороны (боковая часть дельты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4. Разведение гантелей в наклоне (задняя часть дельты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Бицепс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5. Сгибание рук с гантелями (стоя, сидя), хват снизу, сверху, параллельно, одной рукой, с опорой локтя в колено, попеременн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6. Сгибание рук с гантелями, сидя на наклонной скамье, хват ладонями внутр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Трицепс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7. Выпрямление руки вверх с гантелью (стоя, сидя), двигается только предплечье, плечо фиксировано строго ввер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8. Выпрямление рук, лёжа на скамье, хват гантелей ладонями внутрь, плечо фиксировано вертикально, двигаются только предплечь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9. Выпрямление одной руки (поочередно) назад, в наклоне, плечо фиксировано горизонтально, двигаются только предплечь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" name="suction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72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22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72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22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72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22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72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22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720"/>
                            </p:stCondLst>
                            <p:childTnLst>
                              <p:par>
                                <p:cTn id="1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22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720"/>
                            </p:stCondLst>
                            <p:childTnLst>
                              <p:par>
                                <p:cTn id="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22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2761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ышцы спин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0. Тяга гантелей к поясе в наклоне, другая рука в упоре (колено, табурет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1.Отведение гантелей назад – вверх в наклоне (имитация гребка) с задержкой в верхней позиции на 1-2 секун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2. Лёжа животом на скамье, тяга гантелей вверх до сгибания рук или разведение прямыми руками назад – ввер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Грудные мышц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3. Разведение рук с гантелями, лёжа на горизонтальной скамье ( варьировать угол наклон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4. Отведение выпрямленных рук назад, лёжа на горизонтальной скамь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5. Жим тяжёлых гантелей, лёжа с различными положениями кис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Мышцы живота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6. Подъём туловища из положения лёжа, руки с гантелью за головой, ступни закреплен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7. Подъём ног в положении лёжа, гантель прикреплена к ступням, руки в зацепе за голов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азгибатели спин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8. Наклон вперёд, гантель в руках за голов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9.Имитация рубки дров с гантелью в рук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" name="suction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54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4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4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40"/>
                            </p:stCondLst>
                            <p:childTnLst>
                              <p:par>
                                <p:cTn id="1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40"/>
                            </p:stCondLst>
                            <p:childTnLst>
                              <p:par>
                                <p:cTn id="1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40"/>
                            </p:stCondLst>
                            <p:childTnLst>
                              <p:par>
                                <p:cTn id="1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540"/>
                            </p:stCondLst>
                            <p:childTnLst>
                              <p:par>
                                <p:cTn id="1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4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540"/>
                            </p:stCondLst>
                            <p:childTnLst>
                              <p:par>
                                <p:cTn id="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4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54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40"/>
                            </p:stCondLst>
                            <p:childTnLst>
                              <p:par>
                                <p:cTn id="1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54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4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16128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304560"/>
            <a:ext cx="83120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ышцы бед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. Приседание, руки с гантелями у плеч или опущены вни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1. Сидя на высокой скамье выпрямлять ногу с гантелью, прикреплённой к ступ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2. Лёжа на животе, сгибать ноги с гантелями, прикреплёнными к ступн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ышцы голен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3. Подъём на носки, стоя на невысоком бруске, гантели у пле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4. Подъём на носок одной ноги, одна рука удерживает равновесие, другая, опущенная, - ганте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здоровительная направленность занятий с гирями заключается в укреплении и развитии мышечной системы, суставов и связок. Развиваются и укрепляются сердечно-сосудистая и нервная системы, значительно увеличивается и специальная работоспособность челов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" name="applause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540"/>
                            </p:stCondLst>
                            <p:childTnLst>
                              <p:par>
                                <p:cTn id="1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40"/>
                            </p:stCondLst>
                            <p:childTnLst>
                              <p:par>
                                <p:cTn id="1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40"/>
                            </p:stCondLst>
                            <p:childTnLst>
                              <p:par>
                                <p:cTn id="1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40"/>
                            </p:stCondLst>
                            <p:childTnLst>
                              <p:par>
                                <p:cTn id="1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40"/>
                            </p:stCondLst>
                            <p:childTnLst>
                              <p:par>
                                <p:cTn id="1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40"/>
                            </p:stCondLst>
                            <p:childTnLst>
                              <p:par>
                                <p:cTn id="2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4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40"/>
                            </p:stCondLst>
                            <p:childTnLst>
                              <p:par>
                                <p:cTn id="2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сихолог</cp:lastModifiedBy>
  <dcterms:modified xsi:type="dcterms:W3CDTF">2013-12-20T06:11:4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