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suction.wav" ContentType="audio/x-wav"/>
  <Override PartName="/ppt/media/applaus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7356-9B6D-40BB-8167-BB99AEA9A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AE75-31B0-4D54-83EA-ECCB0DF2F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142D-0708-4F92-9300-3C1254E77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3440-0A6D-4CA5-8C0A-FB01D6227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8D5FA-3678-4266-B34C-02E86940E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87257-FC28-4A22-9635-6E75FFC75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9D467-76A8-48E4-B7A4-AAE4AB9D9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8EAFC-ECF8-49A1-A505-AC3D3FC43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D9436-E312-403F-BD67-D41F46C97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76AD2-367F-494B-85A0-1DC3D8C35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D05AE-D3DD-4471-9E4B-23F47FC1F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1FD1-6F50-4523-AAE1-3B623C66F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3D1EA-59E0-4F02-A15D-719375FDA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4453E-73FC-48BC-9A78-D194CA4BD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BB5E5-BAD7-4F3B-9798-B63B90DF8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775C0-C82F-4CCB-8BE4-986157168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19A74-9780-4F55-9957-4FEF9C8A1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E79E-ADB6-4289-9620-DA9744141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1392-E7FC-4CCE-AA06-FC13D28F4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1356-338F-4234-BD45-9EC3378E3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1866-11D1-4BCC-8902-EFCB33DAC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F4B0-B0B3-40FA-BCF1-63D0147BC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A637-9B37-4EF6-9187-54A76D2E4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5153-3609-4C23-BEB6-DDD8171D0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B0DBB-E268-4B0B-90A7-351C6513028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163F0-32BC-4633-91B7-AFEB73361FA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suction.wav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b7"/>
                </a:solidFill>
                <a:latin typeface="Arial"/>
              </a:rPr>
              <a:t>Развитие силы у юношей </a:t>
            </a:r>
            <a:br>
              <a:rPr sz="4400"/>
            </a:br>
            <a:r>
              <a:rPr b="1" i="1" lang="en-US" sz="4400" spc="-1" strike="noStrike">
                <a:solidFill>
                  <a:srgbClr val="ffffb7"/>
                </a:solidFill>
                <a:latin typeface="Arial"/>
              </a:rPr>
              <a:t>в старших классах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36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90720" y="2819520"/>
            <a:ext cx="2819160" cy="28191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962520" y="3429000"/>
            <a:ext cx="4495680" cy="29401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  <p:sndAc>
      <p:stSnd>
        <p:snd r:embed="rId3" name="suction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b7"/>
                </a:solidFill>
                <a:latin typeface="Arial"/>
              </a:rPr>
              <a:t>Атлетическая гимнастик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5816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419720" y="1904760"/>
            <a:ext cx="4425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-Система разносторонних силовых упражнений, направленных на развитие силы и укрепление здоровь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-Режим упражнений в сочетание с рациональным питанием позволяет избавиться от излишних жировых отложений или прибавить в весе когда, это необходимо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-Система упражнений тренирует сердечно-сосудистую и другие жизненно важные системы организма, через развитие мускулатуры активно и благотворно воздействует на работу внутренних органов, делает тело мускулистым и красивым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90720" y="2209680"/>
            <a:ext cx="3429000" cy="32004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  <p:sndAc>
      <p:stSnd>
        <p:snd r:embed="rId2" name="suction.wav"/>
      </p:stSnd>
    </p:sndAc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b7"/>
                </a:solidFill>
                <a:latin typeface="Arial"/>
              </a:rPr>
              <a:t>Предлагаемый ниже гантельный комплекс может использоваться начинающими атлетами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51460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Начальный вес гантели должен позволять выполнение 10-12 повторений, а затем выполнение того же упражнения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После достижения 15 повторений во всех подходах в упражнениях для крупных мышц к гантелям добавляется 2-3 кг, для мелких групп мышц 1 кг, начинайте работать по 8-10 повторений в серии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Начинать занятие необходимо с хорошей разминки: для этого подойдёт любой комплекс утренний зарядки на 5-10 мин, без отягощен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Частота занятий 3-7 раз в неделю.. Приступать к тренировке надо не позднее чем за 1час до и не ранее чем через 2 часа после ед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Начинающие в течение 1-2 недель выполняют по 1 подходу, затем, в зависимости от самочувствия, добавляют 1-2 подхода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  <p:sndAc>
      <p:stSnd>
        <p:snd r:embed="rId1" name="suction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920"/>
                            </p:stCondLst>
                            <p:childTnLst>
                              <p:par>
                                <p:cTn id="4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420"/>
                            </p:stCondLst>
                            <p:childTnLst>
                              <p:par>
                                <p:cTn id="4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920"/>
                            </p:stCondLst>
                            <p:childTnLst>
                              <p:par>
                                <p:cTn id="4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6420"/>
                            </p:stCondLst>
                            <p:childTnLst>
                              <p:par>
                                <p:cTn id="5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920"/>
                            </p:stCondLst>
                            <p:childTnLst>
                              <p:par>
                                <p:cTn id="5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b7"/>
                </a:solidFill>
                <a:latin typeface="Arial"/>
              </a:rPr>
              <a:t>Комплекс упражнений с гантелями для определенных групп мышц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Дельтовидные мышцы: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1. Жимы гантелей от плеч с разными положениями кистей (вперед, параллельно)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2. Подъем гантелей вперед (фронтальная часть дельты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3. Разведение рук с гантелями в стороны (боковая часть дельты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4. Разведение гантелей в наклоне (задняя часть дельты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Бицепсы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5. Сгибание рук с гантелями (стоя, сидя), хват снизу, сверху, параллельно, одной рукой, с опорой локтя в колено, попеременно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6. Сгибание рук с гантелями, сидя на наклонной скамье, хват ладонями внутр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Трицепсы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7. Выпрямление руки вверх с гантелью (стоя, сидя), двигается только предплечье, плечо фиксировано строго вверх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8. Выпрямление рук, лёжа на скамье, хват гантелей ладонями внутрь, плечо фиксировано вертикально, двигаются только предплечь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9. Выпрямление одной руки (поочередно) назад, в наклоне, плечо фиксировано горизонтально, двигаются только предплечь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  <p:sndAc>
      <p:stSnd>
        <p:snd r:embed="rId1" name="suction.wav"/>
      </p:stSnd>
    </p:sndAc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720"/>
                            </p:stCondLst>
                            <p:childTnLst>
                              <p:par>
                                <p:cTn id="7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4220"/>
                            </p:stCondLst>
                            <p:childTnLst>
                              <p:par>
                                <p:cTn id="7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720"/>
                            </p:stCondLst>
                            <p:childTnLst>
                              <p:par>
                                <p:cTn id="7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220"/>
                            </p:stCondLst>
                            <p:childTnLst>
                              <p:par>
                                <p:cTn id="8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720"/>
                            </p:stCondLst>
                            <p:childTnLst>
                              <p:par>
                                <p:cTn id="8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6220"/>
                            </p:stCondLst>
                            <p:childTnLst>
                              <p:par>
                                <p:cTn id="9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6720"/>
                            </p:stCondLst>
                            <p:childTnLst>
                              <p:par>
                                <p:cTn id="9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7220"/>
                            </p:stCondLst>
                            <p:childTnLst>
                              <p:par>
                                <p:cTn id="9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7720"/>
                            </p:stCondLst>
                            <p:childTnLst>
                              <p:par>
                                <p:cTn id="10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8220"/>
                            </p:stCondLst>
                            <p:childTnLst>
                              <p:par>
                                <p:cTn id="10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8720"/>
                            </p:stCondLst>
                            <p:childTnLst>
                              <p:par>
                                <p:cTn id="11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9220"/>
                            </p:stCondLst>
                            <p:childTnLst>
                              <p:par>
                                <p:cTn id="11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276120"/>
            <a:ext cx="8385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457200"/>
            <a:ext cx="84582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Мышцы спины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10. Тяга гантелей к поясе в наклоне, другая рука в упоре (колено, табурет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11.Отведение гантелей назад – вверх в наклоне (имитация гребка) с задержкой в верхней позиции на 1-2 секунд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12. Лёжа животом на скамье, тяга гантелей вверх до сгибания рук или разведение прямыми руками назад – вверх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Грудные мышц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13. Разведение рук с гантелями, лёжа на горизонтальной скамье ( варьировать угол наклона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14. Отведение выпрямленных рук назад, лёжа на горизонтальной скамь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15. Жим тяжёлых гантелей, лёжа с различными положениями кисте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Мышцы живота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16. Подъём туловища из положения лёжа, руки с гантелью за головой, ступни закреплен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17. Подъём ног в положении лёжа, гантель прикреплена к ступням, руки в зацепе за голово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Разгибатели спин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18. Наклон вперёд, гантель в руках за голово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19.Имитация рубки дров с гантелью в руках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  <p:sndAc>
      <p:stSnd>
        <p:snd r:embed="rId1" name="suction.wav"/>
      </p:stSnd>
    </p:sndAc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540"/>
                            </p:stCondLst>
                            <p:childTnLst>
                              <p:par>
                                <p:cTn id="12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40"/>
                            </p:stCondLst>
                            <p:childTnLst>
                              <p:par>
                                <p:cTn id="12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540"/>
                            </p:stCondLst>
                            <p:childTnLst>
                              <p:par>
                                <p:cTn id="13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40"/>
                            </p:stCondLst>
                            <p:childTnLst>
                              <p:par>
                                <p:cTn id="13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540"/>
                            </p:stCondLst>
                            <p:childTnLst>
                              <p:par>
                                <p:cTn id="13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040"/>
                            </p:stCondLst>
                            <p:childTnLst>
                              <p:par>
                                <p:cTn id="14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540"/>
                            </p:stCondLst>
                            <p:childTnLst>
                              <p:par>
                                <p:cTn id="14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4040"/>
                            </p:stCondLst>
                            <p:childTnLst>
                              <p:par>
                                <p:cTn id="15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4540"/>
                            </p:stCondLst>
                            <p:childTnLst>
                              <p:par>
                                <p:cTn id="15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40"/>
                            </p:stCondLst>
                            <p:childTnLst>
                              <p:par>
                                <p:cTn id="15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540"/>
                            </p:stCondLst>
                            <p:childTnLst>
                              <p:par>
                                <p:cTn id="16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6040"/>
                            </p:stCondLst>
                            <p:childTnLst>
                              <p:par>
                                <p:cTn id="16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6540"/>
                            </p:stCondLst>
                            <p:childTnLst>
                              <p:par>
                                <p:cTn id="17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40"/>
                            </p:stCondLst>
                            <p:childTnLst>
                              <p:par>
                                <p:cTn id="17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161280"/>
            <a:ext cx="8385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160" y="304560"/>
            <a:ext cx="83120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Мышцы бедр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20. Приседание, руки с гантелями у плеч или опущены вниз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21. Сидя на высокой скамье выпрямлять ногу с гантелью, прикреплённой к ступн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22. Лёжа на животе, сгибать ноги с гантелями, прикреплёнными к ступня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Мышцы голен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23. Подъём на носки, стоя на невысоком бруске, гантели у плеч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24. Подъём на носок одной ноги, одна рука удерживает равновесие, другая, опущенная, - гантел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Оздоровительная направленность занятий с гирями заключается в укреплении и развитии мышечной системы, суставов и связок. Развиваются и укрепляются сердечно-сосудистая и нервная системы, значительно увеличивается и специальная работоспособность челове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  <p:sndAc>
      <p:stSnd>
        <p:snd r:embed="rId1" name="applause.wav"/>
      </p:stSnd>
    </p:sndAc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540"/>
                            </p:stCondLst>
                            <p:childTnLst>
                              <p:par>
                                <p:cTn id="1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40"/>
                            </p:stCondLst>
                            <p:childTnLst>
                              <p:par>
                                <p:cTn id="18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540"/>
                            </p:stCondLst>
                            <p:childTnLst>
                              <p:par>
                                <p:cTn id="18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40"/>
                            </p:stCondLst>
                            <p:childTnLst>
                              <p:par>
                                <p:cTn id="19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540"/>
                            </p:stCondLst>
                            <p:childTnLst>
                              <p:par>
                                <p:cTn id="19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40"/>
                            </p:stCondLst>
                            <p:childTnLst>
                              <p:par>
                                <p:cTn id="20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540"/>
                            </p:stCondLst>
                            <p:childTnLst>
                              <p:par>
                                <p:cTn id="20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4040"/>
                            </p:stCondLst>
                            <p:childTnLst>
                              <p:par>
                                <p:cTn id="20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сихолог</cp:lastModifiedBy>
  <dcterms:modified xsi:type="dcterms:W3CDTF">2013-12-20T06:11:42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