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suction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130-C64D-4D8A-A263-0903362C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3B9-D619-4D46-B8E9-354B297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901-0739-4A85-B797-2F998076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500-2307-4B5D-BB60-E34147CE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32E3-0087-43BE-BBFA-7736168F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4574-8F76-4E35-9589-AA54A674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C9B5-B732-487D-ADA8-25FD743F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7388-A2A9-4E48-8FB7-76E18A08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B27A-1F24-4608-9F1C-D00D315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8703-A41A-4100-A1C8-DC6F3D1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E09C-1383-439C-88F9-2F1BA1A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062-F508-41FE-91B3-6828005E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7C6E-B9C2-48FD-B618-3A38B2A9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1CA0-DC69-400D-87C5-BCC6E88E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58A1-5E8B-4C61-BA4D-1291D46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ED8D-0772-49FE-BB17-E3F6A216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A143-0A41-4F79-AE61-86E72F3E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94F-A9CA-4F89-82C3-AB8FE495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BBB-99D2-4540-A9E1-70CF9114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1EB-145E-49B4-ACBE-4DA422B5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962-23AF-411A-9BFD-AC17FE7F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26D-D495-4E69-881F-F07B8D0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FA0-4849-4076-A34A-658F930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4B3-E0A2-406B-9BD3-6DB2A677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187-DFA4-46C9-9182-F75BB29251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F0A9-110A-44A5-A352-A263764EBF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азвитие силы у юношей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в старших класс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62520" y="3429000"/>
            <a:ext cx="44956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3" name="suc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"/>
              </a:rPr>
              <a:t>Атлетическая гимнаст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81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9720" y="1904760"/>
            <a:ext cx="4425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Система разносторонних силовых упражнений, направленных на развитие силы и укрепление здоров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Режим упражнений в сочетание с рациональным питанием позволяет избавиться от излишних жировых отложений или прибавить в весе когда, это необходи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-Система упражнений тренирует сердечно-сосудистую и другие жизненно важные системы организма, через развитие мускулатуры активно и благотворно воздействует на работу внутренних органов, делает тело мускулистым и красивы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suction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Предлагаемый ниже гантельный комплекс может использоваться начинающими атлетами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альный вес гантели должен позволять выполнение 10-12 повторений, а затем выполнение того же упражн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осле достижения 15 повторений во всех подходах в упражнениях для крупных мышц к гантелям добавляется 2-3 кг, для мелких групп мышц 1 кг, начинайте работать по 8-10 повторений в сер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инать занятие необходимо с хорошей разминки: для этого подойдёт любой комплекс утренний зарядки на 5-10 мин, без отяго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Частота занятий 3-7 раз в неделю.. Приступать к тренировке надо не позднее чем за 1час до и не ранее чем через 2 часа после 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Начинающие в течение 1-2 недель выполняют по 1 подходу, затем, в зависимости от самочувствия, добавляют 1-2 подхода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2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42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2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42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92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Комплекс упражнений с гантелями для определенных групп мышц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Дельтовидные мышцы: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. Жимы гантелей от плеч с разными положениями кистей (вперед, параллельно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2. Подъем гантелей вперед (фронтальна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3. Разведение рук с гантелями в стороны (бокова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4. Разведение гантелей в наклоне (задняя часть дельты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Бицеп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5. Сгибание рук с гантелями (стоя, сидя), хват снизу, сверху, параллельно, одной рукой, с опорой локтя в колено, попереме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6. Сгибание рук с гантелями, сидя на наклонной скамье, хват ладонями внутр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Трицепс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7. Выпрямление руки вверх с гантелью (стоя, сидя), двигается только предплечье, плечо фиксировано строго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8. Выпрямление рук, лёжа на скамье, хват гантелей ладонями внутрь, плечо фиксировано вертикально, двигаются только предплеч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9. Выпрямление одной руки (поочередно) назад, в наклоне, плечо фиксировано горизонтально, двигаются только предплеч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72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2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72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22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72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22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72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22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720"/>
                            </p:stCondLst>
                            <p:childTnLst>
                              <p:par>
                                <p:cTn id="1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22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72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22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61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спи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0. Тяга гантелей к поясе в наклоне, другая рука в упоре (колено, табурет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1.Отведение гантелей назад – вверх в наклоне (имитация гребка) с задержкой в верхней позиции на 1-2 секун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2. Лёжа животом на скамье, тяга гантелей вверх до сгибания рук или разведение прямыми руками назад – ввер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Грудные мыш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3. Разведение рук с гантелями, лёжа на горизонтальной скамье ( варьировать угол наклон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4. Отведение выпрямленных рук назад, лёжа на горизонтальной скамь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5. Жим тяжёлых гантелей, лёжа с различными положениями ки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ышцы живота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6. Подъём туловища из положения лёжа, руки с гантелью за головой, ступни закреплен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7. Подъём ног в положении лёжа, гантель прикреплена к ступням, руки в зацепе за голо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згибатели сп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8. Наклон вперёд, гантель в руках за голов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9.Имитация рубки дров с гантелью в ру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suction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54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4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4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4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40"/>
                            </p:stCondLst>
                            <p:childTnLst>
                              <p:par>
                                <p:cTn id="1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40"/>
                            </p:stCondLst>
                            <p:childTnLst>
                              <p:par>
                                <p:cTn id="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4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4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4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4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4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4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54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4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6128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304560"/>
            <a:ext cx="83120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бед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. Приседание, руки с гантелями у плеч или опущены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1. Сидя на высокой скамье выпрямлять ногу с гантелью, прикреплённой к ступ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2. Лёжа на животе, сгибать ноги с гантелями, прикреплёнными к ступн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ышцы голен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3. Подъём на носки, стоя на невысоком бруске, гантели у пле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4. Подъём на носок одной ноги, одна рука удерживает равновесие, другая, опущенная, - ган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здоровительная направленность занятий с гирями заключается в укреплении и развитии мышечной системы, суставов и связок. Развиваются и укрепляются сердечно-сосудистая и нервная системы, значительно увеличивается и специальная работоспособность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1" name="applause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54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4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4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4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4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40"/>
                            </p:stCondLst>
                            <p:childTnLst>
                              <p:par>
                                <p:cTn id="2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4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4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3-12-20T06:11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