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418-EB08-4672-A1C3-412F9941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42D-1778-4481-8EE5-A30E067F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FFA-169D-4CBA-8C27-EB107C28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07A-898C-42C0-BA78-E65D543F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38E8-EDB5-46F7-AF3E-8BB004E9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E8EC-6A37-4883-B9CF-924B51DD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FA05-AE5C-4BED-B002-2838F9F6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D52D-233A-464A-8396-F7A6E37E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D39C-4C0F-4CC2-AA6E-DD03763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5A17-4F5A-4F56-B7D0-5029E44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B29F-3EEB-4D28-B790-7EF4F5A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8DF-7F7A-4409-873C-CC17DD46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E81-38FB-42E3-8B01-C26DB1D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BCC7-6E80-425E-A0F9-04DC0245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D5C4-1D3C-4C0B-877D-C5AC02AF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FB28-D7E2-48A4-9343-44F0FA47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C550-16D0-4B93-A42F-916AF621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6FAB-5E40-4800-ABAC-F7403329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1AF3-F56D-4801-8460-BBFE8C31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B479-4A06-4A54-9172-D880DAEA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D173-A941-4AA4-A97F-2685BC35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C408-8A62-4DDB-9F08-6133AEF3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6BC-950F-4FF4-A6E8-C7F50800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872C-319B-4EB8-9A6E-91FB68F3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F59A-9474-4C8F-B942-1A4EE267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E212-AA36-461D-AB93-EEAE9D8C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F54F-9A17-46FA-A056-3C90151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4024-2871-4D7B-9506-4365A223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0A59-A53A-4614-A9F9-9130D3A4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7877-A9A3-44A7-8072-C9F42FAF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AE9-A3D2-4814-97D3-05CC2DA8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E39-CA44-4836-AAA5-8DAD9C79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C65-23EA-43D8-9286-CD215D16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030-7207-46B5-B545-F46251CB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A01-0498-4E8D-AA3F-E595193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17C-8A3D-488B-9147-86F65F88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043A-F34E-4576-8634-E3D87736F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0F82-E2BE-4FB1-A7A2-3812D9FAAA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915B-3C76-42CE-8015-D7E044FBB1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26/192/26192545_1212265308_080266028e1bd2995329e8c493443fa1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cktailsoldfashioned.de/wp-content/uploads/2011/02/Zuckerrohr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2.xml"/><Relationship Id="rId3" Type="http://schemas.openxmlformats.org/officeDocument/2006/relationships/hyperlink" Target="http://news.bbc.co.uk/olmedia/1490000/images/_1490129_crocodile_bbc300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at18.privet.ru/lr/0a2b3593d3dc0ab4a047e8e33305f353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6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hildrenpedia.org/6/2.files/image06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reenword.ru/images/best-animals/best-animals-08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99/cinclus_cinclus_-scotland-4-4c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orum.exler.ru/arc/uploads/52/post-1237823911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hotoline.ru/critic/picpart/1239/1239078873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zslovo.org/content/images/stories/torop/pavuk-sribl09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900igr.net/datas/zhivotnye/Koshachi.files/0016-016-Puma-kuguar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0.xml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11/819/11819989_Romashka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ds16-kb.narod.ru/images/romashka2.gif" TargetMode="External"/><Relationship Id="rId4" Type="http://schemas.openxmlformats.org/officeDocument/2006/relationships/image" Target="../media/image5.png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5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slide" Target="slide23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31.xml"/><Relationship Id="rId22" Type="http://schemas.openxmlformats.org/officeDocument/2006/relationships/slide" Target="slide33.xml"/><Relationship Id="rId23" Type="http://schemas.openxmlformats.org/officeDocument/2006/relationships/slide" Target="slide35.xml"/><Relationship Id="rId24" Type="http://schemas.openxmlformats.org/officeDocument/2006/relationships/slide" Target="slide37.xml"/><Relationship Id="rId25" Type="http://schemas.openxmlformats.org/officeDocument/2006/relationships/slide" Target="slide39.xml"/><Relationship Id="rId26" Type="http://schemas.openxmlformats.org/officeDocument/2006/relationships/slide" Target="slide41.xml"/><Relationship Id="rId27" Type="http://schemas.openxmlformats.org/officeDocument/2006/relationships/slide" Target="slide43.xml"/><Relationship Id="rId2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fishing.co.uk/upload/24122/images/World-record-common-carp-(1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pohlava.ru/uploads/posts/2010-10/1288350275_13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.zelenogorsk.ru/projs/eko/ornitol/117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0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s16-kb.narod.ru/images/romashka2.gif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ds16-kb.narod.ru/images/romashka2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2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056.radikal.ru/1109/fd/1a9563aeac26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Картинка 198 из 96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04920" y="304920"/>
            <a:ext cx="5553000" cy="39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ЧАС ЗАНИМАТЕЛЬ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ИОЛОГИИ"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7 класс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трост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Картинка 9 из 215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9144000" cy="74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уществует выражение «лить крокодиловы слёзы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c06"/>
                </a:solidFill>
                <a:latin typeface="Arial"/>
              </a:rPr>
              <a:t>А плачут ли крокодилы?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Картинка 4 из 8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3962520"/>
            <a:ext cx="39625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e81c06"/>
                </a:solidFill>
                <a:latin typeface="Arial"/>
              </a:rPr>
              <a:t>Плачу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81c06"/>
                </a:solidFill>
                <a:latin typeface="Arial"/>
              </a:rPr>
              <a:t>Так они удаляют лишнюю жидкость из организ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накс (от греческого «пан»- всё и «акос»- исцеляющий)- это родовое название дал растению К.Линней в 1753 год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1c0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81c06"/>
                </a:solidFill>
                <a:latin typeface="Arial"/>
              </a:rPr>
              <a:t>Что это за растение? Что вам о нём известн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ньшень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д включает всего один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Картинка 3 из 524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523880"/>
            <a:ext cx="409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суходольном лугу скосили все растения. Вам предложили выяснить, росли ли на лугу растения из семейства бобовы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1c0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81c06"/>
                </a:solidFill>
                <a:latin typeface="Arial"/>
              </a:rPr>
              <a:t>Выполнимо ли это задание? Аргументируйте свой 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37748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42674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e81c06"/>
                </a:solidFill>
                <a:latin typeface="Arial"/>
              </a:rPr>
              <a:t>Да, выполним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но рассмотреть корни. Только бобовые на корнях имеют клубеньки, в которых живут симбиотические азотфиксиру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акте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Картинка 9 из 1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2622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рское животно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жет задержать дыхание на целых два часа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37748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Картинка 6 из 1674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544680"/>
            <a:ext cx="9144000" cy="74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ая птица может бегать по дну реки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45344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у учащихся познавательного интереса к 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убление материала, изучаемого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ть их внимание, сообразительность, умение работать в коллекти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 к поиску дополнительной информации по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бережного отношения к окружающе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32600" y="4648320"/>
            <a:ext cx="2111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ляп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Картинка 15 из 2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4479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81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Какая птица умеет хорошо подражать голосам многих птиц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7748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Картинка 2 из 534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ая пт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меет кататьс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 коровах и склевывать с них слепней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30116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Картинка 5 из 823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447920"/>
            <a:ext cx="5410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ой пау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меет себе строить дом под водой из воздух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ук-серебря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Картинка 7 из 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300320"/>
            <a:ext cx="71629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1c06"/>
                </a:solidFill>
                <a:latin typeface="Arial"/>
              </a:rPr>
              <a:t>Кугуа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6000" spc="-1" strike="noStrike">
                <a:solidFill>
                  <a:srgbClr val="e81c06"/>
                </a:solidFill>
                <a:latin typeface="Arial"/>
              </a:rPr>
              <a:t>пум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это одно и то же животное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30116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Картинка 5 из 21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523880"/>
            <a:ext cx="6220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ожно 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йт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вух одинаковых зебр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37748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553080" y="1905120"/>
            <a:ext cx="259092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а 16 из 1599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29800" cy="7666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 из 159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28600" y="-533520"/>
            <a:ext cx="472932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1066680"/>
            <a:ext cx="1904760" cy="1524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4114800"/>
            <a:ext cx="1600200" cy="1447920"/>
          </a:xfrm>
          <a:prstGeom prst="ellipse">
            <a:avLst/>
          </a:prstGeom>
          <a:solidFill>
            <a:srgbClr val="e81c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800" y="131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6" action="ppaction://hlinksldjump"/>
          </p:cNvPr>
          <p:cNvSpPr/>
          <p:nvPr/>
        </p:nvSpPr>
        <p:spPr>
          <a:xfrm>
            <a:off x="838080" y="380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1280" y="-20520"/>
            <a:ext cx="4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2360" y="13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84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33720" y="85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4120" y="1752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3240" y="243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1112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532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0920" y="2438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7800" y="3292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95880" y="3139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6120" y="340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1520" y="4511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81680" y="534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8040" y="5867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5920" y="5867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784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560" y="480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1520" y="4114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зор из линий на шкурах так же индивидуален, как отпечатки пальцев у лю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ая ры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осит имя человек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37748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Картинка 2 из 1614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8001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вощ из которого можно стреля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30116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Картинка 9 из 192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57200"/>
            <a:ext cx="3962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e81c06"/>
                </a:solidFill>
                <a:latin typeface="Arial"/>
              </a:rPr>
              <a:t>Птиц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емейства  тетеревидны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e81c06"/>
                </a:solidFill>
                <a:latin typeface="Arial"/>
              </a:rPr>
              <a:t>луковичное растение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лилейны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45344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Картинка 10 из 14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3238560" cy="3809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Картинка 10 из 2540"/>
          <p:cNvPicPr/>
          <p:nvPr/>
        </p:nvPicPr>
        <p:blipFill>
          <a:blip r:embed="rId3"/>
          <a:stretch/>
        </p:blipFill>
        <p:spPr>
          <a:xfrm>
            <a:off x="5562720" y="167652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c06"/>
                </a:solidFill>
                <a:latin typeface="Arial"/>
              </a:rPr>
              <a:t>Драгоценный камен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темно-красного цве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e81c06"/>
                </a:solidFill>
                <a:latin typeface="Arial"/>
              </a:rPr>
              <a:t>южное дерев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 круглыми зернистыми темно-красными плодам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30116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Картинка 6 из 26729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ая лягушка самая большая в мир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30116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Картинка 2 из 1599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3840" cy="4876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2 из 159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40280" y="1828800"/>
            <a:ext cx="510372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362320" y="914400"/>
            <a:ext cx="48006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имани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лиаф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лина ее может достигать метра, а масса 6 к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59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 как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тицы самые длинные перья на Земле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0116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понские петухи – 10,5 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Картинка 1 из 224"/>
          <p:cNvPicPr/>
          <p:nvPr/>
        </p:nvPicPr>
        <p:blipFill>
          <a:blip r:embed="rId1"/>
          <a:stretch/>
        </p:blipFill>
        <p:spPr>
          <a:xfrm>
            <a:off x="1752480" y="990720"/>
            <a:ext cx="5749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ая птица может летать три года без остановк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И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Картинка 5 из 157011"/>
          <p:cNvPicPr/>
          <p:nvPr/>
        </p:nvPicPr>
        <p:blipFill>
          <a:blip r:embed="rId1"/>
          <a:stretch/>
        </p:blipFill>
        <p:spPr>
          <a:xfrm>
            <a:off x="457200" y="1376280"/>
            <a:ext cx="82296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Чем интересны эти земно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в особенностях размножения и заб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о потом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ба-повитуха           жаба-п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468920" y="57913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971800" cy="2317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057560" y="2909880"/>
            <a:ext cx="29307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e81c06"/>
                </a:solidFill>
                <a:latin typeface="Arial"/>
              </a:rPr>
              <a:t>Особе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ба-повитуха наматывает ленты икры на ноги, а пипа «вынашивает» икру на сп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5 хвостов этих животных на острове Ява выдавали удостоверение личности, за 25-женил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c06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81c06"/>
                </a:solidFill>
                <a:latin typeface="Arial"/>
              </a:rPr>
              <a:t>Назовите этих «полезных» звере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060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Картинка 2 из 1585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71600"/>
            <a:ext cx="77724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ин из воинов Александра Македонского писал об этом растении: «…производил мёд без помощи пчёл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e81c06"/>
                </a:solidFill>
                <a:latin typeface="Arial"/>
              </a:rPr>
              <a:t>Что это за растение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45344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3-01-07T20:3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