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6.jpeg" ContentType="image/jpeg"/>
  <Override PartName="/ppt/media/image4.jpeg" ContentType="image/jpeg"/>
  <Override PartName="/ppt/media/image25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9.jpeg" ContentType="image/jpeg"/>
  <Override PartName="/ppt/media/image11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13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44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5F12-4C12-4F36-9B7B-0C8B170D1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ABD9-26EE-415A-BF01-4BD8BD15B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5FC3-078C-46B3-9410-3AED3E166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B0F4-9A6D-49E5-ABC7-BDD590E2D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55035-57D3-4D70-A070-43F5B54A8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C1835-0C83-44A3-8704-69449CF98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0C182-DD48-466B-9B4E-8B940AFD9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B29A6-6B07-472E-81F4-D9F890233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49533-6DA6-4BF1-B993-798F9E6F0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E0B24-040E-411E-8303-3E44001A1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FDFBD-A960-46CF-BB2D-04F466A95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ADFC-F217-4D04-9114-C01E9D7D0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EE7D7-6FC5-468E-8A66-BE33DCEE6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3F569-D126-42F2-8B72-D79BEED2A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76C88-80C3-4B99-AEAD-7716E225B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4C74B-F072-4DAD-A0A4-12F1956D0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AE946-0DE8-4C7E-AD61-813401FEB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92BCC4-707A-43CA-8560-72DEC4620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5B7C49-1D03-4156-A77C-30482DF69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2B350E-6F1B-4CB6-8A99-73243FC5A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0AA405-6C45-47F9-A49F-CBCFBB147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B06C46-EAC8-4498-B865-80AFACE5D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D7E8-C626-4944-90EC-A5973C5A8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D94A33-D01D-4419-A45F-BC0AF83D3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7820E8-A9B9-409A-90F9-0EAE5E0AF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DC91FB-202A-4341-885B-776DA1C6D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B9DEF5-F07E-4B35-B9AF-3B97CE81D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1B8011-6EF3-4F5A-BCE0-46F7B00B4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FCE9DC-D74B-45A3-862E-83427AA7B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36FD47-BAD4-4A9E-A5A6-D53219A41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B014-FE02-4706-A4E0-E66144E7C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9FC2-59D8-4D71-A560-3AD2DECF0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6242-EB9F-4483-9312-6641F103B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B598-E532-4DDA-AF9E-9E9CFA039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2612-479B-4496-9C77-FC5E50272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9C43-0F3A-46E8-932F-BA9A396AD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FB818-9780-49DF-9B48-A9BB9DFA932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9A1A2-9DEB-4D0D-A3D2-CC36DAB61A8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03184-3A34-4D30-9F84-E67EAC3BE66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g0.liveinternet.ru/images/attach/b/3/26/192/26192545_1212265308_080266028e1bd2995329e8c493443fa11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cocktailsoldfashioned.de/wp-content/uploads/2011/02/Zuckerrohr.jp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12.xml"/><Relationship Id="rId3" Type="http://schemas.openxmlformats.org/officeDocument/2006/relationships/hyperlink" Target="http://news.bbc.co.uk/olmedia/1490000/images/_1490129_crocodile_bbc300.jpg" TargetMode="External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14.xml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stat18.privet.ru/lr/0a2b3593d3dc0ab4a047e8e33305f353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16.xml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childrenpedia.org/6/2.files/image061.jpg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" Target="slide18.xml"/><Relationship Id="rId4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greenword.ru/images/best-animals/best-animals-08.jpg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20.xm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dic.academic.ru/pictures/wiki/files/99/cinclus_cinclus_-scotland-4-4c.jpg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22.xml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forum.exler.ru/arc/uploads/52/post-1237823911.jpg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24.xml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photoline.ru/critic/picpart/1239/1239078873.jpg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26.xml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bizslovo.org/content/images/stories/torop/pavuk-sribl09.jpg" TargetMode="Externa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28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900igr.net/datas/zhivotnye/Koshachi.files/0016-016-Puma-kuguar.jpg" TargetMode="Externa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30.xml"/><Relationship Id="rId3" Type="http://schemas.openxmlformats.org/officeDocument/2006/relationships/image" Target="../media/image21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g0.liveinternet.ru/images/attach/b/3/11/819/11819989_Romashka.jpg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ds16-kb.narod.ru/images/romashka2.gif" TargetMode="External"/><Relationship Id="rId4" Type="http://schemas.openxmlformats.org/officeDocument/2006/relationships/image" Target="../media/image5.png"/><Relationship Id="rId5" Type="http://schemas.openxmlformats.org/officeDocument/2006/relationships/slide" Target="slide5.xml"/><Relationship Id="rId6" Type="http://schemas.openxmlformats.org/officeDocument/2006/relationships/slide" Target="slide7.xml"/><Relationship Id="rId7" Type="http://schemas.openxmlformats.org/officeDocument/2006/relationships/slide" Target="slide7.xml"/><Relationship Id="rId8" Type="http://schemas.openxmlformats.org/officeDocument/2006/relationships/slide" Target="slide7.xml"/><Relationship Id="rId9" Type="http://schemas.openxmlformats.org/officeDocument/2006/relationships/slide" Target="slide9.xml"/><Relationship Id="rId10" Type="http://schemas.openxmlformats.org/officeDocument/2006/relationships/slide" Target="slide9.xml"/><Relationship Id="rId11" Type="http://schemas.openxmlformats.org/officeDocument/2006/relationships/slide" Target="slide11.xml"/><Relationship Id="rId12" Type="http://schemas.openxmlformats.org/officeDocument/2006/relationships/slide" Target="slide13.xml"/><Relationship Id="rId13" Type="http://schemas.openxmlformats.org/officeDocument/2006/relationships/slide" Target="slide15.xml"/><Relationship Id="rId14" Type="http://schemas.openxmlformats.org/officeDocument/2006/relationships/slide" Target="slide17.xml"/><Relationship Id="rId15" Type="http://schemas.openxmlformats.org/officeDocument/2006/relationships/slide" Target="slide19.xml"/><Relationship Id="rId16" Type="http://schemas.openxmlformats.org/officeDocument/2006/relationships/slide" Target="slide21.xml"/><Relationship Id="rId17" Type="http://schemas.openxmlformats.org/officeDocument/2006/relationships/slide" Target="slide23.xml"/><Relationship Id="rId18" Type="http://schemas.openxmlformats.org/officeDocument/2006/relationships/slide" Target="slide25.xml"/><Relationship Id="rId19" Type="http://schemas.openxmlformats.org/officeDocument/2006/relationships/slide" Target="slide27.xml"/><Relationship Id="rId20" Type="http://schemas.openxmlformats.org/officeDocument/2006/relationships/slide" Target="slide29.xml"/><Relationship Id="rId21" Type="http://schemas.openxmlformats.org/officeDocument/2006/relationships/slide" Target="slide31.xml"/><Relationship Id="rId22" Type="http://schemas.openxmlformats.org/officeDocument/2006/relationships/slide" Target="slide33.xml"/><Relationship Id="rId23" Type="http://schemas.openxmlformats.org/officeDocument/2006/relationships/slide" Target="slide35.xml"/><Relationship Id="rId24" Type="http://schemas.openxmlformats.org/officeDocument/2006/relationships/slide" Target="slide37.xml"/><Relationship Id="rId25" Type="http://schemas.openxmlformats.org/officeDocument/2006/relationships/slide" Target="slide39.xml"/><Relationship Id="rId26" Type="http://schemas.openxmlformats.org/officeDocument/2006/relationships/slide" Target="slide41.xml"/><Relationship Id="rId27" Type="http://schemas.openxmlformats.org/officeDocument/2006/relationships/slide" Target="slide43.xml"/><Relationship Id="rId28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32.xml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www.gofishing.co.uk/upload/24122/images/World-record-common-carp-(1.jpg" TargetMode="External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34.xml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pohlava.ru/uploads/posts/2010-10/1288350275_13.jpg" TargetMode="External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36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edu.zelenogorsk.ru/projs/eko/ornitol/117.jpg" TargetMode="External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38.xml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40.xm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ds16-kb.narod.ru/images/romashka2.gif" TargetMode="External"/><Relationship Id="rId2" Type="http://schemas.openxmlformats.org/officeDocument/2006/relationships/image" Target="../media/image5.png"/><Relationship Id="rId3" Type="http://schemas.openxmlformats.org/officeDocument/2006/relationships/hyperlink" Target="http://ds16-kb.narod.ru/images/romashka2.gif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42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44.xml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6.xml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8.xm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056.radikal.ru/1109/fd/1a9563aeac26.jpg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10.xm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Картинка 198 из 966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73152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 txBox="1"/>
          <p:nvPr/>
        </p:nvSpPr>
        <p:spPr>
          <a:xfrm>
            <a:off x="304920" y="304920"/>
            <a:ext cx="5553000" cy="390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"ЧАС ЗАНИМАТЕЛЬНОЙ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БИОЛОГИИ"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(7 класс)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ахарный тростн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Картинка 9 из 2157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676520"/>
            <a:ext cx="9144000" cy="74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Существует выражение «лить крокодиловы слёзы»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81c06"/>
                </a:solidFill>
                <a:latin typeface="Arial"/>
              </a:rPr>
              <a:t>А плачут ли крокодилы?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7238880" y="5410080"/>
            <a:ext cx="1428840" cy="10764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7377480" y="57513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Картинка 4 из 898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209680" y="3962520"/>
            <a:ext cx="3962520" cy="23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e81c06"/>
                </a:solidFill>
                <a:latin typeface="Arial"/>
              </a:rPr>
              <a:t>Плачут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81c06"/>
                </a:solidFill>
                <a:latin typeface="Arial"/>
              </a:rPr>
              <a:t>Так они удаляют лишнюю жидкость из организм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36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28240" y="914040"/>
            <a:ext cx="84582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анакс (от греческого «пан»- всё и «акос»- исцеляющий)- это родовое название дал растению К.Линней в 1753 году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81c06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e81c06"/>
                </a:solidFill>
                <a:latin typeface="Arial"/>
              </a:rPr>
              <a:t>Что это за растение? Что вам о нём известно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7238880" y="5410080"/>
            <a:ext cx="1428840" cy="10764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7377480" y="57513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Женьшень.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од включает всего один ви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Картинка 3 из 5246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362320" y="1523880"/>
            <a:ext cx="40957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-214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80880" y="304920"/>
            <a:ext cx="830592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На суходольном лугу скосили все растения. Вам предложили выяснить, росли ли на лугу растения из семейства бобовых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81c06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e81c06"/>
                </a:solidFill>
                <a:latin typeface="Arial"/>
              </a:rPr>
              <a:t>Выполнимо ли это задание? Аргументируйте свой отве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7238880" y="5410080"/>
            <a:ext cx="1428840" cy="10764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7377480" y="58276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3"/>
          <a:stretch/>
        </p:blipFill>
        <p:spPr>
          <a:xfrm>
            <a:off x="1752480" y="4038480"/>
            <a:ext cx="4267440" cy="26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-93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4000" spc="-1" strike="noStrike">
                <a:solidFill>
                  <a:srgbClr val="e81c06"/>
                </a:solidFill>
                <a:latin typeface="Arial"/>
              </a:rPr>
              <a:t>Да, выполнимо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Можно рассмотреть корни. Только бобовые на корнях имеют клубеньки, в которых живут симбиотические азотфиксирующ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бактери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Картинка 9 из 131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48520" y="3886200"/>
            <a:ext cx="26226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Како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морское животное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может задержать дыхание на целых два часа?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7238880" y="5410080"/>
            <a:ext cx="1428840" cy="107640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7377480" y="56754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hlinkClick r:id="rId3" action="ppaction://hlinksldjump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Картинка 6 из 16748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-544680"/>
            <a:ext cx="9144000" cy="740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Какая птица может бегать по дну реки?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7238880" y="5410080"/>
            <a:ext cx="1428840" cy="107640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7453440" y="57513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Цель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формирование у учащихся познавательного интереса к биолог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Задач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глубление материала, изучаемого на уро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звивать их внимание, сообразительность, умение работать в коллектив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имулирование к поиску дополнительной информации по тем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оспитание бережного отношения к окружающему мир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7032600" y="4648320"/>
            <a:ext cx="21114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оляп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Картинка 15 из 229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81080" y="1447920"/>
            <a:ext cx="52578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818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Какая птица умеет хорошо подражать голосам многих птиц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7238880" y="5410080"/>
            <a:ext cx="1428840" cy="107640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7377480" y="56754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КВОРЕ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Картинка 2 из 5341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52480" y="1219320"/>
            <a:ext cx="563904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Какая птиц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умеет кататься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на коровах и склевывать с них слепней?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7238880" y="5410080"/>
            <a:ext cx="1428840" cy="107640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7301160" y="58276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ГАЛ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Картинка 5 из 8230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3880" y="1447920"/>
            <a:ext cx="541044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Какой паук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умеет себе строить дом под водой из воздуха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7238880" y="5410080"/>
            <a:ext cx="1428840" cy="107640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7377480" y="57513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аук-серебрян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" descr="Картинка 7 из 9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14400" y="1300320"/>
            <a:ext cx="7162920" cy="55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81c06"/>
                </a:solidFill>
                <a:latin typeface="Arial"/>
              </a:rPr>
              <a:t>Кугуар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en-US" sz="6000" spc="-1" strike="noStrike">
                <a:solidFill>
                  <a:srgbClr val="e81c06"/>
                </a:solidFill>
                <a:latin typeface="Arial"/>
              </a:rPr>
              <a:t>пума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это одно и то же животное?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7238880" y="5410080"/>
            <a:ext cx="1428840" cy="107640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7301160" y="57513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492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Картинка 5 из 219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3880" y="1523880"/>
            <a:ext cx="6220080" cy="46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Можно л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найти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двух одинаковых зебр?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7238880" y="5410080"/>
            <a:ext cx="1428840" cy="107640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7377480" y="56754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3"/>
          <a:stretch/>
        </p:blipFill>
        <p:spPr>
          <a:xfrm>
            <a:off x="228600" y="1828800"/>
            <a:ext cx="2438280" cy="19512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4"/>
          <a:stretch/>
        </p:blipFill>
        <p:spPr>
          <a:xfrm>
            <a:off x="6553080" y="1905120"/>
            <a:ext cx="2590920" cy="207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Картинка 16 из 15993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829800" cy="76662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Картинка 2 из 159948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-228600" y="-533520"/>
            <a:ext cx="4729320" cy="48006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219320" y="1066680"/>
            <a:ext cx="1904760" cy="1524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248520" y="4114800"/>
            <a:ext cx="1600200" cy="1447920"/>
          </a:xfrm>
          <a:prstGeom prst="ellipse">
            <a:avLst/>
          </a:prstGeom>
          <a:solidFill>
            <a:srgbClr val="e81c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42800" y="13111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>
            <a:hlinkClick r:id="rId6" action="ppaction://hlinksldjump"/>
          </p:cNvPr>
          <p:cNvSpPr/>
          <p:nvPr/>
        </p:nvSpPr>
        <p:spPr>
          <a:xfrm>
            <a:off x="838080" y="38088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601280" y="-20520"/>
            <a:ext cx="47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0" action="ppaction://hlinksldjump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592360" y="1317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1" action="ppaction://hlinksldjump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184560" y="874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033720" y="8539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2" action="ppaction://hlinksldjump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354120" y="17524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3" action="ppaction://hlinksldjump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973240" y="24382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4" action="ppaction://hlinksldjump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211120" y="28195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5" action="ppaction://hlinksldjump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525320" y="28954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6" action="ppaction://hlinksldjump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10920" y="243828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7" action="ppaction://hlinksldjump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157800" y="32925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8" action="ppaction://hlinksldjump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995880" y="31399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9" action="ppaction://hlinksldjump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926120" y="34084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0" action="ppaction://hlinksldjump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291520" y="45115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1" action="ppaction://hlinksldjump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681680" y="53499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2" action="ppaction://hlinksldjump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088040" y="58672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3" action="ppaction://hlinksldjump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5920" y="58672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4" action="ppaction://hlinksldjump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487840" y="54100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5" action="ppaction://hlinksldjump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5560" y="48006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6" action="ppaction://hlinksldjump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411520" y="411480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7" action="ppaction://hlinksldjump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Нет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узор из линий на шкурах так же индивидуален, как отпечатки пальцев у люде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Какая рыб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носит имя человека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7238880" y="5410080"/>
            <a:ext cx="1428840" cy="107640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7377480" y="58276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Кар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Картинка 2 из 16143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480" y="1295280"/>
            <a:ext cx="800100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Назовит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овощ из которого можно стрелять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7238880" y="5410080"/>
            <a:ext cx="1428840" cy="10764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7301160" y="58276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Картинка 9 из 19253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43200" y="457200"/>
            <a:ext cx="39625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5400" spc="-1" strike="noStrike">
                <a:solidFill>
                  <a:srgbClr val="e81c06"/>
                </a:solidFill>
                <a:latin typeface="Arial"/>
              </a:rPr>
              <a:t>Птица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 семейства  тетеревидных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5400" spc="-1" strike="noStrike">
                <a:solidFill>
                  <a:srgbClr val="e81c06"/>
                </a:solidFill>
                <a:latin typeface="Arial"/>
              </a:rPr>
              <a:t>луковичное растение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 лилейных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7238880" y="5410080"/>
            <a:ext cx="1428840" cy="107640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7453440" y="57513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рябчи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Картинка 10 из 141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480" y="1676520"/>
            <a:ext cx="3238560" cy="380988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Картинка 10 из 2540"/>
          <p:cNvPicPr/>
          <p:nvPr/>
        </p:nvPicPr>
        <p:blipFill>
          <a:blip r:embed="rId3"/>
          <a:stretch/>
        </p:blipFill>
        <p:spPr>
          <a:xfrm>
            <a:off x="5562720" y="1676520"/>
            <a:ext cx="28479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136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81c06"/>
                </a:solidFill>
                <a:latin typeface="Arial"/>
              </a:rPr>
              <a:t>Драгоценный камень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темно-красного цвета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en-US" sz="4800" spc="-1" strike="noStrike">
                <a:solidFill>
                  <a:srgbClr val="e81c06"/>
                </a:solidFill>
                <a:latin typeface="Arial"/>
              </a:rPr>
              <a:t>южное дерево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с круглыми зернистыми темно-красными плодами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7238880" y="5410080"/>
            <a:ext cx="1428840" cy="107640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7301160" y="56754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ГРАНА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" descr="Картинка 6 из 26729"/>
          <p:cNvPicPr/>
          <p:nvPr/>
        </p:nvPicPr>
        <p:blipFill>
          <a:blip r:embed="rId1"/>
          <a:stretch/>
        </p:blipFill>
        <p:spPr>
          <a:xfrm>
            <a:off x="457200" y="1447920"/>
            <a:ext cx="3809880" cy="38098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2"/>
          <a:stretch/>
        </p:blipFill>
        <p:spPr>
          <a:xfrm>
            <a:off x="4572000" y="2362320"/>
            <a:ext cx="39625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Какая лягушка самая большая в мире?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7238880" y="5410080"/>
            <a:ext cx="1428840" cy="107640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7301160" y="57513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Картинка 2 из 15994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4803840" cy="48769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Картинка 2 из 159948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040280" y="1828800"/>
            <a:ext cx="5103720" cy="51814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 txBox="1"/>
          <p:nvPr/>
        </p:nvSpPr>
        <p:spPr>
          <a:xfrm>
            <a:off x="2362320" y="914400"/>
            <a:ext cx="4800600" cy="502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800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пасиб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з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нимание!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05920" cy="24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Голиаф.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Длина ее может достигать метра, а масса 6 кг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2666880" y="2133720"/>
            <a:ext cx="35593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У какой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птицы самые длинные перья на Земле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7238880" y="5410080"/>
            <a:ext cx="1428840" cy="107640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01160" y="57513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японские петухи – 10,5 м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Картинка 1 из 224"/>
          <p:cNvPicPr/>
          <p:nvPr/>
        </p:nvPicPr>
        <p:blipFill>
          <a:blip r:embed="rId1"/>
          <a:stretch/>
        </p:blipFill>
        <p:spPr>
          <a:xfrm>
            <a:off x="1752480" y="990720"/>
            <a:ext cx="574992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Какая птица может летать три года без остановки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7238880" y="5410080"/>
            <a:ext cx="1428840" cy="107640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7377480" y="57513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ТРИ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" descr="Картинка 5 из 157011"/>
          <p:cNvPicPr/>
          <p:nvPr/>
        </p:nvPicPr>
        <p:blipFill>
          <a:blip r:embed="rId1"/>
          <a:stretch/>
        </p:blipFill>
        <p:spPr>
          <a:xfrm>
            <a:off x="457200" y="1376280"/>
            <a:ext cx="8229600" cy="54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-24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e81c06"/>
                </a:solidFill>
                <a:latin typeface="Arial"/>
              </a:rPr>
              <a:t>Чем интересны эти земновод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81c06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e81c06"/>
                </a:solidFill>
                <a:latin typeface="Arial"/>
              </a:rPr>
              <a:t>в особенностях размножения и забот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81c06"/>
                </a:solidFill>
                <a:latin typeface="Arial"/>
              </a:rPr>
              <a:t>о потомств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жаба-повитуха           жаба-пип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238880" y="5410080"/>
            <a:ext cx="1428840" cy="10764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7468920" y="5791320"/>
            <a:ext cx="88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 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609480" y="3429000"/>
            <a:ext cx="2971800" cy="23176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4"/>
          <a:stretch/>
        </p:blipFill>
        <p:spPr>
          <a:xfrm>
            <a:off x="4057560" y="2909880"/>
            <a:ext cx="2930760" cy="29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000" spc="-1" strike="noStrike">
                <a:solidFill>
                  <a:srgbClr val="e81c06"/>
                </a:solidFill>
                <a:latin typeface="Arial"/>
              </a:rPr>
              <a:t>Особенност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жаба-повитуха наматывает ленты икры на ноги, а пипа «вынашивает» икру на спин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 5 хвостов этих животных на острове Ява выдавали удостоверение личности, за 25-женили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1c06"/>
                </a:solidFill>
                <a:latin typeface="Arial"/>
              </a:rPr>
              <a:t>  </a:t>
            </a:r>
            <a:r>
              <a:rPr b="0" lang="ru-RU" sz="4400" spc="-1" strike="noStrike">
                <a:solidFill>
                  <a:srgbClr val="e81c06"/>
                </a:solidFill>
                <a:latin typeface="Arial"/>
              </a:rPr>
              <a:t>Назовите этих «полезных» зверей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7238880" y="5410080"/>
            <a:ext cx="1428840" cy="10764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7606080" y="57513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КРЫ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Картинка 2 из 15855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2120" y="1371600"/>
            <a:ext cx="7772400" cy="51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дин из воинов Александра Македонского писал об этом растении: «…производил мёд без помощи пчёл»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400" spc="-1" strike="noStrike">
                <a:solidFill>
                  <a:srgbClr val="e81c06"/>
                </a:solidFill>
                <a:latin typeface="Arial"/>
              </a:rPr>
              <a:t>Что это за растение?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238880" y="5410080"/>
            <a:ext cx="1428840" cy="107640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7453440" y="56754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Vlad</cp:lastModifiedBy>
  <dcterms:modified xsi:type="dcterms:W3CDTF">2013-01-07T20:35:56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