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697-9D41-4EC8-AEC0-DD62BF2D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D29-4AC6-44AC-81A1-A0E1A838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A4F-D9DF-4321-AAEE-C18D5B07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BF3-EECE-4461-BAD6-91AF9A84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B93D-9AAB-4D8D-961B-2BC27826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322-1B1B-45DB-BBD3-FFF46A2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5281-E4A2-4722-948D-8C8E85D2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E59A-F4C1-4873-B7B5-02D54EB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8A3-7C8D-4854-8790-55D1284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10E-F55C-4926-AEF1-F177B6D1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3C0-D37D-46BA-B276-559DBE9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8EE-A1EC-469A-855D-60A888A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F43-A0F1-4D29-A001-D3DB867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AAE3-D477-436C-A4A5-AB32135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4F32-EC40-43E7-8361-5CBE8884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E654-E5FC-4D85-9D86-F768CC24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4998-D2EA-4E2E-A1D0-AECA0543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DA8A-8D49-47B9-875B-5336EB6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B580-B0D0-4FAD-830F-FF422BE2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96F7-4482-45C7-8DB9-5BD28047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A268-5AB6-4F1F-8CD7-3D7B52D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D0B5-41B3-42D4-B5DB-0CE4641D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7E4-A490-4925-B5F9-8C43689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84C7-77E5-4DA9-AFEE-8707999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D22B-1C34-4752-A6D9-FFDBAD0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26F6-7179-4690-A915-0788178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30A7-4C92-4915-BCFB-F4C74F6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BBCF-2907-4F39-961D-38E8B96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1669-BFA7-4888-A135-241FE3F5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1C08-646B-47FE-9529-1BAB00EB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117-0E7E-4F92-8C6A-FB694D48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EDE-5C08-4BE9-BB27-1BB1ACF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0BE-E2C1-4F18-AD31-E0332EC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C18-041D-4F50-AFA4-91CDEBD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8BA-7573-405C-9F84-F33E5ED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EB2-AC65-4E89-95FB-0464A4C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CAB-02B8-4151-A909-87A104F16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E3E-C079-4D2E-9E26-3BEE2878EB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196-FF19-4D0F-BD81-E07B49A25F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192/26192545_1212265308_080266028e1bd2995329e8c493443fa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cktailsoldfashioned.de/wp-content/uploads/2011/02/Zuckerrohr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2.xml"/><Relationship Id="rId3" Type="http://schemas.openxmlformats.org/officeDocument/2006/relationships/hyperlink" Target="http://news.bbc.co.uk/olmedia/1490000/images/_1490129_crocodile_bbc3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18.privet.ru/lr/0a2b3593d3dc0ab4a047e8e33305f353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ildrenpedia.org/6/2.files/image06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reenword.ru/images/best-animals/best-animals-0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99/cinclus_cinclus_-scotland-4-4c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782391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hotoline.ru/critic/picpart/1239/123907887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zslovo.org/content/images/stories/torop/pavuk-sribl09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900igr.net/datas/zhivotnye/Koshachi.files/0016-016-Puma-kuguar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0.xml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11/819/11819989_Romashka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5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3.xml"/><Relationship Id="rId23" Type="http://schemas.openxmlformats.org/officeDocument/2006/relationships/slide" Target="slide35.xml"/><Relationship Id="rId24" Type="http://schemas.openxmlformats.org/officeDocument/2006/relationships/slide" Target="slide37.xml"/><Relationship Id="rId25" Type="http://schemas.openxmlformats.org/officeDocument/2006/relationships/slide" Target="slide39.xml"/><Relationship Id="rId26" Type="http://schemas.openxmlformats.org/officeDocument/2006/relationships/slide" Target="slide41.xml"/><Relationship Id="rId27" Type="http://schemas.openxmlformats.org/officeDocument/2006/relationships/slide" Target="slide43.xml"/><Relationship Id="rId2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fishing.co.uk/upload/24122/images/World-record-common-carp-(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ohlava.ru/uploads/posts/2010-10/1288350275_1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.zelenogorsk.ru/projs/eko/ornitol/117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s16-kb.narod.ru/images/romashka2.gif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56.radikal.ru/1109/fd/1a9563aeac2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Картинка 198 из 96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04920" y="304920"/>
            <a:ext cx="555300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ЧАС ЗАНИМАТЕЛЬ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ОЛОГИИ"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7 класс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Картинка 9 из 21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9144000" cy="74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уществует выражение «лить крокодиловы слёзы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А плачут ли крокодилы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Картинка 4 из 8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962520"/>
            <a:ext cx="39625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Плачу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Так они удаляют лишнюю жидкость из организ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накс (от греческого «пан»- всё и «акос»- исцеляющий)- это родовое название дал растению К.Линней в 1753 г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 Что вам о нём известн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ньшень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д включает всего один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Картинка 3 из 524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523880"/>
            <a:ext cx="409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Выполнимо ли это задание? Аргументируйте свой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42674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e81c06"/>
                </a:solidFill>
                <a:latin typeface="Arial"/>
              </a:rPr>
              <a:t>Да, выполним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рассмотреть корни. Только бобовые на корнях имеют клубеньки, в которых живут симбиотические азотфиксиру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акте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9 из 1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262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ое животн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жет задержать дыхание на целых два часа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Картинка 6 из 1674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544680"/>
            <a:ext cx="9144000" cy="74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птица может бегать по дну реки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у учащихся познавательного интереса к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убление материала, изучаемого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их внимание, сообразительность, умение работать в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к поиску дополнительной информации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32600" y="4648320"/>
            <a:ext cx="211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Картинка 15 из 2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4479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1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ая птица умеет хорошо подражать голосам многих птиц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Картинка 2 из 53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катать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 коровах и склевывать с них слепней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Картинка 5 из 823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ой пау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себе строить дом под водой из воздух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ук-серебря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Картинка 7 из 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00320"/>
            <a:ext cx="7162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Кугуа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пум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то одно и то же животное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Картинка 5 из 2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6220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ожно 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вух одинаковых зеб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25909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16 из 1599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29800" cy="766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28600" y="-533520"/>
            <a:ext cx="472932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1066680"/>
            <a:ext cx="1904760" cy="1524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4114800"/>
            <a:ext cx="1600200" cy="1447920"/>
          </a:xfrm>
          <a:prstGeom prst="ellipse">
            <a:avLst/>
          </a:prstGeom>
          <a:solidFill>
            <a:srgbClr val="e81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800" y="131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6" action="ppaction://hlinksldjump"/>
          </p:cNvPr>
          <p:cNvSpPr/>
          <p:nvPr/>
        </p:nvSpPr>
        <p:spPr>
          <a:xfrm>
            <a:off x="838080" y="380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1280" y="-20520"/>
            <a:ext cx="4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2360" y="13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84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85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4120" y="1752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3240" y="243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1112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532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0920" y="2438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7800" y="3292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5880" y="313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6120" y="340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1520" y="451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1680" y="534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804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592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784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560" y="480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1520" y="4114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зор из линий на шкурах так же индивидуален, как отпечатки пальцев у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осит имя человек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2 из 1614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8001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вощ из которого можно стреля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Картинка 9 из 19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57200"/>
            <a:ext cx="3962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Птиц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емейства  тетеревид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луковичное растени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лилей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Картинка 10 из 1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3238560" cy="3809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10 из 2540"/>
          <p:cNvPicPr/>
          <p:nvPr/>
        </p:nvPicPr>
        <p:blipFill>
          <a:blip r:embed="rId3"/>
          <a:stretch/>
        </p:blipFill>
        <p:spPr>
          <a:xfrm>
            <a:off x="5562720" y="167652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Драгоценный камен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темно-красного цве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южное дерев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 круглыми зернистыми темно-красными плодам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30116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Картинка 6 из 26729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ая лягушка самая большая в мир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Картинка 2 из 1599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3840" cy="4876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40280" y="1828800"/>
            <a:ext cx="510372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362320" y="914400"/>
            <a:ext cx="4800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лиаф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ина ее может достигать метра, а масса 6 к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 к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тицы самые длинные перья на Земле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понские петухи – 10,5 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Картинка 1 из 224"/>
          <p:cNvPicPr/>
          <p:nvPr/>
        </p:nvPicPr>
        <p:blipFill>
          <a:blip r:embed="rId1"/>
          <a:stretch/>
        </p:blipFill>
        <p:spPr>
          <a:xfrm>
            <a:off x="1752480" y="990720"/>
            <a:ext cx="5749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 может летать три года без останов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Картинка 5 из 157011"/>
          <p:cNvPicPr/>
          <p:nvPr/>
        </p:nvPicPr>
        <p:blipFill>
          <a:blip r:embed="rId1"/>
          <a:stretch/>
        </p:blipFill>
        <p:spPr>
          <a:xfrm>
            <a:off x="457200" y="1376280"/>
            <a:ext cx="8229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Чем интересны эт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в особенностях размножения и заб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о потом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ба-повитуха           жаба-п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68920" y="57913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971800" cy="2317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057560" y="2909880"/>
            <a:ext cx="29307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e81c06"/>
                </a:solidFill>
                <a:latin typeface="Arial"/>
              </a:rPr>
              <a:t>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ба-повитуха наматывает ленты икры на ноги, а пипа «вынашивает» икру на сп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5 хвостов этих животных на острове Ява выдавали удостоверение личности, за 25-женил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c06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81c06"/>
                </a:solidFill>
                <a:latin typeface="Arial"/>
              </a:rPr>
              <a:t>Назовите этих «полезных» звере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060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Картинка 2 из 158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ин из воинов Александра Македонского писал об этом растении: «…производил мёд без помощи пчёл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45344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3-01-07T20:3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