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1.gif" ContentType="image/gif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A97B-2FD7-4348-9F68-6C4CB2A804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6A4E-6DAA-4ADA-ABE6-22B1A1B61C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07E-390C-4D8D-96FC-FD459F92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1DB-AA12-40EF-90DD-20F376CE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F9D-8AF1-415E-8EC2-78538E53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10A-0285-43C7-BEB2-C062A62C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30757-207C-4C30-96A1-B842D09A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4C60D-4C95-4A63-A548-2AFC3469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D1DA6-BA18-41DE-A53C-06F09FBB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6335B-BAE8-487A-AF98-3518916D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962C1-EEDA-4104-A466-F00054F3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0EC63-DBC6-4049-8855-290C668F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8BE79-9491-44B8-9D65-59FEC528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114-934A-4877-BBDA-5399677E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D4A3D-A09E-4053-BC7C-CF848709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4B0BE-A37A-447C-82AB-60F1261F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DD540-9B88-4AFC-8342-AD4070B6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E7055-B645-4B89-9E6E-6B2A4D4B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8D0E5-FB18-4D92-B448-315E8632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EFB-0EB6-4219-89AD-656AF019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120-1CDF-431A-A1BB-CBA3AEDA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A58-DA45-4BBE-AB8A-B171B8F0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709-11EA-4F1D-BDC7-F75C2D67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432-8F7C-425D-841D-575EDBC5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FE8-83D4-4C67-8900-1AAEEA7F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CB8-C986-4AF8-BE21-88A0DEEB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7A15-95D6-41E0-BAE4-EBF9DCA7C1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1100-97D8-41F6-957C-53157F33D1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-2742120"/>
            <a:ext cx="9144000" cy="116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– 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Жили когда-то на Руси Великой люди – песенники-сказители. Они сочиняли и пели-рассказывали былины – разные истории про богатырей русских, про битвы с лютыми врагами, про царства-государства чужеземные. И сложено было этих былин и ходило их по Руси великое множество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1819080" y="-137520"/>
            <a:ext cx="127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Monotype Corsiva"/>
              </a:rPr>
              <a:t>Цыганов С.В. Садко. Торг на берегу Ильмень –озера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Варяжский гость –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о Скандинави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229600" cy="4674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228600"/>
            <a:ext cx="914400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ы пропойте-ка нам песни звонкие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ро края расскажите далёкие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Чтоб нам знать, в какую сторону путь держ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И где больше чудес повстречаетс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Что можно сказать о характере музыки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Суровая, мужественная, величественная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Индийский гость – об Инди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" y="1384200"/>
            <a:ext cx="861048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ак охарактеризовал Римский-Корсаков этого героя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Образ Индийского гостя - таинственный, завораживающи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еденецкий гость – об итальянском городе Венец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777240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291960"/>
            <a:ext cx="8991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Куда посоветовали новгородцы плыть Садко, прослушав песни заморски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 радостью они призывали Садко плыть в Италию: «А и в Веденец славный путь держи, звонкие песни там перейми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45820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ДЕЙСТВИЕ ТРЕТЬ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Картина пята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ощается Садко с дружиной, берет свои гусли и отправляется в Подводно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царств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124080" y="2719440"/>
            <a:ext cx="60199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Афиша  оперы-былины «Садко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одводное царство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Образы героев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На дом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9520" y="5113440"/>
            <a:ext cx="17524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417 -0.02035 C -0.25417 0.02636 -0.17778 0.06221 -0.0849 0.06221 C 0.01093 0.06221 0.0875 0.02636 0.0875 -0.02035 C 0.0875 -0.06707 0.16389 -0.10292 0.25972 -0.10292 C 0.3526 -0.10292 0.42916 -0.06707 0.42916 -0.02035 E">
                                      <p:cBhvr>
                                        <p:cTn id="12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67080" y="152280"/>
            <a:ext cx="4686480" cy="6315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228600" y="533160"/>
            <a:ext cx="5410080" cy="5181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Monotype Corsiva"/>
              </a:rPr>
              <a:t>Опера-былина </a:t>
            </a:r>
            <a:r>
              <a:rPr b="1" lang="en-US" sz="106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lang="en-US" sz="12900" spc="-1" strike="noStrike">
                <a:solidFill>
                  <a:srgbClr val="ffffff"/>
                </a:solidFill>
                <a:latin typeface="Monotype Corsiva"/>
              </a:rPr>
              <a:t>Садко</a:t>
            </a:r>
            <a:r>
              <a:rPr b="1" lang="en-US" sz="10600" spc="-1" strike="noStrike">
                <a:solidFill>
                  <a:srgbClr val="ffffff"/>
                </a:solidFill>
                <a:latin typeface="Monotype Corsiva"/>
              </a:rPr>
              <a:t>»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4543560" cy="6324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91120" y="228600"/>
            <a:ext cx="2206440" cy="4038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304920" y="4495680"/>
            <a:ext cx="1666800" cy="2362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581280" y="3952800"/>
            <a:ext cx="2190960" cy="2905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324480" y="3048120"/>
            <a:ext cx="281952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5810400" y="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9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Былина о Садко – отважном путешественнике-мореплавателе,            певце-гусляре, торговом посланце Господина Великого Новгорода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5638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Николай Андреевич Римский-Корсако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055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1844-190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РимКор"/>
          <p:cNvPicPr/>
          <p:nvPr/>
        </p:nvPicPr>
        <p:blipFill>
          <a:blip r:embed="rId1"/>
          <a:stretch/>
        </p:blipFill>
        <p:spPr>
          <a:xfrm>
            <a:off x="1447920" y="157320"/>
            <a:ext cx="627696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Опера открывается вступлением, образом моря, которое проходит через всё произвед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365120"/>
            <a:ext cx="9144000" cy="5195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rcRect l="20703" t="20704" r="14111" b="13868"/>
          <a:stretch/>
        </p:blipFill>
        <p:spPr>
          <a:xfrm>
            <a:off x="0" y="12600"/>
            <a:ext cx="4859280" cy="6845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4"/>
          <a:srcRect l="20703" t="20704" r="14111" b="13868"/>
          <a:stretch/>
        </p:blipFill>
        <p:spPr>
          <a:xfrm>
            <a:off x="4800600" y="12600"/>
            <a:ext cx="4716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8 -0.00092 L -0.5573 -2.53469E-006 E">
                                      <p:cBhvr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99 -0.00092 L 0.53698 -0.00092 E">
                                      <p:cBhvr>
                                        <p:cTn id="2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16217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KРАТКОЕ СОДЕРЖАНИЕ ОПЕРЫ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ДЕЙСТВИЕ ПЕРВОЕ </a:t>
            </a:r>
            <a:br>
              <a:rPr sz="4000"/>
            </a:b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Картина перва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еселый и шумный пир в древнем Новгород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3335400"/>
            <a:ext cx="655344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Картина вторая</a:t>
            </a:r>
            <a:br>
              <a:rPr sz="40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Светлая летняя ночь. Тишина. Крутой берег Ильмень - озера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Картина треть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адко твердо решил биться "о велик заклад" – поспорить о том, что в Ильмень - озере есть "рыбка золото-перо"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2809800"/>
            <a:ext cx="70102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99172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ДЕЙСТВИЕ ВТОРО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Картина четвертая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ристань в Новгороде.         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На берегу Ильмень - озера толпится люд новгородский. Здесь же и заморские гости с товарами диковинными…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08T15:03:1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