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1.gif" ContentType="image/gif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6B62-BB6B-4341-804D-7433C6B6D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A9CD-BBFF-4591-9CEE-EF4BE30B00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396-09F3-4ACC-A57E-A3014CBD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5C5-996C-4319-A34F-95B69505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257-62DB-4385-AA1A-9D908A59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26A-64AA-4D2D-853B-886753A3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94458-CB9B-4C40-8868-7CEAB44F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34685-073E-475D-A892-8890003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EB8E3-FC98-46A6-94BD-E7BDB44E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5A095-6C69-4E2B-990C-42CEA861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A3B5A-5E66-436C-924A-14887CDE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E723A-1148-4431-9BDE-D0AEA6D5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CCB3F-9247-4D63-A011-43573B6F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06A-9B60-4AE8-8007-EC32A930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FA42E-1079-4F41-8658-1158BC4D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073BD-4759-4579-B674-003969D6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3F4AF-1692-419E-94AB-02C8D6D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8909B-D12B-46BA-823F-2B7D6178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02275-7E17-4869-A9F0-61B394A6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654-85BA-4A74-87BE-EBC62FB1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18D-D98E-4219-A6C1-C490D8FB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6BA-D3E6-4590-B785-242E5F3E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437-B04B-4E20-BA85-46A6A327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251-37FD-4033-BA65-F1E2883F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6EF-67C4-4CE0-9FA5-9E91B04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6A6-8A79-4077-9BEF-34DFC0CD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B54E-54D0-4BB7-9DB2-76A8342C9A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735-BED3-4259-A0B3-7856D9EA23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-2742120"/>
            <a:ext cx="914400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– 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Жили когда-то на Руси Великой люди – песенники-сказители. Они сочиняли и пели-рассказывали былины – разные истории про богатырей русских, про битвы с лютыми врагами, про царства-государства чужеземные. И сложено было этих былин и ходило их по Руси великое множество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819080" y="-137520"/>
            <a:ext cx="127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Monotype Corsiva"/>
              </a:rPr>
              <a:t>Цыганов С.В. Садко. Торг на берегу Ильмень –оз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Варяжский гость –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о Скандинав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229600" cy="4674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28600"/>
            <a:ext cx="91440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ы пропойте-ка нам песни звонкие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о края расскажите далёкие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Чтоб нам знать, в какую сторону путь держ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 где больше чудес повстречает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Что можно сказать о характере музыки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Суровая, мужественная, величественная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ндийский гость – об Инд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1384200"/>
            <a:ext cx="861048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к охарактеризовал Римский-Корсаков этого героя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Образ Индийского гостя - таинственный, завораживающи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еденецкий гость – об итальянском городе Вене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7724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291960"/>
            <a:ext cx="8991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Куда посоветовали новгородцы плыть Садко, прослушав песни заморски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 радостью они призывали Садко плыть в Италию: «А и в Веденец славный путь держи, звонкие песни там перейми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582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ЕЙСТВИЕ ТРЕТЬ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пята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щается Садко с дружиной, берет свои гусли и отправляется в Подводно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царств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124080" y="2719440"/>
            <a:ext cx="60199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Афиша  оперы-былины «Садк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одводное царств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Образы героев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На до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9520" y="5113440"/>
            <a:ext cx="17524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17 -0.02035 C -0.25417 0.02636 -0.17778 0.06221 -0.0849 0.06221 C 0.01093 0.06221 0.0875 0.02636 0.0875 -0.02035 C 0.0875 -0.06707 0.16389 -0.10292 0.25972 -0.10292 C 0.3526 -0.10292 0.42916 -0.06707 0.42916 -0.02035 E">
                                      <p:cBhvr>
                                        <p:cTn id="12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4686480" cy="6315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28600" y="53316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onotype Corsiva"/>
              </a:rPr>
              <a:t>Опера-былина 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en-US" sz="12900" spc="-1" strike="noStrike">
                <a:solidFill>
                  <a:srgbClr val="ffffff"/>
                </a:solidFill>
                <a:latin typeface="Monotype Corsiva"/>
              </a:rPr>
              <a:t>Садко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»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4543560" cy="6324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91120" y="228600"/>
            <a:ext cx="220644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04920" y="4495680"/>
            <a:ext cx="166680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581280" y="3952800"/>
            <a:ext cx="2190960" cy="290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324480" y="3048120"/>
            <a:ext cx="281952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810400" y="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9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Былина о Садко – отважном путешественнике-мореплавателе,            певце-гусляре, торговом посланце Господина Великого Новгорода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638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Николай Андреевич Римский-Корсако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1844-190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РимКор"/>
          <p:cNvPicPr/>
          <p:nvPr/>
        </p:nvPicPr>
        <p:blipFill>
          <a:blip r:embed="rId1"/>
          <a:stretch/>
        </p:blipFill>
        <p:spPr>
          <a:xfrm>
            <a:off x="1447920" y="157320"/>
            <a:ext cx="62769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Опера открывается вступлением, образом моря, которое проходит через всё произвед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365120"/>
            <a:ext cx="9144000" cy="5195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rcRect l="20703" t="20704" r="14111" b="13868"/>
          <a:stretch/>
        </p:blipFill>
        <p:spPr>
          <a:xfrm>
            <a:off x="0" y="12600"/>
            <a:ext cx="4859280" cy="6845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4"/>
          <a:srcRect l="20703" t="20704" r="14111" b="13868"/>
          <a:stretch/>
        </p:blipFill>
        <p:spPr>
          <a:xfrm>
            <a:off x="4800600" y="12600"/>
            <a:ext cx="4716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8 -0.00092 L -0.5573 -2.53469E-006 E">
                                      <p:cBhvr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99 -0.00092 L 0.53698 -0.00092 E">
                                      <p:cBhvr>
                                        <p:cTn id="2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1621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KРАТКОЕ СОДЕРЖАНИЕ ОПЕРЫ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ЕЙСТВИЕ ПЕРВОЕ </a:t>
            </a:r>
            <a:br>
              <a:rPr sz="4000"/>
            </a:b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перва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еселый и шумный пир в древнем Новгоро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3335400"/>
            <a:ext cx="65534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вторая</a:t>
            </a: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ветлая летняя ночь. Тишина. Крутой берег Ильмень - озера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треть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адко твердо решил биться "о велик заклад" – поспорить о том, что в Ильмень - озере есть "рыбка золото-перо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809800"/>
            <a:ext cx="70102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9172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ДЕЙСТВИЕ ВТОРО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Картина четвертая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истань в Новгороде.        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На берегу Ильмень - озера толпится люд новгородский. Здесь же и заморские гости с товарами диковинными…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08T15:03:1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