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1.gif" ContentType="image/gif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19A-6100-43C3-B712-DEC95F6928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96EB-F19B-4570-8FE4-57EABD0CB7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57D-C181-4CAE-BCDD-B578FD1E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EB8-B0DE-4627-B934-5AEEADD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293-2925-4D3B-8D4D-889E78CD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573-BA6F-4809-8E13-900BF28D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E4716-91CD-4E81-A4DA-5A918FDD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249E1-B17C-482E-9DF9-044756B5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D88B3-36C4-45B9-A13A-992A9B76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492E2-D734-4732-AFE5-40DE46DA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4D3C8-F93B-48E2-941D-F6454B11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0B2DD-1276-4629-9DF7-8ECC3598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FD314-DE66-470F-B9CB-D1B58D0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52A-EB0D-4503-ACB4-FDA75847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19D5F-C899-4E43-AAAD-D076A30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F199F-E787-43E0-910F-260654AC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DE9CD-5CDC-4A53-B172-05EFDD0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66AC3-B684-4619-B8D1-F76F4C83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992F1-E5B9-4311-9955-F19D4F6F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FCE-42CB-4B95-8740-4C49B5AA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CDC-B28D-4B5D-8006-D904D4B1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52A-1956-4853-901B-FBBD5A37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A7C-9C6A-4CC5-82E5-DBB3699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9B2-FEA7-4DAF-A874-C300667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96C-C827-43B1-9CB6-059CA9B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89B-CFB3-4F94-B2B2-58AE111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95C2-E561-401E-88D8-8B9F0CE7C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5553-E11F-4929-A316-8256694F7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-274212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– 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Жили когда-то на Руси Великой люди – песенники-сказители. Они сочиняли и пели-рассказывали былины – разные истории про богатырей русских, про битвы с лютыми врагами, про царства-государства чужеземные. И сложено было этих былин и ходило их по Руси великое множество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819080" y="-137520"/>
            <a:ext cx="127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199"/>
                </a:solidFill>
                <a:latin typeface="Monotype Corsiva"/>
              </a:rPr>
              <a:t>Цыганов С.В. Садко. Торг на берегу Ильмень –оз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Варяжский гость –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о Скандинав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229600" cy="4674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28600"/>
            <a:ext cx="91440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ы пропойте-ка нам песни звонки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 края расскажите далёки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тоб нам знать, в какую сторону путь держа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 где больше чудес повстречае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Что можно сказать о характере музыки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Суровая, мужественная, величественная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Индийский гость – об Инд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" y="1384200"/>
            <a:ext cx="861048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к охарактеризовал Римский-Корсаков этого героя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Образ Индийского гостя - таинственный, завораживающи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еденецкий гость – об итальянском городе Вене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7724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8991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уда посоветовали новгородцы плыть Садко, прослушав песни заморски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 радостью они призывали Садко плыть в Италию: «А и в Веденец славный путь держи, звонкие песни там перейми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ЕЙСТВИЕ ТРЕТЬ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пята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щается Садко с дружиной, берет свои гусли и отправляется в Подводно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царств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124080" y="2719440"/>
            <a:ext cx="60199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Афиша  оперы-былины «Садк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одводное царств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Образы героев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а до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9520" y="5113440"/>
            <a:ext cx="175248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17 -0.02035 C -0.25417 0.02636 -0.17778 0.06221 -0.0849 0.06221 C 0.01093 0.06221 0.0875 0.02636 0.0875 -0.02035 C 0.0875 -0.06707 0.16389 -0.10292 0.25972 -0.10292 C 0.3526 -0.10292 0.42916 -0.06707 0.42916 -0.02035 E">
                                      <p:cBhvr>
                                        <p:cTn id="12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686480" cy="6315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28600" y="53316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onotype Corsiva"/>
              </a:rPr>
              <a:t>Опера-былина 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en-US" sz="12900" spc="-1" strike="noStrike">
                <a:solidFill>
                  <a:srgbClr val="ffffff"/>
                </a:solidFill>
                <a:latin typeface="Monotype Corsiva"/>
              </a:rPr>
              <a:t>Садко</a:t>
            </a:r>
            <a:r>
              <a:rPr b="1" lang="en-US" sz="10600" spc="-1" strike="noStrike">
                <a:solidFill>
                  <a:srgbClr val="ffffff"/>
                </a:solidFill>
                <a:latin typeface="Monotype Corsiva"/>
              </a:rPr>
              <a:t>»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4543560" cy="6324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91120" y="228600"/>
            <a:ext cx="220644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04920" y="4495680"/>
            <a:ext cx="166680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581280" y="3952800"/>
            <a:ext cx="2190960" cy="2905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6324480" y="3048120"/>
            <a:ext cx="2819520" cy="3809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810400" y="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9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Былина о Садко – отважном путешественнике-мореплавателе,            певце-гусляре, торговом посланце Господина Великого Новгород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Николай Андреевич Римский-Корсако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1844-190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РимКор"/>
          <p:cNvPicPr/>
          <p:nvPr/>
        </p:nvPicPr>
        <p:blipFill>
          <a:blip r:embed="rId1"/>
          <a:stretch/>
        </p:blipFill>
        <p:spPr>
          <a:xfrm>
            <a:off x="1447920" y="157320"/>
            <a:ext cx="62769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Опера открывается вступлением, образом моря, которое проходит через всё произвед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365120"/>
            <a:ext cx="9144000" cy="5195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rcRect l="20703" t="20704" r="14111" b="13868"/>
          <a:stretch/>
        </p:blipFill>
        <p:spPr>
          <a:xfrm>
            <a:off x="0" y="12600"/>
            <a:ext cx="4859280" cy="684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4"/>
          <a:srcRect l="20703" t="20704" r="14111" b="13868"/>
          <a:stretch/>
        </p:blipFill>
        <p:spPr>
          <a:xfrm>
            <a:off x="4800600" y="12600"/>
            <a:ext cx="4716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8 -0.00092 L -0.5573 -2.53469E-006 E">
                                      <p:cBhvr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99 -0.00092 L 0.53698 -0.00092 E">
                                      <p:cBhvr>
                                        <p:cTn id="2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1621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KРАТКОЕ СОДЕРЖАНИЕ ОПЕРЫ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ДЕЙСТВИЕ ПЕРВОЕ </a:t>
            </a: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перва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еселый и шумный пир в древнем Новгород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3335400"/>
            <a:ext cx="65534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вторая</a:t>
            </a: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ветлая летняя ночь. Тишина. Крутой берег Ильмень - озера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Картина треть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адко твердо решил биться "о велик заклад" – поспорить о том, что в Ильмень - озере есть "рыбка золото-перо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809800"/>
            <a:ext cx="70102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91720" cy="58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ДЕЙСТВИЕ ВТОРО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Картина четвертая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истань в Новгороде.        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На берегу Ильмень - озера толпится люд новгородский. Здесь же и заморские гости с товарами диковинными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08T15:03:1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