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wmf" ContentType="image/x-wmf"/>
  <Override PartName="/ppt/media/image5.jpeg" ContentType="image/jpeg"/>
  <Override PartName="/ppt/media/image10.jpeg" ContentType="image/jpeg"/>
  <Override PartName="/ppt/media/image6.jpeg" ContentType="image/jpeg"/>
  <Override PartName="/ppt/media/image7.wmf" ContentType="image/x-wmf"/>
  <Override PartName="/ppt/media/image8.jpeg" ContentType="image/jpeg"/>
  <Override PartName="/ppt/media/image9.jpeg" ContentType="image/jpeg"/>
  <Override PartName="/ppt/media/image11.wmf" ContentType="image/x-wmf"/>
  <Override PartName="/ppt/media/image12.jpeg" ContentType="image/jpeg"/>
  <Override PartName="/ppt/media/image13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4E2E-5368-4E75-9B7C-618FBE9AB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454F-C1C3-47B5-9BCE-915D36F05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E594-3099-4812-B3E1-D4E31B8D9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B5A2-CC53-4796-B0DD-8FE6F49DE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35A29-196A-43C6-B583-DC12454AD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7B3EE-E363-4F1F-B414-9D7F7944C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BD0CE-E8E8-4C9A-A086-4CA9EF493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8B726-F054-49CF-BE1D-5DA37B1B5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0836D-0C83-4AB3-919B-087A2A607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7205E-9B3D-478F-A667-F6C98E1B1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BEABA-2C7F-492C-8999-72D03F30A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77FF-896A-48BD-BEF0-4127DA3F3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A016A-4481-4631-82DB-EF9C5B38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09DD0-E497-4D32-8C78-05224B8FF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95D67-BB75-4D07-9CB8-083AB0D8C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F5BF2-1F81-4224-94D9-7C8DC7CB3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1E953-2644-4FC1-92CF-A5500E296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E417-E9AC-45EF-AF60-C08C48CE0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23B1-86E1-4B03-9612-8E53F4CA4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D64C-E943-4B8C-8E96-C3380A873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8913-5E85-460F-9479-5E400BEFE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09AB-6DFD-4E7A-AC25-58AD3A05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4ECE-3A7E-4B81-BD6D-7D5563F8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C33B-35AA-43E5-9648-0E0163647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AD27F-AB8B-4E50-8A66-80D599FF8FA5}" type="slidenum">
              <a:rPr b="0" lang="ru-RU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0FA87-2253-44AA-BD14-2606B84CDCA4}" type="slidenum">
              <a:rPr b="0" lang="ru-RU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87280" y="1196640"/>
            <a:ext cx="687096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Comic Sans MS"/>
              </a:rPr>
              <a:t>«Практическая биология, или биология в профессии»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курс предпрофильной подготовки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348000" y="476280"/>
            <a:ext cx="4572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адоводство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ути получения профессии.  Теоретические основы выращивания садовых растени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Практическое занятие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 Способы прививки растени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Практическое занятие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Выращивание рассады (цветочных и овощных культур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3241440" cy="234468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258920" y="1413000"/>
            <a:ext cx="6696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Экскурсии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по выбору учащихся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В краеведческий музей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В анатомический музе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В зоопарк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На станцию юных натуралисто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Садовый центр «Долина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В оранжерею Ботанического сад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755640" y="700200"/>
            <a:ext cx="755640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Зачетный уро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редставление професси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газета, рисунки, стихи, песни, интервьюирование)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компьютерная презентация профессии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58560" y="14126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КОНЕЦ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042920" y="609300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АМАРА, 2005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4360" y="907920"/>
            <a:ext cx="6912000" cy="20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втор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читель биологи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ириллова С.С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580000" y="3789360"/>
            <a:ext cx="20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Это я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762280" y="4284720"/>
            <a:ext cx="2003400" cy="1117440"/>
          </a:xfrm>
          <a:custGeom>
            <a:avLst/>
            <a:gdLst/>
            <a:ahLst/>
            <a:rect l="l" t="t" r="r" b="b"/>
            <a:pathLst>
              <a:path w="2526" h="1468">
                <a:moveTo>
                  <a:pt x="0" y="340"/>
                </a:moveTo>
                <a:lnTo>
                  <a:pt x="0" y="1146"/>
                </a:lnTo>
                <a:lnTo>
                  <a:pt x="946" y="1468"/>
                </a:lnTo>
                <a:lnTo>
                  <a:pt x="2175" y="1003"/>
                </a:lnTo>
                <a:lnTo>
                  <a:pt x="2526" y="0"/>
                </a:lnTo>
                <a:lnTo>
                  <a:pt x="0" y="340"/>
                </a:lnTo>
                <a:close/>
              </a:path>
            </a:pathLst>
          </a:custGeom>
          <a:solidFill>
            <a:srgbClr val="a5ce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49880" y="3378240"/>
            <a:ext cx="842760" cy="1049400"/>
          </a:xfrm>
          <a:custGeom>
            <a:avLst/>
            <a:gdLst/>
            <a:ahLst/>
            <a:rect l="l" t="t" r="r" b="b"/>
            <a:pathLst>
              <a:path w="1062" h="1378">
                <a:moveTo>
                  <a:pt x="819" y="730"/>
                </a:moveTo>
                <a:lnTo>
                  <a:pt x="834" y="681"/>
                </a:lnTo>
                <a:lnTo>
                  <a:pt x="845" y="632"/>
                </a:lnTo>
                <a:lnTo>
                  <a:pt x="850" y="580"/>
                </a:lnTo>
                <a:lnTo>
                  <a:pt x="852" y="527"/>
                </a:lnTo>
                <a:lnTo>
                  <a:pt x="850" y="473"/>
                </a:lnTo>
                <a:lnTo>
                  <a:pt x="843" y="420"/>
                </a:lnTo>
                <a:lnTo>
                  <a:pt x="832" y="369"/>
                </a:lnTo>
                <a:lnTo>
                  <a:pt x="819" y="322"/>
                </a:lnTo>
                <a:lnTo>
                  <a:pt x="801" y="275"/>
                </a:lnTo>
                <a:lnTo>
                  <a:pt x="780" y="232"/>
                </a:lnTo>
                <a:lnTo>
                  <a:pt x="754" y="192"/>
                </a:lnTo>
                <a:lnTo>
                  <a:pt x="727" y="154"/>
                </a:lnTo>
                <a:lnTo>
                  <a:pt x="698" y="120"/>
                </a:lnTo>
                <a:lnTo>
                  <a:pt x="664" y="91"/>
                </a:lnTo>
                <a:lnTo>
                  <a:pt x="629" y="64"/>
                </a:lnTo>
                <a:lnTo>
                  <a:pt x="593" y="42"/>
                </a:lnTo>
                <a:lnTo>
                  <a:pt x="553" y="24"/>
                </a:lnTo>
                <a:lnTo>
                  <a:pt x="512" y="11"/>
                </a:lnTo>
                <a:lnTo>
                  <a:pt x="470" y="2"/>
                </a:lnTo>
                <a:lnTo>
                  <a:pt x="427" y="0"/>
                </a:lnTo>
                <a:lnTo>
                  <a:pt x="383" y="2"/>
                </a:lnTo>
                <a:lnTo>
                  <a:pt x="342" y="11"/>
                </a:lnTo>
                <a:lnTo>
                  <a:pt x="300" y="24"/>
                </a:lnTo>
                <a:lnTo>
                  <a:pt x="260" y="42"/>
                </a:lnTo>
                <a:lnTo>
                  <a:pt x="224" y="64"/>
                </a:lnTo>
                <a:lnTo>
                  <a:pt x="188" y="91"/>
                </a:lnTo>
                <a:lnTo>
                  <a:pt x="155" y="120"/>
                </a:lnTo>
                <a:lnTo>
                  <a:pt x="124" y="154"/>
                </a:lnTo>
                <a:lnTo>
                  <a:pt x="97" y="192"/>
                </a:lnTo>
                <a:lnTo>
                  <a:pt x="72" y="232"/>
                </a:lnTo>
                <a:lnTo>
                  <a:pt x="52" y="275"/>
                </a:lnTo>
                <a:lnTo>
                  <a:pt x="34" y="322"/>
                </a:lnTo>
                <a:lnTo>
                  <a:pt x="19" y="369"/>
                </a:lnTo>
                <a:lnTo>
                  <a:pt x="9" y="420"/>
                </a:lnTo>
                <a:lnTo>
                  <a:pt x="1" y="473"/>
                </a:lnTo>
                <a:lnTo>
                  <a:pt x="0" y="527"/>
                </a:lnTo>
                <a:lnTo>
                  <a:pt x="1" y="581"/>
                </a:lnTo>
                <a:lnTo>
                  <a:pt x="7" y="632"/>
                </a:lnTo>
                <a:lnTo>
                  <a:pt x="18" y="683"/>
                </a:lnTo>
                <a:lnTo>
                  <a:pt x="30" y="732"/>
                </a:lnTo>
                <a:lnTo>
                  <a:pt x="47" y="777"/>
                </a:lnTo>
                <a:lnTo>
                  <a:pt x="67" y="820"/>
                </a:lnTo>
                <a:lnTo>
                  <a:pt x="90" y="862"/>
                </a:lnTo>
                <a:lnTo>
                  <a:pt x="115" y="898"/>
                </a:lnTo>
                <a:lnTo>
                  <a:pt x="143" y="933"/>
                </a:lnTo>
                <a:lnTo>
                  <a:pt x="175" y="963"/>
                </a:lnTo>
                <a:lnTo>
                  <a:pt x="208" y="990"/>
                </a:lnTo>
                <a:lnTo>
                  <a:pt x="244" y="1012"/>
                </a:lnTo>
                <a:lnTo>
                  <a:pt x="282" y="1030"/>
                </a:lnTo>
                <a:lnTo>
                  <a:pt x="322" y="1043"/>
                </a:lnTo>
                <a:lnTo>
                  <a:pt x="363" y="1050"/>
                </a:lnTo>
                <a:lnTo>
                  <a:pt x="407" y="1054"/>
                </a:lnTo>
                <a:lnTo>
                  <a:pt x="416" y="1054"/>
                </a:lnTo>
                <a:lnTo>
                  <a:pt x="425" y="1052"/>
                </a:lnTo>
                <a:lnTo>
                  <a:pt x="436" y="1052"/>
                </a:lnTo>
                <a:lnTo>
                  <a:pt x="445" y="1050"/>
                </a:lnTo>
                <a:lnTo>
                  <a:pt x="456" y="1048"/>
                </a:lnTo>
                <a:lnTo>
                  <a:pt x="465" y="1047"/>
                </a:lnTo>
                <a:lnTo>
                  <a:pt x="474" y="1045"/>
                </a:lnTo>
                <a:lnTo>
                  <a:pt x="483" y="1043"/>
                </a:lnTo>
                <a:lnTo>
                  <a:pt x="434" y="1224"/>
                </a:lnTo>
                <a:lnTo>
                  <a:pt x="437" y="1228"/>
                </a:lnTo>
                <a:lnTo>
                  <a:pt x="448" y="1237"/>
                </a:lnTo>
                <a:lnTo>
                  <a:pt x="468" y="1253"/>
                </a:lnTo>
                <a:lnTo>
                  <a:pt x="492" y="1271"/>
                </a:lnTo>
                <a:lnTo>
                  <a:pt x="523" y="1293"/>
                </a:lnTo>
                <a:lnTo>
                  <a:pt x="559" y="1316"/>
                </a:lnTo>
                <a:lnTo>
                  <a:pt x="599" y="1340"/>
                </a:lnTo>
                <a:lnTo>
                  <a:pt x="644" y="1362"/>
                </a:lnTo>
                <a:lnTo>
                  <a:pt x="667" y="1371"/>
                </a:lnTo>
                <a:lnTo>
                  <a:pt x="691" y="1376"/>
                </a:lnTo>
                <a:lnTo>
                  <a:pt x="716" y="1378"/>
                </a:lnTo>
                <a:lnTo>
                  <a:pt x="740" y="1376"/>
                </a:lnTo>
                <a:lnTo>
                  <a:pt x="765" y="1372"/>
                </a:lnTo>
                <a:lnTo>
                  <a:pt x="789" y="1367"/>
                </a:lnTo>
                <a:lnTo>
                  <a:pt x="812" y="1360"/>
                </a:lnTo>
                <a:lnTo>
                  <a:pt x="834" y="1351"/>
                </a:lnTo>
                <a:lnTo>
                  <a:pt x="856" y="1342"/>
                </a:lnTo>
                <a:lnTo>
                  <a:pt x="877" y="1331"/>
                </a:lnTo>
                <a:lnTo>
                  <a:pt x="897" y="1320"/>
                </a:lnTo>
                <a:lnTo>
                  <a:pt x="915" y="1311"/>
                </a:lnTo>
                <a:lnTo>
                  <a:pt x="932" y="1302"/>
                </a:lnTo>
                <a:lnTo>
                  <a:pt x="946" y="1295"/>
                </a:lnTo>
                <a:lnTo>
                  <a:pt x="959" y="1287"/>
                </a:lnTo>
                <a:lnTo>
                  <a:pt x="970" y="1284"/>
                </a:lnTo>
                <a:lnTo>
                  <a:pt x="988" y="1273"/>
                </a:lnTo>
                <a:lnTo>
                  <a:pt x="1006" y="1257"/>
                </a:lnTo>
                <a:lnTo>
                  <a:pt x="1020" y="1235"/>
                </a:lnTo>
                <a:lnTo>
                  <a:pt x="1035" y="1211"/>
                </a:lnTo>
                <a:lnTo>
                  <a:pt x="1046" y="1188"/>
                </a:lnTo>
                <a:lnTo>
                  <a:pt x="1055" y="1168"/>
                </a:lnTo>
                <a:lnTo>
                  <a:pt x="1060" y="1155"/>
                </a:lnTo>
                <a:lnTo>
                  <a:pt x="1062" y="1150"/>
                </a:lnTo>
                <a:lnTo>
                  <a:pt x="819" y="730"/>
                </a:lnTo>
                <a:close/>
              </a:path>
            </a:pathLst>
          </a:custGeom>
          <a:solidFill>
            <a:srgbClr val="f2c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356000" y="3141720"/>
            <a:ext cx="1225800" cy="954000"/>
          </a:xfrm>
          <a:custGeom>
            <a:avLst/>
            <a:gdLst/>
            <a:ahLst/>
            <a:rect l="l" t="t" r="r" b="b"/>
            <a:pathLst>
              <a:path w="1543" h="1253">
                <a:moveTo>
                  <a:pt x="1541" y="638"/>
                </a:moveTo>
                <a:lnTo>
                  <a:pt x="1538" y="602"/>
                </a:lnTo>
                <a:lnTo>
                  <a:pt x="1534" y="567"/>
                </a:lnTo>
                <a:lnTo>
                  <a:pt x="1527" y="536"/>
                </a:lnTo>
                <a:lnTo>
                  <a:pt x="1520" y="506"/>
                </a:lnTo>
                <a:lnTo>
                  <a:pt x="1511" y="477"/>
                </a:lnTo>
                <a:lnTo>
                  <a:pt x="1500" y="451"/>
                </a:lnTo>
                <a:lnTo>
                  <a:pt x="1489" y="428"/>
                </a:lnTo>
                <a:lnTo>
                  <a:pt x="1476" y="406"/>
                </a:lnTo>
                <a:lnTo>
                  <a:pt x="1455" y="373"/>
                </a:lnTo>
                <a:lnTo>
                  <a:pt x="1435" y="343"/>
                </a:lnTo>
                <a:lnTo>
                  <a:pt x="1413" y="314"/>
                </a:lnTo>
                <a:lnTo>
                  <a:pt x="1391" y="288"/>
                </a:lnTo>
                <a:lnTo>
                  <a:pt x="1366" y="268"/>
                </a:lnTo>
                <a:lnTo>
                  <a:pt x="1335" y="250"/>
                </a:lnTo>
                <a:lnTo>
                  <a:pt x="1301" y="236"/>
                </a:lnTo>
                <a:lnTo>
                  <a:pt x="1261" y="227"/>
                </a:lnTo>
                <a:lnTo>
                  <a:pt x="1228" y="225"/>
                </a:lnTo>
                <a:lnTo>
                  <a:pt x="1196" y="227"/>
                </a:lnTo>
                <a:lnTo>
                  <a:pt x="1163" y="230"/>
                </a:lnTo>
                <a:lnTo>
                  <a:pt x="1131" y="236"/>
                </a:lnTo>
                <a:lnTo>
                  <a:pt x="1100" y="243"/>
                </a:lnTo>
                <a:lnTo>
                  <a:pt x="1071" y="248"/>
                </a:lnTo>
                <a:lnTo>
                  <a:pt x="1044" y="254"/>
                </a:lnTo>
                <a:lnTo>
                  <a:pt x="1022" y="258"/>
                </a:lnTo>
                <a:lnTo>
                  <a:pt x="1002" y="227"/>
                </a:lnTo>
                <a:lnTo>
                  <a:pt x="977" y="196"/>
                </a:lnTo>
                <a:lnTo>
                  <a:pt x="950" y="165"/>
                </a:lnTo>
                <a:lnTo>
                  <a:pt x="919" y="136"/>
                </a:lnTo>
                <a:lnTo>
                  <a:pt x="885" y="109"/>
                </a:lnTo>
                <a:lnTo>
                  <a:pt x="847" y="84"/>
                </a:lnTo>
                <a:lnTo>
                  <a:pt x="807" y="60"/>
                </a:lnTo>
                <a:lnTo>
                  <a:pt x="763" y="40"/>
                </a:lnTo>
                <a:lnTo>
                  <a:pt x="736" y="29"/>
                </a:lnTo>
                <a:lnTo>
                  <a:pt x="707" y="20"/>
                </a:lnTo>
                <a:lnTo>
                  <a:pt x="678" y="13"/>
                </a:lnTo>
                <a:lnTo>
                  <a:pt x="649" y="8"/>
                </a:lnTo>
                <a:lnTo>
                  <a:pt x="620" y="2"/>
                </a:lnTo>
                <a:lnTo>
                  <a:pt x="590" y="0"/>
                </a:lnTo>
                <a:lnTo>
                  <a:pt x="557" y="0"/>
                </a:lnTo>
                <a:lnTo>
                  <a:pt x="526" y="2"/>
                </a:lnTo>
                <a:lnTo>
                  <a:pt x="497" y="4"/>
                </a:lnTo>
                <a:lnTo>
                  <a:pt x="468" y="8"/>
                </a:lnTo>
                <a:lnTo>
                  <a:pt x="441" y="11"/>
                </a:lnTo>
                <a:lnTo>
                  <a:pt x="416" y="15"/>
                </a:lnTo>
                <a:lnTo>
                  <a:pt x="390" y="19"/>
                </a:lnTo>
                <a:lnTo>
                  <a:pt x="365" y="22"/>
                </a:lnTo>
                <a:lnTo>
                  <a:pt x="342" y="26"/>
                </a:lnTo>
                <a:lnTo>
                  <a:pt x="318" y="31"/>
                </a:lnTo>
                <a:lnTo>
                  <a:pt x="296" y="37"/>
                </a:lnTo>
                <a:lnTo>
                  <a:pt x="275" y="42"/>
                </a:lnTo>
                <a:lnTo>
                  <a:pt x="255" y="48"/>
                </a:lnTo>
                <a:lnTo>
                  <a:pt x="235" y="53"/>
                </a:lnTo>
                <a:lnTo>
                  <a:pt x="217" y="58"/>
                </a:lnTo>
                <a:lnTo>
                  <a:pt x="199" y="66"/>
                </a:lnTo>
                <a:lnTo>
                  <a:pt x="182" y="73"/>
                </a:lnTo>
                <a:lnTo>
                  <a:pt x="166" y="80"/>
                </a:lnTo>
                <a:lnTo>
                  <a:pt x="126" y="102"/>
                </a:lnTo>
                <a:lnTo>
                  <a:pt x="92" y="125"/>
                </a:lnTo>
                <a:lnTo>
                  <a:pt x="63" y="153"/>
                </a:lnTo>
                <a:lnTo>
                  <a:pt x="39" y="181"/>
                </a:lnTo>
                <a:lnTo>
                  <a:pt x="21" y="214"/>
                </a:lnTo>
                <a:lnTo>
                  <a:pt x="9" y="250"/>
                </a:lnTo>
                <a:lnTo>
                  <a:pt x="1" y="288"/>
                </a:lnTo>
                <a:lnTo>
                  <a:pt x="0" y="328"/>
                </a:lnTo>
                <a:lnTo>
                  <a:pt x="1" y="363"/>
                </a:lnTo>
                <a:lnTo>
                  <a:pt x="9" y="395"/>
                </a:lnTo>
                <a:lnTo>
                  <a:pt x="20" y="426"/>
                </a:lnTo>
                <a:lnTo>
                  <a:pt x="36" y="453"/>
                </a:lnTo>
                <a:lnTo>
                  <a:pt x="56" y="478"/>
                </a:lnTo>
                <a:lnTo>
                  <a:pt x="79" y="502"/>
                </a:lnTo>
                <a:lnTo>
                  <a:pt x="106" y="522"/>
                </a:lnTo>
                <a:lnTo>
                  <a:pt x="137" y="540"/>
                </a:lnTo>
                <a:lnTo>
                  <a:pt x="172" y="558"/>
                </a:lnTo>
                <a:lnTo>
                  <a:pt x="210" y="573"/>
                </a:lnTo>
                <a:lnTo>
                  <a:pt x="251" y="587"/>
                </a:lnTo>
                <a:lnTo>
                  <a:pt x="296" y="600"/>
                </a:lnTo>
                <a:lnTo>
                  <a:pt x="343" y="611"/>
                </a:lnTo>
                <a:lnTo>
                  <a:pt x="392" y="620"/>
                </a:lnTo>
                <a:lnTo>
                  <a:pt x="447" y="629"/>
                </a:lnTo>
                <a:lnTo>
                  <a:pt x="501" y="638"/>
                </a:lnTo>
                <a:lnTo>
                  <a:pt x="517" y="641"/>
                </a:lnTo>
                <a:lnTo>
                  <a:pt x="539" y="649"/>
                </a:lnTo>
                <a:lnTo>
                  <a:pt x="562" y="658"/>
                </a:lnTo>
                <a:lnTo>
                  <a:pt x="586" y="670"/>
                </a:lnTo>
                <a:lnTo>
                  <a:pt x="606" y="685"/>
                </a:lnTo>
                <a:lnTo>
                  <a:pt x="624" y="699"/>
                </a:lnTo>
                <a:lnTo>
                  <a:pt x="635" y="716"/>
                </a:lnTo>
                <a:lnTo>
                  <a:pt x="638" y="734"/>
                </a:lnTo>
                <a:lnTo>
                  <a:pt x="660" y="947"/>
                </a:lnTo>
                <a:lnTo>
                  <a:pt x="662" y="953"/>
                </a:lnTo>
                <a:lnTo>
                  <a:pt x="669" y="971"/>
                </a:lnTo>
                <a:lnTo>
                  <a:pt x="680" y="996"/>
                </a:lnTo>
                <a:lnTo>
                  <a:pt x="698" y="1029"/>
                </a:lnTo>
                <a:lnTo>
                  <a:pt x="718" y="1065"/>
                </a:lnTo>
                <a:lnTo>
                  <a:pt x="743" y="1103"/>
                </a:lnTo>
                <a:lnTo>
                  <a:pt x="774" y="1139"/>
                </a:lnTo>
                <a:lnTo>
                  <a:pt x="810" y="1174"/>
                </a:lnTo>
                <a:lnTo>
                  <a:pt x="847" y="1203"/>
                </a:lnTo>
                <a:lnTo>
                  <a:pt x="879" y="1224"/>
                </a:lnTo>
                <a:lnTo>
                  <a:pt x="908" y="1241"/>
                </a:lnTo>
                <a:lnTo>
                  <a:pt x="937" y="1251"/>
                </a:lnTo>
                <a:lnTo>
                  <a:pt x="964" y="1253"/>
                </a:lnTo>
                <a:lnTo>
                  <a:pt x="989" y="1248"/>
                </a:lnTo>
                <a:lnTo>
                  <a:pt x="1017" y="1237"/>
                </a:lnTo>
                <a:lnTo>
                  <a:pt x="1044" y="1215"/>
                </a:lnTo>
                <a:lnTo>
                  <a:pt x="1067" y="1188"/>
                </a:lnTo>
                <a:lnTo>
                  <a:pt x="1082" y="1159"/>
                </a:lnTo>
                <a:lnTo>
                  <a:pt x="1089" y="1128"/>
                </a:lnTo>
                <a:lnTo>
                  <a:pt x="1093" y="1099"/>
                </a:lnTo>
                <a:lnTo>
                  <a:pt x="1091" y="1074"/>
                </a:lnTo>
                <a:lnTo>
                  <a:pt x="1087" y="1052"/>
                </a:lnTo>
                <a:lnTo>
                  <a:pt x="1085" y="1040"/>
                </a:lnTo>
                <a:lnTo>
                  <a:pt x="1084" y="1034"/>
                </a:lnTo>
                <a:lnTo>
                  <a:pt x="1087" y="1038"/>
                </a:lnTo>
                <a:lnTo>
                  <a:pt x="1098" y="1045"/>
                </a:lnTo>
                <a:lnTo>
                  <a:pt x="1114" y="1058"/>
                </a:lnTo>
                <a:lnTo>
                  <a:pt x="1136" y="1070"/>
                </a:lnTo>
                <a:lnTo>
                  <a:pt x="1160" y="1083"/>
                </a:lnTo>
                <a:lnTo>
                  <a:pt x="1187" y="1094"/>
                </a:lnTo>
                <a:lnTo>
                  <a:pt x="1214" y="1101"/>
                </a:lnTo>
                <a:lnTo>
                  <a:pt x="1241" y="1103"/>
                </a:lnTo>
                <a:lnTo>
                  <a:pt x="1272" y="1098"/>
                </a:lnTo>
                <a:lnTo>
                  <a:pt x="1310" y="1083"/>
                </a:lnTo>
                <a:lnTo>
                  <a:pt x="1350" y="1063"/>
                </a:lnTo>
                <a:lnTo>
                  <a:pt x="1391" y="1038"/>
                </a:lnTo>
                <a:lnTo>
                  <a:pt x="1431" y="1003"/>
                </a:lnTo>
                <a:lnTo>
                  <a:pt x="1467" y="964"/>
                </a:lnTo>
                <a:lnTo>
                  <a:pt x="1498" y="917"/>
                </a:lnTo>
                <a:lnTo>
                  <a:pt x="1518" y="864"/>
                </a:lnTo>
                <a:lnTo>
                  <a:pt x="1531" y="804"/>
                </a:lnTo>
                <a:lnTo>
                  <a:pt x="1540" y="745"/>
                </a:lnTo>
                <a:lnTo>
                  <a:pt x="1543" y="690"/>
                </a:lnTo>
                <a:lnTo>
                  <a:pt x="1541" y="638"/>
                </a:lnTo>
                <a:close/>
              </a:path>
            </a:pathLst>
          </a:cu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382920" y="5416560"/>
            <a:ext cx="1681200" cy="550800"/>
          </a:xfrm>
          <a:custGeom>
            <a:avLst/>
            <a:gdLst/>
            <a:ahLst/>
            <a:rect l="l" t="t" r="r" b="b"/>
            <a:pathLst>
              <a:path w="2121" h="725">
                <a:moveTo>
                  <a:pt x="30" y="725"/>
                </a:moveTo>
                <a:lnTo>
                  <a:pt x="2121" y="725"/>
                </a:lnTo>
                <a:lnTo>
                  <a:pt x="1661" y="131"/>
                </a:lnTo>
                <a:lnTo>
                  <a:pt x="1659" y="131"/>
                </a:lnTo>
                <a:lnTo>
                  <a:pt x="1650" y="129"/>
                </a:lnTo>
                <a:lnTo>
                  <a:pt x="1637" y="125"/>
                </a:lnTo>
                <a:lnTo>
                  <a:pt x="1621" y="124"/>
                </a:lnTo>
                <a:lnTo>
                  <a:pt x="1599" y="118"/>
                </a:lnTo>
                <a:lnTo>
                  <a:pt x="1574" y="114"/>
                </a:lnTo>
                <a:lnTo>
                  <a:pt x="1547" y="107"/>
                </a:lnTo>
                <a:lnTo>
                  <a:pt x="1514" y="102"/>
                </a:lnTo>
                <a:lnTo>
                  <a:pt x="1478" y="96"/>
                </a:lnTo>
                <a:lnTo>
                  <a:pt x="1440" y="89"/>
                </a:lnTo>
                <a:lnTo>
                  <a:pt x="1400" y="82"/>
                </a:lnTo>
                <a:lnTo>
                  <a:pt x="1357" y="75"/>
                </a:lnTo>
                <a:lnTo>
                  <a:pt x="1312" y="67"/>
                </a:lnTo>
                <a:lnTo>
                  <a:pt x="1265" y="60"/>
                </a:lnTo>
                <a:lnTo>
                  <a:pt x="1218" y="53"/>
                </a:lnTo>
                <a:lnTo>
                  <a:pt x="1169" y="46"/>
                </a:lnTo>
                <a:lnTo>
                  <a:pt x="1118" y="38"/>
                </a:lnTo>
                <a:lnTo>
                  <a:pt x="1067" y="31"/>
                </a:lnTo>
                <a:lnTo>
                  <a:pt x="1017" y="26"/>
                </a:lnTo>
                <a:lnTo>
                  <a:pt x="966" y="20"/>
                </a:lnTo>
                <a:lnTo>
                  <a:pt x="915" y="15"/>
                </a:lnTo>
                <a:lnTo>
                  <a:pt x="865" y="11"/>
                </a:lnTo>
                <a:lnTo>
                  <a:pt x="816" y="8"/>
                </a:lnTo>
                <a:lnTo>
                  <a:pt x="767" y="4"/>
                </a:lnTo>
                <a:lnTo>
                  <a:pt x="722" y="2"/>
                </a:lnTo>
                <a:lnTo>
                  <a:pt x="677" y="0"/>
                </a:lnTo>
                <a:lnTo>
                  <a:pt x="633" y="2"/>
                </a:lnTo>
                <a:lnTo>
                  <a:pt x="591" y="2"/>
                </a:lnTo>
                <a:lnTo>
                  <a:pt x="553" y="6"/>
                </a:lnTo>
                <a:lnTo>
                  <a:pt x="517" y="9"/>
                </a:lnTo>
                <a:lnTo>
                  <a:pt x="485" y="15"/>
                </a:lnTo>
                <a:lnTo>
                  <a:pt x="456" y="22"/>
                </a:lnTo>
                <a:lnTo>
                  <a:pt x="434" y="29"/>
                </a:lnTo>
                <a:lnTo>
                  <a:pt x="412" y="37"/>
                </a:lnTo>
                <a:lnTo>
                  <a:pt x="389" y="46"/>
                </a:lnTo>
                <a:lnTo>
                  <a:pt x="363" y="55"/>
                </a:lnTo>
                <a:lnTo>
                  <a:pt x="338" y="67"/>
                </a:lnTo>
                <a:lnTo>
                  <a:pt x="311" y="80"/>
                </a:lnTo>
                <a:lnTo>
                  <a:pt x="286" y="95"/>
                </a:lnTo>
                <a:lnTo>
                  <a:pt x="259" y="109"/>
                </a:lnTo>
                <a:lnTo>
                  <a:pt x="231" y="125"/>
                </a:lnTo>
                <a:lnTo>
                  <a:pt x="206" y="143"/>
                </a:lnTo>
                <a:lnTo>
                  <a:pt x="181" y="162"/>
                </a:lnTo>
                <a:lnTo>
                  <a:pt x="155" y="181"/>
                </a:lnTo>
                <a:lnTo>
                  <a:pt x="132" y="203"/>
                </a:lnTo>
                <a:lnTo>
                  <a:pt x="110" y="225"/>
                </a:lnTo>
                <a:lnTo>
                  <a:pt x="90" y="248"/>
                </a:lnTo>
                <a:lnTo>
                  <a:pt x="72" y="274"/>
                </a:lnTo>
                <a:lnTo>
                  <a:pt x="30" y="350"/>
                </a:lnTo>
                <a:lnTo>
                  <a:pt x="9" y="426"/>
                </a:lnTo>
                <a:lnTo>
                  <a:pt x="0" y="502"/>
                </a:lnTo>
                <a:lnTo>
                  <a:pt x="0" y="573"/>
                </a:lnTo>
                <a:lnTo>
                  <a:pt x="9" y="634"/>
                </a:lnTo>
                <a:lnTo>
                  <a:pt x="18" y="681"/>
                </a:lnTo>
                <a:lnTo>
                  <a:pt x="27" y="714"/>
                </a:lnTo>
                <a:lnTo>
                  <a:pt x="30" y="725"/>
                </a:lnTo>
                <a:close/>
              </a:path>
            </a:pathLst>
          </a:custGeom>
          <a:solidFill>
            <a:srgbClr val="003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743280" y="4254480"/>
            <a:ext cx="1712880" cy="1627200"/>
          </a:xfrm>
          <a:custGeom>
            <a:avLst/>
            <a:gdLst/>
            <a:ahLst/>
            <a:rect l="l" t="t" r="r" b="b"/>
            <a:pathLst>
              <a:path w="2161" h="2136">
                <a:moveTo>
                  <a:pt x="1212" y="68"/>
                </a:moveTo>
                <a:lnTo>
                  <a:pt x="1209" y="68"/>
                </a:lnTo>
                <a:lnTo>
                  <a:pt x="1198" y="70"/>
                </a:lnTo>
                <a:lnTo>
                  <a:pt x="1182" y="74"/>
                </a:lnTo>
                <a:lnTo>
                  <a:pt x="1160" y="79"/>
                </a:lnTo>
                <a:lnTo>
                  <a:pt x="1135" y="86"/>
                </a:lnTo>
                <a:lnTo>
                  <a:pt x="1104" y="96"/>
                </a:lnTo>
                <a:lnTo>
                  <a:pt x="1071" y="106"/>
                </a:lnTo>
                <a:lnTo>
                  <a:pt x="1037" y="119"/>
                </a:lnTo>
                <a:lnTo>
                  <a:pt x="999" y="135"/>
                </a:lnTo>
                <a:lnTo>
                  <a:pt x="963" y="153"/>
                </a:lnTo>
                <a:lnTo>
                  <a:pt x="926" y="173"/>
                </a:lnTo>
                <a:lnTo>
                  <a:pt x="890" y="197"/>
                </a:lnTo>
                <a:lnTo>
                  <a:pt x="856" y="224"/>
                </a:lnTo>
                <a:lnTo>
                  <a:pt x="825" y="253"/>
                </a:lnTo>
                <a:lnTo>
                  <a:pt x="796" y="286"/>
                </a:lnTo>
                <a:lnTo>
                  <a:pt x="773" y="322"/>
                </a:lnTo>
                <a:lnTo>
                  <a:pt x="742" y="376"/>
                </a:lnTo>
                <a:lnTo>
                  <a:pt x="717" y="427"/>
                </a:lnTo>
                <a:lnTo>
                  <a:pt x="697" y="478"/>
                </a:lnTo>
                <a:lnTo>
                  <a:pt x="680" y="530"/>
                </a:lnTo>
                <a:lnTo>
                  <a:pt x="666" y="586"/>
                </a:lnTo>
                <a:lnTo>
                  <a:pt x="653" y="650"/>
                </a:lnTo>
                <a:lnTo>
                  <a:pt x="642" y="722"/>
                </a:lnTo>
                <a:lnTo>
                  <a:pt x="630" y="807"/>
                </a:lnTo>
                <a:lnTo>
                  <a:pt x="619" y="896"/>
                </a:lnTo>
                <a:lnTo>
                  <a:pt x="612" y="983"/>
                </a:lnTo>
                <a:lnTo>
                  <a:pt x="604" y="1062"/>
                </a:lnTo>
                <a:lnTo>
                  <a:pt x="595" y="1133"/>
                </a:lnTo>
                <a:lnTo>
                  <a:pt x="581" y="1193"/>
                </a:lnTo>
                <a:lnTo>
                  <a:pt x="561" y="1242"/>
                </a:lnTo>
                <a:lnTo>
                  <a:pt x="534" y="1276"/>
                </a:lnTo>
                <a:lnTo>
                  <a:pt x="496" y="1292"/>
                </a:lnTo>
                <a:lnTo>
                  <a:pt x="449" y="1289"/>
                </a:lnTo>
                <a:lnTo>
                  <a:pt x="405" y="1261"/>
                </a:lnTo>
                <a:lnTo>
                  <a:pt x="365" y="1220"/>
                </a:lnTo>
                <a:lnTo>
                  <a:pt x="333" y="1171"/>
                </a:lnTo>
                <a:lnTo>
                  <a:pt x="306" y="1120"/>
                </a:lnTo>
                <a:lnTo>
                  <a:pt x="286" y="1075"/>
                </a:lnTo>
                <a:lnTo>
                  <a:pt x="273" y="1044"/>
                </a:lnTo>
                <a:lnTo>
                  <a:pt x="270" y="1032"/>
                </a:lnTo>
                <a:lnTo>
                  <a:pt x="0" y="1173"/>
                </a:lnTo>
                <a:lnTo>
                  <a:pt x="2" y="1178"/>
                </a:lnTo>
                <a:lnTo>
                  <a:pt x="5" y="1194"/>
                </a:lnTo>
                <a:lnTo>
                  <a:pt x="11" y="1218"/>
                </a:lnTo>
                <a:lnTo>
                  <a:pt x="22" y="1251"/>
                </a:lnTo>
                <a:lnTo>
                  <a:pt x="33" y="1290"/>
                </a:lnTo>
                <a:lnTo>
                  <a:pt x="49" y="1337"/>
                </a:lnTo>
                <a:lnTo>
                  <a:pt x="65" y="1388"/>
                </a:lnTo>
                <a:lnTo>
                  <a:pt x="87" y="1442"/>
                </a:lnTo>
                <a:lnTo>
                  <a:pt x="99" y="1471"/>
                </a:lnTo>
                <a:lnTo>
                  <a:pt x="114" y="1500"/>
                </a:lnTo>
                <a:lnTo>
                  <a:pt x="132" y="1529"/>
                </a:lnTo>
                <a:lnTo>
                  <a:pt x="154" y="1558"/>
                </a:lnTo>
                <a:lnTo>
                  <a:pt x="175" y="1587"/>
                </a:lnTo>
                <a:lnTo>
                  <a:pt x="199" y="1614"/>
                </a:lnTo>
                <a:lnTo>
                  <a:pt x="224" y="1642"/>
                </a:lnTo>
                <a:lnTo>
                  <a:pt x="250" y="1669"/>
                </a:lnTo>
                <a:lnTo>
                  <a:pt x="277" y="1692"/>
                </a:lnTo>
                <a:lnTo>
                  <a:pt x="304" y="1716"/>
                </a:lnTo>
                <a:lnTo>
                  <a:pt x="329" y="1736"/>
                </a:lnTo>
                <a:lnTo>
                  <a:pt x="355" y="1754"/>
                </a:lnTo>
                <a:lnTo>
                  <a:pt x="380" y="1768"/>
                </a:lnTo>
                <a:lnTo>
                  <a:pt x="403" y="1779"/>
                </a:lnTo>
                <a:lnTo>
                  <a:pt x="425" y="1788"/>
                </a:lnTo>
                <a:lnTo>
                  <a:pt x="445" y="1794"/>
                </a:lnTo>
                <a:lnTo>
                  <a:pt x="478" y="1799"/>
                </a:lnTo>
                <a:lnTo>
                  <a:pt x="499" y="1801"/>
                </a:lnTo>
                <a:lnTo>
                  <a:pt x="516" y="1803"/>
                </a:lnTo>
                <a:lnTo>
                  <a:pt x="530" y="1801"/>
                </a:lnTo>
                <a:lnTo>
                  <a:pt x="545" y="1797"/>
                </a:lnTo>
                <a:lnTo>
                  <a:pt x="566" y="1794"/>
                </a:lnTo>
                <a:lnTo>
                  <a:pt x="595" y="1786"/>
                </a:lnTo>
                <a:lnTo>
                  <a:pt x="639" y="1777"/>
                </a:lnTo>
                <a:lnTo>
                  <a:pt x="657" y="1776"/>
                </a:lnTo>
                <a:lnTo>
                  <a:pt x="669" y="1779"/>
                </a:lnTo>
                <a:lnTo>
                  <a:pt x="680" y="1786"/>
                </a:lnTo>
                <a:lnTo>
                  <a:pt x="689" y="1796"/>
                </a:lnTo>
                <a:lnTo>
                  <a:pt x="697" y="1810"/>
                </a:lnTo>
                <a:lnTo>
                  <a:pt x="704" y="1826"/>
                </a:lnTo>
                <a:lnTo>
                  <a:pt x="713" y="1844"/>
                </a:lnTo>
                <a:lnTo>
                  <a:pt x="722" y="1866"/>
                </a:lnTo>
                <a:lnTo>
                  <a:pt x="735" y="1888"/>
                </a:lnTo>
                <a:lnTo>
                  <a:pt x="749" y="1913"/>
                </a:lnTo>
                <a:lnTo>
                  <a:pt x="767" y="1937"/>
                </a:lnTo>
                <a:lnTo>
                  <a:pt x="791" y="1962"/>
                </a:lnTo>
                <a:lnTo>
                  <a:pt x="820" y="1987"/>
                </a:lnTo>
                <a:lnTo>
                  <a:pt x="854" y="2013"/>
                </a:lnTo>
                <a:lnTo>
                  <a:pt x="897" y="2038"/>
                </a:lnTo>
                <a:lnTo>
                  <a:pt x="948" y="2062"/>
                </a:lnTo>
                <a:lnTo>
                  <a:pt x="1019" y="2089"/>
                </a:lnTo>
                <a:lnTo>
                  <a:pt x="1087" y="2109"/>
                </a:lnTo>
                <a:lnTo>
                  <a:pt x="1154" y="2121"/>
                </a:lnTo>
                <a:lnTo>
                  <a:pt x="1220" y="2130"/>
                </a:lnTo>
                <a:lnTo>
                  <a:pt x="1283" y="2136"/>
                </a:lnTo>
                <a:lnTo>
                  <a:pt x="1343" y="2136"/>
                </a:lnTo>
                <a:lnTo>
                  <a:pt x="1399" y="2132"/>
                </a:lnTo>
                <a:lnTo>
                  <a:pt x="1453" y="2127"/>
                </a:lnTo>
                <a:lnTo>
                  <a:pt x="1502" y="2120"/>
                </a:lnTo>
                <a:lnTo>
                  <a:pt x="1545" y="2111"/>
                </a:lnTo>
                <a:lnTo>
                  <a:pt x="1585" y="2102"/>
                </a:lnTo>
                <a:lnTo>
                  <a:pt x="1618" y="2091"/>
                </a:lnTo>
                <a:lnTo>
                  <a:pt x="1647" y="2082"/>
                </a:lnTo>
                <a:lnTo>
                  <a:pt x="1668" y="2073"/>
                </a:lnTo>
                <a:lnTo>
                  <a:pt x="1683" y="2065"/>
                </a:lnTo>
                <a:lnTo>
                  <a:pt x="1692" y="2062"/>
                </a:lnTo>
                <a:lnTo>
                  <a:pt x="1701" y="2045"/>
                </a:lnTo>
                <a:lnTo>
                  <a:pt x="1719" y="2004"/>
                </a:lnTo>
                <a:lnTo>
                  <a:pt x="1744" y="1942"/>
                </a:lnTo>
                <a:lnTo>
                  <a:pt x="1775" y="1863"/>
                </a:lnTo>
                <a:lnTo>
                  <a:pt x="1810" y="1768"/>
                </a:lnTo>
                <a:lnTo>
                  <a:pt x="1849" y="1663"/>
                </a:lnTo>
                <a:lnTo>
                  <a:pt x="1891" y="1549"/>
                </a:lnTo>
                <a:lnTo>
                  <a:pt x="1933" y="1430"/>
                </a:lnTo>
                <a:lnTo>
                  <a:pt x="1974" y="1310"/>
                </a:lnTo>
                <a:lnTo>
                  <a:pt x="2016" y="1191"/>
                </a:lnTo>
                <a:lnTo>
                  <a:pt x="2054" y="1079"/>
                </a:lnTo>
                <a:lnTo>
                  <a:pt x="2086" y="972"/>
                </a:lnTo>
                <a:lnTo>
                  <a:pt x="2115" y="879"/>
                </a:lnTo>
                <a:lnTo>
                  <a:pt x="2139" y="800"/>
                </a:lnTo>
                <a:lnTo>
                  <a:pt x="2153" y="738"/>
                </a:lnTo>
                <a:lnTo>
                  <a:pt x="2161" y="698"/>
                </a:lnTo>
                <a:lnTo>
                  <a:pt x="2161" y="640"/>
                </a:lnTo>
                <a:lnTo>
                  <a:pt x="2159" y="579"/>
                </a:lnTo>
                <a:lnTo>
                  <a:pt x="2153" y="517"/>
                </a:lnTo>
                <a:lnTo>
                  <a:pt x="2144" y="458"/>
                </a:lnTo>
                <a:lnTo>
                  <a:pt x="2132" y="400"/>
                </a:lnTo>
                <a:lnTo>
                  <a:pt x="2115" y="345"/>
                </a:lnTo>
                <a:lnTo>
                  <a:pt x="2097" y="296"/>
                </a:lnTo>
                <a:lnTo>
                  <a:pt x="2077" y="255"/>
                </a:lnTo>
                <a:lnTo>
                  <a:pt x="2056" y="226"/>
                </a:lnTo>
                <a:lnTo>
                  <a:pt x="2023" y="184"/>
                </a:lnTo>
                <a:lnTo>
                  <a:pt x="1980" y="137"/>
                </a:lnTo>
                <a:lnTo>
                  <a:pt x="1934" y="90"/>
                </a:lnTo>
                <a:lnTo>
                  <a:pt x="1887" y="48"/>
                </a:lnTo>
                <a:lnTo>
                  <a:pt x="1846" y="16"/>
                </a:lnTo>
                <a:lnTo>
                  <a:pt x="1815" y="0"/>
                </a:lnTo>
                <a:lnTo>
                  <a:pt x="1797" y="3"/>
                </a:lnTo>
                <a:lnTo>
                  <a:pt x="1752" y="67"/>
                </a:lnTo>
                <a:lnTo>
                  <a:pt x="1705" y="115"/>
                </a:lnTo>
                <a:lnTo>
                  <a:pt x="1656" y="152"/>
                </a:lnTo>
                <a:lnTo>
                  <a:pt x="1607" y="175"/>
                </a:lnTo>
                <a:lnTo>
                  <a:pt x="1556" y="188"/>
                </a:lnTo>
                <a:lnTo>
                  <a:pt x="1509" y="193"/>
                </a:lnTo>
                <a:lnTo>
                  <a:pt x="1462" y="190"/>
                </a:lnTo>
                <a:lnTo>
                  <a:pt x="1417" y="179"/>
                </a:lnTo>
                <a:lnTo>
                  <a:pt x="1373" y="166"/>
                </a:lnTo>
                <a:lnTo>
                  <a:pt x="1335" y="150"/>
                </a:lnTo>
                <a:lnTo>
                  <a:pt x="1301" y="130"/>
                </a:lnTo>
                <a:lnTo>
                  <a:pt x="1270" y="112"/>
                </a:lnTo>
                <a:lnTo>
                  <a:pt x="1247" y="96"/>
                </a:lnTo>
                <a:lnTo>
                  <a:pt x="1229" y="81"/>
                </a:lnTo>
                <a:lnTo>
                  <a:pt x="1216" y="72"/>
                </a:lnTo>
                <a:lnTo>
                  <a:pt x="1212" y="68"/>
                </a:lnTo>
                <a:close/>
              </a:path>
            </a:pathLst>
          </a:custGeom>
          <a:solidFill>
            <a:srgbClr val="d8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921040" y="3241800"/>
            <a:ext cx="1349280" cy="1587240"/>
          </a:xfrm>
          <a:custGeom>
            <a:avLst/>
            <a:gdLst/>
            <a:ahLst/>
            <a:rect l="l" t="t" r="r" b="b"/>
            <a:pathLst>
              <a:path w="1699" h="2084">
                <a:moveTo>
                  <a:pt x="34" y="293"/>
                </a:moveTo>
                <a:lnTo>
                  <a:pt x="108" y="1666"/>
                </a:lnTo>
                <a:lnTo>
                  <a:pt x="519" y="1673"/>
                </a:lnTo>
                <a:lnTo>
                  <a:pt x="519" y="1715"/>
                </a:lnTo>
                <a:lnTo>
                  <a:pt x="0" y="1765"/>
                </a:lnTo>
                <a:lnTo>
                  <a:pt x="0" y="1916"/>
                </a:lnTo>
                <a:lnTo>
                  <a:pt x="427" y="2084"/>
                </a:lnTo>
                <a:lnTo>
                  <a:pt x="1598" y="1832"/>
                </a:lnTo>
                <a:lnTo>
                  <a:pt x="1598" y="1740"/>
                </a:lnTo>
                <a:lnTo>
                  <a:pt x="1230" y="1673"/>
                </a:lnTo>
                <a:lnTo>
                  <a:pt x="1230" y="1599"/>
                </a:lnTo>
                <a:lnTo>
                  <a:pt x="1656" y="1447"/>
                </a:lnTo>
                <a:lnTo>
                  <a:pt x="1699" y="33"/>
                </a:lnTo>
                <a:lnTo>
                  <a:pt x="302" y="0"/>
                </a:lnTo>
                <a:lnTo>
                  <a:pt x="34" y="293"/>
                </a:lnTo>
                <a:close/>
              </a:path>
            </a:pathLst>
          </a:cu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129120" y="4670280"/>
            <a:ext cx="1187280" cy="452520"/>
          </a:xfrm>
          <a:custGeom>
            <a:avLst/>
            <a:gdLst/>
            <a:ahLst/>
            <a:rect l="l" t="t" r="r" b="b"/>
            <a:pathLst>
              <a:path w="1497" h="594">
                <a:moveTo>
                  <a:pt x="8" y="233"/>
                </a:moveTo>
                <a:lnTo>
                  <a:pt x="0" y="351"/>
                </a:lnTo>
                <a:lnTo>
                  <a:pt x="578" y="594"/>
                </a:lnTo>
                <a:lnTo>
                  <a:pt x="1463" y="333"/>
                </a:lnTo>
                <a:lnTo>
                  <a:pt x="1497" y="67"/>
                </a:lnTo>
                <a:lnTo>
                  <a:pt x="1296" y="0"/>
                </a:lnTo>
                <a:lnTo>
                  <a:pt x="8" y="233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086360" y="4703760"/>
            <a:ext cx="230040" cy="298440"/>
          </a:xfrm>
          <a:custGeom>
            <a:avLst/>
            <a:gdLst/>
            <a:ahLst/>
            <a:rect l="l" t="t" r="r" b="b"/>
            <a:pathLst>
              <a:path w="290" h="393">
                <a:moveTo>
                  <a:pt x="9" y="111"/>
                </a:moveTo>
                <a:lnTo>
                  <a:pt x="11" y="120"/>
                </a:lnTo>
                <a:lnTo>
                  <a:pt x="8" y="133"/>
                </a:lnTo>
                <a:lnTo>
                  <a:pt x="6" y="147"/>
                </a:lnTo>
                <a:lnTo>
                  <a:pt x="11" y="162"/>
                </a:lnTo>
                <a:lnTo>
                  <a:pt x="29" y="181"/>
                </a:lnTo>
                <a:lnTo>
                  <a:pt x="49" y="200"/>
                </a:lnTo>
                <a:lnTo>
                  <a:pt x="69" y="218"/>
                </a:lnTo>
                <a:lnTo>
                  <a:pt x="91" y="234"/>
                </a:lnTo>
                <a:lnTo>
                  <a:pt x="109" y="248"/>
                </a:lnTo>
                <a:lnTo>
                  <a:pt x="123" y="259"/>
                </a:lnTo>
                <a:lnTo>
                  <a:pt x="134" y="267"/>
                </a:lnTo>
                <a:lnTo>
                  <a:pt x="138" y="268"/>
                </a:lnTo>
                <a:lnTo>
                  <a:pt x="223" y="393"/>
                </a:lnTo>
                <a:lnTo>
                  <a:pt x="290" y="67"/>
                </a:lnTo>
                <a:lnTo>
                  <a:pt x="114" y="0"/>
                </a:lnTo>
                <a:lnTo>
                  <a:pt x="107" y="2"/>
                </a:lnTo>
                <a:lnTo>
                  <a:pt x="91" y="8"/>
                </a:lnTo>
                <a:lnTo>
                  <a:pt x="69" y="19"/>
                </a:lnTo>
                <a:lnTo>
                  <a:pt x="46" y="31"/>
                </a:lnTo>
                <a:lnTo>
                  <a:pt x="22" y="47"/>
                </a:lnTo>
                <a:lnTo>
                  <a:pt x="8" y="66"/>
                </a:lnTo>
                <a:lnTo>
                  <a:pt x="0" y="87"/>
                </a:lnTo>
                <a:lnTo>
                  <a:pt x="9" y="111"/>
                </a:lnTo>
                <a:close/>
              </a:path>
            </a:pathLst>
          </a:custGeom>
          <a:solidFill>
            <a:srgbClr val="f2c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665520" y="4772160"/>
            <a:ext cx="358920" cy="385560"/>
          </a:xfrm>
          <a:custGeom>
            <a:avLst/>
            <a:gdLst/>
            <a:ahLst/>
            <a:rect l="l" t="t" r="r" b="b"/>
            <a:pathLst>
              <a:path w="453" h="505">
                <a:moveTo>
                  <a:pt x="0" y="89"/>
                </a:moveTo>
                <a:lnTo>
                  <a:pt x="18" y="120"/>
                </a:lnTo>
                <a:lnTo>
                  <a:pt x="35" y="154"/>
                </a:lnTo>
                <a:lnTo>
                  <a:pt x="45" y="194"/>
                </a:lnTo>
                <a:lnTo>
                  <a:pt x="51" y="239"/>
                </a:lnTo>
                <a:lnTo>
                  <a:pt x="49" y="268"/>
                </a:lnTo>
                <a:lnTo>
                  <a:pt x="47" y="303"/>
                </a:lnTo>
                <a:lnTo>
                  <a:pt x="47" y="339"/>
                </a:lnTo>
                <a:lnTo>
                  <a:pt x="47" y="379"/>
                </a:lnTo>
                <a:lnTo>
                  <a:pt x="51" y="415"/>
                </a:lnTo>
                <a:lnTo>
                  <a:pt x="60" y="449"/>
                </a:lnTo>
                <a:lnTo>
                  <a:pt x="76" y="478"/>
                </a:lnTo>
                <a:lnTo>
                  <a:pt x="100" y="498"/>
                </a:lnTo>
                <a:lnTo>
                  <a:pt x="132" y="505"/>
                </a:lnTo>
                <a:lnTo>
                  <a:pt x="172" y="496"/>
                </a:lnTo>
                <a:lnTo>
                  <a:pt x="216" y="476"/>
                </a:lnTo>
                <a:lnTo>
                  <a:pt x="259" y="451"/>
                </a:lnTo>
                <a:lnTo>
                  <a:pt x="299" y="424"/>
                </a:lnTo>
                <a:lnTo>
                  <a:pt x="330" y="399"/>
                </a:lnTo>
                <a:lnTo>
                  <a:pt x="353" y="381"/>
                </a:lnTo>
                <a:lnTo>
                  <a:pt x="360" y="373"/>
                </a:lnTo>
                <a:lnTo>
                  <a:pt x="364" y="368"/>
                </a:lnTo>
                <a:lnTo>
                  <a:pt x="375" y="352"/>
                </a:lnTo>
                <a:lnTo>
                  <a:pt x="389" y="328"/>
                </a:lnTo>
                <a:lnTo>
                  <a:pt x="406" y="299"/>
                </a:lnTo>
                <a:lnTo>
                  <a:pt x="422" y="270"/>
                </a:lnTo>
                <a:lnTo>
                  <a:pt x="438" y="243"/>
                </a:lnTo>
                <a:lnTo>
                  <a:pt x="449" y="219"/>
                </a:lnTo>
                <a:lnTo>
                  <a:pt x="453" y="205"/>
                </a:lnTo>
                <a:lnTo>
                  <a:pt x="453" y="163"/>
                </a:lnTo>
                <a:lnTo>
                  <a:pt x="447" y="98"/>
                </a:lnTo>
                <a:lnTo>
                  <a:pt x="431" y="35"/>
                </a:lnTo>
                <a:lnTo>
                  <a:pt x="402" y="4"/>
                </a:lnTo>
                <a:lnTo>
                  <a:pt x="386" y="6"/>
                </a:lnTo>
                <a:lnTo>
                  <a:pt x="371" y="17"/>
                </a:lnTo>
                <a:lnTo>
                  <a:pt x="362" y="33"/>
                </a:lnTo>
                <a:lnTo>
                  <a:pt x="353" y="51"/>
                </a:lnTo>
                <a:lnTo>
                  <a:pt x="348" y="71"/>
                </a:lnTo>
                <a:lnTo>
                  <a:pt x="344" y="89"/>
                </a:lnTo>
                <a:lnTo>
                  <a:pt x="342" y="100"/>
                </a:lnTo>
                <a:lnTo>
                  <a:pt x="342" y="105"/>
                </a:lnTo>
                <a:lnTo>
                  <a:pt x="340" y="102"/>
                </a:lnTo>
                <a:lnTo>
                  <a:pt x="335" y="93"/>
                </a:lnTo>
                <a:lnTo>
                  <a:pt x="328" y="78"/>
                </a:lnTo>
                <a:lnTo>
                  <a:pt x="319" y="62"/>
                </a:lnTo>
                <a:lnTo>
                  <a:pt x="310" y="44"/>
                </a:lnTo>
                <a:lnTo>
                  <a:pt x="301" y="27"/>
                </a:lnTo>
                <a:lnTo>
                  <a:pt x="292" y="13"/>
                </a:lnTo>
                <a:lnTo>
                  <a:pt x="284" y="4"/>
                </a:lnTo>
                <a:lnTo>
                  <a:pt x="279" y="2"/>
                </a:lnTo>
                <a:lnTo>
                  <a:pt x="266" y="0"/>
                </a:lnTo>
                <a:lnTo>
                  <a:pt x="250" y="2"/>
                </a:lnTo>
                <a:lnTo>
                  <a:pt x="230" y="4"/>
                </a:lnTo>
                <a:lnTo>
                  <a:pt x="207" y="8"/>
                </a:lnTo>
                <a:lnTo>
                  <a:pt x="181" y="13"/>
                </a:lnTo>
                <a:lnTo>
                  <a:pt x="156" y="18"/>
                </a:lnTo>
                <a:lnTo>
                  <a:pt x="129" y="24"/>
                </a:lnTo>
                <a:lnTo>
                  <a:pt x="102" y="31"/>
                </a:lnTo>
                <a:lnTo>
                  <a:pt x="76" y="40"/>
                </a:lnTo>
                <a:lnTo>
                  <a:pt x="53" y="47"/>
                </a:lnTo>
                <a:lnTo>
                  <a:pt x="33" y="56"/>
                </a:lnTo>
                <a:lnTo>
                  <a:pt x="17" y="64"/>
                </a:lnTo>
                <a:lnTo>
                  <a:pt x="6" y="73"/>
                </a:lnTo>
                <a:lnTo>
                  <a:pt x="0" y="82"/>
                </a:lnTo>
                <a:lnTo>
                  <a:pt x="0" y="89"/>
                </a:lnTo>
                <a:close/>
              </a:path>
            </a:pathLst>
          </a:custGeom>
          <a:solidFill>
            <a:srgbClr val="f2c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65520" y="4838760"/>
            <a:ext cx="982800" cy="907920"/>
          </a:xfrm>
          <a:custGeom>
            <a:avLst/>
            <a:gdLst/>
            <a:ahLst/>
            <a:rect l="l" t="t" r="r" b="b"/>
            <a:pathLst>
              <a:path w="1238" h="1193">
                <a:moveTo>
                  <a:pt x="208" y="143"/>
                </a:moveTo>
                <a:lnTo>
                  <a:pt x="181" y="161"/>
                </a:lnTo>
                <a:lnTo>
                  <a:pt x="154" y="190"/>
                </a:lnTo>
                <a:lnTo>
                  <a:pt x="126" y="230"/>
                </a:lnTo>
                <a:lnTo>
                  <a:pt x="101" y="273"/>
                </a:lnTo>
                <a:lnTo>
                  <a:pt x="79" y="320"/>
                </a:lnTo>
                <a:lnTo>
                  <a:pt x="61" y="367"/>
                </a:lnTo>
                <a:lnTo>
                  <a:pt x="49" y="409"/>
                </a:lnTo>
                <a:lnTo>
                  <a:pt x="41" y="443"/>
                </a:lnTo>
                <a:lnTo>
                  <a:pt x="25" y="599"/>
                </a:lnTo>
                <a:lnTo>
                  <a:pt x="12" y="749"/>
                </a:lnTo>
                <a:lnTo>
                  <a:pt x="3" y="861"/>
                </a:lnTo>
                <a:lnTo>
                  <a:pt x="0" y="907"/>
                </a:lnTo>
                <a:lnTo>
                  <a:pt x="2" y="916"/>
                </a:lnTo>
                <a:lnTo>
                  <a:pt x="7" y="937"/>
                </a:lnTo>
                <a:lnTo>
                  <a:pt x="18" y="972"/>
                </a:lnTo>
                <a:lnTo>
                  <a:pt x="34" y="1012"/>
                </a:lnTo>
                <a:lnTo>
                  <a:pt x="58" y="1055"/>
                </a:lnTo>
                <a:lnTo>
                  <a:pt x="90" y="1097"/>
                </a:lnTo>
                <a:lnTo>
                  <a:pt x="134" y="1131"/>
                </a:lnTo>
                <a:lnTo>
                  <a:pt x="186" y="1158"/>
                </a:lnTo>
                <a:lnTo>
                  <a:pt x="228" y="1171"/>
                </a:lnTo>
                <a:lnTo>
                  <a:pt x="269" y="1182"/>
                </a:lnTo>
                <a:lnTo>
                  <a:pt x="309" y="1187"/>
                </a:lnTo>
                <a:lnTo>
                  <a:pt x="347" y="1191"/>
                </a:lnTo>
                <a:lnTo>
                  <a:pt x="382" y="1193"/>
                </a:lnTo>
                <a:lnTo>
                  <a:pt x="416" y="1193"/>
                </a:lnTo>
                <a:lnTo>
                  <a:pt x="449" y="1189"/>
                </a:lnTo>
                <a:lnTo>
                  <a:pt x="478" y="1185"/>
                </a:lnTo>
                <a:lnTo>
                  <a:pt x="503" y="1180"/>
                </a:lnTo>
                <a:lnTo>
                  <a:pt x="526" y="1175"/>
                </a:lnTo>
                <a:lnTo>
                  <a:pt x="548" y="1169"/>
                </a:lnTo>
                <a:lnTo>
                  <a:pt x="564" y="1164"/>
                </a:lnTo>
                <a:lnTo>
                  <a:pt x="579" y="1158"/>
                </a:lnTo>
                <a:lnTo>
                  <a:pt x="588" y="1155"/>
                </a:lnTo>
                <a:lnTo>
                  <a:pt x="595" y="1153"/>
                </a:lnTo>
                <a:lnTo>
                  <a:pt x="597" y="1151"/>
                </a:lnTo>
                <a:lnTo>
                  <a:pt x="602" y="1149"/>
                </a:lnTo>
                <a:lnTo>
                  <a:pt x="619" y="1144"/>
                </a:lnTo>
                <a:lnTo>
                  <a:pt x="646" y="1135"/>
                </a:lnTo>
                <a:lnTo>
                  <a:pt x="678" y="1124"/>
                </a:lnTo>
                <a:lnTo>
                  <a:pt x="718" y="1109"/>
                </a:lnTo>
                <a:lnTo>
                  <a:pt x="763" y="1095"/>
                </a:lnTo>
                <a:lnTo>
                  <a:pt x="812" y="1077"/>
                </a:lnTo>
                <a:lnTo>
                  <a:pt x="861" y="1059"/>
                </a:lnTo>
                <a:lnTo>
                  <a:pt x="912" y="1041"/>
                </a:lnTo>
                <a:lnTo>
                  <a:pt x="961" y="1021"/>
                </a:lnTo>
                <a:lnTo>
                  <a:pt x="1008" y="1003"/>
                </a:lnTo>
                <a:lnTo>
                  <a:pt x="1049" y="984"/>
                </a:lnTo>
                <a:lnTo>
                  <a:pt x="1087" y="966"/>
                </a:lnTo>
                <a:lnTo>
                  <a:pt x="1116" y="950"/>
                </a:lnTo>
                <a:lnTo>
                  <a:pt x="1138" y="937"/>
                </a:lnTo>
                <a:lnTo>
                  <a:pt x="1149" y="925"/>
                </a:lnTo>
                <a:lnTo>
                  <a:pt x="1178" y="851"/>
                </a:lnTo>
                <a:lnTo>
                  <a:pt x="1201" y="751"/>
                </a:lnTo>
                <a:lnTo>
                  <a:pt x="1221" y="635"/>
                </a:lnTo>
                <a:lnTo>
                  <a:pt x="1234" y="510"/>
                </a:lnTo>
                <a:lnTo>
                  <a:pt x="1238" y="387"/>
                </a:lnTo>
                <a:lnTo>
                  <a:pt x="1232" y="275"/>
                </a:lnTo>
                <a:lnTo>
                  <a:pt x="1216" y="184"/>
                </a:lnTo>
                <a:lnTo>
                  <a:pt x="1189" y="123"/>
                </a:lnTo>
                <a:lnTo>
                  <a:pt x="1151" y="81"/>
                </a:lnTo>
                <a:lnTo>
                  <a:pt x="1115" y="50"/>
                </a:lnTo>
                <a:lnTo>
                  <a:pt x="1080" y="29"/>
                </a:lnTo>
                <a:lnTo>
                  <a:pt x="1051" y="14"/>
                </a:lnTo>
                <a:lnTo>
                  <a:pt x="1024" y="5"/>
                </a:lnTo>
                <a:lnTo>
                  <a:pt x="1004" y="1"/>
                </a:lnTo>
                <a:lnTo>
                  <a:pt x="991" y="0"/>
                </a:lnTo>
                <a:lnTo>
                  <a:pt x="988" y="0"/>
                </a:lnTo>
                <a:lnTo>
                  <a:pt x="984" y="0"/>
                </a:lnTo>
                <a:lnTo>
                  <a:pt x="975" y="0"/>
                </a:lnTo>
                <a:lnTo>
                  <a:pt x="961" y="0"/>
                </a:lnTo>
                <a:lnTo>
                  <a:pt x="941" y="0"/>
                </a:lnTo>
                <a:lnTo>
                  <a:pt x="915" y="1"/>
                </a:lnTo>
                <a:lnTo>
                  <a:pt x="887" y="1"/>
                </a:lnTo>
                <a:lnTo>
                  <a:pt x="856" y="3"/>
                </a:lnTo>
                <a:lnTo>
                  <a:pt x="820" y="5"/>
                </a:lnTo>
                <a:lnTo>
                  <a:pt x="782" y="9"/>
                </a:lnTo>
                <a:lnTo>
                  <a:pt x="742" y="10"/>
                </a:lnTo>
                <a:lnTo>
                  <a:pt x="700" y="16"/>
                </a:lnTo>
                <a:lnTo>
                  <a:pt x="659" y="21"/>
                </a:lnTo>
                <a:lnTo>
                  <a:pt x="615" y="27"/>
                </a:lnTo>
                <a:lnTo>
                  <a:pt x="572" y="36"/>
                </a:lnTo>
                <a:lnTo>
                  <a:pt x="530" y="43"/>
                </a:lnTo>
                <a:lnTo>
                  <a:pt x="488" y="54"/>
                </a:lnTo>
                <a:lnTo>
                  <a:pt x="436" y="68"/>
                </a:lnTo>
                <a:lnTo>
                  <a:pt x="389" y="81"/>
                </a:lnTo>
                <a:lnTo>
                  <a:pt x="349" y="94"/>
                </a:lnTo>
                <a:lnTo>
                  <a:pt x="313" y="105"/>
                </a:lnTo>
                <a:lnTo>
                  <a:pt x="282" y="114"/>
                </a:lnTo>
                <a:lnTo>
                  <a:pt x="255" y="125"/>
                </a:lnTo>
                <a:lnTo>
                  <a:pt x="231" y="134"/>
                </a:lnTo>
                <a:lnTo>
                  <a:pt x="208" y="143"/>
                </a:lnTo>
                <a:close/>
              </a:path>
            </a:pathLst>
          </a:custGeom>
          <a:solidFill>
            <a:srgbClr val="59a3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78440" y="5076720"/>
            <a:ext cx="419040" cy="878040"/>
          </a:xfrm>
          <a:custGeom>
            <a:avLst/>
            <a:gdLst/>
            <a:ahLst/>
            <a:rect l="l" t="t" r="r" b="b"/>
            <a:pathLst>
              <a:path w="529" h="1152">
                <a:moveTo>
                  <a:pt x="156" y="76"/>
                </a:moveTo>
                <a:lnTo>
                  <a:pt x="0" y="1152"/>
                </a:lnTo>
                <a:lnTo>
                  <a:pt x="360" y="1152"/>
                </a:lnTo>
                <a:lnTo>
                  <a:pt x="529" y="47"/>
                </a:lnTo>
                <a:lnTo>
                  <a:pt x="529" y="45"/>
                </a:lnTo>
                <a:lnTo>
                  <a:pt x="529" y="40"/>
                </a:lnTo>
                <a:lnTo>
                  <a:pt x="527" y="35"/>
                </a:lnTo>
                <a:lnTo>
                  <a:pt x="520" y="25"/>
                </a:lnTo>
                <a:lnTo>
                  <a:pt x="505" y="18"/>
                </a:lnTo>
                <a:lnTo>
                  <a:pt x="485" y="9"/>
                </a:lnTo>
                <a:lnTo>
                  <a:pt x="453" y="4"/>
                </a:lnTo>
                <a:lnTo>
                  <a:pt x="409" y="0"/>
                </a:lnTo>
                <a:lnTo>
                  <a:pt x="358" y="2"/>
                </a:lnTo>
                <a:lnTo>
                  <a:pt x="311" y="9"/>
                </a:lnTo>
                <a:lnTo>
                  <a:pt x="270" y="22"/>
                </a:lnTo>
                <a:lnTo>
                  <a:pt x="232" y="35"/>
                </a:lnTo>
                <a:lnTo>
                  <a:pt x="201" y="51"/>
                </a:lnTo>
                <a:lnTo>
                  <a:pt x="176" y="64"/>
                </a:lnTo>
                <a:lnTo>
                  <a:pt x="161" y="73"/>
                </a:lnTo>
                <a:lnTo>
                  <a:pt x="156" y="76"/>
                </a:lnTo>
                <a:close/>
              </a:path>
            </a:pathLst>
          </a:cu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938320" y="4114800"/>
            <a:ext cx="2465640" cy="1193760"/>
          </a:xfrm>
          <a:custGeom>
            <a:avLst/>
            <a:gdLst/>
            <a:ahLst/>
            <a:rect l="l" t="t" r="r" b="b"/>
            <a:pathLst>
              <a:path w="3107" h="1570">
                <a:moveTo>
                  <a:pt x="1491" y="1340"/>
                </a:moveTo>
                <a:lnTo>
                  <a:pt x="1614" y="1298"/>
                </a:lnTo>
                <a:lnTo>
                  <a:pt x="1612" y="1324"/>
                </a:lnTo>
                <a:lnTo>
                  <a:pt x="1608" y="1351"/>
                </a:lnTo>
                <a:lnTo>
                  <a:pt x="1605" y="1378"/>
                </a:lnTo>
                <a:lnTo>
                  <a:pt x="1597" y="1405"/>
                </a:lnTo>
                <a:lnTo>
                  <a:pt x="1587" y="1432"/>
                </a:lnTo>
                <a:lnTo>
                  <a:pt x="1572" y="1456"/>
                </a:lnTo>
                <a:lnTo>
                  <a:pt x="1554" y="1477"/>
                </a:lnTo>
                <a:lnTo>
                  <a:pt x="1530" y="1496"/>
                </a:lnTo>
                <a:lnTo>
                  <a:pt x="1507" y="1499"/>
                </a:lnTo>
                <a:lnTo>
                  <a:pt x="1483" y="1496"/>
                </a:lnTo>
                <a:lnTo>
                  <a:pt x="1460" y="1487"/>
                </a:lnTo>
                <a:lnTo>
                  <a:pt x="1436" y="1472"/>
                </a:lnTo>
                <a:lnTo>
                  <a:pt x="1415" y="1454"/>
                </a:lnTo>
                <a:lnTo>
                  <a:pt x="1395" y="1434"/>
                </a:lnTo>
                <a:lnTo>
                  <a:pt x="1377" y="1409"/>
                </a:lnTo>
                <a:lnTo>
                  <a:pt x="1362" y="1383"/>
                </a:lnTo>
                <a:lnTo>
                  <a:pt x="1491" y="1340"/>
                </a:lnTo>
                <a:lnTo>
                  <a:pt x="1480" y="1291"/>
                </a:lnTo>
                <a:lnTo>
                  <a:pt x="1346" y="1338"/>
                </a:lnTo>
                <a:lnTo>
                  <a:pt x="1333" y="1327"/>
                </a:lnTo>
                <a:lnTo>
                  <a:pt x="1322" y="1311"/>
                </a:lnTo>
                <a:lnTo>
                  <a:pt x="1315" y="1293"/>
                </a:lnTo>
                <a:lnTo>
                  <a:pt x="1304" y="1275"/>
                </a:lnTo>
                <a:lnTo>
                  <a:pt x="1324" y="1266"/>
                </a:lnTo>
                <a:lnTo>
                  <a:pt x="1348" y="1258"/>
                </a:lnTo>
                <a:lnTo>
                  <a:pt x="1371" y="1249"/>
                </a:lnTo>
                <a:lnTo>
                  <a:pt x="1397" y="1240"/>
                </a:lnTo>
                <a:lnTo>
                  <a:pt x="1422" y="1231"/>
                </a:lnTo>
                <a:lnTo>
                  <a:pt x="1447" y="1224"/>
                </a:lnTo>
                <a:lnTo>
                  <a:pt x="1469" y="1217"/>
                </a:lnTo>
                <a:lnTo>
                  <a:pt x="1491" y="1210"/>
                </a:lnTo>
                <a:lnTo>
                  <a:pt x="1478" y="1162"/>
                </a:lnTo>
                <a:lnTo>
                  <a:pt x="1313" y="1217"/>
                </a:lnTo>
                <a:lnTo>
                  <a:pt x="1312" y="1213"/>
                </a:lnTo>
                <a:lnTo>
                  <a:pt x="1312" y="1208"/>
                </a:lnTo>
                <a:lnTo>
                  <a:pt x="1312" y="1202"/>
                </a:lnTo>
                <a:lnTo>
                  <a:pt x="1312" y="1195"/>
                </a:lnTo>
                <a:lnTo>
                  <a:pt x="1245" y="1190"/>
                </a:lnTo>
                <a:lnTo>
                  <a:pt x="1245" y="1224"/>
                </a:lnTo>
                <a:lnTo>
                  <a:pt x="1248" y="1257"/>
                </a:lnTo>
                <a:lnTo>
                  <a:pt x="1255" y="1291"/>
                </a:lnTo>
                <a:lnTo>
                  <a:pt x="1266" y="1322"/>
                </a:lnTo>
                <a:lnTo>
                  <a:pt x="1279" y="1354"/>
                </a:lnTo>
                <a:lnTo>
                  <a:pt x="1293" y="1385"/>
                </a:lnTo>
                <a:lnTo>
                  <a:pt x="1312" y="1414"/>
                </a:lnTo>
                <a:lnTo>
                  <a:pt x="1330" y="1443"/>
                </a:lnTo>
                <a:lnTo>
                  <a:pt x="1351" y="1470"/>
                </a:lnTo>
                <a:lnTo>
                  <a:pt x="1375" y="1497"/>
                </a:lnTo>
                <a:lnTo>
                  <a:pt x="1400" y="1521"/>
                </a:lnTo>
                <a:lnTo>
                  <a:pt x="1427" y="1539"/>
                </a:lnTo>
                <a:lnTo>
                  <a:pt x="1456" y="1555"/>
                </a:lnTo>
                <a:lnTo>
                  <a:pt x="1487" y="1564"/>
                </a:lnTo>
                <a:lnTo>
                  <a:pt x="1520" y="1570"/>
                </a:lnTo>
                <a:lnTo>
                  <a:pt x="1554" y="1566"/>
                </a:lnTo>
                <a:lnTo>
                  <a:pt x="1579" y="1559"/>
                </a:lnTo>
                <a:lnTo>
                  <a:pt x="1601" y="1548"/>
                </a:lnTo>
                <a:lnTo>
                  <a:pt x="1619" y="1534"/>
                </a:lnTo>
                <a:lnTo>
                  <a:pt x="1635" y="1515"/>
                </a:lnTo>
                <a:lnTo>
                  <a:pt x="1646" y="1496"/>
                </a:lnTo>
                <a:lnTo>
                  <a:pt x="1657" y="1474"/>
                </a:lnTo>
                <a:lnTo>
                  <a:pt x="1666" y="1450"/>
                </a:lnTo>
                <a:lnTo>
                  <a:pt x="1672" y="1427"/>
                </a:lnTo>
                <a:lnTo>
                  <a:pt x="1726" y="989"/>
                </a:lnTo>
                <a:lnTo>
                  <a:pt x="1730" y="956"/>
                </a:lnTo>
                <a:lnTo>
                  <a:pt x="1735" y="922"/>
                </a:lnTo>
                <a:lnTo>
                  <a:pt x="1740" y="889"/>
                </a:lnTo>
                <a:lnTo>
                  <a:pt x="1748" y="856"/>
                </a:lnTo>
                <a:lnTo>
                  <a:pt x="1755" y="824"/>
                </a:lnTo>
                <a:lnTo>
                  <a:pt x="1762" y="793"/>
                </a:lnTo>
                <a:lnTo>
                  <a:pt x="1773" y="762"/>
                </a:lnTo>
                <a:lnTo>
                  <a:pt x="1784" y="732"/>
                </a:lnTo>
                <a:lnTo>
                  <a:pt x="1796" y="695"/>
                </a:lnTo>
                <a:lnTo>
                  <a:pt x="1813" y="659"/>
                </a:lnTo>
                <a:lnTo>
                  <a:pt x="1831" y="625"/>
                </a:lnTo>
                <a:lnTo>
                  <a:pt x="1853" y="590"/>
                </a:lnTo>
                <a:lnTo>
                  <a:pt x="1876" y="558"/>
                </a:lnTo>
                <a:lnTo>
                  <a:pt x="1900" y="525"/>
                </a:lnTo>
                <a:lnTo>
                  <a:pt x="1927" y="496"/>
                </a:lnTo>
                <a:lnTo>
                  <a:pt x="1956" y="467"/>
                </a:lnTo>
                <a:lnTo>
                  <a:pt x="1986" y="442"/>
                </a:lnTo>
                <a:lnTo>
                  <a:pt x="2017" y="417"/>
                </a:lnTo>
                <a:lnTo>
                  <a:pt x="2052" y="395"/>
                </a:lnTo>
                <a:lnTo>
                  <a:pt x="2086" y="377"/>
                </a:lnTo>
                <a:lnTo>
                  <a:pt x="2122" y="360"/>
                </a:lnTo>
                <a:lnTo>
                  <a:pt x="2158" y="346"/>
                </a:lnTo>
                <a:lnTo>
                  <a:pt x="2196" y="337"/>
                </a:lnTo>
                <a:lnTo>
                  <a:pt x="2236" y="330"/>
                </a:lnTo>
                <a:lnTo>
                  <a:pt x="2258" y="355"/>
                </a:lnTo>
                <a:lnTo>
                  <a:pt x="2278" y="377"/>
                </a:lnTo>
                <a:lnTo>
                  <a:pt x="2298" y="398"/>
                </a:lnTo>
                <a:lnTo>
                  <a:pt x="2319" y="417"/>
                </a:lnTo>
                <a:lnTo>
                  <a:pt x="2345" y="433"/>
                </a:lnTo>
                <a:lnTo>
                  <a:pt x="2374" y="447"/>
                </a:lnTo>
                <a:lnTo>
                  <a:pt x="2410" y="462"/>
                </a:lnTo>
                <a:lnTo>
                  <a:pt x="2453" y="474"/>
                </a:lnTo>
                <a:lnTo>
                  <a:pt x="2479" y="480"/>
                </a:lnTo>
                <a:lnTo>
                  <a:pt x="2502" y="482"/>
                </a:lnTo>
                <a:lnTo>
                  <a:pt x="2528" y="484"/>
                </a:lnTo>
                <a:lnTo>
                  <a:pt x="2551" y="484"/>
                </a:lnTo>
                <a:lnTo>
                  <a:pt x="2575" y="480"/>
                </a:lnTo>
                <a:lnTo>
                  <a:pt x="2596" y="476"/>
                </a:lnTo>
                <a:lnTo>
                  <a:pt x="2620" y="471"/>
                </a:lnTo>
                <a:lnTo>
                  <a:pt x="2642" y="462"/>
                </a:lnTo>
                <a:lnTo>
                  <a:pt x="2663" y="455"/>
                </a:lnTo>
                <a:lnTo>
                  <a:pt x="2683" y="444"/>
                </a:lnTo>
                <a:lnTo>
                  <a:pt x="2705" y="433"/>
                </a:lnTo>
                <a:lnTo>
                  <a:pt x="2725" y="420"/>
                </a:lnTo>
                <a:lnTo>
                  <a:pt x="2743" y="406"/>
                </a:lnTo>
                <a:lnTo>
                  <a:pt x="2763" y="391"/>
                </a:lnTo>
                <a:lnTo>
                  <a:pt x="2781" y="375"/>
                </a:lnTo>
                <a:lnTo>
                  <a:pt x="2799" y="359"/>
                </a:lnTo>
                <a:lnTo>
                  <a:pt x="2857" y="391"/>
                </a:lnTo>
                <a:lnTo>
                  <a:pt x="2908" y="431"/>
                </a:lnTo>
                <a:lnTo>
                  <a:pt x="2951" y="478"/>
                </a:lnTo>
                <a:lnTo>
                  <a:pt x="2989" y="532"/>
                </a:lnTo>
                <a:lnTo>
                  <a:pt x="3018" y="590"/>
                </a:lnTo>
                <a:lnTo>
                  <a:pt x="3041" y="654"/>
                </a:lnTo>
                <a:lnTo>
                  <a:pt x="3054" y="717"/>
                </a:lnTo>
                <a:lnTo>
                  <a:pt x="3060" y="784"/>
                </a:lnTo>
                <a:lnTo>
                  <a:pt x="3063" y="829"/>
                </a:lnTo>
                <a:lnTo>
                  <a:pt x="3069" y="880"/>
                </a:lnTo>
                <a:lnTo>
                  <a:pt x="3074" y="918"/>
                </a:lnTo>
                <a:lnTo>
                  <a:pt x="3079" y="929"/>
                </a:lnTo>
                <a:lnTo>
                  <a:pt x="3099" y="847"/>
                </a:lnTo>
                <a:lnTo>
                  <a:pt x="3107" y="762"/>
                </a:lnTo>
                <a:lnTo>
                  <a:pt x="3105" y="675"/>
                </a:lnTo>
                <a:lnTo>
                  <a:pt x="3090" y="594"/>
                </a:lnTo>
                <a:lnTo>
                  <a:pt x="3083" y="567"/>
                </a:lnTo>
                <a:lnTo>
                  <a:pt x="3074" y="540"/>
                </a:lnTo>
                <a:lnTo>
                  <a:pt x="3063" y="512"/>
                </a:lnTo>
                <a:lnTo>
                  <a:pt x="3049" y="487"/>
                </a:lnTo>
                <a:lnTo>
                  <a:pt x="3034" y="464"/>
                </a:lnTo>
                <a:lnTo>
                  <a:pt x="3018" y="440"/>
                </a:lnTo>
                <a:lnTo>
                  <a:pt x="3000" y="417"/>
                </a:lnTo>
                <a:lnTo>
                  <a:pt x="2980" y="395"/>
                </a:lnTo>
                <a:lnTo>
                  <a:pt x="2960" y="375"/>
                </a:lnTo>
                <a:lnTo>
                  <a:pt x="2938" y="355"/>
                </a:lnTo>
                <a:lnTo>
                  <a:pt x="2917" y="335"/>
                </a:lnTo>
                <a:lnTo>
                  <a:pt x="2893" y="317"/>
                </a:lnTo>
                <a:lnTo>
                  <a:pt x="2870" y="299"/>
                </a:lnTo>
                <a:lnTo>
                  <a:pt x="2844" y="283"/>
                </a:lnTo>
                <a:lnTo>
                  <a:pt x="2821" y="268"/>
                </a:lnTo>
                <a:lnTo>
                  <a:pt x="2795" y="254"/>
                </a:lnTo>
                <a:lnTo>
                  <a:pt x="2790" y="255"/>
                </a:lnTo>
                <a:lnTo>
                  <a:pt x="2786" y="257"/>
                </a:lnTo>
                <a:lnTo>
                  <a:pt x="2783" y="259"/>
                </a:lnTo>
                <a:lnTo>
                  <a:pt x="2779" y="263"/>
                </a:lnTo>
                <a:lnTo>
                  <a:pt x="2774" y="268"/>
                </a:lnTo>
                <a:lnTo>
                  <a:pt x="2766" y="277"/>
                </a:lnTo>
                <a:lnTo>
                  <a:pt x="2754" y="290"/>
                </a:lnTo>
                <a:lnTo>
                  <a:pt x="2739" y="306"/>
                </a:lnTo>
                <a:lnTo>
                  <a:pt x="2718" y="326"/>
                </a:lnTo>
                <a:lnTo>
                  <a:pt x="2698" y="342"/>
                </a:lnTo>
                <a:lnTo>
                  <a:pt x="2680" y="357"/>
                </a:lnTo>
                <a:lnTo>
                  <a:pt x="2661" y="369"/>
                </a:lnTo>
                <a:lnTo>
                  <a:pt x="2645" y="379"/>
                </a:lnTo>
                <a:lnTo>
                  <a:pt x="2629" y="388"/>
                </a:lnTo>
                <a:lnTo>
                  <a:pt x="2614" y="393"/>
                </a:lnTo>
                <a:lnTo>
                  <a:pt x="2598" y="398"/>
                </a:lnTo>
                <a:lnTo>
                  <a:pt x="2582" y="400"/>
                </a:lnTo>
                <a:lnTo>
                  <a:pt x="2566" y="402"/>
                </a:lnTo>
                <a:lnTo>
                  <a:pt x="2549" y="404"/>
                </a:lnTo>
                <a:lnTo>
                  <a:pt x="2531" y="404"/>
                </a:lnTo>
                <a:lnTo>
                  <a:pt x="2511" y="402"/>
                </a:lnTo>
                <a:lnTo>
                  <a:pt x="2490" y="402"/>
                </a:lnTo>
                <a:lnTo>
                  <a:pt x="2466" y="400"/>
                </a:lnTo>
                <a:lnTo>
                  <a:pt x="2441" y="398"/>
                </a:lnTo>
                <a:lnTo>
                  <a:pt x="2424" y="391"/>
                </a:lnTo>
                <a:lnTo>
                  <a:pt x="2406" y="386"/>
                </a:lnTo>
                <a:lnTo>
                  <a:pt x="2390" y="379"/>
                </a:lnTo>
                <a:lnTo>
                  <a:pt x="2372" y="371"/>
                </a:lnTo>
                <a:lnTo>
                  <a:pt x="2356" y="364"/>
                </a:lnTo>
                <a:lnTo>
                  <a:pt x="2339" y="353"/>
                </a:lnTo>
                <a:lnTo>
                  <a:pt x="2327" y="340"/>
                </a:lnTo>
                <a:lnTo>
                  <a:pt x="2314" y="326"/>
                </a:lnTo>
                <a:lnTo>
                  <a:pt x="2319" y="321"/>
                </a:lnTo>
                <a:lnTo>
                  <a:pt x="2325" y="313"/>
                </a:lnTo>
                <a:lnTo>
                  <a:pt x="2328" y="306"/>
                </a:lnTo>
                <a:lnTo>
                  <a:pt x="2334" y="299"/>
                </a:lnTo>
                <a:lnTo>
                  <a:pt x="2347" y="261"/>
                </a:lnTo>
                <a:lnTo>
                  <a:pt x="2352" y="221"/>
                </a:lnTo>
                <a:lnTo>
                  <a:pt x="2352" y="181"/>
                </a:lnTo>
                <a:lnTo>
                  <a:pt x="2348" y="143"/>
                </a:lnTo>
                <a:lnTo>
                  <a:pt x="2339" y="103"/>
                </a:lnTo>
                <a:lnTo>
                  <a:pt x="2325" y="67"/>
                </a:lnTo>
                <a:lnTo>
                  <a:pt x="2307" y="33"/>
                </a:lnTo>
                <a:lnTo>
                  <a:pt x="2285" y="0"/>
                </a:lnTo>
                <a:lnTo>
                  <a:pt x="2283" y="9"/>
                </a:lnTo>
                <a:lnTo>
                  <a:pt x="2285" y="38"/>
                </a:lnTo>
                <a:lnTo>
                  <a:pt x="2289" y="78"/>
                </a:lnTo>
                <a:lnTo>
                  <a:pt x="2290" y="125"/>
                </a:lnTo>
                <a:lnTo>
                  <a:pt x="2287" y="176"/>
                </a:lnTo>
                <a:lnTo>
                  <a:pt x="2278" y="221"/>
                </a:lnTo>
                <a:lnTo>
                  <a:pt x="2258" y="257"/>
                </a:lnTo>
                <a:lnTo>
                  <a:pt x="2225" y="279"/>
                </a:lnTo>
                <a:lnTo>
                  <a:pt x="2189" y="279"/>
                </a:lnTo>
                <a:lnTo>
                  <a:pt x="2153" y="283"/>
                </a:lnTo>
                <a:lnTo>
                  <a:pt x="2119" y="290"/>
                </a:lnTo>
                <a:lnTo>
                  <a:pt x="2084" y="299"/>
                </a:lnTo>
                <a:lnTo>
                  <a:pt x="2052" y="310"/>
                </a:lnTo>
                <a:lnTo>
                  <a:pt x="2019" y="324"/>
                </a:lnTo>
                <a:lnTo>
                  <a:pt x="1988" y="339"/>
                </a:lnTo>
                <a:lnTo>
                  <a:pt x="1958" y="357"/>
                </a:lnTo>
                <a:lnTo>
                  <a:pt x="1929" y="377"/>
                </a:lnTo>
                <a:lnTo>
                  <a:pt x="1900" y="398"/>
                </a:lnTo>
                <a:lnTo>
                  <a:pt x="1874" y="422"/>
                </a:lnTo>
                <a:lnTo>
                  <a:pt x="1849" y="447"/>
                </a:lnTo>
                <a:lnTo>
                  <a:pt x="1825" y="473"/>
                </a:lnTo>
                <a:lnTo>
                  <a:pt x="1804" y="502"/>
                </a:lnTo>
                <a:lnTo>
                  <a:pt x="1782" y="531"/>
                </a:lnTo>
                <a:lnTo>
                  <a:pt x="1764" y="560"/>
                </a:lnTo>
                <a:lnTo>
                  <a:pt x="1749" y="587"/>
                </a:lnTo>
                <a:lnTo>
                  <a:pt x="1737" y="616"/>
                </a:lnTo>
                <a:lnTo>
                  <a:pt x="1728" y="645"/>
                </a:lnTo>
                <a:lnTo>
                  <a:pt x="1720" y="674"/>
                </a:lnTo>
                <a:lnTo>
                  <a:pt x="1713" y="703"/>
                </a:lnTo>
                <a:lnTo>
                  <a:pt x="1706" y="733"/>
                </a:lnTo>
                <a:lnTo>
                  <a:pt x="1699" y="762"/>
                </a:lnTo>
                <a:lnTo>
                  <a:pt x="1692" y="791"/>
                </a:lnTo>
                <a:lnTo>
                  <a:pt x="1677" y="784"/>
                </a:lnTo>
                <a:lnTo>
                  <a:pt x="1657" y="777"/>
                </a:lnTo>
                <a:lnTo>
                  <a:pt x="1632" y="770"/>
                </a:lnTo>
                <a:lnTo>
                  <a:pt x="1606" y="761"/>
                </a:lnTo>
                <a:lnTo>
                  <a:pt x="1581" y="750"/>
                </a:lnTo>
                <a:lnTo>
                  <a:pt x="1558" y="739"/>
                </a:lnTo>
                <a:lnTo>
                  <a:pt x="1541" y="728"/>
                </a:lnTo>
                <a:lnTo>
                  <a:pt x="1534" y="715"/>
                </a:lnTo>
                <a:lnTo>
                  <a:pt x="1502" y="721"/>
                </a:lnTo>
                <a:lnTo>
                  <a:pt x="1451" y="730"/>
                </a:lnTo>
                <a:lnTo>
                  <a:pt x="1386" y="739"/>
                </a:lnTo>
                <a:lnTo>
                  <a:pt x="1308" y="753"/>
                </a:lnTo>
                <a:lnTo>
                  <a:pt x="1221" y="768"/>
                </a:lnTo>
                <a:lnTo>
                  <a:pt x="1127" y="782"/>
                </a:lnTo>
                <a:lnTo>
                  <a:pt x="1029" y="799"/>
                </a:lnTo>
                <a:lnTo>
                  <a:pt x="930" y="815"/>
                </a:lnTo>
                <a:lnTo>
                  <a:pt x="832" y="831"/>
                </a:lnTo>
                <a:lnTo>
                  <a:pt x="740" y="847"/>
                </a:lnTo>
                <a:lnTo>
                  <a:pt x="653" y="862"/>
                </a:lnTo>
                <a:lnTo>
                  <a:pt x="575" y="875"/>
                </a:lnTo>
                <a:lnTo>
                  <a:pt x="510" y="885"/>
                </a:lnTo>
                <a:lnTo>
                  <a:pt x="461" y="893"/>
                </a:lnTo>
                <a:lnTo>
                  <a:pt x="428" y="898"/>
                </a:lnTo>
                <a:lnTo>
                  <a:pt x="418" y="900"/>
                </a:lnTo>
                <a:lnTo>
                  <a:pt x="392" y="893"/>
                </a:lnTo>
                <a:lnTo>
                  <a:pt x="367" y="884"/>
                </a:lnTo>
                <a:lnTo>
                  <a:pt x="343" y="876"/>
                </a:lnTo>
                <a:lnTo>
                  <a:pt x="318" y="867"/>
                </a:lnTo>
                <a:lnTo>
                  <a:pt x="293" y="858"/>
                </a:lnTo>
                <a:lnTo>
                  <a:pt x="267" y="849"/>
                </a:lnTo>
                <a:lnTo>
                  <a:pt x="244" y="842"/>
                </a:lnTo>
                <a:lnTo>
                  <a:pt x="219" y="833"/>
                </a:lnTo>
                <a:lnTo>
                  <a:pt x="193" y="824"/>
                </a:lnTo>
                <a:lnTo>
                  <a:pt x="168" y="817"/>
                </a:lnTo>
                <a:lnTo>
                  <a:pt x="144" y="808"/>
                </a:lnTo>
                <a:lnTo>
                  <a:pt x="119" y="800"/>
                </a:lnTo>
                <a:lnTo>
                  <a:pt x="94" y="793"/>
                </a:lnTo>
                <a:lnTo>
                  <a:pt x="68" y="786"/>
                </a:lnTo>
                <a:lnTo>
                  <a:pt x="43" y="779"/>
                </a:lnTo>
                <a:lnTo>
                  <a:pt x="18" y="771"/>
                </a:lnTo>
                <a:lnTo>
                  <a:pt x="0" y="789"/>
                </a:lnTo>
                <a:lnTo>
                  <a:pt x="5" y="793"/>
                </a:lnTo>
                <a:lnTo>
                  <a:pt x="16" y="799"/>
                </a:lnTo>
                <a:lnTo>
                  <a:pt x="34" y="806"/>
                </a:lnTo>
                <a:lnTo>
                  <a:pt x="56" y="815"/>
                </a:lnTo>
                <a:lnTo>
                  <a:pt x="83" y="824"/>
                </a:lnTo>
                <a:lnTo>
                  <a:pt x="112" y="835"/>
                </a:lnTo>
                <a:lnTo>
                  <a:pt x="143" y="847"/>
                </a:lnTo>
                <a:lnTo>
                  <a:pt x="173" y="858"/>
                </a:lnTo>
                <a:lnTo>
                  <a:pt x="204" y="871"/>
                </a:lnTo>
                <a:lnTo>
                  <a:pt x="235" y="882"/>
                </a:lnTo>
                <a:lnTo>
                  <a:pt x="264" y="893"/>
                </a:lnTo>
                <a:lnTo>
                  <a:pt x="289" y="902"/>
                </a:lnTo>
                <a:lnTo>
                  <a:pt x="311" y="911"/>
                </a:lnTo>
                <a:lnTo>
                  <a:pt x="327" y="916"/>
                </a:lnTo>
                <a:lnTo>
                  <a:pt x="338" y="920"/>
                </a:lnTo>
                <a:lnTo>
                  <a:pt x="342" y="922"/>
                </a:lnTo>
                <a:lnTo>
                  <a:pt x="340" y="922"/>
                </a:lnTo>
                <a:lnTo>
                  <a:pt x="334" y="923"/>
                </a:lnTo>
                <a:lnTo>
                  <a:pt x="327" y="927"/>
                </a:lnTo>
                <a:lnTo>
                  <a:pt x="318" y="931"/>
                </a:lnTo>
                <a:lnTo>
                  <a:pt x="307" y="934"/>
                </a:lnTo>
                <a:lnTo>
                  <a:pt x="298" y="940"/>
                </a:lnTo>
                <a:lnTo>
                  <a:pt x="289" y="943"/>
                </a:lnTo>
                <a:lnTo>
                  <a:pt x="282" y="949"/>
                </a:lnTo>
                <a:lnTo>
                  <a:pt x="772" y="1164"/>
                </a:lnTo>
                <a:lnTo>
                  <a:pt x="781" y="1168"/>
                </a:lnTo>
                <a:lnTo>
                  <a:pt x="790" y="1170"/>
                </a:lnTo>
                <a:lnTo>
                  <a:pt x="799" y="1170"/>
                </a:lnTo>
                <a:lnTo>
                  <a:pt x="808" y="1162"/>
                </a:lnTo>
                <a:lnTo>
                  <a:pt x="387" y="961"/>
                </a:lnTo>
                <a:lnTo>
                  <a:pt x="416" y="954"/>
                </a:lnTo>
                <a:lnTo>
                  <a:pt x="465" y="945"/>
                </a:lnTo>
                <a:lnTo>
                  <a:pt x="528" y="931"/>
                </a:lnTo>
                <a:lnTo>
                  <a:pt x="606" y="916"/>
                </a:lnTo>
                <a:lnTo>
                  <a:pt x="694" y="900"/>
                </a:lnTo>
                <a:lnTo>
                  <a:pt x="790" y="882"/>
                </a:lnTo>
                <a:lnTo>
                  <a:pt x="892" y="862"/>
                </a:lnTo>
                <a:lnTo>
                  <a:pt x="993" y="844"/>
                </a:lnTo>
                <a:lnTo>
                  <a:pt x="1094" y="826"/>
                </a:lnTo>
                <a:lnTo>
                  <a:pt x="1190" y="808"/>
                </a:lnTo>
                <a:lnTo>
                  <a:pt x="1281" y="791"/>
                </a:lnTo>
                <a:lnTo>
                  <a:pt x="1360" y="775"/>
                </a:lnTo>
                <a:lnTo>
                  <a:pt x="1429" y="764"/>
                </a:lnTo>
                <a:lnTo>
                  <a:pt x="1480" y="753"/>
                </a:lnTo>
                <a:lnTo>
                  <a:pt x="1514" y="748"/>
                </a:lnTo>
                <a:lnTo>
                  <a:pt x="1525" y="746"/>
                </a:lnTo>
                <a:lnTo>
                  <a:pt x="1545" y="757"/>
                </a:lnTo>
                <a:lnTo>
                  <a:pt x="1565" y="768"/>
                </a:lnTo>
                <a:lnTo>
                  <a:pt x="1587" y="779"/>
                </a:lnTo>
                <a:lnTo>
                  <a:pt x="1608" y="791"/>
                </a:lnTo>
                <a:lnTo>
                  <a:pt x="1628" y="804"/>
                </a:lnTo>
                <a:lnTo>
                  <a:pt x="1648" y="817"/>
                </a:lnTo>
                <a:lnTo>
                  <a:pt x="1668" y="829"/>
                </a:lnTo>
                <a:lnTo>
                  <a:pt x="1686" y="844"/>
                </a:lnTo>
                <a:lnTo>
                  <a:pt x="1684" y="891"/>
                </a:lnTo>
                <a:lnTo>
                  <a:pt x="1677" y="934"/>
                </a:lnTo>
                <a:lnTo>
                  <a:pt x="1668" y="980"/>
                </a:lnTo>
                <a:lnTo>
                  <a:pt x="1657" y="1021"/>
                </a:lnTo>
                <a:lnTo>
                  <a:pt x="1644" y="1007"/>
                </a:lnTo>
                <a:lnTo>
                  <a:pt x="1632" y="992"/>
                </a:lnTo>
                <a:lnTo>
                  <a:pt x="1619" y="978"/>
                </a:lnTo>
                <a:lnTo>
                  <a:pt x="1606" y="965"/>
                </a:lnTo>
                <a:lnTo>
                  <a:pt x="1594" y="952"/>
                </a:lnTo>
                <a:lnTo>
                  <a:pt x="1581" y="940"/>
                </a:lnTo>
                <a:lnTo>
                  <a:pt x="1567" y="927"/>
                </a:lnTo>
                <a:lnTo>
                  <a:pt x="1550" y="916"/>
                </a:lnTo>
                <a:lnTo>
                  <a:pt x="1563" y="916"/>
                </a:lnTo>
                <a:lnTo>
                  <a:pt x="1576" y="920"/>
                </a:lnTo>
                <a:lnTo>
                  <a:pt x="1588" y="929"/>
                </a:lnTo>
                <a:lnTo>
                  <a:pt x="1599" y="938"/>
                </a:lnTo>
                <a:lnTo>
                  <a:pt x="1612" y="947"/>
                </a:lnTo>
                <a:lnTo>
                  <a:pt x="1625" y="951"/>
                </a:lnTo>
                <a:lnTo>
                  <a:pt x="1637" y="951"/>
                </a:lnTo>
                <a:lnTo>
                  <a:pt x="1652" y="943"/>
                </a:lnTo>
                <a:lnTo>
                  <a:pt x="1639" y="922"/>
                </a:lnTo>
                <a:lnTo>
                  <a:pt x="1623" y="902"/>
                </a:lnTo>
                <a:lnTo>
                  <a:pt x="1606" y="884"/>
                </a:lnTo>
                <a:lnTo>
                  <a:pt x="1587" y="866"/>
                </a:lnTo>
                <a:lnTo>
                  <a:pt x="1567" y="849"/>
                </a:lnTo>
                <a:lnTo>
                  <a:pt x="1545" y="835"/>
                </a:lnTo>
                <a:lnTo>
                  <a:pt x="1523" y="822"/>
                </a:lnTo>
                <a:lnTo>
                  <a:pt x="1502" y="811"/>
                </a:lnTo>
                <a:lnTo>
                  <a:pt x="1516" y="813"/>
                </a:lnTo>
                <a:lnTo>
                  <a:pt x="1530" y="815"/>
                </a:lnTo>
                <a:lnTo>
                  <a:pt x="1545" y="818"/>
                </a:lnTo>
                <a:lnTo>
                  <a:pt x="1559" y="822"/>
                </a:lnTo>
                <a:lnTo>
                  <a:pt x="1574" y="826"/>
                </a:lnTo>
                <a:lnTo>
                  <a:pt x="1588" y="831"/>
                </a:lnTo>
                <a:lnTo>
                  <a:pt x="1601" y="837"/>
                </a:lnTo>
                <a:lnTo>
                  <a:pt x="1614" y="844"/>
                </a:lnTo>
                <a:lnTo>
                  <a:pt x="1621" y="846"/>
                </a:lnTo>
                <a:lnTo>
                  <a:pt x="1628" y="851"/>
                </a:lnTo>
                <a:lnTo>
                  <a:pt x="1635" y="858"/>
                </a:lnTo>
                <a:lnTo>
                  <a:pt x="1641" y="864"/>
                </a:lnTo>
                <a:lnTo>
                  <a:pt x="1648" y="871"/>
                </a:lnTo>
                <a:lnTo>
                  <a:pt x="1655" y="873"/>
                </a:lnTo>
                <a:lnTo>
                  <a:pt x="1663" y="871"/>
                </a:lnTo>
                <a:lnTo>
                  <a:pt x="1672" y="864"/>
                </a:lnTo>
                <a:lnTo>
                  <a:pt x="1659" y="847"/>
                </a:lnTo>
                <a:lnTo>
                  <a:pt x="1644" y="835"/>
                </a:lnTo>
                <a:lnTo>
                  <a:pt x="1628" y="824"/>
                </a:lnTo>
                <a:lnTo>
                  <a:pt x="1612" y="815"/>
                </a:lnTo>
                <a:lnTo>
                  <a:pt x="1594" y="808"/>
                </a:lnTo>
                <a:lnTo>
                  <a:pt x="1576" y="802"/>
                </a:lnTo>
                <a:lnTo>
                  <a:pt x="1556" y="795"/>
                </a:lnTo>
                <a:lnTo>
                  <a:pt x="1538" y="789"/>
                </a:lnTo>
                <a:lnTo>
                  <a:pt x="1527" y="786"/>
                </a:lnTo>
                <a:lnTo>
                  <a:pt x="1514" y="784"/>
                </a:lnTo>
                <a:lnTo>
                  <a:pt x="1503" y="784"/>
                </a:lnTo>
                <a:lnTo>
                  <a:pt x="1494" y="791"/>
                </a:lnTo>
                <a:lnTo>
                  <a:pt x="1494" y="797"/>
                </a:lnTo>
                <a:lnTo>
                  <a:pt x="1496" y="802"/>
                </a:lnTo>
                <a:lnTo>
                  <a:pt x="1498" y="806"/>
                </a:lnTo>
                <a:lnTo>
                  <a:pt x="1502" y="809"/>
                </a:lnTo>
                <a:lnTo>
                  <a:pt x="1489" y="813"/>
                </a:lnTo>
                <a:lnTo>
                  <a:pt x="1474" y="815"/>
                </a:lnTo>
                <a:lnTo>
                  <a:pt x="1464" y="818"/>
                </a:lnTo>
                <a:lnTo>
                  <a:pt x="1462" y="833"/>
                </a:lnTo>
                <a:lnTo>
                  <a:pt x="1476" y="838"/>
                </a:lnTo>
                <a:lnTo>
                  <a:pt x="1491" y="844"/>
                </a:lnTo>
                <a:lnTo>
                  <a:pt x="1505" y="849"/>
                </a:lnTo>
                <a:lnTo>
                  <a:pt x="1521" y="853"/>
                </a:lnTo>
                <a:lnTo>
                  <a:pt x="1534" y="858"/>
                </a:lnTo>
                <a:lnTo>
                  <a:pt x="1549" y="866"/>
                </a:lnTo>
                <a:lnTo>
                  <a:pt x="1561" y="875"/>
                </a:lnTo>
                <a:lnTo>
                  <a:pt x="1574" y="884"/>
                </a:lnTo>
                <a:lnTo>
                  <a:pt x="1563" y="885"/>
                </a:lnTo>
                <a:lnTo>
                  <a:pt x="1550" y="885"/>
                </a:lnTo>
                <a:lnTo>
                  <a:pt x="1540" y="884"/>
                </a:lnTo>
                <a:lnTo>
                  <a:pt x="1527" y="880"/>
                </a:lnTo>
                <a:lnTo>
                  <a:pt x="1514" y="876"/>
                </a:lnTo>
                <a:lnTo>
                  <a:pt x="1502" y="875"/>
                </a:lnTo>
                <a:lnTo>
                  <a:pt x="1491" y="878"/>
                </a:lnTo>
                <a:lnTo>
                  <a:pt x="1478" y="884"/>
                </a:lnTo>
                <a:lnTo>
                  <a:pt x="1483" y="904"/>
                </a:lnTo>
                <a:lnTo>
                  <a:pt x="1494" y="920"/>
                </a:lnTo>
                <a:lnTo>
                  <a:pt x="1507" y="933"/>
                </a:lnTo>
                <a:lnTo>
                  <a:pt x="1523" y="945"/>
                </a:lnTo>
                <a:lnTo>
                  <a:pt x="1538" y="958"/>
                </a:lnTo>
                <a:lnTo>
                  <a:pt x="1554" y="972"/>
                </a:lnTo>
                <a:lnTo>
                  <a:pt x="1567" y="990"/>
                </a:lnTo>
                <a:lnTo>
                  <a:pt x="1578" y="1010"/>
                </a:lnTo>
                <a:lnTo>
                  <a:pt x="1549" y="1016"/>
                </a:lnTo>
                <a:lnTo>
                  <a:pt x="1518" y="1023"/>
                </a:lnTo>
                <a:lnTo>
                  <a:pt x="1489" y="1032"/>
                </a:lnTo>
                <a:lnTo>
                  <a:pt x="1460" y="1041"/>
                </a:lnTo>
                <a:lnTo>
                  <a:pt x="1431" y="1050"/>
                </a:lnTo>
                <a:lnTo>
                  <a:pt x="1402" y="1057"/>
                </a:lnTo>
                <a:lnTo>
                  <a:pt x="1371" y="1063"/>
                </a:lnTo>
                <a:lnTo>
                  <a:pt x="1342" y="1065"/>
                </a:lnTo>
                <a:lnTo>
                  <a:pt x="1348" y="1025"/>
                </a:lnTo>
                <a:lnTo>
                  <a:pt x="1351" y="981"/>
                </a:lnTo>
                <a:lnTo>
                  <a:pt x="1348" y="940"/>
                </a:lnTo>
                <a:lnTo>
                  <a:pt x="1342" y="900"/>
                </a:lnTo>
                <a:lnTo>
                  <a:pt x="1333" y="887"/>
                </a:lnTo>
                <a:lnTo>
                  <a:pt x="1326" y="873"/>
                </a:lnTo>
                <a:lnTo>
                  <a:pt x="1317" y="860"/>
                </a:lnTo>
                <a:lnTo>
                  <a:pt x="1302" y="856"/>
                </a:lnTo>
                <a:lnTo>
                  <a:pt x="1288" y="882"/>
                </a:lnTo>
                <a:lnTo>
                  <a:pt x="1279" y="909"/>
                </a:lnTo>
                <a:lnTo>
                  <a:pt x="1270" y="936"/>
                </a:lnTo>
                <a:lnTo>
                  <a:pt x="1254" y="961"/>
                </a:lnTo>
                <a:lnTo>
                  <a:pt x="1190" y="856"/>
                </a:lnTo>
                <a:lnTo>
                  <a:pt x="1172" y="856"/>
                </a:lnTo>
                <a:lnTo>
                  <a:pt x="1172" y="873"/>
                </a:lnTo>
                <a:lnTo>
                  <a:pt x="1185" y="893"/>
                </a:lnTo>
                <a:lnTo>
                  <a:pt x="1196" y="913"/>
                </a:lnTo>
                <a:lnTo>
                  <a:pt x="1205" y="933"/>
                </a:lnTo>
                <a:lnTo>
                  <a:pt x="1214" y="954"/>
                </a:lnTo>
                <a:lnTo>
                  <a:pt x="1223" y="974"/>
                </a:lnTo>
                <a:lnTo>
                  <a:pt x="1230" y="996"/>
                </a:lnTo>
                <a:lnTo>
                  <a:pt x="1236" y="1019"/>
                </a:lnTo>
                <a:lnTo>
                  <a:pt x="1241" y="1041"/>
                </a:lnTo>
                <a:lnTo>
                  <a:pt x="1255" y="1038"/>
                </a:lnTo>
                <a:lnTo>
                  <a:pt x="1268" y="1028"/>
                </a:lnTo>
                <a:lnTo>
                  <a:pt x="1277" y="1019"/>
                </a:lnTo>
                <a:lnTo>
                  <a:pt x="1286" y="1009"/>
                </a:lnTo>
                <a:lnTo>
                  <a:pt x="1293" y="996"/>
                </a:lnTo>
                <a:lnTo>
                  <a:pt x="1299" y="981"/>
                </a:lnTo>
                <a:lnTo>
                  <a:pt x="1304" y="969"/>
                </a:lnTo>
                <a:lnTo>
                  <a:pt x="1310" y="956"/>
                </a:lnTo>
                <a:lnTo>
                  <a:pt x="1317" y="969"/>
                </a:lnTo>
                <a:lnTo>
                  <a:pt x="1313" y="998"/>
                </a:lnTo>
                <a:lnTo>
                  <a:pt x="1306" y="1027"/>
                </a:lnTo>
                <a:lnTo>
                  <a:pt x="1299" y="1054"/>
                </a:lnTo>
                <a:lnTo>
                  <a:pt x="1288" y="1083"/>
                </a:lnTo>
                <a:lnTo>
                  <a:pt x="1277" y="1110"/>
                </a:lnTo>
                <a:lnTo>
                  <a:pt x="1266" y="1137"/>
                </a:lnTo>
                <a:lnTo>
                  <a:pt x="1255" y="1164"/>
                </a:lnTo>
                <a:lnTo>
                  <a:pt x="1245" y="1190"/>
                </a:lnTo>
                <a:lnTo>
                  <a:pt x="1312" y="1195"/>
                </a:lnTo>
                <a:lnTo>
                  <a:pt x="1317" y="1179"/>
                </a:lnTo>
                <a:lnTo>
                  <a:pt x="1322" y="1155"/>
                </a:lnTo>
                <a:lnTo>
                  <a:pt x="1328" y="1133"/>
                </a:lnTo>
                <a:lnTo>
                  <a:pt x="1333" y="1117"/>
                </a:lnTo>
                <a:lnTo>
                  <a:pt x="1368" y="1112"/>
                </a:lnTo>
                <a:lnTo>
                  <a:pt x="1402" y="1103"/>
                </a:lnTo>
                <a:lnTo>
                  <a:pt x="1436" y="1094"/>
                </a:lnTo>
                <a:lnTo>
                  <a:pt x="1471" y="1085"/>
                </a:lnTo>
                <a:lnTo>
                  <a:pt x="1505" y="1076"/>
                </a:lnTo>
                <a:lnTo>
                  <a:pt x="1538" y="1066"/>
                </a:lnTo>
                <a:lnTo>
                  <a:pt x="1572" y="1057"/>
                </a:lnTo>
                <a:lnTo>
                  <a:pt x="1606" y="1050"/>
                </a:lnTo>
                <a:lnTo>
                  <a:pt x="1617" y="1065"/>
                </a:lnTo>
                <a:lnTo>
                  <a:pt x="1628" y="1079"/>
                </a:lnTo>
                <a:lnTo>
                  <a:pt x="1635" y="1094"/>
                </a:lnTo>
                <a:lnTo>
                  <a:pt x="1643" y="1110"/>
                </a:lnTo>
                <a:lnTo>
                  <a:pt x="1478" y="1162"/>
                </a:lnTo>
                <a:lnTo>
                  <a:pt x="1491" y="1210"/>
                </a:lnTo>
                <a:lnTo>
                  <a:pt x="1494" y="1208"/>
                </a:lnTo>
                <a:lnTo>
                  <a:pt x="1507" y="1204"/>
                </a:lnTo>
                <a:lnTo>
                  <a:pt x="1523" y="1199"/>
                </a:lnTo>
                <a:lnTo>
                  <a:pt x="1545" y="1191"/>
                </a:lnTo>
                <a:lnTo>
                  <a:pt x="1568" y="1182"/>
                </a:lnTo>
                <a:lnTo>
                  <a:pt x="1592" y="1173"/>
                </a:lnTo>
                <a:lnTo>
                  <a:pt x="1614" y="1164"/>
                </a:lnTo>
                <a:lnTo>
                  <a:pt x="1634" y="1157"/>
                </a:lnTo>
                <a:lnTo>
                  <a:pt x="1626" y="1242"/>
                </a:lnTo>
                <a:lnTo>
                  <a:pt x="1480" y="1291"/>
                </a:lnTo>
                <a:lnTo>
                  <a:pt x="1491" y="13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rot="21430800">
            <a:off x="4536720" y="3174840"/>
            <a:ext cx="638280" cy="184320"/>
          </a:xfrm>
          <a:custGeom>
            <a:avLst/>
            <a:gdLst/>
            <a:ahLst/>
            <a:rect l="l" t="t" r="r" b="b"/>
            <a:pathLst>
              <a:path w="804" h="243">
                <a:moveTo>
                  <a:pt x="804" y="241"/>
                </a:moveTo>
                <a:lnTo>
                  <a:pt x="791" y="243"/>
                </a:lnTo>
                <a:lnTo>
                  <a:pt x="780" y="237"/>
                </a:lnTo>
                <a:lnTo>
                  <a:pt x="770" y="228"/>
                </a:lnTo>
                <a:lnTo>
                  <a:pt x="760" y="221"/>
                </a:lnTo>
                <a:lnTo>
                  <a:pt x="722" y="188"/>
                </a:lnTo>
                <a:lnTo>
                  <a:pt x="683" y="159"/>
                </a:lnTo>
                <a:lnTo>
                  <a:pt x="641" y="136"/>
                </a:lnTo>
                <a:lnTo>
                  <a:pt x="596" y="116"/>
                </a:lnTo>
                <a:lnTo>
                  <a:pt x="551" y="101"/>
                </a:lnTo>
                <a:lnTo>
                  <a:pt x="502" y="89"/>
                </a:lnTo>
                <a:lnTo>
                  <a:pt x="453" y="80"/>
                </a:lnTo>
                <a:lnTo>
                  <a:pt x="402" y="76"/>
                </a:lnTo>
                <a:lnTo>
                  <a:pt x="353" y="74"/>
                </a:lnTo>
                <a:lnTo>
                  <a:pt x="303" y="74"/>
                </a:lnTo>
                <a:lnTo>
                  <a:pt x="252" y="80"/>
                </a:lnTo>
                <a:lnTo>
                  <a:pt x="203" y="87"/>
                </a:lnTo>
                <a:lnTo>
                  <a:pt x="154" y="96"/>
                </a:lnTo>
                <a:lnTo>
                  <a:pt x="107" y="107"/>
                </a:lnTo>
                <a:lnTo>
                  <a:pt x="60" y="121"/>
                </a:lnTo>
                <a:lnTo>
                  <a:pt x="17" y="138"/>
                </a:lnTo>
                <a:lnTo>
                  <a:pt x="9" y="130"/>
                </a:lnTo>
                <a:lnTo>
                  <a:pt x="4" y="123"/>
                </a:lnTo>
                <a:lnTo>
                  <a:pt x="0" y="112"/>
                </a:lnTo>
                <a:lnTo>
                  <a:pt x="0" y="100"/>
                </a:lnTo>
                <a:lnTo>
                  <a:pt x="24" y="82"/>
                </a:lnTo>
                <a:lnTo>
                  <a:pt x="49" y="65"/>
                </a:lnTo>
                <a:lnTo>
                  <a:pt x="75" y="51"/>
                </a:lnTo>
                <a:lnTo>
                  <a:pt x="102" y="38"/>
                </a:lnTo>
                <a:lnTo>
                  <a:pt x="129" y="27"/>
                </a:lnTo>
                <a:lnTo>
                  <a:pt x="158" y="18"/>
                </a:lnTo>
                <a:lnTo>
                  <a:pt x="187" y="13"/>
                </a:lnTo>
                <a:lnTo>
                  <a:pt x="216" y="7"/>
                </a:lnTo>
                <a:lnTo>
                  <a:pt x="247" y="4"/>
                </a:lnTo>
                <a:lnTo>
                  <a:pt x="275" y="2"/>
                </a:lnTo>
                <a:lnTo>
                  <a:pt x="306" y="0"/>
                </a:lnTo>
                <a:lnTo>
                  <a:pt x="337" y="2"/>
                </a:lnTo>
                <a:lnTo>
                  <a:pt x="368" y="4"/>
                </a:lnTo>
                <a:lnTo>
                  <a:pt x="399" y="7"/>
                </a:lnTo>
                <a:lnTo>
                  <a:pt x="429" y="11"/>
                </a:lnTo>
                <a:lnTo>
                  <a:pt x="458" y="16"/>
                </a:lnTo>
                <a:lnTo>
                  <a:pt x="484" y="22"/>
                </a:lnTo>
                <a:lnTo>
                  <a:pt x="509" y="27"/>
                </a:lnTo>
                <a:lnTo>
                  <a:pt x="534" y="34"/>
                </a:lnTo>
                <a:lnTo>
                  <a:pt x="560" y="44"/>
                </a:lnTo>
                <a:lnTo>
                  <a:pt x="585" y="53"/>
                </a:lnTo>
                <a:lnTo>
                  <a:pt x="608" y="63"/>
                </a:lnTo>
                <a:lnTo>
                  <a:pt x="634" y="76"/>
                </a:lnTo>
                <a:lnTo>
                  <a:pt x="656" y="91"/>
                </a:lnTo>
                <a:lnTo>
                  <a:pt x="679" y="105"/>
                </a:lnTo>
                <a:lnTo>
                  <a:pt x="701" y="120"/>
                </a:lnTo>
                <a:lnTo>
                  <a:pt x="721" y="138"/>
                </a:lnTo>
                <a:lnTo>
                  <a:pt x="741" y="156"/>
                </a:lnTo>
                <a:lnTo>
                  <a:pt x="759" y="176"/>
                </a:lnTo>
                <a:lnTo>
                  <a:pt x="775" y="196"/>
                </a:lnTo>
                <a:lnTo>
                  <a:pt x="789" y="217"/>
                </a:lnTo>
                <a:lnTo>
                  <a:pt x="804" y="2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98800" y="3279600"/>
            <a:ext cx="1239840" cy="1194120"/>
          </a:xfrm>
          <a:custGeom>
            <a:avLst/>
            <a:gdLst/>
            <a:ahLst/>
            <a:rect l="l" t="t" r="r" b="b"/>
            <a:pathLst>
              <a:path w="1561" h="1570">
                <a:moveTo>
                  <a:pt x="1469" y="1282"/>
                </a:moveTo>
                <a:lnTo>
                  <a:pt x="1514" y="76"/>
                </a:lnTo>
                <a:lnTo>
                  <a:pt x="285" y="60"/>
                </a:lnTo>
                <a:lnTo>
                  <a:pt x="318" y="1374"/>
                </a:lnTo>
                <a:lnTo>
                  <a:pt x="311" y="1382"/>
                </a:lnTo>
                <a:lnTo>
                  <a:pt x="296" y="1387"/>
                </a:lnTo>
                <a:lnTo>
                  <a:pt x="282" y="1389"/>
                </a:lnTo>
                <a:lnTo>
                  <a:pt x="275" y="1385"/>
                </a:lnTo>
                <a:lnTo>
                  <a:pt x="217" y="96"/>
                </a:lnTo>
                <a:lnTo>
                  <a:pt x="36" y="261"/>
                </a:lnTo>
                <a:lnTo>
                  <a:pt x="41" y="455"/>
                </a:lnTo>
                <a:lnTo>
                  <a:pt x="56" y="882"/>
                </a:lnTo>
                <a:lnTo>
                  <a:pt x="72" y="1313"/>
                </a:lnTo>
                <a:lnTo>
                  <a:pt x="81" y="1514"/>
                </a:lnTo>
                <a:lnTo>
                  <a:pt x="106" y="1503"/>
                </a:lnTo>
                <a:lnTo>
                  <a:pt x="135" y="1490"/>
                </a:lnTo>
                <a:lnTo>
                  <a:pt x="168" y="1478"/>
                </a:lnTo>
                <a:lnTo>
                  <a:pt x="199" y="1465"/>
                </a:lnTo>
                <a:lnTo>
                  <a:pt x="226" y="1454"/>
                </a:lnTo>
                <a:lnTo>
                  <a:pt x="249" y="1445"/>
                </a:lnTo>
                <a:lnTo>
                  <a:pt x="264" y="1440"/>
                </a:lnTo>
                <a:lnTo>
                  <a:pt x="271" y="1440"/>
                </a:lnTo>
                <a:lnTo>
                  <a:pt x="246" y="1458"/>
                </a:lnTo>
                <a:lnTo>
                  <a:pt x="220" y="1476"/>
                </a:lnTo>
                <a:lnTo>
                  <a:pt x="191" y="1490"/>
                </a:lnTo>
                <a:lnTo>
                  <a:pt x="161" y="1507"/>
                </a:lnTo>
                <a:lnTo>
                  <a:pt x="132" y="1523"/>
                </a:lnTo>
                <a:lnTo>
                  <a:pt x="103" y="1537"/>
                </a:lnTo>
                <a:lnTo>
                  <a:pt x="74" y="1554"/>
                </a:lnTo>
                <a:lnTo>
                  <a:pt x="48" y="1570"/>
                </a:lnTo>
                <a:lnTo>
                  <a:pt x="39" y="1514"/>
                </a:lnTo>
                <a:lnTo>
                  <a:pt x="29" y="1369"/>
                </a:lnTo>
                <a:lnTo>
                  <a:pt x="19" y="1164"/>
                </a:lnTo>
                <a:lnTo>
                  <a:pt x="12" y="927"/>
                </a:lnTo>
                <a:lnTo>
                  <a:pt x="5" y="688"/>
                </a:lnTo>
                <a:lnTo>
                  <a:pt x="0" y="471"/>
                </a:lnTo>
                <a:lnTo>
                  <a:pt x="0" y="308"/>
                </a:lnTo>
                <a:lnTo>
                  <a:pt x="1" y="227"/>
                </a:lnTo>
                <a:lnTo>
                  <a:pt x="231" y="0"/>
                </a:lnTo>
                <a:lnTo>
                  <a:pt x="1561" y="35"/>
                </a:lnTo>
                <a:lnTo>
                  <a:pt x="1559" y="89"/>
                </a:lnTo>
                <a:lnTo>
                  <a:pt x="1552" y="234"/>
                </a:lnTo>
                <a:lnTo>
                  <a:pt x="1545" y="438"/>
                </a:lnTo>
                <a:lnTo>
                  <a:pt x="1534" y="672"/>
                </a:lnTo>
                <a:lnTo>
                  <a:pt x="1523" y="905"/>
                </a:lnTo>
                <a:lnTo>
                  <a:pt x="1514" y="1110"/>
                </a:lnTo>
                <a:lnTo>
                  <a:pt x="1507" y="1253"/>
                </a:lnTo>
                <a:lnTo>
                  <a:pt x="1503" y="1306"/>
                </a:lnTo>
                <a:lnTo>
                  <a:pt x="1469" y="128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332240" y="3289320"/>
            <a:ext cx="843120" cy="995400"/>
          </a:xfrm>
          <a:custGeom>
            <a:avLst/>
            <a:gdLst/>
            <a:ahLst/>
            <a:rect l="l" t="t" r="r" b="b"/>
            <a:pathLst>
              <a:path w="1062" h="1305">
                <a:moveTo>
                  <a:pt x="966" y="1305"/>
                </a:moveTo>
                <a:lnTo>
                  <a:pt x="955" y="1300"/>
                </a:lnTo>
                <a:lnTo>
                  <a:pt x="946" y="1294"/>
                </a:lnTo>
                <a:lnTo>
                  <a:pt x="939" y="1285"/>
                </a:lnTo>
                <a:lnTo>
                  <a:pt x="932" y="1274"/>
                </a:lnTo>
                <a:lnTo>
                  <a:pt x="925" y="1264"/>
                </a:lnTo>
                <a:lnTo>
                  <a:pt x="919" y="1253"/>
                </a:lnTo>
                <a:lnTo>
                  <a:pt x="912" y="1242"/>
                </a:lnTo>
                <a:lnTo>
                  <a:pt x="906" y="1231"/>
                </a:lnTo>
                <a:lnTo>
                  <a:pt x="888" y="1197"/>
                </a:lnTo>
                <a:lnTo>
                  <a:pt x="872" y="1160"/>
                </a:lnTo>
                <a:lnTo>
                  <a:pt x="858" y="1124"/>
                </a:lnTo>
                <a:lnTo>
                  <a:pt x="847" y="1086"/>
                </a:lnTo>
                <a:lnTo>
                  <a:pt x="838" y="1046"/>
                </a:lnTo>
                <a:lnTo>
                  <a:pt x="829" y="1007"/>
                </a:lnTo>
                <a:lnTo>
                  <a:pt x="821" y="967"/>
                </a:lnTo>
                <a:lnTo>
                  <a:pt x="814" y="927"/>
                </a:lnTo>
                <a:lnTo>
                  <a:pt x="794" y="911"/>
                </a:lnTo>
                <a:lnTo>
                  <a:pt x="773" y="896"/>
                </a:lnTo>
                <a:lnTo>
                  <a:pt x="753" y="880"/>
                </a:lnTo>
                <a:lnTo>
                  <a:pt x="733" y="862"/>
                </a:lnTo>
                <a:lnTo>
                  <a:pt x="713" y="845"/>
                </a:lnTo>
                <a:lnTo>
                  <a:pt x="693" y="827"/>
                </a:lnTo>
                <a:lnTo>
                  <a:pt x="677" y="807"/>
                </a:lnTo>
                <a:lnTo>
                  <a:pt x="662" y="787"/>
                </a:lnTo>
                <a:lnTo>
                  <a:pt x="644" y="787"/>
                </a:lnTo>
                <a:lnTo>
                  <a:pt x="622" y="782"/>
                </a:lnTo>
                <a:lnTo>
                  <a:pt x="602" y="773"/>
                </a:lnTo>
                <a:lnTo>
                  <a:pt x="583" y="762"/>
                </a:lnTo>
                <a:lnTo>
                  <a:pt x="566" y="749"/>
                </a:lnTo>
                <a:lnTo>
                  <a:pt x="552" y="739"/>
                </a:lnTo>
                <a:lnTo>
                  <a:pt x="543" y="730"/>
                </a:lnTo>
                <a:lnTo>
                  <a:pt x="539" y="726"/>
                </a:lnTo>
                <a:lnTo>
                  <a:pt x="548" y="724"/>
                </a:lnTo>
                <a:lnTo>
                  <a:pt x="557" y="726"/>
                </a:lnTo>
                <a:lnTo>
                  <a:pt x="564" y="728"/>
                </a:lnTo>
                <a:lnTo>
                  <a:pt x="573" y="728"/>
                </a:lnTo>
                <a:lnTo>
                  <a:pt x="583" y="730"/>
                </a:lnTo>
                <a:lnTo>
                  <a:pt x="593" y="731"/>
                </a:lnTo>
                <a:lnTo>
                  <a:pt x="602" y="730"/>
                </a:lnTo>
                <a:lnTo>
                  <a:pt x="613" y="726"/>
                </a:lnTo>
                <a:lnTo>
                  <a:pt x="639" y="704"/>
                </a:lnTo>
                <a:lnTo>
                  <a:pt x="653" y="681"/>
                </a:lnTo>
                <a:lnTo>
                  <a:pt x="659" y="653"/>
                </a:lnTo>
                <a:lnTo>
                  <a:pt x="666" y="626"/>
                </a:lnTo>
                <a:lnTo>
                  <a:pt x="662" y="608"/>
                </a:lnTo>
                <a:lnTo>
                  <a:pt x="660" y="590"/>
                </a:lnTo>
                <a:lnTo>
                  <a:pt x="655" y="572"/>
                </a:lnTo>
                <a:lnTo>
                  <a:pt x="651" y="554"/>
                </a:lnTo>
                <a:lnTo>
                  <a:pt x="644" y="538"/>
                </a:lnTo>
                <a:lnTo>
                  <a:pt x="635" y="525"/>
                </a:lnTo>
                <a:lnTo>
                  <a:pt x="624" y="512"/>
                </a:lnTo>
                <a:lnTo>
                  <a:pt x="610" y="503"/>
                </a:lnTo>
                <a:lnTo>
                  <a:pt x="583" y="496"/>
                </a:lnTo>
                <a:lnTo>
                  <a:pt x="555" y="491"/>
                </a:lnTo>
                <a:lnTo>
                  <a:pt x="528" y="485"/>
                </a:lnTo>
                <a:lnTo>
                  <a:pt x="501" y="481"/>
                </a:lnTo>
                <a:lnTo>
                  <a:pt x="474" y="476"/>
                </a:lnTo>
                <a:lnTo>
                  <a:pt x="447" y="471"/>
                </a:lnTo>
                <a:lnTo>
                  <a:pt x="421" y="465"/>
                </a:lnTo>
                <a:lnTo>
                  <a:pt x="394" y="460"/>
                </a:lnTo>
                <a:lnTo>
                  <a:pt x="367" y="453"/>
                </a:lnTo>
                <a:lnTo>
                  <a:pt x="342" y="445"/>
                </a:lnTo>
                <a:lnTo>
                  <a:pt x="317" y="438"/>
                </a:lnTo>
                <a:lnTo>
                  <a:pt x="291" y="427"/>
                </a:lnTo>
                <a:lnTo>
                  <a:pt x="266" y="416"/>
                </a:lnTo>
                <a:lnTo>
                  <a:pt x="242" y="404"/>
                </a:lnTo>
                <a:lnTo>
                  <a:pt x="219" y="389"/>
                </a:lnTo>
                <a:lnTo>
                  <a:pt x="197" y="373"/>
                </a:lnTo>
                <a:lnTo>
                  <a:pt x="181" y="434"/>
                </a:lnTo>
                <a:lnTo>
                  <a:pt x="168" y="498"/>
                </a:lnTo>
                <a:lnTo>
                  <a:pt x="157" y="565"/>
                </a:lnTo>
                <a:lnTo>
                  <a:pt x="154" y="630"/>
                </a:lnTo>
                <a:lnTo>
                  <a:pt x="154" y="699"/>
                </a:lnTo>
                <a:lnTo>
                  <a:pt x="161" y="766"/>
                </a:lnTo>
                <a:lnTo>
                  <a:pt x="174" y="833"/>
                </a:lnTo>
                <a:lnTo>
                  <a:pt x="192" y="900"/>
                </a:lnTo>
                <a:lnTo>
                  <a:pt x="210" y="930"/>
                </a:lnTo>
                <a:lnTo>
                  <a:pt x="228" y="965"/>
                </a:lnTo>
                <a:lnTo>
                  <a:pt x="250" y="997"/>
                </a:lnTo>
                <a:lnTo>
                  <a:pt x="271" y="1028"/>
                </a:lnTo>
                <a:lnTo>
                  <a:pt x="297" y="1057"/>
                </a:lnTo>
                <a:lnTo>
                  <a:pt x="326" y="1083"/>
                </a:lnTo>
                <a:lnTo>
                  <a:pt x="356" y="1102"/>
                </a:lnTo>
                <a:lnTo>
                  <a:pt x="393" y="1117"/>
                </a:lnTo>
                <a:lnTo>
                  <a:pt x="402" y="1117"/>
                </a:lnTo>
                <a:lnTo>
                  <a:pt x="412" y="1113"/>
                </a:lnTo>
                <a:lnTo>
                  <a:pt x="423" y="1110"/>
                </a:lnTo>
                <a:lnTo>
                  <a:pt x="432" y="1106"/>
                </a:lnTo>
                <a:lnTo>
                  <a:pt x="441" y="1102"/>
                </a:lnTo>
                <a:lnTo>
                  <a:pt x="450" y="1101"/>
                </a:lnTo>
                <a:lnTo>
                  <a:pt x="456" y="1104"/>
                </a:lnTo>
                <a:lnTo>
                  <a:pt x="461" y="1112"/>
                </a:lnTo>
                <a:lnTo>
                  <a:pt x="450" y="1119"/>
                </a:lnTo>
                <a:lnTo>
                  <a:pt x="440" y="1124"/>
                </a:lnTo>
                <a:lnTo>
                  <a:pt x="429" y="1130"/>
                </a:lnTo>
                <a:lnTo>
                  <a:pt x="418" y="1133"/>
                </a:lnTo>
                <a:lnTo>
                  <a:pt x="407" y="1135"/>
                </a:lnTo>
                <a:lnTo>
                  <a:pt x="394" y="1137"/>
                </a:lnTo>
                <a:lnTo>
                  <a:pt x="382" y="1135"/>
                </a:lnTo>
                <a:lnTo>
                  <a:pt x="369" y="1131"/>
                </a:lnTo>
                <a:lnTo>
                  <a:pt x="333" y="1115"/>
                </a:lnTo>
                <a:lnTo>
                  <a:pt x="300" y="1097"/>
                </a:lnTo>
                <a:lnTo>
                  <a:pt x="269" y="1077"/>
                </a:lnTo>
                <a:lnTo>
                  <a:pt x="241" y="1054"/>
                </a:lnTo>
                <a:lnTo>
                  <a:pt x="215" y="1028"/>
                </a:lnTo>
                <a:lnTo>
                  <a:pt x="192" y="1001"/>
                </a:lnTo>
                <a:lnTo>
                  <a:pt x="170" y="970"/>
                </a:lnTo>
                <a:lnTo>
                  <a:pt x="152" y="940"/>
                </a:lnTo>
                <a:lnTo>
                  <a:pt x="136" y="907"/>
                </a:lnTo>
                <a:lnTo>
                  <a:pt x="121" y="873"/>
                </a:lnTo>
                <a:lnTo>
                  <a:pt x="108" y="836"/>
                </a:lnTo>
                <a:lnTo>
                  <a:pt x="99" y="800"/>
                </a:lnTo>
                <a:lnTo>
                  <a:pt x="92" y="762"/>
                </a:lnTo>
                <a:lnTo>
                  <a:pt x="87" y="724"/>
                </a:lnTo>
                <a:lnTo>
                  <a:pt x="83" y="686"/>
                </a:lnTo>
                <a:lnTo>
                  <a:pt x="83" y="646"/>
                </a:lnTo>
                <a:lnTo>
                  <a:pt x="83" y="518"/>
                </a:lnTo>
                <a:lnTo>
                  <a:pt x="70" y="518"/>
                </a:lnTo>
                <a:lnTo>
                  <a:pt x="60" y="518"/>
                </a:lnTo>
                <a:lnTo>
                  <a:pt x="47" y="518"/>
                </a:lnTo>
                <a:lnTo>
                  <a:pt x="34" y="516"/>
                </a:lnTo>
                <a:lnTo>
                  <a:pt x="23" y="512"/>
                </a:lnTo>
                <a:lnTo>
                  <a:pt x="14" y="507"/>
                </a:lnTo>
                <a:lnTo>
                  <a:pt x="5" y="501"/>
                </a:lnTo>
                <a:lnTo>
                  <a:pt x="0" y="492"/>
                </a:lnTo>
                <a:lnTo>
                  <a:pt x="89" y="462"/>
                </a:lnTo>
                <a:lnTo>
                  <a:pt x="96" y="422"/>
                </a:lnTo>
                <a:lnTo>
                  <a:pt x="103" y="380"/>
                </a:lnTo>
                <a:lnTo>
                  <a:pt x="114" y="340"/>
                </a:lnTo>
                <a:lnTo>
                  <a:pt x="137" y="308"/>
                </a:lnTo>
                <a:lnTo>
                  <a:pt x="123" y="290"/>
                </a:lnTo>
                <a:lnTo>
                  <a:pt x="112" y="268"/>
                </a:lnTo>
                <a:lnTo>
                  <a:pt x="101" y="244"/>
                </a:lnTo>
                <a:lnTo>
                  <a:pt x="94" y="221"/>
                </a:lnTo>
                <a:lnTo>
                  <a:pt x="89" y="197"/>
                </a:lnTo>
                <a:lnTo>
                  <a:pt x="89" y="172"/>
                </a:lnTo>
                <a:lnTo>
                  <a:pt x="90" y="147"/>
                </a:lnTo>
                <a:lnTo>
                  <a:pt x="99" y="121"/>
                </a:lnTo>
                <a:lnTo>
                  <a:pt x="110" y="101"/>
                </a:lnTo>
                <a:lnTo>
                  <a:pt x="121" y="83"/>
                </a:lnTo>
                <a:lnTo>
                  <a:pt x="134" y="65"/>
                </a:lnTo>
                <a:lnTo>
                  <a:pt x="148" y="49"/>
                </a:lnTo>
                <a:lnTo>
                  <a:pt x="163" y="34"/>
                </a:lnTo>
                <a:lnTo>
                  <a:pt x="181" y="22"/>
                </a:lnTo>
                <a:lnTo>
                  <a:pt x="197" y="11"/>
                </a:lnTo>
                <a:lnTo>
                  <a:pt x="217" y="0"/>
                </a:lnTo>
                <a:lnTo>
                  <a:pt x="226" y="13"/>
                </a:lnTo>
                <a:lnTo>
                  <a:pt x="228" y="23"/>
                </a:lnTo>
                <a:lnTo>
                  <a:pt x="222" y="34"/>
                </a:lnTo>
                <a:lnTo>
                  <a:pt x="212" y="43"/>
                </a:lnTo>
                <a:lnTo>
                  <a:pt x="199" y="52"/>
                </a:lnTo>
                <a:lnTo>
                  <a:pt x="188" y="63"/>
                </a:lnTo>
                <a:lnTo>
                  <a:pt x="177" y="74"/>
                </a:lnTo>
                <a:lnTo>
                  <a:pt x="172" y="87"/>
                </a:lnTo>
                <a:lnTo>
                  <a:pt x="161" y="130"/>
                </a:lnTo>
                <a:lnTo>
                  <a:pt x="163" y="177"/>
                </a:lnTo>
                <a:lnTo>
                  <a:pt x="174" y="221"/>
                </a:lnTo>
                <a:lnTo>
                  <a:pt x="192" y="261"/>
                </a:lnTo>
                <a:lnTo>
                  <a:pt x="217" y="290"/>
                </a:lnTo>
                <a:lnTo>
                  <a:pt x="242" y="315"/>
                </a:lnTo>
                <a:lnTo>
                  <a:pt x="271" y="337"/>
                </a:lnTo>
                <a:lnTo>
                  <a:pt x="302" y="355"/>
                </a:lnTo>
                <a:lnTo>
                  <a:pt x="333" y="369"/>
                </a:lnTo>
                <a:lnTo>
                  <a:pt x="365" y="380"/>
                </a:lnTo>
                <a:lnTo>
                  <a:pt x="400" y="391"/>
                </a:lnTo>
                <a:lnTo>
                  <a:pt x="434" y="400"/>
                </a:lnTo>
                <a:lnTo>
                  <a:pt x="469" y="407"/>
                </a:lnTo>
                <a:lnTo>
                  <a:pt x="503" y="416"/>
                </a:lnTo>
                <a:lnTo>
                  <a:pt x="537" y="425"/>
                </a:lnTo>
                <a:lnTo>
                  <a:pt x="572" y="434"/>
                </a:lnTo>
                <a:lnTo>
                  <a:pt x="604" y="445"/>
                </a:lnTo>
                <a:lnTo>
                  <a:pt x="637" y="460"/>
                </a:lnTo>
                <a:lnTo>
                  <a:pt x="668" y="474"/>
                </a:lnTo>
                <a:lnTo>
                  <a:pt x="698" y="494"/>
                </a:lnTo>
                <a:lnTo>
                  <a:pt x="722" y="498"/>
                </a:lnTo>
                <a:lnTo>
                  <a:pt x="745" y="505"/>
                </a:lnTo>
                <a:lnTo>
                  <a:pt x="767" y="516"/>
                </a:lnTo>
                <a:lnTo>
                  <a:pt x="787" y="529"/>
                </a:lnTo>
                <a:lnTo>
                  <a:pt x="805" y="545"/>
                </a:lnTo>
                <a:lnTo>
                  <a:pt x="821" y="563"/>
                </a:lnTo>
                <a:lnTo>
                  <a:pt x="834" y="581"/>
                </a:lnTo>
                <a:lnTo>
                  <a:pt x="847" y="603"/>
                </a:lnTo>
                <a:lnTo>
                  <a:pt x="850" y="623"/>
                </a:lnTo>
                <a:lnTo>
                  <a:pt x="849" y="644"/>
                </a:lnTo>
                <a:lnTo>
                  <a:pt x="840" y="661"/>
                </a:lnTo>
                <a:lnTo>
                  <a:pt x="823" y="675"/>
                </a:lnTo>
                <a:lnTo>
                  <a:pt x="812" y="675"/>
                </a:lnTo>
                <a:lnTo>
                  <a:pt x="802" y="670"/>
                </a:lnTo>
                <a:lnTo>
                  <a:pt x="789" y="663"/>
                </a:lnTo>
                <a:lnTo>
                  <a:pt x="778" y="655"/>
                </a:lnTo>
                <a:lnTo>
                  <a:pt x="767" y="646"/>
                </a:lnTo>
                <a:lnTo>
                  <a:pt x="758" y="637"/>
                </a:lnTo>
                <a:lnTo>
                  <a:pt x="753" y="632"/>
                </a:lnTo>
                <a:lnTo>
                  <a:pt x="751" y="630"/>
                </a:lnTo>
                <a:lnTo>
                  <a:pt x="762" y="635"/>
                </a:lnTo>
                <a:lnTo>
                  <a:pt x="773" y="643"/>
                </a:lnTo>
                <a:lnTo>
                  <a:pt x="782" y="648"/>
                </a:lnTo>
                <a:lnTo>
                  <a:pt x="794" y="650"/>
                </a:lnTo>
                <a:lnTo>
                  <a:pt x="803" y="643"/>
                </a:lnTo>
                <a:lnTo>
                  <a:pt x="809" y="632"/>
                </a:lnTo>
                <a:lnTo>
                  <a:pt x="811" y="623"/>
                </a:lnTo>
                <a:lnTo>
                  <a:pt x="811" y="610"/>
                </a:lnTo>
                <a:lnTo>
                  <a:pt x="798" y="601"/>
                </a:lnTo>
                <a:lnTo>
                  <a:pt x="787" y="588"/>
                </a:lnTo>
                <a:lnTo>
                  <a:pt x="774" y="577"/>
                </a:lnTo>
                <a:lnTo>
                  <a:pt x="760" y="567"/>
                </a:lnTo>
                <a:lnTo>
                  <a:pt x="747" y="556"/>
                </a:lnTo>
                <a:lnTo>
                  <a:pt x="733" y="548"/>
                </a:lnTo>
                <a:lnTo>
                  <a:pt x="716" y="543"/>
                </a:lnTo>
                <a:lnTo>
                  <a:pt x="702" y="543"/>
                </a:lnTo>
                <a:lnTo>
                  <a:pt x="713" y="577"/>
                </a:lnTo>
                <a:lnTo>
                  <a:pt x="718" y="615"/>
                </a:lnTo>
                <a:lnTo>
                  <a:pt x="720" y="653"/>
                </a:lnTo>
                <a:lnTo>
                  <a:pt x="724" y="692"/>
                </a:lnTo>
                <a:lnTo>
                  <a:pt x="727" y="730"/>
                </a:lnTo>
                <a:lnTo>
                  <a:pt x="736" y="766"/>
                </a:lnTo>
                <a:lnTo>
                  <a:pt x="754" y="800"/>
                </a:lnTo>
                <a:lnTo>
                  <a:pt x="780" y="831"/>
                </a:lnTo>
                <a:lnTo>
                  <a:pt x="802" y="854"/>
                </a:lnTo>
                <a:lnTo>
                  <a:pt x="823" y="880"/>
                </a:lnTo>
                <a:lnTo>
                  <a:pt x="847" y="903"/>
                </a:lnTo>
                <a:lnTo>
                  <a:pt x="874" y="925"/>
                </a:lnTo>
                <a:lnTo>
                  <a:pt x="901" y="943"/>
                </a:lnTo>
                <a:lnTo>
                  <a:pt x="930" y="956"/>
                </a:lnTo>
                <a:lnTo>
                  <a:pt x="961" y="961"/>
                </a:lnTo>
                <a:lnTo>
                  <a:pt x="995" y="959"/>
                </a:lnTo>
                <a:lnTo>
                  <a:pt x="1001" y="954"/>
                </a:lnTo>
                <a:lnTo>
                  <a:pt x="1008" y="949"/>
                </a:lnTo>
                <a:lnTo>
                  <a:pt x="1015" y="945"/>
                </a:lnTo>
                <a:lnTo>
                  <a:pt x="1020" y="940"/>
                </a:lnTo>
                <a:lnTo>
                  <a:pt x="1013" y="932"/>
                </a:lnTo>
                <a:lnTo>
                  <a:pt x="1004" y="929"/>
                </a:lnTo>
                <a:lnTo>
                  <a:pt x="997" y="925"/>
                </a:lnTo>
                <a:lnTo>
                  <a:pt x="995" y="916"/>
                </a:lnTo>
                <a:lnTo>
                  <a:pt x="1006" y="909"/>
                </a:lnTo>
                <a:lnTo>
                  <a:pt x="1017" y="905"/>
                </a:lnTo>
                <a:lnTo>
                  <a:pt x="1031" y="903"/>
                </a:lnTo>
                <a:lnTo>
                  <a:pt x="1044" y="907"/>
                </a:lnTo>
                <a:lnTo>
                  <a:pt x="1055" y="918"/>
                </a:lnTo>
                <a:lnTo>
                  <a:pt x="1060" y="930"/>
                </a:lnTo>
                <a:lnTo>
                  <a:pt x="1062" y="943"/>
                </a:lnTo>
                <a:lnTo>
                  <a:pt x="1060" y="956"/>
                </a:lnTo>
                <a:lnTo>
                  <a:pt x="1058" y="972"/>
                </a:lnTo>
                <a:lnTo>
                  <a:pt x="1049" y="987"/>
                </a:lnTo>
                <a:lnTo>
                  <a:pt x="1033" y="999"/>
                </a:lnTo>
                <a:lnTo>
                  <a:pt x="1013" y="1010"/>
                </a:lnTo>
                <a:lnTo>
                  <a:pt x="990" y="1012"/>
                </a:lnTo>
                <a:lnTo>
                  <a:pt x="968" y="1010"/>
                </a:lnTo>
                <a:lnTo>
                  <a:pt x="946" y="1007"/>
                </a:lnTo>
                <a:lnTo>
                  <a:pt x="926" y="1001"/>
                </a:lnTo>
                <a:lnTo>
                  <a:pt x="906" y="992"/>
                </a:lnTo>
                <a:lnTo>
                  <a:pt x="888" y="985"/>
                </a:lnTo>
                <a:lnTo>
                  <a:pt x="874" y="974"/>
                </a:lnTo>
                <a:lnTo>
                  <a:pt x="859" y="965"/>
                </a:lnTo>
                <a:lnTo>
                  <a:pt x="870" y="999"/>
                </a:lnTo>
                <a:lnTo>
                  <a:pt x="883" y="1034"/>
                </a:lnTo>
                <a:lnTo>
                  <a:pt x="897" y="1066"/>
                </a:lnTo>
                <a:lnTo>
                  <a:pt x="914" y="1101"/>
                </a:lnTo>
                <a:lnTo>
                  <a:pt x="932" y="1133"/>
                </a:lnTo>
                <a:lnTo>
                  <a:pt x="950" y="1168"/>
                </a:lnTo>
                <a:lnTo>
                  <a:pt x="970" y="1200"/>
                </a:lnTo>
                <a:lnTo>
                  <a:pt x="992" y="1231"/>
                </a:lnTo>
                <a:lnTo>
                  <a:pt x="966" y="130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214960" y="3355920"/>
            <a:ext cx="325440" cy="598680"/>
          </a:xfrm>
          <a:custGeom>
            <a:avLst/>
            <a:gdLst/>
            <a:ahLst/>
            <a:rect l="l" t="t" r="r" b="b"/>
            <a:pathLst>
              <a:path w="409" h="788">
                <a:moveTo>
                  <a:pt x="363" y="174"/>
                </a:moveTo>
                <a:lnTo>
                  <a:pt x="389" y="241"/>
                </a:lnTo>
                <a:lnTo>
                  <a:pt x="403" y="312"/>
                </a:lnTo>
                <a:lnTo>
                  <a:pt x="409" y="386"/>
                </a:lnTo>
                <a:lnTo>
                  <a:pt x="405" y="460"/>
                </a:lnTo>
                <a:lnTo>
                  <a:pt x="391" y="532"/>
                </a:lnTo>
                <a:lnTo>
                  <a:pt x="367" y="603"/>
                </a:lnTo>
                <a:lnTo>
                  <a:pt x="335" y="666"/>
                </a:lnTo>
                <a:lnTo>
                  <a:pt x="291" y="724"/>
                </a:lnTo>
                <a:lnTo>
                  <a:pt x="275" y="739"/>
                </a:lnTo>
                <a:lnTo>
                  <a:pt x="251" y="752"/>
                </a:lnTo>
                <a:lnTo>
                  <a:pt x="226" y="764"/>
                </a:lnTo>
                <a:lnTo>
                  <a:pt x="199" y="775"/>
                </a:lnTo>
                <a:lnTo>
                  <a:pt x="173" y="782"/>
                </a:lnTo>
                <a:lnTo>
                  <a:pt x="152" y="788"/>
                </a:lnTo>
                <a:lnTo>
                  <a:pt x="135" y="788"/>
                </a:lnTo>
                <a:lnTo>
                  <a:pt x="128" y="784"/>
                </a:lnTo>
                <a:lnTo>
                  <a:pt x="135" y="775"/>
                </a:lnTo>
                <a:lnTo>
                  <a:pt x="150" y="762"/>
                </a:lnTo>
                <a:lnTo>
                  <a:pt x="170" y="746"/>
                </a:lnTo>
                <a:lnTo>
                  <a:pt x="193" y="730"/>
                </a:lnTo>
                <a:lnTo>
                  <a:pt x="219" y="712"/>
                </a:lnTo>
                <a:lnTo>
                  <a:pt x="242" y="694"/>
                </a:lnTo>
                <a:lnTo>
                  <a:pt x="262" y="675"/>
                </a:lnTo>
                <a:lnTo>
                  <a:pt x="275" y="661"/>
                </a:lnTo>
                <a:lnTo>
                  <a:pt x="295" y="610"/>
                </a:lnTo>
                <a:lnTo>
                  <a:pt x="311" y="558"/>
                </a:lnTo>
                <a:lnTo>
                  <a:pt x="322" y="502"/>
                </a:lnTo>
                <a:lnTo>
                  <a:pt x="329" y="446"/>
                </a:lnTo>
                <a:lnTo>
                  <a:pt x="333" y="388"/>
                </a:lnTo>
                <a:lnTo>
                  <a:pt x="329" y="330"/>
                </a:lnTo>
                <a:lnTo>
                  <a:pt x="324" y="274"/>
                </a:lnTo>
                <a:lnTo>
                  <a:pt x="311" y="219"/>
                </a:lnTo>
                <a:lnTo>
                  <a:pt x="307" y="205"/>
                </a:lnTo>
                <a:lnTo>
                  <a:pt x="304" y="188"/>
                </a:lnTo>
                <a:lnTo>
                  <a:pt x="298" y="174"/>
                </a:lnTo>
                <a:lnTo>
                  <a:pt x="291" y="161"/>
                </a:lnTo>
                <a:lnTo>
                  <a:pt x="284" y="147"/>
                </a:lnTo>
                <a:lnTo>
                  <a:pt x="275" y="134"/>
                </a:lnTo>
                <a:lnTo>
                  <a:pt x="266" y="123"/>
                </a:lnTo>
                <a:lnTo>
                  <a:pt x="255" y="111"/>
                </a:lnTo>
                <a:lnTo>
                  <a:pt x="219" y="83"/>
                </a:lnTo>
                <a:lnTo>
                  <a:pt x="179" y="64"/>
                </a:lnTo>
                <a:lnTo>
                  <a:pt x="135" y="51"/>
                </a:lnTo>
                <a:lnTo>
                  <a:pt x="96" y="42"/>
                </a:lnTo>
                <a:lnTo>
                  <a:pt x="58" y="38"/>
                </a:lnTo>
                <a:lnTo>
                  <a:pt x="27" y="38"/>
                </a:lnTo>
                <a:lnTo>
                  <a:pt x="7" y="38"/>
                </a:lnTo>
                <a:lnTo>
                  <a:pt x="0" y="38"/>
                </a:lnTo>
                <a:lnTo>
                  <a:pt x="25" y="20"/>
                </a:lnTo>
                <a:lnTo>
                  <a:pt x="52" y="9"/>
                </a:lnTo>
                <a:lnTo>
                  <a:pt x="83" y="2"/>
                </a:lnTo>
                <a:lnTo>
                  <a:pt x="114" y="0"/>
                </a:lnTo>
                <a:lnTo>
                  <a:pt x="145" y="4"/>
                </a:lnTo>
                <a:lnTo>
                  <a:pt x="175" y="9"/>
                </a:lnTo>
                <a:lnTo>
                  <a:pt x="204" y="18"/>
                </a:lnTo>
                <a:lnTo>
                  <a:pt x="231" y="29"/>
                </a:lnTo>
                <a:lnTo>
                  <a:pt x="251" y="44"/>
                </a:lnTo>
                <a:lnTo>
                  <a:pt x="271" y="58"/>
                </a:lnTo>
                <a:lnTo>
                  <a:pt x="289" y="74"/>
                </a:lnTo>
                <a:lnTo>
                  <a:pt x="307" y="93"/>
                </a:lnTo>
                <a:lnTo>
                  <a:pt x="324" y="112"/>
                </a:lnTo>
                <a:lnTo>
                  <a:pt x="338" y="132"/>
                </a:lnTo>
                <a:lnTo>
                  <a:pt x="353" y="152"/>
                </a:lnTo>
                <a:lnTo>
                  <a:pt x="363" y="17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309840" y="3429000"/>
            <a:ext cx="800280" cy="836640"/>
          </a:xfrm>
          <a:custGeom>
            <a:avLst/>
            <a:gdLst/>
            <a:ahLst/>
            <a:rect l="l" t="t" r="r" b="b"/>
            <a:pathLst>
              <a:path w="1008" h="1098">
                <a:moveTo>
                  <a:pt x="1008" y="5"/>
                </a:moveTo>
                <a:lnTo>
                  <a:pt x="1008" y="168"/>
                </a:lnTo>
                <a:lnTo>
                  <a:pt x="1008" y="525"/>
                </a:lnTo>
                <a:lnTo>
                  <a:pt x="1003" y="885"/>
                </a:lnTo>
                <a:lnTo>
                  <a:pt x="988" y="1050"/>
                </a:lnTo>
                <a:lnTo>
                  <a:pt x="979" y="1050"/>
                </a:lnTo>
                <a:lnTo>
                  <a:pt x="954" y="1051"/>
                </a:lnTo>
                <a:lnTo>
                  <a:pt x="916" y="1055"/>
                </a:lnTo>
                <a:lnTo>
                  <a:pt x="864" y="1057"/>
                </a:lnTo>
                <a:lnTo>
                  <a:pt x="804" y="1062"/>
                </a:lnTo>
                <a:lnTo>
                  <a:pt x="733" y="1066"/>
                </a:lnTo>
                <a:lnTo>
                  <a:pt x="659" y="1071"/>
                </a:lnTo>
                <a:lnTo>
                  <a:pt x="580" y="1075"/>
                </a:lnTo>
                <a:lnTo>
                  <a:pt x="500" y="1080"/>
                </a:lnTo>
                <a:lnTo>
                  <a:pt x="418" y="1084"/>
                </a:lnTo>
                <a:lnTo>
                  <a:pt x="341" y="1089"/>
                </a:lnTo>
                <a:lnTo>
                  <a:pt x="266" y="1093"/>
                </a:lnTo>
                <a:lnTo>
                  <a:pt x="200" y="1095"/>
                </a:lnTo>
                <a:lnTo>
                  <a:pt x="140" y="1097"/>
                </a:lnTo>
                <a:lnTo>
                  <a:pt x="91" y="1098"/>
                </a:lnTo>
                <a:lnTo>
                  <a:pt x="55" y="1098"/>
                </a:lnTo>
                <a:lnTo>
                  <a:pt x="0" y="0"/>
                </a:lnTo>
                <a:lnTo>
                  <a:pt x="1008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079960" y="3419640"/>
            <a:ext cx="290520" cy="520560"/>
          </a:xfrm>
          <a:custGeom>
            <a:avLst/>
            <a:gdLst/>
            <a:ahLst/>
            <a:rect l="l" t="t" r="r" b="b"/>
            <a:pathLst>
              <a:path w="365" h="682">
                <a:moveTo>
                  <a:pt x="210" y="231"/>
                </a:moveTo>
                <a:lnTo>
                  <a:pt x="215" y="257"/>
                </a:lnTo>
                <a:lnTo>
                  <a:pt x="215" y="282"/>
                </a:lnTo>
                <a:lnTo>
                  <a:pt x="211" y="307"/>
                </a:lnTo>
                <a:lnTo>
                  <a:pt x="204" y="331"/>
                </a:lnTo>
                <a:lnTo>
                  <a:pt x="191" y="355"/>
                </a:lnTo>
                <a:lnTo>
                  <a:pt x="179" y="376"/>
                </a:lnTo>
                <a:lnTo>
                  <a:pt x="163" y="398"/>
                </a:lnTo>
                <a:lnTo>
                  <a:pt x="144" y="418"/>
                </a:lnTo>
                <a:lnTo>
                  <a:pt x="135" y="423"/>
                </a:lnTo>
                <a:lnTo>
                  <a:pt x="125" y="427"/>
                </a:lnTo>
                <a:lnTo>
                  <a:pt x="115" y="431"/>
                </a:lnTo>
                <a:lnTo>
                  <a:pt x="105" y="432"/>
                </a:lnTo>
                <a:lnTo>
                  <a:pt x="94" y="432"/>
                </a:lnTo>
                <a:lnTo>
                  <a:pt x="81" y="432"/>
                </a:lnTo>
                <a:lnTo>
                  <a:pt x="65" y="432"/>
                </a:lnTo>
                <a:lnTo>
                  <a:pt x="49" y="429"/>
                </a:lnTo>
                <a:lnTo>
                  <a:pt x="56" y="438"/>
                </a:lnTo>
                <a:lnTo>
                  <a:pt x="63" y="445"/>
                </a:lnTo>
                <a:lnTo>
                  <a:pt x="72" y="452"/>
                </a:lnTo>
                <a:lnTo>
                  <a:pt x="81" y="458"/>
                </a:lnTo>
                <a:lnTo>
                  <a:pt x="92" y="463"/>
                </a:lnTo>
                <a:lnTo>
                  <a:pt x="103" y="467"/>
                </a:lnTo>
                <a:lnTo>
                  <a:pt x="114" y="469"/>
                </a:lnTo>
                <a:lnTo>
                  <a:pt x="125" y="470"/>
                </a:lnTo>
                <a:lnTo>
                  <a:pt x="137" y="469"/>
                </a:lnTo>
                <a:lnTo>
                  <a:pt x="152" y="465"/>
                </a:lnTo>
                <a:lnTo>
                  <a:pt x="168" y="463"/>
                </a:lnTo>
                <a:lnTo>
                  <a:pt x="184" y="463"/>
                </a:lnTo>
                <a:lnTo>
                  <a:pt x="201" y="463"/>
                </a:lnTo>
                <a:lnTo>
                  <a:pt x="213" y="463"/>
                </a:lnTo>
                <a:lnTo>
                  <a:pt x="224" y="467"/>
                </a:lnTo>
                <a:lnTo>
                  <a:pt x="229" y="470"/>
                </a:lnTo>
                <a:lnTo>
                  <a:pt x="229" y="496"/>
                </a:lnTo>
                <a:lnTo>
                  <a:pt x="226" y="517"/>
                </a:lnTo>
                <a:lnTo>
                  <a:pt x="219" y="539"/>
                </a:lnTo>
                <a:lnTo>
                  <a:pt x="206" y="559"/>
                </a:lnTo>
                <a:lnTo>
                  <a:pt x="191" y="579"/>
                </a:lnTo>
                <a:lnTo>
                  <a:pt x="175" y="595"/>
                </a:lnTo>
                <a:lnTo>
                  <a:pt x="159" y="610"/>
                </a:lnTo>
                <a:lnTo>
                  <a:pt x="141" y="622"/>
                </a:lnTo>
                <a:lnTo>
                  <a:pt x="155" y="628"/>
                </a:lnTo>
                <a:lnTo>
                  <a:pt x="172" y="630"/>
                </a:lnTo>
                <a:lnTo>
                  <a:pt x="188" y="630"/>
                </a:lnTo>
                <a:lnTo>
                  <a:pt x="202" y="628"/>
                </a:lnTo>
                <a:lnTo>
                  <a:pt x="219" y="624"/>
                </a:lnTo>
                <a:lnTo>
                  <a:pt x="233" y="619"/>
                </a:lnTo>
                <a:lnTo>
                  <a:pt x="248" y="612"/>
                </a:lnTo>
                <a:lnTo>
                  <a:pt x="260" y="604"/>
                </a:lnTo>
                <a:lnTo>
                  <a:pt x="273" y="595"/>
                </a:lnTo>
                <a:lnTo>
                  <a:pt x="282" y="584"/>
                </a:lnTo>
                <a:lnTo>
                  <a:pt x="293" y="572"/>
                </a:lnTo>
                <a:lnTo>
                  <a:pt x="302" y="559"/>
                </a:lnTo>
                <a:lnTo>
                  <a:pt x="313" y="546"/>
                </a:lnTo>
                <a:lnTo>
                  <a:pt x="324" y="534"/>
                </a:lnTo>
                <a:lnTo>
                  <a:pt x="336" y="525"/>
                </a:lnTo>
                <a:lnTo>
                  <a:pt x="353" y="517"/>
                </a:lnTo>
                <a:lnTo>
                  <a:pt x="360" y="532"/>
                </a:lnTo>
                <a:lnTo>
                  <a:pt x="365" y="548"/>
                </a:lnTo>
                <a:lnTo>
                  <a:pt x="365" y="563"/>
                </a:lnTo>
                <a:lnTo>
                  <a:pt x="362" y="579"/>
                </a:lnTo>
                <a:lnTo>
                  <a:pt x="345" y="604"/>
                </a:lnTo>
                <a:lnTo>
                  <a:pt x="325" y="624"/>
                </a:lnTo>
                <a:lnTo>
                  <a:pt x="304" y="641"/>
                </a:lnTo>
                <a:lnTo>
                  <a:pt x="280" y="653"/>
                </a:lnTo>
                <a:lnTo>
                  <a:pt x="253" y="664"/>
                </a:lnTo>
                <a:lnTo>
                  <a:pt x="226" y="671"/>
                </a:lnTo>
                <a:lnTo>
                  <a:pt x="199" y="677"/>
                </a:lnTo>
                <a:lnTo>
                  <a:pt x="172" y="682"/>
                </a:lnTo>
                <a:lnTo>
                  <a:pt x="159" y="677"/>
                </a:lnTo>
                <a:lnTo>
                  <a:pt x="146" y="671"/>
                </a:lnTo>
                <a:lnTo>
                  <a:pt x="134" y="666"/>
                </a:lnTo>
                <a:lnTo>
                  <a:pt x="119" y="660"/>
                </a:lnTo>
                <a:lnTo>
                  <a:pt x="106" y="655"/>
                </a:lnTo>
                <a:lnTo>
                  <a:pt x="94" y="646"/>
                </a:lnTo>
                <a:lnTo>
                  <a:pt x="83" y="637"/>
                </a:lnTo>
                <a:lnTo>
                  <a:pt x="72" y="624"/>
                </a:lnTo>
                <a:lnTo>
                  <a:pt x="76" y="617"/>
                </a:lnTo>
                <a:lnTo>
                  <a:pt x="81" y="613"/>
                </a:lnTo>
                <a:lnTo>
                  <a:pt x="88" y="610"/>
                </a:lnTo>
                <a:lnTo>
                  <a:pt x="96" y="608"/>
                </a:lnTo>
                <a:lnTo>
                  <a:pt x="105" y="606"/>
                </a:lnTo>
                <a:lnTo>
                  <a:pt x="114" y="604"/>
                </a:lnTo>
                <a:lnTo>
                  <a:pt x="121" y="603"/>
                </a:lnTo>
                <a:lnTo>
                  <a:pt x="128" y="599"/>
                </a:lnTo>
                <a:lnTo>
                  <a:pt x="146" y="581"/>
                </a:lnTo>
                <a:lnTo>
                  <a:pt x="163" y="563"/>
                </a:lnTo>
                <a:lnTo>
                  <a:pt x="175" y="543"/>
                </a:lnTo>
                <a:lnTo>
                  <a:pt x="181" y="521"/>
                </a:lnTo>
                <a:lnTo>
                  <a:pt x="163" y="527"/>
                </a:lnTo>
                <a:lnTo>
                  <a:pt x="143" y="527"/>
                </a:lnTo>
                <a:lnTo>
                  <a:pt x="125" y="525"/>
                </a:lnTo>
                <a:lnTo>
                  <a:pt x="106" y="517"/>
                </a:lnTo>
                <a:lnTo>
                  <a:pt x="88" y="510"/>
                </a:lnTo>
                <a:lnTo>
                  <a:pt x="70" y="499"/>
                </a:lnTo>
                <a:lnTo>
                  <a:pt x="54" y="487"/>
                </a:lnTo>
                <a:lnTo>
                  <a:pt x="38" y="472"/>
                </a:lnTo>
                <a:lnTo>
                  <a:pt x="16" y="443"/>
                </a:lnTo>
                <a:lnTo>
                  <a:pt x="3" y="409"/>
                </a:lnTo>
                <a:lnTo>
                  <a:pt x="0" y="373"/>
                </a:lnTo>
                <a:lnTo>
                  <a:pt x="9" y="338"/>
                </a:lnTo>
                <a:lnTo>
                  <a:pt x="20" y="342"/>
                </a:lnTo>
                <a:lnTo>
                  <a:pt x="25" y="351"/>
                </a:lnTo>
                <a:lnTo>
                  <a:pt x="29" y="362"/>
                </a:lnTo>
                <a:lnTo>
                  <a:pt x="32" y="374"/>
                </a:lnTo>
                <a:lnTo>
                  <a:pt x="36" y="385"/>
                </a:lnTo>
                <a:lnTo>
                  <a:pt x="43" y="396"/>
                </a:lnTo>
                <a:lnTo>
                  <a:pt x="52" y="402"/>
                </a:lnTo>
                <a:lnTo>
                  <a:pt x="68" y="403"/>
                </a:lnTo>
                <a:lnTo>
                  <a:pt x="76" y="403"/>
                </a:lnTo>
                <a:lnTo>
                  <a:pt x="83" y="403"/>
                </a:lnTo>
                <a:lnTo>
                  <a:pt x="90" y="403"/>
                </a:lnTo>
                <a:lnTo>
                  <a:pt x="99" y="403"/>
                </a:lnTo>
                <a:lnTo>
                  <a:pt x="106" y="402"/>
                </a:lnTo>
                <a:lnTo>
                  <a:pt x="115" y="398"/>
                </a:lnTo>
                <a:lnTo>
                  <a:pt x="123" y="394"/>
                </a:lnTo>
                <a:lnTo>
                  <a:pt x="128" y="389"/>
                </a:lnTo>
                <a:lnTo>
                  <a:pt x="152" y="338"/>
                </a:lnTo>
                <a:lnTo>
                  <a:pt x="152" y="286"/>
                </a:lnTo>
                <a:lnTo>
                  <a:pt x="137" y="233"/>
                </a:lnTo>
                <a:lnTo>
                  <a:pt x="117" y="179"/>
                </a:lnTo>
                <a:lnTo>
                  <a:pt x="103" y="128"/>
                </a:lnTo>
                <a:lnTo>
                  <a:pt x="103" y="79"/>
                </a:lnTo>
                <a:lnTo>
                  <a:pt x="125" y="36"/>
                </a:lnTo>
                <a:lnTo>
                  <a:pt x="181" y="0"/>
                </a:lnTo>
                <a:lnTo>
                  <a:pt x="184" y="25"/>
                </a:lnTo>
                <a:lnTo>
                  <a:pt x="191" y="88"/>
                </a:lnTo>
                <a:lnTo>
                  <a:pt x="201" y="164"/>
                </a:lnTo>
                <a:lnTo>
                  <a:pt x="210" y="23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354480" y="3454560"/>
            <a:ext cx="720720" cy="782640"/>
          </a:xfrm>
          <a:custGeom>
            <a:avLst/>
            <a:gdLst/>
            <a:ahLst/>
            <a:rect l="l" t="t" r="r" b="b"/>
            <a:pathLst>
              <a:path w="908" h="1028">
                <a:moveTo>
                  <a:pt x="893" y="978"/>
                </a:moveTo>
                <a:lnTo>
                  <a:pt x="857" y="981"/>
                </a:lnTo>
                <a:lnTo>
                  <a:pt x="812" y="983"/>
                </a:lnTo>
                <a:lnTo>
                  <a:pt x="756" y="989"/>
                </a:lnTo>
                <a:lnTo>
                  <a:pt x="693" y="992"/>
                </a:lnTo>
                <a:lnTo>
                  <a:pt x="626" y="996"/>
                </a:lnTo>
                <a:lnTo>
                  <a:pt x="553" y="999"/>
                </a:lnTo>
                <a:lnTo>
                  <a:pt x="479" y="1005"/>
                </a:lnTo>
                <a:lnTo>
                  <a:pt x="405" y="1009"/>
                </a:lnTo>
                <a:lnTo>
                  <a:pt x="334" y="1012"/>
                </a:lnTo>
                <a:lnTo>
                  <a:pt x="266" y="1016"/>
                </a:lnTo>
                <a:lnTo>
                  <a:pt x="202" y="1019"/>
                </a:lnTo>
                <a:lnTo>
                  <a:pt x="148" y="1023"/>
                </a:lnTo>
                <a:lnTo>
                  <a:pt x="101" y="1025"/>
                </a:lnTo>
                <a:lnTo>
                  <a:pt x="66" y="1027"/>
                </a:lnTo>
                <a:lnTo>
                  <a:pt x="43" y="1028"/>
                </a:lnTo>
                <a:lnTo>
                  <a:pt x="36" y="1028"/>
                </a:lnTo>
                <a:lnTo>
                  <a:pt x="0" y="0"/>
                </a:lnTo>
                <a:lnTo>
                  <a:pt x="908" y="13"/>
                </a:lnTo>
                <a:lnTo>
                  <a:pt x="893" y="978"/>
                </a:lnTo>
                <a:close/>
              </a:path>
            </a:pathLst>
          </a:custGeom>
          <a:solidFill>
            <a:srgbClr val="26ad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249720" y="4365720"/>
            <a:ext cx="941400" cy="269640"/>
          </a:xfrm>
          <a:custGeom>
            <a:avLst/>
            <a:gdLst/>
            <a:ahLst/>
            <a:rect l="l" t="t" r="r" b="b"/>
            <a:pathLst>
              <a:path w="1188" h="355">
                <a:moveTo>
                  <a:pt x="1188" y="9"/>
                </a:moveTo>
                <a:lnTo>
                  <a:pt x="1184" y="11"/>
                </a:lnTo>
                <a:lnTo>
                  <a:pt x="1177" y="14"/>
                </a:lnTo>
                <a:lnTo>
                  <a:pt x="1164" y="22"/>
                </a:lnTo>
                <a:lnTo>
                  <a:pt x="1146" y="31"/>
                </a:lnTo>
                <a:lnTo>
                  <a:pt x="1124" y="42"/>
                </a:lnTo>
                <a:lnTo>
                  <a:pt x="1099" y="54"/>
                </a:lnTo>
                <a:lnTo>
                  <a:pt x="1072" y="67"/>
                </a:lnTo>
                <a:lnTo>
                  <a:pt x="1043" y="80"/>
                </a:lnTo>
                <a:lnTo>
                  <a:pt x="1010" y="92"/>
                </a:lnTo>
                <a:lnTo>
                  <a:pt x="978" y="105"/>
                </a:lnTo>
                <a:lnTo>
                  <a:pt x="945" y="116"/>
                </a:lnTo>
                <a:lnTo>
                  <a:pt x="911" y="127"/>
                </a:lnTo>
                <a:lnTo>
                  <a:pt x="878" y="136"/>
                </a:lnTo>
                <a:lnTo>
                  <a:pt x="846" y="141"/>
                </a:lnTo>
                <a:lnTo>
                  <a:pt x="815" y="145"/>
                </a:lnTo>
                <a:lnTo>
                  <a:pt x="786" y="145"/>
                </a:lnTo>
                <a:lnTo>
                  <a:pt x="764" y="201"/>
                </a:lnTo>
                <a:lnTo>
                  <a:pt x="751" y="272"/>
                </a:lnTo>
                <a:lnTo>
                  <a:pt x="746" y="329"/>
                </a:lnTo>
                <a:lnTo>
                  <a:pt x="746" y="355"/>
                </a:lnTo>
                <a:lnTo>
                  <a:pt x="719" y="324"/>
                </a:lnTo>
                <a:lnTo>
                  <a:pt x="710" y="282"/>
                </a:lnTo>
                <a:lnTo>
                  <a:pt x="712" y="237"/>
                </a:lnTo>
                <a:lnTo>
                  <a:pt x="719" y="194"/>
                </a:lnTo>
                <a:lnTo>
                  <a:pt x="722" y="183"/>
                </a:lnTo>
                <a:lnTo>
                  <a:pt x="728" y="170"/>
                </a:lnTo>
                <a:lnTo>
                  <a:pt x="733" y="159"/>
                </a:lnTo>
                <a:lnTo>
                  <a:pt x="739" y="150"/>
                </a:lnTo>
                <a:lnTo>
                  <a:pt x="748" y="141"/>
                </a:lnTo>
                <a:lnTo>
                  <a:pt x="757" y="132"/>
                </a:lnTo>
                <a:lnTo>
                  <a:pt x="766" y="127"/>
                </a:lnTo>
                <a:lnTo>
                  <a:pt x="779" y="121"/>
                </a:lnTo>
                <a:lnTo>
                  <a:pt x="793" y="121"/>
                </a:lnTo>
                <a:lnTo>
                  <a:pt x="817" y="118"/>
                </a:lnTo>
                <a:lnTo>
                  <a:pt x="849" y="109"/>
                </a:lnTo>
                <a:lnTo>
                  <a:pt x="887" y="98"/>
                </a:lnTo>
                <a:lnTo>
                  <a:pt x="927" y="85"/>
                </a:lnTo>
                <a:lnTo>
                  <a:pt x="965" y="72"/>
                </a:lnTo>
                <a:lnTo>
                  <a:pt x="999" y="60"/>
                </a:lnTo>
                <a:lnTo>
                  <a:pt x="1026" y="52"/>
                </a:lnTo>
                <a:lnTo>
                  <a:pt x="999" y="51"/>
                </a:lnTo>
                <a:lnTo>
                  <a:pt x="956" y="52"/>
                </a:lnTo>
                <a:lnTo>
                  <a:pt x="902" y="54"/>
                </a:lnTo>
                <a:lnTo>
                  <a:pt x="835" y="58"/>
                </a:lnTo>
                <a:lnTo>
                  <a:pt x="759" y="63"/>
                </a:lnTo>
                <a:lnTo>
                  <a:pt x="677" y="69"/>
                </a:lnTo>
                <a:lnTo>
                  <a:pt x="590" y="74"/>
                </a:lnTo>
                <a:lnTo>
                  <a:pt x="504" y="81"/>
                </a:lnTo>
                <a:lnTo>
                  <a:pt x="415" y="89"/>
                </a:lnTo>
                <a:lnTo>
                  <a:pt x="330" y="94"/>
                </a:lnTo>
                <a:lnTo>
                  <a:pt x="250" y="101"/>
                </a:lnTo>
                <a:lnTo>
                  <a:pt x="178" y="107"/>
                </a:lnTo>
                <a:lnTo>
                  <a:pt x="113" y="112"/>
                </a:lnTo>
                <a:lnTo>
                  <a:pt x="62" y="114"/>
                </a:lnTo>
                <a:lnTo>
                  <a:pt x="22" y="118"/>
                </a:lnTo>
                <a:lnTo>
                  <a:pt x="0" y="118"/>
                </a:lnTo>
                <a:lnTo>
                  <a:pt x="2" y="109"/>
                </a:lnTo>
                <a:lnTo>
                  <a:pt x="6" y="100"/>
                </a:lnTo>
                <a:lnTo>
                  <a:pt x="9" y="92"/>
                </a:lnTo>
                <a:lnTo>
                  <a:pt x="11" y="81"/>
                </a:lnTo>
                <a:lnTo>
                  <a:pt x="20" y="80"/>
                </a:lnTo>
                <a:lnTo>
                  <a:pt x="37" y="80"/>
                </a:lnTo>
                <a:lnTo>
                  <a:pt x="57" y="78"/>
                </a:lnTo>
                <a:lnTo>
                  <a:pt x="82" y="74"/>
                </a:lnTo>
                <a:lnTo>
                  <a:pt x="111" y="72"/>
                </a:lnTo>
                <a:lnTo>
                  <a:pt x="143" y="69"/>
                </a:lnTo>
                <a:lnTo>
                  <a:pt x="180" y="65"/>
                </a:lnTo>
                <a:lnTo>
                  <a:pt x="219" y="62"/>
                </a:lnTo>
                <a:lnTo>
                  <a:pt x="263" y="58"/>
                </a:lnTo>
                <a:lnTo>
                  <a:pt x="306" y="54"/>
                </a:lnTo>
                <a:lnTo>
                  <a:pt x="353" y="49"/>
                </a:lnTo>
                <a:lnTo>
                  <a:pt x="402" y="45"/>
                </a:lnTo>
                <a:lnTo>
                  <a:pt x="453" y="42"/>
                </a:lnTo>
                <a:lnTo>
                  <a:pt x="504" y="36"/>
                </a:lnTo>
                <a:lnTo>
                  <a:pt x="556" y="33"/>
                </a:lnTo>
                <a:lnTo>
                  <a:pt x="608" y="29"/>
                </a:lnTo>
                <a:lnTo>
                  <a:pt x="659" y="23"/>
                </a:lnTo>
                <a:lnTo>
                  <a:pt x="712" y="20"/>
                </a:lnTo>
                <a:lnTo>
                  <a:pt x="762" y="16"/>
                </a:lnTo>
                <a:lnTo>
                  <a:pt x="811" y="13"/>
                </a:lnTo>
                <a:lnTo>
                  <a:pt x="860" y="11"/>
                </a:lnTo>
                <a:lnTo>
                  <a:pt x="905" y="7"/>
                </a:lnTo>
                <a:lnTo>
                  <a:pt x="950" y="5"/>
                </a:lnTo>
                <a:lnTo>
                  <a:pt x="992" y="4"/>
                </a:lnTo>
                <a:lnTo>
                  <a:pt x="1030" y="2"/>
                </a:lnTo>
                <a:lnTo>
                  <a:pt x="1064" y="2"/>
                </a:lnTo>
                <a:lnTo>
                  <a:pt x="1097" y="0"/>
                </a:lnTo>
                <a:lnTo>
                  <a:pt x="1124" y="2"/>
                </a:lnTo>
                <a:lnTo>
                  <a:pt x="1148" y="2"/>
                </a:lnTo>
                <a:lnTo>
                  <a:pt x="1166" y="4"/>
                </a:lnTo>
                <a:lnTo>
                  <a:pt x="1180" y="5"/>
                </a:lnTo>
                <a:lnTo>
                  <a:pt x="1188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938320" y="4511520"/>
            <a:ext cx="1236960" cy="271440"/>
          </a:xfrm>
          <a:custGeom>
            <a:avLst/>
            <a:gdLst/>
            <a:ahLst/>
            <a:rect l="l" t="t" r="r" b="b"/>
            <a:pathLst>
              <a:path w="1558" h="354">
                <a:moveTo>
                  <a:pt x="474" y="354"/>
                </a:moveTo>
                <a:lnTo>
                  <a:pt x="468" y="353"/>
                </a:lnTo>
                <a:lnTo>
                  <a:pt x="454" y="349"/>
                </a:lnTo>
                <a:lnTo>
                  <a:pt x="432" y="344"/>
                </a:lnTo>
                <a:lnTo>
                  <a:pt x="403" y="338"/>
                </a:lnTo>
                <a:lnTo>
                  <a:pt x="369" y="329"/>
                </a:lnTo>
                <a:lnTo>
                  <a:pt x="329" y="320"/>
                </a:lnTo>
                <a:lnTo>
                  <a:pt x="287" y="309"/>
                </a:lnTo>
                <a:lnTo>
                  <a:pt x="246" y="298"/>
                </a:lnTo>
                <a:lnTo>
                  <a:pt x="202" y="287"/>
                </a:lnTo>
                <a:lnTo>
                  <a:pt x="159" y="277"/>
                </a:lnTo>
                <a:lnTo>
                  <a:pt x="119" y="266"/>
                </a:lnTo>
                <a:lnTo>
                  <a:pt x="83" y="255"/>
                </a:lnTo>
                <a:lnTo>
                  <a:pt x="52" y="246"/>
                </a:lnTo>
                <a:lnTo>
                  <a:pt x="27" y="237"/>
                </a:lnTo>
                <a:lnTo>
                  <a:pt x="9" y="231"/>
                </a:lnTo>
                <a:lnTo>
                  <a:pt x="0" y="226"/>
                </a:lnTo>
                <a:lnTo>
                  <a:pt x="3" y="219"/>
                </a:lnTo>
                <a:lnTo>
                  <a:pt x="9" y="213"/>
                </a:lnTo>
                <a:lnTo>
                  <a:pt x="16" y="208"/>
                </a:lnTo>
                <a:lnTo>
                  <a:pt x="21" y="201"/>
                </a:lnTo>
                <a:lnTo>
                  <a:pt x="519" y="134"/>
                </a:lnTo>
                <a:lnTo>
                  <a:pt x="523" y="134"/>
                </a:lnTo>
                <a:lnTo>
                  <a:pt x="526" y="110"/>
                </a:lnTo>
                <a:lnTo>
                  <a:pt x="528" y="85"/>
                </a:lnTo>
                <a:lnTo>
                  <a:pt x="524" y="59"/>
                </a:lnTo>
                <a:lnTo>
                  <a:pt x="513" y="38"/>
                </a:lnTo>
                <a:lnTo>
                  <a:pt x="510" y="38"/>
                </a:lnTo>
                <a:lnTo>
                  <a:pt x="499" y="39"/>
                </a:lnTo>
                <a:lnTo>
                  <a:pt x="481" y="41"/>
                </a:lnTo>
                <a:lnTo>
                  <a:pt x="459" y="43"/>
                </a:lnTo>
                <a:lnTo>
                  <a:pt x="434" y="45"/>
                </a:lnTo>
                <a:lnTo>
                  <a:pt x="405" y="49"/>
                </a:lnTo>
                <a:lnTo>
                  <a:pt x="372" y="52"/>
                </a:lnTo>
                <a:lnTo>
                  <a:pt x="340" y="54"/>
                </a:lnTo>
                <a:lnTo>
                  <a:pt x="307" y="58"/>
                </a:lnTo>
                <a:lnTo>
                  <a:pt x="275" y="61"/>
                </a:lnTo>
                <a:lnTo>
                  <a:pt x="246" y="65"/>
                </a:lnTo>
                <a:lnTo>
                  <a:pt x="219" y="67"/>
                </a:lnTo>
                <a:lnTo>
                  <a:pt x="195" y="68"/>
                </a:lnTo>
                <a:lnTo>
                  <a:pt x="175" y="70"/>
                </a:lnTo>
                <a:lnTo>
                  <a:pt x="162" y="72"/>
                </a:lnTo>
                <a:lnTo>
                  <a:pt x="157" y="72"/>
                </a:lnTo>
                <a:lnTo>
                  <a:pt x="153" y="68"/>
                </a:lnTo>
                <a:lnTo>
                  <a:pt x="153" y="63"/>
                </a:lnTo>
                <a:lnTo>
                  <a:pt x="153" y="58"/>
                </a:lnTo>
                <a:lnTo>
                  <a:pt x="153" y="52"/>
                </a:lnTo>
                <a:lnTo>
                  <a:pt x="177" y="49"/>
                </a:lnTo>
                <a:lnTo>
                  <a:pt x="200" y="43"/>
                </a:lnTo>
                <a:lnTo>
                  <a:pt x="226" y="39"/>
                </a:lnTo>
                <a:lnTo>
                  <a:pt x="249" y="38"/>
                </a:lnTo>
                <a:lnTo>
                  <a:pt x="273" y="34"/>
                </a:lnTo>
                <a:lnTo>
                  <a:pt x="296" y="30"/>
                </a:lnTo>
                <a:lnTo>
                  <a:pt x="322" y="27"/>
                </a:lnTo>
                <a:lnTo>
                  <a:pt x="345" y="25"/>
                </a:lnTo>
                <a:lnTo>
                  <a:pt x="369" y="21"/>
                </a:lnTo>
                <a:lnTo>
                  <a:pt x="394" y="20"/>
                </a:lnTo>
                <a:lnTo>
                  <a:pt x="418" y="16"/>
                </a:lnTo>
                <a:lnTo>
                  <a:pt x="443" y="12"/>
                </a:lnTo>
                <a:lnTo>
                  <a:pt x="466" y="10"/>
                </a:lnTo>
                <a:lnTo>
                  <a:pt x="490" y="7"/>
                </a:lnTo>
                <a:lnTo>
                  <a:pt x="515" y="3"/>
                </a:lnTo>
                <a:lnTo>
                  <a:pt x="539" y="0"/>
                </a:lnTo>
                <a:lnTo>
                  <a:pt x="555" y="21"/>
                </a:lnTo>
                <a:lnTo>
                  <a:pt x="566" y="45"/>
                </a:lnTo>
                <a:lnTo>
                  <a:pt x="573" y="72"/>
                </a:lnTo>
                <a:lnTo>
                  <a:pt x="579" y="97"/>
                </a:lnTo>
                <a:lnTo>
                  <a:pt x="584" y="125"/>
                </a:lnTo>
                <a:lnTo>
                  <a:pt x="579" y="152"/>
                </a:lnTo>
                <a:lnTo>
                  <a:pt x="566" y="177"/>
                </a:lnTo>
                <a:lnTo>
                  <a:pt x="553" y="201"/>
                </a:lnTo>
                <a:lnTo>
                  <a:pt x="513" y="206"/>
                </a:lnTo>
                <a:lnTo>
                  <a:pt x="510" y="177"/>
                </a:lnTo>
                <a:lnTo>
                  <a:pt x="485" y="179"/>
                </a:lnTo>
                <a:lnTo>
                  <a:pt x="459" y="181"/>
                </a:lnTo>
                <a:lnTo>
                  <a:pt x="434" y="182"/>
                </a:lnTo>
                <a:lnTo>
                  <a:pt x="410" y="186"/>
                </a:lnTo>
                <a:lnTo>
                  <a:pt x="385" y="188"/>
                </a:lnTo>
                <a:lnTo>
                  <a:pt x="360" y="192"/>
                </a:lnTo>
                <a:lnTo>
                  <a:pt x="336" y="195"/>
                </a:lnTo>
                <a:lnTo>
                  <a:pt x="311" y="199"/>
                </a:lnTo>
                <a:lnTo>
                  <a:pt x="287" y="202"/>
                </a:lnTo>
                <a:lnTo>
                  <a:pt x="264" y="206"/>
                </a:lnTo>
                <a:lnTo>
                  <a:pt x="238" y="211"/>
                </a:lnTo>
                <a:lnTo>
                  <a:pt x="215" y="215"/>
                </a:lnTo>
                <a:lnTo>
                  <a:pt x="190" y="219"/>
                </a:lnTo>
                <a:lnTo>
                  <a:pt x="166" y="222"/>
                </a:lnTo>
                <a:lnTo>
                  <a:pt x="141" y="226"/>
                </a:lnTo>
                <a:lnTo>
                  <a:pt x="117" y="230"/>
                </a:lnTo>
                <a:lnTo>
                  <a:pt x="141" y="235"/>
                </a:lnTo>
                <a:lnTo>
                  <a:pt x="162" y="240"/>
                </a:lnTo>
                <a:lnTo>
                  <a:pt x="186" y="244"/>
                </a:lnTo>
                <a:lnTo>
                  <a:pt x="209" y="249"/>
                </a:lnTo>
                <a:lnTo>
                  <a:pt x="231" y="255"/>
                </a:lnTo>
                <a:lnTo>
                  <a:pt x="255" y="262"/>
                </a:lnTo>
                <a:lnTo>
                  <a:pt x="276" y="268"/>
                </a:lnTo>
                <a:lnTo>
                  <a:pt x="300" y="273"/>
                </a:lnTo>
                <a:lnTo>
                  <a:pt x="322" y="278"/>
                </a:lnTo>
                <a:lnTo>
                  <a:pt x="345" y="284"/>
                </a:lnTo>
                <a:lnTo>
                  <a:pt x="367" y="289"/>
                </a:lnTo>
                <a:lnTo>
                  <a:pt x="390" y="295"/>
                </a:lnTo>
                <a:lnTo>
                  <a:pt x="414" y="298"/>
                </a:lnTo>
                <a:lnTo>
                  <a:pt x="436" y="304"/>
                </a:lnTo>
                <a:lnTo>
                  <a:pt x="459" y="309"/>
                </a:lnTo>
                <a:lnTo>
                  <a:pt x="483" y="313"/>
                </a:lnTo>
                <a:lnTo>
                  <a:pt x="492" y="311"/>
                </a:lnTo>
                <a:lnTo>
                  <a:pt x="515" y="307"/>
                </a:lnTo>
                <a:lnTo>
                  <a:pt x="553" y="302"/>
                </a:lnTo>
                <a:lnTo>
                  <a:pt x="602" y="295"/>
                </a:lnTo>
                <a:lnTo>
                  <a:pt x="662" y="286"/>
                </a:lnTo>
                <a:lnTo>
                  <a:pt x="729" y="275"/>
                </a:lnTo>
                <a:lnTo>
                  <a:pt x="803" y="264"/>
                </a:lnTo>
                <a:lnTo>
                  <a:pt x="879" y="251"/>
                </a:lnTo>
                <a:lnTo>
                  <a:pt x="959" y="239"/>
                </a:lnTo>
                <a:lnTo>
                  <a:pt x="1036" y="228"/>
                </a:lnTo>
                <a:lnTo>
                  <a:pt x="1114" y="215"/>
                </a:lnTo>
                <a:lnTo>
                  <a:pt x="1187" y="202"/>
                </a:lnTo>
                <a:lnTo>
                  <a:pt x="1255" y="192"/>
                </a:lnTo>
                <a:lnTo>
                  <a:pt x="1313" y="182"/>
                </a:lnTo>
                <a:lnTo>
                  <a:pt x="1364" y="173"/>
                </a:lnTo>
                <a:lnTo>
                  <a:pt x="1402" y="166"/>
                </a:lnTo>
                <a:lnTo>
                  <a:pt x="1169" y="137"/>
                </a:lnTo>
                <a:lnTo>
                  <a:pt x="1167" y="132"/>
                </a:lnTo>
                <a:lnTo>
                  <a:pt x="1170" y="123"/>
                </a:lnTo>
                <a:lnTo>
                  <a:pt x="1176" y="114"/>
                </a:lnTo>
                <a:lnTo>
                  <a:pt x="1181" y="106"/>
                </a:lnTo>
                <a:lnTo>
                  <a:pt x="1558" y="166"/>
                </a:lnTo>
                <a:lnTo>
                  <a:pt x="474" y="35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rot="21462600">
            <a:off x="3827520" y="4789080"/>
            <a:ext cx="69840" cy="150840"/>
          </a:xfrm>
          <a:custGeom>
            <a:avLst/>
            <a:gdLst/>
            <a:ahLst/>
            <a:rect l="l" t="t" r="r" b="b"/>
            <a:pathLst>
              <a:path w="79" h="197">
                <a:moveTo>
                  <a:pt x="23" y="3"/>
                </a:moveTo>
                <a:lnTo>
                  <a:pt x="32" y="25"/>
                </a:lnTo>
                <a:lnTo>
                  <a:pt x="41" y="49"/>
                </a:lnTo>
                <a:lnTo>
                  <a:pt x="48" y="70"/>
                </a:lnTo>
                <a:lnTo>
                  <a:pt x="57" y="92"/>
                </a:lnTo>
                <a:lnTo>
                  <a:pt x="65" y="116"/>
                </a:lnTo>
                <a:lnTo>
                  <a:pt x="70" y="139"/>
                </a:lnTo>
                <a:lnTo>
                  <a:pt x="76" y="163"/>
                </a:lnTo>
                <a:lnTo>
                  <a:pt x="79" y="188"/>
                </a:lnTo>
                <a:lnTo>
                  <a:pt x="59" y="197"/>
                </a:lnTo>
                <a:lnTo>
                  <a:pt x="48" y="175"/>
                </a:lnTo>
                <a:lnTo>
                  <a:pt x="45" y="150"/>
                </a:lnTo>
                <a:lnTo>
                  <a:pt x="41" y="127"/>
                </a:lnTo>
                <a:lnTo>
                  <a:pt x="34" y="103"/>
                </a:lnTo>
                <a:lnTo>
                  <a:pt x="0" y="11"/>
                </a:lnTo>
                <a:lnTo>
                  <a:pt x="3" y="5"/>
                </a:lnTo>
                <a:lnTo>
                  <a:pt x="9" y="2"/>
                </a:lnTo>
                <a:lnTo>
                  <a:pt x="16" y="0"/>
                </a:lnTo>
                <a:lnTo>
                  <a:pt x="23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rot="21444000">
            <a:off x="3773520" y="4794120"/>
            <a:ext cx="69840" cy="133560"/>
          </a:xfrm>
          <a:custGeom>
            <a:avLst/>
            <a:gdLst/>
            <a:ahLst/>
            <a:rect l="l" t="t" r="r" b="b"/>
            <a:pathLst>
              <a:path w="88" h="174">
                <a:moveTo>
                  <a:pt x="20" y="0"/>
                </a:moveTo>
                <a:lnTo>
                  <a:pt x="31" y="20"/>
                </a:lnTo>
                <a:lnTo>
                  <a:pt x="41" y="40"/>
                </a:lnTo>
                <a:lnTo>
                  <a:pt x="52" y="60"/>
                </a:lnTo>
                <a:lnTo>
                  <a:pt x="61" y="80"/>
                </a:lnTo>
                <a:lnTo>
                  <a:pt x="70" y="100"/>
                </a:lnTo>
                <a:lnTo>
                  <a:pt x="78" y="122"/>
                </a:lnTo>
                <a:lnTo>
                  <a:pt x="85" y="144"/>
                </a:lnTo>
                <a:lnTo>
                  <a:pt x="88" y="165"/>
                </a:lnTo>
                <a:lnTo>
                  <a:pt x="83" y="167"/>
                </a:lnTo>
                <a:lnTo>
                  <a:pt x="79" y="171"/>
                </a:lnTo>
                <a:lnTo>
                  <a:pt x="74" y="174"/>
                </a:lnTo>
                <a:lnTo>
                  <a:pt x="69" y="174"/>
                </a:lnTo>
                <a:lnTo>
                  <a:pt x="59" y="154"/>
                </a:lnTo>
                <a:lnTo>
                  <a:pt x="52" y="134"/>
                </a:lnTo>
                <a:lnTo>
                  <a:pt x="47" y="113"/>
                </a:lnTo>
                <a:lnTo>
                  <a:pt x="41" y="93"/>
                </a:lnTo>
                <a:lnTo>
                  <a:pt x="34" y="71"/>
                </a:lnTo>
                <a:lnTo>
                  <a:pt x="27" y="51"/>
                </a:lnTo>
                <a:lnTo>
                  <a:pt x="14" y="33"/>
                </a:lnTo>
                <a:lnTo>
                  <a:pt x="0" y="17"/>
                </a:lnTo>
                <a:lnTo>
                  <a:pt x="2" y="11"/>
                </a:lnTo>
                <a:lnTo>
                  <a:pt x="7" y="6"/>
                </a:lnTo>
                <a:lnTo>
                  <a:pt x="12" y="0"/>
                </a:lnTo>
                <a:lnTo>
                  <a:pt x="2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21440400">
            <a:off x="3716280" y="4806720"/>
            <a:ext cx="81000" cy="131760"/>
          </a:xfrm>
          <a:custGeom>
            <a:avLst/>
            <a:gdLst/>
            <a:ahLst/>
            <a:rect l="l" t="t" r="r" b="b"/>
            <a:pathLst>
              <a:path w="104" h="172">
                <a:moveTo>
                  <a:pt x="20" y="0"/>
                </a:moveTo>
                <a:lnTo>
                  <a:pt x="38" y="18"/>
                </a:lnTo>
                <a:lnTo>
                  <a:pt x="55" y="36"/>
                </a:lnTo>
                <a:lnTo>
                  <a:pt x="69" y="56"/>
                </a:lnTo>
                <a:lnTo>
                  <a:pt x="84" y="76"/>
                </a:lnTo>
                <a:lnTo>
                  <a:pt x="93" y="98"/>
                </a:lnTo>
                <a:lnTo>
                  <a:pt x="100" y="121"/>
                </a:lnTo>
                <a:lnTo>
                  <a:pt x="104" y="145"/>
                </a:lnTo>
                <a:lnTo>
                  <a:pt x="104" y="168"/>
                </a:lnTo>
                <a:lnTo>
                  <a:pt x="100" y="170"/>
                </a:lnTo>
                <a:lnTo>
                  <a:pt x="94" y="172"/>
                </a:lnTo>
                <a:lnTo>
                  <a:pt x="89" y="172"/>
                </a:lnTo>
                <a:lnTo>
                  <a:pt x="84" y="172"/>
                </a:lnTo>
                <a:lnTo>
                  <a:pt x="75" y="150"/>
                </a:lnTo>
                <a:lnTo>
                  <a:pt x="67" y="128"/>
                </a:lnTo>
                <a:lnTo>
                  <a:pt x="62" y="107"/>
                </a:lnTo>
                <a:lnTo>
                  <a:pt x="55" y="85"/>
                </a:lnTo>
                <a:lnTo>
                  <a:pt x="46" y="63"/>
                </a:lnTo>
                <a:lnTo>
                  <a:pt x="35" y="43"/>
                </a:lnTo>
                <a:lnTo>
                  <a:pt x="20" y="27"/>
                </a:lnTo>
                <a:lnTo>
                  <a:pt x="0" y="11"/>
                </a:lnTo>
                <a:lnTo>
                  <a:pt x="0" y="0"/>
                </a:lnTo>
                <a:lnTo>
                  <a:pt x="2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60800" y="4835520"/>
            <a:ext cx="633240" cy="285840"/>
          </a:xfrm>
          <a:custGeom>
            <a:avLst/>
            <a:gdLst/>
            <a:ahLst/>
            <a:rect l="l" t="t" r="r" b="b"/>
            <a:pathLst>
              <a:path w="798" h="377">
                <a:moveTo>
                  <a:pt x="726" y="63"/>
                </a:moveTo>
                <a:lnTo>
                  <a:pt x="740" y="100"/>
                </a:lnTo>
                <a:lnTo>
                  <a:pt x="755" y="136"/>
                </a:lnTo>
                <a:lnTo>
                  <a:pt x="766" y="174"/>
                </a:lnTo>
                <a:lnTo>
                  <a:pt x="777" y="212"/>
                </a:lnTo>
                <a:lnTo>
                  <a:pt x="784" y="250"/>
                </a:lnTo>
                <a:lnTo>
                  <a:pt x="791" y="288"/>
                </a:lnTo>
                <a:lnTo>
                  <a:pt x="795" y="328"/>
                </a:lnTo>
                <a:lnTo>
                  <a:pt x="798" y="366"/>
                </a:lnTo>
                <a:lnTo>
                  <a:pt x="787" y="373"/>
                </a:lnTo>
                <a:lnTo>
                  <a:pt x="777" y="377"/>
                </a:lnTo>
                <a:lnTo>
                  <a:pt x="768" y="377"/>
                </a:lnTo>
                <a:lnTo>
                  <a:pt x="758" y="375"/>
                </a:lnTo>
                <a:lnTo>
                  <a:pt x="751" y="369"/>
                </a:lnTo>
                <a:lnTo>
                  <a:pt x="744" y="362"/>
                </a:lnTo>
                <a:lnTo>
                  <a:pt x="739" y="353"/>
                </a:lnTo>
                <a:lnTo>
                  <a:pt x="735" y="342"/>
                </a:lnTo>
                <a:lnTo>
                  <a:pt x="730" y="331"/>
                </a:lnTo>
                <a:lnTo>
                  <a:pt x="728" y="320"/>
                </a:lnTo>
                <a:lnTo>
                  <a:pt x="726" y="310"/>
                </a:lnTo>
                <a:lnTo>
                  <a:pt x="726" y="297"/>
                </a:lnTo>
                <a:lnTo>
                  <a:pt x="702" y="299"/>
                </a:lnTo>
                <a:lnTo>
                  <a:pt x="679" y="302"/>
                </a:lnTo>
                <a:lnTo>
                  <a:pt x="654" y="308"/>
                </a:lnTo>
                <a:lnTo>
                  <a:pt x="628" y="313"/>
                </a:lnTo>
                <a:lnTo>
                  <a:pt x="601" y="319"/>
                </a:lnTo>
                <a:lnTo>
                  <a:pt x="572" y="326"/>
                </a:lnTo>
                <a:lnTo>
                  <a:pt x="543" y="333"/>
                </a:lnTo>
                <a:lnTo>
                  <a:pt x="511" y="339"/>
                </a:lnTo>
                <a:lnTo>
                  <a:pt x="0" y="127"/>
                </a:lnTo>
                <a:lnTo>
                  <a:pt x="7" y="119"/>
                </a:lnTo>
                <a:lnTo>
                  <a:pt x="9" y="109"/>
                </a:lnTo>
                <a:lnTo>
                  <a:pt x="9" y="100"/>
                </a:lnTo>
                <a:lnTo>
                  <a:pt x="7" y="92"/>
                </a:lnTo>
                <a:lnTo>
                  <a:pt x="516" y="301"/>
                </a:lnTo>
                <a:lnTo>
                  <a:pt x="543" y="293"/>
                </a:lnTo>
                <a:lnTo>
                  <a:pt x="570" y="288"/>
                </a:lnTo>
                <a:lnTo>
                  <a:pt x="597" y="282"/>
                </a:lnTo>
                <a:lnTo>
                  <a:pt x="625" y="277"/>
                </a:lnTo>
                <a:lnTo>
                  <a:pt x="650" y="270"/>
                </a:lnTo>
                <a:lnTo>
                  <a:pt x="677" y="262"/>
                </a:lnTo>
                <a:lnTo>
                  <a:pt x="702" y="255"/>
                </a:lnTo>
                <a:lnTo>
                  <a:pt x="726" y="244"/>
                </a:lnTo>
                <a:lnTo>
                  <a:pt x="724" y="210"/>
                </a:lnTo>
                <a:lnTo>
                  <a:pt x="719" y="170"/>
                </a:lnTo>
                <a:lnTo>
                  <a:pt x="710" y="130"/>
                </a:lnTo>
                <a:lnTo>
                  <a:pt x="699" y="91"/>
                </a:lnTo>
                <a:lnTo>
                  <a:pt x="686" y="54"/>
                </a:lnTo>
                <a:lnTo>
                  <a:pt x="677" y="25"/>
                </a:lnTo>
                <a:lnTo>
                  <a:pt x="670" y="7"/>
                </a:lnTo>
                <a:lnTo>
                  <a:pt x="666" y="0"/>
                </a:lnTo>
                <a:lnTo>
                  <a:pt x="679" y="2"/>
                </a:lnTo>
                <a:lnTo>
                  <a:pt x="688" y="7"/>
                </a:lnTo>
                <a:lnTo>
                  <a:pt x="697" y="14"/>
                </a:lnTo>
                <a:lnTo>
                  <a:pt x="704" y="24"/>
                </a:lnTo>
                <a:lnTo>
                  <a:pt x="710" y="33"/>
                </a:lnTo>
                <a:lnTo>
                  <a:pt x="715" y="43"/>
                </a:lnTo>
                <a:lnTo>
                  <a:pt x="720" y="54"/>
                </a:lnTo>
                <a:lnTo>
                  <a:pt x="726" y="6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781360" y="4859280"/>
            <a:ext cx="2168640" cy="1005120"/>
          </a:xfrm>
          <a:custGeom>
            <a:avLst/>
            <a:gdLst/>
            <a:ahLst/>
            <a:rect l="l" t="t" r="r" b="b"/>
            <a:pathLst>
              <a:path w="2734" h="1320">
                <a:moveTo>
                  <a:pt x="2347" y="9"/>
                </a:moveTo>
                <a:lnTo>
                  <a:pt x="2347" y="18"/>
                </a:lnTo>
                <a:lnTo>
                  <a:pt x="2343" y="29"/>
                </a:lnTo>
                <a:lnTo>
                  <a:pt x="2334" y="43"/>
                </a:lnTo>
                <a:lnTo>
                  <a:pt x="2325" y="58"/>
                </a:lnTo>
                <a:lnTo>
                  <a:pt x="2314" y="70"/>
                </a:lnTo>
                <a:lnTo>
                  <a:pt x="2305" y="81"/>
                </a:lnTo>
                <a:lnTo>
                  <a:pt x="2298" y="88"/>
                </a:lnTo>
                <a:lnTo>
                  <a:pt x="2296" y="92"/>
                </a:lnTo>
                <a:lnTo>
                  <a:pt x="2142" y="599"/>
                </a:lnTo>
                <a:lnTo>
                  <a:pt x="2131" y="621"/>
                </a:lnTo>
                <a:lnTo>
                  <a:pt x="2129" y="642"/>
                </a:lnTo>
                <a:lnTo>
                  <a:pt x="2133" y="662"/>
                </a:lnTo>
                <a:lnTo>
                  <a:pt x="2140" y="684"/>
                </a:lnTo>
                <a:lnTo>
                  <a:pt x="2151" y="706"/>
                </a:lnTo>
                <a:lnTo>
                  <a:pt x="2160" y="728"/>
                </a:lnTo>
                <a:lnTo>
                  <a:pt x="2169" y="749"/>
                </a:lnTo>
                <a:lnTo>
                  <a:pt x="2175" y="773"/>
                </a:lnTo>
                <a:lnTo>
                  <a:pt x="2178" y="805"/>
                </a:lnTo>
                <a:lnTo>
                  <a:pt x="2176" y="838"/>
                </a:lnTo>
                <a:lnTo>
                  <a:pt x="2164" y="867"/>
                </a:lnTo>
                <a:lnTo>
                  <a:pt x="2138" y="885"/>
                </a:lnTo>
                <a:lnTo>
                  <a:pt x="2126" y="881"/>
                </a:lnTo>
                <a:lnTo>
                  <a:pt x="2122" y="867"/>
                </a:lnTo>
                <a:lnTo>
                  <a:pt x="2122" y="854"/>
                </a:lnTo>
                <a:lnTo>
                  <a:pt x="2122" y="847"/>
                </a:lnTo>
                <a:lnTo>
                  <a:pt x="2133" y="831"/>
                </a:lnTo>
                <a:lnTo>
                  <a:pt x="2135" y="813"/>
                </a:lnTo>
                <a:lnTo>
                  <a:pt x="2133" y="795"/>
                </a:lnTo>
                <a:lnTo>
                  <a:pt x="2126" y="776"/>
                </a:lnTo>
                <a:lnTo>
                  <a:pt x="2119" y="762"/>
                </a:lnTo>
                <a:lnTo>
                  <a:pt x="2109" y="747"/>
                </a:lnTo>
                <a:lnTo>
                  <a:pt x="2099" y="737"/>
                </a:lnTo>
                <a:lnTo>
                  <a:pt x="2086" y="728"/>
                </a:lnTo>
                <a:lnTo>
                  <a:pt x="2075" y="751"/>
                </a:lnTo>
                <a:lnTo>
                  <a:pt x="2062" y="775"/>
                </a:lnTo>
                <a:lnTo>
                  <a:pt x="2048" y="796"/>
                </a:lnTo>
                <a:lnTo>
                  <a:pt x="2033" y="818"/>
                </a:lnTo>
                <a:lnTo>
                  <a:pt x="2019" y="840"/>
                </a:lnTo>
                <a:lnTo>
                  <a:pt x="2001" y="862"/>
                </a:lnTo>
                <a:lnTo>
                  <a:pt x="1985" y="881"/>
                </a:lnTo>
                <a:lnTo>
                  <a:pt x="1965" y="900"/>
                </a:lnTo>
                <a:lnTo>
                  <a:pt x="1990" y="938"/>
                </a:lnTo>
                <a:lnTo>
                  <a:pt x="2017" y="974"/>
                </a:lnTo>
                <a:lnTo>
                  <a:pt x="2046" y="1008"/>
                </a:lnTo>
                <a:lnTo>
                  <a:pt x="2077" y="1041"/>
                </a:lnTo>
                <a:lnTo>
                  <a:pt x="2108" y="1072"/>
                </a:lnTo>
                <a:lnTo>
                  <a:pt x="2140" y="1102"/>
                </a:lnTo>
                <a:lnTo>
                  <a:pt x="2175" y="1129"/>
                </a:lnTo>
                <a:lnTo>
                  <a:pt x="2211" y="1157"/>
                </a:lnTo>
                <a:lnTo>
                  <a:pt x="2247" y="1180"/>
                </a:lnTo>
                <a:lnTo>
                  <a:pt x="2285" y="1202"/>
                </a:lnTo>
                <a:lnTo>
                  <a:pt x="2325" y="1220"/>
                </a:lnTo>
                <a:lnTo>
                  <a:pt x="2365" y="1238"/>
                </a:lnTo>
                <a:lnTo>
                  <a:pt x="2404" y="1251"/>
                </a:lnTo>
                <a:lnTo>
                  <a:pt x="2446" y="1263"/>
                </a:lnTo>
                <a:lnTo>
                  <a:pt x="2489" y="1273"/>
                </a:lnTo>
                <a:lnTo>
                  <a:pt x="2533" y="1278"/>
                </a:lnTo>
                <a:lnTo>
                  <a:pt x="2558" y="1280"/>
                </a:lnTo>
                <a:lnTo>
                  <a:pt x="2584" y="1282"/>
                </a:lnTo>
                <a:lnTo>
                  <a:pt x="2609" y="1282"/>
                </a:lnTo>
                <a:lnTo>
                  <a:pt x="2634" y="1280"/>
                </a:lnTo>
                <a:lnTo>
                  <a:pt x="2660" y="1278"/>
                </a:lnTo>
                <a:lnTo>
                  <a:pt x="2685" y="1276"/>
                </a:lnTo>
                <a:lnTo>
                  <a:pt x="2710" y="1274"/>
                </a:lnTo>
                <a:lnTo>
                  <a:pt x="2734" y="1274"/>
                </a:lnTo>
                <a:lnTo>
                  <a:pt x="2730" y="1282"/>
                </a:lnTo>
                <a:lnTo>
                  <a:pt x="2725" y="1287"/>
                </a:lnTo>
                <a:lnTo>
                  <a:pt x="2718" y="1291"/>
                </a:lnTo>
                <a:lnTo>
                  <a:pt x="2708" y="1294"/>
                </a:lnTo>
                <a:lnTo>
                  <a:pt x="2699" y="1296"/>
                </a:lnTo>
                <a:lnTo>
                  <a:pt x="2692" y="1300"/>
                </a:lnTo>
                <a:lnTo>
                  <a:pt x="2683" y="1303"/>
                </a:lnTo>
                <a:lnTo>
                  <a:pt x="2676" y="1307"/>
                </a:lnTo>
                <a:lnTo>
                  <a:pt x="2602" y="1316"/>
                </a:lnTo>
                <a:lnTo>
                  <a:pt x="2531" y="1320"/>
                </a:lnTo>
                <a:lnTo>
                  <a:pt x="2464" y="1318"/>
                </a:lnTo>
                <a:lnTo>
                  <a:pt x="2401" y="1311"/>
                </a:lnTo>
                <a:lnTo>
                  <a:pt x="2343" y="1300"/>
                </a:lnTo>
                <a:lnTo>
                  <a:pt x="2289" y="1283"/>
                </a:lnTo>
                <a:lnTo>
                  <a:pt x="2238" y="1265"/>
                </a:lnTo>
                <a:lnTo>
                  <a:pt x="2189" y="1242"/>
                </a:lnTo>
                <a:lnTo>
                  <a:pt x="2146" y="1215"/>
                </a:lnTo>
                <a:lnTo>
                  <a:pt x="2104" y="1184"/>
                </a:lnTo>
                <a:lnTo>
                  <a:pt x="2066" y="1151"/>
                </a:lnTo>
                <a:lnTo>
                  <a:pt x="2032" y="1115"/>
                </a:lnTo>
                <a:lnTo>
                  <a:pt x="1999" y="1079"/>
                </a:lnTo>
                <a:lnTo>
                  <a:pt x="1970" y="1039"/>
                </a:lnTo>
                <a:lnTo>
                  <a:pt x="1943" y="997"/>
                </a:lnTo>
                <a:lnTo>
                  <a:pt x="1918" y="954"/>
                </a:lnTo>
                <a:lnTo>
                  <a:pt x="1909" y="945"/>
                </a:lnTo>
                <a:lnTo>
                  <a:pt x="1900" y="941"/>
                </a:lnTo>
                <a:lnTo>
                  <a:pt x="1887" y="941"/>
                </a:lnTo>
                <a:lnTo>
                  <a:pt x="1874" y="947"/>
                </a:lnTo>
                <a:lnTo>
                  <a:pt x="1862" y="952"/>
                </a:lnTo>
                <a:lnTo>
                  <a:pt x="1847" y="959"/>
                </a:lnTo>
                <a:lnTo>
                  <a:pt x="1834" y="965"/>
                </a:lnTo>
                <a:lnTo>
                  <a:pt x="1822" y="968"/>
                </a:lnTo>
                <a:lnTo>
                  <a:pt x="1787" y="974"/>
                </a:lnTo>
                <a:lnTo>
                  <a:pt x="1757" y="986"/>
                </a:lnTo>
                <a:lnTo>
                  <a:pt x="1726" y="1003"/>
                </a:lnTo>
                <a:lnTo>
                  <a:pt x="1699" y="1024"/>
                </a:lnTo>
                <a:lnTo>
                  <a:pt x="1673" y="1048"/>
                </a:lnTo>
                <a:lnTo>
                  <a:pt x="1652" y="1075"/>
                </a:lnTo>
                <a:lnTo>
                  <a:pt x="1632" y="1102"/>
                </a:lnTo>
                <a:lnTo>
                  <a:pt x="1615" y="1129"/>
                </a:lnTo>
                <a:lnTo>
                  <a:pt x="1615" y="1115"/>
                </a:lnTo>
                <a:lnTo>
                  <a:pt x="1623" y="1068"/>
                </a:lnTo>
                <a:lnTo>
                  <a:pt x="1637" y="1014"/>
                </a:lnTo>
                <a:lnTo>
                  <a:pt x="1661" y="968"/>
                </a:lnTo>
                <a:lnTo>
                  <a:pt x="1625" y="954"/>
                </a:lnTo>
                <a:lnTo>
                  <a:pt x="1590" y="934"/>
                </a:lnTo>
                <a:lnTo>
                  <a:pt x="1556" y="912"/>
                </a:lnTo>
                <a:lnTo>
                  <a:pt x="1523" y="887"/>
                </a:lnTo>
                <a:lnTo>
                  <a:pt x="1491" y="860"/>
                </a:lnTo>
                <a:lnTo>
                  <a:pt x="1458" y="831"/>
                </a:lnTo>
                <a:lnTo>
                  <a:pt x="1429" y="802"/>
                </a:lnTo>
                <a:lnTo>
                  <a:pt x="1400" y="773"/>
                </a:lnTo>
                <a:lnTo>
                  <a:pt x="1368" y="778"/>
                </a:lnTo>
                <a:lnTo>
                  <a:pt x="1333" y="787"/>
                </a:lnTo>
                <a:lnTo>
                  <a:pt x="1302" y="796"/>
                </a:lnTo>
                <a:lnTo>
                  <a:pt x="1270" y="807"/>
                </a:lnTo>
                <a:lnTo>
                  <a:pt x="1239" y="820"/>
                </a:lnTo>
                <a:lnTo>
                  <a:pt x="1208" y="833"/>
                </a:lnTo>
                <a:lnTo>
                  <a:pt x="1179" y="849"/>
                </a:lnTo>
                <a:lnTo>
                  <a:pt x="1150" y="867"/>
                </a:lnTo>
                <a:lnTo>
                  <a:pt x="1121" y="885"/>
                </a:lnTo>
                <a:lnTo>
                  <a:pt x="1094" y="905"/>
                </a:lnTo>
                <a:lnTo>
                  <a:pt x="1067" y="927"/>
                </a:lnTo>
                <a:lnTo>
                  <a:pt x="1042" y="948"/>
                </a:lnTo>
                <a:lnTo>
                  <a:pt x="1017" y="974"/>
                </a:lnTo>
                <a:lnTo>
                  <a:pt x="993" y="999"/>
                </a:lnTo>
                <a:lnTo>
                  <a:pt x="969" y="1026"/>
                </a:lnTo>
                <a:lnTo>
                  <a:pt x="948" y="1053"/>
                </a:lnTo>
                <a:lnTo>
                  <a:pt x="935" y="1073"/>
                </a:lnTo>
                <a:lnTo>
                  <a:pt x="922" y="1095"/>
                </a:lnTo>
                <a:lnTo>
                  <a:pt x="912" y="1117"/>
                </a:lnTo>
                <a:lnTo>
                  <a:pt x="903" y="1137"/>
                </a:lnTo>
                <a:lnTo>
                  <a:pt x="893" y="1158"/>
                </a:lnTo>
                <a:lnTo>
                  <a:pt x="884" y="1180"/>
                </a:lnTo>
                <a:lnTo>
                  <a:pt x="877" y="1204"/>
                </a:lnTo>
                <a:lnTo>
                  <a:pt x="870" y="1225"/>
                </a:lnTo>
                <a:lnTo>
                  <a:pt x="857" y="1216"/>
                </a:lnTo>
                <a:lnTo>
                  <a:pt x="850" y="1202"/>
                </a:lnTo>
                <a:lnTo>
                  <a:pt x="846" y="1186"/>
                </a:lnTo>
                <a:lnTo>
                  <a:pt x="841" y="1169"/>
                </a:lnTo>
                <a:lnTo>
                  <a:pt x="841" y="1115"/>
                </a:lnTo>
                <a:lnTo>
                  <a:pt x="850" y="1066"/>
                </a:lnTo>
                <a:lnTo>
                  <a:pt x="868" y="1019"/>
                </a:lnTo>
                <a:lnTo>
                  <a:pt x="895" y="976"/>
                </a:lnTo>
                <a:lnTo>
                  <a:pt x="926" y="936"/>
                </a:lnTo>
                <a:lnTo>
                  <a:pt x="964" y="900"/>
                </a:lnTo>
                <a:lnTo>
                  <a:pt x="1004" y="867"/>
                </a:lnTo>
                <a:lnTo>
                  <a:pt x="1047" y="836"/>
                </a:lnTo>
                <a:lnTo>
                  <a:pt x="1065" y="825"/>
                </a:lnTo>
                <a:lnTo>
                  <a:pt x="1085" y="816"/>
                </a:lnTo>
                <a:lnTo>
                  <a:pt x="1103" y="807"/>
                </a:lnTo>
                <a:lnTo>
                  <a:pt x="1123" y="798"/>
                </a:lnTo>
                <a:lnTo>
                  <a:pt x="1143" y="791"/>
                </a:lnTo>
                <a:lnTo>
                  <a:pt x="1163" y="784"/>
                </a:lnTo>
                <a:lnTo>
                  <a:pt x="1183" y="776"/>
                </a:lnTo>
                <a:lnTo>
                  <a:pt x="1203" y="769"/>
                </a:lnTo>
                <a:lnTo>
                  <a:pt x="1223" y="764"/>
                </a:lnTo>
                <a:lnTo>
                  <a:pt x="1243" y="758"/>
                </a:lnTo>
                <a:lnTo>
                  <a:pt x="1264" y="751"/>
                </a:lnTo>
                <a:lnTo>
                  <a:pt x="1284" y="746"/>
                </a:lnTo>
                <a:lnTo>
                  <a:pt x="1306" y="740"/>
                </a:lnTo>
                <a:lnTo>
                  <a:pt x="1326" y="735"/>
                </a:lnTo>
                <a:lnTo>
                  <a:pt x="1348" y="729"/>
                </a:lnTo>
                <a:lnTo>
                  <a:pt x="1368" y="724"/>
                </a:lnTo>
                <a:lnTo>
                  <a:pt x="1359" y="704"/>
                </a:lnTo>
                <a:lnTo>
                  <a:pt x="1348" y="682"/>
                </a:lnTo>
                <a:lnTo>
                  <a:pt x="1337" y="661"/>
                </a:lnTo>
                <a:lnTo>
                  <a:pt x="1326" y="641"/>
                </a:lnTo>
                <a:lnTo>
                  <a:pt x="1315" y="619"/>
                </a:lnTo>
                <a:lnTo>
                  <a:pt x="1306" y="597"/>
                </a:lnTo>
                <a:lnTo>
                  <a:pt x="1295" y="574"/>
                </a:lnTo>
                <a:lnTo>
                  <a:pt x="1288" y="552"/>
                </a:lnTo>
                <a:lnTo>
                  <a:pt x="910" y="675"/>
                </a:lnTo>
                <a:lnTo>
                  <a:pt x="897" y="670"/>
                </a:lnTo>
                <a:lnTo>
                  <a:pt x="866" y="657"/>
                </a:lnTo>
                <a:lnTo>
                  <a:pt x="821" y="641"/>
                </a:lnTo>
                <a:lnTo>
                  <a:pt x="761" y="619"/>
                </a:lnTo>
                <a:lnTo>
                  <a:pt x="693" y="594"/>
                </a:lnTo>
                <a:lnTo>
                  <a:pt x="615" y="568"/>
                </a:lnTo>
                <a:lnTo>
                  <a:pt x="533" y="539"/>
                </a:lnTo>
                <a:lnTo>
                  <a:pt x="450" y="510"/>
                </a:lnTo>
                <a:lnTo>
                  <a:pt x="365" y="481"/>
                </a:lnTo>
                <a:lnTo>
                  <a:pt x="284" y="454"/>
                </a:lnTo>
                <a:lnTo>
                  <a:pt x="208" y="429"/>
                </a:lnTo>
                <a:lnTo>
                  <a:pt x="139" y="405"/>
                </a:lnTo>
                <a:lnTo>
                  <a:pt x="83" y="385"/>
                </a:lnTo>
                <a:lnTo>
                  <a:pt x="38" y="371"/>
                </a:lnTo>
                <a:lnTo>
                  <a:pt x="10" y="362"/>
                </a:lnTo>
                <a:lnTo>
                  <a:pt x="0" y="358"/>
                </a:lnTo>
                <a:lnTo>
                  <a:pt x="0" y="317"/>
                </a:lnTo>
                <a:lnTo>
                  <a:pt x="893" y="632"/>
                </a:lnTo>
                <a:lnTo>
                  <a:pt x="1275" y="503"/>
                </a:lnTo>
                <a:lnTo>
                  <a:pt x="1268" y="480"/>
                </a:lnTo>
                <a:lnTo>
                  <a:pt x="1264" y="452"/>
                </a:lnTo>
                <a:lnTo>
                  <a:pt x="1255" y="431"/>
                </a:lnTo>
                <a:lnTo>
                  <a:pt x="1235" y="425"/>
                </a:lnTo>
                <a:lnTo>
                  <a:pt x="913" y="534"/>
                </a:lnTo>
                <a:lnTo>
                  <a:pt x="899" y="536"/>
                </a:lnTo>
                <a:lnTo>
                  <a:pt x="866" y="528"/>
                </a:lnTo>
                <a:lnTo>
                  <a:pt x="821" y="518"/>
                </a:lnTo>
                <a:lnTo>
                  <a:pt x="761" y="503"/>
                </a:lnTo>
                <a:lnTo>
                  <a:pt x="693" y="483"/>
                </a:lnTo>
                <a:lnTo>
                  <a:pt x="617" y="461"/>
                </a:lnTo>
                <a:lnTo>
                  <a:pt x="537" y="436"/>
                </a:lnTo>
                <a:lnTo>
                  <a:pt x="454" y="411"/>
                </a:lnTo>
                <a:lnTo>
                  <a:pt x="372" y="385"/>
                </a:lnTo>
                <a:lnTo>
                  <a:pt x="293" y="360"/>
                </a:lnTo>
                <a:lnTo>
                  <a:pt x="218" y="335"/>
                </a:lnTo>
                <a:lnTo>
                  <a:pt x="152" y="315"/>
                </a:lnTo>
                <a:lnTo>
                  <a:pt x="95" y="297"/>
                </a:lnTo>
                <a:lnTo>
                  <a:pt x="54" y="282"/>
                </a:lnTo>
                <a:lnTo>
                  <a:pt x="25" y="273"/>
                </a:lnTo>
                <a:lnTo>
                  <a:pt x="16" y="270"/>
                </a:lnTo>
                <a:lnTo>
                  <a:pt x="10" y="270"/>
                </a:lnTo>
                <a:lnTo>
                  <a:pt x="7" y="259"/>
                </a:lnTo>
                <a:lnTo>
                  <a:pt x="7" y="248"/>
                </a:lnTo>
                <a:lnTo>
                  <a:pt x="7" y="237"/>
                </a:lnTo>
                <a:lnTo>
                  <a:pt x="7" y="224"/>
                </a:lnTo>
                <a:lnTo>
                  <a:pt x="893" y="494"/>
                </a:lnTo>
                <a:lnTo>
                  <a:pt x="1234" y="382"/>
                </a:lnTo>
                <a:lnTo>
                  <a:pt x="1246" y="371"/>
                </a:lnTo>
                <a:lnTo>
                  <a:pt x="1264" y="358"/>
                </a:lnTo>
                <a:lnTo>
                  <a:pt x="1286" y="346"/>
                </a:lnTo>
                <a:lnTo>
                  <a:pt x="1310" y="333"/>
                </a:lnTo>
                <a:lnTo>
                  <a:pt x="1333" y="320"/>
                </a:lnTo>
                <a:lnTo>
                  <a:pt x="1357" y="308"/>
                </a:lnTo>
                <a:lnTo>
                  <a:pt x="1377" y="298"/>
                </a:lnTo>
                <a:lnTo>
                  <a:pt x="1395" y="291"/>
                </a:lnTo>
                <a:lnTo>
                  <a:pt x="1400" y="302"/>
                </a:lnTo>
                <a:lnTo>
                  <a:pt x="1398" y="313"/>
                </a:lnTo>
                <a:lnTo>
                  <a:pt x="1391" y="322"/>
                </a:lnTo>
                <a:lnTo>
                  <a:pt x="1382" y="333"/>
                </a:lnTo>
                <a:lnTo>
                  <a:pt x="1373" y="342"/>
                </a:lnTo>
                <a:lnTo>
                  <a:pt x="1362" y="351"/>
                </a:lnTo>
                <a:lnTo>
                  <a:pt x="1353" y="360"/>
                </a:lnTo>
                <a:lnTo>
                  <a:pt x="1348" y="371"/>
                </a:lnTo>
                <a:lnTo>
                  <a:pt x="1331" y="398"/>
                </a:lnTo>
                <a:lnTo>
                  <a:pt x="1322" y="422"/>
                </a:lnTo>
                <a:lnTo>
                  <a:pt x="1322" y="445"/>
                </a:lnTo>
                <a:lnTo>
                  <a:pt x="1328" y="470"/>
                </a:lnTo>
                <a:lnTo>
                  <a:pt x="1339" y="496"/>
                </a:lnTo>
                <a:lnTo>
                  <a:pt x="1353" y="523"/>
                </a:lnTo>
                <a:lnTo>
                  <a:pt x="1371" y="556"/>
                </a:lnTo>
                <a:lnTo>
                  <a:pt x="1391" y="592"/>
                </a:lnTo>
                <a:lnTo>
                  <a:pt x="1415" y="630"/>
                </a:lnTo>
                <a:lnTo>
                  <a:pt x="1438" y="666"/>
                </a:lnTo>
                <a:lnTo>
                  <a:pt x="1463" y="702"/>
                </a:lnTo>
                <a:lnTo>
                  <a:pt x="1491" y="737"/>
                </a:lnTo>
                <a:lnTo>
                  <a:pt x="1518" y="771"/>
                </a:lnTo>
                <a:lnTo>
                  <a:pt x="1547" y="805"/>
                </a:lnTo>
                <a:lnTo>
                  <a:pt x="1579" y="836"/>
                </a:lnTo>
                <a:lnTo>
                  <a:pt x="1612" y="867"/>
                </a:lnTo>
                <a:lnTo>
                  <a:pt x="1634" y="876"/>
                </a:lnTo>
                <a:lnTo>
                  <a:pt x="1657" y="885"/>
                </a:lnTo>
                <a:lnTo>
                  <a:pt x="1679" y="892"/>
                </a:lnTo>
                <a:lnTo>
                  <a:pt x="1702" y="900"/>
                </a:lnTo>
                <a:lnTo>
                  <a:pt x="1728" y="903"/>
                </a:lnTo>
                <a:lnTo>
                  <a:pt x="1751" y="905"/>
                </a:lnTo>
                <a:lnTo>
                  <a:pt x="1777" y="903"/>
                </a:lnTo>
                <a:lnTo>
                  <a:pt x="1802" y="900"/>
                </a:lnTo>
                <a:lnTo>
                  <a:pt x="1836" y="881"/>
                </a:lnTo>
                <a:lnTo>
                  <a:pt x="1869" y="860"/>
                </a:lnTo>
                <a:lnTo>
                  <a:pt x="1900" y="836"/>
                </a:lnTo>
                <a:lnTo>
                  <a:pt x="1930" y="807"/>
                </a:lnTo>
                <a:lnTo>
                  <a:pt x="1957" y="778"/>
                </a:lnTo>
                <a:lnTo>
                  <a:pt x="1983" y="747"/>
                </a:lnTo>
                <a:lnTo>
                  <a:pt x="2005" y="713"/>
                </a:lnTo>
                <a:lnTo>
                  <a:pt x="2023" y="679"/>
                </a:lnTo>
                <a:lnTo>
                  <a:pt x="2234" y="52"/>
                </a:lnTo>
                <a:lnTo>
                  <a:pt x="2245" y="41"/>
                </a:lnTo>
                <a:lnTo>
                  <a:pt x="2258" y="29"/>
                </a:lnTo>
                <a:lnTo>
                  <a:pt x="2271" y="18"/>
                </a:lnTo>
                <a:lnTo>
                  <a:pt x="2283" y="9"/>
                </a:lnTo>
                <a:lnTo>
                  <a:pt x="2298" y="2"/>
                </a:lnTo>
                <a:lnTo>
                  <a:pt x="2314" y="0"/>
                </a:lnTo>
                <a:lnTo>
                  <a:pt x="2330" y="2"/>
                </a:lnTo>
                <a:lnTo>
                  <a:pt x="2347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608360" y="4865760"/>
            <a:ext cx="900360" cy="1081080"/>
          </a:xfrm>
          <a:custGeom>
            <a:avLst/>
            <a:gdLst/>
            <a:ahLst/>
            <a:rect l="l" t="t" r="r" b="b"/>
            <a:pathLst>
              <a:path w="1135" h="1419">
                <a:moveTo>
                  <a:pt x="559" y="1419"/>
                </a:moveTo>
                <a:lnTo>
                  <a:pt x="516" y="1419"/>
                </a:lnTo>
                <a:lnTo>
                  <a:pt x="521" y="1380"/>
                </a:lnTo>
                <a:lnTo>
                  <a:pt x="536" y="1271"/>
                </a:lnTo>
                <a:lnTo>
                  <a:pt x="556" y="1115"/>
                </a:lnTo>
                <a:lnTo>
                  <a:pt x="583" y="932"/>
                </a:lnTo>
                <a:lnTo>
                  <a:pt x="612" y="744"/>
                </a:lnTo>
                <a:lnTo>
                  <a:pt x="643" y="568"/>
                </a:lnTo>
                <a:lnTo>
                  <a:pt x="673" y="427"/>
                </a:lnTo>
                <a:lnTo>
                  <a:pt x="701" y="339"/>
                </a:lnTo>
                <a:lnTo>
                  <a:pt x="730" y="326"/>
                </a:lnTo>
                <a:lnTo>
                  <a:pt x="762" y="313"/>
                </a:lnTo>
                <a:lnTo>
                  <a:pt x="797" y="304"/>
                </a:lnTo>
                <a:lnTo>
                  <a:pt x="831" y="297"/>
                </a:lnTo>
                <a:lnTo>
                  <a:pt x="865" y="295"/>
                </a:lnTo>
                <a:lnTo>
                  <a:pt x="901" y="297"/>
                </a:lnTo>
                <a:lnTo>
                  <a:pt x="934" y="304"/>
                </a:lnTo>
                <a:lnTo>
                  <a:pt x="967" y="319"/>
                </a:lnTo>
                <a:lnTo>
                  <a:pt x="878" y="882"/>
                </a:lnTo>
                <a:lnTo>
                  <a:pt x="903" y="873"/>
                </a:lnTo>
                <a:lnTo>
                  <a:pt x="930" y="860"/>
                </a:lnTo>
                <a:lnTo>
                  <a:pt x="958" y="845"/>
                </a:lnTo>
                <a:lnTo>
                  <a:pt x="987" y="827"/>
                </a:lnTo>
                <a:lnTo>
                  <a:pt x="1012" y="806"/>
                </a:lnTo>
                <a:lnTo>
                  <a:pt x="1034" y="784"/>
                </a:lnTo>
                <a:lnTo>
                  <a:pt x="1052" y="759"/>
                </a:lnTo>
                <a:lnTo>
                  <a:pt x="1063" y="733"/>
                </a:lnTo>
                <a:lnTo>
                  <a:pt x="1068" y="677"/>
                </a:lnTo>
                <a:lnTo>
                  <a:pt x="1081" y="547"/>
                </a:lnTo>
                <a:lnTo>
                  <a:pt x="1093" y="406"/>
                </a:lnTo>
                <a:lnTo>
                  <a:pt x="1099" y="310"/>
                </a:lnTo>
                <a:lnTo>
                  <a:pt x="1097" y="282"/>
                </a:lnTo>
                <a:lnTo>
                  <a:pt x="1093" y="252"/>
                </a:lnTo>
                <a:lnTo>
                  <a:pt x="1086" y="219"/>
                </a:lnTo>
                <a:lnTo>
                  <a:pt x="1077" y="186"/>
                </a:lnTo>
                <a:lnTo>
                  <a:pt x="1064" y="154"/>
                </a:lnTo>
                <a:lnTo>
                  <a:pt x="1048" y="121"/>
                </a:lnTo>
                <a:lnTo>
                  <a:pt x="1026" y="94"/>
                </a:lnTo>
                <a:lnTo>
                  <a:pt x="1001" y="69"/>
                </a:lnTo>
                <a:lnTo>
                  <a:pt x="958" y="60"/>
                </a:lnTo>
                <a:lnTo>
                  <a:pt x="912" y="53"/>
                </a:lnTo>
                <a:lnTo>
                  <a:pt x="869" y="49"/>
                </a:lnTo>
                <a:lnTo>
                  <a:pt x="825" y="47"/>
                </a:lnTo>
                <a:lnTo>
                  <a:pt x="782" y="47"/>
                </a:lnTo>
                <a:lnTo>
                  <a:pt x="739" y="49"/>
                </a:lnTo>
                <a:lnTo>
                  <a:pt x="693" y="54"/>
                </a:lnTo>
                <a:lnTo>
                  <a:pt x="652" y="60"/>
                </a:lnTo>
                <a:lnTo>
                  <a:pt x="608" y="69"/>
                </a:lnTo>
                <a:lnTo>
                  <a:pt x="567" y="78"/>
                </a:lnTo>
                <a:lnTo>
                  <a:pt x="523" y="91"/>
                </a:lnTo>
                <a:lnTo>
                  <a:pt x="483" y="103"/>
                </a:lnTo>
                <a:lnTo>
                  <a:pt x="442" y="118"/>
                </a:lnTo>
                <a:lnTo>
                  <a:pt x="402" y="132"/>
                </a:lnTo>
                <a:lnTo>
                  <a:pt x="362" y="148"/>
                </a:lnTo>
                <a:lnTo>
                  <a:pt x="324" y="167"/>
                </a:lnTo>
                <a:lnTo>
                  <a:pt x="268" y="197"/>
                </a:lnTo>
                <a:lnTo>
                  <a:pt x="225" y="230"/>
                </a:lnTo>
                <a:lnTo>
                  <a:pt x="194" y="263"/>
                </a:lnTo>
                <a:lnTo>
                  <a:pt x="172" y="297"/>
                </a:lnTo>
                <a:lnTo>
                  <a:pt x="156" y="331"/>
                </a:lnTo>
                <a:lnTo>
                  <a:pt x="143" y="369"/>
                </a:lnTo>
                <a:lnTo>
                  <a:pt x="131" y="407"/>
                </a:lnTo>
                <a:lnTo>
                  <a:pt x="114" y="447"/>
                </a:lnTo>
                <a:lnTo>
                  <a:pt x="71" y="731"/>
                </a:lnTo>
                <a:lnTo>
                  <a:pt x="73" y="771"/>
                </a:lnTo>
                <a:lnTo>
                  <a:pt x="76" y="811"/>
                </a:lnTo>
                <a:lnTo>
                  <a:pt x="82" y="851"/>
                </a:lnTo>
                <a:lnTo>
                  <a:pt x="89" y="889"/>
                </a:lnTo>
                <a:lnTo>
                  <a:pt x="102" y="923"/>
                </a:lnTo>
                <a:lnTo>
                  <a:pt x="120" y="956"/>
                </a:lnTo>
                <a:lnTo>
                  <a:pt x="143" y="985"/>
                </a:lnTo>
                <a:lnTo>
                  <a:pt x="174" y="1007"/>
                </a:lnTo>
                <a:lnTo>
                  <a:pt x="201" y="1017"/>
                </a:lnTo>
                <a:lnTo>
                  <a:pt x="226" y="1027"/>
                </a:lnTo>
                <a:lnTo>
                  <a:pt x="252" y="1034"/>
                </a:lnTo>
                <a:lnTo>
                  <a:pt x="274" y="1039"/>
                </a:lnTo>
                <a:lnTo>
                  <a:pt x="295" y="1045"/>
                </a:lnTo>
                <a:lnTo>
                  <a:pt x="317" y="1048"/>
                </a:lnTo>
                <a:lnTo>
                  <a:pt x="337" y="1050"/>
                </a:lnTo>
                <a:lnTo>
                  <a:pt x="357" y="1050"/>
                </a:lnTo>
                <a:lnTo>
                  <a:pt x="375" y="1050"/>
                </a:lnTo>
                <a:lnTo>
                  <a:pt x="395" y="1050"/>
                </a:lnTo>
                <a:lnTo>
                  <a:pt x="413" y="1048"/>
                </a:lnTo>
                <a:lnTo>
                  <a:pt x="433" y="1045"/>
                </a:lnTo>
                <a:lnTo>
                  <a:pt x="453" y="1041"/>
                </a:lnTo>
                <a:lnTo>
                  <a:pt x="473" y="1036"/>
                </a:lnTo>
                <a:lnTo>
                  <a:pt x="494" y="1030"/>
                </a:lnTo>
                <a:lnTo>
                  <a:pt x="518" y="1025"/>
                </a:lnTo>
                <a:lnTo>
                  <a:pt x="523" y="1032"/>
                </a:lnTo>
                <a:lnTo>
                  <a:pt x="523" y="1043"/>
                </a:lnTo>
                <a:lnTo>
                  <a:pt x="520" y="1056"/>
                </a:lnTo>
                <a:lnTo>
                  <a:pt x="518" y="1065"/>
                </a:lnTo>
                <a:lnTo>
                  <a:pt x="496" y="1072"/>
                </a:lnTo>
                <a:lnTo>
                  <a:pt x="474" y="1077"/>
                </a:lnTo>
                <a:lnTo>
                  <a:pt x="455" y="1084"/>
                </a:lnTo>
                <a:lnTo>
                  <a:pt x="435" y="1088"/>
                </a:lnTo>
                <a:lnTo>
                  <a:pt x="415" y="1092"/>
                </a:lnTo>
                <a:lnTo>
                  <a:pt x="395" y="1095"/>
                </a:lnTo>
                <a:lnTo>
                  <a:pt x="375" y="1099"/>
                </a:lnTo>
                <a:lnTo>
                  <a:pt x="355" y="1099"/>
                </a:lnTo>
                <a:lnTo>
                  <a:pt x="335" y="1101"/>
                </a:lnTo>
                <a:lnTo>
                  <a:pt x="317" y="1101"/>
                </a:lnTo>
                <a:lnTo>
                  <a:pt x="297" y="1099"/>
                </a:lnTo>
                <a:lnTo>
                  <a:pt x="277" y="1097"/>
                </a:lnTo>
                <a:lnTo>
                  <a:pt x="257" y="1094"/>
                </a:lnTo>
                <a:lnTo>
                  <a:pt x="236" y="1090"/>
                </a:lnTo>
                <a:lnTo>
                  <a:pt x="216" y="1084"/>
                </a:lnTo>
                <a:lnTo>
                  <a:pt x="194" y="1079"/>
                </a:lnTo>
                <a:lnTo>
                  <a:pt x="167" y="1068"/>
                </a:lnTo>
                <a:lnTo>
                  <a:pt x="138" y="1056"/>
                </a:lnTo>
                <a:lnTo>
                  <a:pt x="112" y="1039"/>
                </a:lnTo>
                <a:lnTo>
                  <a:pt x="87" y="1021"/>
                </a:lnTo>
                <a:lnTo>
                  <a:pt x="64" y="999"/>
                </a:lnTo>
                <a:lnTo>
                  <a:pt x="44" y="976"/>
                </a:lnTo>
                <a:lnTo>
                  <a:pt x="29" y="950"/>
                </a:lnTo>
                <a:lnTo>
                  <a:pt x="17" y="922"/>
                </a:lnTo>
                <a:lnTo>
                  <a:pt x="4" y="835"/>
                </a:lnTo>
                <a:lnTo>
                  <a:pt x="0" y="748"/>
                </a:lnTo>
                <a:lnTo>
                  <a:pt x="2" y="661"/>
                </a:lnTo>
                <a:lnTo>
                  <a:pt x="11" y="574"/>
                </a:lnTo>
                <a:lnTo>
                  <a:pt x="26" y="489"/>
                </a:lnTo>
                <a:lnTo>
                  <a:pt x="46" y="406"/>
                </a:lnTo>
                <a:lnTo>
                  <a:pt x="69" y="324"/>
                </a:lnTo>
                <a:lnTo>
                  <a:pt x="98" y="246"/>
                </a:lnTo>
                <a:lnTo>
                  <a:pt x="112" y="223"/>
                </a:lnTo>
                <a:lnTo>
                  <a:pt x="127" y="203"/>
                </a:lnTo>
                <a:lnTo>
                  <a:pt x="141" y="185"/>
                </a:lnTo>
                <a:lnTo>
                  <a:pt x="156" y="168"/>
                </a:lnTo>
                <a:lnTo>
                  <a:pt x="172" y="156"/>
                </a:lnTo>
                <a:lnTo>
                  <a:pt x="188" y="143"/>
                </a:lnTo>
                <a:lnTo>
                  <a:pt x="207" y="132"/>
                </a:lnTo>
                <a:lnTo>
                  <a:pt x="225" y="123"/>
                </a:lnTo>
                <a:lnTo>
                  <a:pt x="245" y="114"/>
                </a:lnTo>
                <a:lnTo>
                  <a:pt x="266" y="107"/>
                </a:lnTo>
                <a:lnTo>
                  <a:pt x="288" y="100"/>
                </a:lnTo>
                <a:lnTo>
                  <a:pt x="313" y="92"/>
                </a:lnTo>
                <a:lnTo>
                  <a:pt x="339" y="85"/>
                </a:lnTo>
                <a:lnTo>
                  <a:pt x="366" y="78"/>
                </a:lnTo>
                <a:lnTo>
                  <a:pt x="397" y="71"/>
                </a:lnTo>
                <a:lnTo>
                  <a:pt x="429" y="62"/>
                </a:lnTo>
                <a:lnTo>
                  <a:pt x="433" y="62"/>
                </a:lnTo>
                <a:lnTo>
                  <a:pt x="442" y="60"/>
                </a:lnTo>
                <a:lnTo>
                  <a:pt x="456" y="56"/>
                </a:lnTo>
                <a:lnTo>
                  <a:pt x="476" y="53"/>
                </a:lnTo>
                <a:lnTo>
                  <a:pt x="502" y="47"/>
                </a:lnTo>
                <a:lnTo>
                  <a:pt x="529" y="42"/>
                </a:lnTo>
                <a:lnTo>
                  <a:pt x="558" y="36"/>
                </a:lnTo>
                <a:lnTo>
                  <a:pt x="590" y="31"/>
                </a:lnTo>
                <a:lnTo>
                  <a:pt x="625" y="25"/>
                </a:lnTo>
                <a:lnTo>
                  <a:pt x="657" y="20"/>
                </a:lnTo>
                <a:lnTo>
                  <a:pt x="692" y="14"/>
                </a:lnTo>
                <a:lnTo>
                  <a:pt x="724" y="9"/>
                </a:lnTo>
                <a:lnTo>
                  <a:pt x="757" y="5"/>
                </a:lnTo>
                <a:lnTo>
                  <a:pt x="786" y="2"/>
                </a:lnTo>
                <a:lnTo>
                  <a:pt x="811" y="0"/>
                </a:lnTo>
                <a:lnTo>
                  <a:pt x="835" y="0"/>
                </a:lnTo>
                <a:lnTo>
                  <a:pt x="874" y="0"/>
                </a:lnTo>
                <a:lnTo>
                  <a:pt x="914" y="4"/>
                </a:lnTo>
                <a:lnTo>
                  <a:pt x="952" y="11"/>
                </a:lnTo>
                <a:lnTo>
                  <a:pt x="988" y="20"/>
                </a:lnTo>
                <a:lnTo>
                  <a:pt x="1021" y="34"/>
                </a:lnTo>
                <a:lnTo>
                  <a:pt x="1050" y="53"/>
                </a:lnTo>
                <a:lnTo>
                  <a:pt x="1077" y="78"/>
                </a:lnTo>
                <a:lnTo>
                  <a:pt x="1099" y="109"/>
                </a:lnTo>
                <a:lnTo>
                  <a:pt x="1117" y="154"/>
                </a:lnTo>
                <a:lnTo>
                  <a:pt x="1128" y="206"/>
                </a:lnTo>
                <a:lnTo>
                  <a:pt x="1133" y="266"/>
                </a:lnTo>
                <a:lnTo>
                  <a:pt x="1135" y="328"/>
                </a:lnTo>
                <a:lnTo>
                  <a:pt x="1135" y="391"/>
                </a:lnTo>
                <a:lnTo>
                  <a:pt x="1131" y="454"/>
                </a:lnTo>
                <a:lnTo>
                  <a:pt x="1129" y="514"/>
                </a:lnTo>
                <a:lnTo>
                  <a:pt x="1129" y="568"/>
                </a:lnTo>
                <a:lnTo>
                  <a:pt x="1126" y="614"/>
                </a:lnTo>
                <a:lnTo>
                  <a:pt x="1124" y="655"/>
                </a:lnTo>
                <a:lnTo>
                  <a:pt x="1120" y="699"/>
                </a:lnTo>
                <a:lnTo>
                  <a:pt x="1113" y="739"/>
                </a:lnTo>
                <a:lnTo>
                  <a:pt x="1101" y="777"/>
                </a:lnTo>
                <a:lnTo>
                  <a:pt x="1082" y="811"/>
                </a:lnTo>
                <a:lnTo>
                  <a:pt x="1057" y="844"/>
                </a:lnTo>
                <a:lnTo>
                  <a:pt x="1021" y="873"/>
                </a:lnTo>
                <a:lnTo>
                  <a:pt x="1003" y="884"/>
                </a:lnTo>
                <a:lnTo>
                  <a:pt x="983" y="896"/>
                </a:lnTo>
                <a:lnTo>
                  <a:pt x="965" y="907"/>
                </a:lnTo>
                <a:lnTo>
                  <a:pt x="947" y="918"/>
                </a:lnTo>
                <a:lnTo>
                  <a:pt x="927" y="931"/>
                </a:lnTo>
                <a:lnTo>
                  <a:pt x="909" y="940"/>
                </a:lnTo>
                <a:lnTo>
                  <a:pt x="889" y="949"/>
                </a:lnTo>
                <a:lnTo>
                  <a:pt x="869" y="958"/>
                </a:lnTo>
                <a:lnTo>
                  <a:pt x="791" y="1419"/>
                </a:lnTo>
                <a:lnTo>
                  <a:pt x="751" y="1419"/>
                </a:lnTo>
                <a:lnTo>
                  <a:pt x="925" y="339"/>
                </a:lnTo>
                <a:lnTo>
                  <a:pt x="907" y="335"/>
                </a:lnTo>
                <a:lnTo>
                  <a:pt x="882" y="335"/>
                </a:lnTo>
                <a:lnTo>
                  <a:pt x="853" y="339"/>
                </a:lnTo>
                <a:lnTo>
                  <a:pt x="820" y="344"/>
                </a:lnTo>
                <a:lnTo>
                  <a:pt x="786" y="353"/>
                </a:lnTo>
                <a:lnTo>
                  <a:pt x="757" y="362"/>
                </a:lnTo>
                <a:lnTo>
                  <a:pt x="731" y="369"/>
                </a:lnTo>
                <a:lnTo>
                  <a:pt x="713" y="378"/>
                </a:lnTo>
                <a:lnTo>
                  <a:pt x="559" y="14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746600" y="4948200"/>
            <a:ext cx="534960" cy="628560"/>
          </a:xfrm>
          <a:custGeom>
            <a:avLst/>
            <a:gdLst/>
            <a:ahLst/>
            <a:rect l="l" t="t" r="r" b="b"/>
            <a:pathLst>
              <a:path w="673" h="828">
                <a:moveTo>
                  <a:pt x="673" y="0"/>
                </a:moveTo>
                <a:lnTo>
                  <a:pt x="640" y="9"/>
                </a:lnTo>
                <a:lnTo>
                  <a:pt x="610" y="18"/>
                </a:lnTo>
                <a:lnTo>
                  <a:pt x="579" y="27"/>
                </a:lnTo>
                <a:lnTo>
                  <a:pt x="548" y="36"/>
                </a:lnTo>
                <a:lnTo>
                  <a:pt x="519" y="45"/>
                </a:lnTo>
                <a:lnTo>
                  <a:pt x="490" y="55"/>
                </a:lnTo>
                <a:lnTo>
                  <a:pt x="463" y="65"/>
                </a:lnTo>
                <a:lnTo>
                  <a:pt x="434" y="74"/>
                </a:lnTo>
                <a:lnTo>
                  <a:pt x="407" y="83"/>
                </a:lnTo>
                <a:lnTo>
                  <a:pt x="380" y="94"/>
                </a:lnTo>
                <a:lnTo>
                  <a:pt x="355" y="103"/>
                </a:lnTo>
                <a:lnTo>
                  <a:pt x="327" y="112"/>
                </a:lnTo>
                <a:lnTo>
                  <a:pt x="300" y="123"/>
                </a:lnTo>
                <a:lnTo>
                  <a:pt x="275" y="132"/>
                </a:lnTo>
                <a:lnTo>
                  <a:pt x="248" y="143"/>
                </a:lnTo>
                <a:lnTo>
                  <a:pt x="222" y="152"/>
                </a:lnTo>
                <a:lnTo>
                  <a:pt x="181" y="183"/>
                </a:lnTo>
                <a:lnTo>
                  <a:pt x="148" y="221"/>
                </a:lnTo>
                <a:lnTo>
                  <a:pt x="123" y="263"/>
                </a:lnTo>
                <a:lnTo>
                  <a:pt x="105" y="310"/>
                </a:lnTo>
                <a:lnTo>
                  <a:pt x="90" y="359"/>
                </a:lnTo>
                <a:lnTo>
                  <a:pt x="79" y="409"/>
                </a:lnTo>
                <a:lnTo>
                  <a:pt x="70" y="460"/>
                </a:lnTo>
                <a:lnTo>
                  <a:pt x="61" y="509"/>
                </a:lnTo>
                <a:lnTo>
                  <a:pt x="56" y="826"/>
                </a:lnTo>
                <a:lnTo>
                  <a:pt x="50" y="828"/>
                </a:lnTo>
                <a:lnTo>
                  <a:pt x="43" y="828"/>
                </a:lnTo>
                <a:lnTo>
                  <a:pt x="34" y="826"/>
                </a:lnTo>
                <a:lnTo>
                  <a:pt x="25" y="824"/>
                </a:lnTo>
                <a:lnTo>
                  <a:pt x="16" y="820"/>
                </a:lnTo>
                <a:lnTo>
                  <a:pt x="9" y="819"/>
                </a:lnTo>
                <a:lnTo>
                  <a:pt x="3" y="815"/>
                </a:lnTo>
                <a:lnTo>
                  <a:pt x="2" y="815"/>
                </a:lnTo>
                <a:lnTo>
                  <a:pt x="0" y="732"/>
                </a:lnTo>
                <a:lnTo>
                  <a:pt x="0" y="648"/>
                </a:lnTo>
                <a:lnTo>
                  <a:pt x="3" y="563"/>
                </a:lnTo>
                <a:lnTo>
                  <a:pt x="11" y="482"/>
                </a:lnTo>
                <a:lnTo>
                  <a:pt x="25" y="400"/>
                </a:lnTo>
                <a:lnTo>
                  <a:pt x="47" y="322"/>
                </a:lnTo>
                <a:lnTo>
                  <a:pt x="78" y="250"/>
                </a:lnTo>
                <a:lnTo>
                  <a:pt x="119" y="181"/>
                </a:lnTo>
                <a:lnTo>
                  <a:pt x="145" y="165"/>
                </a:lnTo>
                <a:lnTo>
                  <a:pt x="172" y="149"/>
                </a:lnTo>
                <a:lnTo>
                  <a:pt x="199" y="134"/>
                </a:lnTo>
                <a:lnTo>
                  <a:pt x="226" y="121"/>
                </a:lnTo>
                <a:lnTo>
                  <a:pt x="253" y="109"/>
                </a:lnTo>
                <a:lnTo>
                  <a:pt x="282" y="96"/>
                </a:lnTo>
                <a:lnTo>
                  <a:pt x="311" y="85"/>
                </a:lnTo>
                <a:lnTo>
                  <a:pt x="340" y="76"/>
                </a:lnTo>
                <a:lnTo>
                  <a:pt x="369" y="65"/>
                </a:lnTo>
                <a:lnTo>
                  <a:pt x="398" y="58"/>
                </a:lnTo>
                <a:lnTo>
                  <a:pt x="427" y="49"/>
                </a:lnTo>
                <a:lnTo>
                  <a:pt x="458" y="40"/>
                </a:lnTo>
                <a:lnTo>
                  <a:pt x="487" y="33"/>
                </a:lnTo>
                <a:lnTo>
                  <a:pt x="517" y="26"/>
                </a:lnTo>
                <a:lnTo>
                  <a:pt x="546" y="18"/>
                </a:lnTo>
                <a:lnTo>
                  <a:pt x="577" y="11"/>
                </a:lnTo>
                <a:lnTo>
                  <a:pt x="590" y="9"/>
                </a:lnTo>
                <a:lnTo>
                  <a:pt x="601" y="7"/>
                </a:lnTo>
                <a:lnTo>
                  <a:pt x="613" y="6"/>
                </a:lnTo>
                <a:lnTo>
                  <a:pt x="626" y="6"/>
                </a:lnTo>
                <a:lnTo>
                  <a:pt x="637" y="4"/>
                </a:lnTo>
                <a:lnTo>
                  <a:pt x="649" y="2"/>
                </a:lnTo>
                <a:lnTo>
                  <a:pt x="660" y="2"/>
                </a:lnTo>
                <a:lnTo>
                  <a:pt x="67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75280" y="5165640"/>
            <a:ext cx="158760" cy="792360"/>
          </a:xfrm>
          <a:custGeom>
            <a:avLst/>
            <a:gdLst/>
            <a:ahLst/>
            <a:rect l="l" t="t" r="r" b="b"/>
            <a:pathLst>
              <a:path w="201" h="1040">
                <a:moveTo>
                  <a:pt x="0" y="1040"/>
                </a:moveTo>
                <a:lnTo>
                  <a:pt x="116" y="339"/>
                </a:lnTo>
                <a:lnTo>
                  <a:pt x="178" y="9"/>
                </a:lnTo>
                <a:lnTo>
                  <a:pt x="180" y="2"/>
                </a:lnTo>
                <a:lnTo>
                  <a:pt x="185" y="0"/>
                </a:lnTo>
                <a:lnTo>
                  <a:pt x="194" y="0"/>
                </a:lnTo>
                <a:lnTo>
                  <a:pt x="201" y="0"/>
                </a:lnTo>
                <a:lnTo>
                  <a:pt x="145" y="350"/>
                </a:lnTo>
                <a:lnTo>
                  <a:pt x="31" y="1040"/>
                </a:lnTo>
                <a:lnTo>
                  <a:pt x="0" y="10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467160" y="3738600"/>
            <a:ext cx="111240" cy="473040"/>
          </a:xfrm>
          <a:custGeom>
            <a:avLst/>
            <a:gdLst/>
            <a:ahLst/>
            <a:rect l="l" t="t" r="r" b="b"/>
            <a:pathLst>
              <a:path w="139" h="621">
                <a:moveTo>
                  <a:pt x="139" y="619"/>
                </a:moveTo>
                <a:lnTo>
                  <a:pt x="124" y="0"/>
                </a:lnTo>
                <a:lnTo>
                  <a:pt x="0" y="1"/>
                </a:lnTo>
                <a:lnTo>
                  <a:pt x="14" y="621"/>
                </a:lnTo>
                <a:lnTo>
                  <a:pt x="139" y="619"/>
                </a:lnTo>
                <a:close/>
              </a:path>
            </a:pathLst>
          </a:custGeom>
          <a:solidFill>
            <a:srgbClr val="9e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606840" y="3546360"/>
            <a:ext cx="112680" cy="652680"/>
          </a:xfrm>
          <a:custGeom>
            <a:avLst/>
            <a:gdLst/>
            <a:ahLst/>
            <a:rect l="l" t="t" r="r" b="b"/>
            <a:pathLst>
              <a:path w="141" h="856">
                <a:moveTo>
                  <a:pt x="141" y="853"/>
                </a:moveTo>
                <a:lnTo>
                  <a:pt x="125" y="0"/>
                </a:lnTo>
                <a:lnTo>
                  <a:pt x="0" y="2"/>
                </a:lnTo>
                <a:lnTo>
                  <a:pt x="15" y="856"/>
                </a:lnTo>
                <a:lnTo>
                  <a:pt x="141" y="853"/>
                </a:lnTo>
                <a:close/>
              </a:path>
            </a:pathLst>
          </a:custGeom>
          <a:solidFill>
            <a:srgbClr val="9e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746520" y="3659040"/>
            <a:ext cx="111240" cy="538200"/>
          </a:xfrm>
          <a:custGeom>
            <a:avLst/>
            <a:gdLst/>
            <a:ahLst/>
            <a:rect l="l" t="t" r="r" b="b"/>
            <a:pathLst>
              <a:path w="141" h="706">
                <a:moveTo>
                  <a:pt x="141" y="704"/>
                </a:moveTo>
                <a:lnTo>
                  <a:pt x="124" y="0"/>
                </a:lnTo>
                <a:lnTo>
                  <a:pt x="0" y="4"/>
                </a:lnTo>
                <a:lnTo>
                  <a:pt x="14" y="706"/>
                </a:lnTo>
                <a:lnTo>
                  <a:pt x="141" y="704"/>
                </a:lnTo>
                <a:close/>
              </a:path>
            </a:pathLst>
          </a:custGeom>
          <a:solidFill>
            <a:srgbClr val="9e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763640" y="2276640"/>
            <a:ext cx="576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Вводное занятие.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В каких профессиях нужны знания по биологии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1571400" cy="15303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659640" y="3860640"/>
            <a:ext cx="1450800" cy="18241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539640" y="3284640"/>
            <a:ext cx="1900440" cy="12571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3708360" y="4581360"/>
            <a:ext cx="1451160" cy="18003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6084720" y="907920"/>
            <a:ext cx="2016360" cy="1446480"/>
          </a:xfrm>
          <a:prstGeom prst="rect">
            <a:avLst/>
          </a:prstGeom>
          <a:ln w="0">
            <a:noFill/>
          </a:ln>
        </p:spPr>
      </p:pic>
      <p:pic>
        <p:nvPicPr>
          <p:cNvPr id="192" name="0002" descr=""/>
          <p:cNvPicPr/>
          <p:nvPr/>
        </p:nvPicPr>
        <p:blipFill>
          <a:blip r:embed="rId6"/>
          <a:stretch/>
        </p:blipFill>
        <p:spPr>
          <a:xfrm>
            <a:off x="3132000" y="260280"/>
            <a:ext cx="2160720" cy="162108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771640" y="2205000"/>
            <a:ext cx="5175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Микробиолог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ути получения профессии.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Практическое заняти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абота с микроскопо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1882800" cy="302400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564000" y="907920"/>
            <a:ext cx="4572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рофессии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коневод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инструктор по конному туризму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Иппотерапия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Коневодство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Тренерская работа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ути получения професси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Экскурсия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 конюшню Загородного парк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2987640" cy="23907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403280" y="836640"/>
            <a:ext cx="6588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рофессия цветовод – декоратор. Просмотр презентации. Беседа. Обсуждение материал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ути получения професси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Комнатное цветоводство – секреты успех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203640" y="4076640"/>
            <a:ext cx="3240000" cy="243036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547640" y="765000"/>
            <a:ext cx="590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Основы селекционной работы. Основы генетик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елекция фиалок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Практическое занятие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Комнатные растения. Вегетативное размножени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700360" y="3860640"/>
            <a:ext cx="3600360" cy="269568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55640" y="836640"/>
            <a:ext cx="5111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Врач. Медсестр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стреча с медработником. Пути получения професси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Практическое занятие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«Приемы оказания первой помощи»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5364000" y="1989000"/>
            <a:ext cx="2659320" cy="417528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619280" y="189000"/>
            <a:ext cx="5977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Ландшафтный архитектор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ути получения профессии.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Практическая работа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по составлению проекта садового участк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Компьютерная программ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«Сад и огород»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Работа по составлению проект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2627280" y="3789360"/>
            <a:ext cx="4176720" cy="28353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veta</cp:lastModifiedBy>
  <dcterms:modified xsi:type="dcterms:W3CDTF">2006-07-01T18:16:42Z</dcterms:modified>
  <cp:revision>8</cp:revision>
  <dc:subject/>
  <dc:title>PowerPoint Presentation</dc:title>
</cp:coreProperties>
</file>