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845-92DE-4AFA-8AC9-FBCBE164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C4C-A12C-40C2-8A6D-F4A53835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74F-27C1-47B9-AAB3-4261DC7E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F39-AEB5-49B8-9956-E1429C80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5F41-0BB2-45BD-BF5B-BFA8A726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1212-5D83-47D4-AA3F-D62370F3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7E88-EA6A-47FB-AD6F-8DB45F6C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1DD4-B457-4D74-98DD-E25F896C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055E-2D56-4DDD-B308-07D5123E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A35B-10AE-4339-9ECC-D326F98E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E2BC-BC21-42F5-84B9-F1F38A79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76E-CD1D-4574-9A07-0C762A16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98E2-348C-41D6-AEF5-2F7EFE16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E06A-A405-4564-869F-51A8AE05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696E-721F-418F-9309-A49FE24F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3AF8-91CA-4998-8723-7CF1B51F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EA14-B91F-420A-A490-D0880047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31A-335A-4D71-A3C1-DC81BCA5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D51-20DD-469D-9345-57D2725D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4FB-DDBC-4A5A-80AC-D590B59F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0CA-3B81-457E-B467-D9E5CB14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2EE2-2AA3-47CB-88E3-3566AEA9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F9E-0E17-473A-BA2B-8F7EC5D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C0A-2859-458A-9DA0-3D5D7128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CC56-B05F-46A8-9627-B834AA8A08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C080-63A0-4009-B17E-B64EDCFBFF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erezkadance.ru/" TargetMode="External"/><Relationship Id="rId3" Type="http://schemas.openxmlformats.org/officeDocument/2006/relationships/hyperlink" Target="http://www.studio12d.ru/" TargetMode="External"/><Relationship Id="rId4" Type="http://schemas.openxmlformats.org/officeDocument/2006/relationships/hyperlink" Target="http://www.berezkadance.ru/" TargetMode="External"/><Relationship Id="rId5" Type="http://schemas.openxmlformats.org/officeDocument/2006/relationships/hyperlink" Target="http://www.berezkadance.ru/" TargetMode="External"/><Relationship Id="rId6" Type="http://schemas.openxmlformats.org/officeDocument/2006/relationships/hyperlink" Target="http://www.berezkadance.ru/" TargetMode="External"/><Relationship Id="rId7" Type="http://schemas.openxmlformats.org/officeDocument/2006/relationships/hyperlink" Target="http://evenevent.ru/" TargetMode="External"/><Relationship Id="rId8" Type="http://schemas.openxmlformats.org/officeDocument/2006/relationships/hyperlink" Target="http://evenevent.ru/" TargetMode="External"/><Relationship Id="rId9" Type="http://schemas.openxmlformats.org/officeDocument/2006/relationships/hyperlink" Target="http://evenevent.ru/" TargetMode="External"/><Relationship Id="rId10" Type="http://schemas.openxmlformats.org/officeDocument/2006/relationships/hyperlink" Target="http://krugv.ru/" TargetMode="External"/><Relationship Id="rId11" Type="http://schemas.openxmlformats.org/officeDocument/2006/relationships/hyperlink" Target="http://krugv.ru/" TargetMode="External"/><Relationship Id="rId12" Type="http://schemas.openxmlformats.org/officeDocument/2006/relationships/hyperlink" Target="http://krugv.ru/" TargetMode="External"/><Relationship Id="rId13" Type="http://schemas.openxmlformats.org/officeDocument/2006/relationships/hyperlink" Target="http://alatau.narod.ruhttp://blogs.mail.ru" TargetMode="External"/><Relationship Id="rId14" Type="http://schemas.openxmlformats.org/officeDocument/2006/relationships/hyperlink" Target="http://alatau.narod.ruhttp://blogs.mail.ru" TargetMode="External"/><Relationship Id="rId15" Type="http://schemas.openxmlformats.org/officeDocument/2006/relationships/hyperlink" Target="http://www.tsmirna.ru/" TargetMode="External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Тема урока: </a:t>
            </a:r>
            <a:br>
              <a:rPr sz="4400"/>
            </a:b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«В хороводе были мы…»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4121280" cy="4292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12720" y="2639880"/>
            <a:ext cx="17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4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4292640"/>
            <a:ext cx="31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Учитель музы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ОУ Карельской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оршан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Тамб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Храмцова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entury Gothic"/>
              </a:rPr>
              <a:t>Хоровод «А я по лугу»</a:t>
            </a: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272360" cy="4512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513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ороводы бывают медленные, плавно скользящие и скорые плясовые, когда словно вихрь подхватит вас и закружит в радостном движении. Скорые хороводы требуют быстроты и ловкости: нужно и ритм сохранить, и танцевальные движения исполн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295884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4360" y="2924280"/>
            <a:ext cx="4267080" cy="2838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8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5292720" cy="2894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4808520" cy="295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8000" y="765000"/>
            <a:ext cx="2952720" cy="1727280"/>
          </a:xfrm>
          <a:prstGeom prst="cloudCallout">
            <a:avLst>
              <a:gd name="adj1" fmla="val 58708"/>
              <a:gd name="adj2" fmla="val 38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елей – ко бей н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й ногами, пляши с на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3860640"/>
            <a:ext cx="2953080" cy="1727280"/>
          </a:xfrm>
          <a:prstGeom prst="cloudCallout">
            <a:avLst>
              <a:gd name="adj1" fmla="val -70967"/>
              <a:gd name="adj2" fmla="val 83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й-ли, ой ли Лёл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лясать еще изволь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404640"/>
            <a:ext cx="73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вот из хоровода выбегают самые ловкие плясуны. Каждый может щегольнуть «коленцем», которое у него особенно хорошо получ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7340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Вопросы: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5290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Что означает слово «хоровод»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В чем заключается значение хоровода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Какие фигуры хоровода вы знаете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Какие бывают хороводы?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5491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809040" cy="4592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Послесловие…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Интернет – ресурсы: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2176920"/>
            <a:ext cx="51195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berezkadanc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Times New Roman"/>
              </a:rPr>
              <a:t>http://www.biser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studio12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berezkadanc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evenevent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krugv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http://alatau.narod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http://blogs.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128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tsmirn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76720" y="5479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Ход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5000"/>
            <a:ext cx="6470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комство с музыкально-танцевальным жанром русского фольклора – хорово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- определение значения хоровода на Рус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- знакомство с фигурами и основными движениями хоров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Колыбельная песня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92428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82520" y="1921320"/>
            <a:ext cx="418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Баю – баюшки, бай, б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Глазки Маша закрыв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Я тебя кач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тебя велич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Спи, дочка, до веч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Тебе делать нечего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5133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entury Gothic"/>
              </a:rPr>
              <a:t>Хоровод – «круг»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4680000" cy="374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92720" y="1694880"/>
            <a:ext cx="34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В глубокой древности люди считали, что такая фигура, как круг обладает магическими свойствами. В центр круга не могла проникнуть всякая нечистая си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4506120"/>
            <a:ext cx="827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Наши древние предки – славяне были, как известно, язычниками, т.е. поклонялись природе – ветру, солнцу, лесам, полям, Матери - земле. В их воображении природа была населена добрыми и злыми духами. Их необходимо было задабривать, чтобы они не мешали человеку в тру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60087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1264320"/>
            <a:ext cx="69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Сама форма хороводов – кругообразное движение – символ солнечного движения. А движение – это жизнь. Наверно, поэтому хороводы имели особенное значение. Хоровод был, пожалуй, самым желанным гостем на народных праздниках и участником веселых гуля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Многие нар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обряды сопровожд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хорово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92320" y="333360"/>
            <a:ext cx="56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Значение хорово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4267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704000" cy="446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63640" y="2998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Фигуры хоровод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7400" y="5949360"/>
            <a:ext cx="8573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Хороводные движения бывают простыми и слож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438720" cy="2698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4176720" cy="270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4221000"/>
            <a:ext cx="4572000" cy="2160720"/>
          </a:xfrm>
          <a:prstGeom prst="cloudCallout">
            <a:avLst>
              <a:gd name="adj1" fmla="val -20208"/>
              <a:gd name="adj2" fmla="val -73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о вот круг разомкнул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нутри него образовался второй, поменьше. И кружатся они в разны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15920"/>
            <a:ext cx="4753080" cy="1760400"/>
          </a:xfrm>
          <a:prstGeom prst="cloudCallout">
            <a:avLst>
              <a:gd name="adj1" fmla="val 54675"/>
              <a:gd name="adj2" fmla="val 63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т участники, взявш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 руки, плавно идут в одну сторону, затем в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824520" y="2654280"/>
            <a:ext cx="2319480" cy="4203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51280" y="2997360"/>
            <a:ext cx="3780000" cy="1250640"/>
          </a:xfrm>
          <a:prstGeom prst="cloudCallout">
            <a:avLst>
              <a:gd name="adj1" fmla="val 35509"/>
              <a:gd name="adj2" fmla="val 94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любимое движение хоровод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руче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4895640" cy="3278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51280" y="5445000"/>
            <a:ext cx="4392720" cy="1152720"/>
          </a:xfrm>
          <a:prstGeom prst="cloudCallout">
            <a:avLst>
              <a:gd name="adj1" fmla="val -41722"/>
              <a:gd name="adj2" fmla="val -658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перь участн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рестраиваются в ря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40360" y="333360"/>
            <a:ext cx="4627440" cy="309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765000"/>
            <a:ext cx="2808360" cy="792360"/>
          </a:xfrm>
          <a:prstGeom prst="cloudCallout">
            <a:avLst>
              <a:gd name="adj1" fmla="val 98277"/>
              <a:gd name="adj2" fmla="val -37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везд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15:18:25Z</dcterms:created>
  <dc:creator>007</dc:creator>
  <dc:description/>
  <dc:language>en-US</dc:language>
  <cp:lastModifiedBy>007</cp:lastModifiedBy>
  <dcterms:modified xsi:type="dcterms:W3CDTF">2011-07-19T17:19:36Z</dcterms:modified>
  <cp:revision>3</cp:revision>
  <dc:subject/>
  <dc:title>Тема урока:  «В хороводе были мы»</dc:title>
</cp:coreProperties>
</file>