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DC1-A849-46A2-BE23-1CDA8BD2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14B-3634-44AE-9F40-A9D22944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DC9-E034-44EF-911A-606AAC44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02D-BD9B-4FA4-9CD2-5188E11D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5146-000C-48D5-88B1-5154F4D3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867-A905-4E3F-B93B-86EE67E3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70E6-1114-4E40-8DBE-5616A4C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78A9-3421-405C-ADA4-437D20C8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42B8-4175-48E4-9F98-F10AF31E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E355-9936-4FCB-A869-03E71B0E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0FAB-E0B9-4FCC-96CB-94347F1C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B35-10FF-44F1-BBF6-33870249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E618-6DD3-4D58-937F-00782A8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2E4A-F07F-4F23-B865-A390AF1D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7C5B-349F-4B39-9E10-0B0D47A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8E2-26BC-4DBD-8D9B-24FBDEAD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ADFA-30F8-4572-B691-23D32A0D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AFC-EC72-45A6-B1AA-5EF47C45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0CA-3298-4BE3-8BF9-98839BCB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6E3-A841-4235-8883-875A95C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3FF-FDE7-40CC-A34F-73D98AB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E3D-0425-4CD6-93E5-A1ECBB8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4C1-8460-432B-8E8F-5F96DC3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FB4-88C2-428C-AC29-1F99C334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78B2-DF28-4783-B35E-1940CC675D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81F-FC3F-42DE-8E1E-54AF897100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rezkadance.ru/" TargetMode="External"/><Relationship Id="rId3" Type="http://schemas.openxmlformats.org/officeDocument/2006/relationships/hyperlink" Target="http://www.studio12d.ru/" TargetMode="External"/><Relationship Id="rId4" Type="http://schemas.openxmlformats.org/officeDocument/2006/relationships/hyperlink" Target="http://www.berezkadance.ru/" TargetMode="External"/><Relationship Id="rId5" Type="http://schemas.openxmlformats.org/officeDocument/2006/relationships/hyperlink" Target="http://www.berezkadance.ru/" TargetMode="External"/><Relationship Id="rId6" Type="http://schemas.openxmlformats.org/officeDocument/2006/relationships/hyperlink" Target="http://www.berezkadance.ru/" TargetMode="External"/><Relationship Id="rId7" Type="http://schemas.openxmlformats.org/officeDocument/2006/relationships/hyperlink" Target="http://evenevent.ru/" TargetMode="External"/><Relationship Id="rId8" Type="http://schemas.openxmlformats.org/officeDocument/2006/relationships/hyperlink" Target="http://evenevent.ru/" TargetMode="External"/><Relationship Id="rId9" Type="http://schemas.openxmlformats.org/officeDocument/2006/relationships/hyperlink" Target="http://evenevent.ru/" TargetMode="External"/><Relationship Id="rId10" Type="http://schemas.openxmlformats.org/officeDocument/2006/relationships/hyperlink" Target="http://krugv.ru/" TargetMode="External"/><Relationship Id="rId11" Type="http://schemas.openxmlformats.org/officeDocument/2006/relationships/hyperlink" Target="http://krugv.ru/" TargetMode="External"/><Relationship Id="rId12" Type="http://schemas.openxmlformats.org/officeDocument/2006/relationships/hyperlink" Target="http://krugv.ru/" TargetMode="External"/><Relationship Id="rId13" Type="http://schemas.openxmlformats.org/officeDocument/2006/relationships/hyperlink" Target="http://alatau.narod.ruhttp://blogs.mail.ru" TargetMode="External"/><Relationship Id="rId14" Type="http://schemas.openxmlformats.org/officeDocument/2006/relationships/hyperlink" Target="http://alatau.narod.ruhttp://blogs.mail.ru" TargetMode="External"/><Relationship Id="rId15" Type="http://schemas.openxmlformats.org/officeDocument/2006/relationships/hyperlink" Target="http://www.tsmirna.ru/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Тема урока: </a:t>
            </a:r>
            <a:br>
              <a:rPr sz="4400"/>
            </a:b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«В хороводе были мы…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4121280" cy="4292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2720" y="263988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4292640"/>
            <a:ext cx="31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Учитель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ОУ Карель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оршан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Тамб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Храмцова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entury Gothic"/>
              </a:rPr>
              <a:t>Хоровод «А я по лугу»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272360" cy="4512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513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роводы бывают медленные, плавно скользящие и скорые плясовые, когда словно вихрь подхватит вас и закружит в радостном движении. Скорые хороводы требуют быстроты и ловкости: нужно и ритм сохранить, и танцевальные движения ис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295884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4360" y="2924280"/>
            <a:ext cx="4267080" cy="2838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5292720" cy="289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480852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8000" y="765000"/>
            <a:ext cx="2952720" cy="1727280"/>
          </a:xfrm>
          <a:prstGeom prst="cloudCallout">
            <a:avLst>
              <a:gd name="adj1" fmla="val 58708"/>
              <a:gd name="adj2" fmla="val 38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лей – ко бей н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й ногами, пляши с 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3860640"/>
            <a:ext cx="2953080" cy="1727280"/>
          </a:xfrm>
          <a:prstGeom prst="cloudCallout">
            <a:avLst>
              <a:gd name="adj1" fmla="val -70967"/>
              <a:gd name="adj2" fmla="val 8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й-ли, ой ли Лёл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лясать еще изволь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404640"/>
            <a:ext cx="73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вот из хоровода выбегают самые ловкие плясуны. Каждый может щегольнуть «коленцем», которое у него особенно хорошо получ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734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Вопросы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5290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Что означает слово «хоровод»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В чем заключается значение хоровода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акие фигуры хоровода вы знаете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акие бывают хороводы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5491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809040" cy="459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Послесловие…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Интернет – ресурсы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176920"/>
            <a:ext cx="51195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berezkada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http://www.biser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tudio12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berezkada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evenevent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krugv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http://alatau.narod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http://blogs.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tsmirn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76720" y="5479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Ход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5000"/>
            <a:ext cx="647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комство с музыкально-танцевальным жанром русского фольклора – хорово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определение значения хоровода на Рус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знакомство с фигурами и основными движениями хоров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Колыбельная песня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92428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82520" y="1921320"/>
            <a:ext cx="418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Баю – баюшки, бай, б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Глазки Маша закры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Я тебя кач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ебя велич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Спи, дочка, до веч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ебе делать нечего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5133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Хоровод – «круг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680000" cy="37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92720" y="1694880"/>
            <a:ext cx="34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В глубокой древности люди считали, что такая фигура, как круг обладает магическими свойствами. В центр круга не могла проникнуть всякая нечистая 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4506120"/>
            <a:ext cx="827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Наши древние предки – славяне были, как известно, язычниками, т.е. поклонялись природе – ветру, солнцу, лесам, полям, Матери - земле. В их воображении природа была населена добрыми и злыми духами. Их необходимо было задабривать, чтобы они не мешали человеку в тру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0087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264320"/>
            <a:ext cx="69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ама форма хороводов – кругообразное движение – символ солнечного движения. А движение – это жизнь. Наверно, поэтому хороводы имели особенное значение. Хоровод был, пожалуй, самым желанным гостем на народных праздниках и участником веселых гул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Многие на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обряды сопровожд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хоров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92320" y="33336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начение хорово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4267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704000" cy="446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63640" y="2998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Фигуры хорово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7400" y="5949360"/>
            <a:ext cx="8573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Хороводные движения бывают простыми и слож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438720" cy="2698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4176720" cy="270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4221000"/>
            <a:ext cx="4572000" cy="2160720"/>
          </a:xfrm>
          <a:prstGeom prst="cloudCallout">
            <a:avLst>
              <a:gd name="adj1" fmla="val -20208"/>
              <a:gd name="adj2" fmla="val -73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о вот круг разомкнул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нутри него образовался второй, поменьше. И кружатся они в разны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15920"/>
            <a:ext cx="4753080" cy="1760400"/>
          </a:xfrm>
          <a:prstGeom prst="cloudCallout">
            <a:avLst>
              <a:gd name="adj1" fmla="val 54675"/>
              <a:gd name="adj2" fmla="val 6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т участники, взявш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 руки, плавно идут в одну сторону, затем в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824520" y="2654280"/>
            <a:ext cx="2319480" cy="4203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2997360"/>
            <a:ext cx="3780000" cy="1250640"/>
          </a:xfrm>
          <a:prstGeom prst="cloudCallout">
            <a:avLst>
              <a:gd name="adj1" fmla="val 35509"/>
              <a:gd name="adj2" fmla="val 94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любимое движение хорово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уче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895640" cy="327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51280" y="5445000"/>
            <a:ext cx="4392720" cy="1152720"/>
          </a:xfrm>
          <a:prstGeom prst="cloudCallout">
            <a:avLst>
              <a:gd name="adj1" fmla="val -41722"/>
              <a:gd name="adj2" fmla="val -65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ерь участ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страиваются в ря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333360"/>
            <a:ext cx="4627440" cy="309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765000"/>
            <a:ext cx="2808360" cy="792360"/>
          </a:xfrm>
          <a:prstGeom prst="cloudCallout">
            <a:avLst>
              <a:gd name="adj1" fmla="val 98277"/>
              <a:gd name="adj2" fmla="val -37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везд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5:18:25Z</dcterms:created>
  <dc:creator>007</dc:creator>
  <dc:description/>
  <dc:language>en-US</dc:language>
  <cp:lastModifiedBy>007</cp:lastModifiedBy>
  <dcterms:modified xsi:type="dcterms:W3CDTF">2011-07-19T17:19:36Z</dcterms:modified>
  <cp:revision>3</cp:revision>
  <dc:subject/>
  <dc:title>Тема урока:  «В хороводе были мы»</dc:title>
</cp:coreProperties>
</file>