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64D1-2AAF-4460-A1B2-E6AB39A4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BB74-AF02-4353-9028-614D6ADD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A2B3-73F6-419F-B195-AD42EDBF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AC73-A535-4CF5-A8EF-2000F926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57D2-B321-4E54-8B83-A21784DB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8D9C-CDFC-41BA-B7AE-8FE0261A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4352-AC91-4629-85AB-DFE71839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8293-831C-40F3-AF53-1B6C45B2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E23E-145F-4AAA-ADB5-5F56B24D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B9F8-7FA2-4FC7-A942-31355A62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C6A9-B2EF-4EE5-BC8D-0EFBC08D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9F8B-A017-402A-A94A-02E7AD17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077F-427A-4352-91C3-0A337C39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6415-F1F7-4757-9D83-ECB2978F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92BA-82BC-4260-977E-901FD4D1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284F-360B-4FDF-B02F-C406402A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1F0D-3B0C-48BF-85FA-CE8B13EC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DB3C-8A01-4C72-9D73-12117805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FF63-822B-40A5-91A1-605FB036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E530-4116-4332-9BD0-C1ABFD27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4CA1-AF70-450A-A714-5AA518B7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7473-BF7F-40F2-A650-06C8DB9D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C974-7557-4668-B28A-E0184A7D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79DA-9515-43A2-8B39-9CD62CF5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B969-4E56-4A52-9458-1B806C08BFF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B5DF-354D-4A49-B433-94C7FF74DDC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erezkadance.ru/" TargetMode="External"/><Relationship Id="rId3" Type="http://schemas.openxmlformats.org/officeDocument/2006/relationships/hyperlink" Target="http://www.studio12d.ru/" TargetMode="External"/><Relationship Id="rId4" Type="http://schemas.openxmlformats.org/officeDocument/2006/relationships/hyperlink" Target="http://www.berezkadance.ru/" TargetMode="External"/><Relationship Id="rId5" Type="http://schemas.openxmlformats.org/officeDocument/2006/relationships/hyperlink" Target="http://www.berezkadance.ru/" TargetMode="External"/><Relationship Id="rId6" Type="http://schemas.openxmlformats.org/officeDocument/2006/relationships/hyperlink" Target="http://www.berezkadance.ru/" TargetMode="External"/><Relationship Id="rId7" Type="http://schemas.openxmlformats.org/officeDocument/2006/relationships/hyperlink" Target="http://evenevent.ru/" TargetMode="External"/><Relationship Id="rId8" Type="http://schemas.openxmlformats.org/officeDocument/2006/relationships/hyperlink" Target="http://evenevent.ru/" TargetMode="External"/><Relationship Id="rId9" Type="http://schemas.openxmlformats.org/officeDocument/2006/relationships/hyperlink" Target="http://evenevent.ru/" TargetMode="External"/><Relationship Id="rId10" Type="http://schemas.openxmlformats.org/officeDocument/2006/relationships/hyperlink" Target="http://krugv.ru/" TargetMode="External"/><Relationship Id="rId11" Type="http://schemas.openxmlformats.org/officeDocument/2006/relationships/hyperlink" Target="http://krugv.ru/" TargetMode="External"/><Relationship Id="rId12" Type="http://schemas.openxmlformats.org/officeDocument/2006/relationships/hyperlink" Target="http://krugv.ru/" TargetMode="External"/><Relationship Id="rId13" Type="http://schemas.openxmlformats.org/officeDocument/2006/relationships/hyperlink" Target="http://alatau.narod.ruhttp://blogs.mail.ru" TargetMode="External"/><Relationship Id="rId14" Type="http://schemas.openxmlformats.org/officeDocument/2006/relationships/hyperlink" Target="http://alatau.narod.ruhttp://blogs.mail.ru" TargetMode="External"/><Relationship Id="rId15" Type="http://schemas.openxmlformats.org/officeDocument/2006/relationships/hyperlink" Target="http://www.tsmirna.ru/" TargetMode="External"/><Relationship Id="rId1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Тема урока: </a:t>
            </a:r>
            <a:br>
              <a:rPr sz="4400"/>
            </a:b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«В хороводе были мы…»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4121280" cy="4292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12720" y="2639880"/>
            <a:ext cx="178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4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6000" y="4292640"/>
            <a:ext cx="31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Учитель музы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МОУ Карельской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Моршанского рай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Тамб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Храмцова Т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entury Gothic"/>
              </a:rPr>
              <a:t>Хоровод «А я по лугу»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272360" cy="4512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4000" y="51336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ороводы бывают медленные, плавно скользящие и скорые плясовые, когда словно вихрь подхватит вас и закружит в радостном движении. Скорые хороводы требуют быстроты и ловкости: нужно и ритм сохранить, и танцевальные движения исполн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8720" y="2060640"/>
            <a:ext cx="2958840" cy="446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84360" y="2924280"/>
            <a:ext cx="4267080" cy="2838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8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771640" y="260280"/>
            <a:ext cx="5292720" cy="2894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39640" y="3357720"/>
            <a:ext cx="4808520" cy="2952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08000" y="765000"/>
            <a:ext cx="2952720" cy="1727280"/>
          </a:xfrm>
          <a:prstGeom prst="cloudCallout">
            <a:avLst>
              <a:gd name="adj1" fmla="val 58708"/>
              <a:gd name="adj2" fmla="val 38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елей – ко бей ног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й ногами, пляши с нам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24360" y="3860640"/>
            <a:ext cx="2953080" cy="1727280"/>
          </a:xfrm>
          <a:prstGeom prst="cloudCallout">
            <a:avLst>
              <a:gd name="adj1" fmla="val -70967"/>
              <a:gd name="adj2" fmla="val 830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й-ли, ой ли Лёл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лясать еще изволь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26920" y="404640"/>
            <a:ext cx="730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 вот из хоровода выбегают самые ловкие плясуны. Каждый может щегольнуть «коленцем», которое у него особенно хорошо получ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619280" y="2492280"/>
            <a:ext cx="57340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0560" y="333000"/>
            <a:ext cx="41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entury Gothic"/>
              </a:rPr>
              <a:t>Вопросы: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35290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Что означает слово «хоровод»?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В чем заключается значение хоровода?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Какие фигуры хоровода вы знаете?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Какие бывают хороводы?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050920" y="3573360"/>
            <a:ext cx="54914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6809040" cy="4592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54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entury Gothic"/>
              </a:rPr>
              <a:t>Послесловие…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Интернет – ресурсы: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2176920"/>
            <a:ext cx="511956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812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berezkadance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812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http://www.biser.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812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studio12d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812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www.berezkadance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812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evenevent.ru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812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krugv.ru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812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http://alatau.narod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http://blogs.mai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12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www.tsmirn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76720" y="54792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Ход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1845000"/>
            <a:ext cx="6470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знакомство с музыкально-танцевальным жанром русского фольклора – хоровод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- определение значения хоровода на Рус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- знакомство с фигурами и основными движениями хорово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07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entury Gothic"/>
              </a:rPr>
              <a:t>Колыбельная песня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2924280" cy="426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782520" y="1921320"/>
            <a:ext cx="4185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Баю – баюшки, бай, б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Глазки Маша закрыв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Я тебя кача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тебя велич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Спи, дочка, до веч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Тебе делать нечего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51339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entury Gothic"/>
              </a:rPr>
              <a:t>Хоровод – «круг»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4680000" cy="3743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292720" y="1694880"/>
            <a:ext cx="34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В глубокой древности люди считали, что такая фигура, как круг обладает магическими свойствами. В центр круга не могла проникнуть всякая нечистая си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95280" y="4506120"/>
            <a:ext cx="827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Наши древние предки – славяне были, как известно, язычниками, т.е. поклонялись природе – ветру, солнцу, лесам, полям, Матери - земле. В их воображении природа была населена добрыми и злыми духами. Их необходимо было задабривать, чтобы они не мешали человеку в тру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403280" y="189000"/>
            <a:ext cx="600876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4360" y="1264320"/>
            <a:ext cx="698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Сама форма хороводов – кругообразное движение – символ солнечного движения. А движение – это жизнь. Наверно, поэтому хороводы имели особенное значение. Хоровод был, пожалуй, самым желанным гостем на народных праздниках и участником веселых гуля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Многие народ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обряды сопровожда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хоровод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92320" y="333360"/>
            <a:ext cx="564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Значение хоровод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0" y="3645000"/>
            <a:ext cx="42670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704000" cy="4464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63640" y="29988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Фигуры хоровод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7400" y="5949360"/>
            <a:ext cx="85734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Хороводные движения бывают простыми и слож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64000" y="189000"/>
            <a:ext cx="3438720" cy="2698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79280" y="1628640"/>
            <a:ext cx="4176720" cy="2703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4221000"/>
            <a:ext cx="4572000" cy="2160720"/>
          </a:xfrm>
          <a:prstGeom prst="cloudCallout">
            <a:avLst>
              <a:gd name="adj1" fmla="val -20208"/>
              <a:gd name="adj2" fmla="val -73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о вот круг разомкнул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нутри него образовался второй, поменьше. И кружатся они в разные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оро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115920"/>
            <a:ext cx="4753080" cy="1760400"/>
          </a:xfrm>
          <a:prstGeom prst="cloudCallout">
            <a:avLst>
              <a:gd name="adj1" fmla="val 54675"/>
              <a:gd name="adj2" fmla="val 63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от участники, взявши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 руки, плавно идут в одну сторону, затем в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руг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824520" y="2654280"/>
            <a:ext cx="2319480" cy="4203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851280" y="2997360"/>
            <a:ext cx="3780000" cy="1250640"/>
          </a:xfrm>
          <a:prstGeom prst="cloudCallout">
            <a:avLst>
              <a:gd name="adj1" fmla="val 35509"/>
              <a:gd name="adj2" fmla="val 944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е любимое движение хоровод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ручее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4895640" cy="3278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751280" y="5445000"/>
            <a:ext cx="4392720" cy="1152720"/>
          </a:xfrm>
          <a:prstGeom prst="cloudCallout">
            <a:avLst>
              <a:gd name="adj1" fmla="val -41722"/>
              <a:gd name="adj2" fmla="val -658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перь участн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ерестраиваются в ря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140360" y="333360"/>
            <a:ext cx="4627440" cy="3098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39640" y="765000"/>
            <a:ext cx="2808360" cy="792360"/>
          </a:xfrm>
          <a:prstGeom prst="cloudCallout">
            <a:avLst>
              <a:gd name="adj1" fmla="val 98277"/>
              <a:gd name="adj2" fmla="val -37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везд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7T15:18:25Z</dcterms:created>
  <dc:creator>007</dc:creator>
  <dc:description/>
  <dc:language>en-US</dc:language>
  <cp:lastModifiedBy>007</cp:lastModifiedBy>
  <dcterms:modified xsi:type="dcterms:W3CDTF">2011-07-19T17:19:36Z</dcterms:modified>
  <cp:revision>3</cp:revision>
  <dc:subject/>
  <dc:title>Тема урока:  «В хороводе были мы»</dc:title>
</cp:coreProperties>
</file>